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39B-EB31-4A0D-BEC1-FC078C6B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BEA-1EC9-409D-9390-87AC4BD3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24D-5179-43EA-9FEA-BE0F502B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4AC-5D71-40A2-8FD5-D7FA5E78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930-823A-413E-8ECE-778E2327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91B-7F33-4EF7-9391-0D229D79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3E2-E28E-4C27-A323-9A0E0110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45F-3936-4597-9AF3-5AE176AB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4BF-3635-413E-B644-58E6E769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FA7-B8C7-4B98-AD4B-12CEFFA0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2C8-4500-4F9A-9F16-435747C9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71A-59DB-4818-B8D7-3BA6CA8F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C419-6B60-4883-8F2D-B36B13BDC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1532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33520" y="762120"/>
          <a:ext cx="6430680" cy="480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6430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4:59Z</dcterms:modified>
  <cp:revision>27</cp:revision>
  <dc:subject/>
  <dc:title>No Slide Title</dc:title>
</cp:coreProperties>
</file>