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542B-95E3-47E5-BC09-4F00D704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D541-AFFE-4D69-ACEC-B5EDFFE6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FA7F-7027-4CC0-835C-0EE749F7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E0B3-635C-4AE9-8ADE-288D9A90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D0A9-471C-487B-99C3-41AC488F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0A5C-022D-453C-BA5A-BFD69E2C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4A90-BD11-401D-BE84-414DDA9A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522A-3B71-4E91-9278-5108F8B2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4DD4-9AF7-4303-BCBC-6F4ED4AA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D7B5-49E2-4326-BB59-677CC459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A2C9-62DF-49FA-A075-133E1EF7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E1E7-0D0B-4110-9C9E-50DBFF9A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6F95-86FB-4245-A954-AEAEC9C2A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762120"/>
            <a:ext cx="6400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UMS 29 UYGULAMASININ REVİZE UMS 12 AÇISINDAN ERTELENMİŞ                     VERGİ ETKİS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010280" y="762120"/>
          <a:ext cx="1676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762120"/>
                    <a:ext cx="167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010280" y="236232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36232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33520" y="2133720"/>
            <a:ext cx="51814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BİT KIYMET ALIM DEĞERİ                 (UMS 29 değerlemesine tabi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ANUNİ KAYITLARDA YENİDEN           DEĞERLENMİŞ DEĞER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MS 29 DEĞERLEMES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33526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38862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335268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5105520"/>
            <a:ext cx="4495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GEÇİCİ FARKLILIK DEĞERİ: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1:54Z</dcterms:modified>
  <cp:revision>27</cp:revision>
  <dc:subject/>
  <dc:title>No Slide Title</dc:title>
</cp:coreProperties>
</file>