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2FE2-40F2-419F-92C6-EAC2DD41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0694-B33B-416B-8FB1-98B2C5AF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49DF-DDDA-40A1-9A03-44763B62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461E-5984-4DB5-BC65-57C45628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A97C-7880-49B4-AFA7-A20205F7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4E2F-04C9-4BB6-90C3-A4938874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6879-7600-429A-B289-55598E3C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7A1B-80A6-4431-9666-A0910D0F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BA3B-756D-4F47-ADCA-95E5D3F6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148D-628A-436B-A412-D0DCF948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5E7E-C9C2-4FA4-93DF-68E1A963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CFA7-EBB2-4964-8C64-64A5BE1E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B340-6524-4800-9EA1-C17D82AAE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91440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/ 21 KARŞILAŞTIRM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1447920"/>
          <a:ext cx="167616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167616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62120" y="3048120"/>
          <a:ext cx="167616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8120"/>
                    <a:ext cx="1676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514600" y="1523880"/>
          <a:ext cx="5943600" cy="3657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1523880"/>
                    <a:ext cx="59436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2:21Z</dcterms:modified>
  <cp:revision>27</cp:revision>
  <dc:subject/>
  <dc:title>No Slide Title</dc:title>
</cp:coreProperties>
</file>