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46D-7FB1-4A82-8771-39EE4915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4F6-395C-469D-B86B-74C124F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08B-0F62-4C29-A1E6-5B7EE4CC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1DF-5E32-4E32-B60A-B4ED6FDC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9E0-E23B-4901-89B7-248B9659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C40-BED8-4C76-97B9-0B02440D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72D-15D2-4A12-8F6E-375B2EEE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664-40F0-4021-AB00-C4E43B12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A5E1-D0A1-4A7D-92FD-6947408B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11D-5995-48A2-9457-AE5B316F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1AE-F23F-43E3-8D7F-05603ED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CB2-2F18-4224-9A59-B080244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244C-9EE4-4A56-B4CD-CD69486D2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91440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1447920"/>
          <a:ext cx="16761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16761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62120" y="3048120"/>
          <a:ext cx="16761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048120"/>
                    <a:ext cx="1676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14600" y="1523880"/>
          <a:ext cx="5943600" cy="3657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1523880"/>
                    <a:ext cx="5943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2:21Z</dcterms:modified>
  <cp:revision>27</cp:revision>
  <dc:subject/>
  <dc:title>No Slide Title</dc:title>
</cp:coreProperties>
</file>