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8FC-3269-4891-831C-C749C83F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B99-9CBE-4A7D-8348-E428285F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CB0-F451-463F-8AA5-F7F62A72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6B9-6007-4466-8B42-39706BDE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7DD-4783-45BC-BBB2-5CBAD506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2BF-5777-4CF1-B4D8-8E0CF43C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2846-D44A-4800-B6DD-76542E4B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052-75AA-4AAA-BF6E-C832EF5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F6F-2830-4038-A31E-7A2805D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500-B33B-409E-8EBB-719CC906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4C6-26A9-4032-A540-CF95960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331-484E-4050-AE7C-42BAAC17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5EB8-4D31-4BB6-9377-801B3CED0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380880"/>
            <a:ext cx="739152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SAL KAZANÇ / KAYIP ANALİZ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990720"/>
          <a:ext cx="167652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167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143000" y="259092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59092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00400" y="1066680"/>
          <a:ext cx="5076720" cy="4419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066680"/>
                    <a:ext cx="50767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5:59Z</dcterms:modified>
  <cp:revision>27</cp:revision>
  <dc:subject/>
  <dc:title>No Slide Title</dc:title>
</cp:coreProperties>
</file>