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90E-4507-4005-874B-FA483989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FD0-A336-4BB0-AB0D-D86DCDE1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326-8773-4006-8704-22B3D17B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041-7F21-4EAE-B5CB-7893DBF7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FC9-4B18-4364-A007-FFEA91D4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94E-DBA5-4D7A-BB05-45A3831D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FBD7-86C5-433E-9D9F-591BEA7A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5E7-4BF0-4E00-AA4A-B41C4A19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FC5-7CEC-48CC-BA1B-5E6884FD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D3B-9DD5-41CD-BD43-2D47931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FB8-3D68-4842-8C43-60AE72D6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002-7BE0-4F88-91F4-5ADD970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9B1D-11AA-4760-9F94-9F54FC3C7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KAR ZA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1532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666880" y="914400"/>
          <a:ext cx="5410440" cy="4724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914400"/>
                    <a:ext cx="5410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6:15Z</dcterms:modified>
  <cp:revision>27</cp:revision>
  <dc:subject/>
  <dc:title>No Slide Title</dc:title>
</cp:coreProperties>
</file>