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3445-50BC-449B-AE45-A1855FCF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F508-624C-4CA6-9307-40830335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D38F-5129-46F9-8E7C-7CE447EB1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ED61-4945-40AF-A46A-7C915009C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63EF-3C53-46DD-BABA-A394D551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59D7-A749-46FB-8B5B-B73D2C96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F394-FD6E-42B9-97A2-EEEE159E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F20A-D470-45F9-A9E0-885298CA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0D95-82AB-4344-AD6B-D8D9C930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C533-CC23-4851-B197-D3C7F033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1350-A771-4C77-9606-64B8B0A5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5C36-41DC-44A8-B4CD-0A68A29E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2F49-3A53-4BA7-9FC6-42B071268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762120"/>
            <a:ext cx="6400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UMS 29 UYGULAMASININ REVİZE UMS 12 AÇISINDAN ERTELENMİŞ                     VERGİ ETKİS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010280" y="762120"/>
          <a:ext cx="167652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762120"/>
                    <a:ext cx="1676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7010280" y="236232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236232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533520" y="2133720"/>
            <a:ext cx="518148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BİT KIYMET ALIM DEĞERİ                 (UMS 29 değerlemesine tabi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ANUNİ KAYITLARDA YENİDEN           DEĞERLENMİŞ DEĞER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MS 29 DEĞERLEMES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33526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38862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335268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5105520"/>
            <a:ext cx="4495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GEÇİCİ FARKLILIK DEĞERİ: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1:54Z</dcterms:modified>
  <cp:revision>27</cp:revision>
  <dc:subject/>
  <dc:title>No Slide Title</dc:title>
</cp:coreProperties>
</file>