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19A-7453-44B3-874E-0FF2595F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6B9-978A-450F-882D-723D9252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0BA-72B2-4D04-A913-0FE610AD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ABD-AA6D-48AF-9182-05A3A4B5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196-29F6-4406-917E-9F72F179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42D-E3DA-439B-AFC5-41D244E9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800-BA73-47F1-A0DB-BEFE6A7E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B32-0DBB-4EE0-85E5-C8BAE542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7187-BFC1-4F82-A662-735678F6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80B-6FBA-44FF-A7FB-34C4616C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031-1BC1-4A0D-B6BE-9B6CFADE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0AC-5600-4CF9-A8DB-84E480D5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ECA1-9110-429B-9BEC-3A90C8642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91440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447920"/>
          <a:ext cx="16761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1676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62120" y="3048120"/>
          <a:ext cx="16761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1676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523880"/>
          <a:ext cx="5943600" cy="3657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523880"/>
                    <a:ext cx="5943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2:21Z</dcterms:modified>
  <cp:revision>27</cp:revision>
  <dc:subject/>
  <dc:title>No Slide Title</dc:title>
</cp:coreProperties>
</file>