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F52-913D-4E97-90FE-7E9AB70E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528-A9F8-4158-839E-BD3BD21E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563-49C4-4535-90CF-D0283032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D288-8BCB-4809-B8BF-841546EA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E287-4AB3-481C-943B-A9ECF894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8E81-C2CF-4F15-B84B-57926FC4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DF5-4DCE-4E61-9942-D2B5B586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96D-53F8-4D7E-A767-1DF0D3EC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DA7-058C-49BA-99FA-04E36594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F1F-5C4E-4983-8F10-58AB7D2E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E492-D6AE-46CB-A0B2-BD6036DA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FFD0-647B-413F-A069-FCBCF6C1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EE69-E0D7-4383-A9EA-04911F17D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81532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/ 21 KARŞILAŞTI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010280" y="7621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7621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7010280" y="23623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3623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33520" y="762120"/>
          <a:ext cx="6430680" cy="4800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762120"/>
                    <a:ext cx="64306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4:59Z</dcterms:modified>
  <cp:revision>27</cp:revision>
  <dc:subject/>
  <dc:title>No Slide Title</dc:title>
</cp:coreProperties>
</file>