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A4C-0679-4F27-AA19-AB9FF063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D313-F0F4-422E-B56F-E52FBBB6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565-2177-4AA3-B16D-62D182EB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39AB-2FD8-44A8-8D64-7BE7E030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AF9-620E-478D-8EAC-60DDEC48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6BF-E98D-44C5-9CDA-E3932596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9BF-AD37-440E-BD11-F7B9AB79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2F4-7F8C-4B71-9B97-39F9C085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0C6-47D1-4F33-B9D6-784BA298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C0D-EF55-4046-A4E5-27A77E8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011-B386-476B-A83D-A6427FC1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53B-5A73-4EB4-A04B-BE2D5FE6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EFC5-EC28-4856-B489-583513D09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1532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33520" y="762120"/>
          <a:ext cx="6430680" cy="480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64306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4:59Z</dcterms:modified>
  <cp:revision>27</cp:revision>
  <dc:subject/>
  <dc:title>No Slide Title</dc:title>
</cp:coreProperties>
</file>