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FF9B-A3F9-4AD4-A085-F7FE463B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0EBB-2E89-452D-A45E-F6783272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ADD5-CA6E-4DA2-8B0F-683C0D86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B877-E617-41B6-893C-3A350335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087C-EC36-437E-A8A3-F3C0ABA9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984F-7857-4B7B-A06F-74A3750B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4E02-399B-421C-811F-B5E96314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39B2-B4F6-442C-A634-CA70593F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8EFB-A643-4284-A4B6-2FF6CB85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504-6C02-4ECE-B3DD-DCCC6160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B15A-1CA8-477A-8E11-B5F45EC7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1E43-67FA-46BD-BEFD-69ED3FEB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663A-3A01-44C9-8989-651C66B0D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762120"/>
            <a:ext cx="6400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UMS 29 UYGULAMASININ REVİZE UMS 12 AÇISINDAN ERTELENMİŞ                     VERGİ ETKİS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010280" y="762120"/>
          <a:ext cx="1676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762120"/>
                    <a:ext cx="167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010280" y="236232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36232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33520" y="2133720"/>
            <a:ext cx="51814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BİT KIYMET ALIM DEĞERİ                 (UMS 29 değerlemesine tabi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ANUNİ KAYITLARDA YENİDEN           DEĞERLENMİŞ DEĞER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MS 29 DEĞERLEMES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33526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38862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335268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5105520"/>
            <a:ext cx="4495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GEÇİCİ FARKLILIK DEĞERİ: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1:54Z</dcterms:modified>
  <cp:revision>27</cp:revision>
  <dc:subject/>
  <dc:title>No Slide Title</dc:title>
</cp:coreProperties>
</file>