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E86D-82D7-4F39-A6BF-451FBA7D4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2167-8A99-44F8-914A-722CE98F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703F-7DE1-47E9-92A9-E2253CA9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3F13-AEBF-4AB5-A2F5-238F64426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B95E-D396-43F8-A9E5-D99BF513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42B9-D0F6-48F2-8CD5-56CC4598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EB90-691E-4DBE-B01C-DA875C1E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22F7-9F1B-4ADB-BFFE-E20F8BD8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9BB4-11D7-446C-B285-AA4C6226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4E3B-AB5D-453B-93D7-749ADBCF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5E6C-5B96-4922-A9E0-AAB4A1D9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124D-7EFA-40D5-A5BD-93701AB9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74DD-6498-47BD-BA9E-4B2D5FED3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228600"/>
            <a:ext cx="81532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S 29 / 21 KARŞILAŞTIRM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010280" y="762120"/>
          <a:ext cx="167652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762120"/>
                    <a:ext cx="1676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7010280" y="236232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236232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533520" y="762120"/>
          <a:ext cx="6430680" cy="4800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762120"/>
                    <a:ext cx="64306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4:59Z</dcterms:modified>
  <cp:revision>27</cp:revision>
  <dc:subject/>
  <dc:title>No Slide Title</dc:title>
</cp:coreProperties>
</file>