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xlsx" ContentType="application/vnd.openxmlformats-officedocument.spreadsheetml.sheet"/>
  <Override PartName="/ppt/media/image1.png" ContentType="image/png"/>
  <Override PartName="/ppt/media/image2.png" ContentType="image/png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955DF-A0BC-439F-B503-6BCFC58E6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DB7C9-20C6-4B34-8CF9-B4F933DA9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743DC-9EFB-43B8-A76C-4EBEE0AF3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9B905-09C6-4D37-949E-5AC84A074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D1DF9-513A-434D-9335-AE2F14905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18D0E-DDC9-4046-A9AD-94DF40FF3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7CBD2-5A8D-44B8-97E8-93EF35708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F66A9-3D2E-4713-863A-DE57B80FB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F7651-31BA-4090-B00D-38CC6A316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9C809-D9CD-4363-9489-D82AFC979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B8765-68FF-41BB-A14E-E17E67122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823C3-8FC8-42D3-9D1C-A1ACB5B87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DA5AC-1E57-4276-ADCE-DEB7A178A9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5029200" y="6172200"/>
            <a:ext cx="3429000" cy="419040"/>
            <a:chOff x="5029200" y="6172200"/>
            <a:chExt cx="3429000" cy="419040"/>
          </a:xfrm>
        </p:grpSpPr>
        <p:sp>
          <p:nvSpPr>
            <p:cNvPr id="6" name=""/>
            <p:cNvSpPr/>
            <p:nvPr/>
          </p:nvSpPr>
          <p:spPr>
            <a:xfrm>
              <a:off x="5029200" y="6176880"/>
              <a:ext cx="421200" cy="407520"/>
            </a:xfrm>
            <a:custGeom>
              <a:avLst/>
              <a:gdLst/>
              <a:ahLst/>
              <a:rect l="l" t="t" r="r" b="b"/>
              <a:pathLst>
                <a:path w="2147" h="1894">
                  <a:moveTo>
                    <a:pt x="2147" y="419"/>
                  </a:moveTo>
                  <a:lnTo>
                    <a:pt x="2132" y="483"/>
                  </a:lnTo>
                  <a:lnTo>
                    <a:pt x="2118" y="548"/>
                  </a:lnTo>
                  <a:lnTo>
                    <a:pt x="2106" y="613"/>
                  </a:lnTo>
                  <a:lnTo>
                    <a:pt x="2093" y="678"/>
                  </a:lnTo>
                  <a:lnTo>
                    <a:pt x="2081" y="743"/>
                  </a:lnTo>
                  <a:lnTo>
                    <a:pt x="2069" y="809"/>
                  </a:lnTo>
                  <a:lnTo>
                    <a:pt x="2059" y="874"/>
                  </a:lnTo>
                  <a:lnTo>
                    <a:pt x="2048" y="939"/>
                  </a:lnTo>
                  <a:lnTo>
                    <a:pt x="2037" y="1005"/>
                  </a:lnTo>
                  <a:lnTo>
                    <a:pt x="2028" y="1071"/>
                  </a:lnTo>
                  <a:lnTo>
                    <a:pt x="2018" y="1137"/>
                  </a:lnTo>
                  <a:lnTo>
                    <a:pt x="2008" y="1203"/>
                  </a:lnTo>
                  <a:lnTo>
                    <a:pt x="2000" y="1268"/>
                  </a:lnTo>
                  <a:lnTo>
                    <a:pt x="1992" y="1334"/>
                  </a:lnTo>
                  <a:lnTo>
                    <a:pt x="1984" y="1400"/>
                  </a:lnTo>
                  <a:lnTo>
                    <a:pt x="1977" y="1466"/>
                  </a:lnTo>
                  <a:lnTo>
                    <a:pt x="1976" y="1465"/>
                  </a:lnTo>
                  <a:lnTo>
                    <a:pt x="1974" y="1465"/>
                  </a:lnTo>
                  <a:lnTo>
                    <a:pt x="1971" y="1465"/>
                  </a:lnTo>
                  <a:lnTo>
                    <a:pt x="1966" y="1465"/>
                  </a:lnTo>
                  <a:lnTo>
                    <a:pt x="1960" y="1465"/>
                  </a:lnTo>
                  <a:lnTo>
                    <a:pt x="1955" y="1465"/>
                  </a:lnTo>
                  <a:lnTo>
                    <a:pt x="1947" y="1465"/>
                  </a:lnTo>
                  <a:lnTo>
                    <a:pt x="1941" y="1465"/>
                  </a:lnTo>
                  <a:lnTo>
                    <a:pt x="1932" y="1464"/>
                  </a:lnTo>
                  <a:lnTo>
                    <a:pt x="1925" y="1464"/>
                  </a:lnTo>
                  <a:lnTo>
                    <a:pt x="1918" y="1464"/>
                  </a:lnTo>
                  <a:lnTo>
                    <a:pt x="1910" y="1464"/>
                  </a:lnTo>
                  <a:lnTo>
                    <a:pt x="1903" y="1464"/>
                  </a:lnTo>
                  <a:lnTo>
                    <a:pt x="1896" y="1464"/>
                  </a:lnTo>
                  <a:lnTo>
                    <a:pt x="1890" y="1464"/>
                  </a:lnTo>
                  <a:lnTo>
                    <a:pt x="1885" y="1464"/>
                  </a:lnTo>
                  <a:lnTo>
                    <a:pt x="1881" y="1464"/>
                  </a:lnTo>
                  <a:lnTo>
                    <a:pt x="1877" y="1464"/>
                  </a:lnTo>
                  <a:lnTo>
                    <a:pt x="1873" y="1464"/>
                  </a:lnTo>
                  <a:lnTo>
                    <a:pt x="1868" y="1464"/>
                  </a:lnTo>
                  <a:lnTo>
                    <a:pt x="1863" y="1464"/>
                  </a:lnTo>
                  <a:lnTo>
                    <a:pt x="1859" y="1464"/>
                  </a:lnTo>
                  <a:lnTo>
                    <a:pt x="1853" y="1464"/>
                  </a:lnTo>
                  <a:lnTo>
                    <a:pt x="1848" y="1464"/>
                  </a:lnTo>
                  <a:lnTo>
                    <a:pt x="1843" y="1464"/>
                  </a:lnTo>
                  <a:lnTo>
                    <a:pt x="1838" y="1464"/>
                  </a:lnTo>
                  <a:lnTo>
                    <a:pt x="1833" y="1464"/>
                  </a:lnTo>
                  <a:lnTo>
                    <a:pt x="1828" y="1464"/>
                  </a:lnTo>
                  <a:lnTo>
                    <a:pt x="1824" y="1464"/>
                  </a:lnTo>
                  <a:lnTo>
                    <a:pt x="1819" y="1464"/>
                  </a:lnTo>
                  <a:lnTo>
                    <a:pt x="1814" y="1464"/>
                  </a:lnTo>
                  <a:lnTo>
                    <a:pt x="1811" y="1465"/>
                  </a:lnTo>
                  <a:lnTo>
                    <a:pt x="1811" y="1466"/>
                  </a:lnTo>
                  <a:lnTo>
                    <a:pt x="1810" y="1466"/>
                  </a:lnTo>
                  <a:lnTo>
                    <a:pt x="1809" y="1466"/>
                  </a:lnTo>
                  <a:lnTo>
                    <a:pt x="1808" y="1466"/>
                  </a:lnTo>
                  <a:lnTo>
                    <a:pt x="1806" y="1466"/>
                  </a:lnTo>
                  <a:lnTo>
                    <a:pt x="1805" y="1466"/>
                  </a:lnTo>
                  <a:lnTo>
                    <a:pt x="1804" y="1466"/>
                  </a:lnTo>
                  <a:lnTo>
                    <a:pt x="1803" y="1466"/>
                  </a:lnTo>
                  <a:lnTo>
                    <a:pt x="1802" y="1466"/>
                  </a:lnTo>
                  <a:lnTo>
                    <a:pt x="1801" y="1466"/>
                  </a:lnTo>
                  <a:lnTo>
                    <a:pt x="1800" y="1466"/>
                  </a:lnTo>
                  <a:lnTo>
                    <a:pt x="1799" y="1466"/>
                  </a:lnTo>
                  <a:lnTo>
                    <a:pt x="1798" y="1466"/>
                  </a:lnTo>
                  <a:lnTo>
                    <a:pt x="1797" y="1466"/>
                  </a:lnTo>
                  <a:lnTo>
                    <a:pt x="1796" y="1466"/>
                  </a:lnTo>
                  <a:lnTo>
                    <a:pt x="1795" y="1466"/>
                  </a:lnTo>
                  <a:lnTo>
                    <a:pt x="1794" y="1466"/>
                  </a:lnTo>
                  <a:lnTo>
                    <a:pt x="1793" y="1466"/>
                  </a:lnTo>
                  <a:lnTo>
                    <a:pt x="1791" y="1466"/>
                  </a:lnTo>
                  <a:lnTo>
                    <a:pt x="1790" y="1466"/>
                  </a:lnTo>
                  <a:lnTo>
                    <a:pt x="1791" y="1466"/>
                  </a:lnTo>
                  <a:lnTo>
                    <a:pt x="1786" y="1465"/>
                  </a:lnTo>
                  <a:lnTo>
                    <a:pt x="1781" y="1465"/>
                  </a:lnTo>
                  <a:lnTo>
                    <a:pt x="1775" y="1465"/>
                  </a:lnTo>
                  <a:lnTo>
                    <a:pt x="1770" y="1465"/>
                  </a:lnTo>
                  <a:lnTo>
                    <a:pt x="1765" y="1465"/>
                  </a:lnTo>
                  <a:lnTo>
                    <a:pt x="1759" y="1464"/>
                  </a:lnTo>
                  <a:lnTo>
                    <a:pt x="1754" y="1464"/>
                  </a:lnTo>
                  <a:lnTo>
                    <a:pt x="1748" y="1464"/>
                  </a:lnTo>
                  <a:lnTo>
                    <a:pt x="1742" y="1464"/>
                  </a:lnTo>
                  <a:lnTo>
                    <a:pt x="1737" y="1464"/>
                  </a:lnTo>
                  <a:lnTo>
                    <a:pt x="1732" y="1464"/>
                  </a:lnTo>
                  <a:lnTo>
                    <a:pt x="1726" y="1464"/>
                  </a:lnTo>
                  <a:lnTo>
                    <a:pt x="1722" y="1464"/>
                  </a:lnTo>
                  <a:lnTo>
                    <a:pt x="1718" y="1464"/>
                  </a:lnTo>
                  <a:lnTo>
                    <a:pt x="1714" y="1464"/>
                  </a:lnTo>
                  <a:lnTo>
                    <a:pt x="1710" y="1464"/>
                  </a:lnTo>
                  <a:lnTo>
                    <a:pt x="1704" y="1464"/>
                  </a:lnTo>
                  <a:lnTo>
                    <a:pt x="1697" y="1464"/>
                  </a:lnTo>
                  <a:lnTo>
                    <a:pt x="1691" y="1464"/>
                  </a:lnTo>
                  <a:lnTo>
                    <a:pt x="1684" y="1464"/>
                  </a:lnTo>
                  <a:lnTo>
                    <a:pt x="1676" y="1464"/>
                  </a:lnTo>
                  <a:lnTo>
                    <a:pt x="1668" y="1464"/>
                  </a:lnTo>
                  <a:lnTo>
                    <a:pt x="1660" y="1464"/>
                  </a:lnTo>
                  <a:lnTo>
                    <a:pt x="1653" y="1465"/>
                  </a:lnTo>
                  <a:lnTo>
                    <a:pt x="1645" y="1465"/>
                  </a:lnTo>
                  <a:lnTo>
                    <a:pt x="1638" y="1465"/>
                  </a:lnTo>
                  <a:lnTo>
                    <a:pt x="1632" y="1465"/>
                  </a:lnTo>
                  <a:lnTo>
                    <a:pt x="1627" y="1465"/>
                  </a:lnTo>
                  <a:lnTo>
                    <a:pt x="1622" y="1465"/>
                  </a:lnTo>
                  <a:lnTo>
                    <a:pt x="1618" y="1465"/>
                  </a:lnTo>
                  <a:lnTo>
                    <a:pt x="1616" y="1465"/>
                  </a:lnTo>
                  <a:lnTo>
                    <a:pt x="1616" y="1466"/>
                  </a:lnTo>
                  <a:lnTo>
                    <a:pt x="1602" y="1435"/>
                  </a:lnTo>
                  <a:lnTo>
                    <a:pt x="1587" y="1403"/>
                  </a:lnTo>
                  <a:lnTo>
                    <a:pt x="1572" y="1371"/>
                  </a:lnTo>
                  <a:lnTo>
                    <a:pt x="1558" y="1338"/>
                  </a:lnTo>
                  <a:lnTo>
                    <a:pt x="1542" y="1305"/>
                  </a:lnTo>
                  <a:lnTo>
                    <a:pt x="1525" y="1271"/>
                  </a:lnTo>
                  <a:lnTo>
                    <a:pt x="1509" y="1238"/>
                  </a:lnTo>
                  <a:lnTo>
                    <a:pt x="1493" y="1204"/>
                  </a:lnTo>
                  <a:lnTo>
                    <a:pt x="1477" y="1171"/>
                  </a:lnTo>
                  <a:lnTo>
                    <a:pt x="1461" y="1139"/>
                  </a:lnTo>
                  <a:lnTo>
                    <a:pt x="1445" y="1107"/>
                  </a:lnTo>
                  <a:lnTo>
                    <a:pt x="1430" y="1076"/>
                  </a:lnTo>
                  <a:lnTo>
                    <a:pt x="1415" y="1046"/>
                  </a:lnTo>
                  <a:lnTo>
                    <a:pt x="1401" y="1017"/>
                  </a:lnTo>
                  <a:lnTo>
                    <a:pt x="1388" y="990"/>
                  </a:lnTo>
                  <a:lnTo>
                    <a:pt x="1375" y="964"/>
                  </a:lnTo>
                  <a:lnTo>
                    <a:pt x="1370" y="964"/>
                  </a:lnTo>
                  <a:lnTo>
                    <a:pt x="1366" y="964"/>
                  </a:lnTo>
                  <a:lnTo>
                    <a:pt x="1362" y="964"/>
                  </a:lnTo>
                  <a:lnTo>
                    <a:pt x="1359" y="964"/>
                  </a:lnTo>
                  <a:lnTo>
                    <a:pt x="1355" y="964"/>
                  </a:lnTo>
                  <a:lnTo>
                    <a:pt x="1351" y="964"/>
                  </a:lnTo>
                  <a:lnTo>
                    <a:pt x="1348" y="964"/>
                  </a:lnTo>
                  <a:lnTo>
                    <a:pt x="1346" y="964"/>
                  </a:lnTo>
                  <a:lnTo>
                    <a:pt x="1343" y="964"/>
                  </a:lnTo>
                  <a:lnTo>
                    <a:pt x="1341" y="964"/>
                  </a:lnTo>
                  <a:lnTo>
                    <a:pt x="1339" y="964"/>
                  </a:lnTo>
                  <a:lnTo>
                    <a:pt x="1336" y="964"/>
                  </a:lnTo>
                  <a:lnTo>
                    <a:pt x="1334" y="964"/>
                  </a:lnTo>
                  <a:lnTo>
                    <a:pt x="1332" y="964"/>
                  </a:lnTo>
                  <a:lnTo>
                    <a:pt x="1330" y="964"/>
                  </a:lnTo>
                  <a:lnTo>
                    <a:pt x="1329" y="964"/>
                  </a:lnTo>
                  <a:lnTo>
                    <a:pt x="1324" y="994"/>
                  </a:lnTo>
                  <a:lnTo>
                    <a:pt x="1319" y="1025"/>
                  </a:lnTo>
                  <a:lnTo>
                    <a:pt x="1314" y="1057"/>
                  </a:lnTo>
                  <a:lnTo>
                    <a:pt x="1310" y="1088"/>
                  </a:lnTo>
                  <a:lnTo>
                    <a:pt x="1305" y="1119"/>
                  </a:lnTo>
                  <a:lnTo>
                    <a:pt x="1300" y="1151"/>
                  </a:lnTo>
                  <a:lnTo>
                    <a:pt x="1296" y="1182"/>
                  </a:lnTo>
                  <a:lnTo>
                    <a:pt x="1292" y="1213"/>
                  </a:lnTo>
                  <a:lnTo>
                    <a:pt x="1287" y="1244"/>
                  </a:lnTo>
                  <a:lnTo>
                    <a:pt x="1283" y="1276"/>
                  </a:lnTo>
                  <a:lnTo>
                    <a:pt x="1279" y="1308"/>
                  </a:lnTo>
                  <a:lnTo>
                    <a:pt x="1273" y="1339"/>
                  </a:lnTo>
                  <a:lnTo>
                    <a:pt x="1269" y="1371"/>
                  </a:lnTo>
                  <a:lnTo>
                    <a:pt x="1265" y="1403"/>
                  </a:lnTo>
                  <a:lnTo>
                    <a:pt x="1261" y="1434"/>
                  </a:lnTo>
                  <a:lnTo>
                    <a:pt x="1257" y="1466"/>
                  </a:lnTo>
                  <a:lnTo>
                    <a:pt x="1256" y="1465"/>
                  </a:lnTo>
                  <a:lnTo>
                    <a:pt x="1254" y="1465"/>
                  </a:lnTo>
                  <a:lnTo>
                    <a:pt x="1251" y="1465"/>
                  </a:lnTo>
                  <a:lnTo>
                    <a:pt x="1247" y="1465"/>
                  </a:lnTo>
                  <a:lnTo>
                    <a:pt x="1241" y="1465"/>
                  </a:lnTo>
                  <a:lnTo>
                    <a:pt x="1236" y="1465"/>
                  </a:lnTo>
                  <a:lnTo>
                    <a:pt x="1229" y="1465"/>
                  </a:lnTo>
                  <a:lnTo>
                    <a:pt x="1222" y="1465"/>
                  </a:lnTo>
                  <a:lnTo>
                    <a:pt x="1215" y="1464"/>
                  </a:lnTo>
                  <a:lnTo>
                    <a:pt x="1207" y="1464"/>
                  </a:lnTo>
                  <a:lnTo>
                    <a:pt x="1200" y="1464"/>
                  </a:lnTo>
                  <a:lnTo>
                    <a:pt x="1192" y="1464"/>
                  </a:lnTo>
                  <a:lnTo>
                    <a:pt x="1186" y="1464"/>
                  </a:lnTo>
                  <a:lnTo>
                    <a:pt x="1178" y="1464"/>
                  </a:lnTo>
                  <a:lnTo>
                    <a:pt x="1173" y="1464"/>
                  </a:lnTo>
                  <a:lnTo>
                    <a:pt x="1168" y="1464"/>
                  </a:lnTo>
                  <a:lnTo>
                    <a:pt x="1161" y="1464"/>
                  </a:lnTo>
                  <a:lnTo>
                    <a:pt x="1155" y="1464"/>
                  </a:lnTo>
                  <a:lnTo>
                    <a:pt x="1148" y="1464"/>
                  </a:lnTo>
                  <a:lnTo>
                    <a:pt x="1141" y="1464"/>
                  </a:lnTo>
                  <a:lnTo>
                    <a:pt x="1133" y="1464"/>
                  </a:lnTo>
                  <a:lnTo>
                    <a:pt x="1126" y="1464"/>
                  </a:lnTo>
                  <a:lnTo>
                    <a:pt x="1118" y="1464"/>
                  </a:lnTo>
                  <a:lnTo>
                    <a:pt x="1111" y="1465"/>
                  </a:lnTo>
                  <a:lnTo>
                    <a:pt x="1105" y="1465"/>
                  </a:lnTo>
                  <a:lnTo>
                    <a:pt x="1098" y="1465"/>
                  </a:lnTo>
                  <a:lnTo>
                    <a:pt x="1092" y="1465"/>
                  </a:lnTo>
                  <a:lnTo>
                    <a:pt x="1086" y="1465"/>
                  </a:lnTo>
                  <a:lnTo>
                    <a:pt x="1082" y="1465"/>
                  </a:lnTo>
                  <a:lnTo>
                    <a:pt x="1079" y="1465"/>
                  </a:lnTo>
                  <a:lnTo>
                    <a:pt x="1077" y="1465"/>
                  </a:lnTo>
                  <a:lnTo>
                    <a:pt x="1077" y="1466"/>
                  </a:lnTo>
                  <a:lnTo>
                    <a:pt x="1088" y="1412"/>
                  </a:lnTo>
                  <a:lnTo>
                    <a:pt x="1099" y="1360"/>
                  </a:lnTo>
                  <a:lnTo>
                    <a:pt x="1110" y="1307"/>
                  </a:lnTo>
                  <a:lnTo>
                    <a:pt x="1121" y="1254"/>
                  </a:lnTo>
                  <a:lnTo>
                    <a:pt x="1131" y="1200"/>
                  </a:lnTo>
                  <a:lnTo>
                    <a:pt x="1141" y="1148"/>
                  </a:lnTo>
                  <a:lnTo>
                    <a:pt x="1151" y="1094"/>
                  </a:lnTo>
                  <a:lnTo>
                    <a:pt x="1160" y="1040"/>
                  </a:lnTo>
                  <a:lnTo>
                    <a:pt x="1169" y="987"/>
                  </a:lnTo>
                  <a:lnTo>
                    <a:pt x="1177" y="933"/>
                  </a:lnTo>
                  <a:lnTo>
                    <a:pt x="1186" y="880"/>
                  </a:lnTo>
                  <a:lnTo>
                    <a:pt x="1193" y="826"/>
                  </a:lnTo>
                  <a:lnTo>
                    <a:pt x="1201" y="772"/>
                  </a:lnTo>
                  <a:lnTo>
                    <a:pt x="1208" y="718"/>
                  </a:lnTo>
                  <a:lnTo>
                    <a:pt x="1216" y="664"/>
                  </a:lnTo>
                  <a:lnTo>
                    <a:pt x="1222" y="612"/>
                  </a:lnTo>
                  <a:lnTo>
                    <a:pt x="1203" y="657"/>
                  </a:lnTo>
                  <a:lnTo>
                    <a:pt x="1180" y="701"/>
                  </a:lnTo>
                  <a:lnTo>
                    <a:pt x="1154" y="744"/>
                  </a:lnTo>
                  <a:lnTo>
                    <a:pt x="1124" y="783"/>
                  </a:lnTo>
                  <a:lnTo>
                    <a:pt x="1090" y="821"/>
                  </a:lnTo>
                  <a:lnTo>
                    <a:pt x="1053" y="857"/>
                  </a:lnTo>
                  <a:lnTo>
                    <a:pt x="1013" y="890"/>
                  </a:lnTo>
                  <a:lnTo>
                    <a:pt x="970" y="920"/>
                  </a:lnTo>
                  <a:lnTo>
                    <a:pt x="923" y="947"/>
                  </a:lnTo>
                  <a:lnTo>
                    <a:pt x="874" y="971"/>
                  </a:lnTo>
                  <a:lnTo>
                    <a:pt x="822" y="992"/>
                  </a:lnTo>
                  <a:lnTo>
                    <a:pt x="766" y="1009"/>
                  </a:lnTo>
                  <a:lnTo>
                    <a:pt x="708" y="1024"/>
                  </a:lnTo>
                  <a:lnTo>
                    <a:pt x="647" y="1033"/>
                  </a:lnTo>
                  <a:lnTo>
                    <a:pt x="584" y="1039"/>
                  </a:lnTo>
                  <a:lnTo>
                    <a:pt x="519" y="1042"/>
                  </a:lnTo>
                  <a:lnTo>
                    <a:pt x="503" y="1041"/>
                  </a:lnTo>
                  <a:lnTo>
                    <a:pt x="488" y="1041"/>
                  </a:lnTo>
                  <a:lnTo>
                    <a:pt x="474" y="1041"/>
                  </a:lnTo>
                  <a:lnTo>
                    <a:pt x="460" y="1041"/>
                  </a:lnTo>
                  <a:lnTo>
                    <a:pt x="448" y="1041"/>
                  </a:lnTo>
                  <a:lnTo>
                    <a:pt x="435" y="1040"/>
                  </a:lnTo>
                  <a:lnTo>
                    <a:pt x="422" y="1040"/>
                  </a:lnTo>
                  <a:lnTo>
                    <a:pt x="411" y="1040"/>
                  </a:lnTo>
                  <a:lnTo>
                    <a:pt x="401" y="1039"/>
                  </a:lnTo>
                  <a:lnTo>
                    <a:pt x="391" y="1039"/>
                  </a:lnTo>
                  <a:lnTo>
                    <a:pt x="381" y="1039"/>
                  </a:lnTo>
                  <a:lnTo>
                    <a:pt x="373" y="1038"/>
                  </a:lnTo>
                  <a:lnTo>
                    <a:pt x="366" y="1038"/>
                  </a:lnTo>
                  <a:lnTo>
                    <a:pt x="360" y="1037"/>
                  </a:lnTo>
                  <a:lnTo>
                    <a:pt x="355" y="1037"/>
                  </a:lnTo>
                  <a:lnTo>
                    <a:pt x="350" y="1037"/>
                  </a:lnTo>
                  <a:lnTo>
                    <a:pt x="342" y="1093"/>
                  </a:lnTo>
                  <a:lnTo>
                    <a:pt x="333" y="1148"/>
                  </a:lnTo>
                  <a:lnTo>
                    <a:pt x="325" y="1202"/>
                  </a:lnTo>
                  <a:lnTo>
                    <a:pt x="316" y="1256"/>
                  </a:lnTo>
                  <a:lnTo>
                    <a:pt x="309" y="1308"/>
                  </a:lnTo>
                  <a:lnTo>
                    <a:pt x="300" y="1361"/>
                  </a:lnTo>
                  <a:lnTo>
                    <a:pt x="293" y="1413"/>
                  </a:lnTo>
                  <a:lnTo>
                    <a:pt x="284" y="1466"/>
                  </a:lnTo>
                  <a:lnTo>
                    <a:pt x="277" y="1517"/>
                  </a:lnTo>
                  <a:lnTo>
                    <a:pt x="268" y="1570"/>
                  </a:lnTo>
                  <a:lnTo>
                    <a:pt x="261" y="1622"/>
                  </a:lnTo>
                  <a:lnTo>
                    <a:pt x="253" y="1675"/>
                  </a:lnTo>
                  <a:lnTo>
                    <a:pt x="245" y="1729"/>
                  </a:lnTo>
                  <a:lnTo>
                    <a:pt x="237" y="1783"/>
                  </a:lnTo>
                  <a:lnTo>
                    <a:pt x="229" y="1838"/>
                  </a:lnTo>
                  <a:lnTo>
                    <a:pt x="221" y="1894"/>
                  </a:lnTo>
                  <a:lnTo>
                    <a:pt x="220" y="1893"/>
                  </a:lnTo>
                  <a:lnTo>
                    <a:pt x="218" y="1893"/>
                  </a:lnTo>
                  <a:lnTo>
                    <a:pt x="215" y="1893"/>
                  </a:lnTo>
                  <a:lnTo>
                    <a:pt x="211" y="1892"/>
                  </a:lnTo>
                  <a:lnTo>
                    <a:pt x="205" y="1892"/>
                  </a:lnTo>
                  <a:lnTo>
                    <a:pt x="199" y="1891"/>
                  </a:lnTo>
                  <a:lnTo>
                    <a:pt x="192" y="1890"/>
                  </a:lnTo>
                  <a:lnTo>
                    <a:pt x="184" y="1890"/>
                  </a:lnTo>
                  <a:lnTo>
                    <a:pt x="176" y="1889"/>
                  </a:lnTo>
                  <a:lnTo>
                    <a:pt x="168" y="1888"/>
                  </a:lnTo>
                  <a:lnTo>
                    <a:pt x="158" y="1887"/>
                  </a:lnTo>
                  <a:lnTo>
                    <a:pt x="149" y="1887"/>
                  </a:lnTo>
                  <a:lnTo>
                    <a:pt x="140" y="1886"/>
                  </a:lnTo>
                  <a:lnTo>
                    <a:pt x="130" y="1886"/>
                  </a:lnTo>
                  <a:lnTo>
                    <a:pt x="121" y="1886"/>
                  </a:lnTo>
                  <a:lnTo>
                    <a:pt x="112" y="1886"/>
                  </a:lnTo>
                  <a:lnTo>
                    <a:pt x="103" y="1886"/>
                  </a:lnTo>
                  <a:lnTo>
                    <a:pt x="94" y="1886"/>
                  </a:lnTo>
                  <a:lnTo>
                    <a:pt x="87" y="1886"/>
                  </a:lnTo>
                  <a:lnTo>
                    <a:pt x="79" y="1886"/>
                  </a:lnTo>
                  <a:lnTo>
                    <a:pt x="73" y="1886"/>
                  </a:lnTo>
                  <a:lnTo>
                    <a:pt x="66" y="1886"/>
                  </a:lnTo>
                  <a:lnTo>
                    <a:pt x="60" y="1886"/>
                  </a:lnTo>
                  <a:lnTo>
                    <a:pt x="55" y="1886"/>
                  </a:lnTo>
                  <a:lnTo>
                    <a:pt x="48" y="1886"/>
                  </a:lnTo>
                  <a:lnTo>
                    <a:pt x="43" y="1887"/>
                  </a:lnTo>
                  <a:lnTo>
                    <a:pt x="36" y="1887"/>
                  </a:lnTo>
                  <a:lnTo>
                    <a:pt x="30" y="1888"/>
                  </a:lnTo>
                  <a:lnTo>
                    <a:pt x="24" y="1888"/>
                  </a:lnTo>
                  <a:lnTo>
                    <a:pt x="16" y="1889"/>
                  </a:lnTo>
                  <a:lnTo>
                    <a:pt x="9" y="1890"/>
                  </a:lnTo>
                  <a:lnTo>
                    <a:pt x="0" y="1891"/>
                  </a:lnTo>
                  <a:lnTo>
                    <a:pt x="26" y="1775"/>
                  </a:lnTo>
                  <a:lnTo>
                    <a:pt x="50" y="1657"/>
                  </a:lnTo>
                  <a:lnTo>
                    <a:pt x="74" y="1540"/>
                  </a:lnTo>
                  <a:lnTo>
                    <a:pt x="97" y="1423"/>
                  </a:lnTo>
                  <a:lnTo>
                    <a:pt x="119" y="1304"/>
                  </a:lnTo>
                  <a:lnTo>
                    <a:pt x="140" y="1187"/>
                  </a:lnTo>
                  <a:lnTo>
                    <a:pt x="160" y="1068"/>
                  </a:lnTo>
                  <a:lnTo>
                    <a:pt x="180" y="949"/>
                  </a:lnTo>
                  <a:lnTo>
                    <a:pt x="198" y="830"/>
                  </a:lnTo>
                  <a:lnTo>
                    <a:pt x="216" y="712"/>
                  </a:lnTo>
                  <a:lnTo>
                    <a:pt x="232" y="592"/>
                  </a:lnTo>
                  <a:lnTo>
                    <a:pt x="248" y="474"/>
                  </a:lnTo>
                  <a:lnTo>
                    <a:pt x="263" y="355"/>
                  </a:lnTo>
                  <a:lnTo>
                    <a:pt x="278" y="237"/>
                  </a:lnTo>
                  <a:lnTo>
                    <a:pt x="292" y="118"/>
                  </a:lnTo>
                  <a:lnTo>
                    <a:pt x="305" y="1"/>
                  </a:lnTo>
                  <a:lnTo>
                    <a:pt x="308" y="1"/>
                  </a:lnTo>
                  <a:lnTo>
                    <a:pt x="312" y="1"/>
                  </a:lnTo>
                  <a:lnTo>
                    <a:pt x="318" y="1"/>
                  </a:lnTo>
                  <a:lnTo>
                    <a:pt x="326" y="2"/>
                  </a:lnTo>
                  <a:lnTo>
                    <a:pt x="334" y="2"/>
                  </a:lnTo>
                  <a:lnTo>
                    <a:pt x="344" y="3"/>
                  </a:lnTo>
                  <a:lnTo>
                    <a:pt x="355" y="4"/>
                  </a:lnTo>
                  <a:lnTo>
                    <a:pt x="365" y="4"/>
                  </a:lnTo>
                  <a:lnTo>
                    <a:pt x="377" y="5"/>
                  </a:lnTo>
                  <a:lnTo>
                    <a:pt x="389" y="5"/>
                  </a:lnTo>
                  <a:lnTo>
                    <a:pt x="401" y="6"/>
                  </a:lnTo>
                  <a:lnTo>
                    <a:pt x="412" y="6"/>
                  </a:lnTo>
                  <a:lnTo>
                    <a:pt x="424" y="6"/>
                  </a:lnTo>
                  <a:lnTo>
                    <a:pt x="435" y="6"/>
                  </a:lnTo>
                  <a:lnTo>
                    <a:pt x="446" y="7"/>
                  </a:lnTo>
                  <a:lnTo>
                    <a:pt x="708" y="1"/>
                  </a:lnTo>
                  <a:lnTo>
                    <a:pt x="751" y="0"/>
                  </a:lnTo>
                  <a:lnTo>
                    <a:pt x="797" y="1"/>
                  </a:lnTo>
                  <a:lnTo>
                    <a:pt x="843" y="3"/>
                  </a:lnTo>
                  <a:lnTo>
                    <a:pt x="890" y="8"/>
                  </a:lnTo>
                  <a:lnTo>
                    <a:pt x="937" y="16"/>
                  </a:lnTo>
                  <a:lnTo>
                    <a:pt x="982" y="27"/>
                  </a:lnTo>
                  <a:lnTo>
                    <a:pt x="1027" y="41"/>
                  </a:lnTo>
                  <a:lnTo>
                    <a:pt x="1068" y="60"/>
                  </a:lnTo>
                  <a:lnTo>
                    <a:pt x="1108" y="82"/>
                  </a:lnTo>
                  <a:lnTo>
                    <a:pt x="1144" y="110"/>
                  </a:lnTo>
                  <a:lnTo>
                    <a:pt x="1177" y="142"/>
                  </a:lnTo>
                  <a:lnTo>
                    <a:pt x="1205" y="181"/>
                  </a:lnTo>
                  <a:lnTo>
                    <a:pt x="1227" y="225"/>
                  </a:lnTo>
                  <a:lnTo>
                    <a:pt x="1245" y="276"/>
                  </a:lnTo>
                  <a:lnTo>
                    <a:pt x="1255" y="334"/>
                  </a:lnTo>
                  <a:lnTo>
                    <a:pt x="1260" y="400"/>
                  </a:lnTo>
                  <a:lnTo>
                    <a:pt x="1260" y="401"/>
                  </a:lnTo>
                  <a:lnTo>
                    <a:pt x="1260" y="402"/>
                  </a:lnTo>
                  <a:lnTo>
                    <a:pt x="1260" y="403"/>
                  </a:lnTo>
                  <a:lnTo>
                    <a:pt x="1260" y="404"/>
                  </a:lnTo>
                  <a:lnTo>
                    <a:pt x="1260" y="405"/>
                  </a:lnTo>
                  <a:lnTo>
                    <a:pt x="1260" y="407"/>
                  </a:lnTo>
                  <a:lnTo>
                    <a:pt x="1260" y="408"/>
                  </a:lnTo>
                  <a:lnTo>
                    <a:pt x="1260" y="409"/>
                  </a:lnTo>
                  <a:lnTo>
                    <a:pt x="1260" y="410"/>
                  </a:lnTo>
                  <a:lnTo>
                    <a:pt x="1260" y="411"/>
                  </a:lnTo>
                  <a:lnTo>
                    <a:pt x="1260" y="413"/>
                  </a:lnTo>
                  <a:lnTo>
                    <a:pt x="1260" y="414"/>
                  </a:lnTo>
                  <a:lnTo>
                    <a:pt x="1260" y="415"/>
                  </a:lnTo>
                  <a:lnTo>
                    <a:pt x="1260" y="416"/>
                  </a:lnTo>
                  <a:lnTo>
                    <a:pt x="1260" y="417"/>
                  </a:lnTo>
                  <a:lnTo>
                    <a:pt x="1260" y="419"/>
                  </a:lnTo>
                  <a:lnTo>
                    <a:pt x="1266" y="419"/>
                  </a:lnTo>
                  <a:lnTo>
                    <a:pt x="1272" y="419"/>
                  </a:lnTo>
                  <a:lnTo>
                    <a:pt x="1281" y="419"/>
                  </a:lnTo>
                  <a:lnTo>
                    <a:pt x="1288" y="419"/>
                  </a:lnTo>
                  <a:lnTo>
                    <a:pt x="1298" y="419"/>
                  </a:lnTo>
                  <a:lnTo>
                    <a:pt x="1307" y="420"/>
                  </a:lnTo>
                  <a:lnTo>
                    <a:pt x="1316" y="420"/>
                  </a:lnTo>
                  <a:lnTo>
                    <a:pt x="1326" y="420"/>
                  </a:lnTo>
                  <a:lnTo>
                    <a:pt x="1334" y="420"/>
                  </a:lnTo>
                  <a:lnTo>
                    <a:pt x="1344" y="420"/>
                  </a:lnTo>
                  <a:lnTo>
                    <a:pt x="1352" y="420"/>
                  </a:lnTo>
                  <a:lnTo>
                    <a:pt x="1361" y="420"/>
                  </a:lnTo>
                  <a:lnTo>
                    <a:pt x="1368" y="420"/>
                  </a:lnTo>
                  <a:lnTo>
                    <a:pt x="1376" y="420"/>
                  </a:lnTo>
                  <a:lnTo>
                    <a:pt x="1382" y="420"/>
                  </a:lnTo>
                  <a:lnTo>
                    <a:pt x="1389" y="421"/>
                  </a:lnTo>
                  <a:lnTo>
                    <a:pt x="1420" y="420"/>
                  </a:lnTo>
                  <a:lnTo>
                    <a:pt x="1453" y="419"/>
                  </a:lnTo>
                  <a:lnTo>
                    <a:pt x="1489" y="418"/>
                  </a:lnTo>
                  <a:lnTo>
                    <a:pt x="1525" y="418"/>
                  </a:lnTo>
                  <a:lnTo>
                    <a:pt x="1564" y="419"/>
                  </a:lnTo>
                  <a:lnTo>
                    <a:pt x="1601" y="421"/>
                  </a:lnTo>
                  <a:lnTo>
                    <a:pt x="1639" y="425"/>
                  </a:lnTo>
                  <a:lnTo>
                    <a:pt x="1675" y="433"/>
                  </a:lnTo>
                  <a:lnTo>
                    <a:pt x="1708" y="442"/>
                  </a:lnTo>
                  <a:lnTo>
                    <a:pt x="1740" y="455"/>
                  </a:lnTo>
                  <a:lnTo>
                    <a:pt x="1769" y="472"/>
                  </a:lnTo>
                  <a:lnTo>
                    <a:pt x="1794" y="493"/>
                  </a:lnTo>
                  <a:lnTo>
                    <a:pt x="1814" y="519"/>
                  </a:lnTo>
                  <a:lnTo>
                    <a:pt x="1829" y="550"/>
                  </a:lnTo>
                  <a:lnTo>
                    <a:pt x="1838" y="586"/>
                  </a:lnTo>
                  <a:lnTo>
                    <a:pt x="1843" y="629"/>
                  </a:lnTo>
                  <a:lnTo>
                    <a:pt x="1841" y="667"/>
                  </a:lnTo>
                  <a:lnTo>
                    <a:pt x="1834" y="704"/>
                  </a:lnTo>
                  <a:lnTo>
                    <a:pt x="1825" y="737"/>
                  </a:lnTo>
                  <a:lnTo>
                    <a:pt x="1812" y="768"/>
                  </a:lnTo>
                  <a:lnTo>
                    <a:pt x="1797" y="796"/>
                  </a:lnTo>
                  <a:lnTo>
                    <a:pt x="1779" y="822"/>
                  </a:lnTo>
                  <a:lnTo>
                    <a:pt x="1759" y="846"/>
                  </a:lnTo>
                  <a:lnTo>
                    <a:pt x="1738" y="866"/>
                  </a:lnTo>
                  <a:lnTo>
                    <a:pt x="1716" y="885"/>
                  </a:lnTo>
                  <a:lnTo>
                    <a:pt x="1691" y="900"/>
                  </a:lnTo>
                  <a:lnTo>
                    <a:pt x="1668" y="915"/>
                  </a:lnTo>
                  <a:lnTo>
                    <a:pt x="1643" y="926"/>
                  </a:lnTo>
                  <a:lnTo>
                    <a:pt x="1618" y="936"/>
                  </a:lnTo>
                  <a:lnTo>
                    <a:pt x="1594" y="945"/>
                  </a:lnTo>
                  <a:lnTo>
                    <a:pt x="1571" y="951"/>
                  </a:lnTo>
                  <a:lnTo>
                    <a:pt x="1550" y="956"/>
                  </a:lnTo>
                  <a:lnTo>
                    <a:pt x="1563" y="982"/>
                  </a:lnTo>
                  <a:lnTo>
                    <a:pt x="1576" y="1010"/>
                  </a:lnTo>
                  <a:lnTo>
                    <a:pt x="1591" y="1039"/>
                  </a:lnTo>
                  <a:lnTo>
                    <a:pt x="1605" y="1069"/>
                  </a:lnTo>
                  <a:lnTo>
                    <a:pt x="1621" y="1099"/>
                  </a:lnTo>
                  <a:lnTo>
                    <a:pt x="1636" y="1131"/>
                  </a:lnTo>
                  <a:lnTo>
                    <a:pt x="1652" y="1162"/>
                  </a:lnTo>
                  <a:lnTo>
                    <a:pt x="1668" y="1194"/>
                  </a:lnTo>
                  <a:lnTo>
                    <a:pt x="1684" y="1226"/>
                  </a:lnTo>
                  <a:lnTo>
                    <a:pt x="1701" y="1258"/>
                  </a:lnTo>
                  <a:lnTo>
                    <a:pt x="1717" y="1290"/>
                  </a:lnTo>
                  <a:lnTo>
                    <a:pt x="1733" y="1321"/>
                  </a:lnTo>
                  <a:lnTo>
                    <a:pt x="1749" y="1351"/>
                  </a:lnTo>
                  <a:lnTo>
                    <a:pt x="1765" y="1381"/>
                  </a:lnTo>
                  <a:lnTo>
                    <a:pt x="1781" y="1410"/>
                  </a:lnTo>
                  <a:lnTo>
                    <a:pt x="1797" y="1439"/>
                  </a:lnTo>
                  <a:lnTo>
                    <a:pt x="1810" y="1375"/>
                  </a:lnTo>
                  <a:lnTo>
                    <a:pt x="1822" y="1312"/>
                  </a:lnTo>
                  <a:lnTo>
                    <a:pt x="1835" y="1249"/>
                  </a:lnTo>
                  <a:lnTo>
                    <a:pt x="1848" y="1186"/>
                  </a:lnTo>
                  <a:lnTo>
                    <a:pt x="1860" y="1122"/>
                  </a:lnTo>
                  <a:lnTo>
                    <a:pt x="1871" y="1058"/>
                  </a:lnTo>
                  <a:lnTo>
                    <a:pt x="1881" y="994"/>
                  </a:lnTo>
                  <a:lnTo>
                    <a:pt x="1892" y="930"/>
                  </a:lnTo>
                  <a:lnTo>
                    <a:pt x="1902" y="866"/>
                  </a:lnTo>
                  <a:lnTo>
                    <a:pt x="1911" y="802"/>
                  </a:lnTo>
                  <a:lnTo>
                    <a:pt x="1921" y="738"/>
                  </a:lnTo>
                  <a:lnTo>
                    <a:pt x="1929" y="675"/>
                  </a:lnTo>
                  <a:lnTo>
                    <a:pt x="1938" y="611"/>
                  </a:lnTo>
                  <a:lnTo>
                    <a:pt x="1945" y="546"/>
                  </a:lnTo>
                  <a:lnTo>
                    <a:pt x="1953" y="482"/>
                  </a:lnTo>
                  <a:lnTo>
                    <a:pt x="1960" y="419"/>
                  </a:lnTo>
                  <a:lnTo>
                    <a:pt x="1962" y="419"/>
                  </a:lnTo>
                  <a:lnTo>
                    <a:pt x="1966" y="419"/>
                  </a:lnTo>
                  <a:lnTo>
                    <a:pt x="1971" y="419"/>
                  </a:lnTo>
                  <a:lnTo>
                    <a:pt x="1976" y="419"/>
                  </a:lnTo>
                  <a:lnTo>
                    <a:pt x="1982" y="419"/>
                  </a:lnTo>
                  <a:lnTo>
                    <a:pt x="1989" y="419"/>
                  </a:lnTo>
                  <a:lnTo>
                    <a:pt x="1997" y="420"/>
                  </a:lnTo>
                  <a:lnTo>
                    <a:pt x="2004" y="420"/>
                  </a:lnTo>
                  <a:lnTo>
                    <a:pt x="2012" y="420"/>
                  </a:lnTo>
                  <a:lnTo>
                    <a:pt x="2019" y="420"/>
                  </a:lnTo>
                  <a:lnTo>
                    <a:pt x="2026" y="420"/>
                  </a:lnTo>
                  <a:lnTo>
                    <a:pt x="2034" y="420"/>
                  </a:lnTo>
                  <a:lnTo>
                    <a:pt x="2040" y="420"/>
                  </a:lnTo>
                  <a:lnTo>
                    <a:pt x="2047" y="420"/>
                  </a:lnTo>
                  <a:lnTo>
                    <a:pt x="2052" y="421"/>
                  </a:lnTo>
                  <a:lnTo>
                    <a:pt x="2057" y="420"/>
                  </a:lnTo>
                  <a:lnTo>
                    <a:pt x="2064" y="420"/>
                  </a:lnTo>
                  <a:lnTo>
                    <a:pt x="2071" y="420"/>
                  </a:lnTo>
                  <a:lnTo>
                    <a:pt x="2079" y="420"/>
                  </a:lnTo>
                  <a:lnTo>
                    <a:pt x="2086" y="420"/>
                  </a:lnTo>
                  <a:lnTo>
                    <a:pt x="2095" y="420"/>
                  </a:lnTo>
                  <a:lnTo>
                    <a:pt x="2102" y="420"/>
                  </a:lnTo>
                  <a:lnTo>
                    <a:pt x="2110" y="420"/>
                  </a:lnTo>
                  <a:lnTo>
                    <a:pt x="2117" y="419"/>
                  </a:lnTo>
                  <a:lnTo>
                    <a:pt x="2124" y="419"/>
                  </a:lnTo>
                  <a:lnTo>
                    <a:pt x="2130" y="419"/>
                  </a:lnTo>
                  <a:lnTo>
                    <a:pt x="2135" y="419"/>
                  </a:lnTo>
                  <a:lnTo>
                    <a:pt x="2141" y="419"/>
                  </a:lnTo>
                  <a:lnTo>
                    <a:pt x="2144" y="419"/>
                  </a:lnTo>
                  <a:lnTo>
                    <a:pt x="2146" y="419"/>
                  </a:lnTo>
                  <a:lnTo>
                    <a:pt x="2147" y="419"/>
                  </a:lnTo>
                  <a:close/>
                  <a:moveTo>
                    <a:pt x="1039" y="421"/>
                  </a:moveTo>
                  <a:lnTo>
                    <a:pt x="1037" y="382"/>
                  </a:lnTo>
                  <a:lnTo>
                    <a:pt x="1033" y="346"/>
                  </a:lnTo>
                  <a:lnTo>
                    <a:pt x="1024" y="313"/>
                  </a:lnTo>
                  <a:lnTo>
                    <a:pt x="1015" y="283"/>
                  </a:lnTo>
                  <a:lnTo>
                    <a:pt x="1001" y="255"/>
                  </a:lnTo>
                  <a:lnTo>
                    <a:pt x="985" y="231"/>
                  </a:lnTo>
                  <a:lnTo>
                    <a:pt x="967" y="209"/>
                  </a:lnTo>
                  <a:lnTo>
                    <a:pt x="947" y="189"/>
                  </a:lnTo>
                  <a:lnTo>
                    <a:pt x="923" y="173"/>
                  </a:lnTo>
                  <a:lnTo>
                    <a:pt x="898" y="158"/>
                  </a:lnTo>
                  <a:lnTo>
                    <a:pt x="872" y="146"/>
                  </a:lnTo>
                  <a:lnTo>
                    <a:pt x="843" y="137"/>
                  </a:lnTo>
                  <a:lnTo>
                    <a:pt x="812" y="130"/>
                  </a:lnTo>
                  <a:lnTo>
                    <a:pt x="780" y="123"/>
                  </a:lnTo>
                  <a:lnTo>
                    <a:pt x="746" y="120"/>
                  </a:lnTo>
                  <a:lnTo>
                    <a:pt x="712" y="120"/>
                  </a:lnTo>
                  <a:lnTo>
                    <a:pt x="699" y="120"/>
                  </a:lnTo>
                  <a:lnTo>
                    <a:pt x="685" y="120"/>
                  </a:lnTo>
                  <a:lnTo>
                    <a:pt x="671" y="120"/>
                  </a:lnTo>
                  <a:lnTo>
                    <a:pt x="656" y="120"/>
                  </a:lnTo>
                  <a:lnTo>
                    <a:pt x="640" y="121"/>
                  </a:lnTo>
                  <a:lnTo>
                    <a:pt x="625" y="121"/>
                  </a:lnTo>
                  <a:lnTo>
                    <a:pt x="609" y="122"/>
                  </a:lnTo>
                  <a:lnTo>
                    <a:pt x="594" y="122"/>
                  </a:lnTo>
                  <a:lnTo>
                    <a:pt x="579" y="123"/>
                  </a:lnTo>
                  <a:lnTo>
                    <a:pt x="565" y="124"/>
                  </a:lnTo>
                  <a:lnTo>
                    <a:pt x="551" y="124"/>
                  </a:lnTo>
                  <a:lnTo>
                    <a:pt x="538" y="126"/>
                  </a:lnTo>
                  <a:lnTo>
                    <a:pt x="528" y="127"/>
                  </a:lnTo>
                  <a:lnTo>
                    <a:pt x="518" y="127"/>
                  </a:lnTo>
                  <a:lnTo>
                    <a:pt x="511" y="128"/>
                  </a:lnTo>
                  <a:lnTo>
                    <a:pt x="505" y="129"/>
                  </a:lnTo>
                  <a:lnTo>
                    <a:pt x="494" y="185"/>
                  </a:lnTo>
                  <a:lnTo>
                    <a:pt x="484" y="239"/>
                  </a:lnTo>
                  <a:lnTo>
                    <a:pt x="474" y="289"/>
                  </a:lnTo>
                  <a:lnTo>
                    <a:pt x="466" y="338"/>
                  </a:lnTo>
                  <a:lnTo>
                    <a:pt x="457" y="385"/>
                  </a:lnTo>
                  <a:lnTo>
                    <a:pt x="449" y="430"/>
                  </a:lnTo>
                  <a:lnTo>
                    <a:pt x="441" y="475"/>
                  </a:lnTo>
                  <a:lnTo>
                    <a:pt x="434" y="519"/>
                  </a:lnTo>
                  <a:lnTo>
                    <a:pt x="426" y="563"/>
                  </a:lnTo>
                  <a:lnTo>
                    <a:pt x="419" y="609"/>
                  </a:lnTo>
                  <a:lnTo>
                    <a:pt x="411" y="654"/>
                  </a:lnTo>
                  <a:lnTo>
                    <a:pt x="404" y="701"/>
                  </a:lnTo>
                  <a:lnTo>
                    <a:pt x="395" y="751"/>
                  </a:lnTo>
                  <a:lnTo>
                    <a:pt x="388" y="803"/>
                  </a:lnTo>
                  <a:lnTo>
                    <a:pt x="379" y="858"/>
                  </a:lnTo>
                  <a:lnTo>
                    <a:pt x="371" y="917"/>
                  </a:lnTo>
                  <a:lnTo>
                    <a:pt x="374" y="917"/>
                  </a:lnTo>
                  <a:lnTo>
                    <a:pt x="379" y="918"/>
                  </a:lnTo>
                  <a:lnTo>
                    <a:pt x="385" y="918"/>
                  </a:lnTo>
                  <a:lnTo>
                    <a:pt x="392" y="919"/>
                  </a:lnTo>
                  <a:lnTo>
                    <a:pt x="399" y="920"/>
                  </a:lnTo>
                  <a:lnTo>
                    <a:pt x="407" y="920"/>
                  </a:lnTo>
                  <a:lnTo>
                    <a:pt x="415" y="921"/>
                  </a:lnTo>
                  <a:lnTo>
                    <a:pt x="424" y="922"/>
                  </a:lnTo>
                  <a:lnTo>
                    <a:pt x="434" y="922"/>
                  </a:lnTo>
                  <a:lnTo>
                    <a:pt x="444" y="923"/>
                  </a:lnTo>
                  <a:lnTo>
                    <a:pt x="455" y="923"/>
                  </a:lnTo>
                  <a:lnTo>
                    <a:pt x="467" y="924"/>
                  </a:lnTo>
                  <a:lnTo>
                    <a:pt x="479" y="924"/>
                  </a:lnTo>
                  <a:lnTo>
                    <a:pt x="490" y="924"/>
                  </a:lnTo>
                  <a:lnTo>
                    <a:pt x="503" y="924"/>
                  </a:lnTo>
                  <a:lnTo>
                    <a:pt x="517" y="925"/>
                  </a:lnTo>
                  <a:lnTo>
                    <a:pt x="574" y="922"/>
                  </a:lnTo>
                  <a:lnTo>
                    <a:pt x="628" y="915"/>
                  </a:lnTo>
                  <a:lnTo>
                    <a:pt x="681" y="902"/>
                  </a:lnTo>
                  <a:lnTo>
                    <a:pt x="730" y="885"/>
                  </a:lnTo>
                  <a:lnTo>
                    <a:pt x="776" y="864"/>
                  </a:lnTo>
                  <a:lnTo>
                    <a:pt x="819" y="838"/>
                  </a:lnTo>
                  <a:lnTo>
                    <a:pt x="859" y="810"/>
                  </a:lnTo>
                  <a:lnTo>
                    <a:pt x="895" y="778"/>
                  </a:lnTo>
                  <a:lnTo>
                    <a:pt x="927" y="742"/>
                  </a:lnTo>
                  <a:lnTo>
                    <a:pt x="956" y="703"/>
                  </a:lnTo>
                  <a:lnTo>
                    <a:pt x="981" y="661"/>
                  </a:lnTo>
                  <a:lnTo>
                    <a:pt x="1001" y="618"/>
                  </a:lnTo>
                  <a:lnTo>
                    <a:pt x="1017" y="572"/>
                  </a:lnTo>
                  <a:lnTo>
                    <a:pt x="1029" y="523"/>
                  </a:lnTo>
                  <a:lnTo>
                    <a:pt x="1036" y="473"/>
                  </a:lnTo>
                  <a:lnTo>
                    <a:pt x="1039" y="421"/>
                  </a:lnTo>
                  <a:close/>
                  <a:moveTo>
                    <a:pt x="1380" y="876"/>
                  </a:moveTo>
                  <a:lnTo>
                    <a:pt x="1411" y="874"/>
                  </a:lnTo>
                  <a:lnTo>
                    <a:pt x="1441" y="871"/>
                  </a:lnTo>
                  <a:lnTo>
                    <a:pt x="1470" y="866"/>
                  </a:lnTo>
                  <a:lnTo>
                    <a:pt x="1497" y="859"/>
                  </a:lnTo>
                  <a:lnTo>
                    <a:pt x="1522" y="850"/>
                  </a:lnTo>
                  <a:lnTo>
                    <a:pt x="1545" y="839"/>
                  </a:lnTo>
                  <a:lnTo>
                    <a:pt x="1566" y="827"/>
                  </a:lnTo>
                  <a:lnTo>
                    <a:pt x="1586" y="813"/>
                  </a:lnTo>
                  <a:lnTo>
                    <a:pt x="1603" y="797"/>
                  </a:lnTo>
                  <a:lnTo>
                    <a:pt x="1618" y="780"/>
                  </a:lnTo>
                  <a:lnTo>
                    <a:pt x="1632" y="761"/>
                  </a:lnTo>
                  <a:lnTo>
                    <a:pt x="1643" y="741"/>
                  </a:lnTo>
                  <a:lnTo>
                    <a:pt x="1652" y="719"/>
                  </a:lnTo>
                  <a:lnTo>
                    <a:pt x="1658" y="695"/>
                  </a:lnTo>
                  <a:lnTo>
                    <a:pt x="1662" y="672"/>
                  </a:lnTo>
                  <a:lnTo>
                    <a:pt x="1664" y="646"/>
                  </a:lnTo>
                  <a:lnTo>
                    <a:pt x="1663" y="630"/>
                  </a:lnTo>
                  <a:lnTo>
                    <a:pt x="1661" y="617"/>
                  </a:lnTo>
                  <a:lnTo>
                    <a:pt x="1658" y="604"/>
                  </a:lnTo>
                  <a:lnTo>
                    <a:pt x="1653" y="591"/>
                  </a:lnTo>
                  <a:lnTo>
                    <a:pt x="1646" y="579"/>
                  </a:lnTo>
                  <a:lnTo>
                    <a:pt x="1639" y="567"/>
                  </a:lnTo>
                  <a:lnTo>
                    <a:pt x="1630" y="557"/>
                  </a:lnTo>
                  <a:lnTo>
                    <a:pt x="1621" y="548"/>
                  </a:lnTo>
                  <a:lnTo>
                    <a:pt x="1609" y="540"/>
                  </a:lnTo>
                  <a:lnTo>
                    <a:pt x="1596" y="532"/>
                  </a:lnTo>
                  <a:lnTo>
                    <a:pt x="1582" y="525"/>
                  </a:lnTo>
                  <a:lnTo>
                    <a:pt x="1566" y="520"/>
                  </a:lnTo>
                  <a:lnTo>
                    <a:pt x="1550" y="516"/>
                  </a:lnTo>
                  <a:lnTo>
                    <a:pt x="1532" y="513"/>
                  </a:lnTo>
                  <a:lnTo>
                    <a:pt x="1513" y="511"/>
                  </a:lnTo>
                  <a:lnTo>
                    <a:pt x="1493" y="511"/>
                  </a:lnTo>
                  <a:lnTo>
                    <a:pt x="1486" y="511"/>
                  </a:lnTo>
                  <a:lnTo>
                    <a:pt x="1480" y="511"/>
                  </a:lnTo>
                  <a:lnTo>
                    <a:pt x="1473" y="511"/>
                  </a:lnTo>
                  <a:lnTo>
                    <a:pt x="1467" y="511"/>
                  </a:lnTo>
                  <a:lnTo>
                    <a:pt x="1459" y="511"/>
                  </a:lnTo>
                  <a:lnTo>
                    <a:pt x="1453" y="511"/>
                  </a:lnTo>
                  <a:lnTo>
                    <a:pt x="1448" y="511"/>
                  </a:lnTo>
                  <a:lnTo>
                    <a:pt x="1441" y="511"/>
                  </a:lnTo>
                  <a:lnTo>
                    <a:pt x="1436" y="511"/>
                  </a:lnTo>
                  <a:lnTo>
                    <a:pt x="1429" y="511"/>
                  </a:lnTo>
                  <a:lnTo>
                    <a:pt x="1425" y="511"/>
                  </a:lnTo>
                  <a:lnTo>
                    <a:pt x="1420" y="512"/>
                  </a:lnTo>
                  <a:lnTo>
                    <a:pt x="1415" y="512"/>
                  </a:lnTo>
                  <a:lnTo>
                    <a:pt x="1411" y="513"/>
                  </a:lnTo>
                  <a:lnTo>
                    <a:pt x="1408" y="513"/>
                  </a:lnTo>
                  <a:lnTo>
                    <a:pt x="1406" y="514"/>
                  </a:lnTo>
                  <a:lnTo>
                    <a:pt x="1399" y="542"/>
                  </a:lnTo>
                  <a:lnTo>
                    <a:pt x="1395" y="567"/>
                  </a:lnTo>
                  <a:lnTo>
                    <a:pt x="1391" y="591"/>
                  </a:lnTo>
                  <a:lnTo>
                    <a:pt x="1387" y="614"/>
                  </a:lnTo>
                  <a:lnTo>
                    <a:pt x="1382" y="634"/>
                  </a:lnTo>
                  <a:lnTo>
                    <a:pt x="1379" y="654"/>
                  </a:lnTo>
                  <a:lnTo>
                    <a:pt x="1376" y="674"/>
                  </a:lnTo>
                  <a:lnTo>
                    <a:pt x="1374" y="692"/>
                  </a:lnTo>
                  <a:lnTo>
                    <a:pt x="1371" y="711"/>
                  </a:lnTo>
                  <a:lnTo>
                    <a:pt x="1367" y="730"/>
                  </a:lnTo>
                  <a:lnTo>
                    <a:pt x="1364" y="750"/>
                  </a:lnTo>
                  <a:lnTo>
                    <a:pt x="1361" y="770"/>
                  </a:lnTo>
                  <a:lnTo>
                    <a:pt x="1358" y="793"/>
                  </a:lnTo>
                  <a:lnTo>
                    <a:pt x="1355" y="817"/>
                  </a:lnTo>
                  <a:lnTo>
                    <a:pt x="1350" y="844"/>
                  </a:lnTo>
                  <a:lnTo>
                    <a:pt x="1346" y="872"/>
                  </a:lnTo>
                  <a:lnTo>
                    <a:pt x="1347" y="872"/>
                  </a:lnTo>
                  <a:lnTo>
                    <a:pt x="1348" y="872"/>
                  </a:lnTo>
                  <a:lnTo>
                    <a:pt x="1349" y="872"/>
                  </a:lnTo>
                  <a:lnTo>
                    <a:pt x="1351" y="872"/>
                  </a:lnTo>
                  <a:lnTo>
                    <a:pt x="1354" y="872"/>
                  </a:lnTo>
                  <a:lnTo>
                    <a:pt x="1355" y="872"/>
                  </a:lnTo>
                  <a:lnTo>
                    <a:pt x="1357" y="873"/>
                  </a:lnTo>
                  <a:lnTo>
                    <a:pt x="1360" y="873"/>
                  </a:lnTo>
                  <a:lnTo>
                    <a:pt x="1362" y="873"/>
                  </a:lnTo>
                  <a:lnTo>
                    <a:pt x="1364" y="874"/>
                  </a:lnTo>
                  <a:lnTo>
                    <a:pt x="1366" y="874"/>
                  </a:lnTo>
                  <a:lnTo>
                    <a:pt x="1370" y="874"/>
                  </a:lnTo>
                  <a:lnTo>
                    <a:pt x="1372" y="874"/>
                  </a:lnTo>
                  <a:lnTo>
                    <a:pt x="1375" y="874"/>
                  </a:lnTo>
                  <a:lnTo>
                    <a:pt x="1377" y="874"/>
                  </a:lnTo>
                  <a:lnTo>
                    <a:pt x="1380" y="8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46800" y="6266160"/>
              <a:ext cx="153000" cy="234360"/>
            </a:xfrm>
            <a:custGeom>
              <a:avLst/>
              <a:gdLst/>
              <a:ahLst/>
              <a:rect l="l" t="t" r="r" b="b"/>
              <a:pathLst>
                <a:path w="780" h="1092">
                  <a:moveTo>
                    <a:pt x="180" y="674"/>
                  </a:moveTo>
                  <a:lnTo>
                    <a:pt x="180" y="708"/>
                  </a:lnTo>
                  <a:lnTo>
                    <a:pt x="182" y="741"/>
                  </a:lnTo>
                  <a:lnTo>
                    <a:pt x="184" y="773"/>
                  </a:lnTo>
                  <a:lnTo>
                    <a:pt x="188" y="802"/>
                  </a:lnTo>
                  <a:lnTo>
                    <a:pt x="195" y="830"/>
                  </a:lnTo>
                  <a:lnTo>
                    <a:pt x="201" y="857"/>
                  </a:lnTo>
                  <a:lnTo>
                    <a:pt x="209" y="882"/>
                  </a:lnTo>
                  <a:lnTo>
                    <a:pt x="220" y="903"/>
                  </a:lnTo>
                  <a:lnTo>
                    <a:pt x="232" y="924"/>
                  </a:lnTo>
                  <a:lnTo>
                    <a:pt x="246" y="942"/>
                  </a:lnTo>
                  <a:lnTo>
                    <a:pt x="261" y="957"/>
                  </a:lnTo>
                  <a:lnTo>
                    <a:pt x="278" y="970"/>
                  </a:lnTo>
                  <a:lnTo>
                    <a:pt x="297" y="980"/>
                  </a:lnTo>
                  <a:lnTo>
                    <a:pt x="318" y="988"/>
                  </a:lnTo>
                  <a:lnTo>
                    <a:pt x="342" y="992"/>
                  </a:lnTo>
                  <a:lnTo>
                    <a:pt x="369" y="994"/>
                  </a:lnTo>
                  <a:lnTo>
                    <a:pt x="395" y="992"/>
                  </a:lnTo>
                  <a:lnTo>
                    <a:pt x="422" y="989"/>
                  </a:lnTo>
                  <a:lnTo>
                    <a:pt x="448" y="983"/>
                  </a:lnTo>
                  <a:lnTo>
                    <a:pt x="472" y="976"/>
                  </a:lnTo>
                  <a:lnTo>
                    <a:pt x="495" y="966"/>
                  </a:lnTo>
                  <a:lnTo>
                    <a:pt x="516" y="957"/>
                  </a:lnTo>
                  <a:lnTo>
                    <a:pt x="536" y="947"/>
                  </a:lnTo>
                  <a:lnTo>
                    <a:pt x="555" y="935"/>
                  </a:lnTo>
                  <a:lnTo>
                    <a:pt x="571" y="924"/>
                  </a:lnTo>
                  <a:lnTo>
                    <a:pt x="585" y="914"/>
                  </a:lnTo>
                  <a:lnTo>
                    <a:pt x="598" y="904"/>
                  </a:lnTo>
                  <a:lnTo>
                    <a:pt x="608" y="895"/>
                  </a:lnTo>
                  <a:lnTo>
                    <a:pt x="616" y="888"/>
                  </a:lnTo>
                  <a:lnTo>
                    <a:pt x="623" y="882"/>
                  </a:lnTo>
                  <a:lnTo>
                    <a:pt x="626" y="879"/>
                  </a:lnTo>
                  <a:lnTo>
                    <a:pt x="628" y="878"/>
                  </a:lnTo>
                  <a:lnTo>
                    <a:pt x="651" y="878"/>
                  </a:lnTo>
                  <a:lnTo>
                    <a:pt x="620" y="1005"/>
                  </a:lnTo>
                  <a:lnTo>
                    <a:pt x="618" y="1006"/>
                  </a:lnTo>
                  <a:lnTo>
                    <a:pt x="613" y="1010"/>
                  </a:lnTo>
                  <a:lnTo>
                    <a:pt x="606" y="1014"/>
                  </a:lnTo>
                  <a:lnTo>
                    <a:pt x="597" y="1019"/>
                  </a:lnTo>
                  <a:lnTo>
                    <a:pt x="587" y="1026"/>
                  </a:lnTo>
                  <a:lnTo>
                    <a:pt x="573" y="1033"/>
                  </a:lnTo>
                  <a:lnTo>
                    <a:pt x="558" y="1040"/>
                  </a:lnTo>
                  <a:lnTo>
                    <a:pt x="541" y="1049"/>
                  </a:lnTo>
                  <a:lnTo>
                    <a:pt x="521" y="1057"/>
                  </a:lnTo>
                  <a:lnTo>
                    <a:pt x="501" y="1064"/>
                  </a:lnTo>
                  <a:lnTo>
                    <a:pt x="479" y="1071"/>
                  </a:lnTo>
                  <a:lnTo>
                    <a:pt x="455" y="1079"/>
                  </a:lnTo>
                  <a:lnTo>
                    <a:pt x="430" y="1084"/>
                  </a:lnTo>
                  <a:lnTo>
                    <a:pt x="403" y="1088"/>
                  </a:lnTo>
                  <a:lnTo>
                    <a:pt x="375" y="1091"/>
                  </a:lnTo>
                  <a:lnTo>
                    <a:pt x="346" y="1092"/>
                  </a:lnTo>
                  <a:lnTo>
                    <a:pt x="313" y="1090"/>
                  </a:lnTo>
                  <a:lnTo>
                    <a:pt x="281" y="1086"/>
                  </a:lnTo>
                  <a:lnTo>
                    <a:pt x="250" y="1079"/>
                  </a:lnTo>
                  <a:lnTo>
                    <a:pt x="219" y="1067"/>
                  </a:lnTo>
                  <a:lnTo>
                    <a:pt x="189" y="1054"/>
                  </a:lnTo>
                  <a:lnTo>
                    <a:pt x="160" y="1037"/>
                  </a:lnTo>
                  <a:lnTo>
                    <a:pt x="134" y="1017"/>
                  </a:lnTo>
                  <a:lnTo>
                    <a:pt x="108" y="992"/>
                  </a:lnTo>
                  <a:lnTo>
                    <a:pt x="84" y="964"/>
                  </a:lnTo>
                  <a:lnTo>
                    <a:pt x="64" y="933"/>
                  </a:lnTo>
                  <a:lnTo>
                    <a:pt x="45" y="897"/>
                  </a:lnTo>
                  <a:lnTo>
                    <a:pt x="29" y="858"/>
                  </a:lnTo>
                  <a:lnTo>
                    <a:pt x="17" y="815"/>
                  </a:lnTo>
                  <a:lnTo>
                    <a:pt x="8" y="767"/>
                  </a:lnTo>
                  <a:lnTo>
                    <a:pt x="1" y="715"/>
                  </a:lnTo>
                  <a:lnTo>
                    <a:pt x="0" y="659"/>
                  </a:lnTo>
                  <a:lnTo>
                    <a:pt x="2" y="596"/>
                  </a:lnTo>
                  <a:lnTo>
                    <a:pt x="10" y="536"/>
                  </a:lnTo>
                  <a:lnTo>
                    <a:pt x="21" y="475"/>
                  </a:lnTo>
                  <a:lnTo>
                    <a:pt x="39" y="416"/>
                  </a:lnTo>
                  <a:lnTo>
                    <a:pt x="60" y="358"/>
                  </a:lnTo>
                  <a:lnTo>
                    <a:pt x="86" y="304"/>
                  </a:lnTo>
                  <a:lnTo>
                    <a:pt x="115" y="252"/>
                  </a:lnTo>
                  <a:lnTo>
                    <a:pt x="149" y="205"/>
                  </a:lnTo>
                  <a:lnTo>
                    <a:pt x="186" y="161"/>
                  </a:lnTo>
                  <a:lnTo>
                    <a:pt x="227" y="120"/>
                  </a:lnTo>
                  <a:lnTo>
                    <a:pt x="270" y="85"/>
                  </a:lnTo>
                  <a:lnTo>
                    <a:pt x="317" y="56"/>
                  </a:lnTo>
                  <a:lnTo>
                    <a:pt x="368" y="32"/>
                  </a:lnTo>
                  <a:lnTo>
                    <a:pt x="420" y="14"/>
                  </a:lnTo>
                  <a:lnTo>
                    <a:pt x="475" y="3"/>
                  </a:lnTo>
                  <a:lnTo>
                    <a:pt x="533" y="0"/>
                  </a:lnTo>
                  <a:lnTo>
                    <a:pt x="558" y="0"/>
                  </a:lnTo>
                  <a:lnTo>
                    <a:pt x="582" y="3"/>
                  </a:lnTo>
                  <a:lnTo>
                    <a:pt x="607" y="6"/>
                  </a:lnTo>
                  <a:lnTo>
                    <a:pt x="629" y="11"/>
                  </a:lnTo>
                  <a:lnTo>
                    <a:pt x="651" y="16"/>
                  </a:lnTo>
                  <a:lnTo>
                    <a:pt x="671" y="23"/>
                  </a:lnTo>
                  <a:lnTo>
                    <a:pt x="690" y="29"/>
                  </a:lnTo>
                  <a:lnTo>
                    <a:pt x="707" y="36"/>
                  </a:lnTo>
                  <a:lnTo>
                    <a:pt x="723" y="43"/>
                  </a:lnTo>
                  <a:lnTo>
                    <a:pt x="737" y="49"/>
                  </a:lnTo>
                  <a:lnTo>
                    <a:pt x="750" y="56"/>
                  </a:lnTo>
                  <a:lnTo>
                    <a:pt x="761" y="61"/>
                  </a:lnTo>
                  <a:lnTo>
                    <a:pt x="768" y="66"/>
                  </a:lnTo>
                  <a:lnTo>
                    <a:pt x="775" y="69"/>
                  </a:lnTo>
                  <a:lnTo>
                    <a:pt x="778" y="72"/>
                  </a:lnTo>
                  <a:lnTo>
                    <a:pt x="780" y="73"/>
                  </a:lnTo>
                  <a:lnTo>
                    <a:pt x="777" y="80"/>
                  </a:lnTo>
                  <a:lnTo>
                    <a:pt x="774" y="90"/>
                  </a:lnTo>
                  <a:lnTo>
                    <a:pt x="770" y="98"/>
                  </a:lnTo>
                  <a:lnTo>
                    <a:pt x="767" y="107"/>
                  </a:lnTo>
                  <a:lnTo>
                    <a:pt x="764" y="117"/>
                  </a:lnTo>
                  <a:lnTo>
                    <a:pt x="761" y="127"/>
                  </a:lnTo>
                  <a:lnTo>
                    <a:pt x="757" y="137"/>
                  </a:lnTo>
                  <a:lnTo>
                    <a:pt x="755" y="147"/>
                  </a:lnTo>
                  <a:lnTo>
                    <a:pt x="752" y="157"/>
                  </a:lnTo>
                  <a:lnTo>
                    <a:pt x="749" y="167"/>
                  </a:lnTo>
                  <a:lnTo>
                    <a:pt x="746" y="177"/>
                  </a:lnTo>
                  <a:lnTo>
                    <a:pt x="744" y="186"/>
                  </a:lnTo>
                  <a:lnTo>
                    <a:pt x="741" y="196"/>
                  </a:lnTo>
                  <a:lnTo>
                    <a:pt x="739" y="205"/>
                  </a:lnTo>
                  <a:lnTo>
                    <a:pt x="738" y="214"/>
                  </a:lnTo>
                  <a:lnTo>
                    <a:pt x="737" y="222"/>
                  </a:lnTo>
                  <a:lnTo>
                    <a:pt x="717" y="222"/>
                  </a:lnTo>
                  <a:lnTo>
                    <a:pt x="716" y="220"/>
                  </a:lnTo>
                  <a:lnTo>
                    <a:pt x="714" y="215"/>
                  </a:lnTo>
                  <a:lnTo>
                    <a:pt x="709" y="209"/>
                  </a:lnTo>
                  <a:lnTo>
                    <a:pt x="704" y="201"/>
                  </a:lnTo>
                  <a:lnTo>
                    <a:pt x="698" y="192"/>
                  </a:lnTo>
                  <a:lnTo>
                    <a:pt x="689" y="181"/>
                  </a:lnTo>
                  <a:lnTo>
                    <a:pt x="678" y="170"/>
                  </a:lnTo>
                  <a:lnTo>
                    <a:pt x="668" y="159"/>
                  </a:lnTo>
                  <a:lnTo>
                    <a:pt x="655" y="147"/>
                  </a:lnTo>
                  <a:lnTo>
                    <a:pt x="640" y="136"/>
                  </a:lnTo>
                  <a:lnTo>
                    <a:pt x="625" y="126"/>
                  </a:lnTo>
                  <a:lnTo>
                    <a:pt x="607" y="116"/>
                  </a:lnTo>
                  <a:lnTo>
                    <a:pt x="589" y="108"/>
                  </a:lnTo>
                  <a:lnTo>
                    <a:pt x="568" y="103"/>
                  </a:lnTo>
                  <a:lnTo>
                    <a:pt x="547" y="99"/>
                  </a:lnTo>
                  <a:lnTo>
                    <a:pt x="525" y="98"/>
                  </a:lnTo>
                  <a:lnTo>
                    <a:pt x="485" y="101"/>
                  </a:lnTo>
                  <a:lnTo>
                    <a:pt x="448" y="112"/>
                  </a:lnTo>
                  <a:lnTo>
                    <a:pt x="414" y="131"/>
                  </a:lnTo>
                  <a:lnTo>
                    <a:pt x="380" y="154"/>
                  </a:lnTo>
                  <a:lnTo>
                    <a:pt x="349" y="184"/>
                  </a:lnTo>
                  <a:lnTo>
                    <a:pt x="322" y="218"/>
                  </a:lnTo>
                  <a:lnTo>
                    <a:pt x="295" y="256"/>
                  </a:lnTo>
                  <a:lnTo>
                    <a:pt x="271" y="298"/>
                  </a:lnTo>
                  <a:lnTo>
                    <a:pt x="251" y="342"/>
                  </a:lnTo>
                  <a:lnTo>
                    <a:pt x="232" y="388"/>
                  </a:lnTo>
                  <a:lnTo>
                    <a:pt x="216" y="437"/>
                  </a:lnTo>
                  <a:lnTo>
                    <a:pt x="203" y="485"/>
                  </a:lnTo>
                  <a:lnTo>
                    <a:pt x="192" y="534"/>
                  </a:lnTo>
                  <a:lnTo>
                    <a:pt x="185" y="582"/>
                  </a:lnTo>
                  <a:lnTo>
                    <a:pt x="181" y="628"/>
                  </a:lnTo>
                  <a:lnTo>
                    <a:pt x="180" y="6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584680" y="6241680"/>
              <a:ext cx="419040" cy="279720"/>
            </a:xfrm>
            <a:custGeom>
              <a:avLst/>
              <a:gdLst/>
              <a:ahLst/>
              <a:rect l="l" t="t" r="r" b="b"/>
              <a:pathLst>
                <a:path w="2135" h="1301">
                  <a:moveTo>
                    <a:pt x="2135" y="0"/>
                  </a:moveTo>
                  <a:lnTo>
                    <a:pt x="2095" y="77"/>
                  </a:lnTo>
                  <a:lnTo>
                    <a:pt x="2056" y="153"/>
                  </a:lnTo>
                  <a:lnTo>
                    <a:pt x="2020" y="226"/>
                  </a:lnTo>
                  <a:lnTo>
                    <a:pt x="1984" y="299"/>
                  </a:lnTo>
                  <a:lnTo>
                    <a:pt x="1948" y="371"/>
                  </a:lnTo>
                  <a:lnTo>
                    <a:pt x="1912" y="444"/>
                  </a:lnTo>
                  <a:lnTo>
                    <a:pt x="1877" y="517"/>
                  </a:lnTo>
                  <a:lnTo>
                    <a:pt x="1842" y="591"/>
                  </a:lnTo>
                  <a:lnTo>
                    <a:pt x="1804" y="666"/>
                  </a:lnTo>
                  <a:lnTo>
                    <a:pt x="1767" y="744"/>
                  </a:lnTo>
                  <a:lnTo>
                    <a:pt x="1727" y="826"/>
                  </a:lnTo>
                  <a:lnTo>
                    <a:pt x="1686" y="911"/>
                  </a:lnTo>
                  <a:lnTo>
                    <a:pt x="1642" y="1001"/>
                  </a:lnTo>
                  <a:lnTo>
                    <a:pt x="1597" y="1095"/>
                  </a:lnTo>
                  <a:lnTo>
                    <a:pt x="1548" y="1195"/>
                  </a:lnTo>
                  <a:lnTo>
                    <a:pt x="1497" y="1301"/>
                  </a:lnTo>
                  <a:lnTo>
                    <a:pt x="1488" y="1299"/>
                  </a:lnTo>
                  <a:lnTo>
                    <a:pt x="1481" y="1298"/>
                  </a:lnTo>
                  <a:lnTo>
                    <a:pt x="1473" y="1297"/>
                  </a:lnTo>
                  <a:lnTo>
                    <a:pt x="1465" y="1296"/>
                  </a:lnTo>
                  <a:lnTo>
                    <a:pt x="1457" y="1296"/>
                  </a:lnTo>
                  <a:lnTo>
                    <a:pt x="1449" y="1296"/>
                  </a:lnTo>
                  <a:lnTo>
                    <a:pt x="1440" y="1296"/>
                  </a:lnTo>
                  <a:lnTo>
                    <a:pt x="1431" y="1296"/>
                  </a:lnTo>
                  <a:lnTo>
                    <a:pt x="1423" y="1296"/>
                  </a:lnTo>
                  <a:lnTo>
                    <a:pt x="1414" y="1296"/>
                  </a:lnTo>
                  <a:lnTo>
                    <a:pt x="1405" y="1297"/>
                  </a:lnTo>
                  <a:lnTo>
                    <a:pt x="1396" y="1297"/>
                  </a:lnTo>
                  <a:lnTo>
                    <a:pt x="1388" y="1298"/>
                  </a:lnTo>
                  <a:lnTo>
                    <a:pt x="1379" y="1299"/>
                  </a:lnTo>
                  <a:lnTo>
                    <a:pt x="1371" y="1300"/>
                  </a:lnTo>
                  <a:lnTo>
                    <a:pt x="1362" y="1301"/>
                  </a:lnTo>
                  <a:lnTo>
                    <a:pt x="1359" y="1220"/>
                  </a:lnTo>
                  <a:lnTo>
                    <a:pt x="1356" y="1143"/>
                  </a:lnTo>
                  <a:lnTo>
                    <a:pt x="1352" y="1069"/>
                  </a:lnTo>
                  <a:lnTo>
                    <a:pt x="1350" y="997"/>
                  </a:lnTo>
                  <a:lnTo>
                    <a:pt x="1348" y="927"/>
                  </a:lnTo>
                  <a:lnTo>
                    <a:pt x="1346" y="859"/>
                  </a:lnTo>
                  <a:lnTo>
                    <a:pt x="1343" y="793"/>
                  </a:lnTo>
                  <a:lnTo>
                    <a:pt x="1341" y="729"/>
                  </a:lnTo>
                  <a:lnTo>
                    <a:pt x="1338" y="666"/>
                  </a:lnTo>
                  <a:lnTo>
                    <a:pt x="1335" y="604"/>
                  </a:lnTo>
                  <a:lnTo>
                    <a:pt x="1332" y="545"/>
                  </a:lnTo>
                  <a:lnTo>
                    <a:pt x="1329" y="485"/>
                  </a:lnTo>
                  <a:lnTo>
                    <a:pt x="1326" y="426"/>
                  </a:lnTo>
                  <a:lnTo>
                    <a:pt x="1322" y="367"/>
                  </a:lnTo>
                  <a:lnTo>
                    <a:pt x="1318" y="310"/>
                  </a:lnTo>
                  <a:lnTo>
                    <a:pt x="1314" y="252"/>
                  </a:lnTo>
                  <a:lnTo>
                    <a:pt x="872" y="1301"/>
                  </a:lnTo>
                  <a:lnTo>
                    <a:pt x="863" y="1299"/>
                  </a:lnTo>
                  <a:lnTo>
                    <a:pt x="855" y="1298"/>
                  </a:lnTo>
                  <a:lnTo>
                    <a:pt x="846" y="1297"/>
                  </a:lnTo>
                  <a:lnTo>
                    <a:pt x="837" y="1296"/>
                  </a:lnTo>
                  <a:lnTo>
                    <a:pt x="829" y="1296"/>
                  </a:lnTo>
                  <a:lnTo>
                    <a:pt x="820" y="1296"/>
                  </a:lnTo>
                  <a:lnTo>
                    <a:pt x="812" y="1296"/>
                  </a:lnTo>
                  <a:lnTo>
                    <a:pt x="803" y="1296"/>
                  </a:lnTo>
                  <a:lnTo>
                    <a:pt x="795" y="1296"/>
                  </a:lnTo>
                  <a:lnTo>
                    <a:pt x="785" y="1296"/>
                  </a:lnTo>
                  <a:lnTo>
                    <a:pt x="777" y="1297"/>
                  </a:lnTo>
                  <a:lnTo>
                    <a:pt x="768" y="1297"/>
                  </a:lnTo>
                  <a:lnTo>
                    <a:pt x="760" y="1298"/>
                  </a:lnTo>
                  <a:lnTo>
                    <a:pt x="751" y="1299"/>
                  </a:lnTo>
                  <a:lnTo>
                    <a:pt x="742" y="1300"/>
                  </a:lnTo>
                  <a:lnTo>
                    <a:pt x="734" y="1301"/>
                  </a:lnTo>
                  <a:lnTo>
                    <a:pt x="727" y="1227"/>
                  </a:lnTo>
                  <a:lnTo>
                    <a:pt x="721" y="1155"/>
                  </a:lnTo>
                  <a:lnTo>
                    <a:pt x="716" y="1084"/>
                  </a:lnTo>
                  <a:lnTo>
                    <a:pt x="709" y="1015"/>
                  </a:lnTo>
                  <a:lnTo>
                    <a:pt x="704" y="947"/>
                  </a:lnTo>
                  <a:lnTo>
                    <a:pt x="699" y="880"/>
                  </a:lnTo>
                  <a:lnTo>
                    <a:pt x="692" y="813"/>
                  </a:lnTo>
                  <a:lnTo>
                    <a:pt x="687" y="749"/>
                  </a:lnTo>
                  <a:lnTo>
                    <a:pt x="682" y="684"/>
                  </a:lnTo>
                  <a:lnTo>
                    <a:pt x="675" y="619"/>
                  </a:lnTo>
                  <a:lnTo>
                    <a:pt x="669" y="554"/>
                  </a:lnTo>
                  <a:lnTo>
                    <a:pt x="662" y="490"/>
                  </a:lnTo>
                  <a:lnTo>
                    <a:pt x="656" y="426"/>
                  </a:lnTo>
                  <a:lnTo>
                    <a:pt x="648" y="361"/>
                  </a:lnTo>
                  <a:lnTo>
                    <a:pt x="642" y="297"/>
                  </a:lnTo>
                  <a:lnTo>
                    <a:pt x="635" y="232"/>
                  </a:lnTo>
                  <a:lnTo>
                    <a:pt x="620" y="231"/>
                  </a:lnTo>
                  <a:lnTo>
                    <a:pt x="606" y="230"/>
                  </a:lnTo>
                  <a:lnTo>
                    <a:pt x="592" y="229"/>
                  </a:lnTo>
                  <a:lnTo>
                    <a:pt x="578" y="228"/>
                  </a:lnTo>
                  <a:lnTo>
                    <a:pt x="564" y="227"/>
                  </a:lnTo>
                  <a:lnTo>
                    <a:pt x="551" y="227"/>
                  </a:lnTo>
                  <a:lnTo>
                    <a:pt x="537" y="226"/>
                  </a:lnTo>
                  <a:lnTo>
                    <a:pt x="523" y="226"/>
                  </a:lnTo>
                  <a:lnTo>
                    <a:pt x="510" y="225"/>
                  </a:lnTo>
                  <a:lnTo>
                    <a:pt x="495" y="225"/>
                  </a:lnTo>
                  <a:lnTo>
                    <a:pt x="481" y="224"/>
                  </a:lnTo>
                  <a:lnTo>
                    <a:pt x="466" y="224"/>
                  </a:lnTo>
                  <a:lnTo>
                    <a:pt x="451" y="224"/>
                  </a:lnTo>
                  <a:lnTo>
                    <a:pt x="436" y="224"/>
                  </a:lnTo>
                  <a:lnTo>
                    <a:pt x="420" y="224"/>
                  </a:lnTo>
                  <a:lnTo>
                    <a:pt x="405" y="224"/>
                  </a:lnTo>
                  <a:lnTo>
                    <a:pt x="400" y="223"/>
                  </a:lnTo>
                  <a:lnTo>
                    <a:pt x="394" y="223"/>
                  </a:lnTo>
                  <a:lnTo>
                    <a:pt x="388" y="222"/>
                  </a:lnTo>
                  <a:lnTo>
                    <a:pt x="382" y="222"/>
                  </a:lnTo>
                  <a:lnTo>
                    <a:pt x="376" y="221"/>
                  </a:lnTo>
                  <a:lnTo>
                    <a:pt x="371" y="221"/>
                  </a:lnTo>
                  <a:lnTo>
                    <a:pt x="364" y="221"/>
                  </a:lnTo>
                  <a:lnTo>
                    <a:pt x="359" y="221"/>
                  </a:lnTo>
                  <a:lnTo>
                    <a:pt x="354" y="221"/>
                  </a:lnTo>
                  <a:lnTo>
                    <a:pt x="348" y="221"/>
                  </a:lnTo>
                  <a:lnTo>
                    <a:pt x="343" y="221"/>
                  </a:lnTo>
                  <a:lnTo>
                    <a:pt x="338" y="221"/>
                  </a:lnTo>
                  <a:lnTo>
                    <a:pt x="333" y="221"/>
                  </a:lnTo>
                  <a:lnTo>
                    <a:pt x="329" y="221"/>
                  </a:lnTo>
                  <a:lnTo>
                    <a:pt x="326" y="221"/>
                  </a:lnTo>
                  <a:lnTo>
                    <a:pt x="324" y="221"/>
                  </a:lnTo>
                  <a:lnTo>
                    <a:pt x="317" y="251"/>
                  </a:lnTo>
                  <a:lnTo>
                    <a:pt x="312" y="278"/>
                  </a:lnTo>
                  <a:lnTo>
                    <a:pt x="308" y="301"/>
                  </a:lnTo>
                  <a:lnTo>
                    <a:pt x="303" y="323"/>
                  </a:lnTo>
                  <a:lnTo>
                    <a:pt x="299" y="344"/>
                  </a:lnTo>
                  <a:lnTo>
                    <a:pt x="296" y="362"/>
                  </a:lnTo>
                  <a:lnTo>
                    <a:pt x="293" y="380"/>
                  </a:lnTo>
                  <a:lnTo>
                    <a:pt x="289" y="397"/>
                  </a:lnTo>
                  <a:lnTo>
                    <a:pt x="286" y="415"/>
                  </a:lnTo>
                  <a:lnTo>
                    <a:pt x="283" y="433"/>
                  </a:lnTo>
                  <a:lnTo>
                    <a:pt x="280" y="452"/>
                  </a:lnTo>
                  <a:lnTo>
                    <a:pt x="277" y="471"/>
                  </a:lnTo>
                  <a:lnTo>
                    <a:pt x="272" y="493"/>
                  </a:lnTo>
                  <a:lnTo>
                    <a:pt x="269" y="518"/>
                  </a:lnTo>
                  <a:lnTo>
                    <a:pt x="265" y="545"/>
                  </a:lnTo>
                  <a:lnTo>
                    <a:pt x="261" y="574"/>
                  </a:lnTo>
                  <a:lnTo>
                    <a:pt x="264" y="574"/>
                  </a:lnTo>
                  <a:lnTo>
                    <a:pt x="269" y="574"/>
                  </a:lnTo>
                  <a:lnTo>
                    <a:pt x="275" y="574"/>
                  </a:lnTo>
                  <a:lnTo>
                    <a:pt x="280" y="574"/>
                  </a:lnTo>
                  <a:lnTo>
                    <a:pt x="286" y="574"/>
                  </a:lnTo>
                  <a:lnTo>
                    <a:pt x="293" y="574"/>
                  </a:lnTo>
                  <a:lnTo>
                    <a:pt x="300" y="575"/>
                  </a:lnTo>
                  <a:lnTo>
                    <a:pt x="308" y="575"/>
                  </a:lnTo>
                  <a:lnTo>
                    <a:pt x="315" y="575"/>
                  </a:lnTo>
                  <a:lnTo>
                    <a:pt x="323" y="576"/>
                  </a:lnTo>
                  <a:lnTo>
                    <a:pt x="330" y="576"/>
                  </a:lnTo>
                  <a:lnTo>
                    <a:pt x="338" y="576"/>
                  </a:lnTo>
                  <a:lnTo>
                    <a:pt x="346" y="576"/>
                  </a:lnTo>
                  <a:lnTo>
                    <a:pt x="353" y="576"/>
                  </a:lnTo>
                  <a:lnTo>
                    <a:pt x="360" y="576"/>
                  </a:lnTo>
                  <a:lnTo>
                    <a:pt x="367" y="578"/>
                  </a:lnTo>
                  <a:lnTo>
                    <a:pt x="383" y="576"/>
                  </a:lnTo>
                  <a:lnTo>
                    <a:pt x="400" y="576"/>
                  </a:lnTo>
                  <a:lnTo>
                    <a:pt x="414" y="576"/>
                  </a:lnTo>
                  <a:lnTo>
                    <a:pt x="429" y="576"/>
                  </a:lnTo>
                  <a:lnTo>
                    <a:pt x="444" y="575"/>
                  </a:lnTo>
                  <a:lnTo>
                    <a:pt x="458" y="575"/>
                  </a:lnTo>
                  <a:lnTo>
                    <a:pt x="472" y="574"/>
                  </a:lnTo>
                  <a:lnTo>
                    <a:pt x="486" y="573"/>
                  </a:lnTo>
                  <a:lnTo>
                    <a:pt x="500" y="572"/>
                  </a:lnTo>
                  <a:lnTo>
                    <a:pt x="514" y="572"/>
                  </a:lnTo>
                  <a:lnTo>
                    <a:pt x="529" y="571"/>
                  </a:lnTo>
                  <a:lnTo>
                    <a:pt x="543" y="570"/>
                  </a:lnTo>
                  <a:lnTo>
                    <a:pt x="557" y="569"/>
                  </a:lnTo>
                  <a:lnTo>
                    <a:pt x="571" y="568"/>
                  </a:lnTo>
                  <a:lnTo>
                    <a:pt x="586" y="567"/>
                  </a:lnTo>
                  <a:lnTo>
                    <a:pt x="602" y="566"/>
                  </a:lnTo>
                  <a:lnTo>
                    <a:pt x="600" y="572"/>
                  </a:lnTo>
                  <a:lnTo>
                    <a:pt x="599" y="580"/>
                  </a:lnTo>
                  <a:lnTo>
                    <a:pt x="597" y="586"/>
                  </a:lnTo>
                  <a:lnTo>
                    <a:pt x="596" y="593"/>
                  </a:lnTo>
                  <a:lnTo>
                    <a:pt x="594" y="600"/>
                  </a:lnTo>
                  <a:lnTo>
                    <a:pt x="593" y="607"/>
                  </a:lnTo>
                  <a:lnTo>
                    <a:pt x="592" y="614"/>
                  </a:lnTo>
                  <a:lnTo>
                    <a:pt x="591" y="621"/>
                  </a:lnTo>
                  <a:lnTo>
                    <a:pt x="590" y="628"/>
                  </a:lnTo>
                  <a:lnTo>
                    <a:pt x="590" y="635"/>
                  </a:lnTo>
                  <a:lnTo>
                    <a:pt x="589" y="641"/>
                  </a:lnTo>
                  <a:lnTo>
                    <a:pt x="589" y="649"/>
                  </a:lnTo>
                  <a:lnTo>
                    <a:pt x="589" y="655"/>
                  </a:lnTo>
                  <a:lnTo>
                    <a:pt x="589" y="662"/>
                  </a:lnTo>
                  <a:lnTo>
                    <a:pt x="590" y="668"/>
                  </a:lnTo>
                  <a:lnTo>
                    <a:pt x="591" y="675"/>
                  </a:lnTo>
                  <a:lnTo>
                    <a:pt x="575" y="673"/>
                  </a:lnTo>
                  <a:lnTo>
                    <a:pt x="559" y="671"/>
                  </a:lnTo>
                  <a:lnTo>
                    <a:pt x="544" y="670"/>
                  </a:lnTo>
                  <a:lnTo>
                    <a:pt x="528" y="669"/>
                  </a:lnTo>
                  <a:lnTo>
                    <a:pt x="513" y="668"/>
                  </a:lnTo>
                  <a:lnTo>
                    <a:pt x="497" y="667"/>
                  </a:lnTo>
                  <a:lnTo>
                    <a:pt x="482" y="666"/>
                  </a:lnTo>
                  <a:lnTo>
                    <a:pt x="467" y="665"/>
                  </a:lnTo>
                  <a:lnTo>
                    <a:pt x="451" y="664"/>
                  </a:lnTo>
                  <a:lnTo>
                    <a:pt x="436" y="664"/>
                  </a:lnTo>
                  <a:lnTo>
                    <a:pt x="422" y="663"/>
                  </a:lnTo>
                  <a:lnTo>
                    <a:pt x="407" y="663"/>
                  </a:lnTo>
                  <a:lnTo>
                    <a:pt x="392" y="663"/>
                  </a:lnTo>
                  <a:lnTo>
                    <a:pt x="378" y="663"/>
                  </a:lnTo>
                  <a:lnTo>
                    <a:pt x="364" y="663"/>
                  </a:lnTo>
                  <a:lnTo>
                    <a:pt x="350" y="663"/>
                  </a:lnTo>
                  <a:lnTo>
                    <a:pt x="341" y="662"/>
                  </a:lnTo>
                  <a:lnTo>
                    <a:pt x="332" y="662"/>
                  </a:lnTo>
                  <a:lnTo>
                    <a:pt x="325" y="662"/>
                  </a:lnTo>
                  <a:lnTo>
                    <a:pt x="317" y="662"/>
                  </a:lnTo>
                  <a:lnTo>
                    <a:pt x="311" y="662"/>
                  </a:lnTo>
                  <a:lnTo>
                    <a:pt x="306" y="662"/>
                  </a:lnTo>
                  <a:lnTo>
                    <a:pt x="300" y="662"/>
                  </a:lnTo>
                  <a:lnTo>
                    <a:pt x="295" y="663"/>
                  </a:lnTo>
                  <a:lnTo>
                    <a:pt x="289" y="663"/>
                  </a:lnTo>
                  <a:lnTo>
                    <a:pt x="284" y="664"/>
                  </a:lnTo>
                  <a:lnTo>
                    <a:pt x="279" y="664"/>
                  </a:lnTo>
                  <a:lnTo>
                    <a:pt x="273" y="665"/>
                  </a:lnTo>
                  <a:lnTo>
                    <a:pt x="267" y="665"/>
                  </a:lnTo>
                  <a:lnTo>
                    <a:pt x="261" y="665"/>
                  </a:lnTo>
                  <a:lnTo>
                    <a:pt x="253" y="665"/>
                  </a:lnTo>
                  <a:lnTo>
                    <a:pt x="246" y="666"/>
                  </a:lnTo>
                  <a:lnTo>
                    <a:pt x="240" y="694"/>
                  </a:lnTo>
                  <a:lnTo>
                    <a:pt x="236" y="721"/>
                  </a:lnTo>
                  <a:lnTo>
                    <a:pt x="232" y="748"/>
                  </a:lnTo>
                  <a:lnTo>
                    <a:pt x="229" y="772"/>
                  </a:lnTo>
                  <a:lnTo>
                    <a:pt x="224" y="797"/>
                  </a:lnTo>
                  <a:lnTo>
                    <a:pt x="221" y="821"/>
                  </a:lnTo>
                  <a:lnTo>
                    <a:pt x="217" y="844"/>
                  </a:lnTo>
                  <a:lnTo>
                    <a:pt x="214" y="868"/>
                  </a:lnTo>
                  <a:lnTo>
                    <a:pt x="210" y="892"/>
                  </a:lnTo>
                  <a:lnTo>
                    <a:pt x="206" y="915"/>
                  </a:lnTo>
                  <a:lnTo>
                    <a:pt x="203" y="940"/>
                  </a:lnTo>
                  <a:lnTo>
                    <a:pt x="199" y="966"/>
                  </a:lnTo>
                  <a:lnTo>
                    <a:pt x="195" y="992"/>
                  </a:lnTo>
                  <a:lnTo>
                    <a:pt x="191" y="1019"/>
                  </a:lnTo>
                  <a:lnTo>
                    <a:pt x="187" y="1047"/>
                  </a:lnTo>
                  <a:lnTo>
                    <a:pt x="183" y="1078"/>
                  </a:lnTo>
                  <a:lnTo>
                    <a:pt x="184" y="1077"/>
                  </a:lnTo>
                  <a:lnTo>
                    <a:pt x="185" y="1076"/>
                  </a:lnTo>
                  <a:lnTo>
                    <a:pt x="186" y="1075"/>
                  </a:lnTo>
                  <a:lnTo>
                    <a:pt x="188" y="1074"/>
                  </a:lnTo>
                  <a:lnTo>
                    <a:pt x="190" y="1073"/>
                  </a:lnTo>
                  <a:lnTo>
                    <a:pt x="191" y="1073"/>
                  </a:lnTo>
                  <a:lnTo>
                    <a:pt x="193" y="1072"/>
                  </a:lnTo>
                  <a:lnTo>
                    <a:pt x="197" y="1072"/>
                  </a:lnTo>
                  <a:lnTo>
                    <a:pt x="199" y="1071"/>
                  </a:lnTo>
                  <a:lnTo>
                    <a:pt x="201" y="1071"/>
                  </a:lnTo>
                  <a:lnTo>
                    <a:pt x="204" y="1070"/>
                  </a:lnTo>
                  <a:lnTo>
                    <a:pt x="207" y="1070"/>
                  </a:lnTo>
                  <a:lnTo>
                    <a:pt x="210" y="1070"/>
                  </a:lnTo>
                  <a:lnTo>
                    <a:pt x="215" y="1070"/>
                  </a:lnTo>
                  <a:lnTo>
                    <a:pt x="219" y="1070"/>
                  </a:lnTo>
                  <a:lnTo>
                    <a:pt x="223" y="1070"/>
                  </a:lnTo>
                  <a:lnTo>
                    <a:pt x="230" y="1069"/>
                  </a:lnTo>
                  <a:lnTo>
                    <a:pt x="238" y="1069"/>
                  </a:lnTo>
                  <a:lnTo>
                    <a:pt x="249" y="1069"/>
                  </a:lnTo>
                  <a:lnTo>
                    <a:pt x="261" y="1069"/>
                  </a:lnTo>
                  <a:lnTo>
                    <a:pt x="273" y="1069"/>
                  </a:lnTo>
                  <a:lnTo>
                    <a:pt x="287" y="1069"/>
                  </a:lnTo>
                  <a:lnTo>
                    <a:pt x="301" y="1068"/>
                  </a:lnTo>
                  <a:lnTo>
                    <a:pt x="316" y="1068"/>
                  </a:lnTo>
                  <a:lnTo>
                    <a:pt x="331" y="1068"/>
                  </a:lnTo>
                  <a:lnTo>
                    <a:pt x="346" y="1067"/>
                  </a:lnTo>
                  <a:lnTo>
                    <a:pt x="361" y="1067"/>
                  </a:lnTo>
                  <a:lnTo>
                    <a:pt x="375" y="1067"/>
                  </a:lnTo>
                  <a:lnTo>
                    <a:pt x="389" y="1066"/>
                  </a:lnTo>
                  <a:lnTo>
                    <a:pt x="401" y="1066"/>
                  </a:lnTo>
                  <a:lnTo>
                    <a:pt x="412" y="1065"/>
                  </a:lnTo>
                  <a:lnTo>
                    <a:pt x="422" y="1065"/>
                  </a:lnTo>
                  <a:lnTo>
                    <a:pt x="436" y="1063"/>
                  </a:lnTo>
                  <a:lnTo>
                    <a:pt x="451" y="1062"/>
                  </a:lnTo>
                  <a:lnTo>
                    <a:pt x="466" y="1061"/>
                  </a:lnTo>
                  <a:lnTo>
                    <a:pt x="480" y="1060"/>
                  </a:lnTo>
                  <a:lnTo>
                    <a:pt x="492" y="1059"/>
                  </a:lnTo>
                  <a:lnTo>
                    <a:pt x="505" y="1057"/>
                  </a:lnTo>
                  <a:lnTo>
                    <a:pt x="518" y="1056"/>
                  </a:lnTo>
                  <a:lnTo>
                    <a:pt x="529" y="1055"/>
                  </a:lnTo>
                  <a:lnTo>
                    <a:pt x="539" y="1052"/>
                  </a:lnTo>
                  <a:lnTo>
                    <a:pt x="548" y="1051"/>
                  </a:lnTo>
                  <a:lnTo>
                    <a:pt x="557" y="1050"/>
                  </a:lnTo>
                  <a:lnTo>
                    <a:pt x="563" y="1049"/>
                  </a:lnTo>
                  <a:lnTo>
                    <a:pt x="569" y="1049"/>
                  </a:lnTo>
                  <a:lnTo>
                    <a:pt x="573" y="1048"/>
                  </a:lnTo>
                  <a:lnTo>
                    <a:pt x="576" y="1048"/>
                  </a:lnTo>
                  <a:lnTo>
                    <a:pt x="577" y="1048"/>
                  </a:lnTo>
                  <a:lnTo>
                    <a:pt x="574" y="1055"/>
                  </a:lnTo>
                  <a:lnTo>
                    <a:pt x="571" y="1062"/>
                  </a:lnTo>
                  <a:lnTo>
                    <a:pt x="569" y="1070"/>
                  </a:lnTo>
                  <a:lnTo>
                    <a:pt x="567" y="1077"/>
                  </a:lnTo>
                  <a:lnTo>
                    <a:pt x="565" y="1085"/>
                  </a:lnTo>
                  <a:lnTo>
                    <a:pt x="564" y="1094"/>
                  </a:lnTo>
                  <a:lnTo>
                    <a:pt x="563" y="1102"/>
                  </a:lnTo>
                  <a:lnTo>
                    <a:pt x="562" y="1109"/>
                  </a:lnTo>
                  <a:lnTo>
                    <a:pt x="561" y="1117"/>
                  </a:lnTo>
                  <a:lnTo>
                    <a:pt x="561" y="1126"/>
                  </a:lnTo>
                  <a:lnTo>
                    <a:pt x="561" y="1133"/>
                  </a:lnTo>
                  <a:lnTo>
                    <a:pt x="560" y="1141"/>
                  </a:lnTo>
                  <a:lnTo>
                    <a:pt x="560" y="1148"/>
                  </a:lnTo>
                  <a:lnTo>
                    <a:pt x="561" y="1154"/>
                  </a:lnTo>
                  <a:lnTo>
                    <a:pt x="561" y="1162"/>
                  </a:lnTo>
                  <a:lnTo>
                    <a:pt x="562" y="1168"/>
                  </a:lnTo>
                  <a:lnTo>
                    <a:pt x="439" y="1166"/>
                  </a:lnTo>
                  <a:lnTo>
                    <a:pt x="426" y="1165"/>
                  </a:lnTo>
                  <a:lnTo>
                    <a:pt x="413" y="1165"/>
                  </a:lnTo>
                  <a:lnTo>
                    <a:pt x="401" y="1164"/>
                  </a:lnTo>
                  <a:lnTo>
                    <a:pt x="387" y="1164"/>
                  </a:lnTo>
                  <a:lnTo>
                    <a:pt x="373" y="1163"/>
                  </a:lnTo>
                  <a:lnTo>
                    <a:pt x="358" y="1163"/>
                  </a:lnTo>
                  <a:lnTo>
                    <a:pt x="343" y="1163"/>
                  </a:lnTo>
                  <a:lnTo>
                    <a:pt x="329" y="1163"/>
                  </a:lnTo>
                  <a:lnTo>
                    <a:pt x="314" y="1163"/>
                  </a:lnTo>
                  <a:lnTo>
                    <a:pt x="299" y="1163"/>
                  </a:lnTo>
                  <a:lnTo>
                    <a:pt x="284" y="1163"/>
                  </a:lnTo>
                  <a:lnTo>
                    <a:pt x="270" y="1163"/>
                  </a:lnTo>
                  <a:lnTo>
                    <a:pt x="256" y="1163"/>
                  </a:lnTo>
                  <a:lnTo>
                    <a:pt x="242" y="1163"/>
                  </a:lnTo>
                  <a:lnTo>
                    <a:pt x="229" y="1163"/>
                  </a:lnTo>
                  <a:lnTo>
                    <a:pt x="217" y="1163"/>
                  </a:lnTo>
                  <a:lnTo>
                    <a:pt x="206" y="1163"/>
                  </a:lnTo>
                  <a:lnTo>
                    <a:pt x="195" y="1163"/>
                  </a:lnTo>
                  <a:lnTo>
                    <a:pt x="185" y="1163"/>
                  </a:lnTo>
                  <a:lnTo>
                    <a:pt x="174" y="1163"/>
                  </a:lnTo>
                  <a:lnTo>
                    <a:pt x="165" y="1163"/>
                  </a:lnTo>
                  <a:lnTo>
                    <a:pt x="154" y="1163"/>
                  </a:lnTo>
                  <a:lnTo>
                    <a:pt x="144" y="1163"/>
                  </a:lnTo>
                  <a:lnTo>
                    <a:pt x="135" y="1163"/>
                  </a:lnTo>
                  <a:lnTo>
                    <a:pt x="125" y="1163"/>
                  </a:lnTo>
                  <a:lnTo>
                    <a:pt x="115" y="1163"/>
                  </a:lnTo>
                  <a:lnTo>
                    <a:pt x="107" y="1163"/>
                  </a:lnTo>
                  <a:lnTo>
                    <a:pt x="97" y="1164"/>
                  </a:lnTo>
                  <a:lnTo>
                    <a:pt x="89" y="1164"/>
                  </a:lnTo>
                  <a:lnTo>
                    <a:pt x="80" y="1165"/>
                  </a:lnTo>
                  <a:lnTo>
                    <a:pt x="73" y="1165"/>
                  </a:lnTo>
                  <a:lnTo>
                    <a:pt x="65" y="1166"/>
                  </a:lnTo>
                  <a:lnTo>
                    <a:pt x="17" y="1166"/>
                  </a:lnTo>
                  <a:lnTo>
                    <a:pt x="15" y="1166"/>
                  </a:lnTo>
                  <a:lnTo>
                    <a:pt x="14" y="1166"/>
                  </a:lnTo>
                  <a:lnTo>
                    <a:pt x="13" y="1166"/>
                  </a:lnTo>
                  <a:lnTo>
                    <a:pt x="12" y="1166"/>
                  </a:lnTo>
                  <a:lnTo>
                    <a:pt x="11" y="1166"/>
                  </a:lnTo>
                  <a:lnTo>
                    <a:pt x="10" y="1166"/>
                  </a:lnTo>
                  <a:lnTo>
                    <a:pt x="9" y="1166"/>
                  </a:lnTo>
                  <a:lnTo>
                    <a:pt x="7" y="1166"/>
                  </a:lnTo>
                  <a:lnTo>
                    <a:pt x="6" y="1166"/>
                  </a:lnTo>
                  <a:lnTo>
                    <a:pt x="5" y="1166"/>
                  </a:lnTo>
                  <a:lnTo>
                    <a:pt x="4" y="1166"/>
                  </a:lnTo>
                  <a:lnTo>
                    <a:pt x="3" y="1166"/>
                  </a:lnTo>
                  <a:lnTo>
                    <a:pt x="2" y="1166"/>
                  </a:lnTo>
                  <a:lnTo>
                    <a:pt x="1" y="1166"/>
                  </a:lnTo>
                  <a:lnTo>
                    <a:pt x="0" y="1166"/>
                  </a:lnTo>
                  <a:lnTo>
                    <a:pt x="0" y="1160"/>
                  </a:lnTo>
                  <a:lnTo>
                    <a:pt x="12" y="1096"/>
                  </a:lnTo>
                  <a:lnTo>
                    <a:pt x="25" y="1032"/>
                  </a:lnTo>
                  <a:lnTo>
                    <a:pt x="36" y="968"/>
                  </a:lnTo>
                  <a:lnTo>
                    <a:pt x="48" y="903"/>
                  </a:lnTo>
                  <a:lnTo>
                    <a:pt x="60" y="839"/>
                  </a:lnTo>
                  <a:lnTo>
                    <a:pt x="71" y="774"/>
                  </a:lnTo>
                  <a:lnTo>
                    <a:pt x="81" y="709"/>
                  </a:lnTo>
                  <a:lnTo>
                    <a:pt x="91" y="644"/>
                  </a:lnTo>
                  <a:lnTo>
                    <a:pt x="101" y="579"/>
                  </a:lnTo>
                  <a:lnTo>
                    <a:pt x="111" y="514"/>
                  </a:lnTo>
                  <a:lnTo>
                    <a:pt x="120" y="449"/>
                  </a:lnTo>
                  <a:lnTo>
                    <a:pt x="128" y="383"/>
                  </a:lnTo>
                  <a:lnTo>
                    <a:pt x="137" y="318"/>
                  </a:lnTo>
                  <a:lnTo>
                    <a:pt x="145" y="253"/>
                  </a:lnTo>
                  <a:lnTo>
                    <a:pt x="153" y="188"/>
                  </a:lnTo>
                  <a:lnTo>
                    <a:pt x="160" y="123"/>
                  </a:lnTo>
                  <a:lnTo>
                    <a:pt x="161" y="123"/>
                  </a:lnTo>
                  <a:lnTo>
                    <a:pt x="165" y="123"/>
                  </a:lnTo>
                  <a:lnTo>
                    <a:pt x="170" y="123"/>
                  </a:lnTo>
                  <a:lnTo>
                    <a:pt x="177" y="123"/>
                  </a:lnTo>
                  <a:lnTo>
                    <a:pt x="186" y="123"/>
                  </a:lnTo>
                  <a:lnTo>
                    <a:pt x="195" y="123"/>
                  </a:lnTo>
                  <a:lnTo>
                    <a:pt x="206" y="124"/>
                  </a:lnTo>
                  <a:lnTo>
                    <a:pt x="217" y="124"/>
                  </a:lnTo>
                  <a:lnTo>
                    <a:pt x="229" y="124"/>
                  </a:lnTo>
                  <a:lnTo>
                    <a:pt x="241" y="125"/>
                  </a:lnTo>
                  <a:lnTo>
                    <a:pt x="253" y="125"/>
                  </a:lnTo>
                  <a:lnTo>
                    <a:pt x="265" y="125"/>
                  </a:lnTo>
                  <a:lnTo>
                    <a:pt x="276" y="125"/>
                  </a:lnTo>
                  <a:lnTo>
                    <a:pt x="286" y="125"/>
                  </a:lnTo>
                  <a:lnTo>
                    <a:pt x="295" y="125"/>
                  </a:lnTo>
                  <a:lnTo>
                    <a:pt x="303" y="126"/>
                  </a:lnTo>
                  <a:lnTo>
                    <a:pt x="557" y="129"/>
                  </a:lnTo>
                  <a:lnTo>
                    <a:pt x="560" y="128"/>
                  </a:lnTo>
                  <a:lnTo>
                    <a:pt x="564" y="128"/>
                  </a:lnTo>
                  <a:lnTo>
                    <a:pt x="568" y="128"/>
                  </a:lnTo>
                  <a:lnTo>
                    <a:pt x="573" y="128"/>
                  </a:lnTo>
                  <a:lnTo>
                    <a:pt x="576" y="128"/>
                  </a:lnTo>
                  <a:lnTo>
                    <a:pt x="580" y="128"/>
                  </a:lnTo>
                  <a:lnTo>
                    <a:pt x="584" y="128"/>
                  </a:lnTo>
                  <a:lnTo>
                    <a:pt x="589" y="128"/>
                  </a:lnTo>
                  <a:lnTo>
                    <a:pt x="592" y="128"/>
                  </a:lnTo>
                  <a:lnTo>
                    <a:pt x="596" y="128"/>
                  </a:lnTo>
                  <a:lnTo>
                    <a:pt x="600" y="127"/>
                  </a:lnTo>
                  <a:lnTo>
                    <a:pt x="605" y="127"/>
                  </a:lnTo>
                  <a:lnTo>
                    <a:pt x="609" y="127"/>
                  </a:lnTo>
                  <a:lnTo>
                    <a:pt x="613" y="127"/>
                  </a:lnTo>
                  <a:lnTo>
                    <a:pt x="617" y="127"/>
                  </a:lnTo>
                  <a:lnTo>
                    <a:pt x="622" y="127"/>
                  </a:lnTo>
                  <a:lnTo>
                    <a:pt x="621" y="119"/>
                  </a:lnTo>
                  <a:lnTo>
                    <a:pt x="620" y="111"/>
                  </a:lnTo>
                  <a:lnTo>
                    <a:pt x="618" y="103"/>
                  </a:lnTo>
                  <a:lnTo>
                    <a:pt x="617" y="95"/>
                  </a:lnTo>
                  <a:lnTo>
                    <a:pt x="616" y="87"/>
                  </a:lnTo>
                  <a:lnTo>
                    <a:pt x="615" y="79"/>
                  </a:lnTo>
                  <a:lnTo>
                    <a:pt x="614" y="72"/>
                  </a:lnTo>
                  <a:lnTo>
                    <a:pt x="613" y="63"/>
                  </a:lnTo>
                  <a:lnTo>
                    <a:pt x="612" y="55"/>
                  </a:lnTo>
                  <a:lnTo>
                    <a:pt x="611" y="47"/>
                  </a:lnTo>
                  <a:lnTo>
                    <a:pt x="610" y="40"/>
                  </a:lnTo>
                  <a:lnTo>
                    <a:pt x="609" y="31"/>
                  </a:lnTo>
                  <a:lnTo>
                    <a:pt x="608" y="23"/>
                  </a:lnTo>
                  <a:lnTo>
                    <a:pt x="607" y="15"/>
                  </a:lnTo>
                  <a:lnTo>
                    <a:pt x="606" y="7"/>
                  </a:lnTo>
                  <a:lnTo>
                    <a:pt x="605" y="0"/>
                  </a:lnTo>
                  <a:lnTo>
                    <a:pt x="607" y="0"/>
                  </a:lnTo>
                  <a:lnTo>
                    <a:pt x="610" y="0"/>
                  </a:lnTo>
                  <a:lnTo>
                    <a:pt x="615" y="0"/>
                  </a:lnTo>
                  <a:lnTo>
                    <a:pt x="621" y="0"/>
                  </a:lnTo>
                  <a:lnTo>
                    <a:pt x="626" y="0"/>
                  </a:lnTo>
                  <a:lnTo>
                    <a:pt x="633" y="0"/>
                  </a:lnTo>
                  <a:lnTo>
                    <a:pt x="641" y="1"/>
                  </a:lnTo>
                  <a:lnTo>
                    <a:pt x="648" y="1"/>
                  </a:lnTo>
                  <a:lnTo>
                    <a:pt x="656" y="1"/>
                  </a:lnTo>
                  <a:lnTo>
                    <a:pt x="663" y="1"/>
                  </a:lnTo>
                  <a:lnTo>
                    <a:pt x="671" y="1"/>
                  </a:lnTo>
                  <a:lnTo>
                    <a:pt x="678" y="1"/>
                  </a:lnTo>
                  <a:lnTo>
                    <a:pt x="685" y="1"/>
                  </a:lnTo>
                  <a:lnTo>
                    <a:pt x="691" y="1"/>
                  </a:lnTo>
                  <a:lnTo>
                    <a:pt x="696" y="2"/>
                  </a:lnTo>
                  <a:lnTo>
                    <a:pt x="701" y="1"/>
                  </a:lnTo>
                  <a:lnTo>
                    <a:pt x="707" y="1"/>
                  </a:lnTo>
                  <a:lnTo>
                    <a:pt x="714" y="1"/>
                  </a:lnTo>
                  <a:lnTo>
                    <a:pt x="720" y="1"/>
                  </a:lnTo>
                  <a:lnTo>
                    <a:pt x="727" y="1"/>
                  </a:lnTo>
                  <a:lnTo>
                    <a:pt x="735" y="1"/>
                  </a:lnTo>
                  <a:lnTo>
                    <a:pt x="741" y="1"/>
                  </a:lnTo>
                  <a:lnTo>
                    <a:pt x="749" y="1"/>
                  </a:lnTo>
                  <a:lnTo>
                    <a:pt x="755" y="0"/>
                  </a:lnTo>
                  <a:lnTo>
                    <a:pt x="762" y="0"/>
                  </a:lnTo>
                  <a:lnTo>
                    <a:pt x="768" y="0"/>
                  </a:lnTo>
                  <a:lnTo>
                    <a:pt x="772" y="0"/>
                  </a:lnTo>
                  <a:lnTo>
                    <a:pt x="777" y="0"/>
                  </a:lnTo>
                  <a:lnTo>
                    <a:pt x="780" y="0"/>
                  </a:lnTo>
                  <a:lnTo>
                    <a:pt x="782" y="0"/>
                  </a:lnTo>
                  <a:lnTo>
                    <a:pt x="783" y="0"/>
                  </a:lnTo>
                  <a:lnTo>
                    <a:pt x="787" y="68"/>
                  </a:lnTo>
                  <a:lnTo>
                    <a:pt x="792" y="136"/>
                  </a:lnTo>
                  <a:lnTo>
                    <a:pt x="796" y="203"/>
                  </a:lnTo>
                  <a:lnTo>
                    <a:pt x="801" y="269"/>
                  </a:lnTo>
                  <a:lnTo>
                    <a:pt x="807" y="335"/>
                  </a:lnTo>
                  <a:lnTo>
                    <a:pt x="812" y="401"/>
                  </a:lnTo>
                  <a:lnTo>
                    <a:pt x="817" y="466"/>
                  </a:lnTo>
                  <a:lnTo>
                    <a:pt x="823" y="531"/>
                  </a:lnTo>
                  <a:lnTo>
                    <a:pt x="828" y="596"/>
                  </a:lnTo>
                  <a:lnTo>
                    <a:pt x="834" y="661"/>
                  </a:lnTo>
                  <a:lnTo>
                    <a:pt x="840" y="726"/>
                  </a:lnTo>
                  <a:lnTo>
                    <a:pt x="846" y="791"/>
                  </a:lnTo>
                  <a:lnTo>
                    <a:pt x="852" y="856"/>
                  </a:lnTo>
                  <a:lnTo>
                    <a:pt x="859" y="922"/>
                  </a:lnTo>
                  <a:lnTo>
                    <a:pt x="865" y="987"/>
                  </a:lnTo>
                  <a:lnTo>
                    <a:pt x="872" y="1053"/>
                  </a:lnTo>
                  <a:lnTo>
                    <a:pt x="887" y="1014"/>
                  </a:lnTo>
                  <a:lnTo>
                    <a:pt x="907" y="967"/>
                  </a:lnTo>
                  <a:lnTo>
                    <a:pt x="929" y="911"/>
                  </a:lnTo>
                  <a:lnTo>
                    <a:pt x="955" y="850"/>
                  </a:lnTo>
                  <a:lnTo>
                    <a:pt x="983" y="782"/>
                  </a:lnTo>
                  <a:lnTo>
                    <a:pt x="1013" y="709"/>
                  </a:lnTo>
                  <a:lnTo>
                    <a:pt x="1044" y="634"/>
                  </a:lnTo>
                  <a:lnTo>
                    <a:pt x="1075" y="557"/>
                  </a:lnTo>
                  <a:lnTo>
                    <a:pt x="1107" y="478"/>
                  </a:lnTo>
                  <a:lnTo>
                    <a:pt x="1139" y="399"/>
                  </a:lnTo>
                  <a:lnTo>
                    <a:pt x="1170" y="323"/>
                  </a:lnTo>
                  <a:lnTo>
                    <a:pt x="1199" y="249"/>
                  </a:lnTo>
                  <a:lnTo>
                    <a:pt x="1227" y="178"/>
                  </a:lnTo>
                  <a:lnTo>
                    <a:pt x="1253" y="112"/>
                  </a:lnTo>
                  <a:lnTo>
                    <a:pt x="1277" y="52"/>
                  </a:lnTo>
                  <a:lnTo>
                    <a:pt x="1297" y="0"/>
                  </a:lnTo>
                  <a:lnTo>
                    <a:pt x="1304" y="1"/>
                  </a:lnTo>
                  <a:lnTo>
                    <a:pt x="1314" y="2"/>
                  </a:lnTo>
                  <a:lnTo>
                    <a:pt x="1324" y="3"/>
                  </a:lnTo>
                  <a:lnTo>
                    <a:pt x="1333" y="4"/>
                  </a:lnTo>
                  <a:lnTo>
                    <a:pt x="1344" y="4"/>
                  </a:lnTo>
                  <a:lnTo>
                    <a:pt x="1355" y="4"/>
                  </a:lnTo>
                  <a:lnTo>
                    <a:pt x="1365" y="4"/>
                  </a:lnTo>
                  <a:lnTo>
                    <a:pt x="1377" y="4"/>
                  </a:lnTo>
                  <a:lnTo>
                    <a:pt x="1388" y="4"/>
                  </a:lnTo>
                  <a:lnTo>
                    <a:pt x="1398" y="4"/>
                  </a:lnTo>
                  <a:lnTo>
                    <a:pt x="1410" y="3"/>
                  </a:lnTo>
                  <a:lnTo>
                    <a:pt x="1421" y="3"/>
                  </a:lnTo>
                  <a:lnTo>
                    <a:pt x="1430" y="2"/>
                  </a:lnTo>
                  <a:lnTo>
                    <a:pt x="1441" y="1"/>
                  </a:lnTo>
                  <a:lnTo>
                    <a:pt x="1450" y="0"/>
                  </a:lnTo>
                  <a:lnTo>
                    <a:pt x="1459" y="0"/>
                  </a:lnTo>
                  <a:lnTo>
                    <a:pt x="1462" y="64"/>
                  </a:lnTo>
                  <a:lnTo>
                    <a:pt x="1466" y="129"/>
                  </a:lnTo>
                  <a:lnTo>
                    <a:pt x="1469" y="195"/>
                  </a:lnTo>
                  <a:lnTo>
                    <a:pt x="1472" y="260"/>
                  </a:lnTo>
                  <a:lnTo>
                    <a:pt x="1474" y="325"/>
                  </a:lnTo>
                  <a:lnTo>
                    <a:pt x="1477" y="391"/>
                  </a:lnTo>
                  <a:lnTo>
                    <a:pt x="1481" y="457"/>
                  </a:lnTo>
                  <a:lnTo>
                    <a:pt x="1484" y="522"/>
                  </a:lnTo>
                  <a:lnTo>
                    <a:pt x="1487" y="588"/>
                  </a:lnTo>
                  <a:lnTo>
                    <a:pt x="1489" y="654"/>
                  </a:lnTo>
                  <a:lnTo>
                    <a:pt x="1492" y="720"/>
                  </a:lnTo>
                  <a:lnTo>
                    <a:pt x="1496" y="786"/>
                  </a:lnTo>
                  <a:lnTo>
                    <a:pt x="1499" y="853"/>
                  </a:lnTo>
                  <a:lnTo>
                    <a:pt x="1502" y="919"/>
                  </a:lnTo>
                  <a:lnTo>
                    <a:pt x="1505" y="985"/>
                  </a:lnTo>
                  <a:lnTo>
                    <a:pt x="1508" y="1053"/>
                  </a:lnTo>
                  <a:lnTo>
                    <a:pt x="1526" y="1014"/>
                  </a:lnTo>
                  <a:lnTo>
                    <a:pt x="1549" y="966"/>
                  </a:lnTo>
                  <a:lnTo>
                    <a:pt x="1575" y="910"/>
                  </a:lnTo>
                  <a:lnTo>
                    <a:pt x="1604" y="847"/>
                  </a:lnTo>
                  <a:lnTo>
                    <a:pt x="1637" y="778"/>
                  </a:lnTo>
                  <a:lnTo>
                    <a:pt x="1670" y="705"/>
                  </a:lnTo>
                  <a:lnTo>
                    <a:pt x="1705" y="629"/>
                  </a:lnTo>
                  <a:lnTo>
                    <a:pt x="1741" y="551"/>
                  </a:lnTo>
                  <a:lnTo>
                    <a:pt x="1778" y="472"/>
                  </a:lnTo>
                  <a:lnTo>
                    <a:pt x="1813" y="393"/>
                  </a:lnTo>
                  <a:lnTo>
                    <a:pt x="1848" y="317"/>
                  </a:lnTo>
                  <a:lnTo>
                    <a:pt x="1881" y="243"/>
                  </a:lnTo>
                  <a:lnTo>
                    <a:pt x="1911" y="173"/>
                  </a:lnTo>
                  <a:lnTo>
                    <a:pt x="1939" y="108"/>
                  </a:lnTo>
                  <a:lnTo>
                    <a:pt x="1963" y="49"/>
                  </a:lnTo>
                  <a:lnTo>
                    <a:pt x="1985" y="0"/>
                  </a:lnTo>
                  <a:lnTo>
                    <a:pt x="1987" y="0"/>
                  </a:lnTo>
                  <a:lnTo>
                    <a:pt x="1989" y="0"/>
                  </a:lnTo>
                  <a:lnTo>
                    <a:pt x="1992" y="0"/>
                  </a:lnTo>
                  <a:lnTo>
                    <a:pt x="1997" y="0"/>
                  </a:lnTo>
                  <a:lnTo>
                    <a:pt x="2001" y="0"/>
                  </a:lnTo>
                  <a:lnTo>
                    <a:pt x="2006" y="0"/>
                  </a:lnTo>
                  <a:lnTo>
                    <a:pt x="2013" y="1"/>
                  </a:lnTo>
                  <a:lnTo>
                    <a:pt x="2018" y="1"/>
                  </a:lnTo>
                  <a:lnTo>
                    <a:pt x="2024" y="1"/>
                  </a:lnTo>
                  <a:lnTo>
                    <a:pt x="2031" y="1"/>
                  </a:lnTo>
                  <a:lnTo>
                    <a:pt x="2036" y="1"/>
                  </a:lnTo>
                  <a:lnTo>
                    <a:pt x="2042" y="1"/>
                  </a:lnTo>
                  <a:lnTo>
                    <a:pt x="2049" y="1"/>
                  </a:lnTo>
                  <a:lnTo>
                    <a:pt x="2054" y="1"/>
                  </a:lnTo>
                  <a:lnTo>
                    <a:pt x="2060" y="2"/>
                  </a:lnTo>
                  <a:lnTo>
                    <a:pt x="2064" y="1"/>
                  </a:lnTo>
                  <a:lnTo>
                    <a:pt x="2069" y="1"/>
                  </a:lnTo>
                  <a:lnTo>
                    <a:pt x="2076" y="1"/>
                  </a:lnTo>
                  <a:lnTo>
                    <a:pt x="2082" y="1"/>
                  </a:lnTo>
                  <a:lnTo>
                    <a:pt x="2088" y="1"/>
                  </a:lnTo>
                  <a:lnTo>
                    <a:pt x="2095" y="1"/>
                  </a:lnTo>
                  <a:lnTo>
                    <a:pt x="2100" y="1"/>
                  </a:lnTo>
                  <a:lnTo>
                    <a:pt x="2107" y="1"/>
                  </a:lnTo>
                  <a:lnTo>
                    <a:pt x="2112" y="0"/>
                  </a:lnTo>
                  <a:lnTo>
                    <a:pt x="2117" y="0"/>
                  </a:lnTo>
                  <a:lnTo>
                    <a:pt x="2123" y="0"/>
                  </a:lnTo>
                  <a:lnTo>
                    <a:pt x="2127" y="0"/>
                  </a:lnTo>
                  <a:lnTo>
                    <a:pt x="2130" y="0"/>
                  </a:lnTo>
                  <a:lnTo>
                    <a:pt x="2132" y="0"/>
                  </a:lnTo>
                  <a:lnTo>
                    <a:pt x="2134" y="0"/>
                  </a:lnTo>
                  <a:lnTo>
                    <a:pt x="213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908680" y="6268680"/>
              <a:ext cx="169560" cy="224280"/>
            </a:xfrm>
            <a:custGeom>
              <a:avLst/>
              <a:gdLst/>
              <a:ahLst/>
              <a:rect l="l" t="t" r="r" b="b"/>
              <a:pathLst>
                <a:path w="861" h="1045">
                  <a:moveTo>
                    <a:pt x="710" y="0"/>
                  </a:moveTo>
                  <a:lnTo>
                    <a:pt x="719" y="73"/>
                  </a:lnTo>
                  <a:lnTo>
                    <a:pt x="728" y="142"/>
                  </a:lnTo>
                  <a:lnTo>
                    <a:pt x="737" y="208"/>
                  </a:lnTo>
                  <a:lnTo>
                    <a:pt x="745" y="272"/>
                  </a:lnTo>
                  <a:lnTo>
                    <a:pt x="753" y="334"/>
                  </a:lnTo>
                  <a:lnTo>
                    <a:pt x="761" y="395"/>
                  </a:lnTo>
                  <a:lnTo>
                    <a:pt x="769" y="453"/>
                  </a:lnTo>
                  <a:lnTo>
                    <a:pt x="777" y="513"/>
                  </a:lnTo>
                  <a:lnTo>
                    <a:pt x="785" y="572"/>
                  </a:lnTo>
                  <a:lnTo>
                    <a:pt x="794" y="633"/>
                  </a:lnTo>
                  <a:lnTo>
                    <a:pt x="804" y="694"/>
                  </a:lnTo>
                  <a:lnTo>
                    <a:pt x="813" y="757"/>
                  </a:lnTo>
                  <a:lnTo>
                    <a:pt x="824" y="824"/>
                  </a:lnTo>
                  <a:lnTo>
                    <a:pt x="835" y="893"/>
                  </a:lnTo>
                  <a:lnTo>
                    <a:pt x="847" y="967"/>
                  </a:lnTo>
                  <a:lnTo>
                    <a:pt x="861" y="1045"/>
                  </a:lnTo>
                  <a:lnTo>
                    <a:pt x="860" y="1044"/>
                  </a:lnTo>
                  <a:lnTo>
                    <a:pt x="858" y="1044"/>
                  </a:lnTo>
                  <a:lnTo>
                    <a:pt x="855" y="1044"/>
                  </a:lnTo>
                  <a:lnTo>
                    <a:pt x="850" y="1044"/>
                  </a:lnTo>
                  <a:lnTo>
                    <a:pt x="844" y="1043"/>
                  </a:lnTo>
                  <a:lnTo>
                    <a:pt x="839" y="1043"/>
                  </a:lnTo>
                  <a:lnTo>
                    <a:pt x="831" y="1042"/>
                  </a:lnTo>
                  <a:lnTo>
                    <a:pt x="825" y="1042"/>
                  </a:lnTo>
                  <a:lnTo>
                    <a:pt x="816" y="1042"/>
                  </a:lnTo>
                  <a:lnTo>
                    <a:pt x="809" y="1041"/>
                  </a:lnTo>
                  <a:lnTo>
                    <a:pt x="802" y="1041"/>
                  </a:lnTo>
                  <a:lnTo>
                    <a:pt x="794" y="1040"/>
                  </a:lnTo>
                  <a:lnTo>
                    <a:pt x="787" y="1040"/>
                  </a:lnTo>
                  <a:lnTo>
                    <a:pt x="780" y="1040"/>
                  </a:lnTo>
                  <a:lnTo>
                    <a:pt x="774" y="1040"/>
                  </a:lnTo>
                  <a:lnTo>
                    <a:pt x="769" y="1040"/>
                  </a:lnTo>
                  <a:lnTo>
                    <a:pt x="763" y="1040"/>
                  </a:lnTo>
                  <a:lnTo>
                    <a:pt x="757" y="1040"/>
                  </a:lnTo>
                  <a:lnTo>
                    <a:pt x="750" y="1040"/>
                  </a:lnTo>
                  <a:lnTo>
                    <a:pt x="744" y="1040"/>
                  </a:lnTo>
                  <a:lnTo>
                    <a:pt x="736" y="1041"/>
                  </a:lnTo>
                  <a:lnTo>
                    <a:pt x="730" y="1041"/>
                  </a:lnTo>
                  <a:lnTo>
                    <a:pt x="724" y="1042"/>
                  </a:lnTo>
                  <a:lnTo>
                    <a:pt x="716" y="1042"/>
                  </a:lnTo>
                  <a:lnTo>
                    <a:pt x="711" y="1042"/>
                  </a:lnTo>
                  <a:lnTo>
                    <a:pt x="704" y="1043"/>
                  </a:lnTo>
                  <a:lnTo>
                    <a:pt x="699" y="1043"/>
                  </a:lnTo>
                  <a:lnTo>
                    <a:pt x="695" y="1044"/>
                  </a:lnTo>
                  <a:lnTo>
                    <a:pt x="690" y="1044"/>
                  </a:lnTo>
                  <a:lnTo>
                    <a:pt x="688" y="1044"/>
                  </a:lnTo>
                  <a:lnTo>
                    <a:pt x="686" y="1044"/>
                  </a:lnTo>
                  <a:lnTo>
                    <a:pt x="686" y="1045"/>
                  </a:lnTo>
                  <a:lnTo>
                    <a:pt x="683" y="1017"/>
                  </a:lnTo>
                  <a:lnTo>
                    <a:pt x="681" y="988"/>
                  </a:lnTo>
                  <a:lnTo>
                    <a:pt x="678" y="958"/>
                  </a:lnTo>
                  <a:lnTo>
                    <a:pt x="674" y="928"/>
                  </a:lnTo>
                  <a:lnTo>
                    <a:pt x="671" y="898"/>
                  </a:lnTo>
                  <a:lnTo>
                    <a:pt x="668" y="868"/>
                  </a:lnTo>
                  <a:lnTo>
                    <a:pt x="665" y="839"/>
                  </a:lnTo>
                  <a:lnTo>
                    <a:pt x="662" y="810"/>
                  </a:lnTo>
                  <a:lnTo>
                    <a:pt x="658" y="783"/>
                  </a:lnTo>
                  <a:lnTo>
                    <a:pt x="655" y="757"/>
                  </a:lnTo>
                  <a:lnTo>
                    <a:pt x="652" y="734"/>
                  </a:lnTo>
                  <a:lnTo>
                    <a:pt x="650" y="712"/>
                  </a:lnTo>
                  <a:lnTo>
                    <a:pt x="647" y="694"/>
                  </a:lnTo>
                  <a:lnTo>
                    <a:pt x="646" y="678"/>
                  </a:lnTo>
                  <a:lnTo>
                    <a:pt x="643" y="666"/>
                  </a:lnTo>
                  <a:lnTo>
                    <a:pt x="643" y="657"/>
                  </a:lnTo>
                  <a:lnTo>
                    <a:pt x="638" y="656"/>
                  </a:lnTo>
                  <a:lnTo>
                    <a:pt x="632" y="655"/>
                  </a:lnTo>
                  <a:lnTo>
                    <a:pt x="625" y="655"/>
                  </a:lnTo>
                  <a:lnTo>
                    <a:pt x="618" y="654"/>
                  </a:lnTo>
                  <a:lnTo>
                    <a:pt x="609" y="654"/>
                  </a:lnTo>
                  <a:lnTo>
                    <a:pt x="600" y="653"/>
                  </a:lnTo>
                  <a:lnTo>
                    <a:pt x="590" y="653"/>
                  </a:lnTo>
                  <a:lnTo>
                    <a:pt x="579" y="652"/>
                  </a:lnTo>
                  <a:lnTo>
                    <a:pt x="569" y="652"/>
                  </a:lnTo>
                  <a:lnTo>
                    <a:pt x="558" y="652"/>
                  </a:lnTo>
                  <a:lnTo>
                    <a:pt x="547" y="651"/>
                  </a:lnTo>
                  <a:lnTo>
                    <a:pt x="537" y="651"/>
                  </a:lnTo>
                  <a:lnTo>
                    <a:pt x="525" y="651"/>
                  </a:lnTo>
                  <a:lnTo>
                    <a:pt x="514" y="651"/>
                  </a:lnTo>
                  <a:lnTo>
                    <a:pt x="505" y="651"/>
                  </a:lnTo>
                  <a:lnTo>
                    <a:pt x="495" y="651"/>
                  </a:lnTo>
                  <a:lnTo>
                    <a:pt x="484" y="651"/>
                  </a:lnTo>
                  <a:lnTo>
                    <a:pt x="474" y="651"/>
                  </a:lnTo>
                  <a:lnTo>
                    <a:pt x="463" y="651"/>
                  </a:lnTo>
                  <a:lnTo>
                    <a:pt x="451" y="651"/>
                  </a:lnTo>
                  <a:lnTo>
                    <a:pt x="440" y="652"/>
                  </a:lnTo>
                  <a:lnTo>
                    <a:pt x="429" y="652"/>
                  </a:lnTo>
                  <a:lnTo>
                    <a:pt x="418" y="653"/>
                  </a:lnTo>
                  <a:lnTo>
                    <a:pt x="407" y="654"/>
                  </a:lnTo>
                  <a:lnTo>
                    <a:pt x="397" y="654"/>
                  </a:lnTo>
                  <a:lnTo>
                    <a:pt x="387" y="655"/>
                  </a:lnTo>
                  <a:lnTo>
                    <a:pt x="378" y="655"/>
                  </a:lnTo>
                  <a:lnTo>
                    <a:pt x="370" y="656"/>
                  </a:lnTo>
                  <a:lnTo>
                    <a:pt x="362" y="656"/>
                  </a:lnTo>
                  <a:lnTo>
                    <a:pt x="356" y="656"/>
                  </a:lnTo>
                  <a:lnTo>
                    <a:pt x="351" y="656"/>
                  </a:lnTo>
                  <a:lnTo>
                    <a:pt x="348" y="657"/>
                  </a:lnTo>
                  <a:lnTo>
                    <a:pt x="334" y="681"/>
                  </a:lnTo>
                  <a:lnTo>
                    <a:pt x="321" y="705"/>
                  </a:lnTo>
                  <a:lnTo>
                    <a:pt x="308" y="729"/>
                  </a:lnTo>
                  <a:lnTo>
                    <a:pt x="295" y="752"/>
                  </a:lnTo>
                  <a:lnTo>
                    <a:pt x="282" y="776"/>
                  </a:lnTo>
                  <a:lnTo>
                    <a:pt x="270" y="800"/>
                  </a:lnTo>
                  <a:lnTo>
                    <a:pt x="258" y="823"/>
                  </a:lnTo>
                  <a:lnTo>
                    <a:pt x="245" y="847"/>
                  </a:lnTo>
                  <a:lnTo>
                    <a:pt x="232" y="871"/>
                  </a:lnTo>
                  <a:lnTo>
                    <a:pt x="219" y="894"/>
                  </a:lnTo>
                  <a:lnTo>
                    <a:pt x="207" y="919"/>
                  </a:lnTo>
                  <a:lnTo>
                    <a:pt x="195" y="944"/>
                  </a:lnTo>
                  <a:lnTo>
                    <a:pt x="182" y="968"/>
                  </a:lnTo>
                  <a:lnTo>
                    <a:pt x="170" y="993"/>
                  </a:lnTo>
                  <a:lnTo>
                    <a:pt x="158" y="1018"/>
                  </a:lnTo>
                  <a:lnTo>
                    <a:pt x="147" y="1045"/>
                  </a:lnTo>
                  <a:lnTo>
                    <a:pt x="146" y="1044"/>
                  </a:lnTo>
                  <a:lnTo>
                    <a:pt x="145" y="1044"/>
                  </a:lnTo>
                  <a:lnTo>
                    <a:pt x="141" y="1044"/>
                  </a:lnTo>
                  <a:lnTo>
                    <a:pt x="138" y="1044"/>
                  </a:lnTo>
                  <a:lnTo>
                    <a:pt x="135" y="1044"/>
                  </a:lnTo>
                  <a:lnTo>
                    <a:pt x="131" y="1044"/>
                  </a:lnTo>
                  <a:lnTo>
                    <a:pt x="125" y="1044"/>
                  </a:lnTo>
                  <a:lnTo>
                    <a:pt x="120" y="1044"/>
                  </a:lnTo>
                  <a:lnTo>
                    <a:pt x="115" y="1043"/>
                  </a:lnTo>
                  <a:lnTo>
                    <a:pt x="108" y="1043"/>
                  </a:lnTo>
                  <a:lnTo>
                    <a:pt x="103" y="1043"/>
                  </a:lnTo>
                  <a:lnTo>
                    <a:pt x="96" y="1043"/>
                  </a:lnTo>
                  <a:lnTo>
                    <a:pt x="91" y="1043"/>
                  </a:lnTo>
                  <a:lnTo>
                    <a:pt x="85" y="1043"/>
                  </a:lnTo>
                  <a:lnTo>
                    <a:pt x="79" y="1043"/>
                  </a:lnTo>
                  <a:lnTo>
                    <a:pt x="75" y="1043"/>
                  </a:lnTo>
                  <a:lnTo>
                    <a:pt x="69" y="1043"/>
                  </a:lnTo>
                  <a:lnTo>
                    <a:pt x="63" y="1043"/>
                  </a:lnTo>
                  <a:lnTo>
                    <a:pt x="57" y="1043"/>
                  </a:lnTo>
                  <a:lnTo>
                    <a:pt x="51" y="1043"/>
                  </a:lnTo>
                  <a:lnTo>
                    <a:pt x="44" y="1043"/>
                  </a:lnTo>
                  <a:lnTo>
                    <a:pt x="38" y="1043"/>
                  </a:lnTo>
                  <a:lnTo>
                    <a:pt x="32" y="1043"/>
                  </a:lnTo>
                  <a:lnTo>
                    <a:pt x="26" y="1044"/>
                  </a:lnTo>
                  <a:lnTo>
                    <a:pt x="21" y="1044"/>
                  </a:lnTo>
                  <a:lnTo>
                    <a:pt x="16" y="1044"/>
                  </a:lnTo>
                  <a:lnTo>
                    <a:pt x="11" y="1044"/>
                  </a:lnTo>
                  <a:lnTo>
                    <a:pt x="8" y="1044"/>
                  </a:lnTo>
                  <a:lnTo>
                    <a:pt x="5" y="1044"/>
                  </a:lnTo>
                  <a:lnTo>
                    <a:pt x="1" y="1044"/>
                  </a:lnTo>
                  <a:lnTo>
                    <a:pt x="0" y="1044"/>
                  </a:lnTo>
                  <a:lnTo>
                    <a:pt x="0" y="1045"/>
                  </a:lnTo>
                  <a:lnTo>
                    <a:pt x="31" y="994"/>
                  </a:lnTo>
                  <a:lnTo>
                    <a:pt x="62" y="943"/>
                  </a:lnTo>
                  <a:lnTo>
                    <a:pt x="93" y="890"/>
                  </a:lnTo>
                  <a:lnTo>
                    <a:pt x="125" y="836"/>
                  </a:lnTo>
                  <a:lnTo>
                    <a:pt x="157" y="780"/>
                  </a:lnTo>
                  <a:lnTo>
                    <a:pt x="190" y="722"/>
                  </a:lnTo>
                  <a:lnTo>
                    <a:pt x="225" y="663"/>
                  </a:lnTo>
                  <a:lnTo>
                    <a:pt x="259" y="601"/>
                  </a:lnTo>
                  <a:lnTo>
                    <a:pt x="295" y="536"/>
                  </a:lnTo>
                  <a:lnTo>
                    <a:pt x="331" y="469"/>
                  </a:lnTo>
                  <a:lnTo>
                    <a:pt x="371" y="399"/>
                  </a:lnTo>
                  <a:lnTo>
                    <a:pt x="411" y="327"/>
                  </a:lnTo>
                  <a:lnTo>
                    <a:pt x="453" y="251"/>
                  </a:lnTo>
                  <a:lnTo>
                    <a:pt x="497" y="170"/>
                  </a:lnTo>
                  <a:lnTo>
                    <a:pt x="543" y="87"/>
                  </a:lnTo>
                  <a:lnTo>
                    <a:pt x="592" y="0"/>
                  </a:lnTo>
                  <a:lnTo>
                    <a:pt x="710" y="0"/>
                  </a:lnTo>
                  <a:close/>
                  <a:moveTo>
                    <a:pt x="632" y="572"/>
                  </a:moveTo>
                  <a:lnTo>
                    <a:pt x="586" y="203"/>
                  </a:lnTo>
                  <a:lnTo>
                    <a:pt x="390" y="572"/>
                  </a:lnTo>
                  <a:lnTo>
                    <a:pt x="395" y="572"/>
                  </a:lnTo>
                  <a:lnTo>
                    <a:pt x="400" y="572"/>
                  </a:lnTo>
                  <a:lnTo>
                    <a:pt x="406" y="572"/>
                  </a:lnTo>
                  <a:lnTo>
                    <a:pt x="413" y="573"/>
                  </a:lnTo>
                  <a:lnTo>
                    <a:pt x="420" y="573"/>
                  </a:lnTo>
                  <a:lnTo>
                    <a:pt x="428" y="573"/>
                  </a:lnTo>
                  <a:lnTo>
                    <a:pt x="436" y="573"/>
                  </a:lnTo>
                  <a:lnTo>
                    <a:pt x="445" y="573"/>
                  </a:lnTo>
                  <a:lnTo>
                    <a:pt x="452" y="573"/>
                  </a:lnTo>
                  <a:lnTo>
                    <a:pt x="462" y="573"/>
                  </a:lnTo>
                  <a:lnTo>
                    <a:pt x="470" y="573"/>
                  </a:lnTo>
                  <a:lnTo>
                    <a:pt x="479" y="573"/>
                  </a:lnTo>
                  <a:lnTo>
                    <a:pt x="487" y="573"/>
                  </a:lnTo>
                  <a:lnTo>
                    <a:pt x="496" y="573"/>
                  </a:lnTo>
                  <a:lnTo>
                    <a:pt x="503" y="573"/>
                  </a:lnTo>
                  <a:lnTo>
                    <a:pt x="512" y="574"/>
                  </a:lnTo>
                  <a:lnTo>
                    <a:pt x="519" y="573"/>
                  </a:lnTo>
                  <a:lnTo>
                    <a:pt x="527" y="573"/>
                  </a:lnTo>
                  <a:lnTo>
                    <a:pt x="536" y="573"/>
                  </a:lnTo>
                  <a:lnTo>
                    <a:pt x="544" y="573"/>
                  </a:lnTo>
                  <a:lnTo>
                    <a:pt x="553" y="573"/>
                  </a:lnTo>
                  <a:lnTo>
                    <a:pt x="561" y="573"/>
                  </a:lnTo>
                  <a:lnTo>
                    <a:pt x="571" y="573"/>
                  </a:lnTo>
                  <a:lnTo>
                    <a:pt x="579" y="573"/>
                  </a:lnTo>
                  <a:lnTo>
                    <a:pt x="587" y="573"/>
                  </a:lnTo>
                  <a:lnTo>
                    <a:pt x="595" y="573"/>
                  </a:lnTo>
                  <a:lnTo>
                    <a:pt x="603" y="573"/>
                  </a:lnTo>
                  <a:lnTo>
                    <a:pt x="610" y="573"/>
                  </a:lnTo>
                  <a:lnTo>
                    <a:pt x="617" y="572"/>
                  </a:lnTo>
                  <a:lnTo>
                    <a:pt x="622" y="572"/>
                  </a:lnTo>
                  <a:lnTo>
                    <a:pt x="627" y="572"/>
                  </a:lnTo>
                  <a:lnTo>
                    <a:pt x="632" y="5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053400" y="6220800"/>
              <a:ext cx="153000" cy="225720"/>
            </a:xfrm>
            <a:custGeom>
              <a:avLst/>
              <a:gdLst/>
              <a:ahLst/>
              <a:rect l="l" t="t" r="r" b="b"/>
              <a:pathLst>
                <a:path w="774" h="1046">
                  <a:moveTo>
                    <a:pt x="467" y="103"/>
                  </a:moveTo>
                  <a:lnTo>
                    <a:pt x="454" y="165"/>
                  </a:lnTo>
                  <a:lnTo>
                    <a:pt x="442" y="224"/>
                  </a:lnTo>
                  <a:lnTo>
                    <a:pt x="430" y="284"/>
                  </a:lnTo>
                  <a:lnTo>
                    <a:pt x="419" y="342"/>
                  </a:lnTo>
                  <a:lnTo>
                    <a:pt x="409" y="400"/>
                  </a:lnTo>
                  <a:lnTo>
                    <a:pt x="399" y="456"/>
                  </a:lnTo>
                  <a:lnTo>
                    <a:pt x="390" y="513"/>
                  </a:lnTo>
                  <a:lnTo>
                    <a:pt x="381" y="568"/>
                  </a:lnTo>
                  <a:lnTo>
                    <a:pt x="372" y="625"/>
                  </a:lnTo>
                  <a:lnTo>
                    <a:pt x="365" y="682"/>
                  </a:lnTo>
                  <a:lnTo>
                    <a:pt x="356" y="739"/>
                  </a:lnTo>
                  <a:lnTo>
                    <a:pt x="349" y="798"/>
                  </a:lnTo>
                  <a:lnTo>
                    <a:pt x="341" y="858"/>
                  </a:lnTo>
                  <a:lnTo>
                    <a:pt x="335" y="919"/>
                  </a:lnTo>
                  <a:lnTo>
                    <a:pt x="328" y="982"/>
                  </a:lnTo>
                  <a:lnTo>
                    <a:pt x="321" y="1046"/>
                  </a:lnTo>
                  <a:lnTo>
                    <a:pt x="320" y="1045"/>
                  </a:lnTo>
                  <a:lnTo>
                    <a:pt x="318" y="1045"/>
                  </a:lnTo>
                  <a:lnTo>
                    <a:pt x="315" y="1045"/>
                  </a:lnTo>
                  <a:lnTo>
                    <a:pt x="310" y="1045"/>
                  </a:lnTo>
                  <a:lnTo>
                    <a:pt x="305" y="1044"/>
                  </a:lnTo>
                  <a:lnTo>
                    <a:pt x="299" y="1044"/>
                  </a:lnTo>
                  <a:lnTo>
                    <a:pt x="292" y="1043"/>
                  </a:lnTo>
                  <a:lnTo>
                    <a:pt x="286" y="1043"/>
                  </a:lnTo>
                  <a:lnTo>
                    <a:pt x="278" y="1043"/>
                  </a:lnTo>
                  <a:lnTo>
                    <a:pt x="271" y="1042"/>
                  </a:lnTo>
                  <a:lnTo>
                    <a:pt x="263" y="1042"/>
                  </a:lnTo>
                  <a:lnTo>
                    <a:pt x="256" y="1041"/>
                  </a:lnTo>
                  <a:lnTo>
                    <a:pt x="249" y="1041"/>
                  </a:lnTo>
                  <a:lnTo>
                    <a:pt x="242" y="1041"/>
                  </a:lnTo>
                  <a:lnTo>
                    <a:pt x="236" y="1041"/>
                  </a:lnTo>
                  <a:lnTo>
                    <a:pt x="231" y="1041"/>
                  </a:lnTo>
                  <a:lnTo>
                    <a:pt x="225" y="1041"/>
                  </a:lnTo>
                  <a:lnTo>
                    <a:pt x="219" y="1041"/>
                  </a:lnTo>
                  <a:lnTo>
                    <a:pt x="212" y="1041"/>
                  </a:lnTo>
                  <a:lnTo>
                    <a:pt x="205" y="1041"/>
                  </a:lnTo>
                  <a:lnTo>
                    <a:pt x="197" y="1042"/>
                  </a:lnTo>
                  <a:lnTo>
                    <a:pt x="189" y="1042"/>
                  </a:lnTo>
                  <a:lnTo>
                    <a:pt x="181" y="1043"/>
                  </a:lnTo>
                  <a:lnTo>
                    <a:pt x="174" y="1043"/>
                  </a:lnTo>
                  <a:lnTo>
                    <a:pt x="167" y="1043"/>
                  </a:lnTo>
                  <a:lnTo>
                    <a:pt x="161" y="1044"/>
                  </a:lnTo>
                  <a:lnTo>
                    <a:pt x="155" y="1044"/>
                  </a:lnTo>
                  <a:lnTo>
                    <a:pt x="149" y="1045"/>
                  </a:lnTo>
                  <a:lnTo>
                    <a:pt x="145" y="1045"/>
                  </a:lnTo>
                  <a:lnTo>
                    <a:pt x="142" y="1045"/>
                  </a:lnTo>
                  <a:lnTo>
                    <a:pt x="140" y="1045"/>
                  </a:lnTo>
                  <a:lnTo>
                    <a:pt x="140" y="1046"/>
                  </a:lnTo>
                  <a:lnTo>
                    <a:pt x="153" y="983"/>
                  </a:lnTo>
                  <a:lnTo>
                    <a:pt x="166" y="921"/>
                  </a:lnTo>
                  <a:lnTo>
                    <a:pt x="179" y="860"/>
                  </a:lnTo>
                  <a:lnTo>
                    <a:pt x="191" y="800"/>
                  </a:lnTo>
                  <a:lnTo>
                    <a:pt x="202" y="742"/>
                  </a:lnTo>
                  <a:lnTo>
                    <a:pt x="212" y="684"/>
                  </a:lnTo>
                  <a:lnTo>
                    <a:pt x="222" y="627"/>
                  </a:lnTo>
                  <a:lnTo>
                    <a:pt x="231" y="569"/>
                  </a:lnTo>
                  <a:lnTo>
                    <a:pt x="240" y="513"/>
                  </a:lnTo>
                  <a:lnTo>
                    <a:pt x="250" y="456"/>
                  </a:lnTo>
                  <a:lnTo>
                    <a:pt x="257" y="400"/>
                  </a:lnTo>
                  <a:lnTo>
                    <a:pt x="266" y="342"/>
                  </a:lnTo>
                  <a:lnTo>
                    <a:pt x="274" y="283"/>
                  </a:lnTo>
                  <a:lnTo>
                    <a:pt x="282" y="224"/>
                  </a:lnTo>
                  <a:lnTo>
                    <a:pt x="290" y="164"/>
                  </a:lnTo>
                  <a:lnTo>
                    <a:pt x="299" y="103"/>
                  </a:lnTo>
                  <a:lnTo>
                    <a:pt x="275" y="103"/>
                  </a:lnTo>
                  <a:lnTo>
                    <a:pt x="252" y="104"/>
                  </a:lnTo>
                  <a:lnTo>
                    <a:pt x="226" y="104"/>
                  </a:lnTo>
                  <a:lnTo>
                    <a:pt x="202" y="105"/>
                  </a:lnTo>
                  <a:lnTo>
                    <a:pt x="176" y="106"/>
                  </a:lnTo>
                  <a:lnTo>
                    <a:pt x="151" y="107"/>
                  </a:lnTo>
                  <a:lnTo>
                    <a:pt x="128" y="107"/>
                  </a:lnTo>
                  <a:lnTo>
                    <a:pt x="104" y="108"/>
                  </a:lnTo>
                  <a:lnTo>
                    <a:pt x="83" y="109"/>
                  </a:lnTo>
                  <a:lnTo>
                    <a:pt x="63" y="110"/>
                  </a:lnTo>
                  <a:lnTo>
                    <a:pt x="44" y="111"/>
                  </a:lnTo>
                  <a:lnTo>
                    <a:pt x="30" y="111"/>
                  </a:lnTo>
                  <a:lnTo>
                    <a:pt x="17" y="112"/>
                  </a:lnTo>
                  <a:lnTo>
                    <a:pt x="7" y="112"/>
                  </a:lnTo>
                  <a:lnTo>
                    <a:pt x="1" y="112"/>
                  </a:lnTo>
                  <a:lnTo>
                    <a:pt x="0" y="113"/>
                  </a:lnTo>
                  <a:lnTo>
                    <a:pt x="2" y="106"/>
                  </a:lnTo>
                  <a:lnTo>
                    <a:pt x="4" y="100"/>
                  </a:lnTo>
                  <a:lnTo>
                    <a:pt x="6" y="94"/>
                  </a:lnTo>
                  <a:lnTo>
                    <a:pt x="8" y="87"/>
                  </a:lnTo>
                  <a:lnTo>
                    <a:pt x="10" y="80"/>
                  </a:lnTo>
                  <a:lnTo>
                    <a:pt x="12" y="73"/>
                  </a:lnTo>
                  <a:lnTo>
                    <a:pt x="14" y="67"/>
                  </a:lnTo>
                  <a:lnTo>
                    <a:pt x="16" y="60"/>
                  </a:lnTo>
                  <a:lnTo>
                    <a:pt x="17" y="52"/>
                  </a:lnTo>
                  <a:lnTo>
                    <a:pt x="18" y="45"/>
                  </a:lnTo>
                  <a:lnTo>
                    <a:pt x="19" y="38"/>
                  </a:lnTo>
                  <a:lnTo>
                    <a:pt x="20" y="30"/>
                  </a:lnTo>
                  <a:lnTo>
                    <a:pt x="21" y="22"/>
                  </a:lnTo>
                  <a:lnTo>
                    <a:pt x="21" y="15"/>
                  </a:lnTo>
                  <a:lnTo>
                    <a:pt x="21" y="7"/>
                  </a:lnTo>
                  <a:lnTo>
                    <a:pt x="22" y="0"/>
                  </a:lnTo>
                  <a:lnTo>
                    <a:pt x="24" y="0"/>
                  </a:lnTo>
                  <a:lnTo>
                    <a:pt x="32" y="0"/>
                  </a:lnTo>
                  <a:lnTo>
                    <a:pt x="44" y="0"/>
                  </a:lnTo>
                  <a:lnTo>
                    <a:pt x="61" y="0"/>
                  </a:lnTo>
                  <a:lnTo>
                    <a:pt x="80" y="0"/>
                  </a:lnTo>
                  <a:lnTo>
                    <a:pt x="103" y="0"/>
                  </a:lnTo>
                  <a:lnTo>
                    <a:pt x="128" y="1"/>
                  </a:lnTo>
                  <a:lnTo>
                    <a:pt x="156" y="1"/>
                  </a:lnTo>
                  <a:lnTo>
                    <a:pt x="185" y="1"/>
                  </a:lnTo>
                  <a:lnTo>
                    <a:pt x="215" y="2"/>
                  </a:lnTo>
                  <a:lnTo>
                    <a:pt x="247" y="2"/>
                  </a:lnTo>
                  <a:lnTo>
                    <a:pt x="278" y="2"/>
                  </a:lnTo>
                  <a:lnTo>
                    <a:pt x="310" y="2"/>
                  </a:lnTo>
                  <a:lnTo>
                    <a:pt x="341" y="2"/>
                  </a:lnTo>
                  <a:lnTo>
                    <a:pt x="370" y="2"/>
                  </a:lnTo>
                  <a:lnTo>
                    <a:pt x="399" y="3"/>
                  </a:lnTo>
                  <a:lnTo>
                    <a:pt x="426" y="2"/>
                  </a:lnTo>
                  <a:lnTo>
                    <a:pt x="455" y="2"/>
                  </a:lnTo>
                  <a:lnTo>
                    <a:pt x="486" y="2"/>
                  </a:lnTo>
                  <a:lnTo>
                    <a:pt x="517" y="2"/>
                  </a:lnTo>
                  <a:lnTo>
                    <a:pt x="548" y="2"/>
                  </a:lnTo>
                  <a:lnTo>
                    <a:pt x="579" y="2"/>
                  </a:lnTo>
                  <a:lnTo>
                    <a:pt x="610" y="1"/>
                  </a:lnTo>
                  <a:lnTo>
                    <a:pt x="638" y="1"/>
                  </a:lnTo>
                  <a:lnTo>
                    <a:pt x="666" y="1"/>
                  </a:lnTo>
                  <a:lnTo>
                    <a:pt x="692" y="0"/>
                  </a:lnTo>
                  <a:lnTo>
                    <a:pt x="714" y="0"/>
                  </a:lnTo>
                  <a:lnTo>
                    <a:pt x="735" y="0"/>
                  </a:lnTo>
                  <a:lnTo>
                    <a:pt x="751" y="0"/>
                  </a:lnTo>
                  <a:lnTo>
                    <a:pt x="763" y="0"/>
                  </a:lnTo>
                  <a:lnTo>
                    <a:pt x="771" y="0"/>
                  </a:lnTo>
                  <a:lnTo>
                    <a:pt x="774" y="0"/>
                  </a:lnTo>
                  <a:lnTo>
                    <a:pt x="771" y="5"/>
                  </a:lnTo>
                  <a:lnTo>
                    <a:pt x="769" y="11"/>
                  </a:lnTo>
                  <a:lnTo>
                    <a:pt x="766" y="17"/>
                  </a:lnTo>
                  <a:lnTo>
                    <a:pt x="763" y="24"/>
                  </a:lnTo>
                  <a:lnTo>
                    <a:pt x="761" y="31"/>
                  </a:lnTo>
                  <a:lnTo>
                    <a:pt x="759" y="38"/>
                  </a:lnTo>
                  <a:lnTo>
                    <a:pt x="758" y="45"/>
                  </a:lnTo>
                  <a:lnTo>
                    <a:pt x="756" y="52"/>
                  </a:lnTo>
                  <a:lnTo>
                    <a:pt x="755" y="60"/>
                  </a:lnTo>
                  <a:lnTo>
                    <a:pt x="753" y="67"/>
                  </a:lnTo>
                  <a:lnTo>
                    <a:pt x="752" y="74"/>
                  </a:lnTo>
                  <a:lnTo>
                    <a:pt x="752" y="82"/>
                  </a:lnTo>
                  <a:lnTo>
                    <a:pt x="751" y="89"/>
                  </a:lnTo>
                  <a:lnTo>
                    <a:pt x="751" y="98"/>
                  </a:lnTo>
                  <a:lnTo>
                    <a:pt x="751" y="105"/>
                  </a:lnTo>
                  <a:lnTo>
                    <a:pt x="752" y="113"/>
                  </a:lnTo>
                  <a:lnTo>
                    <a:pt x="750" y="112"/>
                  </a:lnTo>
                  <a:lnTo>
                    <a:pt x="744" y="112"/>
                  </a:lnTo>
                  <a:lnTo>
                    <a:pt x="736" y="112"/>
                  </a:lnTo>
                  <a:lnTo>
                    <a:pt x="724" y="111"/>
                  </a:lnTo>
                  <a:lnTo>
                    <a:pt x="710" y="111"/>
                  </a:lnTo>
                  <a:lnTo>
                    <a:pt x="693" y="110"/>
                  </a:lnTo>
                  <a:lnTo>
                    <a:pt x="675" y="109"/>
                  </a:lnTo>
                  <a:lnTo>
                    <a:pt x="654" y="108"/>
                  </a:lnTo>
                  <a:lnTo>
                    <a:pt x="633" y="107"/>
                  </a:lnTo>
                  <a:lnTo>
                    <a:pt x="610" y="107"/>
                  </a:lnTo>
                  <a:lnTo>
                    <a:pt x="586" y="106"/>
                  </a:lnTo>
                  <a:lnTo>
                    <a:pt x="563" y="105"/>
                  </a:lnTo>
                  <a:lnTo>
                    <a:pt x="538" y="104"/>
                  </a:lnTo>
                  <a:lnTo>
                    <a:pt x="513" y="104"/>
                  </a:lnTo>
                  <a:lnTo>
                    <a:pt x="490" y="103"/>
                  </a:lnTo>
                  <a:lnTo>
                    <a:pt x="467" y="10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125400" y="6314040"/>
              <a:ext cx="143640" cy="225720"/>
            </a:xfrm>
            <a:custGeom>
              <a:avLst/>
              <a:gdLst/>
              <a:ahLst/>
              <a:rect l="l" t="t" r="r" b="b"/>
              <a:pathLst>
                <a:path w="731" h="1049">
                  <a:moveTo>
                    <a:pt x="602" y="446"/>
                  </a:moveTo>
                  <a:lnTo>
                    <a:pt x="600" y="452"/>
                  </a:lnTo>
                  <a:lnTo>
                    <a:pt x="599" y="459"/>
                  </a:lnTo>
                  <a:lnTo>
                    <a:pt x="597" y="465"/>
                  </a:lnTo>
                  <a:lnTo>
                    <a:pt x="596" y="472"/>
                  </a:lnTo>
                  <a:lnTo>
                    <a:pt x="594" y="480"/>
                  </a:lnTo>
                  <a:lnTo>
                    <a:pt x="593" y="487"/>
                  </a:lnTo>
                  <a:lnTo>
                    <a:pt x="592" y="493"/>
                  </a:lnTo>
                  <a:lnTo>
                    <a:pt x="590" y="500"/>
                  </a:lnTo>
                  <a:lnTo>
                    <a:pt x="589" y="507"/>
                  </a:lnTo>
                  <a:lnTo>
                    <a:pt x="589" y="514"/>
                  </a:lnTo>
                  <a:lnTo>
                    <a:pt x="588" y="521"/>
                  </a:lnTo>
                  <a:lnTo>
                    <a:pt x="588" y="528"/>
                  </a:lnTo>
                  <a:lnTo>
                    <a:pt x="588" y="534"/>
                  </a:lnTo>
                  <a:lnTo>
                    <a:pt x="588" y="540"/>
                  </a:lnTo>
                  <a:lnTo>
                    <a:pt x="589" y="547"/>
                  </a:lnTo>
                  <a:lnTo>
                    <a:pt x="590" y="554"/>
                  </a:lnTo>
                  <a:lnTo>
                    <a:pt x="574" y="552"/>
                  </a:lnTo>
                  <a:lnTo>
                    <a:pt x="558" y="551"/>
                  </a:lnTo>
                  <a:lnTo>
                    <a:pt x="542" y="550"/>
                  </a:lnTo>
                  <a:lnTo>
                    <a:pt x="527" y="548"/>
                  </a:lnTo>
                  <a:lnTo>
                    <a:pt x="511" y="547"/>
                  </a:lnTo>
                  <a:lnTo>
                    <a:pt x="496" y="547"/>
                  </a:lnTo>
                  <a:lnTo>
                    <a:pt x="480" y="545"/>
                  </a:lnTo>
                  <a:lnTo>
                    <a:pt x="465" y="544"/>
                  </a:lnTo>
                  <a:lnTo>
                    <a:pt x="451" y="543"/>
                  </a:lnTo>
                  <a:lnTo>
                    <a:pt x="436" y="543"/>
                  </a:lnTo>
                  <a:lnTo>
                    <a:pt x="421" y="542"/>
                  </a:lnTo>
                  <a:lnTo>
                    <a:pt x="406" y="542"/>
                  </a:lnTo>
                  <a:lnTo>
                    <a:pt x="392" y="542"/>
                  </a:lnTo>
                  <a:lnTo>
                    <a:pt x="377" y="542"/>
                  </a:lnTo>
                  <a:lnTo>
                    <a:pt x="363" y="542"/>
                  </a:lnTo>
                  <a:lnTo>
                    <a:pt x="349" y="542"/>
                  </a:lnTo>
                  <a:lnTo>
                    <a:pt x="339" y="542"/>
                  </a:lnTo>
                  <a:lnTo>
                    <a:pt x="331" y="542"/>
                  </a:lnTo>
                  <a:lnTo>
                    <a:pt x="323" y="542"/>
                  </a:lnTo>
                  <a:lnTo>
                    <a:pt x="317" y="542"/>
                  </a:lnTo>
                  <a:lnTo>
                    <a:pt x="311" y="542"/>
                  </a:lnTo>
                  <a:lnTo>
                    <a:pt x="305" y="542"/>
                  </a:lnTo>
                  <a:lnTo>
                    <a:pt x="300" y="543"/>
                  </a:lnTo>
                  <a:lnTo>
                    <a:pt x="295" y="543"/>
                  </a:lnTo>
                  <a:lnTo>
                    <a:pt x="289" y="543"/>
                  </a:lnTo>
                  <a:lnTo>
                    <a:pt x="284" y="544"/>
                  </a:lnTo>
                  <a:lnTo>
                    <a:pt x="279" y="544"/>
                  </a:lnTo>
                  <a:lnTo>
                    <a:pt x="273" y="544"/>
                  </a:lnTo>
                  <a:lnTo>
                    <a:pt x="267" y="544"/>
                  </a:lnTo>
                  <a:lnTo>
                    <a:pt x="260" y="544"/>
                  </a:lnTo>
                  <a:lnTo>
                    <a:pt x="253" y="544"/>
                  </a:lnTo>
                  <a:lnTo>
                    <a:pt x="245" y="545"/>
                  </a:lnTo>
                  <a:lnTo>
                    <a:pt x="240" y="573"/>
                  </a:lnTo>
                  <a:lnTo>
                    <a:pt x="236" y="601"/>
                  </a:lnTo>
                  <a:lnTo>
                    <a:pt x="232" y="627"/>
                  </a:lnTo>
                  <a:lnTo>
                    <a:pt x="228" y="653"/>
                  </a:lnTo>
                  <a:lnTo>
                    <a:pt x="224" y="677"/>
                  </a:lnTo>
                  <a:lnTo>
                    <a:pt x="221" y="701"/>
                  </a:lnTo>
                  <a:lnTo>
                    <a:pt x="218" y="725"/>
                  </a:lnTo>
                  <a:lnTo>
                    <a:pt x="213" y="748"/>
                  </a:lnTo>
                  <a:lnTo>
                    <a:pt x="210" y="772"/>
                  </a:lnTo>
                  <a:lnTo>
                    <a:pt x="207" y="796"/>
                  </a:lnTo>
                  <a:lnTo>
                    <a:pt x="203" y="821"/>
                  </a:lnTo>
                  <a:lnTo>
                    <a:pt x="199" y="846"/>
                  </a:lnTo>
                  <a:lnTo>
                    <a:pt x="195" y="873"/>
                  </a:lnTo>
                  <a:lnTo>
                    <a:pt x="191" y="900"/>
                  </a:lnTo>
                  <a:lnTo>
                    <a:pt x="187" y="930"/>
                  </a:lnTo>
                  <a:lnTo>
                    <a:pt x="182" y="961"/>
                  </a:lnTo>
                  <a:lnTo>
                    <a:pt x="183" y="960"/>
                  </a:lnTo>
                  <a:lnTo>
                    <a:pt x="185" y="959"/>
                  </a:lnTo>
                  <a:lnTo>
                    <a:pt x="186" y="958"/>
                  </a:lnTo>
                  <a:lnTo>
                    <a:pt x="188" y="957"/>
                  </a:lnTo>
                  <a:lnTo>
                    <a:pt x="190" y="956"/>
                  </a:lnTo>
                  <a:lnTo>
                    <a:pt x="192" y="954"/>
                  </a:lnTo>
                  <a:lnTo>
                    <a:pt x="194" y="953"/>
                  </a:lnTo>
                  <a:lnTo>
                    <a:pt x="196" y="953"/>
                  </a:lnTo>
                  <a:lnTo>
                    <a:pt x="198" y="952"/>
                  </a:lnTo>
                  <a:lnTo>
                    <a:pt x="202" y="951"/>
                  </a:lnTo>
                  <a:lnTo>
                    <a:pt x="205" y="951"/>
                  </a:lnTo>
                  <a:lnTo>
                    <a:pt x="208" y="950"/>
                  </a:lnTo>
                  <a:lnTo>
                    <a:pt x="211" y="950"/>
                  </a:lnTo>
                  <a:lnTo>
                    <a:pt x="214" y="950"/>
                  </a:lnTo>
                  <a:lnTo>
                    <a:pt x="219" y="950"/>
                  </a:lnTo>
                  <a:lnTo>
                    <a:pt x="223" y="950"/>
                  </a:lnTo>
                  <a:lnTo>
                    <a:pt x="229" y="949"/>
                  </a:lnTo>
                  <a:lnTo>
                    <a:pt x="238" y="949"/>
                  </a:lnTo>
                  <a:lnTo>
                    <a:pt x="249" y="949"/>
                  </a:lnTo>
                  <a:lnTo>
                    <a:pt x="260" y="949"/>
                  </a:lnTo>
                  <a:lnTo>
                    <a:pt x="273" y="949"/>
                  </a:lnTo>
                  <a:lnTo>
                    <a:pt x="286" y="948"/>
                  </a:lnTo>
                  <a:lnTo>
                    <a:pt x="301" y="948"/>
                  </a:lnTo>
                  <a:lnTo>
                    <a:pt x="316" y="948"/>
                  </a:lnTo>
                  <a:lnTo>
                    <a:pt x="331" y="947"/>
                  </a:lnTo>
                  <a:lnTo>
                    <a:pt x="346" y="947"/>
                  </a:lnTo>
                  <a:lnTo>
                    <a:pt x="360" y="946"/>
                  </a:lnTo>
                  <a:lnTo>
                    <a:pt x="375" y="946"/>
                  </a:lnTo>
                  <a:lnTo>
                    <a:pt x="388" y="945"/>
                  </a:lnTo>
                  <a:lnTo>
                    <a:pt x="399" y="945"/>
                  </a:lnTo>
                  <a:lnTo>
                    <a:pt x="411" y="944"/>
                  </a:lnTo>
                  <a:lnTo>
                    <a:pt x="421" y="944"/>
                  </a:lnTo>
                  <a:lnTo>
                    <a:pt x="435" y="943"/>
                  </a:lnTo>
                  <a:lnTo>
                    <a:pt x="449" y="942"/>
                  </a:lnTo>
                  <a:lnTo>
                    <a:pt x="464" y="941"/>
                  </a:lnTo>
                  <a:lnTo>
                    <a:pt x="478" y="940"/>
                  </a:lnTo>
                  <a:lnTo>
                    <a:pt x="492" y="939"/>
                  </a:lnTo>
                  <a:lnTo>
                    <a:pt x="505" y="938"/>
                  </a:lnTo>
                  <a:lnTo>
                    <a:pt x="517" y="937"/>
                  </a:lnTo>
                  <a:lnTo>
                    <a:pt x="529" y="936"/>
                  </a:lnTo>
                  <a:lnTo>
                    <a:pt x="538" y="935"/>
                  </a:lnTo>
                  <a:lnTo>
                    <a:pt x="548" y="934"/>
                  </a:lnTo>
                  <a:lnTo>
                    <a:pt x="556" y="933"/>
                  </a:lnTo>
                  <a:lnTo>
                    <a:pt x="563" y="932"/>
                  </a:lnTo>
                  <a:lnTo>
                    <a:pt x="568" y="931"/>
                  </a:lnTo>
                  <a:lnTo>
                    <a:pt x="572" y="931"/>
                  </a:lnTo>
                  <a:lnTo>
                    <a:pt x="576" y="931"/>
                  </a:lnTo>
                  <a:lnTo>
                    <a:pt x="577" y="931"/>
                  </a:lnTo>
                  <a:lnTo>
                    <a:pt x="573" y="937"/>
                  </a:lnTo>
                  <a:lnTo>
                    <a:pt x="571" y="944"/>
                  </a:lnTo>
                  <a:lnTo>
                    <a:pt x="569" y="952"/>
                  </a:lnTo>
                  <a:lnTo>
                    <a:pt x="567" y="960"/>
                  </a:lnTo>
                  <a:lnTo>
                    <a:pt x="566" y="968"/>
                  </a:lnTo>
                  <a:lnTo>
                    <a:pt x="564" y="976"/>
                  </a:lnTo>
                  <a:lnTo>
                    <a:pt x="563" y="983"/>
                  </a:lnTo>
                  <a:lnTo>
                    <a:pt x="563" y="992"/>
                  </a:lnTo>
                  <a:lnTo>
                    <a:pt x="562" y="1000"/>
                  </a:lnTo>
                  <a:lnTo>
                    <a:pt x="561" y="1008"/>
                  </a:lnTo>
                  <a:lnTo>
                    <a:pt x="561" y="1015"/>
                  </a:lnTo>
                  <a:lnTo>
                    <a:pt x="561" y="1022"/>
                  </a:lnTo>
                  <a:lnTo>
                    <a:pt x="561" y="1030"/>
                  </a:lnTo>
                  <a:lnTo>
                    <a:pt x="561" y="1037"/>
                  </a:lnTo>
                  <a:lnTo>
                    <a:pt x="561" y="1043"/>
                  </a:lnTo>
                  <a:lnTo>
                    <a:pt x="562" y="1049"/>
                  </a:lnTo>
                  <a:lnTo>
                    <a:pt x="438" y="1044"/>
                  </a:lnTo>
                  <a:lnTo>
                    <a:pt x="425" y="1044"/>
                  </a:lnTo>
                  <a:lnTo>
                    <a:pt x="412" y="1044"/>
                  </a:lnTo>
                  <a:lnTo>
                    <a:pt x="399" y="1044"/>
                  </a:lnTo>
                  <a:lnTo>
                    <a:pt x="385" y="1044"/>
                  </a:lnTo>
                  <a:lnTo>
                    <a:pt x="371" y="1044"/>
                  </a:lnTo>
                  <a:lnTo>
                    <a:pt x="357" y="1044"/>
                  </a:lnTo>
                  <a:lnTo>
                    <a:pt x="343" y="1044"/>
                  </a:lnTo>
                  <a:lnTo>
                    <a:pt x="328" y="1044"/>
                  </a:lnTo>
                  <a:lnTo>
                    <a:pt x="314" y="1044"/>
                  </a:lnTo>
                  <a:lnTo>
                    <a:pt x="299" y="1044"/>
                  </a:lnTo>
                  <a:lnTo>
                    <a:pt x="284" y="1044"/>
                  </a:lnTo>
                  <a:lnTo>
                    <a:pt x="270" y="1044"/>
                  </a:lnTo>
                  <a:lnTo>
                    <a:pt x="256" y="1044"/>
                  </a:lnTo>
                  <a:lnTo>
                    <a:pt x="242" y="1044"/>
                  </a:lnTo>
                  <a:lnTo>
                    <a:pt x="229" y="1044"/>
                  </a:lnTo>
                  <a:lnTo>
                    <a:pt x="218" y="1044"/>
                  </a:lnTo>
                  <a:lnTo>
                    <a:pt x="206" y="1044"/>
                  </a:lnTo>
                  <a:lnTo>
                    <a:pt x="195" y="1044"/>
                  </a:lnTo>
                  <a:lnTo>
                    <a:pt x="186" y="1044"/>
                  </a:lnTo>
                  <a:lnTo>
                    <a:pt x="175" y="1044"/>
                  </a:lnTo>
                  <a:lnTo>
                    <a:pt x="164" y="1044"/>
                  </a:lnTo>
                  <a:lnTo>
                    <a:pt x="155" y="1044"/>
                  </a:lnTo>
                  <a:lnTo>
                    <a:pt x="144" y="1044"/>
                  </a:lnTo>
                  <a:lnTo>
                    <a:pt x="134" y="1044"/>
                  </a:lnTo>
                  <a:lnTo>
                    <a:pt x="125" y="1044"/>
                  </a:lnTo>
                  <a:lnTo>
                    <a:pt x="115" y="1044"/>
                  </a:lnTo>
                  <a:lnTo>
                    <a:pt x="107" y="1044"/>
                  </a:lnTo>
                  <a:lnTo>
                    <a:pt x="98" y="1044"/>
                  </a:lnTo>
                  <a:lnTo>
                    <a:pt x="89" y="1045"/>
                  </a:lnTo>
                  <a:lnTo>
                    <a:pt x="81" y="1045"/>
                  </a:lnTo>
                  <a:lnTo>
                    <a:pt x="73" y="1045"/>
                  </a:lnTo>
                  <a:lnTo>
                    <a:pt x="66" y="1046"/>
                  </a:lnTo>
                  <a:lnTo>
                    <a:pt x="17" y="1046"/>
                  </a:lnTo>
                  <a:lnTo>
                    <a:pt x="16" y="1046"/>
                  </a:lnTo>
                  <a:lnTo>
                    <a:pt x="15" y="1046"/>
                  </a:lnTo>
                  <a:lnTo>
                    <a:pt x="14" y="1046"/>
                  </a:lnTo>
                  <a:lnTo>
                    <a:pt x="13" y="1046"/>
                  </a:lnTo>
                  <a:lnTo>
                    <a:pt x="11" y="1046"/>
                  </a:lnTo>
                  <a:lnTo>
                    <a:pt x="10" y="1046"/>
                  </a:lnTo>
                  <a:lnTo>
                    <a:pt x="9" y="1046"/>
                  </a:lnTo>
                  <a:lnTo>
                    <a:pt x="8" y="1046"/>
                  </a:lnTo>
                  <a:lnTo>
                    <a:pt x="6" y="1046"/>
                  </a:lnTo>
                  <a:lnTo>
                    <a:pt x="5" y="1046"/>
                  </a:lnTo>
                  <a:lnTo>
                    <a:pt x="4" y="1046"/>
                  </a:lnTo>
                  <a:lnTo>
                    <a:pt x="3" y="1046"/>
                  </a:lnTo>
                  <a:lnTo>
                    <a:pt x="2" y="1046"/>
                  </a:lnTo>
                  <a:lnTo>
                    <a:pt x="1" y="1046"/>
                  </a:lnTo>
                  <a:lnTo>
                    <a:pt x="0" y="1046"/>
                  </a:lnTo>
                  <a:lnTo>
                    <a:pt x="0" y="1041"/>
                  </a:lnTo>
                  <a:lnTo>
                    <a:pt x="11" y="977"/>
                  </a:lnTo>
                  <a:lnTo>
                    <a:pt x="24" y="913"/>
                  </a:lnTo>
                  <a:lnTo>
                    <a:pt x="36" y="849"/>
                  </a:lnTo>
                  <a:lnTo>
                    <a:pt x="48" y="784"/>
                  </a:lnTo>
                  <a:lnTo>
                    <a:pt x="60" y="720"/>
                  </a:lnTo>
                  <a:lnTo>
                    <a:pt x="70" y="655"/>
                  </a:lnTo>
                  <a:lnTo>
                    <a:pt x="81" y="590"/>
                  </a:lnTo>
                  <a:lnTo>
                    <a:pt x="91" y="525"/>
                  </a:lnTo>
                  <a:lnTo>
                    <a:pt x="101" y="459"/>
                  </a:lnTo>
                  <a:lnTo>
                    <a:pt x="111" y="394"/>
                  </a:lnTo>
                  <a:lnTo>
                    <a:pt x="119" y="329"/>
                  </a:lnTo>
                  <a:lnTo>
                    <a:pt x="128" y="263"/>
                  </a:lnTo>
                  <a:lnTo>
                    <a:pt x="136" y="198"/>
                  </a:lnTo>
                  <a:lnTo>
                    <a:pt x="145" y="132"/>
                  </a:lnTo>
                  <a:lnTo>
                    <a:pt x="152" y="67"/>
                  </a:lnTo>
                  <a:lnTo>
                    <a:pt x="160" y="3"/>
                  </a:lnTo>
                  <a:lnTo>
                    <a:pt x="161" y="3"/>
                  </a:lnTo>
                  <a:lnTo>
                    <a:pt x="164" y="3"/>
                  </a:lnTo>
                  <a:lnTo>
                    <a:pt x="170" y="3"/>
                  </a:lnTo>
                  <a:lnTo>
                    <a:pt x="177" y="3"/>
                  </a:lnTo>
                  <a:lnTo>
                    <a:pt x="186" y="3"/>
                  </a:lnTo>
                  <a:lnTo>
                    <a:pt x="195" y="3"/>
                  </a:lnTo>
                  <a:lnTo>
                    <a:pt x="206" y="3"/>
                  </a:lnTo>
                  <a:lnTo>
                    <a:pt x="217" y="3"/>
                  </a:lnTo>
                  <a:lnTo>
                    <a:pt x="228" y="3"/>
                  </a:lnTo>
                  <a:lnTo>
                    <a:pt x="241" y="3"/>
                  </a:lnTo>
                  <a:lnTo>
                    <a:pt x="253" y="3"/>
                  </a:lnTo>
                  <a:lnTo>
                    <a:pt x="265" y="4"/>
                  </a:lnTo>
                  <a:lnTo>
                    <a:pt x="275" y="4"/>
                  </a:lnTo>
                  <a:lnTo>
                    <a:pt x="286" y="5"/>
                  </a:lnTo>
                  <a:lnTo>
                    <a:pt x="295" y="5"/>
                  </a:lnTo>
                  <a:lnTo>
                    <a:pt x="303" y="6"/>
                  </a:lnTo>
                  <a:lnTo>
                    <a:pt x="556" y="9"/>
                  </a:lnTo>
                  <a:lnTo>
                    <a:pt x="566" y="8"/>
                  </a:lnTo>
                  <a:lnTo>
                    <a:pt x="577" y="8"/>
                  </a:lnTo>
                  <a:lnTo>
                    <a:pt x="586" y="8"/>
                  </a:lnTo>
                  <a:lnTo>
                    <a:pt x="597" y="8"/>
                  </a:lnTo>
                  <a:lnTo>
                    <a:pt x="608" y="8"/>
                  </a:lnTo>
                  <a:lnTo>
                    <a:pt x="617" y="7"/>
                  </a:lnTo>
                  <a:lnTo>
                    <a:pt x="628" y="7"/>
                  </a:lnTo>
                  <a:lnTo>
                    <a:pt x="639" y="6"/>
                  </a:lnTo>
                  <a:lnTo>
                    <a:pt x="650" y="6"/>
                  </a:lnTo>
                  <a:lnTo>
                    <a:pt x="661" y="5"/>
                  </a:lnTo>
                  <a:lnTo>
                    <a:pt x="672" y="5"/>
                  </a:lnTo>
                  <a:lnTo>
                    <a:pt x="683" y="4"/>
                  </a:lnTo>
                  <a:lnTo>
                    <a:pt x="695" y="3"/>
                  </a:lnTo>
                  <a:lnTo>
                    <a:pt x="707" y="2"/>
                  </a:lnTo>
                  <a:lnTo>
                    <a:pt x="719" y="0"/>
                  </a:lnTo>
                  <a:lnTo>
                    <a:pt x="731" y="0"/>
                  </a:lnTo>
                  <a:lnTo>
                    <a:pt x="728" y="7"/>
                  </a:lnTo>
                  <a:lnTo>
                    <a:pt x="726" y="13"/>
                  </a:lnTo>
                  <a:lnTo>
                    <a:pt x="723" y="19"/>
                  </a:lnTo>
                  <a:lnTo>
                    <a:pt x="721" y="25"/>
                  </a:lnTo>
                  <a:lnTo>
                    <a:pt x="719" y="32"/>
                  </a:lnTo>
                  <a:lnTo>
                    <a:pt x="717" y="40"/>
                  </a:lnTo>
                  <a:lnTo>
                    <a:pt x="715" y="46"/>
                  </a:lnTo>
                  <a:lnTo>
                    <a:pt x="713" y="53"/>
                  </a:lnTo>
                  <a:lnTo>
                    <a:pt x="712" y="60"/>
                  </a:lnTo>
                  <a:lnTo>
                    <a:pt x="711" y="67"/>
                  </a:lnTo>
                  <a:lnTo>
                    <a:pt x="710" y="75"/>
                  </a:lnTo>
                  <a:lnTo>
                    <a:pt x="709" y="83"/>
                  </a:lnTo>
                  <a:lnTo>
                    <a:pt x="708" y="90"/>
                  </a:lnTo>
                  <a:lnTo>
                    <a:pt x="708" y="97"/>
                  </a:lnTo>
                  <a:lnTo>
                    <a:pt x="708" y="106"/>
                  </a:lnTo>
                  <a:lnTo>
                    <a:pt x="708" y="114"/>
                  </a:lnTo>
                  <a:lnTo>
                    <a:pt x="688" y="112"/>
                  </a:lnTo>
                  <a:lnTo>
                    <a:pt x="667" y="111"/>
                  </a:lnTo>
                  <a:lnTo>
                    <a:pt x="649" y="110"/>
                  </a:lnTo>
                  <a:lnTo>
                    <a:pt x="630" y="109"/>
                  </a:lnTo>
                  <a:lnTo>
                    <a:pt x="612" y="108"/>
                  </a:lnTo>
                  <a:lnTo>
                    <a:pt x="594" y="107"/>
                  </a:lnTo>
                  <a:lnTo>
                    <a:pt x="576" y="106"/>
                  </a:lnTo>
                  <a:lnTo>
                    <a:pt x="557" y="105"/>
                  </a:lnTo>
                  <a:lnTo>
                    <a:pt x="539" y="105"/>
                  </a:lnTo>
                  <a:lnTo>
                    <a:pt x="521" y="103"/>
                  </a:lnTo>
                  <a:lnTo>
                    <a:pt x="503" y="102"/>
                  </a:lnTo>
                  <a:lnTo>
                    <a:pt x="484" y="101"/>
                  </a:lnTo>
                  <a:lnTo>
                    <a:pt x="464" y="100"/>
                  </a:lnTo>
                  <a:lnTo>
                    <a:pt x="445" y="100"/>
                  </a:lnTo>
                  <a:lnTo>
                    <a:pt x="424" y="99"/>
                  </a:lnTo>
                  <a:lnTo>
                    <a:pt x="404" y="99"/>
                  </a:lnTo>
                  <a:lnTo>
                    <a:pt x="398" y="99"/>
                  </a:lnTo>
                  <a:lnTo>
                    <a:pt x="393" y="99"/>
                  </a:lnTo>
                  <a:lnTo>
                    <a:pt x="388" y="99"/>
                  </a:lnTo>
                  <a:lnTo>
                    <a:pt x="381" y="99"/>
                  </a:lnTo>
                  <a:lnTo>
                    <a:pt x="376" y="99"/>
                  </a:lnTo>
                  <a:lnTo>
                    <a:pt x="370" y="99"/>
                  </a:lnTo>
                  <a:lnTo>
                    <a:pt x="364" y="99"/>
                  </a:lnTo>
                  <a:lnTo>
                    <a:pt x="359" y="99"/>
                  </a:lnTo>
                  <a:lnTo>
                    <a:pt x="353" y="99"/>
                  </a:lnTo>
                  <a:lnTo>
                    <a:pt x="348" y="99"/>
                  </a:lnTo>
                  <a:lnTo>
                    <a:pt x="343" y="99"/>
                  </a:lnTo>
                  <a:lnTo>
                    <a:pt x="337" y="99"/>
                  </a:lnTo>
                  <a:lnTo>
                    <a:pt x="333" y="99"/>
                  </a:lnTo>
                  <a:lnTo>
                    <a:pt x="329" y="99"/>
                  </a:lnTo>
                  <a:lnTo>
                    <a:pt x="326" y="99"/>
                  </a:lnTo>
                  <a:lnTo>
                    <a:pt x="323" y="99"/>
                  </a:lnTo>
                  <a:lnTo>
                    <a:pt x="317" y="129"/>
                  </a:lnTo>
                  <a:lnTo>
                    <a:pt x="312" y="156"/>
                  </a:lnTo>
                  <a:lnTo>
                    <a:pt x="307" y="180"/>
                  </a:lnTo>
                  <a:lnTo>
                    <a:pt x="303" y="201"/>
                  </a:lnTo>
                  <a:lnTo>
                    <a:pt x="299" y="221"/>
                  </a:lnTo>
                  <a:lnTo>
                    <a:pt x="296" y="239"/>
                  </a:lnTo>
                  <a:lnTo>
                    <a:pt x="292" y="258"/>
                  </a:lnTo>
                  <a:lnTo>
                    <a:pt x="289" y="276"/>
                  </a:lnTo>
                  <a:lnTo>
                    <a:pt x="286" y="292"/>
                  </a:lnTo>
                  <a:lnTo>
                    <a:pt x="283" y="311"/>
                  </a:lnTo>
                  <a:lnTo>
                    <a:pt x="280" y="329"/>
                  </a:lnTo>
                  <a:lnTo>
                    <a:pt x="276" y="350"/>
                  </a:lnTo>
                  <a:lnTo>
                    <a:pt x="272" y="371"/>
                  </a:lnTo>
                  <a:lnTo>
                    <a:pt x="269" y="396"/>
                  </a:lnTo>
                  <a:lnTo>
                    <a:pt x="265" y="424"/>
                  </a:lnTo>
                  <a:lnTo>
                    <a:pt x="260" y="455"/>
                  </a:lnTo>
                  <a:lnTo>
                    <a:pt x="264" y="455"/>
                  </a:lnTo>
                  <a:lnTo>
                    <a:pt x="269" y="455"/>
                  </a:lnTo>
                  <a:lnTo>
                    <a:pt x="274" y="455"/>
                  </a:lnTo>
                  <a:lnTo>
                    <a:pt x="280" y="455"/>
                  </a:lnTo>
                  <a:lnTo>
                    <a:pt x="286" y="455"/>
                  </a:lnTo>
                  <a:lnTo>
                    <a:pt x="294" y="455"/>
                  </a:lnTo>
                  <a:lnTo>
                    <a:pt x="300" y="455"/>
                  </a:lnTo>
                  <a:lnTo>
                    <a:pt x="307" y="456"/>
                  </a:lnTo>
                  <a:lnTo>
                    <a:pt x="315" y="456"/>
                  </a:lnTo>
                  <a:lnTo>
                    <a:pt x="322" y="456"/>
                  </a:lnTo>
                  <a:lnTo>
                    <a:pt x="330" y="456"/>
                  </a:lnTo>
                  <a:lnTo>
                    <a:pt x="337" y="456"/>
                  </a:lnTo>
                  <a:lnTo>
                    <a:pt x="345" y="456"/>
                  </a:lnTo>
                  <a:lnTo>
                    <a:pt x="352" y="456"/>
                  </a:lnTo>
                  <a:lnTo>
                    <a:pt x="359" y="456"/>
                  </a:lnTo>
                  <a:lnTo>
                    <a:pt x="366" y="457"/>
                  </a:lnTo>
                  <a:lnTo>
                    <a:pt x="382" y="456"/>
                  </a:lnTo>
                  <a:lnTo>
                    <a:pt x="398" y="456"/>
                  </a:lnTo>
                  <a:lnTo>
                    <a:pt x="413" y="456"/>
                  </a:lnTo>
                  <a:lnTo>
                    <a:pt x="428" y="456"/>
                  </a:lnTo>
                  <a:lnTo>
                    <a:pt x="443" y="455"/>
                  </a:lnTo>
                  <a:lnTo>
                    <a:pt x="457" y="455"/>
                  </a:lnTo>
                  <a:lnTo>
                    <a:pt x="472" y="454"/>
                  </a:lnTo>
                  <a:lnTo>
                    <a:pt x="486" y="453"/>
                  </a:lnTo>
                  <a:lnTo>
                    <a:pt x="500" y="452"/>
                  </a:lnTo>
                  <a:lnTo>
                    <a:pt x="514" y="452"/>
                  </a:lnTo>
                  <a:lnTo>
                    <a:pt x="527" y="451"/>
                  </a:lnTo>
                  <a:lnTo>
                    <a:pt x="542" y="450"/>
                  </a:lnTo>
                  <a:lnTo>
                    <a:pt x="556" y="449"/>
                  </a:lnTo>
                  <a:lnTo>
                    <a:pt x="571" y="448"/>
                  </a:lnTo>
                  <a:lnTo>
                    <a:pt x="586" y="447"/>
                  </a:lnTo>
                  <a:lnTo>
                    <a:pt x="602" y="4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251400" y="6268680"/>
              <a:ext cx="308160" cy="248760"/>
            </a:xfrm>
            <a:custGeom>
              <a:avLst/>
              <a:gdLst/>
              <a:ahLst/>
              <a:rect l="l" t="t" r="r" b="b"/>
              <a:pathLst>
                <a:path w="1572" h="1158">
                  <a:moveTo>
                    <a:pt x="1572" y="115"/>
                  </a:moveTo>
                  <a:lnTo>
                    <a:pt x="1557" y="178"/>
                  </a:lnTo>
                  <a:lnTo>
                    <a:pt x="1543" y="243"/>
                  </a:lnTo>
                  <a:lnTo>
                    <a:pt x="1531" y="308"/>
                  </a:lnTo>
                  <a:lnTo>
                    <a:pt x="1518" y="373"/>
                  </a:lnTo>
                  <a:lnTo>
                    <a:pt x="1505" y="438"/>
                  </a:lnTo>
                  <a:lnTo>
                    <a:pt x="1493" y="504"/>
                  </a:lnTo>
                  <a:lnTo>
                    <a:pt x="1482" y="569"/>
                  </a:lnTo>
                  <a:lnTo>
                    <a:pt x="1472" y="635"/>
                  </a:lnTo>
                  <a:lnTo>
                    <a:pt x="1461" y="700"/>
                  </a:lnTo>
                  <a:lnTo>
                    <a:pt x="1451" y="766"/>
                  </a:lnTo>
                  <a:lnTo>
                    <a:pt x="1442" y="832"/>
                  </a:lnTo>
                  <a:lnTo>
                    <a:pt x="1433" y="896"/>
                  </a:lnTo>
                  <a:lnTo>
                    <a:pt x="1425" y="962"/>
                  </a:lnTo>
                  <a:lnTo>
                    <a:pt x="1416" y="1027"/>
                  </a:lnTo>
                  <a:lnTo>
                    <a:pt x="1409" y="1092"/>
                  </a:lnTo>
                  <a:lnTo>
                    <a:pt x="1402" y="1158"/>
                  </a:lnTo>
                  <a:lnTo>
                    <a:pt x="1401" y="1157"/>
                  </a:lnTo>
                  <a:lnTo>
                    <a:pt x="1399" y="1157"/>
                  </a:lnTo>
                  <a:lnTo>
                    <a:pt x="1396" y="1157"/>
                  </a:lnTo>
                  <a:lnTo>
                    <a:pt x="1392" y="1157"/>
                  </a:lnTo>
                  <a:lnTo>
                    <a:pt x="1386" y="1157"/>
                  </a:lnTo>
                  <a:lnTo>
                    <a:pt x="1381" y="1157"/>
                  </a:lnTo>
                  <a:lnTo>
                    <a:pt x="1373" y="1156"/>
                  </a:lnTo>
                  <a:lnTo>
                    <a:pt x="1367" y="1156"/>
                  </a:lnTo>
                  <a:lnTo>
                    <a:pt x="1360" y="1156"/>
                  </a:lnTo>
                  <a:lnTo>
                    <a:pt x="1352" y="1155"/>
                  </a:lnTo>
                  <a:lnTo>
                    <a:pt x="1345" y="1155"/>
                  </a:lnTo>
                  <a:lnTo>
                    <a:pt x="1338" y="1155"/>
                  </a:lnTo>
                  <a:lnTo>
                    <a:pt x="1331" y="1155"/>
                  </a:lnTo>
                  <a:lnTo>
                    <a:pt x="1324" y="1155"/>
                  </a:lnTo>
                  <a:lnTo>
                    <a:pt x="1318" y="1155"/>
                  </a:lnTo>
                  <a:lnTo>
                    <a:pt x="1314" y="1155"/>
                  </a:lnTo>
                  <a:lnTo>
                    <a:pt x="1307" y="1155"/>
                  </a:lnTo>
                  <a:lnTo>
                    <a:pt x="1301" y="1155"/>
                  </a:lnTo>
                  <a:lnTo>
                    <a:pt x="1294" y="1155"/>
                  </a:lnTo>
                  <a:lnTo>
                    <a:pt x="1287" y="1155"/>
                  </a:lnTo>
                  <a:lnTo>
                    <a:pt x="1279" y="1155"/>
                  </a:lnTo>
                  <a:lnTo>
                    <a:pt x="1271" y="1155"/>
                  </a:lnTo>
                  <a:lnTo>
                    <a:pt x="1263" y="1156"/>
                  </a:lnTo>
                  <a:lnTo>
                    <a:pt x="1256" y="1156"/>
                  </a:lnTo>
                  <a:lnTo>
                    <a:pt x="1250" y="1156"/>
                  </a:lnTo>
                  <a:lnTo>
                    <a:pt x="1243" y="1157"/>
                  </a:lnTo>
                  <a:lnTo>
                    <a:pt x="1237" y="1157"/>
                  </a:lnTo>
                  <a:lnTo>
                    <a:pt x="1231" y="1157"/>
                  </a:lnTo>
                  <a:lnTo>
                    <a:pt x="1227" y="1157"/>
                  </a:lnTo>
                  <a:lnTo>
                    <a:pt x="1224" y="1157"/>
                  </a:lnTo>
                  <a:lnTo>
                    <a:pt x="1222" y="1157"/>
                  </a:lnTo>
                  <a:lnTo>
                    <a:pt x="1222" y="1158"/>
                  </a:lnTo>
                  <a:lnTo>
                    <a:pt x="1229" y="1123"/>
                  </a:lnTo>
                  <a:lnTo>
                    <a:pt x="1237" y="1089"/>
                  </a:lnTo>
                  <a:lnTo>
                    <a:pt x="1244" y="1056"/>
                  </a:lnTo>
                  <a:lnTo>
                    <a:pt x="1251" y="1023"/>
                  </a:lnTo>
                  <a:lnTo>
                    <a:pt x="1257" y="991"/>
                  </a:lnTo>
                  <a:lnTo>
                    <a:pt x="1263" y="960"/>
                  </a:lnTo>
                  <a:lnTo>
                    <a:pt x="1269" y="928"/>
                  </a:lnTo>
                  <a:lnTo>
                    <a:pt x="1275" y="898"/>
                  </a:lnTo>
                  <a:lnTo>
                    <a:pt x="1281" y="867"/>
                  </a:lnTo>
                  <a:lnTo>
                    <a:pt x="1286" y="836"/>
                  </a:lnTo>
                  <a:lnTo>
                    <a:pt x="1291" y="805"/>
                  </a:lnTo>
                  <a:lnTo>
                    <a:pt x="1297" y="774"/>
                  </a:lnTo>
                  <a:lnTo>
                    <a:pt x="1302" y="742"/>
                  </a:lnTo>
                  <a:lnTo>
                    <a:pt x="1308" y="709"/>
                  </a:lnTo>
                  <a:lnTo>
                    <a:pt x="1314" y="676"/>
                  </a:lnTo>
                  <a:lnTo>
                    <a:pt x="1320" y="643"/>
                  </a:lnTo>
                  <a:lnTo>
                    <a:pt x="1313" y="642"/>
                  </a:lnTo>
                  <a:lnTo>
                    <a:pt x="1304" y="642"/>
                  </a:lnTo>
                  <a:lnTo>
                    <a:pt x="1294" y="642"/>
                  </a:lnTo>
                  <a:lnTo>
                    <a:pt x="1283" y="642"/>
                  </a:lnTo>
                  <a:lnTo>
                    <a:pt x="1270" y="642"/>
                  </a:lnTo>
                  <a:lnTo>
                    <a:pt x="1257" y="642"/>
                  </a:lnTo>
                  <a:lnTo>
                    <a:pt x="1242" y="642"/>
                  </a:lnTo>
                  <a:lnTo>
                    <a:pt x="1228" y="642"/>
                  </a:lnTo>
                  <a:lnTo>
                    <a:pt x="1212" y="641"/>
                  </a:lnTo>
                  <a:lnTo>
                    <a:pt x="1196" y="641"/>
                  </a:lnTo>
                  <a:lnTo>
                    <a:pt x="1180" y="641"/>
                  </a:lnTo>
                  <a:lnTo>
                    <a:pt x="1164" y="641"/>
                  </a:lnTo>
                  <a:lnTo>
                    <a:pt x="1149" y="641"/>
                  </a:lnTo>
                  <a:lnTo>
                    <a:pt x="1133" y="641"/>
                  </a:lnTo>
                  <a:lnTo>
                    <a:pt x="1118" y="641"/>
                  </a:lnTo>
                  <a:lnTo>
                    <a:pt x="1104" y="641"/>
                  </a:lnTo>
                  <a:lnTo>
                    <a:pt x="1091" y="641"/>
                  </a:lnTo>
                  <a:lnTo>
                    <a:pt x="1078" y="641"/>
                  </a:lnTo>
                  <a:lnTo>
                    <a:pt x="1065" y="641"/>
                  </a:lnTo>
                  <a:lnTo>
                    <a:pt x="1051" y="641"/>
                  </a:lnTo>
                  <a:lnTo>
                    <a:pt x="1037" y="641"/>
                  </a:lnTo>
                  <a:lnTo>
                    <a:pt x="1023" y="641"/>
                  </a:lnTo>
                  <a:lnTo>
                    <a:pt x="1009" y="641"/>
                  </a:lnTo>
                  <a:lnTo>
                    <a:pt x="995" y="642"/>
                  </a:lnTo>
                  <a:lnTo>
                    <a:pt x="983" y="642"/>
                  </a:lnTo>
                  <a:lnTo>
                    <a:pt x="970" y="642"/>
                  </a:lnTo>
                  <a:lnTo>
                    <a:pt x="958" y="642"/>
                  </a:lnTo>
                  <a:lnTo>
                    <a:pt x="947" y="642"/>
                  </a:lnTo>
                  <a:lnTo>
                    <a:pt x="938" y="642"/>
                  </a:lnTo>
                  <a:lnTo>
                    <a:pt x="929" y="642"/>
                  </a:lnTo>
                  <a:lnTo>
                    <a:pt x="923" y="642"/>
                  </a:lnTo>
                  <a:lnTo>
                    <a:pt x="917" y="643"/>
                  </a:lnTo>
                  <a:lnTo>
                    <a:pt x="912" y="675"/>
                  </a:lnTo>
                  <a:lnTo>
                    <a:pt x="908" y="708"/>
                  </a:lnTo>
                  <a:lnTo>
                    <a:pt x="902" y="740"/>
                  </a:lnTo>
                  <a:lnTo>
                    <a:pt x="898" y="771"/>
                  </a:lnTo>
                  <a:lnTo>
                    <a:pt x="894" y="803"/>
                  </a:lnTo>
                  <a:lnTo>
                    <a:pt x="890" y="834"/>
                  </a:lnTo>
                  <a:lnTo>
                    <a:pt x="885" y="865"/>
                  </a:lnTo>
                  <a:lnTo>
                    <a:pt x="881" y="895"/>
                  </a:lnTo>
                  <a:lnTo>
                    <a:pt x="877" y="927"/>
                  </a:lnTo>
                  <a:lnTo>
                    <a:pt x="872" y="958"/>
                  </a:lnTo>
                  <a:lnTo>
                    <a:pt x="868" y="990"/>
                  </a:lnTo>
                  <a:lnTo>
                    <a:pt x="864" y="1022"/>
                  </a:lnTo>
                  <a:lnTo>
                    <a:pt x="860" y="1055"/>
                  </a:lnTo>
                  <a:lnTo>
                    <a:pt x="856" y="1089"/>
                  </a:lnTo>
                  <a:lnTo>
                    <a:pt x="852" y="1123"/>
                  </a:lnTo>
                  <a:lnTo>
                    <a:pt x="849" y="1158"/>
                  </a:lnTo>
                  <a:lnTo>
                    <a:pt x="848" y="1157"/>
                  </a:lnTo>
                  <a:lnTo>
                    <a:pt x="846" y="1157"/>
                  </a:lnTo>
                  <a:lnTo>
                    <a:pt x="843" y="1157"/>
                  </a:lnTo>
                  <a:lnTo>
                    <a:pt x="838" y="1157"/>
                  </a:lnTo>
                  <a:lnTo>
                    <a:pt x="833" y="1157"/>
                  </a:lnTo>
                  <a:lnTo>
                    <a:pt x="828" y="1157"/>
                  </a:lnTo>
                  <a:lnTo>
                    <a:pt x="820" y="1156"/>
                  </a:lnTo>
                  <a:lnTo>
                    <a:pt x="814" y="1156"/>
                  </a:lnTo>
                  <a:lnTo>
                    <a:pt x="806" y="1156"/>
                  </a:lnTo>
                  <a:lnTo>
                    <a:pt x="799" y="1155"/>
                  </a:lnTo>
                  <a:lnTo>
                    <a:pt x="791" y="1155"/>
                  </a:lnTo>
                  <a:lnTo>
                    <a:pt x="785" y="1155"/>
                  </a:lnTo>
                  <a:lnTo>
                    <a:pt x="777" y="1155"/>
                  </a:lnTo>
                  <a:lnTo>
                    <a:pt x="771" y="1155"/>
                  </a:lnTo>
                  <a:lnTo>
                    <a:pt x="765" y="1155"/>
                  </a:lnTo>
                  <a:lnTo>
                    <a:pt x="760" y="1155"/>
                  </a:lnTo>
                  <a:lnTo>
                    <a:pt x="754" y="1155"/>
                  </a:lnTo>
                  <a:lnTo>
                    <a:pt x="747" y="1155"/>
                  </a:lnTo>
                  <a:lnTo>
                    <a:pt x="741" y="1155"/>
                  </a:lnTo>
                  <a:lnTo>
                    <a:pt x="734" y="1155"/>
                  </a:lnTo>
                  <a:lnTo>
                    <a:pt x="726" y="1155"/>
                  </a:lnTo>
                  <a:lnTo>
                    <a:pt x="718" y="1155"/>
                  </a:lnTo>
                  <a:lnTo>
                    <a:pt x="710" y="1156"/>
                  </a:lnTo>
                  <a:lnTo>
                    <a:pt x="703" y="1156"/>
                  </a:lnTo>
                  <a:lnTo>
                    <a:pt x="696" y="1156"/>
                  </a:lnTo>
                  <a:lnTo>
                    <a:pt x="690" y="1157"/>
                  </a:lnTo>
                  <a:lnTo>
                    <a:pt x="683" y="1157"/>
                  </a:lnTo>
                  <a:lnTo>
                    <a:pt x="678" y="1157"/>
                  </a:lnTo>
                  <a:lnTo>
                    <a:pt x="674" y="1157"/>
                  </a:lnTo>
                  <a:lnTo>
                    <a:pt x="671" y="1157"/>
                  </a:lnTo>
                  <a:lnTo>
                    <a:pt x="668" y="1157"/>
                  </a:lnTo>
                  <a:lnTo>
                    <a:pt x="668" y="1158"/>
                  </a:lnTo>
                  <a:lnTo>
                    <a:pt x="670" y="1151"/>
                  </a:lnTo>
                  <a:lnTo>
                    <a:pt x="671" y="1144"/>
                  </a:lnTo>
                  <a:lnTo>
                    <a:pt x="673" y="1137"/>
                  </a:lnTo>
                  <a:lnTo>
                    <a:pt x="674" y="1129"/>
                  </a:lnTo>
                  <a:lnTo>
                    <a:pt x="676" y="1122"/>
                  </a:lnTo>
                  <a:lnTo>
                    <a:pt x="677" y="1115"/>
                  </a:lnTo>
                  <a:lnTo>
                    <a:pt x="679" y="1108"/>
                  </a:lnTo>
                  <a:lnTo>
                    <a:pt x="680" y="1100"/>
                  </a:lnTo>
                  <a:lnTo>
                    <a:pt x="682" y="1093"/>
                  </a:lnTo>
                  <a:lnTo>
                    <a:pt x="683" y="1086"/>
                  </a:lnTo>
                  <a:lnTo>
                    <a:pt x="686" y="1079"/>
                  </a:lnTo>
                  <a:lnTo>
                    <a:pt x="687" y="1072"/>
                  </a:lnTo>
                  <a:lnTo>
                    <a:pt x="688" y="1064"/>
                  </a:lnTo>
                  <a:lnTo>
                    <a:pt x="690" y="1057"/>
                  </a:lnTo>
                  <a:lnTo>
                    <a:pt x="691" y="1050"/>
                  </a:lnTo>
                  <a:lnTo>
                    <a:pt x="693" y="1044"/>
                  </a:lnTo>
                  <a:lnTo>
                    <a:pt x="688" y="1043"/>
                  </a:lnTo>
                  <a:lnTo>
                    <a:pt x="682" y="1043"/>
                  </a:lnTo>
                  <a:lnTo>
                    <a:pt x="678" y="1043"/>
                  </a:lnTo>
                  <a:lnTo>
                    <a:pt x="673" y="1043"/>
                  </a:lnTo>
                  <a:lnTo>
                    <a:pt x="667" y="1043"/>
                  </a:lnTo>
                  <a:lnTo>
                    <a:pt x="662" y="1043"/>
                  </a:lnTo>
                  <a:lnTo>
                    <a:pt x="657" y="1043"/>
                  </a:lnTo>
                  <a:lnTo>
                    <a:pt x="651" y="1043"/>
                  </a:lnTo>
                  <a:lnTo>
                    <a:pt x="646" y="1043"/>
                  </a:lnTo>
                  <a:lnTo>
                    <a:pt x="641" y="1043"/>
                  </a:lnTo>
                  <a:lnTo>
                    <a:pt x="636" y="1043"/>
                  </a:lnTo>
                  <a:lnTo>
                    <a:pt x="632" y="1043"/>
                  </a:lnTo>
                  <a:lnTo>
                    <a:pt x="628" y="1043"/>
                  </a:lnTo>
                  <a:lnTo>
                    <a:pt x="624" y="1043"/>
                  </a:lnTo>
                  <a:lnTo>
                    <a:pt x="620" y="1043"/>
                  </a:lnTo>
                  <a:lnTo>
                    <a:pt x="617" y="1043"/>
                  </a:lnTo>
                  <a:lnTo>
                    <a:pt x="611" y="1043"/>
                  </a:lnTo>
                  <a:lnTo>
                    <a:pt x="604" y="1043"/>
                  </a:lnTo>
                  <a:lnTo>
                    <a:pt x="597" y="1043"/>
                  </a:lnTo>
                  <a:lnTo>
                    <a:pt x="589" y="1043"/>
                  </a:lnTo>
                  <a:lnTo>
                    <a:pt x="582" y="1043"/>
                  </a:lnTo>
                  <a:lnTo>
                    <a:pt x="573" y="1043"/>
                  </a:lnTo>
                  <a:lnTo>
                    <a:pt x="566" y="1043"/>
                  </a:lnTo>
                  <a:lnTo>
                    <a:pt x="558" y="1044"/>
                  </a:lnTo>
                  <a:lnTo>
                    <a:pt x="551" y="1044"/>
                  </a:lnTo>
                  <a:lnTo>
                    <a:pt x="545" y="1044"/>
                  </a:lnTo>
                  <a:lnTo>
                    <a:pt x="538" y="1044"/>
                  </a:lnTo>
                  <a:lnTo>
                    <a:pt x="533" y="1044"/>
                  </a:lnTo>
                  <a:lnTo>
                    <a:pt x="527" y="1044"/>
                  </a:lnTo>
                  <a:lnTo>
                    <a:pt x="524" y="1044"/>
                  </a:lnTo>
                  <a:lnTo>
                    <a:pt x="522" y="1044"/>
                  </a:lnTo>
                  <a:lnTo>
                    <a:pt x="522" y="1045"/>
                  </a:lnTo>
                  <a:lnTo>
                    <a:pt x="507" y="1013"/>
                  </a:lnTo>
                  <a:lnTo>
                    <a:pt x="493" y="981"/>
                  </a:lnTo>
                  <a:lnTo>
                    <a:pt x="478" y="949"/>
                  </a:lnTo>
                  <a:lnTo>
                    <a:pt x="462" y="916"/>
                  </a:lnTo>
                  <a:lnTo>
                    <a:pt x="446" y="882"/>
                  </a:lnTo>
                  <a:lnTo>
                    <a:pt x="430" y="849"/>
                  </a:lnTo>
                  <a:lnTo>
                    <a:pt x="414" y="816"/>
                  </a:lnTo>
                  <a:lnTo>
                    <a:pt x="398" y="783"/>
                  </a:lnTo>
                  <a:lnTo>
                    <a:pt x="382" y="750"/>
                  </a:lnTo>
                  <a:lnTo>
                    <a:pt x="366" y="718"/>
                  </a:lnTo>
                  <a:lnTo>
                    <a:pt x="350" y="686"/>
                  </a:lnTo>
                  <a:lnTo>
                    <a:pt x="335" y="656"/>
                  </a:lnTo>
                  <a:lnTo>
                    <a:pt x="320" y="627"/>
                  </a:lnTo>
                  <a:lnTo>
                    <a:pt x="306" y="599"/>
                  </a:lnTo>
                  <a:lnTo>
                    <a:pt x="292" y="572"/>
                  </a:lnTo>
                  <a:lnTo>
                    <a:pt x="281" y="547"/>
                  </a:lnTo>
                  <a:lnTo>
                    <a:pt x="279" y="546"/>
                  </a:lnTo>
                  <a:lnTo>
                    <a:pt x="276" y="546"/>
                  </a:lnTo>
                  <a:lnTo>
                    <a:pt x="275" y="546"/>
                  </a:lnTo>
                  <a:lnTo>
                    <a:pt x="273" y="546"/>
                  </a:lnTo>
                  <a:lnTo>
                    <a:pt x="271" y="546"/>
                  </a:lnTo>
                  <a:lnTo>
                    <a:pt x="270" y="545"/>
                  </a:lnTo>
                  <a:lnTo>
                    <a:pt x="268" y="545"/>
                  </a:lnTo>
                  <a:lnTo>
                    <a:pt x="266" y="545"/>
                  </a:lnTo>
                  <a:lnTo>
                    <a:pt x="264" y="544"/>
                  </a:lnTo>
                  <a:lnTo>
                    <a:pt x="261" y="544"/>
                  </a:lnTo>
                  <a:lnTo>
                    <a:pt x="260" y="543"/>
                  </a:lnTo>
                  <a:lnTo>
                    <a:pt x="258" y="543"/>
                  </a:lnTo>
                  <a:lnTo>
                    <a:pt x="256" y="543"/>
                  </a:lnTo>
                  <a:lnTo>
                    <a:pt x="255" y="543"/>
                  </a:lnTo>
                  <a:lnTo>
                    <a:pt x="253" y="543"/>
                  </a:lnTo>
                  <a:lnTo>
                    <a:pt x="252" y="543"/>
                  </a:lnTo>
                  <a:lnTo>
                    <a:pt x="247" y="573"/>
                  </a:lnTo>
                  <a:lnTo>
                    <a:pt x="242" y="604"/>
                  </a:lnTo>
                  <a:lnTo>
                    <a:pt x="237" y="635"/>
                  </a:lnTo>
                  <a:lnTo>
                    <a:pt x="233" y="667"/>
                  </a:lnTo>
                  <a:lnTo>
                    <a:pt x="228" y="698"/>
                  </a:lnTo>
                  <a:lnTo>
                    <a:pt x="223" y="729"/>
                  </a:lnTo>
                  <a:lnTo>
                    <a:pt x="219" y="761"/>
                  </a:lnTo>
                  <a:lnTo>
                    <a:pt x="214" y="791"/>
                  </a:lnTo>
                  <a:lnTo>
                    <a:pt x="210" y="823"/>
                  </a:lnTo>
                  <a:lnTo>
                    <a:pt x="206" y="854"/>
                  </a:lnTo>
                  <a:lnTo>
                    <a:pt x="202" y="886"/>
                  </a:lnTo>
                  <a:lnTo>
                    <a:pt x="196" y="918"/>
                  </a:lnTo>
                  <a:lnTo>
                    <a:pt x="192" y="949"/>
                  </a:lnTo>
                  <a:lnTo>
                    <a:pt x="188" y="981"/>
                  </a:lnTo>
                  <a:lnTo>
                    <a:pt x="183" y="1013"/>
                  </a:lnTo>
                  <a:lnTo>
                    <a:pt x="180" y="1045"/>
                  </a:lnTo>
                  <a:lnTo>
                    <a:pt x="179" y="1044"/>
                  </a:lnTo>
                  <a:lnTo>
                    <a:pt x="177" y="1044"/>
                  </a:lnTo>
                  <a:lnTo>
                    <a:pt x="174" y="1044"/>
                  </a:lnTo>
                  <a:lnTo>
                    <a:pt x="170" y="1044"/>
                  </a:lnTo>
                  <a:lnTo>
                    <a:pt x="164" y="1043"/>
                  </a:lnTo>
                  <a:lnTo>
                    <a:pt x="159" y="1043"/>
                  </a:lnTo>
                  <a:lnTo>
                    <a:pt x="151" y="1042"/>
                  </a:lnTo>
                  <a:lnTo>
                    <a:pt x="145" y="1042"/>
                  </a:lnTo>
                  <a:lnTo>
                    <a:pt x="138" y="1042"/>
                  </a:lnTo>
                  <a:lnTo>
                    <a:pt x="130" y="1041"/>
                  </a:lnTo>
                  <a:lnTo>
                    <a:pt x="123" y="1041"/>
                  </a:lnTo>
                  <a:lnTo>
                    <a:pt x="116" y="1040"/>
                  </a:lnTo>
                  <a:lnTo>
                    <a:pt x="109" y="1040"/>
                  </a:lnTo>
                  <a:lnTo>
                    <a:pt x="102" y="1040"/>
                  </a:lnTo>
                  <a:lnTo>
                    <a:pt x="96" y="1040"/>
                  </a:lnTo>
                  <a:lnTo>
                    <a:pt x="92" y="1040"/>
                  </a:lnTo>
                  <a:lnTo>
                    <a:pt x="85" y="1040"/>
                  </a:lnTo>
                  <a:lnTo>
                    <a:pt x="79" y="1040"/>
                  </a:lnTo>
                  <a:lnTo>
                    <a:pt x="72" y="1040"/>
                  </a:lnTo>
                  <a:lnTo>
                    <a:pt x="65" y="1040"/>
                  </a:lnTo>
                  <a:lnTo>
                    <a:pt x="57" y="1041"/>
                  </a:lnTo>
                  <a:lnTo>
                    <a:pt x="49" y="1041"/>
                  </a:lnTo>
                  <a:lnTo>
                    <a:pt x="41" y="1042"/>
                  </a:lnTo>
                  <a:lnTo>
                    <a:pt x="34" y="1042"/>
                  </a:lnTo>
                  <a:lnTo>
                    <a:pt x="28" y="1042"/>
                  </a:lnTo>
                  <a:lnTo>
                    <a:pt x="21" y="1043"/>
                  </a:lnTo>
                  <a:lnTo>
                    <a:pt x="15" y="1043"/>
                  </a:lnTo>
                  <a:lnTo>
                    <a:pt x="9" y="1044"/>
                  </a:lnTo>
                  <a:lnTo>
                    <a:pt x="5" y="1044"/>
                  </a:lnTo>
                  <a:lnTo>
                    <a:pt x="2" y="1044"/>
                  </a:lnTo>
                  <a:lnTo>
                    <a:pt x="0" y="1044"/>
                  </a:lnTo>
                  <a:lnTo>
                    <a:pt x="0" y="1045"/>
                  </a:lnTo>
                  <a:lnTo>
                    <a:pt x="14" y="980"/>
                  </a:lnTo>
                  <a:lnTo>
                    <a:pt x="28" y="915"/>
                  </a:lnTo>
                  <a:lnTo>
                    <a:pt x="40" y="850"/>
                  </a:lnTo>
                  <a:lnTo>
                    <a:pt x="53" y="785"/>
                  </a:lnTo>
                  <a:lnTo>
                    <a:pt x="65" y="719"/>
                  </a:lnTo>
                  <a:lnTo>
                    <a:pt x="77" y="654"/>
                  </a:lnTo>
                  <a:lnTo>
                    <a:pt x="87" y="588"/>
                  </a:lnTo>
                  <a:lnTo>
                    <a:pt x="98" y="524"/>
                  </a:lnTo>
                  <a:lnTo>
                    <a:pt x="109" y="458"/>
                  </a:lnTo>
                  <a:lnTo>
                    <a:pt x="118" y="392"/>
                  </a:lnTo>
                  <a:lnTo>
                    <a:pt x="128" y="326"/>
                  </a:lnTo>
                  <a:lnTo>
                    <a:pt x="136" y="261"/>
                  </a:lnTo>
                  <a:lnTo>
                    <a:pt x="145" y="195"/>
                  </a:lnTo>
                  <a:lnTo>
                    <a:pt x="154" y="130"/>
                  </a:lnTo>
                  <a:lnTo>
                    <a:pt x="161" y="65"/>
                  </a:lnTo>
                  <a:lnTo>
                    <a:pt x="169" y="0"/>
                  </a:lnTo>
                  <a:lnTo>
                    <a:pt x="170" y="0"/>
                  </a:lnTo>
                  <a:lnTo>
                    <a:pt x="173" y="0"/>
                  </a:lnTo>
                  <a:lnTo>
                    <a:pt x="178" y="0"/>
                  </a:lnTo>
                  <a:lnTo>
                    <a:pt x="186" y="0"/>
                  </a:lnTo>
                  <a:lnTo>
                    <a:pt x="194" y="0"/>
                  </a:lnTo>
                  <a:lnTo>
                    <a:pt x="204" y="0"/>
                  </a:lnTo>
                  <a:lnTo>
                    <a:pt x="214" y="1"/>
                  </a:lnTo>
                  <a:lnTo>
                    <a:pt x="225" y="1"/>
                  </a:lnTo>
                  <a:lnTo>
                    <a:pt x="237" y="1"/>
                  </a:lnTo>
                  <a:lnTo>
                    <a:pt x="250" y="2"/>
                  </a:lnTo>
                  <a:lnTo>
                    <a:pt x="261" y="2"/>
                  </a:lnTo>
                  <a:lnTo>
                    <a:pt x="273" y="2"/>
                  </a:lnTo>
                  <a:lnTo>
                    <a:pt x="284" y="2"/>
                  </a:lnTo>
                  <a:lnTo>
                    <a:pt x="295" y="2"/>
                  </a:lnTo>
                  <a:lnTo>
                    <a:pt x="303" y="2"/>
                  </a:lnTo>
                  <a:lnTo>
                    <a:pt x="312" y="3"/>
                  </a:lnTo>
                  <a:lnTo>
                    <a:pt x="454" y="0"/>
                  </a:lnTo>
                  <a:lnTo>
                    <a:pt x="477" y="0"/>
                  </a:lnTo>
                  <a:lnTo>
                    <a:pt x="502" y="1"/>
                  </a:lnTo>
                  <a:lnTo>
                    <a:pt x="527" y="3"/>
                  </a:lnTo>
                  <a:lnTo>
                    <a:pt x="552" y="6"/>
                  </a:lnTo>
                  <a:lnTo>
                    <a:pt x="578" y="12"/>
                  </a:lnTo>
                  <a:lnTo>
                    <a:pt x="602" y="19"/>
                  </a:lnTo>
                  <a:lnTo>
                    <a:pt x="626" y="27"/>
                  </a:lnTo>
                  <a:lnTo>
                    <a:pt x="648" y="37"/>
                  </a:lnTo>
                  <a:lnTo>
                    <a:pt x="668" y="51"/>
                  </a:lnTo>
                  <a:lnTo>
                    <a:pt x="688" y="65"/>
                  </a:lnTo>
                  <a:lnTo>
                    <a:pt x="705" y="83"/>
                  </a:lnTo>
                  <a:lnTo>
                    <a:pt x="720" y="102"/>
                  </a:lnTo>
                  <a:lnTo>
                    <a:pt x="731" y="125"/>
                  </a:lnTo>
                  <a:lnTo>
                    <a:pt x="740" y="151"/>
                  </a:lnTo>
                  <a:lnTo>
                    <a:pt x="746" y="179"/>
                  </a:lnTo>
                  <a:lnTo>
                    <a:pt x="749" y="211"/>
                  </a:lnTo>
                  <a:lnTo>
                    <a:pt x="746" y="250"/>
                  </a:lnTo>
                  <a:lnTo>
                    <a:pt x="740" y="286"/>
                  </a:lnTo>
                  <a:lnTo>
                    <a:pt x="730" y="319"/>
                  </a:lnTo>
                  <a:lnTo>
                    <a:pt x="718" y="348"/>
                  </a:lnTo>
                  <a:lnTo>
                    <a:pt x="703" y="376"/>
                  </a:lnTo>
                  <a:lnTo>
                    <a:pt x="684" y="402"/>
                  </a:lnTo>
                  <a:lnTo>
                    <a:pt x="665" y="425"/>
                  </a:lnTo>
                  <a:lnTo>
                    <a:pt x="644" y="445"/>
                  </a:lnTo>
                  <a:lnTo>
                    <a:pt x="621" y="464"/>
                  </a:lnTo>
                  <a:lnTo>
                    <a:pt x="597" y="479"/>
                  </a:lnTo>
                  <a:lnTo>
                    <a:pt x="573" y="494"/>
                  </a:lnTo>
                  <a:lnTo>
                    <a:pt x="549" y="506"/>
                  </a:lnTo>
                  <a:lnTo>
                    <a:pt x="524" y="515"/>
                  </a:lnTo>
                  <a:lnTo>
                    <a:pt x="500" y="524"/>
                  </a:lnTo>
                  <a:lnTo>
                    <a:pt x="477" y="530"/>
                  </a:lnTo>
                  <a:lnTo>
                    <a:pt x="456" y="535"/>
                  </a:lnTo>
                  <a:lnTo>
                    <a:pt x="469" y="561"/>
                  </a:lnTo>
                  <a:lnTo>
                    <a:pt x="482" y="588"/>
                  </a:lnTo>
                  <a:lnTo>
                    <a:pt x="496" y="616"/>
                  </a:lnTo>
                  <a:lnTo>
                    <a:pt x="510" y="646"/>
                  </a:lnTo>
                  <a:lnTo>
                    <a:pt x="525" y="676"/>
                  </a:lnTo>
                  <a:lnTo>
                    <a:pt x="541" y="706"/>
                  </a:lnTo>
                  <a:lnTo>
                    <a:pt x="556" y="738"/>
                  </a:lnTo>
                  <a:lnTo>
                    <a:pt x="572" y="769"/>
                  </a:lnTo>
                  <a:lnTo>
                    <a:pt x="588" y="800"/>
                  </a:lnTo>
                  <a:lnTo>
                    <a:pt x="604" y="832"/>
                  </a:lnTo>
                  <a:lnTo>
                    <a:pt x="620" y="862"/>
                  </a:lnTo>
                  <a:lnTo>
                    <a:pt x="636" y="893"/>
                  </a:lnTo>
                  <a:lnTo>
                    <a:pt x="652" y="924"/>
                  </a:lnTo>
                  <a:lnTo>
                    <a:pt x="668" y="954"/>
                  </a:lnTo>
                  <a:lnTo>
                    <a:pt x="683" y="983"/>
                  </a:lnTo>
                  <a:lnTo>
                    <a:pt x="699" y="1012"/>
                  </a:lnTo>
                  <a:lnTo>
                    <a:pt x="710" y="956"/>
                  </a:lnTo>
                  <a:lnTo>
                    <a:pt x="721" y="901"/>
                  </a:lnTo>
                  <a:lnTo>
                    <a:pt x="731" y="844"/>
                  </a:lnTo>
                  <a:lnTo>
                    <a:pt x="741" y="788"/>
                  </a:lnTo>
                  <a:lnTo>
                    <a:pt x="752" y="733"/>
                  </a:lnTo>
                  <a:lnTo>
                    <a:pt x="760" y="676"/>
                  </a:lnTo>
                  <a:lnTo>
                    <a:pt x="770" y="620"/>
                  </a:lnTo>
                  <a:lnTo>
                    <a:pt x="778" y="564"/>
                  </a:lnTo>
                  <a:lnTo>
                    <a:pt x="787" y="508"/>
                  </a:lnTo>
                  <a:lnTo>
                    <a:pt x="796" y="451"/>
                  </a:lnTo>
                  <a:lnTo>
                    <a:pt x="803" y="395"/>
                  </a:lnTo>
                  <a:lnTo>
                    <a:pt x="811" y="339"/>
                  </a:lnTo>
                  <a:lnTo>
                    <a:pt x="817" y="282"/>
                  </a:lnTo>
                  <a:lnTo>
                    <a:pt x="824" y="226"/>
                  </a:lnTo>
                  <a:lnTo>
                    <a:pt x="831" y="170"/>
                  </a:lnTo>
                  <a:lnTo>
                    <a:pt x="837" y="115"/>
                  </a:lnTo>
                  <a:lnTo>
                    <a:pt x="839" y="115"/>
                  </a:lnTo>
                  <a:lnTo>
                    <a:pt x="843" y="115"/>
                  </a:lnTo>
                  <a:lnTo>
                    <a:pt x="847" y="115"/>
                  </a:lnTo>
                  <a:lnTo>
                    <a:pt x="852" y="116"/>
                  </a:lnTo>
                  <a:lnTo>
                    <a:pt x="858" y="116"/>
                  </a:lnTo>
                  <a:lnTo>
                    <a:pt x="865" y="117"/>
                  </a:lnTo>
                  <a:lnTo>
                    <a:pt x="871" y="118"/>
                  </a:lnTo>
                  <a:lnTo>
                    <a:pt x="879" y="118"/>
                  </a:lnTo>
                  <a:lnTo>
                    <a:pt x="886" y="119"/>
                  </a:lnTo>
                  <a:lnTo>
                    <a:pt x="894" y="119"/>
                  </a:lnTo>
                  <a:lnTo>
                    <a:pt x="900" y="120"/>
                  </a:lnTo>
                  <a:lnTo>
                    <a:pt x="908" y="120"/>
                  </a:lnTo>
                  <a:lnTo>
                    <a:pt x="914" y="120"/>
                  </a:lnTo>
                  <a:lnTo>
                    <a:pt x="921" y="120"/>
                  </a:lnTo>
                  <a:lnTo>
                    <a:pt x="926" y="121"/>
                  </a:lnTo>
                  <a:lnTo>
                    <a:pt x="931" y="120"/>
                  </a:lnTo>
                  <a:lnTo>
                    <a:pt x="938" y="120"/>
                  </a:lnTo>
                  <a:lnTo>
                    <a:pt x="944" y="120"/>
                  </a:lnTo>
                  <a:lnTo>
                    <a:pt x="952" y="120"/>
                  </a:lnTo>
                  <a:lnTo>
                    <a:pt x="959" y="119"/>
                  </a:lnTo>
                  <a:lnTo>
                    <a:pt x="968" y="119"/>
                  </a:lnTo>
                  <a:lnTo>
                    <a:pt x="975" y="118"/>
                  </a:lnTo>
                  <a:lnTo>
                    <a:pt x="983" y="118"/>
                  </a:lnTo>
                  <a:lnTo>
                    <a:pt x="989" y="117"/>
                  </a:lnTo>
                  <a:lnTo>
                    <a:pt x="995" y="116"/>
                  </a:lnTo>
                  <a:lnTo>
                    <a:pt x="1002" y="116"/>
                  </a:lnTo>
                  <a:lnTo>
                    <a:pt x="1007" y="115"/>
                  </a:lnTo>
                  <a:lnTo>
                    <a:pt x="1011" y="115"/>
                  </a:lnTo>
                  <a:lnTo>
                    <a:pt x="1015" y="115"/>
                  </a:lnTo>
                  <a:lnTo>
                    <a:pt x="1017" y="115"/>
                  </a:lnTo>
                  <a:lnTo>
                    <a:pt x="1018" y="115"/>
                  </a:lnTo>
                  <a:lnTo>
                    <a:pt x="1010" y="143"/>
                  </a:lnTo>
                  <a:lnTo>
                    <a:pt x="1004" y="172"/>
                  </a:lnTo>
                  <a:lnTo>
                    <a:pt x="997" y="201"/>
                  </a:lnTo>
                  <a:lnTo>
                    <a:pt x="992" y="228"/>
                  </a:lnTo>
                  <a:lnTo>
                    <a:pt x="987" y="256"/>
                  </a:lnTo>
                  <a:lnTo>
                    <a:pt x="981" y="282"/>
                  </a:lnTo>
                  <a:lnTo>
                    <a:pt x="976" y="308"/>
                  </a:lnTo>
                  <a:lnTo>
                    <a:pt x="971" y="335"/>
                  </a:lnTo>
                  <a:lnTo>
                    <a:pt x="966" y="361"/>
                  </a:lnTo>
                  <a:lnTo>
                    <a:pt x="961" y="388"/>
                  </a:lnTo>
                  <a:lnTo>
                    <a:pt x="957" y="413"/>
                  </a:lnTo>
                  <a:lnTo>
                    <a:pt x="953" y="440"/>
                  </a:lnTo>
                  <a:lnTo>
                    <a:pt x="948" y="468"/>
                  </a:lnTo>
                  <a:lnTo>
                    <a:pt x="943" y="495"/>
                  </a:lnTo>
                  <a:lnTo>
                    <a:pt x="939" y="524"/>
                  </a:lnTo>
                  <a:lnTo>
                    <a:pt x="934" y="552"/>
                  </a:lnTo>
                  <a:lnTo>
                    <a:pt x="940" y="552"/>
                  </a:lnTo>
                  <a:lnTo>
                    <a:pt x="946" y="552"/>
                  </a:lnTo>
                  <a:lnTo>
                    <a:pt x="954" y="552"/>
                  </a:lnTo>
                  <a:lnTo>
                    <a:pt x="963" y="552"/>
                  </a:lnTo>
                  <a:lnTo>
                    <a:pt x="973" y="552"/>
                  </a:lnTo>
                  <a:lnTo>
                    <a:pt x="983" y="553"/>
                  </a:lnTo>
                  <a:lnTo>
                    <a:pt x="994" y="553"/>
                  </a:lnTo>
                  <a:lnTo>
                    <a:pt x="1006" y="553"/>
                  </a:lnTo>
                  <a:lnTo>
                    <a:pt x="1018" y="554"/>
                  </a:lnTo>
                  <a:lnTo>
                    <a:pt x="1030" y="554"/>
                  </a:lnTo>
                  <a:lnTo>
                    <a:pt x="1042" y="554"/>
                  </a:lnTo>
                  <a:lnTo>
                    <a:pt x="1055" y="555"/>
                  </a:lnTo>
                  <a:lnTo>
                    <a:pt x="1067" y="555"/>
                  </a:lnTo>
                  <a:lnTo>
                    <a:pt x="1079" y="557"/>
                  </a:lnTo>
                  <a:lnTo>
                    <a:pt x="1090" y="557"/>
                  </a:lnTo>
                  <a:lnTo>
                    <a:pt x="1102" y="558"/>
                  </a:lnTo>
                  <a:lnTo>
                    <a:pt x="1117" y="557"/>
                  </a:lnTo>
                  <a:lnTo>
                    <a:pt x="1133" y="557"/>
                  </a:lnTo>
                  <a:lnTo>
                    <a:pt x="1150" y="557"/>
                  </a:lnTo>
                  <a:lnTo>
                    <a:pt x="1167" y="557"/>
                  </a:lnTo>
                  <a:lnTo>
                    <a:pt x="1185" y="555"/>
                  </a:lnTo>
                  <a:lnTo>
                    <a:pt x="1203" y="555"/>
                  </a:lnTo>
                  <a:lnTo>
                    <a:pt x="1220" y="554"/>
                  </a:lnTo>
                  <a:lnTo>
                    <a:pt x="1237" y="554"/>
                  </a:lnTo>
                  <a:lnTo>
                    <a:pt x="1253" y="554"/>
                  </a:lnTo>
                  <a:lnTo>
                    <a:pt x="1269" y="553"/>
                  </a:lnTo>
                  <a:lnTo>
                    <a:pt x="1283" y="553"/>
                  </a:lnTo>
                  <a:lnTo>
                    <a:pt x="1297" y="552"/>
                  </a:lnTo>
                  <a:lnTo>
                    <a:pt x="1308" y="552"/>
                  </a:lnTo>
                  <a:lnTo>
                    <a:pt x="1319" y="552"/>
                  </a:lnTo>
                  <a:lnTo>
                    <a:pt x="1326" y="552"/>
                  </a:lnTo>
                  <a:lnTo>
                    <a:pt x="1334" y="552"/>
                  </a:lnTo>
                  <a:lnTo>
                    <a:pt x="1337" y="524"/>
                  </a:lnTo>
                  <a:lnTo>
                    <a:pt x="1341" y="495"/>
                  </a:lnTo>
                  <a:lnTo>
                    <a:pt x="1345" y="468"/>
                  </a:lnTo>
                  <a:lnTo>
                    <a:pt x="1349" y="440"/>
                  </a:lnTo>
                  <a:lnTo>
                    <a:pt x="1352" y="413"/>
                  </a:lnTo>
                  <a:lnTo>
                    <a:pt x="1356" y="388"/>
                  </a:lnTo>
                  <a:lnTo>
                    <a:pt x="1360" y="361"/>
                  </a:lnTo>
                  <a:lnTo>
                    <a:pt x="1364" y="335"/>
                  </a:lnTo>
                  <a:lnTo>
                    <a:pt x="1367" y="308"/>
                  </a:lnTo>
                  <a:lnTo>
                    <a:pt x="1370" y="282"/>
                  </a:lnTo>
                  <a:lnTo>
                    <a:pt x="1375" y="256"/>
                  </a:lnTo>
                  <a:lnTo>
                    <a:pt x="1378" y="228"/>
                  </a:lnTo>
                  <a:lnTo>
                    <a:pt x="1381" y="201"/>
                  </a:lnTo>
                  <a:lnTo>
                    <a:pt x="1384" y="172"/>
                  </a:lnTo>
                  <a:lnTo>
                    <a:pt x="1387" y="143"/>
                  </a:lnTo>
                  <a:lnTo>
                    <a:pt x="1392" y="115"/>
                  </a:lnTo>
                  <a:lnTo>
                    <a:pt x="1394" y="115"/>
                  </a:lnTo>
                  <a:lnTo>
                    <a:pt x="1397" y="115"/>
                  </a:lnTo>
                  <a:lnTo>
                    <a:pt x="1401" y="115"/>
                  </a:lnTo>
                  <a:lnTo>
                    <a:pt x="1407" y="116"/>
                  </a:lnTo>
                  <a:lnTo>
                    <a:pt x="1412" y="116"/>
                  </a:lnTo>
                  <a:lnTo>
                    <a:pt x="1419" y="117"/>
                  </a:lnTo>
                  <a:lnTo>
                    <a:pt x="1426" y="118"/>
                  </a:lnTo>
                  <a:lnTo>
                    <a:pt x="1433" y="118"/>
                  </a:lnTo>
                  <a:lnTo>
                    <a:pt x="1441" y="119"/>
                  </a:lnTo>
                  <a:lnTo>
                    <a:pt x="1448" y="119"/>
                  </a:lnTo>
                  <a:lnTo>
                    <a:pt x="1455" y="120"/>
                  </a:lnTo>
                  <a:lnTo>
                    <a:pt x="1462" y="120"/>
                  </a:lnTo>
                  <a:lnTo>
                    <a:pt x="1469" y="120"/>
                  </a:lnTo>
                  <a:lnTo>
                    <a:pt x="1475" y="120"/>
                  </a:lnTo>
                  <a:lnTo>
                    <a:pt x="1480" y="121"/>
                  </a:lnTo>
                  <a:lnTo>
                    <a:pt x="1486" y="120"/>
                  </a:lnTo>
                  <a:lnTo>
                    <a:pt x="1492" y="120"/>
                  </a:lnTo>
                  <a:lnTo>
                    <a:pt x="1498" y="120"/>
                  </a:lnTo>
                  <a:lnTo>
                    <a:pt x="1506" y="120"/>
                  </a:lnTo>
                  <a:lnTo>
                    <a:pt x="1513" y="119"/>
                  </a:lnTo>
                  <a:lnTo>
                    <a:pt x="1522" y="119"/>
                  </a:lnTo>
                  <a:lnTo>
                    <a:pt x="1529" y="118"/>
                  </a:lnTo>
                  <a:lnTo>
                    <a:pt x="1537" y="118"/>
                  </a:lnTo>
                  <a:lnTo>
                    <a:pt x="1543" y="117"/>
                  </a:lnTo>
                  <a:lnTo>
                    <a:pt x="1550" y="116"/>
                  </a:lnTo>
                  <a:lnTo>
                    <a:pt x="1556" y="116"/>
                  </a:lnTo>
                  <a:lnTo>
                    <a:pt x="1561" y="115"/>
                  </a:lnTo>
                  <a:lnTo>
                    <a:pt x="1566" y="115"/>
                  </a:lnTo>
                  <a:lnTo>
                    <a:pt x="1569" y="115"/>
                  </a:lnTo>
                  <a:lnTo>
                    <a:pt x="1571" y="115"/>
                  </a:lnTo>
                  <a:lnTo>
                    <a:pt x="1572" y="115"/>
                  </a:lnTo>
                  <a:close/>
                  <a:moveTo>
                    <a:pt x="286" y="455"/>
                  </a:moveTo>
                  <a:lnTo>
                    <a:pt x="317" y="453"/>
                  </a:lnTo>
                  <a:lnTo>
                    <a:pt x="347" y="451"/>
                  </a:lnTo>
                  <a:lnTo>
                    <a:pt x="376" y="446"/>
                  </a:lnTo>
                  <a:lnTo>
                    <a:pt x="402" y="440"/>
                  </a:lnTo>
                  <a:lnTo>
                    <a:pt x="428" y="431"/>
                  </a:lnTo>
                  <a:lnTo>
                    <a:pt x="451" y="421"/>
                  </a:lnTo>
                  <a:lnTo>
                    <a:pt x="472" y="408"/>
                  </a:lnTo>
                  <a:lnTo>
                    <a:pt x="492" y="395"/>
                  </a:lnTo>
                  <a:lnTo>
                    <a:pt x="509" y="378"/>
                  </a:lnTo>
                  <a:lnTo>
                    <a:pt x="524" y="361"/>
                  </a:lnTo>
                  <a:lnTo>
                    <a:pt x="538" y="342"/>
                  </a:lnTo>
                  <a:lnTo>
                    <a:pt x="549" y="322"/>
                  </a:lnTo>
                  <a:lnTo>
                    <a:pt x="558" y="299"/>
                  </a:lnTo>
                  <a:lnTo>
                    <a:pt x="565" y="275"/>
                  </a:lnTo>
                  <a:lnTo>
                    <a:pt x="569" y="251"/>
                  </a:lnTo>
                  <a:lnTo>
                    <a:pt x="571" y="225"/>
                  </a:lnTo>
                  <a:lnTo>
                    <a:pt x="570" y="210"/>
                  </a:lnTo>
                  <a:lnTo>
                    <a:pt x="568" y="196"/>
                  </a:lnTo>
                  <a:lnTo>
                    <a:pt x="565" y="184"/>
                  </a:lnTo>
                  <a:lnTo>
                    <a:pt x="559" y="171"/>
                  </a:lnTo>
                  <a:lnTo>
                    <a:pt x="553" y="160"/>
                  </a:lnTo>
                  <a:lnTo>
                    <a:pt x="546" y="149"/>
                  </a:lnTo>
                  <a:lnTo>
                    <a:pt x="537" y="138"/>
                  </a:lnTo>
                  <a:lnTo>
                    <a:pt x="526" y="129"/>
                  </a:lnTo>
                  <a:lnTo>
                    <a:pt x="515" y="121"/>
                  </a:lnTo>
                  <a:lnTo>
                    <a:pt x="502" y="114"/>
                  </a:lnTo>
                  <a:lnTo>
                    <a:pt x="488" y="107"/>
                  </a:lnTo>
                  <a:lnTo>
                    <a:pt x="472" y="102"/>
                  </a:lnTo>
                  <a:lnTo>
                    <a:pt x="455" y="98"/>
                  </a:lnTo>
                  <a:lnTo>
                    <a:pt x="438" y="95"/>
                  </a:lnTo>
                  <a:lnTo>
                    <a:pt x="418" y="93"/>
                  </a:lnTo>
                  <a:lnTo>
                    <a:pt x="398" y="93"/>
                  </a:lnTo>
                  <a:lnTo>
                    <a:pt x="392" y="93"/>
                  </a:lnTo>
                  <a:lnTo>
                    <a:pt x="386" y="93"/>
                  </a:lnTo>
                  <a:lnTo>
                    <a:pt x="380" y="93"/>
                  </a:lnTo>
                  <a:lnTo>
                    <a:pt x="375" y="93"/>
                  </a:lnTo>
                  <a:lnTo>
                    <a:pt x="369" y="93"/>
                  </a:lnTo>
                  <a:lnTo>
                    <a:pt x="365" y="93"/>
                  </a:lnTo>
                  <a:lnTo>
                    <a:pt x="360" y="93"/>
                  </a:lnTo>
                  <a:lnTo>
                    <a:pt x="355" y="93"/>
                  </a:lnTo>
                  <a:lnTo>
                    <a:pt x="351" y="93"/>
                  </a:lnTo>
                  <a:lnTo>
                    <a:pt x="347" y="93"/>
                  </a:lnTo>
                  <a:lnTo>
                    <a:pt x="343" y="93"/>
                  </a:lnTo>
                  <a:lnTo>
                    <a:pt x="339" y="93"/>
                  </a:lnTo>
                  <a:lnTo>
                    <a:pt x="336" y="93"/>
                  </a:lnTo>
                  <a:lnTo>
                    <a:pt x="333" y="93"/>
                  </a:lnTo>
                  <a:lnTo>
                    <a:pt x="331" y="93"/>
                  </a:lnTo>
                  <a:lnTo>
                    <a:pt x="329" y="93"/>
                  </a:lnTo>
                  <a:lnTo>
                    <a:pt x="322" y="121"/>
                  </a:lnTo>
                  <a:lnTo>
                    <a:pt x="318" y="146"/>
                  </a:lnTo>
                  <a:lnTo>
                    <a:pt x="314" y="170"/>
                  </a:lnTo>
                  <a:lnTo>
                    <a:pt x="310" y="193"/>
                  </a:lnTo>
                  <a:lnTo>
                    <a:pt x="305" y="213"/>
                  </a:lnTo>
                  <a:lnTo>
                    <a:pt x="302" y="233"/>
                  </a:lnTo>
                  <a:lnTo>
                    <a:pt x="299" y="253"/>
                  </a:lnTo>
                  <a:lnTo>
                    <a:pt x="297" y="271"/>
                  </a:lnTo>
                  <a:lnTo>
                    <a:pt x="294" y="291"/>
                  </a:lnTo>
                  <a:lnTo>
                    <a:pt x="290" y="309"/>
                  </a:lnTo>
                  <a:lnTo>
                    <a:pt x="287" y="330"/>
                  </a:lnTo>
                  <a:lnTo>
                    <a:pt x="284" y="351"/>
                  </a:lnTo>
                  <a:lnTo>
                    <a:pt x="281" y="374"/>
                  </a:lnTo>
                  <a:lnTo>
                    <a:pt x="277" y="398"/>
                  </a:lnTo>
                  <a:lnTo>
                    <a:pt x="273" y="425"/>
                  </a:lnTo>
                  <a:lnTo>
                    <a:pt x="269" y="455"/>
                  </a:lnTo>
                  <a:lnTo>
                    <a:pt x="270" y="455"/>
                  </a:lnTo>
                  <a:lnTo>
                    <a:pt x="271" y="455"/>
                  </a:lnTo>
                  <a:lnTo>
                    <a:pt x="272" y="455"/>
                  </a:lnTo>
                  <a:lnTo>
                    <a:pt x="273" y="455"/>
                  </a:lnTo>
                  <a:lnTo>
                    <a:pt x="274" y="455"/>
                  </a:lnTo>
                  <a:lnTo>
                    <a:pt x="275" y="455"/>
                  </a:lnTo>
                  <a:lnTo>
                    <a:pt x="276" y="455"/>
                  </a:lnTo>
                  <a:lnTo>
                    <a:pt x="277" y="455"/>
                  </a:lnTo>
                  <a:lnTo>
                    <a:pt x="279" y="455"/>
                  </a:lnTo>
                  <a:lnTo>
                    <a:pt x="280" y="455"/>
                  </a:lnTo>
                  <a:lnTo>
                    <a:pt x="281" y="455"/>
                  </a:lnTo>
                  <a:lnTo>
                    <a:pt x="282" y="455"/>
                  </a:lnTo>
                  <a:lnTo>
                    <a:pt x="284" y="455"/>
                  </a:lnTo>
                  <a:lnTo>
                    <a:pt x="285" y="455"/>
                  </a:lnTo>
                  <a:lnTo>
                    <a:pt x="286" y="4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6557400" y="6266160"/>
              <a:ext cx="181440" cy="234360"/>
            </a:xfrm>
            <a:custGeom>
              <a:avLst/>
              <a:gdLst/>
              <a:ahLst/>
              <a:rect l="l" t="t" r="r" b="b"/>
              <a:pathLst>
                <a:path w="928" h="1092">
                  <a:moveTo>
                    <a:pt x="928" y="433"/>
                  </a:moveTo>
                  <a:lnTo>
                    <a:pt x="924" y="487"/>
                  </a:lnTo>
                  <a:lnTo>
                    <a:pt x="918" y="543"/>
                  </a:lnTo>
                  <a:lnTo>
                    <a:pt x="907" y="600"/>
                  </a:lnTo>
                  <a:lnTo>
                    <a:pt x="891" y="656"/>
                  </a:lnTo>
                  <a:lnTo>
                    <a:pt x="871" y="713"/>
                  </a:lnTo>
                  <a:lnTo>
                    <a:pt x="848" y="767"/>
                  </a:lnTo>
                  <a:lnTo>
                    <a:pt x="819" y="820"/>
                  </a:lnTo>
                  <a:lnTo>
                    <a:pt x="787" y="869"/>
                  </a:lnTo>
                  <a:lnTo>
                    <a:pt x="749" y="916"/>
                  </a:lnTo>
                  <a:lnTo>
                    <a:pt x="708" y="959"/>
                  </a:lnTo>
                  <a:lnTo>
                    <a:pt x="663" y="996"/>
                  </a:lnTo>
                  <a:lnTo>
                    <a:pt x="614" y="1029"/>
                  </a:lnTo>
                  <a:lnTo>
                    <a:pt x="560" y="1055"/>
                  </a:lnTo>
                  <a:lnTo>
                    <a:pt x="502" y="1074"/>
                  </a:lnTo>
                  <a:lnTo>
                    <a:pt x="442" y="1087"/>
                  </a:lnTo>
                  <a:lnTo>
                    <a:pt x="376" y="1092"/>
                  </a:lnTo>
                  <a:lnTo>
                    <a:pt x="334" y="1090"/>
                  </a:lnTo>
                  <a:lnTo>
                    <a:pt x="294" y="1084"/>
                  </a:lnTo>
                  <a:lnTo>
                    <a:pt x="257" y="1074"/>
                  </a:lnTo>
                  <a:lnTo>
                    <a:pt x="220" y="1062"/>
                  </a:lnTo>
                  <a:lnTo>
                    <a:pt x="187" y="1046"/>
                  </a:lnTo>
                  <a:lnTo>
                    <a:pt x="156" y="1026"/>
                  </a:lnTo>
                  <a:lnTo>
                    <a:pt x="128" y="1002"/>
                  </a:lnTo>
                  <a:lnTo>
                    <a:pt x="102" y="977"/>
                  </a:lnTo>
                  <a:lnTo>
                    <a:pt x="79" y="947"/>
                  </a:lnTo>
                  <a:lnTo>
                    <a:pt x="58" y="915"/>
                  </a:lnTo>
                  <a:lnTo>
                    <a:pt x="41" y="880"/>
                  </a:lnTo>
                  <a:lnTo>
                    <a:pt x="26" y="842"/>
                  </a:lnTo>
                  <a:lnTo>
                    <a:pt x="15" y="800"/>
                  </a:lnTo>
                  <a:lnTo>
                    <a:pt x="7" y="756"/>
                  </a:lnTo>
                  <a:lnTo>
                    <a:pt x="1" y="711"/>
                  </a:lnTo>
                  <a:lnTo>
                    <a:pt x="0" y="662"/>
                  </a:lnTo>
                  <a:lnTo>
                    <a:pt x="3" y="607"/>
                  </a:lnTo>
                  <a:lnTo>
                    <a:pt x="9" y="550"/>
                  </a:lnTo>
                  <a:lnTo>
                    <a:pt x="21" y="492"/>
                  </a:lnTo>
                  <a:lnTo>
                    <a:pt x="36" y="436"/>
                  </a:lnTo>
                  <a:lnTo>
                    <a:pt x="56" y="379"/>
                  </a:lnTo>
                  <a:lnTo>
                    <a:pt x="81" y="324"/>
                  </a:lnTo>
                  <a:lnTo>
                    <a:pt x="109" y="272"/>
                  </a:lnTo>
                  <a:lnTo>
                    <a:pt x="142" y="221"/>
                  </a:lnTo>
                  <a:lnTo>
                    <a:pt x="180" y="175"/>
                  </a:lnTo>
                  <a:lnTo>
                    <a:pt x="220" y="133"/>
                  </a:lnTo>
                  <a:lnTo>
                    <a:pt x="266" y="95"/>
                  </a:lnTo>
                  <a:lnTo>
                    <a:pt x="316" y="62"/>
                  </a:lnTo>
                  <a:lnTo>
                    <a:pt x="369" y="36"/>
                  </a:lnTo>
                  <a:lnTo>
                    <a:pt x="427" y="16"/>
                  </a:lnTo>
                  <a:lnTo>
                    <a:pt x="488" y="4"/>
                  </a:lnTo>
                  <a:lnTo>
                    <a:pt x="554" y="0"/>
                  </a:lnTo>
                  <a:lnTo>
                    <a:pt x="595" y="1"/>
                  </a:lnTo>
                  <a:lnTo>
                    <a:pt x="636" y="7"/>
                  </a:lnTo>
                  <a:lnTo>
                    <a:pt x="673" y="16"/>
                  </a:lnTo>
                  <a:lnTo>
                    <a:pt x="709" y="29"/>
                  </a:lnTo>
                  <a:lnTo>
                    <a:pt x="742" y="45"/>
                  </a:lnTo>
                  <a:lnTo>
                    <a:pt x="773" y="66"/>
                  </a:lnTo>
                  <a:lnTo>
                    <a:pt x="802" y="89"/>
                  </a:lnTo>
                  <a:lnTo>
                    <a:pt x="827" y="115"/>
                  </a:lnTo>
                  <a:lnTo>
                    <a:pt x="850" y="144"/>
                  </a:lnTo>
                  <a:lnTo>
                    <a:pt x="870" y="177"/>
                  </a:lnTo>
                  <a:lnTo>
                    <a:pt x="887" y="212"/>
                  </a:lnTo>
                  <a:lnTo>
                    <a:pt x="901" y="251"/>
                  </a:lnTo>
                  <a:lnTo>
                    <a:pt x="913" y="293"/>
                  </a:lnTo>
                  <a:lnTo>
                    <a:pt x="920" y="337"/>
                  </a:lnTo>
                  <a:lnTo>
                    <a:pt x="925" y="383"/>
                  </a:lnTo>
                  <a:lnTo>
                    <a:pt x="928" y="433"/>
                  </a:lnTo>
                  <a:close/>
                  <a:moveTo>
                    <a:pt x="752" y="418"/>
                  </a:moveTo>
                  <a:lnTo>
                    <a:pt x="751" y="388"/>
                  </a:lnTo>
                  <a:lnTo>
                    <a:pt x="750" y="359"/>
                  </a:lnTo>
                  <a:lnTo>
                    <a:pt x="747" y="331"/>
                  </a:lnTo>
                  <a:lnTo>
                    <a:pt x="744" y="303"/>
                  </a:lnTo>
                  <a:lnTo>
                    <a:pt x="739" y="275"/>
                  </a:lnTo>
                  <a:lnTo>
                    <a:pt x="731" y="248"/>
                  </a:lnTo>
                  <a:lnTo>
                    <a:pt x="723" y="224"/>
                  </a:lnTo>
                  <a:lnTo>
                    <a:pt x="712" y="200"/>
                  </a:lnTo>
                  <a:lnTo>
                    <a:pt x="699" y="178"/>
                  </a:lnTo>
                  <a:lnTo>
                    <a:pt x="684" y="158"/>
                  </a:lnTo>
                  <a:lnTo>
                    <a:pt x="667" y="140"/>
                  </a:lnTo>
                  <a:lnTo>
                    <a:pt x="647" y="126"/>
                  </a:lnTo>
                  <a:lnTo>
                    <a:pt x="624" y="113"/>
                  </a:lnTo>
                  <a:lnTo>
                    <a:pt x="599" y="105"/>
                  </a:lnTo>
                  <a:lnTo>
                    <a:pt x="571" y="99"/>
                  </a:lnTo>
                  <a:lnTo>
                    <a:pt x="540" y="98"/>
                  </a:lnTo>
                  <a:lnTo>
                    <a:pt x="495" y="102"/>
                  </a:lnTo>
                  <a:lnTo>
                    <a:pt x="454" y="113"/>
                  </a:lnTo>
                  <a:lnTo>
                    <a:pt x="416" y="133"/>
                  </a:lnTo>
                  <a:lnTo>
                    <a:pt x="381" y="158"/>
                  </a:lnTo>
                  <a:lnTo>
                    <a:pt x="348" y="188"/>
                  </a:lnTo>
                  <a:lnTo>
                    <a:pt x="318" y="224"/>
                  </a:lnTo>
                  <a:lnTo>
                    <a:pt x="291" y="264"/>
                  </a:lnTo>
                  <a:lnTo>
                    <a:pt x="267" y="307"/>
                  </a:lnTo>
                  <a:lnTo>
                    <a:pt x="246" y="352"/>
                  </a:lnTo>
                  <a:lnTo>
                    <a:pt x="228" y="399"/>
                  </a:lnTo>
                  <a:lnTo>
                    <a:pt x="213" y="447"/>
                  </a:lnTo>
                  <a:lnTo>
                    <a:pt x="200" y="495"/>
                  </a:lnTo>
                  <a:lnTo>
                    <a:pt x="191" y="543"/>
                  </a:lnTo>
                  <a:lnTo>
                    <a:pt x="184" y="590"/>
                  </a:lnTo>
                  <a:lnTo>
                    <a:pt x="180" y="635"/>
                  </a:lnTo>
                  <a:lnTo>
                    <a:pt x="179" y="677"/>
                  </a:lnTo>
                  <a:lnTo>
                    <a:pt x="179" y="705"/>
                  </a:lnTo>
                  <a:lnTo>
                    <a:pt x="180" y="733"/>
                  </a:lnTo>
                  <a:lnTo>
                    <a:pt x="183" y="762"/>
                  </a:lnTo>
                  <a:lnTo>
                    <a:pt x="187" y="790"/>
                  </a:lnTo>
                  <a:lnTo>
                    <a:pt x="193" y="818"/>
                  </a:lnTo>
                  <a:lnTo>
                    <a:pt x="200" y="845"/>
                  </a:lnTo>
                  <a:lnTo>
                    <a:pt x="209" y="869"/>
                  </a:lnTo>
                  <a:lnTo>
                    <a:pt x="220" y="893"/>
                  </a:lnTo>
                  <a:lnTo>
                    <a:pt x="233" y="915"/>
                  </a:lnTo>
                  <a:lnTo>
                    <a:pt x="248" y="935"/>
                  </a:lnTo>
                  <a:lnTo>
                    <a:pt x="265" y="953"/>
                  </a:lnTo>
                  <a:lnTo>
                    <a:pt x="285" y="968"/>
                  </a:lnTo>
                  <a:lnTo>
                    <a:pt x="307" y="980"/>
                  </a:lnTo>
                  <a:lnTo>
                    <a:pt x="333" y="989"/>
                  </a:lnTo>
                  <a:lnTo>
                    <a:pt x="360" y="995"/>
                  </a:lnTo>
                  <a:lnTo>
                    <a:pt x="391" y="997"/>
                  </a:lnTo>
                  <a:lnTo>
                    <a:pt x="435" y="992"/>
                  </a:lnTo>
                  <a:lnTo>
                    <a:pt x="476" y="981"/>
                  </a:lnTo>
                  <a:lnTo>
                    <a:pt x="514" y="961"/>
                  </a:lnTo>
                  <a:lnTo>
                    <a:pt x="549" y="936"/>
                  </a:lnTo>
                  <a:lnTo>
                    <a:pt x="582" y="906"/>
                  </a:lnTo>
                  <a:lnTo>
                    <a:pt x="611" y="870"/>
                  </a:lnTo>
                  <a:lnTo>
                    <a:pt x="638" y="830"/>
                  </a:lnTo>
                  <a:lnTo>
                    <a:pt x="662" y="788"/>
                  </a:lnTo>
                  <a:lnTo>
                    <a:pt x="683" y="742"/>
                  </a:lnTo>
                  <a:lnTo>
                    <a:pt x="701" y="695"/>
                  </a:lnTo>
                  <a:lnTo>
                    <a:pt x="716" y="647"/>
                  </a:lnTo>
                  <a:lnTo>
                    <a:pt x="729" y="599"/>
                  </a:lnTo>
                  <a:lnTo>
                    <a:pt x="739" y="551"/>
                  </a:lnTo>
                  <a:lnTo>
                    <a:pt x="746" y="504"/>
                  </a:lnTo>
                  <a:lnTo>
                    <a:pt x="750" y="459"/>
                  </a:lnTo>
                  <a:lnTo>
                    <a:pt x="752" y="4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6887160" y="6307560"/>
              <a:ext cx="143640" cy="234360"/>
            </a:xfrm>
            <a:custGeom>
              <a:avLst/>
              <a:gdLst/>
              <a:ahLst/>
              <a:rect l="l" t="t" r="r" b="b"/>
              <a:pathLst>
                <a:path w="735" h="1093">
                  <a:moveTo>
                    <a:pt x="735" y="77"/>
                  </a:moveTo>
                  <a:lnTo>
                    <a:pt x="730" y="84"/>
                  </a:lnTo>
                  <a:lnTo>
                    <a:pt x="727" y="92"/>
                  </a:lnTo>
                  <a:lnTo>
                    <a:pt x="724" y="100"/>
                  </a:lnTo>
                  <a:lnTo>
                    <a:pt x="721" y="110"/>
                  </a:lnTo>
                  <a:lnTo>
                    <a:pt x="718" y="119"/>
                  </a:lnTo>
                  <a:lnTo>
                    <a:pt x="714" y="128"/>
                  </a:lnTo>
                  <a:lnTo>
                    <a:pt x="711" y="138"/>
                  </a:lnTo>
                  <a:lnTo>
                    <a:pt x="708" y="147"/>
                  </a:lnTo>
                  <a:lnTo>
                    <a:pt x="705" y="155"/>
                  </a:lnTo>
                  <a:lnTo>
                    <a:pt x="701" y="164"/>
                  </a:lnTo>
                  <a:lnTo>
                    <a:pt x="699" y="174"/>
                  </a:lnTo>
                  <a:lnTo>
                    <a:pt x="697" y="183"/>
                  </a:lnTo>
                  <a:lnTo>
                    <a:pt x="695" y="192"/>
                  </a:lnTo>
                  <a:lnTo>
                    <a:pt x="693" y="200"/>
                  </a:lnTo>
                  <a:lnTo>
                    <a:pt x="692" y="209"/>
                  </a:lnTo>
                  <a:lnTo>
                    <a:pt x="691" y="217"/>
                  </a:lnTo>
                  <a:lnTo>
                    <a:pt x="667" y="217"/>
                  </a:lnTo>
                  <a:lnTo>
                    <a:pt x="666" y="214"/>
                  </a:lnTo>
                  <a:lnTo>
                    <a:pt x="665" y="210"/>
                  </a:lnTo>
                  <a:lnTo>
                    <a:pt x="662" y="203"/>
                  </a:lnTo>
                  <a:lnTo>
                    <a:pt x="659" y="195"/>
                  </a:lnTo>
                  <a:lnTo>
                    <a:pt x="653" y="185"/>
                  </a:lnTo>
                  <a:lnTo>
                    <a:pt x="647" y="175"/>
                  </a:lnTo>
                  <a:lnTo>
                    <a:pt x="640" y="164"/>
                  </a:lnTo>
                  <a:lnTo>
                    <a:pt x="631" y="153"/>
                  </a:lnTo>
                  <a:lnTo>
                    <a:pt x="620" y="142"/>
                  </a:lnTo>
                  <a:lnTo>
                    <a:pt x="607" y="130"/>
                  </a:lnTo>
                  <a:lnTo>
                    <a:pt x="594" y="120"/>
                  </a:lnTo>
                  <a:lnTo>
                    <a:pt x="578" y="112"/>
                  </a:lnTo>
                  <a:lnTo>
                    <a:pt x="560" y="104"/>
                  </a:lnTo>
                  <a:lnTo>
                    <a:pt x="541" y="97"/>
                  </a:lnTo>
                  <a:lnTo>
                    <a:pt x="520" y="94"/>
                  </a:lnTo>
                  <a:lnTo>
                    <a:pt x="496" y="93"/>
                  </a:lnTo>
                  <a:lnTo>
                    <a:pt x="474" y="93"/>
                  </a:lnTo>
                  <a:lnTo>
                    <a:pt x="454" y="96"/>
                  </a:lnTo>
                  <a:lnTo>
                    <a:pt x="433" y="100"/>
                  </a:lnTo>
                  <a:lnTo>
                    <a:pt x="415" y="107"/>
                  </a:lnTo>
                  <a:lnTo>
                    <a:pt x="398" y="115"/>
                  </a:lnTo>
                  <a:lnTo>
                    <a:pt x="381" y="124"/>
                  </a:lnTo>
                  <a:lnTo>
                    <a:pt x="366" y="133"/>
                  </a:lnTo>
                  <a:lnTo>
                    <a:pt x="352" y="146"/>
                  </a:lnTo>
                  <a:lnTo>
                    <a:pt x="340" y="158"/>
                  </a:lnTo>
                  <a:lnTo>
                    <a:pt x="329" y="172"/>
                  </a:lnTo>
                  <a:lnTo>
                    <a:pt x="319" y="186"/>
                  </a:lnTo>
                  <a:lnTo>
                    <a:pt x="312" y="201"/>
                  </a:lnTo>
                  <a:lnTo>
                    <a:pt x="305" y="217"/>
                  </a:lnTo>
                  <a:lnTo>
                    <a:pt x="301" y="233"/>
                  </a:lnTo>
                  <a:lnTo>
                    <a:pt x="298" y="250"/>
                  </a:lnTo>
                  <a:lnTo>
                    <a:pt x="298" y="267"/>
                  </a:lnTo>
                  <a:lnTo>
                    <a:pt x="299" y="287"/>
                  </a:lnTo>
                  <a:lnTo>
                    <a:pt x="302" y="305"/>
                  </a:lnTo>
                  <a:lnTo>
                    <a:pt x="306" y="323"/>
                  </a:lnTo>
                  <a:lnTo>
                    <a:pt x="314" y="338"/>
                  </a:lnTo>
                  <a:lnTo>
                    <a:pt x="322" y="353"/>
                  </a:lnTo>
                  <a:lnTo>
                    <a:pt x="333" y="366"/>
                  </a:lnTo>
                  <a:lnTo>
                    <a:pt x="344" y="379"/>
                  </a:lnTo>
                  <a:lnTo>
                    <a:pt x="356" y="391"/>
                  </a:lnTo>
                  <a:lnTo>
                    <a:pt x="370" y="401"/>
                  </a:lnTo>
                  <a:lnTo>
                    <a:pt x="384" y="412"/>
                  </a:lnTo>
                  <a:lnTo>
                    <a:pt x="399" y="422"/>
                  </a:lnTo>
                  <a:lnTo>
                    <a:pt x="415" y="431"/>
                  </a:lnTo>
                  <a:lnTo>
                    <a:pt x="430" y="440"/>
                  </a:lnTo>
                  <a:lnTo>
                    <a:pt x="446" y="449"/>
                  </a:lnTo>
                  <a:lnTo>
                    <a:pt x="462" y="458"/>
                  </a:lnTo>
                  <a:lnTo>
                    <a:pt x="478" y="467"/>
                  </a:lnTo>
                  <a:lnTo>
                    <a:pt x="487" y="470"/>
                  </a:lnTo>
                  <a:lnTo>
                    <a:pt x="495" y="475"/>
                  </a:lnTo>
                  <a:lnTo>
                    <a:pt x="504" y="480"/>
                  </a:lnTo>
                  <a:lnTo>
                    <a:pt x="512" y="484"/>
                  </a:lnTo>
                  <a:lnTo>
                    <a:pt x="520" y="488"/>
                  </a:lnTo>
                  <a:lnTo>
                    <a:pt x="528" y="493"/>
                  </a:lnTo>
                  <a:lnTo>
                    <a:pt x="537" y="498"/>
                  </a:lnTo>
                  <a:lnTo>
                    <a:pt x="546" y="503"/>
                  </a:lnTo>
                  <a:lnTo>
                    <a:pt x="553" y="508"/>
                  </a:lnTo>
                  <a:lnTo>
                    <a:pt x="560" y="514"/>
                  </a:lnTo>
                  <a:lnTo>
                    <a:pt x="569" y="520"/>
                  </a:lnTo>
                  <a:lnTo>
                    <a:pt x="577" y="525"/>
                  </a:lnTo>
                  <a:lnTo>
                    <a:pt x="583" y="532"/>
                  </a:lnTo>
                  <a:lnTo>
                    <a:pt x="590" y="538"/>
                  </a:lnTo>
                  <a:lnTo>
                    <a:pt x="597" y="546"/>
                  </a:lnTo>
                  <a:lnTo>
                    <a:pt x="604" y="553"/>
                  </a:lnTo>
                  <a:lnTo>
                    <a:pt x="611" y="560"/>
                  </a:lnTo>
                  <a:lnTo>
                    <a:pt x="616" y="567"/>
                  </a:lnTo>
                  <a:lnTo>
                    <a:pt x="622" y="575"/>
                  </a:lnTo>
                  <a:lnTo>
                    <a:pt x="628" y="584"/>
                  </a:lnTo>
                  <a:lnTo>
                    <a:pt x="633" y="593"/>
                  </a:lnTo>
                  <a:lnTo>
                    <a:pt x="638" y="602"/>
                  </a:lnTo>
                  <a:lnTo>
                    <a:pt x="643" y="612"/>
                  </a:lnTo>
                  <a:lnTo>
                    <a:pt x="647" y="623"/>
                  </a:lnTo>
                  <a:lnTo>
                    <a:pt x="651" y="633"/>
                  </a:lnTo>
                  <a:lnTo>
                    <a:pt x="654" y="645"/>
                  </a:lnTo>
                  <a:lnTo>
                    <a:pt x="658" y="658"/>
                  </a:lnTo>
                  <a:lnTo>
                    <a:pt x="660" y="670"/>
                  </a:lnTo>
                  <a:lnTo>
                    <a:pt x="662" y="684"/>
                  </a:lnTo>
                  <a:lnTo>
                    <a:pt x="663" y="698"/>
                  </a:lnTo>
                  <a:lnTo>
                    <a:pt x="664" y="712"/>
                  </a:lnTo>
                  <a:lnTo>
                    <a:pt x="665" y="729"/>
                  </a:lnTo>
                  <a:lnTo>
                    <a:pt x="663" y="761"/>
                  </a:lnTo>
                  <a:lnTo>
                    <a:pt x="658" y="793"/>
                  </a:lnTo>
                  <a:lnTo>
                    <a:pt x="649" y="825"/>
                  </a:lnTo>
                  <a:lnTo>
                    <a:pt x="637" y="857"/>
                  </a:lnTo>
                  <a:lnTo>
                    <a:pt x="621" y="888"/>
                  </a:lnTo>
                  <a:lnTo>
                    <a:pt x="603" y="918"/>
                  </a:lnTo>
                  <a:lnTo>
                    <a:pt x="581" y="947"/>
                  </a:lnTo>
                  <a:lnTo>
                    <a:pt x="556" y="974"/>
                  </a:lnTo>
                  <a:lnTo>
                    <a:pt x="528" y="999"/>
                  </a:lnTo>
                  <a:lnTo>
                    <a:pt x="497" y="1022"/>
                  </a:lnTo>
                  <a:lnTo>
                    <a:pt x="463" y="1042"/>
                  </a:lnTo>
                  <a:lnTo>
                    <a:pt x="427" y="1060"/>
                  </a:lnTo>
                  <a:lnTo>
                    <a:pt x="387" y="1073"/>
                  </a:lnTo>
                  <a:lnTo>
                    <a:pt x="345" y="1083"/>
                  </a:lnTo>
                  <a:lnTo>
                    <a:pt x="300" y="1090"/>
                  </a:lnTo>
                  <a:lnTo>
                    <a:pt x="253" y="1093"/>
                  </a:lnTo>
                  <a:lnTo>
                    <a:pt x="227" y="1092"/>
                  </a:lnTo>
                  <a:lnTo>
                    <a:pt x="203" y="1088"/>
                  </a:lnTo>
                  <a:lnTo>
                    <a:pt x="178" y="1084"/>
                  </a:lnTo>
                  <a:lnTo>
                    <a:pt x="156" y="1078"/>
                  </a:lnTo>
                  <a:lnTo>
                    <a:pt x="133" y="1072"/>
                  </a:lnTo>
                  <a:lnTo>
                    <a:pt x="113" y="1064"/>
                  </a:lnTo>
                  <a:lnTo>
                    <a:pt x="93" y="1057"/>
                  </a:lnTo>
                  <a:lnTo>
                    <a:pt x="74" y="1048"/>
                  </a:lnTo>
                  <a:lnTo>
                    <a:pt x="58" y="1039"/>
                  </a:lnTo>
                  <a:lnTo>
                    <a:pt x="43" y="1032"/>
                  </a:lnTo>
                  <a:lnTo>
                    <a:pt x="31" y="1024"/>
                  </a:lnTo>
                  <a:lnTo>
                    <a:pt x="20" y="1017"/>
                  </a:lnTo>
                  <a:lnTo>
                    <a:pt x="10" y="1011"/>
                  </a:lnTo>
                  <a:lnTo>
                    <a:pt x="4" y="1007"/>
                  </a:lnTo>
                  <a:lnTo>
                    <a:pt x="1" y="1004"/>
                  </a:lnTo>
                  <a:lnTo>
                    <a:pt x="0" y="1004"/>
                  </a:lnTo>
                  <a:lnTo>
                    <a:pt x="3" y="996"/>
                  </a:lnTo>
                  <a:lnTo>
                    <a:pt x="6" y="988"/>
                  </a:lnTo>
                  <a:lnTo>
                    <a:pt x="9" y="978"/>
                  </a:lnTo>
                  <a:lnTo>
                    <a:pt x="12" y="969"/>
                  </a:lnTo>
                  <a:lnTo>
                    <a:pt x="16" y="960"/>
                  </a:lnTo>
                  <a:lnTo>
                    <a:pt x="20" y="950"/>
                  </a:lnTo>
                  <a:lnTo>
                    <a:pt x="23" y="940"/>
                  </a:lnTo>
                  <a:lnTo>
                    <a:pt x="26" y="931"/>
                  </a:lnTo>
                  <a:lnTo>
                    <a:pt x="30" y="921"/>
                  </a:lnTo>
                  <a:lnTo>
                    <a:pt x="32" y="911"/>
                  </a:lnTo>
                  <a:lnTo>
                    <a:pt x="35" y="902"/>
                  </a:lnTo>
                  <a:lnTo>
                    <a:pt x="37" y="893"/>
                  </a:lnTo>
                  <a:lnTo>
                    <a:pt x="39" y="884"/>
                  </a:lnTo>
                  <a:lnTo>
                    <a:pt x="41" y="875"/>
                  </a:lnTo>
                  <a:lnTo>
                    <a:pt x="42" y="868"/>
                  </a:lnTo>
                  <a:lnTo>
                    <a:pt x="45" y="861"/>
                  </a:lnTo>
                  <a:lnTo>
                    <a:pt x="68" y="861"/>
                  </a:lnTo>
                  <a:lnTo>
                    <a:pt x="68" y="862"/>
                  </a:lnTo>
                  <a:lnTo>
                    <a:pt x="70" y="867"/>
                  </a:lnTo>
                  <a:lnTo>
                    <a:pt x="74" y="873"/>
                  </a:lnTo>
                  <a:lnTo>
                    <a:pt x="79" y="882"/>
                  </a:lnTo>
                  <a:lnTo>
                    <a:pt x="86" y="893"/>
                  </a:lnTo>
                  <a:lnTo>
                    <a:pt x="94" y="904"/>
                  </a:lnTo>
                  <a:lnTo>
                    <a:pt x="103" y="916"/>
                  </a:lnTo>
                  <a:lnTo>
                    <a:pt x="115" y="929"/>
                  </a:lnTo>
                  <a:lnTo>
                    <a:pt x="128" y="941"/>
                  </a:lnTo>
                  <a:lnTo>
                    <a:pt x="143" y="954"/>
                  </a:lnTo>
                  <a:lnTo>
                    <a:pt x="159" y="965"/>
                  </a:lnTo>
                  <a:lnTo>
                    <a:pt x="177" y="974"/>
                  </a:lnTo>
                  <a:lnTo>
                    <a:pt x="196" y="983"/>
                  </a:lnTo>
                  <a:lnTo>
                    <a:pt x="218" y="990"/>
                  </a:lnTo>
                  <a:lnTo>
                    <a:pt x="241" y="994"/>
                  </a:lnTo>
                  <a:lnTo>
                    <a:pt x="267" y="996"/>
                  </a:lnTo>
                  <a:lnTo>
                    <a:pt x="292" y="994"/>
                  </a:lnTo>
                  <a:lnTo>
                    <a:pt x="316" y="990"/>
                  </a:lnTo>
                  <a:lnTo>
                    <a:pt x="339" y="983"/>
                  </a:lnTo>
                  <a:lnTo>
                    <a:pt x="362" y="975"/>
                  </a:lnTo>
                  <a:lnTo>
                    <a:pt x="382" y="965"/>
                  </a:lnTo>
                  <a:lnTo>
                    <a:pt x="401" y="952"/>
                  </a:lnTo>
                  <a:lnTo>
                    <a:pt x="418" y="938"/>
                  </a:lnTo>
                  <a:lnTo>
                    <a:pt x="434" y="923"/>
                  </a:lnTo>
                  <a:lnTo>
                    <a:pt x="449" y="906"/>
                  </a:lnTo>
                  <a:lnTo>
                    <a:pt x="461" y="889"/>
                  </a:lnTo>
                  <a:lnTo>
                    <a:pt x="473" y="870"/>
                  </a:lnTo>
                  <a:lnTo>
                    <a:pt x="481" y="850"/>
                  </a:lnTo>
                  <a:lnTo>
                    <a:pt x="489" y="831"/>
                  </a:lnTo>
                  <a:lnTo>
                    <a:pt x="494" y="810"/>
                  </a:lnTo>
                  <a:lnTo>
                    <a:pt x="497" y="791"/>
                  </a:lnTo>
                  <a:lnTo>
                    <a:pt x="499" y="771"/>
                  </a:lnTo>
                  <a:lnTo>
                    <a:pt x="497" y="758"/>
                  </a:lnTo>
                  <a:lnTo>
                    <a:pt x="496" y="745"/>
                  </a:lnTo>
                  <a:lnTo>
                    <a:pt x="493" y="734"/>
                  </a:lnTo>
                  <a:lnTo>
                    <a:pt x="490" y="724"/>
                  </a:lnTo>
                  <a:lnTo>
                    <a:pt x="486" y="713"/>
                  </a:lnTo>
                  <a:lnTo>
                    <a:pt x="480" y="704"/>
                  </a:lnTo>
                  <a:lnTo>
                    <a:pt x="475" y="695"/>
                  </a:lnTo>
                  <a:lnTo>
                    <a:pt x="468" y="687"/>
                  </a:lnTo>
                  <a:lnTo>
                    <a:pt x="461" y="679"/>
                  </a:lnTo>
                  <a:lnTo>
                    <a:pt x="453" y="672"/>
                  </a:lnTo>
                  <a:lnTo>
                    <a:pt x="444" y="665"/>
                  </a:lnTo>
                  <a:lnTo>
                    <a:pt x="435" y="658"/>
                  </a:lnTo>
                  <a:lnTo>
                    <a:pt x="426" y="652"/>
                  </a:lnTo>
                  <a:lnTo>
                    <a:pt x="416" y="645"/>
                  </a:lnTo>
                  <a:lnTo>
                    <a:pt x="406" y="639"/>
                  </a:lnTo>
                  <a:lnTo>
                    <a:pt x="396" y="633"/>
                  </a:lnTo>
                  <a:lnTo>
                    <a:pt x="372" y="620"/>
                  </a:lnTo>
                  <a:lnTo>
                    <a:pt x="350" y="606"/>
                  </a:lnTo>
                  <a:lnTo>
                    <a:pt x="328" y="594"/>
                  </a:lnTo>
                  <a:lnTo>
                    <a:pt x="306" y="581"/>
                  </a:lnTo>
                  <a:lnTo>
                    <a:pt x="285" y="568"/>
                  </a:lnTo>
                  <a:lnTo>
                    <a:pt x="265" y="554"/>
                  </a:lnTo>
                  <a:lnTo>
                    <a:pt x="245" y="540"/>
                  </a:lnTo>
                  <a:lnTo>
                    <a:pt x="227" y="525"/>
                  </a:lnTo>
                  <a:lnTo>
                    <a:pt x="210" y="508"/>
                  </a:lnTo>
                  <a:lnTo>
                    <a:pt x="195" y="491"/>
                  </a:lnTo>
                  <a:lnTo>
                    <a:pt x="181" y="471"/>
                  </a:lnTo>
                  <a:lnTo>
                    <a:pt x="171" y="451"/>
                  </a:lnTo>
                  <a:lnTo>
                    <a:pt x="161" y="427"/>
                  </a:lnTo>
                  <a:lnTo>
                    <a:pt x="155" y="402"/>
                  </a:lnTo>
                  <a:lnTo>
                    <a:pt x="150" y="375"/>
                  </a:lnTo>
                  <a:lnTo>
                    <a:pt x="149" y="345"/>
                  </a:lnTo>
                  <a:lnTo>
                    <a:pt x="150" y="307"/>
                  </a:lnTo>
                  <a:lnTo>
                    <a:pt x="156" y="271"/>
                  </a:lnTo>
                  <a:lnTo>
                    <a:pt x="163" y="237"/>
                  </a:lnTo>
                  <a:lnTo>
                    <a:pt x="175" y="205"/>
                  </a:lnTo>
                  <a:lnTo>
                    <a:pt x="189" y="175"/>
                  </a:lnTo>
                  <a:lnTo>
                    <a:pt x="206" y="146"/>
                  </a:lnTo>
                  <a:lnTo>
                    <a:pt x="225" y="120"/>
                  </a:lnTo>
                  <a:lnTo>
                    <a:pt x="247" y="96"/>
                  </a:lnTo>
                  <a:lnTo>
                    <a:pt x="272" y="74"/>
                  </a:lnTo>
                  <a:lnTo>
                    <a:pt x="300" y="55"/>
                  </a:lnTo>
                  <a:lnTo>
                    <a:pt x="330" y="39"/>
                  </a:lnTo>
                  <a:lnTo>
                    <a:pt x="362" y="24"/>
                  </a:lnTo>
                  <a:lnTo>
                    <a:pt x="396" y="14"/>
                  </a:lnTo>
                  <a:lnTo>
                    <a:pt x="431" y="6"/>
                  </a:lnTo>
                  <a:lnTo>
                    <a:pt x="470" y="1"/>
                  </a:lnTo>
                  <a:lnTo>
                    <a:pt x="510" y="0"/>
                  </a:lnTo>
                  <a:lnTo>
                    <a:pt x="535" y="0"/>
                  </a:lnTo>
                  <a:lnTo>
                    <a:pt x="559" y="3"/>
                  </a:lnTo>
                  <a:lnTo>
                    <a:pt x="582" y="6"/>
                  </a:lnTo>
                  <a:lnTo>
                    <a:pt x="603" y="11"/>
                  </a:lnTo>
                  <a:lnTo>
                    <a:pt x="624" y="16"/>
                  </a:lnTo>
                  <a:lnTo>
                    <a:pt x="642" y="22"/>
                  </a:lnTo>
                  <a:lnTo>
                    <a:pt x="658" y="29"/>
                  </a:lnTo>
                  <a:lnTo>
                    <a:pt x="674" y="37"/>
                  </a:lnTo>
                  <a:lnTo>
                    <a:pt x="687" y="44"/>
                  </a:lnTo>
                  <a:lnTo>
                    <a:pt x="698" y="50"/>
                  </a:lnTo>
                  <a:lnTo>
                    <a:pt x="709" y="57"/>
                  </a:lnTo>
                  <a:lnTo>
                    <a:pt x="718" y="63"/>
                  </a:lnTo>
                  <a:lnTo>
                    <a:pt x="724" y="68"/>
                  </a:lnTo>
                  <a:lnTo>
                    <a:pt x="729" y="72"/>
                  </a:lnTo>
                  <a:lnTo>
                    <a:pt x="732" y="75"/>
                  </a:lnTo>
                  <a:lnTo>
                    <a:pt x="735" y="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6744600" y="6267240"/>
              <a:ext cx="173880" cy="234720"/>
            </a:xfrm>
            <a:custGeom>
              <a:avLst/>
              <a:gdLst/>
              <a:ahLst/>
              <a:rect l="l" t="t" r="r" b="b"/>
              <a:pathLst>
                <a:path w="885" h="1088">
                  <a:moveTo>
                    <a:pt x="749" y="671"/>
                  </a:moveTo>
                  <a:lnTo>
                    <a:pt x="740" y="711"/>
                  </a:lnTo>
                  <a:lnTo>
                    <a:pt x="729" y="751"/>
                  </a:lnTo>
                  <a:lnTo>
                    <a:pt x="717" y="790"/>
                  </a:lnTo>
                  <a:lnTo>
                    <a:pt x="703" y="828"/>
                  </a:lnTo>
                  <a:lnTo>
                    <a:pt x="687" y="864"/>
                  </a:lnTo>
                  <a:lnTo>
                    <a:pt x="669" y="900"/>
                  </a:lnTo>
                  <a:lnTo>
                    <a:pt x="649" y="931"/>
                  </a:lnTo>
                  <a:lnTo>
                    <a:pt x="626" y="961"/>
                  </a:lnTo>
                  <a:lnTo>
                    <a:pt x="601" y="989"/>
                  </a:lnTo>
                  <a:lnTo>
                    <a:pt x="572" y="1014"/>
                  </a:lnTo>
                  <a:lnTo>
                    <a:pt x="540" y="1036"/>
                  </a:lnTo>
                  <a:lnTo>
                    <a:pt x="506" y="1053"/>
                  </a:lnTo>
                  <a:lnTo>
                    <a:pt x="466" y="1067"/>
                  </a:lnTo>
                  <a:lnTo>
                    <a:pt x="425" y="1079"/>
                  </a:lnTo>
                  <a:lnTo>
                    <a:pt x="379" y="1085"/>
                  </a:lnTo>
                  <a:lnTo>
                    <a:pt x="328" y="1088"/>
                  </a:lnTo>
                  <a:lnTo>
                    <a:pt x="284" y="1086"/>
                  </a:lnTo>
                  <a:lnTo>
                    <a:pt x="244" y="1082"/>
                  </a:lnTo>
                  <a:lnTo>
                    <a:pt x="207" y="1075"/>
                  </a:lnTo>
                  <a:lnTo>
                    <a:pt x="174" y="1064"/>
                  </a:lnTo>
                  <a:lnTo>
                    <a:pt x="144" y="1052"/>
                  </a:lnTo>
                  <a:lnTo>
                    <a:pt x="117" y="1037"/>
                  </a:lnTo>
                  <a:lnTo>
                    <a:pt x="93" y="1020"/>
                  </a:lnTo>
                  <a:lnTo>
                    <a:pt x="72" y="1000"/>
                  </a:lnTo>
                  <a:lnTo>
                    <a:pt x="54" y="979"/>
                  </a:lnTo>
                  <a:lnTo>
                    <a:pt x="39" y="955"/>
                  </a:lnTo>
                  <a:lnTo>
                    <a:pt x="27" y="929"/>
                  </a:lnTo>
                  <a:lnTo>
                    <a:pt x="17" y="903"/>
                  </a:lnTo>
                  <a:lnTo>
                    <a:pt x="9" y="874"/>
                  </a:lnTo>
                  <a:lnTo>
                    <a:pt x="4" y="844"/>
                  </a:lnTo>
                  <a:lnTo>
                    <a:pt x="0" y="813"/>
                  </a:lnTo>
                  <a:lnTo>
                    <a:pt x="0" y="781"/>
                  </a:lnTo>
                  <a:lnTo>
                    <a:pt x="0" y="775"/>
                  </a:lnTo>
                  <a:lnTo>
                    <a:pt x="0" y="768"/>
                  </a:lnTo>
                  <a:lnTo>
                    <a:pt x="0" y="761"/>
                  </a:lnTo>
                  <a:lnTo>
                    <a:pt x="2" y="754"/>
                  </a:lnTo>
                  <a:lnTo>
                    <a:pt x="3" y="746"/>
                  </a:lnTo>
                  <a:lnTo>
                    <a:pt x="3" y="739"/>
                  </a:lnTo>
                  <a:lnTo>
                    <a:pt x="4" y="731"/>
                  </a:lnTo>
                  <a:lnTo>
                    <a:pt x="6" y="721"/>
                  </a:lnTo>
                  <a:lnTo>
                    <a:pt x="7" y="713"/>
                  </a:lnTo>
                  <a:lnTo>
                    <a:pt x="8" y="704"/>
                  </a:lnTo>
                  <a:lnTo>
                    <a:pt x="9" y="693"/>
                  </a:lnTo>
                  <a:lnTo>
                    <a:pt x="11" y="684"/>
                  </a:lnTo>
                  <a:lnTo>
                    <a:pt x="12" y="674"/>
                  </a:lnTo>
                  <a:lnTo>
                    <a:pt x="14" y="664"/>
                  </a:lnTo>
                  <a:lnTo>
                    <a:pt x="15" y="653"/>
                  </a:lnTo>
                  <a:lnTo>
                    <a:pt x="18" y="643"/>
                  </a:lnTo>
                  <a:lnTo>
                    <a:pt x="19" y="631"/>
                  </a:lnTo>
                  <a:lnTo>
                    <a:pt x="21" y="619"/>
                  </a:lnTo>
                  <a:lnTo>
                    <a:pt x="22" y="607"/>
                  </a:lnTo>
                  <a:lnTo>
                    <a:pt x="24" y="596"/>
                  </a:lnTo>
                  <a:lnTo>
                    <a:pt x="26" y="583"/>
                  </a:lnTo>
                  <a:lnTo>
                    <a:pt x="28" y="571"/>
                  </a:lnTo>
                  <a:lnTo>
                    <a:pt x="30" y="557"/>
                  </a:lnTo>
                  <a:lnTo>
                    <a:pt x="33" y="545"/>
                  </a:lnTo>
                  <a:lnTo>
                    <a:pt x="36" y="532"/>
                  </a:lnTo>
                  <a:lnTo>
                    <a:pt x="38" y="518"/>
                  </a:lnTo>
                  <a:lnTo>
                    <a:pt x="40" y="505"/>
                  </a:lnTo>
                  <a:lnTo>
                    <a:pt x="42" y="492"/>
                  </a:lnTo>
                  <a:lnTo>
                    <a:pt x="44" y="478"/>
                  </a:lnTo>
                  <a:lnTo>
                    <a:pt x="46" y="465"/>
                  </a:lnTo>
                  <a:lnTo>
                    <a:pt x="49" y="450"/>
                  </a:lnTo>
                  <a:lnTo>
                    <a:pt x="52" y="437"/>
                  </a:lnTo>
                  <a:lnTo>
                    <a:pt x="57" y="409"/>
                  </a:lnTo>
                  <a:lnTo>
                    <a:pt x="62" y="381"/>
                  </a:lnTo>
                  <a:lnTo>
                    <a:pt x="68" y="353"/>
                  </a:lnTo>
                  <a:lnTo>
                    <a:pt x="72" y="325"/>
                  </a:lnTo>
                  <a:lnTo>
                    <a:pt x="77" y="297"/>
                  </a:lnTo>
                  <a:lnTo>
                    <a:pt x="83" y="268"/>
                  </a:lnTo>
                  <a:lnTo>
                    <a:pt x="88" y="240"/>
                  </a:lnTo>
                  <a:lnTo>
                    <a:pt x="92" y="212"/>
                  </a:lnTo>
                  <a:lnTo>
                    <a:pt x="97" y="185"/>
                  </a:lnTo>
                  <a:lnTo>
                    <a:pt x="101" y="157"/>
                  </a:lnTo>
                  <a:lnTo>
                    <a:pt x="105" y="130"/>
                  </a:lnTo>
                  <a:lnTo>
                    <a:pt x="108" y="102"/>
                  </a:lnTo>
                  <a:lnTo>
                    <a:pt x="112" y="76"/>
                  </a:lnTo>
                  <a:lnTo>
                    <a:pt x="115" y="50"/>
                  </a:lnTo>
                  <a:lnTo>
                    <a:pt x="117" y="25"/>
                  </a:lnTo>
                  <a:lnTo>
                    <a:pt x="120" y="0"/>
                  </a:lnTo>
                  <a:lnTo>
                    <a:pt x="122" y="0"/>
                  </a:lnTo>
                  <a:lnTo>
                    <a:pt x="125" y="0"/>
                  </a:lnTo>
                  <a:lnTo>
                    <a:pt x="130" y="0"/>
                  </a:lnTo>
                  <a:lnTo>
                    <a:pt x="135" y="0"/>
                  </a:lnTo>
                  <a:lnTo>
                    <a:pt x="140" y="0"/>
                  </a:lnTo>
                  <a:lnTo>
                    <a:pt x="148" y="0"/>
                  </a:lnTo>
                  <a:lnTo>
                    <a:pt x="154" y="1"/>
                  </a:lnTo>
                  <a:lnTo>
                    <a:pt x="162" y="1"/>
                  </a:lnTo>
                  <a:lnTo>
                    <a:pt x="169" y="1"/>
                  </a:lnTo>
                  <a:lnTo>
                    <a:pt x="177" y="1"/>
                  </a:lnTo>
                  <a:lnTo>
                    <a:pt x="184" y="1"/>
                  </a:lnTo>
                  <a:lnTo>
                    <a:pt x="191" y="1"/>
                  </a:lnTo>
                  <a:lnTo>
                    <a:pt x="198" y="1"/>
                  </a:lnTo>
                  <a:lnTo>
                    <a:pt x="203" y="1"/>
                  </a:lnTo>
                  <a:lnTo>
                    <a:pt x="210" y="2"/>
                  </a:lnTo>
                  <a:lnTo>
                    <a:pt x="215" y="1"/>
                  </a:lnTo>
                  <a:lnTo>
                    <a:pt x="222" y="1"/>
                  </a:lnTo>
                  <a:lnTo>
                    <a:pt x="228" y="1"/>
                  </a:lnTo>
                  <a:lnTo>
                    <a:pt x="235" y="1"/>
                  </a:lnTo>
                  <a:lnTo>
                    <a:pt x="243" y="1"/>
                  </a:lnTo>
                  <a:lnTo>
                    <a:pt x="250" y="1"/>
                  </a:lnTo>
                  <a:lnTo>
                    <a:pt x="258" y="1"/>
                  </a:lnTo>
                  <a:lnTo>
                    <a:pt x="265" y="1"/>
                  </a:lnTo>
                  <a:lnTo>
                    <a:pt x="273" y="0"/>
                  </a:lnTo>
                  <a:lnTo>
                    <a:pt x="279" y="0"/>
                  </a:lnTo>
                  <a:lnTo>
                    <a:pt x="286" y="0"/>
                  </a:lnTo>
                  <a:lnTo>
                    <a:pt x="291" y="0"/>
                  </a:lnTo>
                  <a:lnTo>
                    <a:pt x="295" y="0"/>
                  </a:lnTo>
                  <a:lnTo>
                    <a:pt x="299" y="0"/>
                  </a:lnTo>
                  <a:lnTo>
                    <a:pt x="301" y="0"/>
                  </a:lnTo>
                  <a:lnTo>
                    <a:pt x="302" y="0"/>
                  </a:lnTo>
                  <a:lnTo>
                    <a:pt x="297" y="20"/>
                  </a:lnTo>
                  <a:lnTo>
                    <a:pt x="293" y="41"/>
                  </a:lnTo>
                  <a:lnTo>
                    <a:pt x="289" y="64"/>
                  </a:lnTo>
                  <a:lnTo>
                    <a:pt x="285" y="88"/>
                  </a:lnTo>
                  <a:lnTo>
                    <a:pt x="279" y="111"/>
                  </a:lnTo>
                  <a:lnTo>
                    <a:pt x="275" y="137"/>
                  </a:lnTo>
                  <a:lnTo>
                    <a:pt x="270" y="163"/>
                  </a:lnTo>
                  <a:lnTo>
                    <a:pt x="264" y="190"/>
                  </a:lnTo>
                  <a:lnTo>
                    <a:pt x="259" y="216"/>
                  </a:lnTo>
                  <a:lnTo>
                    <a:pt x="254" y="244"/>
                  </a:lnTo>
                  <a:lnTo>
                    <a:pt x="248" y="272"/>
                  </a:lnTo>
                  <a:lnTo>
                    <a:pt x="244" y="300"/>
                  </a:lnTo>
                  <a:lnTo>
                    <a:pt x="239" y="329"/>
                  </a:lnTo>
                  <a:lnTo>
                    <a:pt x="233" y="358"/>
                  </a:lnTo>
                  <a:lnTo>
                    <a:pt x="228" y="386"/>
                  </a:lnTo>
                  <a:lnTo>
                    <a:pt x="224" y="415"/>
                  </a:lnTo>
                  <a:lnTo>
                    <a:pt x="218" y="443"/>
                  </a:lnTo>
                  <a:lnTo>
                    <a:pt x="213" y="472"/>
                  </a:lnTo>
                  <a:lnTo>
                    <a:pt x="208" y="499"/>
                  </a:lnTo>
                  <a:lnTo>
                    <a:pt x="203" y="527"/>
                  </a:lnTo>
                  <a:lnTo>
                    <a:pt x="198" y="553"/>
                  </a:lnTo>
                  <a:lnTo>
                    <a:pt x="194" y="579"/>
                  </a:lnTo>
                  <a:lnTo>
                    <a:pt x="191" y="605"/>
                  </a:lnTo>
                  <a:lnTo>
                    <a:pt x="186" y="630"/>
                  </a:lnTo>
                  <a:lnTo>
                    <a:pt x="183" y="652"/>
                  </a:lnTo>
                  <a:lnTo>
                    <a:pt x="181" y="675"/>
                  </a:lnTo>
                  <a:lnTo>
                    <a:pt x="178" y="697"/>
                  </a:lnTo>
                  <a:lnTo>
                    <a:pt x="176" y="716"/>
                  </a:lnTo>
                  <a:lnTo>
                    <a:pt x="175" y="736"/>
                  </a:lnTo>
                  <a:lnTo>
                    <a:pt x="172" y="752"/>
                  </a:lnTo>
                  <a:lnTo>
                    <a:pt x="172" y="769"/>
                  </a:lnTo>
                  <a:lnTo>
                    <a:pt x="172" y="783"/>
                  </a:lnTo>
                  <a:lnTo>
                    <a:pt x="172" y="808"/>
                  </a:lnTo>
                  <a:lnTo>
                    <a:pt x="176" y="832"/>
                  </a:lnTo>
                  <a:lnTo>
                    <a:pt x="179" y="853"/>
                  </a:lnTo>
                  <a:lnTo>
                    <a:pt x="185" y="873"/>
                  </a:lnTo>
                  <a:lnTo>
                    <a:pt x="192" y="890"/>
                  </a:lnTo>
                  <a:lnTo>
                    <a:pt x="200" y="906"/>
                  </a:lnTo>
                  <a:lnTo>
                    <a:pt x="211" y="920"/>
                  </a:lnTo>
                  <a:lnTo>
                    <a:pt x="222" y="932"/>
                  </a:lnTo>
                  <a:lnTo>
                    <a:pt x="233" y="943"/>
                  </a:lnTo>
                  <a:lnTo>
                    <a:pt x="247" y="952"/>
                  </a:lnTo>
                  <a:lnTo>
                    <a:pt x="261" y="959"/>
                  </a:lnTo>
                  <a:lnTo>
                    <a:pt x="277" y="965"/>
                  </a:lnTo>
                  <a:lnTo>
                    <a:pt x="293" y="971"/>
                  </a:lnTo>
                  <a:lnTo>
                    <a:pt x="310" y="974"/>
                  </a:lnTo>
                  <a:lnTo>
                    <a:pt x="328" y="976"/>
                  </a:lnTo>
                  <a:lnTo>
                    <a:pt x="348" y="977"/>
                  </a:lnTo>
                  <a:lnTo>
                    <a:pt x="381" y="975"/>
                  </a:lnTo>
                  <a:lnTo>
                    <a:pt x="412" y="970"/>
                  </a:lnTo>
                  <a:lnTo>
                    <a:pt x="441" y="962"/>
                  </a:lnTo>
                  <a:lnTo>
                    <a:pt x="466" y="951"/>
                  </a:lnTo>
                  <a:lnTo>
                    <a:pt x="490" y="938"/>
                  </a:lnTo>
                  <a:lnTo>
                    <a:pt x="511" y="921"/>
                  </a:lnTo>
                  <a:lnTo>
                    <a:pt x="531" y="903"/>
                  </a:lnTo>
                  <a:lnTo>
                    <a:pt x="548" y="881"/>
                  </a:lnTo>
                  <a:lnTo>
                    <a:pt x="564" y="857"/>
                  </a:lnTo>
                  <a:lnTo>
                    <a:pt x="579" y="830"/>
                  </a:lnTo>
                  <a:lnTo>
                    <a:pt x="592" y="802"/>
                  </a:lnTo>
                  <a:lnTo>
                    <a:pt x="605" y="771"/>
                  </a:lnTo>
                  <a:lnTo>
                    <a:pt x="616" y="738"/>
                  </a:lnTo>
                  <a:lnTo>
                    <a:pt x="625" y="704"/>
                  </a:lnTo>
                  <a:lnTo>
                    <a:pt x="635" y="667"/>
                  </a:lnTo>
                  <a:lnTo>
                    <a:pt x="644" y="629"/>
                  </a:lnTo>
                  <a:lnTo>
                    <a:pt x="650" y="593"/>
                  </a:lnTo>
                  <a:lnTo>
                    <a:pt x="657" y="553"/>
                  </a:lnTo>
                  <a:lnTo>
                    <a:pt x="665" y="512"/>
                  </a:lnTo>
                  <a:lnTo>
                    <a:pt x="672" y="469"/>
                  </a:lnTo>
                  <a:lnTo>
                    <a:pt x="680" y="426"/>
                  </a:lnTo>
                  <a:lnTo>
                    <a:pt x="687" y="380"/>
                  </a:lnTo>
                  <a:lnTo>
                    <a:pt x="695" y="335"/>
                  </a:lnTo>
                  <a:lnTo>
                    <a:pt x="702" y="290"/>
                  </a:lnTo>
                  <a:lnTo>
                    <a:pt x="710" y="245"/>
                  </a:lnTo>
                  <a:lnTo>
                    <a:pt x="716" y="203"/>
                  </a:lnTo>
                  <a:lnTo>
                    <a:pt x="722" y="162"/>
                  </a:lnTo>
                  <a:lnTo>
                    <a:pt x="728" y="123"/>
                  </a:lnTo>
                  <a:lnTo>
                    <a:pt x="732" y="87"/>
                  </a:lnTo>
                  <a:lnTo>
                    <a:pt x="736" y="54"/>
                  </a:lnTo>
                  <a:lnTo>
                    <a:pt x="740" y="25"/>
                  </a:lnTo>
                  <a:lnTo>
                    <a:pt x="743" y="0"/>
                  </a:lnTo>
                  <a:lnTo>
                    <a:pt x="744" y="0"/>
                  </a:lnTo>
                  <a:lnTo>
                    <a:pt x="747" y="0"/>
                  </a:lnTo>
                  <a:lnTo>
                    <a:pt x="750" y="0"/>
                  </a:lnTo>
                  <a:lnTo>
                    <a:pt x="754" y="0"/>
                  </a:lnTo>
                  <a:lnTo>
                    <a:pt x="758" y="0"/>
                  </a:lnTo>
                  <a:lnTo>
                    <a:pt x="763" y="0"/>
                  </a:lnTo>
                  <a:lnTo>
                    <a:pt x="769" y="1"/>
                  </a:lnTo>
                  <a:lnTo>
                    <a:pt x="774" y="1"/>
                  </a:lnTo>
                  <a:lnTo>
                    <a:pt x="780" y="1"/>
                  </a:lnTo>
                  <a:lnTo>
                    <a:pt x="786" y="1"/>
                  </a:lnTo>
                  <a:lnTo>
                    <a:pt x="792" y="1"/>
                  </a:lnTo>
                  <a:lnTo>
                    <a:pt x="797" y="1"/>
                  </a:lnTo>
                  <a:lnTo>
                    <a:pt x="804" y="1"/>
                  </a:lnTo>
                  <a:lnTo>
                    <a:pt x="809" y="1"/>
                  </a:lnTo>
                  <a:lnTo>
                    <a:pt x="814" y="2"/>
                  </a:lnTo>
                  <a:lnTo>
                    <a:pt x="820" y="1"/>
                  </a:lnTo>
                  <a:lnTo>
                    <a:pt x="825" y="1"/>
                  </a:lnTo>
                  <a:lnTo>
                    <a:pt x="832" y="1"/>
                  </a:lnTo>
                  <a:lnTo>
                    <a:pt x="837" y="1"/>
                  </a:lnTo>
                  <a:lnTo>
                    <a:pt x="843" y="1"/>
                  </a:lnTo>
                  <a:lnTo>
                    <a:pt x="849" y="1"/>
                  </a:lnTo>
                  <a:lnTo>
                    <a:pt x="855" y="1"/>
                  </a:lnTo>
                  <a:lnTo>
                    <a:pt x="860" y="1"/>
                  </a:lnTo>
                  <a:lnTo>
                    <a:pt x="865" y="0"/>
                  </a:lnTo>
                  <a:lnTo>
                    <a:pt x="870" y="0"/>
                  </a:lnTo>
                  <a:lnTo>
                    <a:pt x="874" y="0"/>
                  </a:lnTo>
                  <a:lnTo>
                    <a:pt x="877" y="0"/>
                  </a:lnTo>
                  <a:lnTo>
                    <a:pt x="881" y="0"/>
                  </a:lnTo>
                  <a:lnTo>
                    <a:pt x="883" y="0"/>
                  </a:lnTo>
                  <a:lnTo>
                    <a:pt x="884" y="0"/>
                  </a:lnTo>
                  <a:lnTo>
                    <a:pt x="885" y="0"/>
                  </a:lnTo>
                  <a:lnTo>
                    <a:pt x="875" y="42"/>
                  </a:lnTo>
                  <a:lnTo>
                    <a:pt x="866" y="88"/>
                  </a:lnTo>
                  <a:lnTo>
                    <a:pt x="856" y="133"/>
                  </a:lnTo>
                  <a:lnTo>
                    <a:pt x="847" y="179"/>
                  </a:lnTo>
                  <a:lnTo>
                    <a:pt x="837" y="226"/>
                  </a:lnTo>
                  <a:lnTo>
                    <a:pt x="827" y="272"/>
                  </a:lnTo>
                  <a:lnTo>
                    <a:pt x="819" y="317"/>
                  </a:lnTo>
                  <a:lnTo>
                    <a:pt x="809" y="364"/>
                  </a:lnTo>
                  <a:lnTo>
                    <a:pt x="801" y="408"/>
                  </a:lnTo>
                  <a:lnTo>
                    <a:pt x="792" y="451"/>
                  </a:lnTo>
                  <a:lnTo>
                    <a:pt x="783" y="494"/>
                  </a:lnTo>
                  <a:lnTo>
                    <a:pt x="776" y="534"/>
                  </a:lnTo>
                  <a:lnTo>
                    <a:pt x="769" y="572"/>
                  </a:lnTo>
                  <a:lnTo>
                    <a:pt x="761" y="608"/>
                  </a:lnTo>
                  <a:lnTo>
                    <a:pt x="755" y="641"/>
                  </a:lnTo>
                  <a:lnTo>
                    <a:pt x="749" y="6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7027200" y="6172200"/>
              <a:ext cx="376560" cy="419040"/>
            </a:xfrm>
            <a:custGeom>
              <a:avLst/>
              <a:gdLst/>
              <a:ahLst/>
              <a:rect l="l" t="t" r="r" b="b"/>
              <a:pathLst>
                <a:path w="1922" h="1951">
                  <a:moveTo>
                    <a:pt x="1660" y="1623"/>
                  </a:moveTo>
                  <a:lnTo>
                    <a:pt x="1689" y="1623"/>
                  </a:lnTo>
                  <a:lnTo>
                    <a:pt x="1638" y="1800"/>
                  </a:lnTo>
                  <a:lnTo>
                    <a:pt x="1635" y="1802"/>
                  </a:lnTo>
                  <a:lnTo>
                    <a:pt x="1627" y="1807"/>
                  </a:lnTo>
                  <a:lnTo>
                    <a:pt x="1615" y="1814"/>
                  </a:lnTo>
                  <a:lnTo>
                    <a:pt x="1599" y="1825"/>
                  </a:lnTo>
                  <a:lnTo>
                    <a:pt x="1580" y="1836"/>
                  </a:lnTo>
                  <a:lnTo>
                    <a:pt x="1557" y="1848"/>
                  </a:lnTo>
                  <a:lnTo>
                    <a:pt x="1529" y="1863"/>
                  </a:lnTo>
                  <a:lnTo>
                    <a:pt x="1499" y="1876"/>
                  </a:lnTo>
                  <a:lnTo>
                    <a:pt x="1465" y="1891"/>
                  </a:lnTo>
                  <a:lnTo>
                    <a:pt x="1428" y="1904"/>
                  </a:lnTo>
                  <a:lnTo>
                    <a:pt x="1388" y="1916"/>
                  </a:lnTo>
                  <a:lnTo>
                    <a:pt x="1346" y="1928"/>
                  </a:lnTo>
                  <a:lnTo>
                    <a:pt x="1300" y="1937"/>
                  </a:lnTo>
                  <a:lnTo>
                    <a:pt x="1253" y="1944"/>
                  </a:lnTo>
                  <a:lnTo>
                    <a:pt x="1203" y="1949"/>
                  </a:lnTo>
                  <a:lnTo>
                    <a:pt x="1152" y="1951"/>
                  </a:lnTo>
                  <a:lnTo>
                    <a:pt x="1095" y="1948"/>
                  </a:lnTo>
                  <a:lnTo>
                    <a:pt x="1041" y="1941"/>
                  </a:lnTo>
                  <a:lnTo>
                    <a:pt x="987" y="1929"/>
                  </a:lnTo>
                  <a:lnTo>
                    <a:pt x="936" y="1911"/>
                  </a:lnTo>
                  <a:lnTo>
                    <a:pt x="887" y="1889"/>
                  </a:lnTo>
                  <a:lnTo>
                    <a:pt x="839" y="1862"/>
                  </a:lnTo>
                  <a:lnTo>
                    <a:pt x="794" y="1830"/>
                  </a:lnTo>
                  <a:lnTo>
                    <a:pt x="751" y="1792"/>
                  </a:lnTo>
                  <a:lnTo>
                    <a:pt x="712" y="1749"/>
                  </a:lnTo>
                  <a:lnTo>
                    <a:pt x="675" y="1701"/>
                  </a:lnTo>
                  <a:lnTo>
                    <a:pt x="643" y="1648"/>
                  </a:lnTo>
                  <a:lnTo>
                    <a:pt x="614" y="1591"/>
                  </a:lnTo>
                  <a:lnTo>
                    <a:pt x="590" y="1527"/>
                  </a:lnTo>
                  <a:lnTo>
                    <a:pt x="570" y="1459"/>
                  </a:lnTo>
                  <a:lnTo>
                    <a:pt x="554" y="1385"/>
                  </a:lnTo>
                  <a:lnTo>
                    <a:pt x="544" y="1306"/>
                  </a:lnTo>
                  <a:lnTo>
                    <a:pt x="438" y="1301"/>
                  </a:lnTo>
                  <a:lnTo>
                    <a:pt x="425" y="1300"/>
                  </a:lnTo>
                  <a:lnTo>
                    <a:pt x="413" y="1300"/>
                  </a:lnTo>
                  <a:lnTo>
                    <a:pt x="400" y="1300"/>
                  </a:lnTo>
                  <a:lnTo>
                    <a:pt x="386" y="1299"/>
                  </a:lnTo>
                  <a:lnTo>
                    <a:pt x="372" y="1299"/>
                  </a:lnTo>
                  <a:lnTo>
                    <a:pt x="357" y="1299"/>
                  </a:lnTo>
                  <a:lnTo>
                    <a:pt x="343" y="1299"/>
                  </a:lnTo>
                  <a:lnTo>
                    <a:pt x="328" y="1299"/>
                  </a:lnTo>
                  <a:lnTo>
                    <a:pt x="313" y="1299"/>
                  </a:lnTo>
                  <a:lnTo>
                    <a:pt x="299" y="1299"/>
                  </a:lnTo>
                  <a:lnTo>
                    <a:pt x="284" y="1299"/>
                  </a:lnTo>
                  <a:lnTo>
                    <a:pt x="270" y="1299"/>
                  </a:lnTo>
                  <a:lnTo>
                    <a:pt x="257" y="1299"/>
                  </a:lnTo>
                  <a:lnTo>
                    <a:pt x="243" y="1299"/>
                  </a:lnTo>
                  <a:lnTo>
                    <a:pt x="229" y="1299"/>
                  </a:lnTo>
                  <a:lnTo>
                    <a:pt x="217" y="1299"/>
                  </a:lnTo>
                  <a:lnTo>
                    <a:pt x="206" y="1299"/>
                  </a:lnTo>
                  <a:lnTo>
                    <a:pt x="196" y="1299"/>
                  </a:lnTo>
                  <a:lnTo>
                    <a:pt x="185" y="1299"/>
                  </a:lnTo>
                  <a:lnTo>
                    <a:pt x="174" y="1299"/>
                  </a:lnTo>
                  <a:lnTo>
                    <a:pt x="165" y="1299"/>
                  </a:lnTo>
                  <a:lnTo>
                    <a:pt x="154" y="1299"/>
                  </a:lnTo>
                  <a:lnTo>
                    <a:pt x="144" y="1299"/>
                  </a:lnTo>
                  <a:lnTo>
                    <a:pt x="135" y="1300"/>
                  </a:lnTo>
                  <a:lnTo>
                    <a:pt x="125" y="1300"/>
                  </a:lnTo>
                  <a:lnTo>
                    <a:pt x="116" y="1300"/>
                  </a:lnTo>
                  <a:lnTo>
                    <a:pt x="107" y="1300"/>
                  </a:lnTo>
                  <a:lnTo>
                    <a:pt x="97" y="1300"/>
                  </a:lnTo>
                  <a:lnTo>
                    <a:pt x="89" y="1300"/>
                  </a:lnTo>
                  <a:lnTo>
                    <a:pt x="80" y="1300"/>
                  </a:lnTo>
                  <a:lnTo>
                    <a:pt x="73" y="1300"/>
                  </a:lnTo>
                  <a:lnTo>
                    <a:pt x="65" y="1301"/>
                  </a:lnTo>
                  <a:lnTo>
                    <a:pt x="17" y="1301"/>
                  </a:lnTo>
                  <a:lnTo>
                    <a:pt x="15" y="1301"/>
                  </a:lnTo>
                  <a:lnTo>
                    <a:pt x="14" y="1301"/>
                  </a:lnTo>
                  <a:lnTo>
                    <a:pt x="13" y="1301"/>
                  </a:lnTo>
                  <a:lnTo>
                    <a:pt x="12" y="1301"/>
                  </a:lnTo>
                  <a:lnTo>
                    <a:pt x="11" y="1301"/>
                  </a:lnTo>
                  <a:lnTo>
                    <a:pt x="10" y="1301"/>
                  </a:lnTo>
                  <a:lnTo>
                    <a:pt x="9" y="1301"/>
                  </a:lnTo>
                  <a:lnTo>
                    <a:pt x="8" y="1301"/>
                  </a:lnTo>
                  <a:lnTo>
                    <a:pt x="7" y="1301"/>
                  </a:lnTo>
                  <a:lnTo>
                    <a:pt x="6" y="1301"/>
                  </a:lnTo>
                  <a:lnTo>
                    <a:pt x="4" y="1301"/>
                  </a:lnTo>
                  <a:lnTo>
                    <a:pt x="3" y="1301"/>
                  </a:lnTo>
                  <a:lnTo>
                    <a:pt x="2" y="1301"/>
                  </a:lnTo>
                  <a:lnTo>
                    <a:pt x="1" y="1301"/>
                  </a:lnTo>
                  <a:lnTo>
                    <a:pt x="0" y="1301"/>
                  </a:lnTo>
                  <a:lnTo>
                    <a:pt x="0" y="1296"/>
                  </a:lnTo>
                  <a:lnTo>
                    <a:pt x="12" y="1232"/>
                  </a:lnTo>
                  <a:lnTo>
                    <a:pt x="25" y="1168"/>
                  </a:lnTo>
                  <a:lnTo>
                    <a:pt x="36" y="1104"/>
                  </a:lnTo>
                  <a:lnTo>
                    <a:pt x="48" y="1040"/>
                  </a:lnTo>
                  <a:lnTo>
                    <a:pt x="60" y="976"/>
                  </a:lnTo>
                  <a:lnTo>
                    <a:pt x="71" y="911"/>
                  </a:lnTo>
                  <a:lnTo>
                    <a:pt x="81" y="846"/>
                  </a:lnTo>
                  <a:lnTo>
                    <a:pt x="91" y="781"/>
                  </a:lnTo>
                  <a:lnTo>
                    <a:pt x="102" y="715"/>
                  </a:lnTo>
                  <a:lnTo>
                    <a:pt x="111" y="650"/>
                  </a:lnTo>
                  <a:lnTo>
                    <a:pt x="120" y="584"/>
                  </a:lnTo>
                  <a:lnTo>
                    <a:pt x="128" y="519"/>
                  </a:lnTo>
                  <a:lnTo>
                    <a:pt x="137" y="453"/>
                  </a:lnTo>
                  <a:lnTo>
                    <a:pt x="145" y="388"/>
                  </a:lnTo>
                  <a:lnTo>
                    <a:pt x="153" y="322"/>
                  </a:lnTo>
                  <a:lnTo>
                    <a:pt x="160" y="258"/>
                  </a:lnTo>
                  <a:lnTo>
                    <a:pt x="161" y="258"/>
                  </a:lnTo>
                  <a:lnTo>
                    <a:pt x="165" y="258"/>
                  </a:lnTo>
                  <a:lnTo>
                    <a:pt x="170" y="258"/>
                  </a:lnTo>
                  <a:lnTo>
                    <a:pt x="177" y="258"/>
                  </a:lnTo>
                  <a:lnTo>
                    <a:pt x="186" y="258"/>
                  </a:lnTo>
                  <a:lnTo>
                    <a:pt x="196" y="258"/>
                  </a:lnTo>
                  <a:lnTo>
                    <a:pt x="206" y="259"/>
                  </a:lnTo>
                  <a:lnTo>
                    <a:pt x="217" y="259"/>
                  </a:lnTo>
                  <a:lnTo>
                    <a:pt x="229" y="259"/>
                  </a:lnTo>
                  <a:lnTo>
                    <a:pt x="242" y="260"/>
                  </a:lnTo>
                  <a:lnTo>
                    <a:pt x="253" y="260"/>
                  </a:lnTo>
                  <a:lnTo>
                    <a:pt x="265" y="260"/>
                  </a:lnTo>
                  <a:lnTo>
                    <a:pt x="276" y="260"/>
                  </a:lnTo>
                  <a:lnTo>
                    <a:pt x="286" y="260"/>
                  </a:lnTo>
                  <a:lnTo>
                    <a:pt x="295" y="260"/>
                  </a:lnTo>
                  <a:lnTo>
                    <a:pt x="304" y="261"/>
                  </a:lnTo>
                  <a:lnTo>
                    <a:pt x="556" y="264"/>
                  </a:lnTo>
                  <a:lnTo>
                    <a:pt x="565" y="263"/>
                  </a:lnTo>
                  <a:lnTo>
                    <a:pt x="576" y="263"/>
                  </a:lnTo>
                  <a:lnTo>
                    <a:pt x="587" y="263"/>
                  </a:lnTo>
                  <a:lnTo>
                    <a:pt x="596" y="263"/>
                  </a:lnTo>
                  <a:lnTo>
                    <a:pt x="607" y="263"/>
                  </a:lnTo>
                  <a:lnTo>
                    <a:pt x="618" y="262"/>
                  </a:lnTo>
                  <a:lnTo>
                    <a:pt x="628" y="262"/>
                  </a:lnTo>
                  <a:lnTo>
                    <a:pt x="639" y="262"/>
                  </a:lnTo>
                  <a:lnTo>
                    <a:pt x="650" y="261"/>
                  </a:lnTo>
                  <a:lnTo>
                    <a:pt x="661" y="261"/>
                  </a:lnTo>
                  <a:lnTo>
                    <a:pt x="672" y="260"/>
                  </a:lnTo>
                  <a:lnTo>
                    <a:pt x="683" y="260"/>
                  </a:lnTo>
                  <a:lnTo>
                    <a:pt x="695" y="259"/>
                  </a:lnTo>
                  <a:lnTo>
                    <a:pt x="706" y="259"/>
                  </a:lnTo>
                  <a:lnTo>
                    <a:pt x="718" y="258"/>
                  </a:lnTo>
                  <a:lnTo>
                    <a:pt x="731" y="258"/>
                  </a:lnTo>
                  <a:lnTo>
                    <a:pt x="728" y="263"/>
                  </a:lnTo>
                  <a:lnTo>
                    <a:pt x="725" y="269"/>
                  </a:lnTo>
                  <a:lnTo>
                    <a:pt x="723" y="275"/>
                  </a:lnTo>
                  <a:lnTo>
                    <a:pt x="721" y="282"/>
                  </a:lnTo>
                  <a:lnTo>
                    <a:pt x="719" y="288"/>
                  </a:lnTo>
                  <a:lnTo>
                    <a:pt x="717" y="296"/>
                  </a:lnTo>
                  <a:lnTo>
                    <a:pt x="716" y="303"/>
                  </a:lnTo>
                  <a:lnTo>
                    <a:pt x="714" y="310"/>
                  </a:lnTo>
                  <a:lnTo>
                    <a:pt x="713" y="317"/>
                  </a:lnTo>
                  <a:lnTo>
                    <a:pt x="712" y="325"/>
                  </a:lnTo>
                  <a:lnTo>
                    <a:pt x="711" y="332"/>
                  </a:lnTo>
                  <a:lnTo>
                    <a:pt x="709" y="340"/>
                  </a:lnTo>
                  <a:lnTo>
                    <a:pt x="708" y="347"/>
                  </a:lnTo>
                  <a:lnTo>
                    <a:pt x="708" y="355"/>
                  </a:lnTo>
                  <a:lnTo>
                    <a:pt x="708" y="363"/>
                  </a:lnTo>
                  <a:lnTo>
                    <a:pt x="708" y="371"/>
                  </a:lnTo>
                  <a:lnTo>
                    <a:pt x="688" y="369"/>
                  </a:lnTo>
                  <a:lnTo>
                    <a:pt x="668" y="368"/>
                  </a:lnTo>
                  <a:lnTo>
                    <a:pt x="649" y="366"/>
                  </a:lnTo>
                  <a:lnTo>
                    <a:pt x="630" y="365"/>
                  </a:lnTo>
                  <a:lnTo>
                    <a:pt x="612" y="364"/>
                  </a:lnTo>
                  <a:lnTo>
                    <a:pt x="594" y="363"/>
                  </a:lnTo>
                  <a:lnTo>
                    <a:pt x="576" y="362"/>
                  </a:lnTo>
                  <a:lnTo>
                    <a:pt x="558" y="361"/>
                  </a:lnTo>
                  <a:lnTo>
                    <a:pt x="540" y="360"/>
                  </a:lnTo>
                  <a:lnTo>
                    <a:pt x="521" y="360"/>
                  </a:lnTo>
                  <a:lnTo>
                    <a:pt x="502" y="359"/>
                  </a:lnTo>
                  <a:lnTo>
                    <a:pt x="484" y="358"/>
                  </a:lnTo>
                  <a:lnTo>
                    <a:pt x="465" y="358"/>
                  </a:lnTo>
                  <a:lnTo>
                    <a:pt x="445" y="358"/>
                  </a:lnTo>
                  <a:lnTo>
                    <a:pt x="424" y="358"/>
                  </a:lnTo>
                  <a:lnTo>
                    <a:pt x="404" y="358"/>
                  </a:lnTo>
                  <a:lnTo>
                    <a:pt x="399" y="358"/>
                  </a:lnTo>
                  <a:lnTo>
                    <a:pt x="393" y="358"/>
                  </a:lnTo>
                  <a:lnTo>
                    <a:pt x="388" y="358"/>
                  </a:lnTo>
                  <a:lnTo>
                    <a:pt x="382" y="358"/>
                  </a:lnTo>
                  <a:lnTo>
                    <a:pt x="376" y="358"/>
                  </a:lnTo>
                  <a:lnTo>
                    <a:pt x="371" y="358"/>
                  </a:lnTo>
                  <a:lnTo>
                    <a:pt x="364" y="358"/>
                  </a:lnTo>
                  <a:lnTo>
                    <a:pt x="359" y="358"/>
                  </a:lnTo>
                  <a:lnTo>
                    <a:pt x="354" y="358"/>
                  </a:lnTo>
                  <a:lnTo>
                    <a:pt x="348" y="358"/>
                  </a:lnTo>
                  <a:lnTo>
                    <a:pt x="343" y="358"/>
                  </a:lnTo>
                  <a:lnTo>
                    <a:pt x="338" y="358"/>
                  </a:lnTo>
                  <a:lnTo>
                    <a:pt x="333" y="358"/>
                  </a:lnTo>
                  <a:lnTo>
                    <a:pt x="329" y="358"/>
                  </a:lnTo>
                  <a:lnTo>
                    <a:pt x="326" y="358"/>
                  </a:lnTo>
                  <a:lnTo>
                    <a:pt x="324" y="358"/>
                  </a:lnTo>
                  <a:lnTo>
                    <a:pt x="317" y="386"/>
                  </a:lnTo>
                  <a:lnTo>
                    <a:pt x="312" y="413"/>
                  </a:lnTo>
                  <a:lnTo>
                    <a:pt x="308" y="437"/>
                  </a:lnTo>
                  <a:lnTo>
                    <a:pt x="304" y="458"/>
                  </a:lnTo>
                  <a:lnTo>
                    <a:pt x="299" y="479"/>
                  </a:lnTo>
                  <a:lnTo>
                    <a:pt x="296" y="498"/>
                  </a:lnTo>
                  <a:lnTo>
                    <a:pt x="293" y="515"/>
                  </a:lnTo>
                  <a:lnTo>
                    <a:pt x="290" y="533"/>
                  </a:lnTo>
                  <a:lnTo>
                    <a:pt x="286" y="550"/>
                  </a:lnTo>
                  <a:lnTo>
                    <a:pt x="283" y="568"/>
                  </a:lnTo>
                  <a:lnTo>
                    <a:pt x="280" y="587"/>
                  </a:lnTo>
                  <a:lnTo>
                    <a:pt x="277" y="608"/>
                  </a:lnTo>
                  <a:lnTo>
                    <a:pt x="273" y="630"/>
                  </a:lnTo>
                  <a:lnTo>
                    <a:pt x="269" y="654"/>
                  </a:lnTo>
                  <a:lnTo>
                    <a:pt x="265" y="681"/>
                  </a:lnTo>
                  <a:lnTo>
                    <a:pt x="261" y="712"/>
                  </a:lnTo>
                  <a:lnTo>
                    <a:pt x="263" y="712"/>
                  </a:lnTo>
                  <a:lnTo>
                    <a:pt x="266" y="712"/>
                  </a:lnTo>
                  <a:lnTo>
                    <a:pt x="270" y="712"/>
                  </a:lnTo>
                  <a:lnTo>
                    <a:pt x="274" y="712"/>
                  </a:lnTo>
                  <a:lnTo>
                    <a:pt x="278" y="712"/>
                  </a:lnTo>
                  <a:lnTo>
                    <a:pt x="283" y="712"/>
                  </a:lnTo>
                  <a:lnTo>
                    <a:pt x="288" y="712"/>
                  </a:lnTo>
                  <a:lnTo>
                    <a:pt x="293" y="712"/>
                  </a:lnTo>
                  <a:lnTo>
                    <a:pt x="298" y="712"/>
                  </a:lnTo>
                  <a:lnTo>
                    <a:pt x="304" y="712"/>
                  </a:lnTo>
                  <a:lnTo>
                    <a:pt x="310" y="712"/>
                  </a:lnTo>
                  <a:lnTo>
                    <a:pt x="315" y="712"/>
                  </a:lnTo>
                  <a:lnTo>
                    <a:pt x="322" y="712"/>
                  </a:lnTo>
                  <a:lnTo>
                    <a:pt x="328" y="712"/>
                  </a:lnTo>
                  <a:lnTo>
                    <a:pt x="335" y="712"/>
                  </a:lnTo>
                  <a:lnTo>
                    <a:pt x="341" y="712"/>
                  </a:lnTo>
                  <a:lnTo>
                    <a:pt x="351" y="711"/>
                  </a:lnTo>
                  <a:lnTo>
                    <a:pt x="362" y="711"/>
                  </a:lnTo>
                  <a:lnTo>
                    <a:pt x="373" y="711"/>
                  </a:lnTo>
                  <a:lnTo>
                    <a:pt x="384" y="711"/>
                  </a:lnTo>
                  <a:lnTo>
                    <a:pt x="395" y="710"/>
                  </a:lnTo>
                  <a:lnTo>
                    <a:pt x="407" y="710"/>
                  </a:lnTo>
                  <a:lnTo>
                    <a:pt x="419" y="709"/>
                  </a:lnTo>
                  <a:lnTo>
                    <a:pt x="431" y="708"/>
                  </a:lnTo>
                  <a:lnTo>
                    <a:pt x="443" y="707"/>
                  </a:lnTo>
                  <a:lnTo>
                    <a:pt x="455" y="707"/>
                  </a:lnTo>
                  <a:lnTo>
                    <a:pt x="469" y="706"/>
                  </a:lnTo>
                  <a:lnTo>
                    <a:pt x="482" y="705"/>
                  </a:lnTo>
                  <a:lnTo>
                    <a:pt x="496" y="704"/>
                  </a:lnTo>
                  <a:lnTo>
                    <a:pt x="511" y="703"/>
                  </a:lnTo>
                  <a:lnTo>
                    <a:pt x="525" y="702"/>
                  </a:lnTo>
                  <a:lnTo>
                    <a:pt x="541" y="701"/>
                  </a:lnTo>
                  <a:lnTo>
                    <a:pt x="539" y="707"/>
                  </a:lnTo>
                  <a:lnTo>
                    <a:pt x="537" y="714"/>
                  </a:lnTo>
                  <a:lnTo>
                    <a:pt x="535" y="721"/>
                  </a:lnTo>
                  <a:lnTo>
                    <a:pt x="534" y="727"/>
                  </a:lnTo>
                  <a:lnTo>
                    <a:pt x="532" y="735"/>
                  </a:lnTo>
                  <a:lnTo>
                    <a:pt x="531" y="742"/>
                  </a:lnTo>
                  <a:lnTo>
                    <a:pt x="530" y="749"/>
                  </a:lnTo>
                  <a:lnTo>
                    <a:pt x="529" y="756"/>
                  </a:lnTo>
                  <a:lnTo>
                    <a:pt x="528" y="763"/>
                  </a:lnTo>
                  <a:lnTo>
                    <a:pt x="528" y="770"/>
                  </a:lnTo>
                  <a:lnTo>
                    <a:pt x="528" y="777"/>
                  </a:lnTo>
                  <a:lnTo>
                    <a:pt x="527" y="783"/>
                  </a:lnTo>
                  <a:lnTo>
                    <a:pt x="528" y="790"/>
                  </a:lnTo>
                  <a:lnTo>
                    <a:pt x="528" y="796"/>
                  </a:lnTo>
                  <a:lnTo>
                    <a:pt x="529" y="803"/>
                  </a:lnTo>
                  <a:lnTo>
                    <a:pt x="530" y="809"/>
                  </a:lnTo>
                  <a:lnTo>
                    <a:pt x="514" y="807"/>
                  </a:lnTo>
                  <a:lnTo>
                    <a:pt x="499" y="806"/>
                  </a:lnTo>
                  <a:lnTo>
                    <a:pt x="484" y="805"/>
                  </a:lnTo>
                  <a:lnTo>
                    <a:pt x="470" y="803"/>
                  </a:lnTo>
                  <a:lnTo>
                    <a:pt x="455" y="802"/>
                  </a:lnTo>
                  <a:lnTo>
                    <a:pt x="442" y="802"/>
                  </a:lnTo>
                  <a:lnTo>
                    <a:pt x="429" y="801"/>
                  </a:lnTo>
                  <a:lnTo>
                    <a:pt x="416" y="799"/>
                  </a:lnTo>
                  <a:lnTo>
                    <a:pt x="403" y="798"/>
                  </a:lnTo>
                  <a:lnTo>
                    <a:pt x="390" y="798"/>
                  </a:lnTo>
                  <a:lnTo>
                    <a:pt x="378" y="797"/>
                  </a:lnTo>
                  <a:lnTo>
                    <a:pt x="367" y="797"/>
                  </a:lnTo>
                  <a:lnTo>
                    <a:pt x="356" y="797"/>
                  </a:lnTo>
                  <a:lnTo>
                    <a:pt x="344" y="797"/>
                  </a:lnTo>
                  <a:lnTo>
                    <a:pt x="333" y="797"/>
                  </a:lnTo>
                  <a:lnTo>
                    <a:pt x="324" y="797"/>
                  </a:lnTo>
                  <a:lnTo>
                    <a:pt x="319" y="797"/>
                  </a:lnTo>
                  <a:lnTo>
                    <a:pt x="314" y="797"/>
                  </a:lnTo>
                  <a:lnTo>
                    <a:pt x="310" y="797"/>
                  </a:lnTo>
                  <a:lnTo>
                    <a:pt x="307" y="797"/>
                  </a:lnTo>
                  <a:lnTo>
                    <a:pt x="304" y="797"/>
                  </a:lnTo>
                  <a:lnTo>
                    <a:pt x="300" y="797"/>
                  </a:lnTo>
                  <a:lnTo>
                    <a:pt x="297" y="797"/>
                  </a:lnTo>
                  <a:lnTo>
                    <a:pt x="295" y="797"/>
                  </a:lnTo>
                  <a:lnTo>
                    <a:pt x="293" y="797"/>
                  </a:lnTo>
                  <a:lnTo>
                    <a:pt x="291" y="797"/>
                  </a:lnTo>
                  <a:lnTo>
                    <a:pt x="289" y="797"/>
                  </a:lnTo>
                  <a:lnTo>
                    <a:pt x="286" y="798"/>
                  </a:lnTo>
                  <a:lnTo>
                    <a:pt x="284" y="798"/>
                  </a:lnTo>
                  <a:lnTo>
                    <a:pt x="283" y="799"/>
                  </a:lnTo>
                  <a:lnTo>
                    <a:pt x="281" y="799"/>
                  </a:lnTo>
                  <a:lnTo>
                    <a:pt x="280" y="801"/>
                  </a:lnTo>
                  <a:lnTo>
                    <a:pt x="279" y="801"/>
                  </a:lnTo>
                  <a:lnTo>
                    <a:pt x="278" y="801"/>
                  </a:lnTo>
                  <a:lnTo>
                    <a:pt x="277" y="801"/>
                  </a:lnTo>
                  <a:lnTo>
                    <a:pt x="275" y="801"/>
                  </a:lnTo>
                  <a:lnTo>
                    <a:pt x="274" y="801"/>
                  </a:lnTo>
                  <a:lnTo>
                    <a:pt x="273" y="801"/>
                  </a:lnTo>
                  <a:lnTo>
                    <a:pt x="271" y="801"/>
                  </a:lnTo>
                  <a:lnTo>
                    <a:pt x="269" y="801"/>
                  </a:lnTo>
                  <a:lnTo>
                    <a:pt x="267" y="801"/>
                  </a:lnTo>
                  <a:lnTo>
                    <a:pt x="265" y="801"/>
                  </a:lnTo>
                  <a:lnTo>
                    <a:pt x="263" y="801"/>
                  </a:lnTo>
                  <a:lnTo>
                    <a:pt x="260" y="801"/>
                  </a:lnTo>
                  <a:lnTo>
                    <a:pt x="257" y="801"/>
                  </a:lnTo>
                  <a:lnTo>
                    <a:pt x="253" y="801"/>
                  </a:lnTo>
                  <a:lnTo>
                    <a:pt x="249" y="801"/>
                  </a:lnTo>
                  <a:lnTo>
                    <a:pt x="246" y="801"/>
                  </a:lnTo>
                  <a:lnTo>
                    <a:pt x="241" y="828"/>
                  </a:lnTo>
                  <a:lnTo>
                    <a:pt x="236" y="856"/>
                  </a:lnTo>
                  <a:lnTo>
                    <a:pt x="232" y="882"/>
                  </a:lnTo>
                  <a:lnTo>
                    <a:pt x="229" y="908"/>
                  </a:lnTo>
                  <a:lnTo>
                    <a:pt x="224" y="932"/>
                  </a:lnTo>
                  <a:lnTo>
                    <a:pt x="221" y="956"/>
                  </a:lnTo>
                  <a:lnTo>
                    <a:pt x="217" y="980"/>
                  </a:lnTo>
                  <a:lnTo>
                    <a:pt x="214" y="1003"/>
                  </a:lnTo>
                  <a:lnTo>
                    <a:pt x="211" y="1027"/>
                  </a:lnTo>
                  <a:lnTo>
                    <a:pt x="206" y="1051"/>
                  </a:lnTo>
                  <a:lnTo>
                    <a:pt x="203" y="1076"/>
                  </a:lnTo>
                  <a:lnTo>
                    <a:pt x="199" y="1101"/>
                  </a:lnTo>
                  <a:lnTo>
                    <a:pt x="196" y="1128"/>
                  </a:lnTo>
                  <a:lnTo>
                    <a:pt x="191" y="1155"/>
                  </a:lnTo>
                  <a:lnTo>
                    <a:pt x="187" y="1185"/>
                  </a:lnTo>
                  <a:lnTo>
                    <a:pt x="183" y="1216"/>
                  </a:lnTo>
                  <a:lnTo>
                    <a:pt x="184" y="1215"/>
                  </a:lnTo>
                  <a:lnTo>
                    <a:pt x="185" y="1214"/>
                  </a:lnTo>
                  <a:lnTo>
                    <a:pt x="186" y="1213"/>
                  </a:lnTo>
                  <a:lnTo>
                    <a:pt x="188" y="1212"/>
                  </a:lnTo>
                  <a:lnTo>
                    <a:pt x="190" y="1211"/>
                  </a:lnTo>
                  <a:lnTo>
                    <a:pt x="191" y="1211"/>
                  </a:lnTo>
                  <a:lnTo>
                    <a:pt x="194" y="1210"/>
                  </a:lnTo>
                  <a:lnTo>
                    <a:pt x="197" y="1210"/>
                  </a:lnTo>
                  <a:lnTo>
                    <a:pt x="199" y="1209"/>
                  </a:lnTo>
                  <a:lnTo>
                    <a:pt x="201" y="1209"/>
                  </a:lnTo>
                  <a:lnTo>
                    <a:pt x="204" y="1207"/>
                  </a:lnTo>
                  <a:lnTo>
                    <a:pt x="207" y="1207"/>
                  </a:lnTo>
                  <a:lnTo>
                    <a:pt x="211" y="1207"/>
                  </a:lnTo>
                  <a:lnTo>
                    <a:pt x="215" y="1207"/>
                  </a:lnTo>
                  <a:lnTo>
                    <a:pt x="219" y="1207"/>
                  </a:lnTo>
                  <a:lnTo>
                    <a:pt x="223" y="1207"/>
                  </a:lnTo>
                  <a:lnTo>
                    <a:pt x="230" y="1206"/>
                  </a:lnTo>
                  <a:lnTo>
                    <a:pt x="238" y="1206"/>
                  </a:lnTo>
                  <a:lnTo>
                    <a:pt x="249" y="1206"/>
                  </a:lnTo>
                  <a:lnTo>
                    <a:pt x="261" y="1206"/>
                  </a:lnTo>
                  <a:lnTo>
                    <a:pt x="274" y="1206"/>
                  </a:lnTo>
                  <a:lnTo>
                    <a:pt x="286" y="1205"/>
                  </a:lnTo>
                  <a:lnTo>
                    <a:pt x="301" y="1205"/>
                  </a:lnTo>
                  <a:lnTo>
                    <a:pt x="316" y="1205"/>
                  </a:lnTo>
                  <a:lnTo>
                    <a:pt x="331" y="1204"/>
                  </a:lnTo>
                  <a:lnTo>
                    <a:pt x="346" y="1204"/>
                  </a:lnTo>
                  <a:lnTo>
                    <a:pt x="360" y="1204"/>
                  </a:lnTo>
                  <a:lnTo>
                    <a:pt x="375" y="1203"/>
                  </a:lnTo>
                  <a:lnTo>
                    <a:pt x="388" y="1203"/>
                  </a:lnTo>
                  <a:lnTo>
                    <a:pt x="400" y="1202"/>
                  </a:lnTo>
                  <a:lnTo>
                    <a:pt x="411" y="1202"/>
                  </a:lnTo>
                  <a:lnTo>
                    <a:pt x="421" y="1202"/>
                  </a:lnTo>
                  <a:lnTo>
                    <a:pt x="429" y="1201"/>
                  </a:lnTo>
                  <a:lnTo>
                    <a:pt x="437" y="1200"/>
                  </a:lnTo>
                  <a:lnTo>
                    <a:pt x="446" y="1200"/>
                  </a:lnTo>
                  <a:lnTo>
                    <a:pt x="453" y="1199"/>
                  </a:lnTo>
                  <a:lnTo>
                    <a:pt x="462" y="1198"/>
                  </a:lnTo>
                  <a:lnTo>
                    <a:pt x="469" y="1197"/>
                  </a:lnTo>
                  <a:lnTo>
                    <a:pt x="478" y="1197"/>
                  </a:lnTo>
                  <a:lnTo>
                    <a:pt x="485" y="1196"/>
                  </a:lnTo>
                  <a:lnTo>
                    <a:pt x="493" y="1195"/>
                  </a:lnTo>
                  <a:lnTo>
                    <a:pt x="499" y="1194"/>
                  </a:lnTo>
                  <a:lnTo>
                    <a:pt x="507" y="1193"/>
                  </a:lnTo>
                  <a:lnTo>
                    <a:pt x="513" y="1193"/>
                  </a:lnTo>
                  <a:lnTo>
                    <a:pt x="520" y="1192"/>
                  </a:lnTo>
                  <a:lnTo>
                    <a:pt x="526" y="1191"/>
                  </a:lnTo>
                  <a:lnTo>
                    <a:pt x="532" y="1190"/>
                  </a:lnTo>
                  <a:lnTo>
                    <a:pt x="539" y="1190"/>
                  </a:lnTo>
                  <a:lnTo>
                    <a:pt x="539" y="1189"/>
                  </a:lnTo>
                  <a:lnTo>
                    <a:pt x="539" y="1188"/>
                  </a:lnTo>
                  <a:lnTo>
                    <a:pt x="539" y="1187"/>
                  </a:lnTo>
                  <a:lnTo>
                    <a:pt x="539" y="1186"/>
                  </a:lnTo>
                  <a:lnTo>
                    <a:pt x="539" y="1185"/>
                  </a:lnTo>
                  <a:lnTo>
                    <a:pt x="539" y="1184"/>
                  </a:lnTo>
                  <a:lnTo>
                    <a:pt x="539" y="1183"/>
                  </a:lnTo>
                  <a:lnTo>
                    <a:pt x="543" y="1066"/>
                  </a:lnTo>
                  <a:lnTo>
                    <a:pt x="557" y="952"/>
                  </a:lnTo>
                  <a:lnTo>
                    <a:pt x="579" y="842"/>
                  </a:lnTo>
                  <a:lnTo>
                    <a:pt x="610" y="735"/>
                  </a:lnTo>
                  <a:lnTo>
                    <a:pt x="649" y="632"/>
                  </a:lnTo>
                  <a:lnTo>
                    <a:pt x="696" y="534"/>
                  </a:lnTo>
                  <a:lnTo>
                    <a:pt x="749" y="442"/>
                  </a:lnTo>
                  <a:lnTo>
                    <a:pt x="809" y="358"/>
                  </a:lnTo>
                  <a:lnTo>
                    <a:pt x="875" y="279"/>
                  </a:lnTo>
                  <a:lnTo>
                    <a:pt x="948" y="209"/>
                  </a:lnTo>
                  <a:lnTo>
                    <a:pt x="1026" y="148"/>
                  </a:lnTo>
                  <a:lnTo>
                    <a:pt x="1109" y="97"/>
                  </a:lnTo>
                  <a:lnTo>
                    <a:pt x="1197" y="56"/>
                  </a:lnTo>
                  <a:lnTo>
                    <a:pt x="1288" y="25"/>
                  </a:lnTo>
                  <a:lnTo>
                    <a:pt x="1385" y="6"/>
                  </a:lnTo>
                  <a:lnTo>
                    <a:pt x="1485" y="0"/>
                  </a:lnTo>
                  <a:lnTo>
                    <a:pt x="1530" y="1"/>
                  </a:lnTo>
                  <a:lnTo>
                    <a:pt x="1574" y="5"/>
                  </a:lnTo>
                  <a:lnTo>
                    <a:pt x="1616" y="11"/>
                  </a:lnTo>
                  <a:lnTo>
                    <a:pt x="1656" y="19"/>
                  </a:lnTo>
                  <a:lnTo>
                    <a:pt x="1694" y="29"/>
                  </a:lnTo>
                  <a:lnTo>
                    <a:pt x="1730" y="39"/>
                  </a:lnTo>
                  <a:lnTo>
                    <a:pt x="1763" y="51"/>
                  </a:lnTo>
                  <a:lnTo>
                    <a:pt x="1794" y="62"/>
                  </a:lnTo>
                  <a:lnTo>
                    <a:pt x="1821" y="74"/>
                  </a:lnTo>
                  <a:lnTo>
                    <a:pt x="1846" y="86"/>
                  </a:lnTo>
                  <a:lnTo>
                    <a:pt x="1867" y="96"/>
                  </a:lnTo>
                  <a:lnTo>
                    <a:pt x="1886" y="106"/>
                  </a:lnTo>
                  <a:lnTo>
                    <a:pt x="1901" y="114"/>
                  </a:lnTo>
                  <a:lnTo>
                    <a:pt x="1911" y="121"/>
                  </a:lnTo>
                  <a:lnTo>
                    <a:pt x="1919" y="126"/>
                  </a:lnTo>
                  <a:lnTo>
                    <a:pt x="1922" y="128"/>
                  </a:lnTo>
                  <a:lnTo>
                    <a:pt x="1915" y="141"/>
                  </a:lnTo>
                  <a:lnTo>
                    <a:pt x="1909" y="155"/>
                  </a:lnTo>
                  <a:lnTo>
                    <a:pt x="1903" y="169"/>
                  </a:lnTo>
                  <a:lnTo>
                    <a:pt x="1896" y="182"/>
                  </a:lnTo>
                  <a:lnTo>
                    <a:pt x="1891" y="197"/>
                  </a:lnTo>
                  <a:lnTo>
                    <a:pt x="1885" y="211"/>
                  </a:lnTo>
                  <a:lnTo>
                    <a:pt x="1879" y="226"/>
                  </a:lnTo>
                  <a:lnTo>
                    <a:pt x="1874" y="239"/>
                  </a:lnTo>
                  <a:lnTo>
                    <a:pt x="1868" y="253"/>
                  </a:lnTo>
                  <a:lnTo>
                    <a:pt x="1864" y="267"/>
                  </a:lnTo>
                  <a:lnTo>
                    <a:pt x="1859" y="280"/>
                  </a:lnTo>
                  <a:lnTo>
                    <a:pt x="1855" y="294"/>
                  </a:lnTo>
                  <a:lnTo>
                    <a:pt x="1851" y="306"/>
                  </a:lnTo>
                  <a:lnTo>
                    <a:pt x="1847" y="318"/>
                  </a:lnTo>
                  <a:lnTo>
                    <a:pt x="1844" y="331"/>
                  </a:lnTo>
                  <a:lnTo>
                    <a:pt x="1842" y="343"/>
                  </a:lnTo>
                  <a:lnTo>
                    <a:pt x="1816" y="343"/>
                  </a:lnTo>
                  <a:lnTo>
                    <a:pt x="1814" y="340"/>
                  </a:lnTo>
                  <a:lnTo>
                    <a:pt x="1809" y="333"/>
                  </a:lnTo>
                  <a:lnTo>
                    <a:pt x="1801" y="321"/>
                  </a:lnTo>
                  <a:lnTo>
                    <a:pt x="1792" y="307"/>
                  </a:lnTo>
                  <a:lnTo>
                    <a:pt x="1779" y="290"/>
                  </a:lnTo>
                  <a:lnTo>
                    <a:pt x="1764" y="271"/>
                  </a:lnTo>
                  <a:lnTo>
                    <a:pt x="1746" y="250"/>
                  </a:lnTo>
                  <a:lnTo>
                    <a:pt x="1724" y="230"/>
                  </a:lnTo>
                  <a:lnTo>
                    <a:pt x="1701" y="209"/>
                  </a:lnTo>
                  <a:lnTo>
                    <a:pt x="1675" y="190"/>
                  </a:lnTo>
                  <a:lnTo>
                    <a:pt x="1646" y="170"/>
                  </a:lnTo>
                  <a:lnTo>
                    <a:pt x="1614" y="154"/>
                  </a:lnTo>
                  <a:lnTo>
                    <a:pt x="1580" y="139"/>
                  </a:lnTo>
                  <a:lnTo>
                    <a:pt x="1544" y="129"/>
                  </a:lnTo>
                  <a:lnTo>
                    <a:pt x="1504" y="122"/>
                  </a:lnTo>
                  <a:lnTo>
                    <a:pt x="1463" y="120"/>
                  </a:lnTo>
                  <a:lnTo>
                    <a:pt x="1395" y="125"/>
                  </a:lnTo>
                  <a:lnTo>
                    <a:pt x="1329" y="141"/>
                  </a:lnTo>
                  <a:lnTo>
                    <a:pt x="1264" y="169"/>
                  </a:lnTo>
                  <a:lnTo>
                    <a:pt x="1201" y="206"/>
                  </a:lnTo>
                  <a:lnTo>
                    <a:pt x="1140" y="252"/>
                  </a:lnTo>
                  <a:lnTo>
                    <a:pt x="1082" y="308"/>
                  </a:lnTo>
                  <a:lnTo>
                    <a:pt x="1027" y="373"/>
                  </a:lnTo>
                  <a:lnTo>
                    <a:pt x="977" y="445"/>
                  </a:lnTo>
                  <a:lnTo>
                    <a:pt x="930" y="524"/>
                  </a:lnTo>
                  <a:lnTo>
                    <a:pt x="887" y="612"/>
                  </a:lnTo>
                  <a:lnTo>
                    <a:pt x="849" y="706"/>
                  </a:lnTo>
                  <a:lnTo>
                    <a:pt x="818" y="805"/>
                  </a:lnTo>
                  <a:lnTo>
                    <a:pt x="793" y="910"/>
                  </a:lnTo>
                  <a:lnTo>
                    <a:pt x="775" y="1020"/>
                  </a:lnTo>
                  <a:lnTo>
                    <a:pt x="763" y="1135"/>
                  </a:lnTo>
                  <a:lnTo>
                    <a:pt x="760" y="1255"/>
                  </a:lnTo>
                  <a:lnTo>
                    <a:pt x="762" y="1319"/>
                  </a:lnTo>
                  <a:lnTo>
                    <a:pt x="767" y="1380"/>
                  </a:lnTo>
                  <a:lnTo>
                    <a:pt x="778" y="1437"/>
                  </a:lnTo>
                  <a:lnTo>
                    <a:pt x="792" y="1492"/>
                  </a:lnTo>
                  <a:lnTo>
                    <a:pt x="810" y="1542"/>
                  </a:lnTo>
                  <a:lnTo>
                    <a:pt x="831" y="1591"/>
                  </a:lnTo>
                  <a:lnTo>
                    <a:pt x="856" y="1634"/>
                  </a:lnTo>
                  <a:lnTo>
                    <a:pt x="885" y="1674"/>
                  </a:lnTo>
                  <a:lnTo>
                    <a:pt x="915" y="1709"/>
                  </a:lnTo>
                  <a:lnTo>
                    <a:pt x="949" y="1741"/>
                  </a:lnTo>
                  <a:lnTo>
                    <a:pt x="985" y="1768"/>
                  </a:lnTo>
                  <a:lnTo>
                    <a:pt x="1025" y="1791"/>
                  </a:lnTo>
                  <a:lnTo>
                    <a:pt x="1065" y="1809"/>
                  </a:lnTo>
                  <a:lnTo>
                    <a:pt x="1109" y="1821"/>
                  </a:lnTo>
                  <a:lnTo>
                    <a:pt x="1154" y="1830"/>
                  </a:lnTo>
                  <a:lnTo>
                    <a:pt x="1202" y="1833"/>
                  </a:lnTo>
                  <a:lnTo>
                    <a:pt x="1249" y="1830"/>
                  </a:lnTo>
                  <a:lnTo>
                    <a:pt x="1295" y="1824"/>
                  </a:lnTo>
                  <a:lnTo>
                    <a:pt x="1340" y="1813"/>
                  </a:lnTo>
                  <a:lnTo>
                    <a:pt x="1381" y="1800"/>
                  </a:lnTo>
                  <a:lnTo>
                    <a:pt x="1422" y="1783"/>
                  </a:lnTo>
                  <a:lnTo>
                    <a:pt x="1459" y="1766"/>
                  </a:lnTo>
                  <a:lnTo>
                    <a:pt x="1495" y="1747"/>
                  </a:lnTo>
                  <a:lnTo>
                    <a:pt x="1527" y="1728"/>
                  </a:lnTo>
                  <a:lnTo>
                    <a:pt x="1557" y="1707"/>
                  </a:lnTo>
                  <a:lnTo>
                    <a:pt x="1582" y="1689"/>
                  </a:lnTo>
                  <a:lnTo>
                    <a:pt x="1606" y="1671"/>
                  </a:lnTo>
                  <a:lnTo>
                    <a:pt x="1624" y="1655"/>
                  </a:lnTo>
                  <a:lnTo>
                    <a:pt x="1640" y="1641"/>
                  </a:lnTo>
                  <a:lnTo>
                    <a:pt x="1651" y="1631"/>
                  </a:lnTo>
                  <a:lnTo>
                    <a:pt x="1657" y="1625"/>
                  </a:lnTo>
                  <a:lnTo>
                    <a:pt x="1660" y="16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7279560" y="6266160"/>
              <a:ext cx="322560" cy="235800"/>
            </a:xfrm>
            <a:custGeom>
              <a:avLst/>
              <a:gdLst/>
              <a:ahLst/>
              <a:rect l="l" t="t" r="r" b="b"/>
              <a:pathLst>
                <a:path w="1645" h="1096">
                  <a:moveTo>
                    <a:pt x="1645" y="432"/>
                  </a:moveTo>
                  <a:lnTo>
                    <a:pt x="1642" y="486"/>
                  </a:lnTo>
                  <a:lnTo>
                    <a:pt x="1636" y="542"/>
                  </a:lnTo>
                  <a:lnTo>
                    <a:pt x="1624" y="599"/>
                  </a:lnTo>
                  <a:lnTo>
                    <a:pt x="1609" y="656"/>
                  </a:lnTo>
                  <a:lnTo>
                    <a:pt x="1589" y="712"/>
                  </a:lnTo>
                  <a:lnTo>
                    <a:pt x="1564" y="766"/>
                  </a:lnTo>
                  <a:lnTo>
                    <a:pt x="1535" y="819"/>
                  </a:lnTo>
                  <a:lnTo>
                    <a:pt x="1503" y="869"/>
                  </a:lnTo>
                  <a:lnTo>
                    <a:pt x="1466" y="916"/>
                  </a:lnTo>
                  <a:lnTo>
                    <a:pt x="1425" y="958"/>
                  </a:lnTo>
                  <a:lnTo>
                    <a:pt x="1381" y="995"/>
                  </a:lnTo>
                  <a:lnTo>
                    <a:pt x="1331" y="1028"/>
                  </a:lnTo>
                  <a:lnTo>
                    <a:pt x="1278" y="1054"/>
                  </a:lnTo>
                  <a:lnTo>
                    <a:pt x="1221" y="1073"/>
                  </a:lnTo>
                  <a:lnTo>
                    <a:pt x="1162" y="1086"/>
                  </a:lnTo>
                  <a:lnTo>
                    <a:pt x="1097" y="1091"/>
                  </a:lnTo>
                  <a:lnTo>
                    <a:pt x="1055" y="1089"/>
                  </a:lnTo>
                  <a:lnTo>
                    <a:pt x="1016" y="1083"/>
                  </a:lnTo>
                  <a:lnTo>
                    <a:pt x="981" y="1074"/>
                  </a:lnTo>
                  <a:lnTo>
                    <a:pt x="949" y="1063"/>
                  </a:lnTo>
                  <a:lnTo>
                    <a:pt x="921" y="1050"/>
                  </a:lnTo>
                  <a:lnTo>
                    <a:pt x="896" y="1033"/>
                  </a:lnTo>
                  <a:lnTo>
                    <a:pt x="873" y="1017"/>
                  </a:lnTo>
                  <a:lnTo>
                    <a:pt x="854" y="998"/>
                  </a:lnTo>
                  <a:lnTo>
                    <a:pt x="837" y="980"/>
                  </a:lnTo>
                  <a:lnTo>
                    <a:pt x="822" y="960"/>
                  </a:lnTo>
                  <a:lnTo>
                    <a:pt x="810" y="942"/>
                  </a:lnTo>
                  <a:lnTo>
                    <a:pt x="799" y="923"/>
                  </a:lnTo>
                  <a:lnTo>
                    <a:pt x="791" y="905"/>
                  </a:lnTo>
                  <a:lnTo>
                    <a:pt x="783" y="889"/>
                  </a:lnTo>
                  <a:lnTo>
                    <a:pt x="778" y="875"/>
                  </a:lnTo>
                  <a:lnTo>
                    <a:pt x="775" y="863"/>
                  </a:lnTo>
                  <a:lnTo>
                    <a:pt x="767" y="875"/>
                  </a:lnTo>
                  <a:lnTo>
                    <a:pt x="759" y="889"/>
                  </a:lnTo>
                  <a:lnTo>
                    <a:pt x="747" y="904"/>
                  </a:lnTo>
                  <a:lnTo>
                    <a:pt x="733" y="923"/>
                  </a:lnTo>
                  <a:lnTo>
                    <a:pt x="718" y="942"/>
                  </a:lnTo>
                  <a:lnTo>
                    <a:pt x="700" y="961"/>
                  </a:lnTo>
                  <a:lnTo>
                    <a:pt x="679" y="981"/>
                  </a:lnTo>
                  <a:lnTo>
                    <a:pt x="656" y="1000"/>
                  </a:lnTo>
                  <a:lnTo>
                    <a:pt x="631" y="1019"/>
                  </a:lnTo>
                  <a:lnTo>
                    <a:pt x="602" y="1036"/>
                  </a:lnTo>
                  <a:lnTo>
                    <a:pt x="572" y="1053"/>
                  </a:lnTo>
                  <a:lnTo>
                    <a:pt x="538" y="1067"/>
                  </a:lnTo>
                  <a:lnTo>
                    <a:pt x="501" y="1079"/>
                  </a:lnTo>
                  <a:lnTo>
                    <a:pt x="463" y="1088"/>
                  </a:lnTo>
                  <a:lnTo>
                    <a:pt x="420" y="1094"/>
                  </a:lnTo>
                  <a:lnTo>
                    <a:pt x="376" y="1096"/>
                  </a:lnTo>
                  <a:lnTo>
                    <a:pt x="334" y="1094"/>
                  </a:lnTo>
                  <a:lnTo>
                    <a:pt x="294" y="1088"/>
                  </a:lnTo>
                  <a:lnTo>
                    <a:pt x="256" y="1079"/>
                  </a:lnTo>
                  <a:lnTo>
                    <a:pt x="220" y="1066"/>
                  </a:lnTo>
                  <a:lnTo>
                    <a:pt x="187" y="1050"/>
                  </a:lnTo>
                  <a:lnTo>
                    <a:pt x="156" y="1029"/>
                  </a:lnTo>
                  <a:lnTo>
                    <a:pt x="127" y="1006"/>
                  </a:lnTo>
                  <a:lnTo>
                    <a:pt x="102" y="981"/>
                  </a:lnTo>
                  <a:lnTo>
                    <a:pt x="78" y="951"/>
                  </a:lnTo>
                  <a:lnTo>
                    <a:pt x="58" y="918"/>
                  </a:lnTo>
                  <a:lnTo>
                    <a:pt x="41" y="883"/>
                  </a:lnTo>
                  <a:lnTo>
                    <a:pt x="26" y="845"/>
                  </a:lnTo>
                  <a:lnTo>
                    <a:pt x="15" y="803"/>
                  </a:lnTo>
                  <a:lnTo>
                    <a:pt x="7" y="759"/>
                  </a:lnTo>
                  <a:lnTo>
                    <a:pt x="1" y="713"/>
                  </a:lnTo>
                  <a:lnTo>
                    <a:pt x="0" y="664"/>
                  </a:lnTo>
                  <a:lnTo>
                    <a:pt x="3" y="609"/>
                  </a:lnTo>
                  <a:lnTo>
                    <a:pt x="9" y="552"/>
                  </a:lnTo>
                  <a:lnTo>
                    <a:pt x="21" y="494"/>
                  </a:lnTo>
                  <a:lnTo>
                    <a:pt x="36" y="438"/>
                  </a:lnTo>
                  <a:lnTo>
                    <a:pt x="56" y="381"/>
                  </a:lnTo>
                  <a:lnTo>
                    <a:pt x="80" y="325"/>
                  </a:lnTo>
                  <a:lnTo>
                    <a:pt x="109" y="273"/>
                  </a:lnTo>
                  <a:lnTo>
                    <a:pt x="142" y="222"/>
                  </a:lnTo>
                  <a:lnTo>
                    <a:pt x="180" y="176"/>
                  </a:lnTo>
                  <a:lnTo>
                    <a:pt x="222" y="133"/>
                  </a:lnTo>
                  <a:lnTo>
                    <a:pt x="266" y="95"/>
                  </a:lnTo>
                  <a:lnTo>
                    <a:pt x="317" y="63"/>
                  </a:lnTo>
                  <a:lnTo>
                    <a:pt x="370" y="36"/>
                  </a:lnTo>
                  <a:lnTo>
                    <a:pt x="428" y="16"/>
                  </a:lnTo>
                  <a:lnTo>
                    <a:pt x="489" y="4"/>
                  </a:lnTo>
                  <a:lnTo>
                    <a:pt x="555" y="0"/>
                  </a:lnTo>
                  <a:lnTo>
                    <a:pt x="598" y="1"/>
                  </a:lnTo>
                  <a:lnTo>
                    <a:pt x="636" y="7"/>
                  </a:lnTo>
                  <a:lnTo>
                    <a:pt x="672" y="15"/>
                  </a:lnTo>
                  <a:lnTo>
                    <a:pt x="704" y="27"/>
                  </a:lnTo>
                  <a:lnTo>
                    <a:pt x="732" y="41"/>
                  </a:lnTo>
                  <a:lnTo>
                    <a:pt x="758" y="57"/>
                  </a:lnTo>
                  <a:lnTo>
                    <a:pt x="780" y="74"/>
                  </a:lnTo>
                  <a:lnTo>
                    <a:pt x="799" y="93"/>
                  </a:lnTo>
                  <a:lnTo>
                    <a:pt x="817" y="112"/>
                  </a:lnTo>
                  <a:lnTo>
                    <a:pt x="831" y="131"/>
                  </a:lnTo>
                  <a:lnTo>
                    <a:pt x="843" y="150"/>
                  </a:lnTo>
                  <a:lnTo>
                    <a:pt x="854" y="169"/>
                  </a:lnTo>
                  <a:lnTo>
                    <a:pt x="862" y="186"/>
                  </a:lnTo>
                  <a:lnTo>
                    <a:pt x="869" y="203"/>
                  </a:lnTo>
                  <a:lnTo>
                    <a:pt x="874" y="217"/>
                  </a:lnTo>
                  <a:lnTo>
                    <a:pt x="878" y="230"/>
                  </a:lnTo>
                  <a:lnTo>
                    <a:pt x="885" y="217"/>
                  </a:lnTo>
                  <a:lnTo>
                    <a:pt x="894" y="204"/>
                  </a:lnTo>
                  <a:lnTo>
                    <a:pt x="905" y="187"/>
                  </a:lnTo>
                  <a:lnTo>
                    <a:pt x="919" y="171"/>
                  </a:lnTo>
                  <a:lnTo>
                    <a:pt x="934" y="152"/>
                  </a:lnTo>
                  <a:lnTo>
                    <a:pt x="952" y="134"/>
                  </a:lnTo>
                  <a:lnTo>
                    <a:pt x="972" y="114"/>
                  </a:lnTo>
                  <a:lnTo>
                    <a:pt x="995" y="96"/>
                  </a:lnTo>
                  <a:lnTo>
                    <a:pt x="1021" y="78"/>
                  </a:lnTo>
                  <a:lnTo>
                    <a:pt x="1048" y="61"/>
                  </a:lnTo>
                  <a:lnTo>
                    <a:pt x="1079" y="45"/>
                  </a:lnTo>
                  <a:lnTo>
                    <a:pt x="1112" y="32"/>
                  </a:lnTo>
                  <a:lnTo>
                    <a:pt x="1149" y="20"/>
                  </a:lnTo>
                  <a:lnTo>
                    <a:pt x="1187" y="12"/>
                  </a:lnTo>
                  <a:lnTo>
                    <a:pt x="1229" y="6"/>
                  </a:lnTo>
                  <a:lnTo>
                    <a:pt x="1275" y="5"/>
                  </a:lnTo>
                  <a:lnTo>
                    <a:pt x="1315" y="6"/>
                  </a:lnTo>
                  <a:lnTo>
                    <a:pt x="1355" y="12"/>
                  </a:lnTo>
                  <a:lnTo>
                    <a:pt x="1392" y="22"/>
                  </a:lnTo>
                  <a:lnTo>
                    <a:pt x="1428" y="34"/>
                  </a:lnTo>
                  <a:lnTo>
                    <a:pt x="1461" y="50"/>
                  </a:lnTo>
                  <a:lnTo>
                    <a:pt x="1491" y="69"/>
                  </a:lnTo>
                  <a:lnTo>
                    <a:pt x="1519" y="93"/>
                  </a:lnTo>
                  <a:lnTo>
                    <a:pt x="1545" y="118"/>
                  </a:lnTo>
                  <a:lnTo>
                    <a:pt x="1567" y="147"/>
                  </a:lnTo>
                  <a:lnTo>
                    <a:pt x="1588" y="179"/>
                  </a:lnTo>
                  <a:lnTo>
                    <a:pt x="1605" y="214"/>
                  </a:lnTo>
                  <a:lnTo>
                    <a:pt x="1619" y="252"/>
                  </a:lnTo>
                  <a:lnTo>
                    <a:pt x="1630" y="292"/>
                  </a:lnTo>
                  <a:lnTo>
                    <a:pt x="1638" y="337"/>
                  </a:lnTo>
                  <a:lnTo>
                    <a:pt x="1643" y="382"/>
                  </a:lnTo>
                  <a:lnTo>
                    <a:pt x="1645" y="432"/>
                  </a:lnTo>
                  <a:close/>
                  <a:moveTo>
                    <a:pt x="752" y="417"/>
                  </a:moveTo>
                  <a:lnTo>
                    <a:pt x="751" y="387"/>
                  </a:lnTo>
                  <a:lnTo>
                    <a:pt x="750" y="358"/>
                  </a:lnTo>
                  <a:lnTo>
                    <a:pt x="747" y="330"/>
                  </a:lnTo>
                  <a:lnTo>
                    <a:pt x="743" y="302"/>
                  </a:lnTo>
                  <a:lnTo>
                    <a:pt x="737" y="274"/>
                  </a:lnTo>
                  <a:lnTo>
                    <a:pt x="731" y="247"/>
                  </a:lnTo>
                  <a:lnTo>
                    <a:pt x="722" y="222"/>
                  </a:lnTo>
                  <a:lnTo>
                    <a:pt x="712" y="199"/>
                  </a:lnTo>
                  <a:lnTo>
                    <a:pt x="699" y="177"/>
                  </a:lnTo>
                  <a:lnTo>
                    <a:pt x="684" y="156"/>
                  </a:lnTo>
                  <a:lnTo>
                    <a:pt x="667" y="139"/>
                  </a:lnTo>
                  <a:lnTo>
                    <a:pt x="647" y="125"/>
                  </a:lnTo>
                  <a:lnTo>
                    <a:pt x="624" y="112"/>
                  </a:lnTo>
                  <a:lnTo>
                    <a:pt x="600" y="104"/>
                  </a:lnTo>
                  <a:lnTo>
                    <a:pt x="572" y="98"/>
                  </a:lnTo>
                  <a:lnTo>
                    <a:pt x="541" y="97"/>
                  </a:lnTo>
                  <a:lnTo>
                    <a:pt x="496" y="101"/>
                  </a:lnTo>
                  <a:lnTo>
                    <a:pt x="454" y="112"/>
                  </a:lnTo>
                  <a:lnTo>
                    <a:pt x="416" y="132"/>
                  </a:lnTo>
                  <a:lnTo>
                    <a:pt x="381" y="158"/>
                  </a:lnTo>
                  <a:lnTo>
                    <a:pt x="348" y="188"/>
                  </a:lnTo>
                  <a:lnTo>
                    <a:pt x="319" y="223"/>
                  </a:lnTo>
                  <a:lnTo>
                    <a:pt x="292" y="264"/>
                  </a:lnTo>
                  <a:lnTo>
                    <a:pt x="267" y="307"/>
                  </a:lnTo>
                  <a:lnTo>
                    <a:pt x="246" y="352"/>
                  </a:lnTo>
                  <a:lnTo>
                    <a:pt x="228" y="400"/>
                  </a:lnTo>
                  <a:lnTo>
                    <a:pt x="213" y="448"/>
                  </a:lnTo>
                  <a:lnTo>
                    <a:pt x="200" y="496"/>
                  </a:lnTo>
                  <a:lnTo>
                    <a:pt x="191" y="545"/>
                  </a:lnTo>
                  <a:lnTo>
                    <a:pt x="184" y="592"/>
                  </a:lnTo>
                  <a:lnTo>
                    <a:pt x="180" y="637"/>
                  </a:lnTo>
                  <a:lnTo>
                    <a:pt x="179" y="679"/>
                  </a:lnTo>
                  <a:lnTo>
                    <a:pt x="179" y="708"/>
                  </a:lnTo>
                  <a:lnTo>
                    <a:pt x="180" y="737"/>
                  </a:lnTo>
                  <a:lnTo>
                    <a:pt x="183" y="765"/>
                  </a:lnTo>
                  <a:lnTo>
                    <a:pt x="187" y="793"/>
                  </a:lnTo>
                  <a:lnTo>
                    <a:pt x="193" y="821"/>
                  </a:lnTo>
                  <a:lnTo>
                    <a:pt x="200" y="848"/>
                  </a:lnTo>
                  <a:lnTo>
                    <a:pt x="209" y="872"/>
                  </a:lnTo>
                  <a:lnTo>
                    <a:pt x="219" y="896"/>
                  </a:lnTo>
                  <a:lnTo>
                    <a:pt x="232" y="918"/>
                  </a:lnTo>
                  <a:lnTo>
                    <a:pt x="247" y="938"/>
                  </a:lnTo>
                  <a:lnTo>
                    <a:pt x="264" y="956"/>
                  </a:lnTo>
                  <a:lnTo>
                    <a:pt x="285" y="970"/>
                  </a:lnTo>
                  <a:lnTo>
                    <a:pt x="306" y="983"/>
                  </a:lnTo>
                  <a:lnTo>
                    <a:pt x="332" y="991"/>
                  </a:lnTo>
                  <a:lnTo>
                    <a:pt x="359" y="997"/>
                  </a:lnTo>
                  <a:lnTo>
                    <a:pt x="390" y="999"/>
                  </a:lnTo>
                  <a:lnTo>
                    <a:pt x="434" y="994"/>
                  </a:lnTo>
                  <a:lnTo>
                    <a:pt x="476" y="983"/>
                  </a:lnTo>
                  <a:lnTo>
                    <a:pt x="514" y="963"/>
                  </a:lnTo>
                  <a:lnTo>
                    <a:pt x="549" y="938"/>
                  </a:lnTo>
                  <a:lnTo>
                    <a:pt x="583" y="908"/>
                  </a:lnTo>
                  <a:lnTo>
                    <a:pt x="611" y="871"/>
                  </a:lnTo>
                  <a:lnTo>
                    <a:pt x="638" y="832"/>
                  </a:lnTo>
                  <a:lnTo>
                    <a:pt x="663" y="789"/>
                  </a:lnTo>
                  <a:lnTo>
                    <a:pt x="684" y="744"/>
                  </a:lnTo>
                  <a:lnTo>
                    <a:pt x="702" y="696"/>
                  </a:lnTo>
                  <a:lnTo>
                    <a:pt x="717" y="648"/>
                  </a:lnTo>
                  <a:lnTo>
                    <a:pt x="730" y="599"/>
                  </a:lnTo>
                  <a:lnTo>
                    <a:pt x="740" y="551"/>
                  </a:lnTo>
                  <a:lnTo>
                    <a:pt x="746" y="504"/>
                  </a:lnTo>
                  <a:lnTo>
                    <a:pt x="750" y="459"/>
                  </a:lnTo>
                  <a:lnTo>
                    <a:pt x="752" y="417"/>
                  </a:lnTo>
                  <a:close/>
                  <a:moveTo>
                    <a:pt x="1455" y="417"/>
                  </a:moveTo>
                  <a:lnTo>
                    <a:pt x="1454" y="388"/>
                  </a:lnTo>
                  <a:lnTo>
                    <a:pt x="1453" y="359"/>
                  </a:lnTo>
                  <a:lnTo>
                    <a:pt x="1451" y="332"/>
                  </a:lnTo>
                  <a:lnTo>
                    <a:pt x="1448" y="304"/>
                  </a:lnTo>
                  <a:lnTo>
                    <a:pt x="1442" y="277"/>
                  </a:lnTo>
                  <a:lnTo>
                    <a:pt x="1436" y="250"/>
                  </a:lnTo>
                  <a:lnTo>
                    <a:pt x="1429" y="226"/>
                  </a:lnTo>
                  <a:lnTo>
                    <a:pt x="1419" y="203"/>
                  </a:lnTo>
                  <a:lnTo>
                    <a:pt x="1406" y="181"/>
                  </a:lnTo>
                  <a:lnTo>
                    <a:pt x="1392" y="162"/>
                  </a:lnTo>
                  <a:lnTo>
                    <a:pt x="1376" y="145"/>
                  </a:lnTo>
                  <a:lnTo>
                    <a:pt x="1357" y="130"/>
                  </a:lnTo>
                  <a:lnTo>
                    <a:pt x="1336" y="118"/>
                  </a:lnTo>
                  <a:lnTo>
                    <a:pt x="1310" y="110"/>
                  </a:lnTo>
                  <a:lnTo>
                    <a:pt x="1282" y="104"/>
                  </a:lnTo>
                  <a:lnTo>
                    <a:pt x="1252" y="103"/>
                  </a:lnTo>
                  <a:lnTo>
                    <a:pt x="1207" y="106"/>
                  </a:lnTo>
                  <a:lnTo>
                    <a:pt x="1166" y="118"/>
                  </a:lnTo>
                  <a:lnTo>
                    <a:pt x="1128" y="137"/>
                  </a:lnTo>
                  <a:lnTo>
                    <a:pt x="1093" y="163"/>
                  </a:lnTo>
                  <a:lnTo>
                    <a:pt x="1061" y="193"/>
                  </a:lnTo>
                  <a:lnTo>
                    <a:pt x="1031" y="228"/>
                  </a:lnTo>
                  <a:lnTo>
                    <a:pt x="1006" y="267"/>
                  </a:lnTo>
                  <a:lnTo>
                    <a:pt x="982" y="310"/>
                  </a:lnTo>
                  <a:lnTo>
                    <a:pt x="961" y="354"/>
                  </a:lnTo>
                  <a:lnTo>
                    <a:pt x="944" y="401"/>
                  </a:lnTo>
                  <a:lnTo>
                    <a:pt x="929" y="449"/>
                  </a:lnTo>
                  <a:lnTo>
                    <a:pt x="916" y="496"/>
                  </a:lnTo>
                  <a:lnTo>
                    <a:pt x="907" y="544"/>
                  </a:lnTo>
                  <a:lnTo>
                    <a:pt x="900" y="590"/>
                  </a:lnTo>
                  <a:lnTo>
                    <a:pt x="897" y="633"/>
                  </a:lnTo>
                  <a:lnTo>
                    <a:pt x="896" y="676"/>
                  </a:lnTo>
                  <a:lnTo>
                    <a:pt x="896" y="704"/>
                  </a:lnTo>
                  <a:lnTo>
                    <a:pt x="897" y="732"/>
                  </a:lnTo>
                  <a:lnTo>
                    <a:pt x="900" y="761"/>
                  </a:lnTo>
                  <a:lnTo>
                    <a:pt x="903" y="789"/>
                  </a:lnTo>
                  <a:lnTo>
                    <a:pt x="908" y="816"/>
                  </a:lnTo>
                  <a:lnTo>
                    <a:pt x="915" y="843"/>
                  </a:lnTo>
                  <a:lnTo>
                    <a:pt x="923" y="867"/>
                  </a:lnTo>
                  <a:lnTo>
                    <a:pt x="934" y="891"/>
                  </a:lnTo>
                  <a:lnTo>
                    <a:pt x="946" y="913"/>
                  </a:lnTo>
                  <a:lnTo>
                    <a:pt x="961" y="932"/>
                  </a:lnTo>
                  <a:lnTo>
                    <a:pt x="978" y="950"/>
                  </a:lnTo>
                  <a:lnTo>
                    <a:pt x="997" y="964"/>
                  </a:lnTo>
                  <a:lnTo>
                    <a:pt x="1018" y="977"/>
                  </a:lnTo>
                  <a:lnTo>
                    <a:pt x="1044" y="985"/>
                  </a:lnTo>
                  <a:lnTo>
                    <a:pt x="1072" y="991"/>
                  </a:lnTo>
                  <a:lnTo>
                    <a:pt x="1103" y="993"/>
                  </a:lnTo>
                  <a:lnTo>
                    <a:pt x="1146" y="989"/>
                  </a:lnTo>
                  <a:lnTo>
                    <a:pt x="1186" y="977"/>
                  </a:lnTo>
                  <a:lnTo>
                    <a:pt x="1225" y="958"/>
                  </a:lnTo>
                  <a:lnTo>
                    <a:pt x="1259" y="932"/>
                  </a:lnTo>
                  <a:lnTo>
                    <a:pt x="1291" y="902"/>
                  </a:lnTo>
                  <a:lnTo>
                    <a:pt x="1320" y="866"/>
                  </a:lnTo>
                  <a:lnTo>
                    <a:pt x="1345" y="827"/>
                  </a:lnTo>
                  <a:lnTo>
                    <a:pt x="1369" y="785"/>
                  </a:lnTo>
                  <a:lnTo>
                    <a:pt x="1389" y="740"/>
                  </a:lnTo>
                  <a:lnTo>
                    <a:pt x="1406" y="693"/>
                  </a:lnTo>
                  <a:lnTo>
                    <a:pt x="1421" y="645"/>
                  </a:lnTo>
                  <a:lnTo>
                    <a:pt x="1434" y="597"/>
                  </a:lnTo>
                  <a:lnTo>
                    <a:pt x="1442" y="549"/>
                  </a:lnTo>
                  <a:lnTo>
                    <a:pt x="1450" y="503"/>
                  </a:lnTo>
                  <a:lnTo>
                    <a:pt x="1453" y="458"/>
                  </a:lnTo>
                  <a:lnTo>
                    <a:pt x="1455" y="4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7743240" y="6268680"/>
              <a:ext cx="143640" cy="224280"/>
            </a:xfrm>
            <a:custGeom>
              <a:avLst/>
              <a:gdLst/>
              <a:ahLst/>
              <a:rect l="l" t="t" r="r" b="b"/>
              <a:pathLst>
                <a:path w="731" h="1045">
                  <a:moveTo>
                    <a:pt x="603" y="443"/>
                  </a:moveTo>
                  <a:lnTo>
                    <a:pt x="601" y="449"/>
                  </a:lnTo>
                  <a:lnTo>
                    <a:pt x="600" y="457"/>
                  </a:lnTo>
                  <a:lnTo>
                    <a:pt x="598" y="463"/>
                  </a:lnTo>
                  <a:lnTo>
                    <a:pt x="596" y="470"/>
                  </a:lnTo>
                  <a:lnTo>
                    <a:pt x="594" y="477"/>
                  </a:lnTo>
                  <a:lnTo>
                    <a:pt x="593" y="484"/>
                  </a:lnTo>
                  <a:lnTo>
                    <a:pt x="592" y="491"/>
                  </a:lnTo>
                  <a:lnTo>
                    <a:pt x="591" y="498"/>
                  </a:lnTo>
                  <a:lnTo>
                    <a:pt x="590" y="505"/>
                  </a:lnTo>
                  <a:lnTo>
                    <a:pt x="590" y="512"/>
                  </a:lnTo>
                  <a:lnTo>
                    <a:pt x="589" y="518"/>
                  </a:lnTo>
                  <a:lnTo>
                    <a:pt x="589" y="526"/>
                  </a:lnTo>
                  <a:lnTo>
                    <a:pt x="589" y="532"/>
                  </a:lnTo>
                  <a:lnTo>
                    <a:pt x="589" y="539"/>
                  </a:lnTo>
                  <a:lnTo>
                    <a:pt x="590" y="545"/>
                  </a:lnTo>
                  <a:lnTo>
                    <a:pt x="591" y="552"/>
                  </a:lnTo>
                  <a:lnTo>
                    <a:pt x="575" y="550"/>
                  </a:lnTo>
                  <a:lnTo>
                    <a:pt x="559" y="548"/>
                  </a:lnTo>
                  <a:lnTo>
                    <a:pt x="544" y="547"/>
                  </a:lnTo>
                  <a:lnTo>
                    <a:pt x="528" y="545"/>
                  </a:lnTo>
                  <a:lnTo>
                    <a:pt x="513" y="544"/>
                  </a:lnTo>
                  <a:lnTo>
                    <a:pt x="497" y="543"/>
                  </a:lnTo>
                  <a:lnTo>
                    <a:pt x="482" y="542"/>
                  </a:lnTo>
                  <a:lnTo>
                    <a:pt x="467" y="541"/>
                  </a:lnTo>
                  <a:lnTo>
                    <a:pt x="451" y="540"/>
                  </a:lnTo>
                  <a:lnTo>
                    <a:pt x="436" y="539"/>
                  </a:lnTo>
                  <a:lnTo>
                    <a:pt x="421" y="538"/>
                  </a:lnTo>
                  <a:lnTo>
                    <a:pt x="406" y="538"/>
                  </a:lnTo>
                  <a:lnTo>
                    <a:pt x="392" y="537"/>
                  </a:lnTo>
                  <a:lnTo>
                    <a:pt x="378" y="537"/>
                  </a:lnTo>
                  <a:lnTo>
                    <a:pt x="364" y="537"/>
                  </a:lnTo>
                  <a:lnTo>
                    <a:pt x="350" y="537"/>
                  </a:lnTo>
                  <a:lnTo>
                    <a:pt x="340" y="537"/>
                  </a:lnTo>
                  <a:lnTo>
                    <a:pt x="332" y="537"/>
                  </a:lnTo>
                  <a:lnTo>
                    <a:pt x="324" y="537"/>
                  </a:lnTo>
                  <a:lnTo>
                    <a:pt x="318" y="537"/>
                  </a:lnTo>
                  <a:lnTo>
                    <a:pt x="311" y="538"/>
                  </a:lnTo>
                  <a:lnTo>
                    <a:pt x="306" y="538"/>
                  </a:lnTo>
                  <a:lnTo>
                    <a:pt x="301" y="539"/>
                  </a:lnTo>
                  <a:lnTo>
                    <a:pt x="295" y="539"/>
                  </a:lnTo>
                  <a:lnTo>
                    <a:pt x="290" y="540"/>
                  </a:lnTo>
                  <a:lnTo>
                    <a:pt x="285" y="540"/>
                  </a:lnTo>
                  <a:lnTo>
                    <a:pt x="279" y="540"/>
                  </a:lnTo>
                  <a:lnTo>
                    <a:pt x="274" y="540"/>
                  </a:lnTo>
                  <a:lnTo>
                    <a:pt x="267" y="540"/>
                  </a:lnTo>
                  <a:lnTo>
                    <a:pt x="261" y="540"/>
                  </a:lnTo>
                  <a:lnTo>
                    <a:pt x="254" y="540"/>
                  </a:lnTo>
                  <a:lnTo>
                    <a:pt x="246" y="540"/>
                  </a:lnTo>
                  <a:lnTo>
                    <a:pt x="241" y="569"/>
                  </a:lnTo>
                  <a:lnTo>
                    <a:pt x="237" y="596"/>
                  </a:lnTo>
                  <a:lnTo>
                    <a:pt x="232" y="622"/>
                  </a:lnTo>
                  <a:lnTo>
                    <a:pt x="229" y="648"/>
                  </a:lnTo>
                  <a:lnTo>
                    <a:pt x="225" y="672"/>
                  </a:lnTo>
                  <a:lnTo>
                    <a:pt x="222" y="697"/>
                  </a:lnTo>
                  <a:lnTo>
                    <a:pt x="217" y="720"/>
                  </a:lnTo>
                  <a:lnTo>
                    <a:pt x="214" y="744"/>
                  </a:lnTo>
                  <a:lnTo>
                    <a:pt x="211" y="768"/>
                  </a:lnTo>
                  <a:lnTo>
                    <a:pt x="207" y="791"/>
                  </a:lnTo>
                  <a:lnTo>
                    <a:pt x="203" y="816"/>
                  </a:lnTo>
                  <a:lnTo>
                    <a:pt x="199" y="841"/>
                  </a:lnTo>
                  <a:lnTo>
                    <a:pt x="196" y="868"/>
                  </a:lnTo>
                  <a:lnTo>
                    <a:pt x="192" y="895"/>
                  </a:lnTo>
                  <a:lnTo>
                    <a:pt x="187" y="924"/>
                  </a:lnTo>
                  <a:lnTo>
                    <a:pt x="183" y="955"/>
                  </a:lnTo>
                  <a:lnTo>
                    <a:pt x="184" y="954"/>
                  </a:lnTo>
                  <a:lnTo>
                    <a:pt x="185" y="953"/>
                  </a:lnTo>
                  <a:lnTo>
                    <a:pt x="186" y="952"/>
                  </a:lnTo>
                  <a:lnTo>
                    <a:pt x="188" y="951"/>
                  </a:lnTo>
                  <a:lnTo>
                    <a:pt x="191" y="950"/>
                  </a:lnTo>
                  <a:lnTo>
                    <a:pt x="192" y="949"/>
                  </a:lnTo>
                  <a:lnTo>
                    <a:pt x="194" y="948"/>
                  </a:lnTo>
                  <a:lnTo>
                    <a:pt x="197" y="948"/>
                  </a:lnTo>
                  <a:lnTo>
                    <a:pt x="199" y="947"/>
                  </a:lnTo>
                  <a:lnTo>
                    <a:pt x="201" y="946"/>
                  </a:lnTo>
                  <a:lnTo>
                    <a:pt x="204" y="946"/>
                  </a:lnTo>
                  <a:lnTo>
                    <a:pt x="208" y="945"/>
                  </a:lnTo>
                  <a:lnTo>
                    <a:pt x="211" y="945"/>
                  </a:lnTo>
                  <a:lnTo>
                    <a:pt x="215" y="945"/>
                  </a:lnTo>
                  <a:lnTo>
                    <a:pt x="219" y="945"/>
                  </a:lnTo>
                  <a:lnTo>
                    <a:pt x="224" y="945"/>
                  </a:lnTo>
                  <a:lnTo>
                    <a:pt x="230" y="945"/>
                  </a:lnTo>
                  <a:lnTo>
                    <a:pt x="239" y="945"/>
                  </a:lnTo>
                  <a:lnTo>
                    <a:pt x="249" y="945"/>
                  </a:lnTo>
                  <a:lnTo>
                    <a:pt x="261" y="945"/>
                  </a:lnTo>
                  <a:lnTo>
                    <a:pt x="274" y="945"/>
                  </a:lnTo>
                  <a:lnTo>
                    <a:pt x="287" y="944"/>
                  </a:lnTo>
                  <a:lnTo>
                    <a:pt x="302" y="944"/>
                  </a:lnTo>
                  <a:lnTo>
                    <a:pt x="317" y="944"/>
                  </a:lnTo>
                  <a:lnTo>
                    <a:pt x="332" y="943"/>
                  </a:lnTo>
                  <a:lnTo>
                    <a:pt x="347" y="943"/>
                  </a:lnTo>
                  <a:lnTo>
                    <a:pt x="360" y="943"/>
                  </a:lnTo>
                  <a:lnTo>
                    <a:pt x="375" y="942"/>
                  </a:lnTo>
                  <a:lnTo>
                    <a:pt x="388" y="942"/>
                  </a:lnTo>
                  <a:lnTo>
                    <a:pt x="400" y="942"/>
                  </a:lnTo>
                  <a:lnTo>
                    <a:pt x="412" y="942"/>
                  </a:lnTo>
                  <a:lnTo>
                    <a:pt x="421" y="942"/>
                  </a:lnTo>
                  <a:lnTo>
                    <a:pt x="436" y="940"/>
                  </a:lnTo>
                  <a:lnTo>
                    <a:pt x="451" y="939"/>
                  </a:lnTo>
                  <a:lnTo>
                    <a:pt x="465" y="938"/>
                  </a:lnTo>
                  <a:lnTo>
                    <a:pt x="479" y="937"/>
                  </a:lnTo>
                  <a:lnTo>
                    <a:pt x="493" y="936"/>
                  </a:lnTo>
                  <a:lnTo>
                    <a:pt x="506" y="934"/>
                  </a:lnTo>
                  <a:lnTo>
                    <a:pt x="517" y="933"/>
                  </a:lnTo>
                  <a:lnTo>
                    <a:pt x="529" y="932"/>
                  </a:lnTo>
                  <a:lnTo>
                    <a:pt x="540" y="929"/>
                  </a:lnTo>
                  <a:lnTo>
                    <a:pt x="548" y="928"/>
                  </a:lnTo>
                  <a:lnTo>
                    <a:pt x="557" y="927"/>
                  </a:lnTo>
                  <a:lnTo>
                    <a:pt x="563" y="926"/>
                  </a:lnTo>
                  <a:lnTo>
                    <a:pt x="570" y="926"/>
                  </a:lnTo>
                  <a:lnTo>
                    <a:pt x="573" y="925"/>
                  </a:lnTo>
                  <a:lnTo>
                    <a:pt x="576" y="925"/>
                  </a:lnTo>
                  <a:lnTo>
                    <a:pt x="577" y="925"/>
                  </a:lnTo>
                  <a:lnTo>
                    <a:pt x="574" y="932"/>
                  </a:lnTo>
                  <a:lnTo>
                    <a:pt x="572" y="939"/>
                  </a:lnTo>
                  <a:lnTo>
                    <a:pt x="570" y="947"/>
                  </a:lnTo>
                  <a:lnTo>
                    <a:pt x="568" y="954"/>
                  </a:lnTo>
                  <a:lnTo>
                    <a:pt x="567" y="962"/>
                  </a:lnTo>
                  <a:lnTo>
                    <a:pt x="564" y="971"/>
                  </a:lnTo>
                  <a:lnTo>
                    <a:pt x="563" y="979"/>
                  </a:lnTo>
                  <a:lnTo>
                    <a:pt x="563" y="986"/>
                  </a:lnTo>
                  <a:lnTo>
                    <a:pt x="562" y="994"/>
                  </a:lnTo>
                  <a:lnTo>
                    <a:pt x="561" y="1003"/>
                  </a:lnTo>
                  <a:lnTo>
                    <a:pt x="561" y="1010"/>
                  </a:lnTo>
                  <a:lnTo>
                    <a:pt x="561" y="1018"/>
                  </a:lnTo>
                  <a:lnTo>
                    <a:pt x="561" y="1025"/>
                  </a:lnTo>
                  <a:lnTo>
                    <a:pt x="561" y="1031"/>
                  </a:lnTo>
                  <a:lnTo>
                    <a:pt x="561" y="1039"/>
                  </a:lnTo>
                  <a:lnTo>
                    <a:pt x="562" y="1045"/>
                  </a:lnTo>
                  <a:lnTo>
                    <a:pt x="439" y="1040"/>
                  </a:lnTo>
                  <a:lnTo>
                    <a:pt x="427" y="1040"/>
                  </a:lnTo>
                  <a:lnTo>
                    <a:pt x="414" y="1040"/>
                  </a:lnTo>
                  <a:lnTo>
                    <a:pt x="400" y="1040"/>
                  </a:lnTo>
                  <a:lnTo>
                    <a:pt x="386" y="1040"/>
                  </a:lnTo>
                  <a:lnTo>
                    <a:pt x="372" y="1040"/>
                  </a:lnTo>
                  <a:lnTo>
                    <a:pt x="358" y="1040"/>
                  </a:lnTo>
                  <a:lnTo>
                    <a:pt x="343" y="1040"/>
                  </a:lnTo>
                  <a:lnTo>
                    <a:pt x="328" y="1040"/>
                  </a:lnTo>
                  <a:lnTo>
                    <a:pt x="313" y="1040"/>
                  </a:lnTo>
                  <a:lnTo>
                    <a:pt x="300" y="1040"/>
                  </a:lnTo>
                  <a:lnTo>
                    <a:pt x="285" y="1040"/>
                  </a:lnTo>
                  <a:lnTo>
                    <a:pt x="271" y="1040"/>
                  </a:lnTo>
                  <a:lnTo>
                    <a:pt x="257" y="1040"/>
                  </a:lnTo>
                  <a:lnTo>
                    <a:pt x="243" y="1040"/>
                  </a:lnTo>
                  <a:lnTo>
                    <a:pt x="229" y="1040"/>
                  </a:lnTo>
                  <a:lnTo>
                    <a:pt x="217" y="1040"/>
                  </a:lnTo>
                  <a:lnTo>
                    <a:pt x="207" y="1040"/>
                  </a:lnTo>
                  <a:lnTo>
                    <a:pt x="196" y="1040"/>
                  </a:lnTo>
                  <a:lnTo>
                    <a:pt x="185" y="1040"/>
                  </a:lnTo>
                  <a:lnTo>
                    <a:pt x="175" y="1040"/>
                  </a:lnTo>
                  <a:lnTo>
                    <a:pt x="165" y="1040"/>
                  </a:lnTo>
                  <a:lnTo>
                    <a:pt x="154" y="1040"/>
                  </a:lnTo>
                  <a:lnTo>
                    <a:pt x="145" y="1040"/>
                  </a:lnTo>
                  <a:lnTo>
                    <a:pt x="135" y="1040"/>
                  </a:lnTo>
                  <a:lnTo>
                    <a:pt x="125" y="1040"/>
                  </a:lnTo>
                  <a:lnTo>
                    <a:pt x="116" y="1040"/>
                  </a:lnTo>
                  <a:lnTo>
                    <a:pt x="107" y="1040"/>
                  </a:lnTo>
                  <a:lnTo>
                    <a:pt x="98" y="1041"/>
                  </a:lnTo>
                  <a:lnTo>
                    <a:pt x="89" y="1041"/>
                  </a:lnTo>
                  <a:lnTo>
                    <a:pt x="81" y="1042"/>
                  </a:lnTo>
                  <a:lnTo>
                    <a:pt x="73" y="1042"/>
                  </a:lnTo>
                  <a:lnTo>
                    <a:pt x="66" y="1043"/>
                  </a:lnTo>
                  <a:lnTo>
                    <a:pt x="18" y="1043"/>
                  </a:lnTo>
                  <a:lnTo>
                    <a:pt x="15" y="1043"/>
                  </a:lnTo>
                  <a:lnTo>
                    <a:pt x="14" y="1043"/>
                  </a:lnTo>
                  <a:lnTo>
                    <a:pt x="13" y="1043"/>
                  </a:lnTo>
                  <a:lnTo>
                    <a:pt x="12" y="1043"/>
                  </a:lnTo>
                  <a:lnTo>
                    <a:pt x="11" y="1043"/>
                  </a:lnTo>
                  <a:lnTo>
                    <a:pt x="10" y="1043"/>
                  </a:lnTo>
                  <a:lnTo>
                    <a:pt x="9" y="1043"/>
                  </a:lnTo>
                  <a:lnTo>
                    <a:pt x="8" y="1043"/>
                  </a:lnTo>
                  <a:lnTo>
                    <a:pt x="7" y="1043"/>
                  </a:lnTo>
                  <a:lnTo>
                    <a:pt x="6" y="1043"/>
                  </a:lnTo>
                  <a:lnTo>
                    <a:pt x="5" y="1043"/>
                  </a:lnTo>
                  <a:lnTo>
                    <a:pt x="4" y="1043"/>
                  </a:lnTo>
                  <a:lnTo>
                    <a:pt x="3" y="1043"/>
                  </a:lnTo>
                  <a:lnTo>
                    <a:pt x="1" y="1043"/>
                  </a:lnTo>
                  <a:lnTo>
                    <a:pt x="0" y="1043"/>
                  </a:lnTo>
                  <a:lnTo>
                    <a:pt x="0" y="1037"/>
                  </a:lnTo>
                  <a:lnTo>
                    <a:pt x="12" y="973"/>
                  </a:lnTo>
                  <a:lnTo>
                    <a:pt x="25" y="909"/>
                  </a:lnTo>
                  <a:lnTo>
                    <a:pt x="37" y="845"/>
                  </a:lnTo>
                  <a:lnTo>
                    <a:pt x="48" y="780"/>
                  </a:lnTo>
                  <a:lnTo>
                    <a:pt x="60" y="716"/>
                  </a:lnTo>
                  <a:lnTo>
                    <a:pt x="71" y="651"/>
                  </a:lnTo>
                  <a:lnTo>
                    <a:pt x="82" y="586"/>
                  </a:lnTo>
                  <a:lnTo>
                    <a:pt x="91" y="521"/>
                  </a:lnTo>
                  <a:lnTo>
                    <a:pt x="102" y="456"/>
                  </a:lnTo>
                  <a:lnTo>
                    <a:pt x="112" y="391"/>
                  </a:lnTo>
                  <a:lnTo>
                    <a:pt x="120" y="326"/>
                  </a:lnTo>
                  <a:lnTo>
                    <a:pt x="129" y="260"/>
                  </a:lnTo>
                  <a:lnTo>
                    <a:pt x="137" y="195"/>
                  </a:lnTo>
                  <a:lnTo>
                    <a:pt x="146" y="130"/>
                  </a:lnTo>
                  <a:lnTo>
                    <a:pt x="153" y="65"/>
                  </a:lnTo>
                  <a:lnTo>
                    <a:pt x="161" y="0"/>
                  </a:lnTo>
                  <a:lnTo>
                    <a:pt x="162" y="0"/>
                  </a:lnTo>
                  <a:lnTo>
                    <a:pt x="165" y="0"/>
                  </a:lnTo>
                  <a:lnTo>
                    <a:pt x="170" y="0"/>
                  </a:lnTo>
                  <a:lnTo>
                    <a:pt x="178" y="0"/>
                  </a:lnTo>
                  <a:lnTo>
                    <a:pt x="186" y="0"/>
                  </a:lnTo>
                  <a:lnTo>
                    <a:pt x="196" y="0"/>
                  </a:lnTo>
                  <a:lnTo>
                    <a:pt x="207" y="1"/>
                  </a:lnTo>
                  <a:lnTo>
                    <a:pt x="217" y="1"/>
                  </a:lnTo>
                  <a:lnTo>
                    <a:pt x="229" y="1"/>
                  </a:lnTo>
                  <a:lnTo>
                    <a:pt x="242" y="2"/>
                  </a:lnTo>
                  <a:lnTo>
                    <a:pt x="254" y="2"/>
                  </a:lnTo>
                  <a:lnTo>
                    <a:pt x="265" y="2"/>
                  </a:lnTo>
                  <a:lnTo>
                    <a:pt x="276" y="2"/>
                  </a:lnTo>
                  <a:lnTo>
                    <a:pt x="287" y="2"/>
                  </a:lnTo>
                  <a:lnTo>
                    <a:pt x="295" y="2"/>
                  </a:lnTo>
                  <a:lnTo>
                    <a:pt x="304" y="3"/>
                  </a:lnTo>
                  <a:lnTo>
                    <a:pt x="557" y="6"/>
                  </a:lnTo>
                  <a:lnTo>
                    <a:pt x="567" y="5"/>
                  </a:lnTo>
                  <a:lnTo>
                    <a:pt x="577" y="5"/>
                  </a:lnTo>
                  <a:lnTo>
                    <a:pt x="587" y="5"/>
                  </a:lnTo>
                  <a:lnTo>
                    <a:pt x="598" y="5"/>
                  </a:lnTo>
                  <a:lnTo>
                    <a:pt x="608" y="5"/>
                  </a:lnTo>
                  <a:lnTo>
                    <a:pt x="618" y="4"/>
                  </a:lnTo>
                  <a:lnTo>
                    <a:pt x="629" y="4"/>
                  </a:lnTo>
                  <a:lnTo>
                    <a:pt x="639" y="4"/>
                  </a:lnTo>
                  <a:lnTo>
                    <a:pt x="650" y="3"/>
                  </a:lnTo>
                  <a:lnTo>
                    <a:pt x="662" y="3"/>
                  </a:lnTo>
                  <a:lnTo>
                    <a:pt x="672" y="2"/>
                  </a:lnTo>
                  <a:lnTo>
                    <a:pt x="683" y="2"/>
                  </a:lnTo>
                  <a:lnTo>
                    <a:pt x="695" y="1"/>
                  </a:lnTo>
                  <a:lnTo>
                    <a:pt x="707" y="1"/>
                  </a:lnTo>
                  <a:lnTo>
                    <a:pt x="718" y="0"/>
                  </a:lnTo>
                  <a:lnTo>
                    <a:pt x="731" y="0"/>
                  </a:lnTo>
                  <a:lnTo>
                    <a:pt x="728" y="5"/>
                  </a:lnTo>
                  <a:lnTo>
                    <a:pt x="726" y="12"/>
                  </a:lnTo>
                  <a:lnTo>
                    <a:pt x="724" y="18"/>
                  </a:lnTo>
                  <a:lnTo>
                    <a:pt x="721" y="25"/>
                  </a:lnTo>
                  <a:lnTo>
                    <a:pt x="719" y="31"/>
                  </a:lnTo>
                  <a:lnTo>
                    <a:pt x="717" y="38"/>
                  </a:lnTo>
                  <a:lnTo>
                    <a:pt x="716" y="46"/>
                  </a:lnTo>
                  <a:lnTo>
                    <a:pt x="714" y="53"/>
                  </a:lnTo>
                  <a:lnTo>
                    <a:pt x="713" y="60"/>
                  </a:lnTo>
                  <a:lnTo>
                    <a:pt x="712" y="68"/>
                  </a:lnTo>
                  <a:lnTo>
                    <a:pt x="711" y="75"/>
                  </a:lnTo>
                  <a:lnTo>
                    <a:pt x="710" y="84"/>
                  </a:lnTo>
                  <a:lnTo>
                    <a:pt x="709" y="91"/>
                  </a:lnTo>
                  <a:lnTo>
                    <a:pt x="709" y="98"/>
                  </a:lnTo>
                  <a:lnTo>
                    <a:pt x="709" y="106"/>
                  </a:lnTo>
                  <a:lnTo>
                    <a:pt x="709" y="115"/>
                  </a:lnTo>
                  <a:lnTo>
                    <a:pt x="688" y="112"/>
                  </a:lnTo>
                  <a:lnTo>
                    <a:pt x="668" y="111"/>
                  </a:lnTo>
                  <a:lnTo>
                    <a:pt x="650" y="109"/>
                  </a:lnTo>
                  <a:lnTo>
                    <a:pt x="631" y="108"/>
                  </a:lnTo>
                  <a:lnTo>
                    <a:pt x="613" y="107"/>
                  </a:lnTo>
                  <a:lnTo>
                    <a:pt x="594" y="106"/>
                  </a:lnTo>
                  <a:lnTo>
                    <a:pt x="576" y="105"/>
                  </a:lnTo>
                  <a:lnTo>
                    <a:pt x="558" y="104"/>
                  </a:lnTo>
                  <a:lnTo>
                    <a:pt x="540" y="103"/>
                  </a:lnTo>
                  <a:lnTo>
                    <a:pt x="522" y="103"/>
                  </a:lnTo>
                  <a:lnTo>
                    <a:pt x="504" y="102"/>
                  </a:lnTo>
                  <a:lnTo>
                    <a:pt x="484" y="101"/>
                  </a:lnTo>
                  <a:lnTo>
                    <a:pt x="465" y="101"/>
                  </a:lnTo>
                  <a:lnTo>
                    <a:pt x="446" y="101"/>
                  </a:lnTo>
                  <a:lnTo>
                    <a:pt x="425" y="101"/>
                  </a:lnTo>
                  <a:lnTo>
                    <a:pt x="404" y="101"/>
                  </a:lnTo>
                  <a:lnTo>
                    <a:pt x="399" y="100"/>
                  </a:lnTo>
                  <a:lnTo>
                    <a:pt x="394" y="100"/>
                  </a:lnTo>
                  <a:lnTo>
                    <a:pt x="388" y="99"/>
                  </a:lnTo>
                  <a:lnTo>
                    <a:pt x="382" y="99"/>
                  </a:lnTo>
                  <a:lnTo>
                    <a:pt x="376" y="99"/>
                  </a:lnTo>
                  <a:lnTo>
                    <a:pt x="371" y="99"/>
                  </a:lnTo>
                  <a:lnTo>
                    <a:pt x="365" y="99"/>
                  </a:lnTo>
                  <a:lnTo>
                    <a:pt x="359" y="99"/>
                  </a:lnTo>
                  <a:lnTo>
                    <a:pt x="354" y="100"/>
                  </a:lnTo>
                  <a:lnTo>
                    <a:pt x="349" y="100"/>
                  </a:lnTo>
                  <a:lnTo>
                    <a:pt x="343" y="100"/>
                  </a:lnTo>
                  <a:lnTo>
                    <a:pt x="338" y="100"/>
                  </a:lnTo>
                  <a:lnTo>
                    <a:pt x="334" y="100"/>
                  </a:lnTo>
                  <a:lnTo>
                    <a:pt x="329" y="100"/>
                  </a:lnTo>
                  <a:lnTo>
                    <a:pt x="326" y="100"/>
                  </a:lnTo>
                  <a:lnTo>
                    <a:pt x="324" y="101"/>
                  </a:lnTo>
                  <a:lnTo>
                    <a:pt x="318" y="130"/>
                  </a:lnTo>
                  <a:lnTo>
                    <a:pt x="312" y="157"/>
                  </a:lnTo>
                  <a:lnTo>
                    <a:pt x="308" y="180"/>
                  </a:lnTo>
                  <a:lnTo>
                    <a:pt x="304" y="202"/>
                  </a:lnTo>
                  <a:lnTo>
                    <a:pt x="300" y="222"/>
                  </a:lnTo>
                  <a:lnTo>
                    <a:pt x="296" y="240"/>
                  </a:lnTo>
                  <a:lnTo>
                    <a:pt x="293" y="258"/>
                  </a:lnTo>
                  <a:lnTo>
                    <a:pt x="290" y="275"/>
                  </a:lnTo>
                  <a:lnTo>
                    <a:pt x="287" y="293"/>
                  </a:lnTo>
                  <a:lnTo>
                    <a:pt x="284" y="310"/>
                  </a:lnTo>
                  <a:lnTo>
                    <a:pt x="280" y="329"/>
                  </a:lnTo>
                  <a:lnTo>
                    <a:pt x="277" y="348"/>
                  </a:lnTo>
                  <a:lnTo>
                    <a:pt x="273" y="370"/>
                  </a:lnTo>
                  <a:lnTo>
                    <a:pt x="270" y="395"/>
                  </a:lnTo>
                  <a:lnTo>
                    <a:pt x="265" y="422"/>
                  </a:lnTo>
                  <a:lnTo>
                    <a:pt x="261" y="451"/>
                  </a:lnTo>
                  <a:lnTo>
                    <a:pt x="264" y="451"/>
                  </a:lnTo>
                  <a:lnTo>
                    <a:pt x="270" y="451"/>
                  </a:lnTo>
                  <a:lnTo>
                    <a:pt x="275" y="451"/>
                  </a:lnTo>
                  <a:lnTo>
                    <a:pt x="280" y="451"/>
                  </a:lnTo>
                  <a:lnTo>
                    <a:pt x="287" y="451"/>
                  </a:lnTo>
                  <a:lnTo>
                    <a:pt x="293" y="451"/>
                  </a:lnTo>
                  <a:lnTo>
                    <a:pt x="301" y="452"/>
                  </a:lnTo>
                  <a:lnTo>
                    <a:pt x="308" y="452"/>
                  </a:lnTo>
                  <a:lnTo>
                    <a:pt x="316" y="452"/>
                  </a:lnTo>
                  <a:lnTo>
                    <a:pt x="323" y="453"/>
                  </a:lnTo>
                  <a:lnTo>
                    <a:pt x="331" y="453"/>
                  </a:lnTo>
                  <a:lnTo>
                    <a:pt x="338" y="453"/>
                  </a:lnTo>
                  <a:lnTo>
                    <a:pt x="345" y="453"/>
                  </a:lnTo>
                  <a:lnTo>
                    <a:pt x="353" y="453"/>
                  </a:lnTo>
                  <a:lnTo>
                    <a:pt x="359" y="453"/>
                  </a:lnTo>
                  <a:lnTo>
                    <a:pt x="367" y="455"/>
                  </a:lnTo>
                  <a:lnTo>
                    <a:pt x="383" y="453"/>
                  </a:lnTo>
                  <a:lnTo>
                    <a:pt x="399" y="453"/>
                  </a:lnTo>
                  <a:lnTo>
                    <a:pt x="414" y="453"/>
                  </a:lnTo>
                  <a:lnTo>
                    <a:pt x="430" y="453"/>
                  </a:lnTo>
                  <a:lnTo>
                    <a:pt x="444" y="452"/>
                  </a:lnTo>
                  <a:lnTo>
                    <a:pt x="459" y="452"/>
                  </a:lnTo>
                  <a:lnTo>
                    <a:pt x="473" y="451"/>
                  </a:lnTo>
                  <a:lnTo>
                    <a:pt x="486" y="450"/>
                  </a:lnTo>
                  <a:lnTo>
                    <a:pt x="500" y="449"/>
                  </a:lnTo>
                  <a:lnTo>
                    <a:pt x="514" y="449"/>
                  </a:lnTo>
                  <a:lnTo>
                    <a:pt x="529" y="448"/>
                  </a:lnTo>
                  <a:lnTo>
                    <a:pt x="543" y="447"/>
                  </a:lnTo>
                  <a:lnTo>
                    <a:pt x="557" y="446"/>
                  </a:lnTo>
                  <a:lnTo>
                    <a:pt x="572" y="445"/>
                  </a:lnTo>
                  <a:lnTo>
                    <a:pt x="587" y="444"/>
                  </a:lnTo>
                  <a:lnTo>
                    <a:pt x="603" y="4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7599600" y="6268680"/>
              <a:ext cx="155160" cy="222840"/>
            </a:xfrm>
            <a:custGeom>
              <a:avLst/>
              <a:gdLst/>
              <a:ahLst/>
              <a:rect l="l" t="t" r="r" b="b"/>
              <a:pathLst>
                <a:path w="791" h="1043">
                  <a:moveTo>
                    <a:pt x="791" y="208"/>
                  </a:moveTo>
                  <a:lnTo>
                    <a:pt x="788" y="251"/>
                  </a:lnTo>
                  <a:lnTo>
                    <a:pt x="781" y="291"/>
                  </a:lnTo>
                  <a:lnTo>
                    <a:pt x="768" y="328"/>
                  </a:lnTo>
                  <a:lnTo>
                    <a:pt x="752" y="363"/>
                  </a:lnTo>
                  <a:lnTo>
                    <a:pt x="731" y="396"/>
                  </a:lnTo>
                  <a:lnTo>
                    <a:pt x="707" y="426"/>
                  </a:lnTo>
                  <a:lnTo>
                    <a:pt x="680" y="453"/>
                  </a:lnTo>
                  <a:lnTo>
                    <a:pt x="651" y="478"/>
                  </a:lnTo>
                  <a:lnTo>
                    <a:pt x="620" y="500"/>
                  </a:lnTo>
                  <a:lnTo>
                    <a:pt x="586" y="519"/>
                  </a:lnTo>
                  <a:lnTo>
                    <a:pt x="552" y="536"/>
                  </a:lnTo>
                  <a:lnTo>
                    <a:pt x="517" y="549"/>
                  </a:lnTo>
                  <a:lnTo>
                    <a:pt x="480" y="560"/>
                  </a:lnTo>
                  <a:lnTo>
                    <a:pt x="445" y="568"/>
                  </a:lnTo>
                  <a:lnTo>
                    <a:pt x="409" y="572"/>
                  </a:lnTo>
                  <a:lnTo>
                    <a:pt x="375" y="574"/>
                  </a:lnTo>
                  <a:lnTo>
                    <a:pt x="361" y="573"/>
                  </a:lnTo>
                  <a:lnTo>
                    <a:pt x="349" y="573"/>
                  </a:lnTo>
                  <a:lnTo>
                    <a:pt x="337" y="573"/>
                  </a:lnTo>
                  <a:lnTo>
                    <a:pt x="327" y="573"/>
                  </a:lnTo>
                  <a:lnTo>
                    <a:pt x="316" y="573"/>
                  </a:lnTo>
                  <a:lnTo>
                    <a:pt x="306" y="573"/>
                  </a:lnTo>
                  <a:lnTo>
                    <a:pt x="298" y="573"/>
                  </a:lnTo>
                  <a:lnTo>
                    <a:pt x="290" y="573"/>
                  </a:lnTo>
                  <a:lnTo>
                    <a:pt x="283" y="573"/>
                  </a:lnTo>
                  <a:lnTo>
                    <a:pt x="275" y="573"/>
                  </a:lnTo>
                  <a:lnTo>
                    <a:pt x="270" y="573"/>
                  </a:lnTo>
                  <a:lnTo>
                    <a:pt x="264" y="573"/>
                  </a:lnTo>
                  <a:lnTo>
                    <a:pt x="259" y="572"/>
                  </a:lnTo>
                  <a:lnTo>
                    <a:pt x="255" y="572"/>
                  </a:lnTo>
                  <a:lnTo>
                    <a:pt x="251" y="572"/>
                  </a:lnTo>
                  <a:lnTo>
                    <a:pt x="249" y="572"/>
                  </a:lnTo>
                  <a:lnTo>
                    <a:pt x="243" y="602"/>
                  </a:lnTo>
                  <a:lnTo>
                    <a:pt x="239" y="632"/>
                  </a:lnTo>
                  <a:lnTo>
                    <a:pt x="234" y="661"/>
                  </a:lnTo>
                  <a:lnTo>
                    <a:pt x="229" y="690"/>
                  </a:lnTo>
                  <a:lnTo>
                    <a:pt x="225" y="719"/>
                  </a:lnTo>
                  <a:lnTo>
                    <a:pt x="221" y="748"/>
                  </a:lnTo>
                  <a:lnTo>
                    <a:pt x="217" y="777"/>
                  </a:lnTo>
                  <a:lnTo>
                    <a:pt x="212" y="806"/>
                  </a:lnTo>
                  <a:lnTo>
                    <a:pt x="209" y="834"/>
                  </a:lnTo>
                  <a:lnTo>
                    <a:pt x="205" y="862"/>
                  </a:lnTo>
                  <a:lnTo>
                    <a:pt x="201" y="892"/>
                  </a:lnTo>
                  <a:lnTo>
                    <a:pt x="196" y="921"/>
                  </a:lnTo>
                  <a:lnTo>
                    <a:pt x="192" y="951"/>
                  </a:lnTo>
                  <a:lnTo>
                    <a:pt x="188" y="981"/>
                  </a:lnTo>
                  <a:lnTo>
                    <a:pt x="183" y="1011"/>
                  </a:lnTo>
                  <a:lnTo>
                    <a:pt x="180" y="1043"/>
                  </a:lnTo>
                  <a:lnTo>
                    <a:pt x="179" y="1042"/>
                  </a:lnTo>
                  <a:lnTo>
                    <a:pt x="177" y="1042"/>
                  </a:lnTo>
                  <a:lnTo>
                    <a:pt x="174" y="1042"/>
                  </a:lnTo>
                  <a:lnTo>
                    <a:pt x="170" y="1042"/>
                  </a:lnTo>
                  <a:lnTo>
                    <a:pt x="164" y="1042"/>
                  </a:lnTo>
                  <a:lnTo>
                    <a:pt x="159" y="1042"/>
                  </a:lnTo>
                  <a:lnTo>
                    <a:pt x="151" y="1041"/>
                  </a:lnTo>
                  <a:lnTo>
                    <a:pt x="145" y="1041"/>
                  </a:lnTo>
                  <a:lnTo>
                    <a:pt x="137" y="1041"/>
                  </a:lnTo>
                  <a:lnTo>
                    <a:pt x="130" y="1040"/>
                  </a:lnTo>
                  <a:lnTo>
                    <a:pt x="123" y="1040"/>
                  </a:lnTo>
                  <a:lnTo>
                    <a:pt x="116" y="1040"/>
                  </a:lnTo>
                  <a:lnTo>
                    <a:pt x="109" y="1040"/>
                  </a:lnTo>
                  <a:lnTo>
                    <a:pt x="102" y="1040"/>
                  </a:lnTo>
                  <a:lnTo>
                    <a:pt x="96" y="1040"/>
                  </a:lnTo>
                  <a:lnTo>
                    <a:pt x="92" y="1040"/>
                  </a:lnTo>
                  <a:lnTo>
                    <a:pt x="85" y="1040"/>
                  </a:lnTo>
                  <a:lnTo>
                    <a:pt x="79" y="1040"/>
                  </a:lnTo>
                  <a:lnTo>
                    <a:pt x="72" y="1040"/>
                  </a:lnTo>
                  <a:lnTo>
                    <a:pt x="65" y="1040"/>
                  </a:lnTo>
                  <a:lnTo>
                    <a:pt x="57" y="1040"/>
                  </a:lnTo>
                  <a:lnTo>
                    <a:pt x="49" y="1040"/>
                  </a:lnTo>
                  <a:lnTo>
                    <a:pt x="41" y="1041"/>
                  </a:lnTo>
                  <a:lnTo>
                    <a:pt x="34" y="1041"/>
                  </a:lnTo>
                  <a:lnTo>
                    <a:pt x="27" y="1041"/>
                  </a:lnTo>
                  <a:lnTo>
                    <a:pt x="21" y="1042"/>
                  </a:lnTo>
                  <a:lnTo>
                    <a:pt x="15" y="1042"/>
                  </a:lnTo>
                  <a:lnTo>
                    <a:pt x="9" y="1042"/>
                  </a:lnTo>
                  <a:lnTo>
                    <a:pt x="5" y="1042"/>
                  </a:lnTo>
                  <a:lnTo>
                    <a:pt x="2" y="1042"/>
                  </a:lnTo>
                  <a:lnTo>
                    <a:pt x="0" y="1042"/>
                  </a:lnTo>
                  <a:lnTo>
                    <a:pt x="0" y="1043"/>
                  </a:lnTo>
                  <a:lnTo>
                    <a:pt x="14" y="978"/>
                  </a:lnTo>
                  <a:lnTo>
                    <a:pt x="27" y="913"/>
                  </a:lnTo>
                  <a:lnTo>
                    <a:pt x="40" y="848"/>
                  </a:lnTo>
                  <a:lnTo>
                    <a:pt x="53" y="783"/>
                  </a:lnTo>
                  <a:lnTo>
                    <a:pt x="65" y="717"/>
                  </a:lnTo>
                  <a:lnTo>
                    <a:pt x="77" y="652"/>
                  </a:lnTo>
                  <a:lnTo>
                    <a:pt x="87" y="587"/>
                  </a:lnTo>
                  <a:lnTo>
                    <a:pt x="98" y="521"/>
                  </a:lnTo>
                  <a:lnTo>
                    <a:pt x="109" y="457"/>
                  </a:lnTo>
                  <a:lnTo>
                    <a:pt x="118" y="391"/>
                  </a:lnTo>
                  <a:lnTo>
                    <a:pt x="128" y="326"/>
                  </a:lnTo>
                  <a:lnTo>
                    <a:pt x="136" y="260"/>
                  </a:lnTo>
                  <a:lnTo>
                    <a:pt x="145" y="195"/>
                  </a:lnTo>
                  <a:lnTo>
                    <a:pt x="154" y="130"/>
                  </a:lnTo>
                  <a:lnTo>
                    <a:pt x="161" y="65"/>
                  </a:lnTo>
                  <a:lnTo>
                    <a:pt x="168" y="0"/>
                  </a:lnTo>
                  <a:lnTo>
                    <a:pt x="170" y="0"/>
                  </a:lnTo>
                  <a:lnTo>
                    <a:pt x="173" y="0"/>
                  </a:lnTo>
                  <a:lnTo>
                    <a:pt x="178" y="0"/>
                  </a:lnTo>
                  <a:lnTo>
                    <a:pt x="186" y="0"/>
                  </a:lnTo>
                  <a:lnTo>
                    <a:pt x="194" y="0"/>
                  </a:lnTo>
                  <a:lnTo>
                    <a:pt x="204" y="0"/>
                  </a:lnTo>
                  <a:lnTo>
                    <a:pt x="214" y="1"/>
                  </a:lnTo>
                  <a:lnTo>
                    <a:pt x="225" y="1"/>
                  </a:lnTo>
                  <a:lnTo>
                    <a:pt x="237" y="1"/>
                  </a:lnTo>
                  <a:lnTo>
                    <a:pt x="250" y="2"/>
                  </a:lnTo>
                  <a:lnTo>
                    <a:pt x="261" y="2"/>
                  </a:lnTo>
                  <a:lnTo>
                    <a:pt x="273" y="2"/>
                  </a:lnTo>
                  <a:lnTo>
                    <a:pt x="284" y="2"/>
                  </a:lnTo>
                  <a:lnTo>
                    <a:pt x="295" y="2"/>
                  </a:lnTo>
                  <a:lnTo>
                    <a:pt x="303" y="2"/>
                  </a:lnTo>
                  <a:lnTo>
                    <a:pt x="312" y="3"/>
                  </a:lnTo>
                  <a:lnTo>
                    <a:pt x="495" y="0"/>
                  </a:lnTo>
                  <a:lnTo>
                    <a:pt x="520" y="0"/>
                  </a:lnTo>
                  <a:lnTo>
                    <a:pt x="544" y="1"/>
                  </a:lnTo>
                  <a:lnTo>
                    <a:pt x="570" y="3"/>
                  </a:lnTo>
                  <a:lnTo>
                    <a:pt x="596" y="7"/>
                  </a:lnTo>
                  <a:lnTo>
                    <a:pt x="620" y="13"/>
                  </a:lnTo>
                  <a:lnTo>
                    <a:pt x="645" y="20"/>
                  </a:lnTo>
                  <a:lnTo>
                    <a:pt x="668" y="28"/>
                  </a:lnTo>
                  <a:lnTo>
                    <a:pt x="691" y="38"/>
                  </a:lnTo>
                  <a:lnTo>
                    <a:pt x="712" y="51"/>
                  </a:lnTo>
                  <a:lnTo>
                    <a:pt x="731" y="66"/>
                  </a:lnTo>
                  <a:lnTo>
                    <a:pt x="749" y="83"/>
                  </a:lnTo>
                  <a:lnTo>
                    <a:pt x="762" y="102"/>
                  </a:lnTo>
                  <a:lnTo>
                    <a:pt x="774" y="125"/>
                  </a:lnTo>
                  <a:lnTo>
                    <a:pt x="784" y="150"/>
                  </a:lnTo>
                  <a:lnTo>
                    <a:pt x="789" y="177"/>
                  </a:lnTo>
                  <a:lnTo>
                    <a:pt x="791" y="208"/>
                  </a:lnTo>
                  <a:close/>
                  <a:moveTo>
                    <a:pt x="614" y="233"/>
                  </a:moveTo>
                  <a:lnTo>
                    <a:pt x="613" y="217"/>
                  </a:lnTo>
                  <a:lnTo>
                    <a:pt x="611" y="202"/>
                  </a:lnTo>
                  <a:lnTo>
                    <a:pt x="608" y="188"/>
                  </a:lnTo>
                  <a:lnTo>
                    <a:pt x="603" y="174"/>
                  </a:lnTo>
                  <a:lnTo>
                    <a:pt x="597" y="162"/>
                  </a:lnTo>
                  <a:lnTo>
                    <a:pt x="589" y="151"/>
                  </a:lnTo>
                  <a:lnTo>
                    <a:pt x="581" y="140"/>
                  </a:lnTo>
                  <a:lnTo>
                    <a:pt x="570" y="130"/>
                  </a:lnTo>
                  <a:lnTo>
                    <a:pt x="558" y="122"/>
                  </a:lnTo>
                  <a:lnTo>
                    <a:pt x="546" y="115"/>
                  </a:lnTo>
                  <a:lnTo>
                    <a:pt x="531" y="107"/>
                  </a:lnTo>
                  <a:lnTo>
                    <a:pt x="515" y="102"/>
                  </a:lnTo>
                  <a:lnTo>
                    <a:pt x="496" y="98"/>
                  </a:lnTo>
                  <a:lnTo>
                    <a:pt x="477" y="95"/>
                  </a:lnTo>
                  <a:lnTo>
                    <a:pt x="457" y="93"/>
                  </a:lnTo>
                  <a:lnTo>
                    <a:pt x="434" y="93"/>
                  </a:lnTo>
                  <a:lnTo>
                    <a:pt x="427" y="93"/>
                  </a:lnTo>
                  <a:lnTo>
                    <a:pt x="421" y="93"/>
                  </a:lnTo>
                  <a:lnTo>
                    <a:pt x="413" y="93"/>
                  </a:lnTo>
                  <a:lnTo>
                    <a:pt x="406" y="93"/>
                  </a:lnTo>
                  <a:lnTo>
                    <a:pt x="398" y="93"/>
                  </a:lnTo>
                  <a:lnTo>
                    <a:pt x="391" y="93"/>
                  </a:lnTo>
                  <a:lnTo>
                    <a:pt x="383" y="93"/>
                  </a:lnTo>
                  <a:lnTo>
                    <a:pt x="377" y="93"/>
                  </a:lnTo>
                  <a:lnTo>
                    <a:pt x="369" y="93"/>
                  </a:lnTo>
                  <a:lnTo>
                    <a:pt x="362" y="93"/>
                  </a:lnTo>
                  <a:lnTo>
                    <a:pt x="355" y="93"/>
                  </a:lnTo>
                  <a:lnTo>
                    <a:pt x="350" y="93"/>
                  </a:lnTo>
                  <a:lnTo>
                    <a:pt x="345" y="93"/>
                  </a:lnTo>
                  <a:lnTo>
                    <a:pt x="339" y="93"/>
                  </a:lnTo>
                  <a:lnTo>
                    <a:pt x="335" y="93"/>
                  </a:lnTo>
                  <a:lnTo>
                    <a:pt x="332" y="93"/>
                  </a:lnTo>
                  <a:lnTo>
                    <a:pt x="326" y="123"/>
                  </a:lnTo>
                  <a:lnTo>
                    <a:pt x="320" y="150"/>
                  </a:lnTo>
                  <a:lnTo>
                    <a:pt x="316" y="175"/>
                  </a:lnTo>
                  <a:lnTo>
                    <a:pt x="312" y="199"/>
                  </a:lnTo>
                  <a:lnTo>
                    <a:pt x="307" y="222"/>
                  </a:lnTo>
                  <a:lnTo>
                    <a:pt x="303" y="242"/>
                  </a:lnTo>
                  <a:lnTo>
                    <a:pt x="300" y="263"/>
                  </a:lnTo>
                  <a:lnTo>
                    <a:pt x="296" y="282"/>
                  </a:lnTo>
                  <a:lnTo>
                    <a:pt x="292" y="303"/>
                  </a:lnTo>
                  <a:lnTo>
                    <a:pt x="289" y="324"/>
                  </a:lnTo>
                  <a:lnTo>
                    <a:pt x="285" y="344"/>
                  </a:lnTo>
                  <a:lnTo>
                    <a:pt x="282" y="367"/>
                  </a:lnTo>
                  <a:lnTo>
                    <a:pt x="278" y="391"/>
                  </a:lnTo>
                  <a:lnTo>
                    <a:pt x="274" y="417"/>
                  </a:lnTo>
                  <a:lnTo>
                    <a:pt x="270" y="445"/>
                  </a:lnTo>
                  <a:lnTo>
                    <a:pt x="266" y="476"/>
                  </a:lnTo>
                  <a:lnTo>
                    <a:pt x="268" y="476"/>
                  </a:lnTo>
                  <a:lnTo>
                    <a:pt x="270" y="476"/>
                  </a:lnTo>
                  <a:lnTo>
                    <a:pt x="273" y="476"/>
                  </a:lnTo>
                  <a:lnTo>
                    <a:pt x="275" y="476"/>
                  </a:lnTo>
                  <a:lnTo>
                    <a:pt x="278" y="476"/>
                  </a:lnTo>
                  <a:lnTo>
                    <a:pt x="282" y="476"/>
                  </a:lnTo>
                  <a:lnTo>
                    <a:pt x="286" y="477"/>
                  </a:lnTo>
                  <a:lnTo>
                    <a:pt x="289" y="477"/>
                  </a:lnTo>
                  <a:lnTo>
                    <a:pt x="292" y="477"/>
                  </a:lnTo>
                  <a:lnTo>
                    <a:pt x="297" y="478"/>
                  </a:lnTo>
                  <a:lnTo>
                    <a:pt x="300" y="478"/>
                  </a:lnTo>
                  <a:lnTo>
                    <a:pt x="304" y="478"/>
                  </a:lnTo>
                  <a:lnTo>
                    <a:pt x="308" y="478"/>
                  </a:lnTo>
                  <a:lnTo>
                    <a:pt x="312" y="478"/>
                  </a:lnTo>
                  <a:lnTo>
                    <a:pt x="316" y="478"/>
                  </a:lnTo>
                  <a:lnTo>
                    <a:pt x="320" y="479"/>
                  </a:lnTo>
                  <a:lnTo>
                    <a:pt x="352" y="477"/>
                  </a:lnTo>
                  <a:lnTo>
                    <a:pt x="383" y="474"/>
                  </a:lnTo>
                  <a:lnTo>
                    <a:pt x="413" y="469"/>
                  </a:lnTo>
                  <a:lnTo>
                    <a:pt x="441" y="462"/>
                  </a:lnTo>
                  <a:lnTo>
                    <a:pt x="467" y="452"/>
                  </a:lnTo>
                  <a:lnTo>
                    <a:pt x="490" y="441"/>
                  </a:lnTo>
                  <a:lnTo>
                    <a:pt x="512" y="428"/>
                  </a:lnTo>
                  <a:lnTo>
                    <a:pt x="533" y="413"/>
                  </a:lnTo>
                  <a:lnTo>
                    <a:pt x="551" y="396"/>
                  </a:lnTo>
                  <a:lnTo>
                    <a:pt x="567" y="377"/>
                  </a:lnTo>
                  <a:lnTo>
                    <a:pt x="581" y="358"/>
                  </a:lnTo>
                  <a:lnTo>
                    <a:pt x="593" y="335"/>
                  </a:lnTo>
                  <a:lnTo>
                    <a:pt x="601" y="312"/>
                  </a:lnTo>
                  <a:lnTo>
                    <a:pt x="608" y="287"/>
                  </a:lnTo>
                  <a:lnTo>
                    <a:pt x="612" y="261"/>
                  </a:lnTo>
                  <a:lnTo>
                    <a:pt x="614" y="2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870320" y="6266160"/>
              <a:ext cx="277920" cy="234360"/>
            </a:xfrm>
            <a:custGeom>
              <a:avLst/>
              <a:gdLst/>
              <a:ahLst/>
              <a:rect l="l" t="t" r="r" b="b"/>
              <a:pathLst>
                <a:path w="1414" h="1092">
                  <a:moveTo>
                    <a:pt x="1414" y="78"/>
                  </a:moveTo>
                  <a:lnTo>
                    <a:pt x="1410" y="85"/>
                  </a:lnTo>
                  <a:lnTo>
                    <a:pt x="1407" y="94"/>
                  </a:lnTo>
                  <a:lnTo>
                    <a:pt x="1403" y="103"/>
                  </a:lnTo>
                  <a:lnTo>
                    <a:pt x="1400" y="111"/>
                  </a:lnTo>
                  <a:lnTo>
                    <a:pt x="1397" y="120"/>
                  </a:lnTo>
                  <a:lnTo>
                    <a:pt x="1394" y="130"/>
                  </a:lnTo>
                  <a:lnTo>
                    <a:pt x="1391" y="139"/>
                  </a:lnTo>
                  <a:lnTo>
                    <a:pt x="1387" y="148"/>
                  </a:lnTo>
                  <a:lnTo>
                    <a:pt x="1385" y="158"/>
                  </a:lnTo>
                  <a:lnTo>
                    <a:pt x="1382" y="167"/>
                  </a:lnTo>
                  <a:lnTo>
                    <a:pt x="1380" y="176"/>
                  </a:lnTo>
                  <a:lnTo>
                    <a:pt x="1378" y="185"/>
                  </a:lnTo>
                  <a:lnTo>
                    <a:pt x="1376" y="194"/>
                  </a:lnTo>
                  <a:lnTo>
                    <a:pt x="1374" y="203"/>
                  </a:lnTo>
                  <a:lnTo>
                    <a:pt x="1372" y="211"/>
                  </a:lnTo>
                  <a:lnTo>
                    <a:pt x="1371" y="219"/>
                  </a:lnTo>
                  <a:lnTo>
                    <a:pt x="1349" y="219"/>
                  </a:lnTo>
                  <a:lnTo>
                    <a:pt x="1348" y="216"/>
                  </a:lnTo>
                  <a:lnTo>
                    <a:pt x="1347" y="212"/>
                  </a:lnTo>
                  <a:lnTo>
                    <a:pt x="1344" y="206"/>
                  </a:lnTo>
                  <a:lnTo>
                    <a:pt x="1340" y="198"/>
                  </a:lnTo>
                  <a:lnTo>
                    <a:pt x="1335" y="188"/>
                  </a:lnTo>
                  <a:lnTo>
                    <a:pt x="1329" y="178"/>
                  </a:lnTo>
                  <a:lnTo>
                    <a:pt x="1321" y="167"/>
                  </a:lnTo>
                  <a:lnTo>
                    <a:pt x="1312" y="157"/>
                  </a:lnTo>
                  <a:lnTo>
                    <a:pt x="1301" y="145"/>
                  </a:lnTo>
                  <a:lnTo>
                    <a:pt x="1288" y="135"/>
                  </a:lnTo>
                  <a:lnTo>
                    <a:pt x="1274" y="125"/>
                  </a:lnTo>
                  <a:lnTo>
                    <a:pt x="1259" y="115"/>
                  </a:lnTo>
                  <a:lnTo>
                    <a:pt x="1241" y="108"/>
                  </a:lnTo>
                  <a:lnTo>
                    <a:pt x="1222" y="102"/>
                  </a:lnTo>
                  <a:lnTo>
                    <a:pt x="1200" y="99"/>
                  </a:lnTo>
                  <a:lnTo>
                    <a:pt x="1177" y="98"/>
                  </a:lnTo>
                  <a:lnTo>
                    <a:pt x="1155" y="98"/>
                  </a:lnTo>
                  <a:lnTo>
                    <a:pt x="1134" y="101"/>
                  </a:lnTo>
                  <a:lnTo>
                    <a:pt x="1115" y="105"/>
                  </a:lnTo>
                  <a:lnTo>
                    <a:pt x="1096" y="111"/>
                  </a:lnTo>
                  <a:lnTo>
                    <a:pt x="1079" y="118"/>
                  </a:lnTo>
                  <a:lnTo>
                    <a:pt x="1063" y="128"/>
                  </a:lnTo>
                  <a:lnTo>
                    <a:pt x="1048" y="138"/>
                  </a:lnTo>
                  <a:lnTo>
                    <a:pt x="1034" y="149"/>
                  </a:lnTo>
                  <a:lnTo>
                    <a:pt x="1021" y="161"/>
                  </a:lnTo>
                  <a:lnTo>
                    <a:pt x="1010" y="174"/>
                  </a:lnTo>
                  <a:lnTo>
                    <a:pt x="1001" y="188"/>
                  </a:lnTo>
                  <a:lnTo>
                    <a:pt x="993" y="203"/>
                  </a:lnTo>
                  <a:lnTo>
                    <a:pt x="987" y="219"/>
                  </a:lnTo>
                  <a:lnTo>
                    <a:pt x="983" y="235"/>
                  </a:lnTo>
                  <a:lnTo>
                    <a:pt x="979" y="251"/>
                  </a:lnTo>
                  <a:lnTo>
                    <a:pt x="979" y="269"/>
                  </a:lnTo>
                  <a:lnTo>
                    <a:pt x="980" y="288"/>
                  </a:lnTo>
                  <a:lnTo>
                    <a:pt x="984" y="307"/>
                  </a:lnTo>
                  <a:lnTo>
                    <a:pt x="988" y="324"/>
                  </a:lnTo>
                  <a:lnTo>
                    <a:pt x="995" y="340"/>
                  </a:lnTo>
                  <a:lnTo>
                    <a:pt x="1004" y="354"/>
                  </a:lnTo>
                  <a:lnTo>
                    <a:pt x="1014" y="368"/>
                  </a:lnTo>
                  <a:lnTo>
                    <a:pt x="1025" y="380"/>
                  </a:lnTo>
                  <a:lnTo>
                    <a:pt x="1038" y="391"/>
                  </a:lnTo>
                  <a:lnTo>
                    <a:pt x="1051" y="403"/>
                  </a:lnTo>
                  <a:lnTo>
                    <a:pt x="1066" y="413"/>
                  </a:lnTo>
                  <a:lnTo>
                    <a:pt x="1081" y="422"/>
                  </a:lnTo>
                  <a:lnTo>
                    <a:pt x="1096" y="432"/>
                  </a:lnTo>
                  <a:lnTo>
                    <a:pt x="1112" y="440"/>
                  </a:lnTo>
                  <a:lnTo>
                    <a:pt x="1128" y="448"/>
                  </a:lnTo>
                  <a:lnTo>
                    <a:pt x="1144" y="456"/>
                  </a:lnTo>
                  <a:lnTo>
                    <a:pt x="1160" y="466"/>
                  </a:lnTo>
                  <a:lnTo>
                    <a:pt x="1167" y="470"/>
                  </a:lnTo>
                  <a:lnTo>
                    <a:pt x="1176" y="475"/>
                  </a:lnTo>
                  <a:lnTo>
                    <a:pt x="1184" y="479"/>
                  </a:lnTo>
                  <a:lnTo>
                    <a:pt x="1193" y="484"/>
                  </a:lnTo>
                  <a:lnTo>
                    <a:pt x="1202" y="488"/>
                  </a:lnTo>
                  <a:lnTo>
                    <a:pt x="1210" y="493"/>
                  </a:lnTo>
                  <a:lnTo>
                    <a:pt x="1218" y="499"/>
                  </a:lnTo>
                  <a:lnTo>
                    <a:pt x="1226" y="504"/>
                  </a:lnTo>
                  <a:lnTo>
                    <a:pt x="1234" y="509"/>
                  </a:lnTo>
                  <a:lnTo>
                    <a:pt x="1242" y="514"/>
                  </a:lnTo>
                  <a:lnTo>
                    <a:pt x="1250" y="520"/>
                  </a:lnTo>
                  <a:lnTo>
                    <a:pt x="1257" y="525"/>
                  </a:lnTo>
                  <a:lnTo>
                    <a:pt x="1265" y="532"/>
                  </a:lnTo>
                  <a:lnTo>
                    <a:pt x="1272" y="538"/>
                  </a:lnTo>
                  <a:lnTo>
                    <a:pt x="1278" y="544"/>
                  </a:lnTo>
                  <a:lnTo>
                    <a:pt x="1286" y="551"/>
                  </a:lnTo>
                  <a:lnTo>
                    <a:pt x="1291" y="558"/>
                  </a:lnTo>
                  <a:lnTo>
                    <a:pt x="1298" y="567"/>
                  </a:lnTo>
                  <a:lnTo>
                    <a:pt x="1304" y="575"/>
                  </a:lnTo>
                  <a:lnTo>
                    <a:pt x="1309" y="583"/>
                  </a:lnTo>
                  <a:lnTo>
                    <a:pt x="1315" y="592"/>
                  </a:lnTo>
                  <a:lnTo>
                    <a:pt x="1319" y="603"/>
                  </a:lnTo>
                  <a:lnTo>
                    <a:pt x="1324" y="612"/>
                  </a:lnTo>
                  <a:lnTo>
                    <a:pt x="1329" y="623"/>
                  </a:lnTo>
                  <a:lnTo>
                    <a:pt x="1332" y="635"/>
                  </a:lnTo>
                  <a:lnTo>
                    <a:pt x="1335" y="646"/>
                  </a:lnTo>
                  <a:lnTo>
                    <a:pt x="1338" y="658"/>
                  </a:lnTo>
                  <a:lnTo>
                    <a:pt x="1340" y="671"/>
                  </a:lnTo>
                  <a:lnTo>
                    <a:pt x="1343" y="684"/>
                  </a:lnTo>
                  <a:lnTo>
                    <a:pt x="1344" y="698"/>
                  </a:lnTo>
                  <a:lnTo>
                    <a:pt x="1345" y="713"/>
                  </a:lnTo>
                  <a:lnTo>
                    <a:pt x="1346" y="728"/>
                  </a:lnTo>
                  <a:lnTo>
                    <a:pt x="1344" y="760"/>
                  </a:lnTo>
                  <a:lnTo>
                    <a:pt x="1338" y="793"/>
                  </a:lnTo>
                  <a:lnTo>
                    <a:pt x="1330" y="825"/>
                  </a:lnTo>
                  <a:lnTo>
                    <a:pt x="1317" y="857"/>
                  </a:lnTo>
                  <a:lnTo>
                    <a:pt x="1302" y="888"/>
                  </a:lnTo>
                  <a:lnTo>
                    <a:pt x="1283" y="919"/>
                  </a:lnTo>
                  <a:lnTo>
                    <a:pt x="1260" y="947"/>
                  </a:lnTo>
                  <a:lnTo>
                    <a:pt x="1236" y="975"/>
                  </a:lnTo>
                  <a:lnTo>
                    <a:pt x="1207" y="999"/>
                  </a:lnTo>
                  <a:lnTo>
                    <a:pt x="1175" y="1022"/>
                  </a:lnTo>
                  <a:lnTo>
                    <a:pt x="1140" y="1042"/>
                  </a:lnTo>
                  <a:lnTo>
                    <a:pt x="1102" y="1059"/>
                  </a:lnTo>
                  <a:lnTo>
                    <a:pt x="1061" y="1072"/>
                  </a:lnTo>
                  <a:lnTo>
                    <a:pt x="1017" y="1083"/>
                  </a:lnTo>
                  <a:lnTo>
                    <a:pt x="970" y="1089"/>
                  </a:lnTo>
                  <a:lnTo>
                    <a:pt x="921" y="1092"/>
                  </a:lnTo>
                  <a:lnTo>
                    <a:pt x="874" y="1090"/>
                  </a:lnTo>
                  <a:lnTo>
                    <a:pt x="831" y="1086"/>
                  </a:lnTo>
                  <a:lnTo>
                    <a:pt x="790" y="1080"/>
                  </a:lnTo>
                  <a:lnTo>
                    <a:pt x="753" y="1070"/>
                  </a:lnTo>
                  <a:lnTo>
                    <a:pt x="719" y="1059"/>
                  </a:lnTo>
                  <a:lnTo>
                    <a:pt x="686" y="1046"/>
                  </a:lnTo>
                  <a:lnTo>
                    <a:pt x="655" y="1029"/>
                  </a:lnTo>
                  <a:lnTo>
                    <a:pt x="626" y="1010"/>
                  </a:lnTo>
                  <a:lnTo>
                    <a:pt x="599" y="989"/>
                  </a:lnTo>
                  <a:lnTo>
                    <a:pt x="572" y="965"/>
                  </a:lnTo>
                  <a:lnTo>
                    <a:pt x="548" y="938"/>
                  </a:lnTo>
                  <a:lnTo>
                    <a:pt x="524" y="911"/>
                  </a:lnTo>
                  <a:lnTo>
                    <a:pt x="501" y="880"/>
                  </a:lnTo>
                  <a:lnTo>
                    <a:pt x="478" y="848"/>
                  </a:lnTo>
                  <a:lnTo>
                    <a:pt x="456" y="813"/>
                  </a:lnTo>
                  <a:lnTo>
                    <a:pt x="433" y="776"/>
                  </a:lnTo>
                  <a:lnTo>
                    <a:pt x="431" y="774"/>
                  </a:lnTo>
                  <a:lnTo>
                    <a:pt x="428" y="767"/>
                  </a:lnTo>
                  <a:lnTo>
                    <a:pt x="424" y="759"/>
                  </a:lnTo>
                  <a:lnTo>
                    <a:pt x="417" y="749"/>
                  </a:lnTo>
                  <a:lnTo>
                    <a:pt x="409" y="736"/>
                  </a:lnTo>
                  <a:lnTo>
                    <a:pt x="400" y="720"/>
                  </a:lnTo>
                  <a:lnTo>
                    <a:pt x="390" y="704"/>
                  </a:lnTo>
                  <a:lnTo>
                    <a:pt x="380" y="685"/>
                  </a:lnTo>
                  <a:lnTo>
                    <a:pt x="368" y="668"/>
                  </a:lnTo>
                  <a:lnTo>
                    <a:pt x="358" y="649"/>
                  </a:lnTo>
                  <a:lnTo>
                    <a:pt x="346" y="630"/>
                  </a:lnTo>
                  <a:lnTo>
                    <a:pt x="335" y="612"/>
                  </a:lnTo>
                  <a:lnTo>
                    <a:pt x="326" y="595"/>
                  </a:lnTo>
                  <a:lnTo>
                    <a:pt x="316" y="580"/>
                  </a:lnTo>
                  <a:lnTo>
                    <a:pt x="307" y="567"/>
                  </a:lnTo>
                  <a:lnTo>
                    <a:pt x="301" y="555"/>
                  </a:lnTo>
                  <a:lnTo>
                    <a:pt x="296" y="554"/>
                  </a:lnTo>
                  <a:lnTo>
                    <a:pt x="292" y="553"/>
                  </a:lnTo>
                  <a:lnTo>
                    <a:pt x="288" y="553"/>
                  </a:lnTo>
                  <a:lnTo>
                    <a:pt x="284" y="552"/>
                  </a:lnTo>
                  <a:lnTo>
                    <a:pt x="281" y="552"/>
                  </a:lnTo>
                  <a:lnTo>
                    <a:pt x="276" y="551"/>
                  </a:lnTo>
                  <a:lnTo>
                    <a:pt x="273" y="551"/>
                  </a:lnTo>
                  <a:lnTo>
                    <a:pt x="270" y="551"/>
                  </a:lnTo>
                  <a:lnTo>
                    <a:pt x="267" y="551"/>
                  </a:lnTo>
                  <a:lnTo>
                    <a:pt x="265" y="551"/>
                  </a:lnTo>
                  <a:lnTo>
                    <a:pt x="261" y="551"/>
                  </a:lnTo>
                  <a:lnTo>
                    <a:pt x="259" y="551"/>
                  </a:lnTo>
                  <a:lnTo>
                    <a:pt x="257" y="551"/>
                  </a:lnTo>
                  <a:lnTo>
                    <a:pt x="255" y="551"/>
                  </a:lnTo>
                  <a:lnTo>
                    <a:pt x="253" y="551"/>
                  </a:lnTo>
                  <a:lnTo>
                    <a:pt x="252" y="551"/>
                  </a:lnTo>
                  <a:lnTo>
                    <a:pt x="247" y="581"/>
                  </a:lnTo>
                  <a:lnTo>
                    <a:pt x="242" y="612"/>
                  </a:lnTo>
                  <a:lnTo>
                    <a:pt x="237" y="643"/>
                  </a:lnTo>
                  <a:lnTo>
                    <a:pt x="233" y="675"/>
                  </a:lnTo>
                  <a:lnTo>
                    <a:pt x="228" y="706"/>
                  </a:lnTo>
                  <a:lnTo>
                    <a:pt x="224" y="737"/>
                  </a:lnTo>
                  <a:lnTo>
                    <a:pt x="219" y="767"/>
                  </a:lnTo>
                  <a:lnTo>
                    <a:pt x="214" y="799"/>
                  </a:lnTo>
                  <a:lnTo>
                    <a:pt x="210" y="830"/>
                  </a:lnTo>
                  <a:lnTo>
                    <a:pt x="206" y="862"/>
                  </a:lnTo>
                  <a:lnTo>
                    <a:pt x="202" y="893"/>
                  </a:lnTo>
                  <a:lnTo>
                    <a:pt x="197" y="925"/>
                  </a:lnTo>
                  <a:lnTo>
                    <a:pt x="193" y="956"/>
                  </a:lnTo>
                  <a:lnTo>
                    <a:pt x="189" y="988"/>
                  </a:lnTo>
                  <a:lnTo>
                    <a:pt x="185" y="1019"/>
                  </a:lnTo>
                  <a:lnTo>
                    <a:pt x="180" y="1051"/>
                  </a:lnTo>
                  <a:lnTo>
                    <a:pt x="179" y="1050"/>
                  </a:lnTo>
                  <a:lnTo>
                    <a:pt x="177" y="1050"/>
                  </a:lnTo>
                  <a:lnTo>
                    <a:pt x="174" y="1050"/>
                  </a:lnTo>
                  <a:lnTo>
                    <a:pt x="170" y="1050"/>
                  </a:lnTo>
                  <a:lnTo>
                    <a:pt x="164" y="1050"/>
                  </a:lnTo>
                  <a:lnTo>
                    <a:pt x="159" y="1050"/>
                  </a:lnTo>
                  <a:lnTo>
                    <a:pt x="151" y="1049"/>
                  </a:lnTo>
                  <a:lnTo>
                    <a:pt x="145" y="1049"/>
                  </a:lnTo>
                  <a:lnTo>
                    <a:pt x="138" y="1049"/>
                  </a:lnTo>
                  <a:lnTo>
                    <a:pt x="130" y="1048"/>
                  </a:lnTo>
                  <a:lnTo>
                    <a:pt x="123" y="1048"/>
                  </a:lnTo>
                  <a:lnTo>
                    <a:pt x="116" y="1048"/>
                  </a:lnTo>
                  <a:lnTo>
                    <a:pt x="109" y="1048"/>
                  </a:lnTo>
                  <a:lnTo>
                    <a:pt x="102" y="1048"/>
                  </a:lnTo>
                  <a:lnTo>
                    <a:pt x="96" y="1048"/>
                  </a:lnTo>
                  <a:lnTo>
                    <a:pt x="92" y="1048"/>
                  </a:lnTo>
                  <a:lnTo>
                    <a:pt x="85" y="1048"/>
                  </a:lnTo>
                  <a:lnTo>
                    <a:pt x="79" y="1048"/>
                  </a:lnTo>
                  <a:lnTo>
                    <a:pt x="72" y="1048"/>
                  </a:lnTo>
                  <a:lnTo>
                    <a:pt x="65" y="1048"/>
                  </a:lnTo>
                  <a:lnTo>
                    <a:pt x="57" y="1048"/>
                  </a:lnTo>
                  <a:lnTo>
                    <a:pt x="49" y="1048"/>
                  </a:lnTo>
                  <a:lnTo>
                    <a:pt x="41" y="1049"/>
                  </a:lnTo>
                  <a:lnTo>
                    <a:pt x="34" y="1049"/>
                  </a:lnTo>
                  <a:lnTo>
                    <a:pt x="28" y="1049"/>
                  </a:lnTo>
                  <a:lnTo>
                    <a:pt x="21" y="1050"/>
                  </a:lnTo>
                  <a:lnTo>
                    <a:pt x="15" y="1050"/>
                  </a:lnTo>
                  <a:lnTo>
                    <a:pt x="9" y="1050"/>
                  </a:lnTo>
                  <a:lnTo>
                    <a:pt x="5" y="1050"/>
                  </a:lnTo>
                  <a:lnTo>
                    <a:pt x="2" y="1050"/>
                  </a:lnTo>
                  <a:lnTo>
                    <a:pt x="0" y="1050"/>
                  </a:lnTo>
                  <a:lnTo>
                    <a:pt x="0" y="1051"/>
                  </a:lnTo>
                  <a:lnTo>
                    <a:pt x="14" y="986"/>
                  </a:lnTo>
                  <a:lnTo>
                    <a:pt x="28" y="921"/>
                  </a:lnTo>
                  <a:lnTo>
                    <a:pt x="40" y="856"/>
                  </a:lnTo>
                  <a:lnTo>
                    <a:pt x="53" y="791"/>
                  </a:lnTo>
                  <a:lnTo>
                    <a:pt x="66" y="725"/>
                  </a:lnTo>
                  <a:lnTo>
                    <a:pt x="78" y="660"/>
                  </a:lnTo>
                  <a:lnTo>
                    <a:pt x="88" y="595"/>
                  </a:lnTo>
                  <a:lnTo>
                    <a:pt x="99" y="529"/>
                  </a:lnTo>
                  <a:lnTo>
                    <a:pt x="110" y="465"/>
                  </a:lnTo>
                  <a:lnTo>
                    <a:pt x="119" y="399"/>
                  </a:lnTo>
                  <a:lnTo>
                    <a:pt x="128" y="334"/>
                  </a:lnTo>
                  <a:lnTo>
                    <a:pt x="138" y="268"/>
                  </a:lnTo>
                  <a:lnTo>
                    <a:pt x="146" y="203"/>
                  </a:lnTo>
                  <a:lnTo>
                    <a:pt x="154" y="138"/>
                  </a:lnTo>
                  <a:lnTo>
                    <a:pt x="161" y="73"/>
                  </a:lnTo>
                  <a:lnTo>
                    <a:pt x="169" y="8"/>
                  </a:lnTo>
                  <a:lnTo>
                    <a:pt x="170" y="8"/>
                  </a:lnTo>
                  <a:lnTo>
                    <a:pt x="173" y="8"/>
                  </a:lnTo>
                  <a:lnTo>
                    <a:pt x="178" y="8"/>
                  </a:lnTo>
                  <a:lnTo>
                    <a:pt x="186" y="8"/>
                  </a:lnTo>
                  <a:lnTo>
                    <a:pt x="194" y="8"/>
                  </a:lnTo>
                  <a:lnTo>
                    <a:pt x="204" y="8"/>
                  </a:lnTo>
                  <a:lnTo>
                    <a:pt x="214" y="9"/>
                  </a:lnTo>
                  <a:lnTo>
                    <a:pt x="226" y="9"/>
                  </a:lnTo>
                  <a:lnTo>
                    <a:pt x="238" y="9"/>
                  </a:lnTo>
                  <a:lnTo>
                    <a:pt x="250" y="10"/>
                  </a:lnTo>
                  <a:lnTo>
                    <a:pt x="261" y="10"/>
                  </a:lnTo>
                  <a:lnTo>
                    <a:pt x="273" y="10"/>
                  </a:lnTo>
                  <a:lnTo>
                    <a:pt x="285" y="10"/>
                  </a:lnTo>
                  <a:lnTo>
                    <a:pt x="295" y="10"/>
                  </a:lnTo>
                  <a:lnTo>
                    <a:pt x="303" y="10"/>
                  </a:lnTo>
                  <a:lnTo>
                    <a:pt x="312" y="11"/>
                  </a:lnTo>
                  <a:lnTo>
                    <a:pt x="343" y="10"/>
                  </a:lnTo>
                  <a:lnTo>
                    <a:pt x="376" y="9"/>
                  </a:lnTo>
                  <a:lnTo>
                    <a:pt x="411" y="8"/>
                  </a:lnTo>
                  <a:lnTo>
                    <a:pt x="448" y="8"/>
                  </a:lnTo>
                  <a:lnTo>
                    <a:pt x="485" y="9"/>
                  </a:lnTo>
                  <a:lnTo>
                    <a:pt x="522" y="11"/>
                  </a:lnTo>
                  <a:lnTo>
                    <a:pt x="558" y="16"/>
                  </a:lnTo>
                  <a:lnTo>
                    <a:pt x="594" y="23"/>
                  </a:lnTo>
                  <a:lnTo>
                    <a:pt x="627" y="33"/>
                  </a:lnTo>
                  <a:lnTo>
                    <a:pt x="658" y="45"/>
                  </a:lnTo>
                  <a:lnTo>
                    <a:pt x="686" y="62"/>
                  </a:lnTo>
                  <a:lnTo>
                    <a:pt x="709" y="83"/>
                  </a:lnTo>
                  <a:lnTo>
                    <a:pt x="729" y="108"/>
                  </a:lnTo>
                  <a:lnTo>
                    <a:pt x="744" y="139"/>
                  </a:lnTo>
                  <a:lnTo>
                    <a:pt x="753" y="174"/>
                  </a:lnTo>
                  <a:lnTo>
                    <a:pt x="757" y="216"/>
                  </a:lnTo>
                  <a:lnTo>
                    <a:pt x="755" y="253"/>
                  </a:lnTo>
                  <a:lnTo>
                    <a:pt x="750" y="287"/>
                  </a:lnTo>
                  <a:lnTo>
                    <a:pt x="740" y="320"/>
                  </a:lnTo>
                  <a:lnTo>
                    <a:pt x="728" y="350"/>
                  </a:lnTo>
                  <a:lnTo>
                    <a:pt x="714" y="378"/>
                  </a:lnTo>
                  <a:lnTo>
                    <a:pt x="697" y="403"/>
                  </a:lnTo>
                  <a:lnTo>
                    <a:pt x="678" y="426"/>
                  </a:lnTo>
                  <a:lnTo>
                    <a:pt x="658" y="447"/>
                  </a:lnTo>
                  <a:lnTo>
                    <a:pt x="636" y="467"/>
                  </a:lnTo>
                  <a:lnTo>
                    <a:pt x="613" y="483"/>
                  </a:lnTo>
                  <a:lnTo>
                    <a:pt x="589" y="498"/>
                  </a:lnTo>
                  <a:lnTo>
                    <a:pt x="566" y="511"/>
                  </a:lnTo>
                  <a:lnTo>
                    <a:pt x="542" y="521"/>
                  </a:lnTo>
                  <a:lnTo>
                    <a:pt x="519" y="531"/>
                  </a:lnTo>
                  <a:lnTo>
                    <a:pt x="495" y="538"/>
                  </a:lnTo>
                  <a:lnTo>
                    <a:pt x="474" y="543"/>
                  </a:lnTo>
                  <a:lnTo>
                    <a:pt x="602" y="751"/>
                  </a:lnTo>
                  <a:lnTo>
                    <a:pt x="620" y="780"/>
                  </a:lnTo>
                  <a:lnTo>
                    <a:pt x="640" y="808"/>
                  </a:lnTo>
                  <a:lnTo>
                    <a:pt x="657" y="833"/>
                  </a:lnTo>
                  <a:lnTo>
                    <a:pt x="675" y="857"/>
                  </a:lnTo>
                  <a:lnTo>
                    <a:pt x="692" y="879"/>
                  </a:lnTo>
                  <a:lnTo>
                    <a:pt x="710" y="899"/>
                  </a:lnTo>
                  <a:lnTo>
                    <a:pt x="728" y="917"/>
                  </a:lnTo>
                  <a:lnTo>
                    <a:pt x="746" y="933"/>
                  </a:lnTo>
                  <a:lnTo>
                    <a:pt x="766" y="948"/>
                  </a:lnTo>
                  <a:lnTo>
                    <a:pt x="786" y="959"/>
                  </a:lnTo>
                  <a:lnTo>
                    <a:pt x="806" y="970"/>
                  </a:lnTo>
                  <a:lnTo>
                    <a:pt x="829" y="979"/>
                  </a:lnTo>
                  <a:lnTo>
                    <a:pt x="852" y="985"/>
                  </a:lnTo>
                  <a:lnTo>
                    <a:pt x="878" y="990"/>
                  </a:lnTo>
                  <a:lnTo>
                    <a:pt x="905" y="993"/>
                  </a:lnTo>
                  <a:lnTo>
                    <a:pt x="934" y="994"/>
                  </a:lnTo>
                  <a:lnTo>
                    <a:pt x="963" y="992"/>
                  </a:lnTo>
                  <a:lnTo>
                    <a:pt x="990" y="988"/>
                  </a:lnTo>
                  <a:lnTo>
                    <a:pt x="1016" y="982"/>
                  </a:lnTo>
                  <a:lnTo>
                    <a:pt x="1039" y="974"/>
                  </a:lnTo>
                  <a:lnTo>
                    <a:pt x="1062" y="963"/>
                  </a:lnTo>
                  <a:lnTo>
                    <a:pt x="1081" y="951"/>
                  </a:lnTo>
                  <a:lnTo>
                    <a:pt x="1100" y="936"/>
                  </a:lnTo>
                  <a:lnTo>
                    <a:pt x="1116" y="921"/>
                  </a:lnTo>
                  <a:lnTo>
                    <a:pt x="1130" y="904"/>
                  </a:lnTo>
                  <a:lnTo>
                    <a:pt x="1143" y="887"/>
                  </a:lnTo>
                  <a:lnTo>
                    <a:pt x="1153" y="868"/>
                  </a:lnTo>
                  <a:lnTo>
                    <a:pt x="1163" y="849"/>
                  </a:lnTo>
                  <a:lnTo>
                    <a:pt x="1169" y="829"/>
                  </a:lnTo>
                  <a:lnTo>
                    <a:pt x="1175" y="810"/>
                  </a:lnTo>
                  <a:lnTo>
                    <a:pt x="1178" y="790"/>
                  </a:lnTo>
                  <a:lnTo>
                    <a:pt x="1179" y="771"/>
                  </a:lnTo>
                  <a:lnTo>
                    <a:pt x="1178" y="757"/>
                  </a:lnTo>
                  <a:lnTo>
                    <a:pt x="1177" y="746"/>
                  </a:lnTo>
                  <a:lnTo>
                    <a:pt x="1174" y="735"/>
                  </a:lnTo>
                  <a:lnTo>
                    <a:pt x="1171" y="724"/>
                  </a:lnTo>
                  <a:lnTo>
                    <a:pt x="1166" y="714"/>
                  </a:lnTo>
                  <a:lnTo>
                    <a:pt x="1161" y="705"/>
                  </a:lnTo>
                  <a:lnTo>
                    <a:pt x="1156" y="696"/>
                  </a:lnTo>
                  <a:lnTo>
                    <a:pt x="1148" y="688"/>
                  </a:lnTo>
                  <a:lnTo>
                    <a:pt x="1142" y="680"/>
                  </a:lnTo>
                  <a:lnTo>
                    <a:pt x="1133" y="673"/>
                  </a:lnTo>
                  <a:lnTo>
                    <a:pt x="1125" y="665"/>
                  </a:lnTo>
                  <a:lnTo>
                    <a:pt x="1116" y="658"/>
                  </a:lnTo>
                  <a:lnTo>
                    <a:pt x="1106" y="652"/>
                  </a:lnTo>
                  <a:lnTo>
                    <a:pt x="1097" y="646"/>
                  </a:lnTo>
                  <a:lnTo>
                    <a:pt x="1086" y="640"/>
                  </a:lnTo>
                  <a:lnTo>
                    <a:pt x="1077" y="635"/>
                  </a:lnTo>
                  <a:lnTo>
                    <a:pt x="1053" y="621"/>
                  </a:lnTo>
                  <a:lnTo>
                    <a:pt x="1031" y="608"/>
                  </a:lnTo>
                  <a:lnTo>
                    <a:pt x="1008" y="595"/>
                  </a:lnTo>
                  <a:lnTo>
                    <a:pt x="987" y="583"/>
                  </a:lnTo>
                  <a:lnTo>
                    <a:pt x="965" y="570"/>
                  </a:lnTo>
                  <a:lnTo>
                    <a:pt x="944" y="556"/>
                  </a:lnTo>
                  <a:lnTo>
                    <a:pt x="925" y="542"/>
                  </a:lnTo>
                  <a:lnTo>
                    <a:pt x="907" y="526"/>
                  </a:lnTo>
                  <a:lnTo>
                    <a:pt x="890" y="510"/>
                  </a:lnTo>
                  <a:lnTo>
                    <a:pt x="875" y="492"/>
                  </a:lnTo>
                  <a:lnTo>
                    <a:pt x="862" y="473"/>
                  </a:lnTo>
                  <a:lnTo>
                    <a:pt x="850" y="452"/>
                  </a:lnTo>
                  <a:lnTo>
                    <a:pt x="840" y="429"/>
                  </a:lnTo>
                  <a:lnTo>
                    <a:pt x="834" y="404"/>
                  </a:lnTo>
                  <a:lnTo>
                    <a:pt x="830" y="376"/>
                  </a:lnTo>
                  <a:lnTo>
                    <a:pt x="829" y="346"/>
                  </a:lnTo>
                  <a:lnTo>
                    <a:pt x="830" y="309"/>
                  </a:lnTo>
                  <a:lnTo>
                    <a:pt x="835" y="273"/>
                  </a:lnTo>
                  <a:lnTo>
                    <a:pt x="843" y="239"/>
                  </a:lnTo>
                  <a:lnTo>
                    <a:pt x="854" y="207"/>
                  </a:lnTo>
                  <a:lnTo>
                    <a:pt x="868" y="176"/>
                  </a:lnTo>
                  <a:lnTo>
                    <a:pt x="885" y="147"/>
                  </a:lnTo>
                  <a:lnTo>
                    <a:pt x="905" y="122"/>
                  </a:lnTo>
                  <a:lnTo>
                    <a:pt x="928" y="97"/>
                  </a:lnTo>
                  <a:lnTo>
                    <a:pt x="953" y="75"/>
                  </a:lnTo>
                  <a:lnTo>
                    <a:pt x="980" y="56"/>
                  </a:lnTo>
                  <a:lnTo>
                    <a:pt x="1009" y="39"/>
                  </a:lnTo>
                  <a:lnTo>
                    <a:pt x="1041" y="26"/>
                  </a:lnTo>
                  <a:lnTo>
                    <a:pt x="1075" y="14"/>
                  </a:lnTo>
                  <a:lnTo>
                    <a:pt x="1112" y="6"/>
                  </a:lnTo>
                  <a:lnTo>
                    <a:pt x="1150" y="1"/>
                  </a:lnTo>
                  <a:lnTo>
                    <a:pt x="1191" y="0"/>
                  </a:lnTo>
                  <a:lnTo>
                    <a:pt x="1215" y="0"/>
                  </a:lnTo>
                  <a:lnTo>
                    <a:pt x="1240" y="3"/>
                  </a:lnTo>
                  <a:lnTo>
                    <a:pt x="1262" y="6"/>
                  </a:lnTo>
                  <a:lnTo>
                    <a:pt x="1284" y="11"/>
                  </a:lnTo>
                  <a:lnTo>
                    <a:pt x="1304" y="17"/>
                  </a:lnTo>
                  <a:lnTo>
                    <a:pt x="1322" y="24"/>
                  </a:lnTo>
                  <a:lnTo>
                    <a:pt x="1338" y="31"/>
                  </a:lnTo>
                  <a:lnTo>
                    <a:pt x="1353" y="38"/>
                  </a:lnTo>
                  <a:lnTo>
                    <a:pt x="1367" y="45"/>
                  </a:lnTo>
                  <a:lnTo>
                    <a:pt x="1379" y="52"/>
                  </a:lnTo>
                  <a:lnTo>
                    <a:pt x="1390" y="59"/>
                  </a:lnTo>
                  <a:lnTo>
                    <a:pt x="1397" y="65"/>
                  </a:lnTo>
                  <a:lnTo>
                    <a:pt x="1404" y="70"/>
                  </a:lnTo>
                  <a:lnTo>
                    <a:pt x="1409" y="74"/>
                  </a:lnTo>
                  <a:lnTo>
                    <a:pt x="1412" y="76"/>
                  </a:lnTo>
                  <a:lnTo>
                    <a:pt x="1414" y="78"/>
                  </a:lnTo>
                  <a:close/>
                  <a:moveTo>
                    <a:pt x="580" y="233"/>
                  </a:moveTo>
                  <a:lnTo>
                    <a:pt x="579" y="217"/>
                  </a:lnTo>
                  <a:lnTo>
                    <a:pt x="577" y="204"/>
                  </a:lnTo>
                  <a:lnTo>
                    <a:pt x="573" y="191"/>
                  </a:lnTo>
                  <a:lnTo>
                    <a:pt x="568" y="178"/>
                  </a:lnTo>
                  <a:lnTo>
                    <a:pt x="562" y="167"/>
                  </a:lnTo>
                  <a:lnTo>
                    <a:pt x="554" y="156"/>
                  </a:lnTo>
                  <a:lnTo>
                    <a:pt x="546" y="145"/>
                  </a:lnTo>
                  <a:lnTo>
                    <a:pt x="535" y="137"/>
                  </a:lnTo>
                  <a:lnTo>
                    <a:pt x="524" y="129"/>
                  </a:lnTo>
                  <a:lnTo>
                    <a:pt x="511" y="122"/>
                  </a:lnTo>
                  <a:lnTo>
                    <a:pt x="496" y="115"/>
                  </a:lnTo>
                  <a:lnTo>
                    <a:pt x="482" y="110"/>
                  </a:lnTo>
                  <a:lnTo>
                    <a:pt x="464" y="106"/>
                  </a:lnTo>
                  <a:lnTo>
                    <a:pt x="447" y="103"/>
                  </a:lnTo>
                  <a:lnTo>
                    <a:pt x="428" y="101"/>
                  </a:lnTo>
                  <a:lnTo>
                    <a:pt x="408" y="101"/>
                  </a:lnTo>
                  <a:lnTo>
                    <a:pt x="401" y="101"/>
                  </a:lnTo>
                  <a:lnTo>
                    <a:pt x="395" y="101"/>
                  </a:lnTo>
                  <a:lnTo>
                    <a:pt x="389" y="101"/>
                  </a:lnTo>
                  <a:lnTo>
                    <a:pt x="383" y="101"/>
                  </a:lnTo>
                  <a:lnTo>
                    <a:pt x="377" y="101"/>
                  </a:lnTo>
                  <a:lnTo>
                    <a:pt x="372" y="101"/>
                  </a:lnTo>
                  <a:lnTo>
                    <a:pt x="366" y="101"/>
                  </a:lnTo>
                  <a:lnTo>
                    <a:pt x="361" y="101"/>
                  </a:lnTo>
                  <a:lnTo>
                    <a:pt x="355" y="101"/>
                  </a:lnTo>
                  <a:lnTo>
                    <a:pt x="350" y="101"/>
                  </a:lnTo>
                  <a:lnTo>
                    <a:pt x="346" y="101"/>
                  </a:lnTo>
                  <a:lnTo>
                    <a:pt x="342" y="101"/>
                  </a:lnTo>
                  <a:lnTo>
                    <a:pt x="337" y="101"/>
                  </a:lnTo>
                  <a:lnTo>
                    <a:pt x="334" y="101"/>
                  </a:lnTo>
                  <a:lnTo>
                    <a:pt x="332" y="101"/>
                  </a:lnTo>
                  <a:lnTo>
                    <a:pt x="330" y="101"/>
                  </a:lnTo>
                  <a:lnTo>
                    <a:pt x="323" y="129"/>
                  </a:lnTo>
                  <a:lnTo>
                    <a:pt x="318" y="154"/>
                  </a:lnTo>
                  <a:lnTo>
                    <a:pt x="314" y="178"/>
                  </a:lnTo>
                  <a:lnTo>
                    <a:pt x="310" y="201"/>
                  </a:lnTo>
                  <a:lnTo>
                    <a:pt x="306" y="221"/>
                  </a:lnTo>
                  <a:lnTo>
                    <a:pt x="303" y="241"/>
                  </a:lnTo>
                  <a:lnTo>
                    <a:pt x="300" y="261"/>
                  </a:lnTo>
                  <a:lnTo>
                    <a:pt x="297" y="279"/>
                  </a:lnTo>
                  <a:lnTo>
                    <a:pt x="294" y="298"/>
                  </a:lnTo>
                  <a:lnTo>
                    <a:pt x="290" y="317"/>
                  </a:lnTo>
                  <a:lnTo>
                    <a:pt x="287" y="337"/>
                  </a:lnTo>
                  <a:lnTo>
                    <a:pt x="284" y="357"/>
                  </a:lnTo>
                  <a:lnTo>
                    <a:pt x="281" y="380"/>
                  </a:lnTo>
                  <a:lnTo>
                    <a:pt x="278" y="404"/>
                  </a:lnTo>
                  <a:lnTo>
                    <a:pt x="273" y="431"/>
                  </a:lnTo>
                  <a:lnTo>
                    <a:pt x="269" y="459"/>
                  </a:lnTo>
                  <a:lnTo>
                    <a:pt x="270" y="459"/>
                  </a:lnTo>
                  <a:lnTo>
                    <a:pt x="271" y="459"/>
                  </a:lnTo>
                  <a:lnTo>
                    <a:pt x="273" y="460"/>
                  </a:lnTo>
                  <a:lnTo>
                    <a:pt x="274" y="460"/>
                  </a:lnTo>
                  <a:lnTo>
                    <a:pt x="276" y="461"/>
                  </a:lnTo>
                  <a:lnTo>
                    <a:pt x="279" y="461"/>
                  </a:lnTo>
                  <a:lnTo>
                    <a:pt x="281" y="461"/>
                  </a:lnTo>
                  <a:lnTo>
                    <a:pt x="283" y="461"/>
                  </a:lnTo>
                  <a:lnTo>
                    <a:pt x="285" y="461"/>
                  </a:lnTo>
                  <a:lnTo>
                    <a:pt x="287" y="461"/>
                  </a:lnTo>
                  <a:lnTo>
                    <a:pt x="290" y="461"/>
                  </a:lnTo>
                  <a:lnTo>
                    <a:pt x="292" y="461"/>
                  </a:lnTo>
                  <a:lnTo>
                    <a:pt x="295" y="461"/>
                  </a:lnTo>
                  <a:lnTo>
                    <a:pt x="298" y="461"/>
                  </a:lnTo>
                  <a:lnTo>
                    <a:pt x="300" y="461"/>
                  </a:lnTo>
                  <a:lnTo>
                    <a:pt x="303" y="463"/>
                  </a:lnTo>
                  <a:lnTo>
                    <a:pt x="334" y="460"/>
                  </a:lnTo>
                  <a:lnTo>
                    <a:pt x="364" y="457"/>
                  </a:lnTo>
                  <a:lnTo>
                    <a:pt x="393" y="452"/>
                  </a:lnTo>
                  <a:lnTo>
                    <a:pt x="419" y="445"/>
                  </a:lnTo>
                  <a:lnTo>
                    <a:pt x="443" y="436"/>
                  </a:lnTo>
                  <a:lnTo>
                    <a:pt x="467" y="424"/>
                  </a:lnTo>
                  <a:lnTo>
                    <a:pt x="487" y="411"/>
                  </a:lnTo>
                  <a:lnTo>
                    <a:pt x="506" y="397"/>
                  </a:lnTo>
                  <a:lnTo>
                    <a:pt x="522" y="381"/>
                  </a:lnTo>
                  <a:lnTo>
                    <a:pt x="537" y="364"/>
                  </a:lnTo>
                  <a:lnTo>
                    <a:pt x="550" y="344"/>
                  </a:lnTo>
                  <a:lnTo>
                    <a:pt x="561" y="324"/>
                  </a:lnTo>
                  <a:lnTo>
                    <a:pt x="568" y="303"/>
                  </a:lnTo>
                  <a:lnTo>
                    <a:pt x="574" y="280"/>
                  </a:lnTo>
                  <a:lnTo>
                    <a:pt x="578" y="256"/>
                  </a:lnTo>
                  <a:lnTo>
                    <a:pt x="580" y="2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255520" y="6220800"/>
              <a:ext cx="202680" cy="296640"/>
            </a:xfrm>
            <a:custGeom>
              <a:avLst/>
              <a:gdLst/>
              <a:ahLst/>
              <a:rect l="l" t="t" r="r" b="b"/>
              <a:pathLst>
                <a:path w="1035" h="1376">
                  <a:moveTo>
                    <a:pt x="1035" y="334"/>
                  </a:moveTo>
                  <a:lnTo>
                    <a:pt x="1035" y="313"/>
                  </a:lnTo>
                  <a:lnTo>
                    <a:pt x="1035" y="293"/>
                  </a:lnTo>
                  <a:lnTo>
                    <a:pt x="1034" y="275"/>
                  </a:lnTo>
                  <a:lnTo>
                    <a:pt x="1034" y="256"/>
                  </a:lnTo>
                  <a:lnTo>
                    <a:pt x="1033" y="239"/>
                  </a:lnTo>
                  <a:lnTo>
                    <a:pt x="1032" y="221"/>
                  </a:lnTo>
                  <a:lnTo>
                    <a:pt x="1030" y="205"/>
                  </a:lnTo>
                  <a:lnTo>
                    <a:pt x="1026" y="188"/>
                  </a:lnTo>
                  <a:lnTo>
                    <a:pt x="1023" y="172"/>
                  </a:lnTo>
                  <a:lnTo>
                    <a:pt x="1018" y="156"/>
                  </a:lnTo>
                  <a:lnTo>
                    <a:pt x="1013" y="141"/>
                  </a:lnTo>
                  <a:lnTo>
                    <a:pt x="1005" y="125"/>
                  </a:lnTo>
                  <a:lnTo>
                    <a:pt x="995" y="110"/>
                  </a:lnTo>
                  <a:lnTo>
                    <a:pt x="986" y="96"/>
                  </a:lnTo>
                  <a:lnTo>
                    <a:pt x="973" y="81"/>
                  </a:lnTo>
                  <a:lnTo>
                    <a:pt x="960" y="68"/>
                  </a:lnTo>
                  <a:lnTo>
                    <a:pt x="945" y="54"/>
                  </a:lnTo>
                  <a:lnTo>
                    <a:pt x="930" y="43"/>
                  </a:lnTo>
                  <a:lnTo>
                    <a:pt x="914" y="34"/>
                  </a:lnTo>
                  <a:lnTo>
                    <a:pt x="899" y="26"/>
                  </a:lnTo>
                  <a:lnTo>
                    <a:pt x="883" y="19"/>
                  </a:lnTo>
                  <a:lnTo>
                    <a:pt x="868" y="14"/>
                  </a:lnTo>
                  <a:lnTo>
                    <a:pt x="851" y="10"/>
                  </a:lnTo>
                  <a:lnTo>
                    <a:pt x="835" y="6"/>
                  </a:lnTo>
                  <a:lnTo>
                    <a:pt x="818" y="4"/>
                  </a:lnTo>
                  <a:lnTo>
                    <a:pt x="801" y="2"/>
                  </a:lnTo>
                  <a:lnTo>
                    <a:pt x="784" y="1"/>
                  </a:lnTo>
                  <a:lnTo>
                    <a:pt x="766" y="1"/>
                  </a:lnTo>
                  <a:lnTo>
                    <a:pt x="747" y="0"/>
                  </a:lnTo>
                  <a:lnTo>
                    <a:pt x="728" y="0"/>
                  </a:lnTo>
                  <a:lnTo>
                    <a:pt x="708" y="0"/>
                  </a:lnTo>
                  <a:lnTo>
                    <a:pt x="689" y="1"/>
                  </a:lnTo>
                  <a:lnTo>
                    <a:pt x="348" y="1"/>
                  </a:lnTo>
                  <a:lnTo>
                    <a:pt x="328" y="0"/>
                  </a:lnTo>
                  <a:lnTo>
                    <a:pt x="308" y="0"/>
                  </a:lnTo>
                  <a:lnTo>
                    <a:pt x="288" y="0"/>
                  </a:lnTo>
                  <a:lnTo>
                    <a:pt x="270" y="1"/>
                  </a:lnTo>
                  <a:lnTo>
                    <a:pt x="252" y="1"/>
                  </a:lnTo>
                  <a:lnTo>
                    <a:pt x="235" y="2"/>
                  </a:lnTo>
                  <a:lnTo>
                    <a:pt x="217" y="4"/>
                  </a:lnTo>
                  <a:lnTo>
                    <a:pt x="201" y="6"/>
                  </a:lnTo>
                  <a:lnTo>
                    <a:pt x="184" y="10"/>
                  </a:lnTo>
                  <a:lnTo>
                    <a:pt x="168" y="14"/>
                  </a:lnTo>
                  <a:lnTo>
                    <a:pt x="152" y="19"/>
                  </a:lnTo>
                  <a:lnTo>
                    <a:pt x="136" y="26"/>
                  </a:lnTo>
                  <a:lnTo>
                    <a:pt x="121" y="34"/>
                  </a:lnTo>
                  <a:lnTo>
                    <a:pt x="106" y="43"/>
                  </a:lnTo>
                  <a:lnTo>
                    <a:pt x="90" y="54"/>
                  </a:lnTo>
                  <a:lnTo>
                    <a:pt x="76" y="68"/>
                  </a:lnTo>
                  <a:lnTo>
                    <a:pt x="62" y="81"/>
                  </a:lnTo>
                  <a:lnTo>
                    <a:pt x="49" y="96"/>
                  </a:lnTo>
                  <a:lnTo>
                    <a:pt x="39" y="110"/>
                  </a:lnTo>
                  <a:lnTo>
                    <a:pt x="30" y="125"/>
                  </a:lnTo>
                  <a:lnTo>
                    <a:pt x="22" y="141"/>
                  </a:lnTo>
                  <a:lnTo>
                    <a:pt x="17" y="156"/>
                  </a:lnTo>
                  <a:lnTo>
                    <a:pt x="12" y="172"/>
                  </a:lnTo>
                  <a:lnTo>
                    <a:pt x="8" y="188"/>
                  </a:lnTo>
                  <a:lnTo>
                    <a:pt x="5" y="205"/>
                  </a:lnTo>
                  <a:lnTo>
                    <a:pt x="3" y="221"/>
                  </a:lnTo>
                  <a:lnTo>
                    <a:pt x="2" y="239"/>
                  </a:lnTo>
                  <a:lnTo>
                    <a:pt x="1" y="256"/>
                  </a:lnTo>
                  <a:lnTo>
                    <a:pt x="1" y="275"/>
                  </a:lnTo>
                  <a:lnTo>
                    <a:pt x="0" y="293"/>
                  </a:lnTo>
                  <a:lnTo>
                    <a:pt x="0" y="313"/>
                  </a:lnTo>
                  <a:lnTo>
                    <a:pt x="1" y="334"/>
                  </a:lnTo>
                  <a:lnTo>
                    <a:pt x="1" y="1042"/>
                  </a:lnTo>
                  <a:lnTo>
                    <a:pt x="0" y="1062"/>
                  </a:lnTo>
                  <a:lnTo>
                    <a:pt x="0" y="1080"/>
                  </a:lnTo>
                  <a:lnTo>
                    <a:pt x="1" y="1100"/>
                  </a:lnTo>
                  <a:lnTo>
                    <a:pt x="1" y="1118"/>
                  </a:lnTo>
                  <a:lnTo>
                    <a:pt x="2" y="1136"/>
                  </a:lnTo>
                  <a:lnTo>
                    <a:pt x="3" y="1154"/>
                  </a:lnTo>
                  <a:lnTo>
                    <a:pt x="5" y="1170"/>
                  </a:lnTo>
                  <a:lnTo>
                    <a:pt x="8" y="1187"/>
                  </a:lnTo>
                  <a:lnTo>
                    <a:pt x="12" y="1203"/>
                  </a:lnTo>
                  <a:lnTo>
                    <a:pt x="17" y="1219"/>
                  </a:lnTo>
                  <a:lnTo>
                    <a:pt x="22" y="1234"/>
                  </a:lnTo>
                  <a:lnTo>
                    <a:pt x="30" y="1249"/>
                  </a:lnTo>
                  <a:lnTo>
                    <a:pt x="39" y="1264"/>
                  </a:lnTo>
                  <a:lnTo>
                    <a:pt x="49" y="1279"/>
                  </a:lnTo>
                  <a:lnTo>
                    <a:pt x="62" y="1294"/>
                  </a:lnTo>
                  <a:lnTo>
                    <a:pt x="76" y="1308"/>
                  </a:lnTo>
                  <a:lnTo>
                    <a:pt x="90" y="1321"/>
                  </a:lnTo>
                  <a:lnTo>
                    <a:pt x="106" y="1332"/>
                  </a:lnTo>
                  <a:lnTo>
                    <a:pt x="121" y="1341"/>
                  </a:lnTo>
                  <a:lnTo>
                    <a:pt x="136" y="1349"/>
                  </a:lnTo>
                  <a:lnTo>
                    <a:pt x="152" y="1356"/>
                  </a:lnTo>
                  <a:lnTo>
                    <a:pt x="168" y="1362"/>
                  </a:lnTo>
                  <a:lnTo>
                    <a:pt x="184" y="1366"/>
                  </a:lnTo>
                  <a:lnTo>
                    <a:pt x="201" y="1369"/>
                  </a:lnTo>
                  <a:lnTo>
                    <a:pt x="217" y="1372"/>
                  </a:lnTo>
                  <a:lnTo>
                    <a:pt x="235" y="1373"/>
                  </a:lnTo>
                  <a:lnTo>
                    <a:pt x="252" y="1374"/>
                  </a:lnTo>
                  <a:lnTo>
                    <a:pt x="270" y="1375"/>
                  </a:lnTo>
                  <a:lnTo>
                    <a:pt x="288" y="1375"/>
                  </a:lnTo>
                  <a:lnTo>
                    <a:pt x="308" y="1376"/>
                  </a:lnTo>
                  <a:lnTo>
                    <a:pt x="328" y="1376"/>
                  </a:lnTo>
                  <a:lnTo>
                    <a:pt x="348" y="1376"/>
                  </a:lnTo>
                  <a:lnTo>
                    <a:pt x="689" y="1376"/>
                  </a:lnTo>
                  <a:lnTo>
                    <a:pt x="708" y="1376"/>
                  </a:lnTo>
                  <a:lnTo>
                    <a:pt x="728" y="1376"/>
                  </a:lnTo>
                  <a:lnTo>
                    <a:pt x="748" y="1375"/>
                  </a:lnTo>
                  <a:lnTo>
                    <a:pt x="766" y="1375"/>
                  </a:lnTo>
                  <a:lnTo>
                    <a:pt x="784" y="1374"/>
                  </a:lnTo>
                  <a:lnTo>
                    <a:pt x="801" y="1373"/>
                  </a:lnTo>
                  <a:lnTo>
                    <a:pt x="819" y="1372"/>
                  </a:lnTo>
                  <a:lnTo>
                    <a:pt x="835" y="1369"/>
                  </a:lnTo>
                  <a:lnTo>
                    <a:pt x="852" y="1366"/>
                  </a:lnTo>
                  <a:lnTo>
                    <a:pt x="868" y="1362"/>
                  </a:lnTo>
                  <a:lnTo>
                    <a:pt x="884" y="1356"/>
                  </a:lnTo>
                  <a:lnTo>
                    <a:pt x="899" y="1349"/>
                  </a:lnTo>
                  <a:lnTo>
                    <a:pt x="915" y="1341"/>
                  </a:lnTo>
                  <a:lnTo>
                    <a:pt x="930" y="1332"/>
                  </a:lnTo>
                  <a:lnTo>
                    <a:pt x="945" y="1321"/>
                  </a:lnTo>
                  <a:lnTo>
                    <a:pt x="960" y="1308"/>
                  </a:lnTo>
                  <a:lnTo>
                    <a:pt x="973" y="1294"/>
                  </a:lnTo>
                  <a:lnTo>
                    <a:pt x="986" y="1279"/>
                  </a:lnTo>
                  <a:lnTo>
                    <a:pt x="995" y="1264"/>
                  </a:lnTo>
                  <a:lnTo>
                    <a:pt x="1005" y="1249"/>
                  </a:lnTo>
                  <a:lnTo>
                    <a:pt x="1013" y="1234"/>
                  </a:lnTo>
                  <a:lnTo>
                    <a:pt x="1018" y="1219"/>
                  </a:lnTo>
                  <a:lnTo>
                    <a:pt x="1023" y="1203"/>
                  </a:lnTo>
                  <a:lnTo>
                    <a:pt x="1026" y="1187"/>
                  </a:lnTo>
                  <a:lnTo>
                    <a:pt x="1030" y="1170"/>
                  </a:lnTo>
                  <a:lnTo>
                    <a:pt x="1032" y="1154"/>
                  </a:lnTo>
                  <a:lnTo>
                    <a:pt x="1033" y="1136"/>
                  </a:lnTo>
                  <a:lnTo>
                    <a:pt x="1034" y="1118"/>
                  </a:lnTo>
                  <a:lnTo>
                    <a:pt x="1034" y="1100"/>
                  </a:lnTo>
                  <a:lnTo>
                    <a:pt x="1035" y="1080"/>
                  </a:lnTo>
                  <a:lnTo>
                    <a:pt x="1035" y="1062"/>
                  </a:lnTo>
                  <a:lnTo>
                    <a:pt x="1035" y="1042"/>
                  </a:lnTo>
                  <a:lnTo>
                    <a:pt x="1035" y="334"/>
                  </a:lnTo>
                  <a:close/>
                  <a:moveTo>
                    <a:pt x="794" y="1051"/>
                  </a:moveTo>
                  <a:lnTo>
                    <a:pt x="780" y="1056"/>
                  </a:lnTo>
                  <a:lnTo>
                    <a:pt x="767" y="1062"/>
                  </a:lnTo>
                  <a:lnTo>
                    <a:pt x="754" y="1067"/>
                  </a:lnTo>
                  <a:lnTo>
                    <a:pt x="740" y="1071"/>
                  </a:lnTo>
                  <a:lnTo>
                    <a:pt x="727" y="1076"/>
                  </a:lnTo>
                  <a:lnTo>
                    <a:pt x="715" y="1079"/>
                  </a:lnTo>
                  <a:lnTo>
                    <a:pt x="702" y="1084"/>
                  </a:lnTo>
                  <a:lnTo>
                    <a:pt x="688" y="1087"/>
                  </a:lnTo>
                  <a:lnTo>
                    <a:pt x="675" y="1090"/>
                  </a:lnTo>
                  <a:lnTo>
                    <a:pt x="662" y="1092"/>
                  </a:lnTo>
                  <a:lnTo>
                    <a:pt x="648" y="1094"/>
                  </a:lnTo>
                  <a:lnTo>
                    <a:pt x="635" y="1096"/>
                  </a:lnTo>
                  <a:lnTo>
                    <a:pt x="622" y="1097"/>
                  </a:lnTo>
                  <a:lnTo>
                    <a:pt x="609" y="1098"/>
                  </a:lnTo>
                  <a:lnTo>
                    <a:pt x="595" y="1098"/>
                  </a:lnTo>
                  <a:lnTo>
                    <a:pt x="582" y="1099"/>
                  </a:lnTo>
                  <a:lnTo>
                    <a:pt x="549" y="1097"/>
                  </a:lnTo>
                  <a:lnTo>
                    <a:pt x="519" y="1093"/>
                  </a:lnTo>
                  <a:lnTo>
                    <a:pt x="490" y="1087"/>
                  </a:lnTo>
                  <a:lnTo>
                    <a:pt x="462" y="1078"/>
                  </a:lnTo>
                  <a:lnTo>
                    <a:pt x="438" y="1067"/>
                  </a:lnTo>
                  <a:lnTo>
                    <a:pt x="414" y="1053"/>
                  </a:lnTo>
                  <a:lnTo>
                    <a:pt x="393" y="1037"/>
                  </a:lnTo>
                  <a:lnTo>
                    <a:pt x="374" y="1019"/>
                  </a:lnTo>
                  <a:lnTo>
                    <a:pt x="357" y="999"/>
                  </a:lnTo>
                  <a:lnTo>
                    <a:pt x="342" y="976"/>
                  </a:lnTo>
                  <a:lnTo>
                    <a:pt x="329" y="952"/>
                  </a:lnTo>
                  <a:lnTo>
                    <a:pt x="318" y="925"/>
                  </a:lnTo>
                  <a:lnTo>
                    <a:pt x="310" y="896"/>
                  </a:lnTo>
                  <a:lnTo>
                    <a:pt x="303" y="866"/>
                  </a:lnTo>
                  <a:lnTo>
                    <a:pt x="300" y="834"/>
                  </a:lnTo>
                  <a:lnTo>
                    <a:pt x="299" y="800"/>
                  </a:lnTo>
                  <a:lnTo>
                    <a:pt x="299" y="797"/>
                  </a:lnTo>
                  <a:lnTo>
                    <a:pt x="299" y="795"/>
                  </a:lnTo>
                  <a:lnTo>
                    <a:pt x="299" y="793"/>
                  </a:lnTo>
                  <a:lnTo>
                    <a:pt x="299" y="791"/>
                  </a:lnTo>
                  <a:lnTo>
                    <a:pt x="299" y="789"/>
                  </a:lnTo>
                  <a:lnTo>
                    <a:pt x="299" y="787"/>
                  </a:lnTo>
                  <a:lnTo>
                    <a:pt x="299" y="785"/>
                  </a:lnTo>
                  <a:lnTo>
                    <a:pt x="299" y="783"/>
                  </a:lnTo>
                  <a:lnTo>
                    <a:pt x="299" y="781"/>
                  </a:lnTo>
                  <a:lnTo>
                    <a:pt x="299" y="779"/>
                  </a:lnTo>
                  <a:lnTo>
                    <a:pt x="299" y="777"/>
                  </a:lnTo>
                  <a:lnTo>
                    <a:pt x="299" y="773"/>
                  </a:lnTo>
                  <a:lnTo>
                    <a:pt x="300" y="771"/>
                  </a:lnTo>
                  <a:lnTo>
                    <a:pt x="300" y="768"/>
                  </a:lnTo>
                  <a:lnTo>
                    <a:pt x="300" y="766"/>
                  </a:lnTo>
                  <a:lnTo>
                    <a:pt x="301" y="763"/>
                  </a:lnTo>
                  <a:lnTo>
                    <a:pt x="308" y="762"/>
                  </a:lnTo>
                  <a:lnTo>
                    <a:pt x="315" y="762"/>
                  </a:lnTo>
                  <a:lnTo>
                    <a:pt x="321" y="762"/>
                  </a:lnTo>
                  <a:lnTo>
                    <a:pt x="328" y="762"/>
                  </a:lnTo>
                  <a:lnTo>
                    <a:pt x="334" y="761"/>
                  </a:lnTo>
                  <a:lnTo>
                    <a:pt x="340" y="761"/>
                  </a:lnTo>
                  <a:lnTo>
                    <a:pt x="346" y="761"/>
                  </a:lnTo>
                  <a:lnTo>
                    <a:pt x="351" y="761"/>
                  </a:lnTo>
                  <a:lnTo>
                    <a:pt x="357" y="760"/>
                  </a:lnTo>
                  <a:lnTo>
                    <a:pt x="362" y="760"/>
                  </a:lnTo>
                  <a:lnTo>
                    <a:pt x="367" y="759"/>
                  </a:lnTo>
                  <a:lnTo>
                    <a:pt x="373" y="759"/>
                  </a:lnTo>
                  <a:lnTo>
                    <a:pt x="378" y="758"/>
                  </a:lnTo>
                  <a:lnTo>
                    <a:pt x="383" y="757"/>
                  </a:lnTo>
                  <a:lnTo>
                    <a:pt x="389" y="756"/>
                  </a:lnTo>
                  <a:lnTo>
                    <a:pt x="395" y="756"/>
                  </a:lnTo>
                  <a:lnTo>
                    <a:pt x="394" y="759"/>
                  </a:lnTo>
                  <a:lnTo>
                    <a:pt x="394" y="762"/>
                  </a:lnTo>
                  <a:lnTo>
                    <a:pt x="394" y="765"/>
                  </a:lnTo>
                  <a:lnTo>
                    <a:pt x="394" y="768"/>
                  </a:lnTo>
                  <a:lnTo>
                    <a:pt x="394" y="771"/>
                  </a:lnTo>
                  <a:lnTo>
                    <a:pt x="394" y="773"/>
                  </a:lnTo>
                  <a:lnTo>
                    <a:pt x="394" y="777"/>
                  </a:lnTo>
                  <a:lnTo>
                    <a:pt x="394" y="779"/>
                  </a:lnTo>
                  <a:lnTo>
                    <a:pt x="394" y="781"/>
                  </a:lnTo>
                  <a:lnTo>
                    <a:pt x="394" y="783"/>
                  </a:lnTo>
                  <a:lnTo>
                    <a:pt x="394" y="785"/>
                  </a:lnTo>
                  <a:lnTo>
                    <a:pt x="394" y="787"/>
                  </a:lnTo>
                  <a:lnTo>
                    <a:pt x="394" y="789"/>
                  </a:lnTo>
                  <a:lnTo>
                    <a:pt x="394" y="791"/>
                  </a:lnTo>
                  <a:lnTo>
                    <a:pt x="394" y="792"/>
                  </a:lnTo>
                  <a:lnTo>
                    <a:pt x="394" y="795"/>
                  </a:lnTo>
                  <a:lnTo>
                    <a:pt x="394" y="823"/>
                  </a:lnTo>
                  <a:lnTo>
                    <a:pt x="397" y="851"/>
                  </a:lnTo>
                  <a:lnTo>
                    <a:pt x="402" y="877"/>
                  </a:lnTo>
                  <a:lnTo>
                    <a:pt x="408" y="900"/>
                  </a:lnTo>
                  <a:lnTo>
                    <a:pt x="415" y="923"/>
                  </a:lnTo>
                  <a:lnTo>
                    <a:pt x="424" y="943"/>
                  </a:lnTo>
                  <a:lnTo>
                    <a:pt x="435" y="963"/>
                  </a:lnTo>
                  <a:lnTo>
                    <a:pt x="447" y="981"/>
                  </a:lnTo>
                  <a:lnTo>
                    <a:pt x="461" y="996"/>
                  </a:lnTo>
                  <a:lnTo>
                    <a:pt x="476" y="1009"/>
                  </a:lnTo>
                  <a:lnTo>
                    <a:pt x="492" y="1022"/>
                  </a:lnTo>
                  <a:lnTo>
                    <a:pt x="511" y="1031"/>
                  </a:lnTo>
                  <a:lnTo>
                    <a:pt x="530" y="1039"/>
                  </a:lnTo>
                  <a:lnTo>
                    <a:pt x="550" y="1044"/>
                  </a:lnTo>
                  <a:lnTo>
                    <a:pt x="571" y="1048"/>
                  </a:lnTo>
                  <a:lnTo>
                    <a:pt x="595" y="1050"/>
                  </a:lnTo>
                  <a:lnTo>
                    <a:pt x="608" y="1049"/>
                  </a:lnTo>
                  <a:lnTo>
                    <a:pt x="622" y="1048"/>
                  </a:lnTo>
                  <a:lnTo>
                    <a:pt x="634" y="1046"/>
                  </a:lnTo>
                  <a:lnTo>
                    <a:pt x="647" y="1044"/>
                  </a:lnTo>
                  <a:lnTo>
                    <a:pt x="661" y="1042"/>
                  </a:lnTo>
                  <a:lnTo>
                    <a:pt x="674" y="1038"/>
                  </a:lnTo>
                  <a:lnTo>
                    <a:pt x="687" y="1035"/>
                  </a:lnTo>
                  <a:lnTo>
                    <a:pt x="700" y="1030"/>
                  </a:lnTo>
                  <a:lnTo>
                    <a:pt x="712" y="1025"/>
                  </a:lnTo>
                  <a:lnTo>
                    <a:pt x="726" y="1020"/>
                  </a:lnTo>
                  <a:lnTo>
                    <a:pt x="739" y="1012"/>
                  </a:lnTo>
                  <a:lnTo>
                    <a:pt x="752" y="1005"/>
                  </a:lnTo>
                  <a:lnTo>
                    <a:pt x="766" y="998"/>
                  </a:lnTo>
                  <a:lnTo>
                    <a:pt x="780" y="989"/>
                  </a:lnTo>
                  <a:lnTo>
                    <a:pt x="793" y="980"/>
                  </a:lnTo>
                  <a:lnTo>
                    <a:pt x="807" y="970"/>
                  </a:lnTo>
                  <a:lnTo>
                    <a:pt x="794" y="1051"/>
                  </a:lnTo>
                  <a:close/>
                  <a:moveTo>
                    <a:pt x="743" y="955"/>
                  </a:moveTo>
                  <a:lnTo>
                    <a:pt x="711" y="955"/>
                  </a:lnTo>
                  <a:lnTo>
                    <a:pt x="671" y="661"/>
                  </a:lnTo>
                  <a:lnTo>
                    <a:pt x="552" y="955"/>
                  </a:lnTo>
                  <a:lnTo>
                    <a:pt x="520" y="955"/>
                  </a:lnTo>
                  <a:lnTo>
                    <a:pt x="494" y="724"/>
                  </a:lnTo>
                  <a:lnTo>
                    <a:pt x="498" y="722"/>
                  </a:lnTo>
                  <a:lnTo>
                    <a:pt x="501" y="721"/>
                  </a:lnTo>
                  <a:lnTo>
                    <a:pt x="504" y="720"/>
                  </a:lnTo>
                  <a:lnTo>
                    <a:pt x="506" y="718"/>
                  </a:lnTo>
                  <a:lnTo>
                    <a:pt x="509" y="717"/>
                  </a:lnTo>
                  <a:lnTo>
                    <a:pt x="512" y="716"/>
                  </a:lnTo>
                  <a:lnTo>
                    <a:pt x="515" y="715"/>
                  </a:lnTo>
                  <a:lnTo>
                    <a:pt x="517" y="714"/>
                  </a:lnTo>
                  <a:lnTo>
                    <a:pt x="519" y="712"/>
                  </a:lnTo>
                  <a:lnTo>
                    <a:pt x="522" y="711"/>
                  </a:lnTo>
                  <a:lnTo>
                    <a:pt x="524" y="709"/>
                  </a:lnTo>
                  <a:lnTo>
                    <a:pt x="528" y="707"/>
                  </a:lnTo>
                  <a:lnTo>
                    <a:pt x="531" y="704"/>
                  </a:lnTo>
                  <a:lnTo>
                    <a:pt x="535" y="702"/>
                  </a:lnTo>
                  <a:lnTo>
                    <a:pt x="538" y="699"/>
                  </a:lnTo>
                  <a:lnTo>
                    <a:pt x="544" y="697"/>
                  </a:lnTo>
                  <a:lnTo>
                    <a:pt x="562" y="861"/>
                  </a:lnTo>
                  <a:lnTo>
                    <a:pt x="675" y="578"/>
                  </a:lnTo>
                  <a:lnTo>
                    <a:pt x="711" y="578"/>
                  </a:lnTo>
                  <a:lnTo>
                    <a:pt x="754" y="861"/>
                  </a:lnTo>
                  <a:lnTo>
                    <a:pt x="868" y="578"/>
                  </a:lnTo>
                  <a:lnTo>
                    <a:pt x="908" y="578"/>
                  </a:lnTo>
                  <a:lnTo>
                    <a:pt x="743" y="955"/>
                  </a:lnTo>
                  <a:close/>
                  <a:moveTo>
                    <a:pt x="888" y="434"/>
                  </a:moveTo>
                  <a:lnTo>
                    <a:pt x="878" y="421"/>
                  </a:lnTo>
                  <a:lnTo>
                    <a:pt x="868" y="410"/>
                  </a:lnTo>
                  <a:lnTo>
                    <a:pt x="860" y="400"/>
                  </a:lnTo>
                  <a:lnTo>
                    <a:pt x="850" y="390"/>
                  </a:lnTo>
                  <a:lnTo>
                    <a:pt x="840" y="382"/>
                  </a:lnTo>
                  <a:lnTo>
                    <a:pt x="830" y="375"/>
                  </a:lnTo>
                  <a:lnTo>
                    <a:pt x="819" y="368"/>
                  </a:lnTo>
                  <a:lnTo>
                    <a:pt x="809" y="361"/>
                  </a:lnTo>
                  <a:lnTo>
                    <a:pt x="798" y="356"/>
                  </a:lnTo>
                  <a:lnTo>
                    <a:pt x="786" y="351"/>
                  </a:lnTo>
                  <a:lnTo>
                    <a:pt x="774" y="348"/>
                  </a:lnTo>
                  <a:lnTo>
                    <a:pt x="763" y="345"/>
                  </a:lnTo>
                  <a:lnTo>
                    <a:pt x="750" y="342"/>
                  </a:lnTo>
                  <a:lnTo>
                    <a:pt x="737" y="341"/>
                  </a:lnTo>
                  <a:lnTo>
                    <a:pt x="724" y="340"/>
                  </a:lnTo>
                  <a:lnTo>
                    <a:pt x="710" y="340"/>
                  </a:lnTo>
                  <a:lnTo>
                    <a:pt x="682" y="341"/>
                  </a:lnTo>
                  <a:lnTo>
                    <a:pt x="656" y="345"/>
                  </a:lnTo>
                  <a:lnTo>
                    <a:pt x="630" y="353"/>
                  </a:lnTo>
                  <a:lnTo>
                    <a:pt x="606" y="363"/>
                  </a:lnTo>
                  <a:lnTo>
                    <a:pt x="581" y="377"/>
                  </a:lnTo>
                  <a:lnTo>
                    <a:pt x="559" y="392"/>
                  </a:lnTo>
                  <a:lnTo>
                    <a:pt x="536" y="411"/>
                  </a:lnTo>
                  <a:lnTo>
                    <a:pt x="516" y="431"/>
                  </a:lnTo>
                  <a:lnTo>
                    <a:pt x="496" y="454"/>
                  </a:lnTo>
                  <a:lnTo>
                    <a:pt x="478" y="479"/>
                  </a:lnTo>
                  <a:lnTo>
                    <a:pt x="461" y="507"/>
                  </a:lnTo>
                  <a:lnTo>
                    <a:pt x="446" y="535"/>
                  </a:lnTo>
                  <a:lnTo>
                    <a:pt x="434" y="566"/>
                  </a:lnTo>
                  <a:lnTo>
                    <a:pt x="422" y="598"/>
                  </a:lnTo>
                  <a:lnTo>
                    <a:pt x="412" y="633"/>
                  </a:lnTo>
                  <a:lnTo>
                    <a:pt x="406" y="669"/>
                  </a:lnTo>
                  <a:lnTo>
                    <a:pt x="422" y="664"/>
                  </a:lnTo>
                  <a:lnTo>
                    <a:pt x="437" y="658"/>
                  </a:lnTo>
                  <a:lnTo>
                    <a:pt x="452" y="651"/>
                  </a:lnTo>
                  <a:lnTo>
                    <a:pt x="466" y="644"/>
                  </a:lnTo>
                  <a:lnTo>
                    <a:pt x="478" y="634"/>
                  </a:lnTo>
                  <a:lnTo>
                    <a:pt x="489" y="625"/>
                  </a:lnTo>
                  <a:lnTo>
                    <a:pt x="500" y="615"/>
                  </a:lnTo>
                  <a:lnTo>
                    <a:pt x="511" y="603"/>
                  </a:lnTo>
                  <a:lnTo>
                    <a:pt x="519" y="591"/>
                  </a:lnTo>
                  <a:lnTo>
                    <a:pt x="527" y="579"/>
                  </a:lnTo>
                  <a:lnTo>
                    <a:pt x="533" y="565"/>
                  </a:lnTo>
                  <a:lnTo>
                    <a:pt x="538" y="551"/>
                  </a:lnTo>
                  <a:lnTo>
                    <a:pt x="541" y="537"/>
                  </a:lnTo>
                  <a:lnTo>
                    <a:pt x="545" y="521"/>
                  </a:lnTo>
                  <a:lnTo>
                    <a:pt x="547" y="506"/>
                  </a:lnTo>
                  <a:lnTo>
                    <a:pt x="548" y="490"/>
                  </a:lnTo>
                  <a:lnTo>
                    <a:pt x="547" y="487"/>
                  </a:lnTo>
                  <a:lnTo>
                    <a:pt x="547" y="484"/>
                  </a:lnTo>
                  <a:lnTo>
                    <a:pt x="547" y="482"/>
                  </a:lnTo>
                  <a:lnTo>
                    <a:pt x="547" y="479"/>
                  </a:lnTo>
                  <a:lnTo>
                    <a:pt x="547" y="477"/>
                  </a:lnTo>
                  <a:lnTo>
                    <a:pt x="547" y="474"/>
                  </a:lnTo>
                  <a:lnTo>
                    <a:pt x="547" y="472"/>
                  </a:lnTo>
                  <a:lnTo>
                    <a:pt x="547" y="470"/>
                  </a:lnTo>
                  <a:lnTo>
                    <a:pt x="546" y="466"/>
                  </a:lnTo>
                  <a:lnTo>
                    <a:pt x="546" y="464"/>
                  </a:lnTo>
                  <a:lnTo>
                    <a:pt x="545" y="461"/>
                  </a:lnTo>
                  <a:lnTo>
                    <a:pt x="545" y="459"/>
                  </a:lnTo>
                  <a:lnTo>
                    <a:pt x="544" y="456"/>
                  </a:lnTo>
                  <a:lnTo>
                    <a:pt x="544" y="453"/>
                  </a:lnTo>
                  <a:lnTo>
                    <a:pt x="543" y="450"/>
                  </a:lnTo>
                  <a:lnTo>
                    <a:pt x="543" y="447"/>
                  </a:lnTo>
                  <a:lnTo>
                    <a:pt x="547" y="442"/>
                  </a:lnTo>
                  <a:lnTo>
                    <a:pt x="552" y="438"/>
                  </a:lnTo>
                  <a:lnTo>
                    <a:pt x="556" y="434"/>
                  </a:lnTo>
                  <a:lnTo>
                    <a:pt x="562" y="429"/>
                  </a:lnTo>
                  <a:lnTo>
                    <a:pt x="566" y="425"/>
                  </a:lnTo>
                  <a:lnTo>
                    <a:pt x="570" y="422"/>
                  </a:lnTo>
                  <a:lnTo>
                    <a:pt x="575" y="419"/>
                  </a:lnTo>
                  <a:lnTo>
                    <a:pt x="580" y="415"/>
                  </a:lnTo>
                  <a:lnTo>
                    <a:pt x="584" y="412"/>
                  </a:lnTo>
                  <a:lnTo>
                    <a:pt x="588" y="409"/>
                  </a:lnTo>
                  <a:lnTo>
                    <a:pt x="593" y="406"/>
                  </a:lnTo>
                  <a:lnTo>
                    <a:pt x="597" y="404"/>
                  </a:lnTo>
                  <a:lnTo>
                    <a:pt x="602" y="401"/>
                  </a:lnTo>
                  <a:lnTo>
                    <a:pt x="607" y="397"/>
                  </a:lnTo>
                  <a:lnTo>
                    <a:pt x="612" y="395"/>
                  </a:lnTo>
                  <a:lnTo>
                    <a:pt x="617" y="393"/>
                  </a:lnTo>
                  <a:lnTo>
                    <a:pt x="619" y="396"/>
                  </a:lnTo>
                  <a:lnTo>
                    <a:pt x="622" y="401"/>
                  </a:lnTo>
                  <a:lnTo>
                    <a:pt x="624" y="405"/>
                  </a:lnTo>
                  <a:lnTo>
                    <a:pt x="625" y="409"/>
                  </a:lnTo>
                  <a:lnTo>
                    <a:pt x="627" y="413"/>
                  </a:lnTo>
                  <a:lnTo>
                    <a:pt x="628" y="417"/>
                  </a:lnTo>
                  <a:lnTo>
                    <a:pt x="630" y="421"/>
                  </a:lnTo>
                  <a:lnTo>
                    <a:pt x="631" y="425"/>
                  </a:lnTo>
                  <a:lnTo>
                    <a:pt x="632" y="430"/>
                  </a:lnTo>
                  <a:lnTo>
                    <a:pt x="633" y="435"/>
                  </a:lnTo>
                  <a:lnTo>
                    <a:pt x="634" y="440"/>
                  </a:lnTo>
                  <a:lnTo>
                    <a:pt x="634" y="445"/>
                  </a:lnTo>
                  <a:lnTo>
                    <a:pt x="635" y="450"/>
                  </a:lnTo>
                  <a:lnTo>
                    <a:pt x="635" y="455"/>
                  </a:lnTo>
                  <a:lnTo>
                    <a:pt x="635" y="460"/>
                  </a:lnTo>
                  <a:lnTo>
                    <a:pt x="637" y="466"/>
                  </a:lnTo>
                  <a:lnTo>
                    <a:pt x="634" y="496"/>
                  </a:lnTo>
                  <a:lnTo>
                    <a:pt x="630" y="526"/>
                  </a:lnTo>
                  <a:lnTo>
                    <a:pt x="623" y="553"/>
                  </a:lnTo>
                  <a:lnTo>
                    <a:pt x="612" y="579"/>
                  </a:lnTo>
                  <a:lnTo>
                    <a:pt x="599" y="602"/>
                  </a:lnTo>
                  <a:lnTo>
                    <a:pt x="583" y="624"/>
                  </a:lnTo>
                  <a:lnTo>
                    <a:pt x="564" y="645"/>
                  </a:lnTo>
                  <a:lnTo>
                    <a:pt x="543" y="662"/>
                  </a:lnTo>
                  <a:lnTo>
                    <a:pt x="518" y="679"/>
                  </a:lnTo>
                  <a:lnTo>
                    <a:pt x="491" y="692"/>
                  </a:lnTo>
                  <a:lnTo>
                    <a:pt x="461" y="704"/>
                  </a:lnTo>
                  <a:lnTo>
                    <a:pt x="429" y="714"/>
                  </a:lnTo>
                  <a:lnTo>
                    <a:pt x="395" y="722"/>
                  </a:lnTo>
                  <a:lnTo>
                    <a:pt x="358" y="727"/>
                  </a:lnTo>
                  <a:lnTo>
                    <a:pt x="319" y="730"/>
                  </a:lnTo>
                  <a:lnTo>
                    <a:pt x="278" y="732"/>
                  </a:lnTo>
                  <a:lnTo>
                    <a:pt x="275" y="731"/>
                  </a:lnTo>
                  <a:lnTo>
                    <a:pt x="274" y="731"/>
                  </a:lnTo>
                  <a:lnTo>
                    <a:pt x="272" y="731"/>
                  </a:lnTo>
                  <a:lnTo>
                    <a:pt x="271" y="731"/>
                  </a:lnTo>
                  <a:lnTo>
                    <a:pt x="269" y="731"/>
                  </a:lnTo>
                  <a:lnTo>
                    <a:pt x="268" y="731"/>
                  </a:lnTo>
                  <a:lnTo>
                    <a:pt x="266" y="731"/>
                  </a:lnTo>
                  <a:lnTo>
                    <a:pt x="265" y="731"/>
                  </a:lnTo>
                  <a:lnTo>
                    <a:pt x="263" y="731"/>
                  </a:lnTo>
                  <a:lnTo>
                    <a:pt x="261" y="731"/>
                  </a:lnTo>
                  <a:lnTo>
                    <a:pt x="259" y="731"/>
                  </a:lnTo>
                  <a:lnTo>
                    <a:pt x="257" y="731"/>
                  </a:lnTo>
                  <a:lnTo>
                    <a:pt x="255" y="731"/>
                  </a:lnTo>
                  <a:lnTo>
                    <a:pt x="253" y="731"/>
                  </a:lnTo>
                  <a:lnTo>
                    <a:pt x="252" y="731"/>
                  </a:lnTo>
                  <a:lnTo>
                    <a:pt x="250" y="731"/>
                  </a:lnTo>
                  <a:lnTo>
                    <a:pt x="191" y="1087"/>
                  </a:lnTo>
                  <a:lnTo>
                    <a:pt x="102" y="1087"/>
                  </a:lnTo>
                  <a:lnTo>
                    <a:pt x="234" y="299"/>
                  </a:lnTo>
                  <a:lnTo>
                    <a:pt x="408" y="299"/>
                  </a:lnTo>
                  <a:lnTo>
                    <a:pt x="421" y="299"/>
                  </a:lnTo>
                  <a:lnTo>
                    <a:pt x="434" y="299"/>
                  </a:lnTo>
                  <a:lnTo>
                    <a:pt x="445" y="299"/>
                  </a:lnTo>
                  <a:lnTo>
                    <a:pt x="457" y="300"/>
                  </a:lnTo>
                  <a:lnTo>
                    <a:pt x="468" y="301"/>
                  </a:lnTo>
                  <a:lnTo>
                    <a:pt x="478" y="302"/>
                  </a:lnTo>
                  <a:lnTo>
                    <a:pt x="488" y="303"/>
                  </a:lnTo>
                  <a:lnTo>
                    <a:pt x="498" y="305"/>
                  </a:lnTo>
                  <a:lnTo>
                    <a:pt x="507" y="307"/>
                  </a:lnTo>
                  <a:lnTo>
                    <a:pt x="516" y="309"/>
                  </a:lnTo>
                  <a:lnTo>
                    <a:pt x="524" y="311"/>
                  </a:lnTo>
                  <a:lnTo>
                    <a:pt x="533" y="313"/>
                  </a:lnTo>
                  <a:lnTo>
                    <a:pt x="540" y="316"/>
                  </a:lnTo>
                  <a:lnTo>
                    <a:pt x="548" y="319"/>
                  </a:lnTo>
                  <a:lnTo>
                    <a:pt x="555" y="322"/>
                  </a:lnTo>
                  <a:lnTo>
                    <a:pt x="563" y="326"/>
                  </a:lnTo>
                  <a:lnTo>
                    <a:pt x="575" y="320"/>
                  </a:lnTo>
                  <a:lnTo>
                    <a:pt x="585" y="316"/>
                  </a:lnTo>
                  <a:lnTo>
                    <a:pt x="597" y="312"/>
                  </a:lnTo>
                  <a:lnTo>
                    <a:pt x="607" y="308"/>
                  </a:lnTo>
                  <a:lnTo>
                    <a:pt x="617" y="305"/>
                  </a:lnTo>
                  <a:lnTo>
                    <a:pt x="627" y="302"/>
                  </a:lnTo>
                  <a:lnTo>
                    <a:pt x="635" y="299"/>
                  </a:lnTo>
                  <a:lnTo>
                    <a:pt x="645" y="296"/>
                  </a:lnTo>
                  <a:lnTo>
                    <a:pt x="655" y="294"/>
                  </a:lnTo>
                  <a:lnTo>
                    <a:pt x="663" y="293"/>
                  </a:lnTo>
                  <a:lnTo>
                    <a:pt x="673" y="291"/>
                  </a:lnTo>
                  <a:lnTo>
                    <a:pt x="682" y="290"/>
                  </a:lnTo>
                  <a:lnTo>
                    <a:pt x="692" y="289"/>
                  </a:lnTo>
                  <a:lnTo>
                    <a:pt x="702" y="289"/>
                  </a:lnTo>
                  <a:lnTo>
                    <a:pt x="711" y="289"/>
                  </a:lnTo>
                  <a:lnTo>
                    <a:pt x="723" y="289"/>
                  </a:lnTo>
                  <a:lnTo>
                    <a:pt x="736" y="289"/>
                  </a:lnTo>
                  <a:lnTo>
                    <a:pt x="749" y="289"/>
                  </a:lnTo>
                  <a:lnTo>
                    <a:pt x="762" y="290"/>
                  </a:lnTo>
                  <a:lnTo>
                    <a:pt x="773" y="292"/>
                  </a:lnTo>
                  <a:lnTo>
                    <a:pt x="786" y="293"/>
                  </a:lnTo>
                  <a:lnTo>
                    <a:pt x="798" y="296"/>
                  </a:lnTo>
                  <a:lnTo>
                    <a:pt x="810" y="300"/>
                  </a:lnTo>
                  <a:lnTo>
                    <a:pt x="821" y="303"/>
                  </a:lnTo>
                  <a:lnTo>
                    <a:pt x="833" y="306"/>
                  </a:lnTo>
                  <a:lnTo>
                    <a:pt x="845" y="311"/>
                  </a:lnTo>
                  <a:lnTo>
                    <a:pt x="857" y="315"/>
                  </a:lnTo>
                  <a:lnTo>
                    <a:pt x="868" y="321"/>
                  </a:lnTo>
                  <a:lnTo>
                    <a:pt x="881" y="327"/>
                  </a:lnTo>
                  <a:lnTo>
                    <a:pt x="893" y="334"/>
                  </a:lnTo>
                  <a:lnTo>
                    <a:pt x="906" y="341"/>
                  </a:lnTo>
                  <a:lnTo>
                    <a:pt x="920" y="349"/>
                  </a:lnTo>
                  <a:lnTo>
                    <a:pt x="888" y="4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306280" y="6295680"/>
              <a:ext cx="45720" cy="72000"/>
            </a:xfrm>
            <a:custGeom>
              <a:avLst/>
              <a:gdLst/>
              <a:ahLst/>
              <a:rect l="l" t="t" r="r" b="b"/>
              <a:pathLst>
                <a:path w="236" h="340">
                  <a:moveTo>
                    <a:pt x="57" y="0"/>
                  </a:moveTo>
                  <a:lnTo>
                    <a:pt x="0" y="340"/>
                  </a:lnTo>
                  <a:lnTo>
                    <a:pt x="22" y="340"/>
                  </a:lnTo>
                  <a:lnTo>
                    <a:pt x="23" y="339"/>
                  </a:lnTo>
                  <a:lnTo>
                    <a:pt x="24" y="339"/>
                  </a:lnTo>
                  <a:lnTo>
                    <a:pt x="25" y="339"/>
                  </a:lnTo>
                  <a:lnTo>
                    <a:pt x="26" y="339"/>
                  </a:lnTo>
                  <a:lnTo>
                    <a:pt x="27" y="339"/>
                  </a:lnTo>
                  <a:lnTo>
                    <a:pt x="28" y="339"/>
                  </a:lnTo>
                  <a:lnTo>
                    <a:pt x="29" y="339"/>
                  </a:lnTo>
                  <a:lnTo>
                    <a:pt x="30" y="339"/>
                  </a:lnTo>
                  <a:lnTo>
                    <a:pt x="32" y="339"/>
                  </a:lnTo>
                  <a:lnTo>
                    <a:pt x="34" y="339"/>
                  </a:lnTo>
                  <a:lnTo>
                    <a:pt x="36" y="339"/>
                  </a:lnTo>
                  <a:lnTo>
                    <a:pt x="38" y="339"/>
                  </a:lnTo>
                  <a:lnTo>
                    <a:pt x="41" y="339"/>
                  </a:lnTo>
                  <a:lnTo>
                    <a:pt x="44" y="339"/>
                  </a:lnTo>
                  <a:lnTo>
                    <a:pt x="48" y="339"/>
                  </a:lnTo>
                  <a:lnTo>
                    <a:pt x="54" y="313"/>
                  </a:lnTo>
                  <a:lnTo>
                    <a:pt x="59" y="288"/>
                  </a:lnTo>
                  <a:lnTo>
                    <a:pt x="67" y="265"/>
                  </a:lnTo>
                  <a:lnTo>
                    <a:pt x="74" y="242"/>
                  </a:lnTo>
                  <a:lnTo>
                    <a:pt x="83" y="220"/>
                  </a:lnTo>
                  <a:lnTo>
                    <a:pt x="91" y="200"/>
                  </a:lnTo>
                  <a:lnTo>
                    <a:pt x="102" y="179"/>
                  </a:lnTo>
                  <a:lnTo>
                    <a:pt x="113" y="160"/>
                  </a:lnTo>
                  <a:lnTo>
                    <a:pt x="124" y="141"/>
                  </a:lnTo>
                  <a:lnTo>
                    <a:pt x="137" y="123"/>
                  </a:lnTo>
                  <a:lnTo>
                    <a:pt x="151" y="105"/>
                  </a:lnTo>
                  <a:lnTo>
                    <a:pt x="166" y="87"/>
                  </a:lnTo>
                  <a:lnTo>
                    <a:pt x="182" y="70"/>
                  </a:lnTo>
                  <a:lnTo>
                    <a:pt x="199" y="53"/>
                  </a:lnTo>
                  <a:lnTo>
                    <a:pt x="217" y="38"/>
                  </a:lnTo>
                  <a:lnTo>
                    <a:pt x="236" y="23"/>
                  </a:lnTo>
                  <a:lnTo>
                    <a:pt x="229" y="18"/>
                  </a:lnTo>
                  <a:lnTo>
                    <a:pt x="223" y="15"/>
                  </a:lnTo>
                  <a:lnTo>
                    <a:pt x="216" y="13"/>
                  </a:lnTo>
                  <a:lnTo>
                    <a:pt x="210" y="10"/>
                  </a:lnTo>
                  <a:lnTo>
                    <a:pt x="203" y="8"/>
                  </a:lnTo>
                  <a:lnTo>
                    <a:pt x="196" y="7"/>
                  </a:lnTo>
                  <a:lnTo>
                    <a:pt x="189" y="5"/>
                  </a:lnTo>
                  <a:lnTo>
                    <a:pt x="182" y="4"/>
                  </a:lnTo>
                  <a:lnTo>
                    <a:pt x="173" y="3"/>
                  </a:lnTo>
                  <a:lnTo>
                    <a:pt x="165" y="2"/>
                  </a:lnTo>
                  <a:lnTo>
                    <a:pt x="155" y="1"/>
                  </a:lnTo>
                  <a:lnTo>
                    <a:pt x="145" y="0"/>
                  </a:lnTo>
                  <a:lnTo>
                    <a:pt x="133" y="0"/>
                  </a:lnTo>
                  <a:lnTo>
                    <a:pt x="120" y="0"/>
                  </a:lnTo>
                  <a:lnTo>
                    <a:pt x="106" y="0"/>
                  </a:lnTo>
                  <a:lnTo>
                    <a:pt x="92" y="0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"/>
          <p:cNvSpPr/>
          <p:nvPr/>
        </p:nvSpPr>
        <p:spPr>
          <a:xfrm>
            <a:off x="0" y="5943600"/>
            <a:ext cx="4648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TÜRKİYE BANKALAR               BİRLİĞİ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package" Target="../embeddings/oleObject3.xlsx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143000" y="380880"/>
            <a:ext cx="7391520" cy="45972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ASAL KAZANÇ / KAYIP ANALİZ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1143000" y="990720"/>
          <a:ext cx="1676520" cy="152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990720"/>
                    <a:ext cx="1676520" cy="152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" name=""/>
          <p:cNvGraphicFramePr/>
          <p:nvPr/>
        </p:nvGraphicFramePr>
        <p:xfrm>
          <a:off x="1143000" y="2590920"/>
          <a:ext cx="1676520" cy="1828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43000" y="2590920"/>
                    <a:ext cx="167652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" name=""/>
          <p:cNvGraphicFramePr/>
          <p:nvPr/>
        </p:nvGraphicFramePr>
        <p:xfrm>
          <a:off x="3200400" y="1066680"/>
          <a:ext cx="5076720" cy="441972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200400" y="1066680"/>
                    <a:ext cx="5076720" cy="441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4T10:20:23Z</dcterms:created>
  <dc:creator>PwC</dc:creator>
  <dc:description/>
  <dc:language>en-US</dc:language>
  <cp:lastModifiedBy>PwC</cp:lastModifiedBy>
  <cp:lastPrinted>1999-11-11T14:19:36Z</cp:lastPrinted>
  <dcterms:modified xsi:type="dcterms:W3CDTF">1999-11-11T14:25:59Z</dcterms:modified>
  <cp:revision>27</cp:revision>
  <dc:subject/>
  <dc:title>No Slide Title</dc:title>
</cp:coreProperties>
</file>