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BB4-009C-4E9E-B566-025D1D2F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92E-0AE4-4605-9787-11188D90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B52-A898-4C8E-9971-9C35FAA8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AA3B-9ABD-4713-961D-4A1FD5CD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311A-30C4-4283-AC81-A2629EBF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F86-15FB-46D7-A162-646E2346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B55-7C61-4D6D-AEDF-30BDB050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9764-937F-4A0F-9967-495F4527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7CE1-B5B4-43B7-967B-F9117053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EB7-7347-458C-8A5A-21FA098E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6287-41BD-44EE-BAF9-D37C0883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DAF-447E-437A-BCCA-16740508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B7F2-3878-4F11-9F8D-51B53B4F1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91440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/ 21 KARŞILAŞTI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1447920"/>
          <a:ext cx="167616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16761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62120" y="3048120"/>
          <a:ext cx="167616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8120"/>
                    <a:ext cx="1676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514600" y="1523880"/>
          <a:ext cx="5943600" cy="3657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1523880"/>
                    <a:ext cx="59436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2:21Z</dcterms:modified>
  <cp:revision>27</cp:revision>
  <dc:subject/>
  <dc:title>No Slide Title</dc:title>
</cp:coreProperties>
</file>