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DF3E-6993-4A2C-8C34-445BEC0D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2A11-0A05-4737-B199-EC00F604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BA1B-A14A-455A-B9A2-C6C9DF4E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E00E-249B-4900-858B-F2D687ED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7C8C-ED0E-40E2-BDF4-1FD12AF0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2A1F-2CD9-47CF-A382-A35ED5BB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D4DD-7894-47AD-835B-63829DC3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F90E-6D35-4EBE-A825-305BD741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4A83-94CF-4076-B556-C2395ADB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82E5-C85F-487F-8D6E-4E4F0497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8059-EE0E-4834-AC2A-B8B6A632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6C24-4EC0-4A11-8028-6742C5F7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801E-5BDC-41D8-BCD4-6CFF46785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838080"/>
          <a:ext cx="16765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16765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80880" y="243828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43828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80880" y="304920"/>
            <a:ext cx="77724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ÖRNEĞİ - KAR ZA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1532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58200" y="3200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80010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666880" y="914400"/>
          <a:ext cx="5410440" cy="4724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914400"/>
                    <a:ext cx="5410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6:15Z</dcterms:modified>
  <cp:revision>27</cp:revision>
  <dc:subject/>
  <dc:title>No Slide Title</dc:title>
</cp:coreProperties>
</file>