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5C95-183F-4C3A-B022-A10F43A47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47F7-4902-480B-92C3-6897E50F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8038-1E05-4559-9DD3-39D4AD1E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3909-D3A6-4BD0-842C-5EAC3B917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49B9-0B99-4C94-B95D-6828927A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C7F3-FBA2-429D-8852-466A1C1D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F7B3-DFD1-462C-9B1A-49CA5696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6B10-8ED2-4962-A391-9902FB50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283B-0432-431B-A084-B80908E9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EA43-A697-4AD0-8268-EDC71DE0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8EE4-657C-411F-8F27-45343BC4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E271-D202-49D7-BB37-89CCE478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85AE-C920-4D99-917D-9631BC145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80880" y="838080"/>
          <a:ext cx="16765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16765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80880" y="243828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43828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80880" y="304920"/>
            <a:ext cx="777240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S 29 ÖRNEĞİ - BİLANÇ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438280" y="914400"/>
          <a:ext cx="5715000" cy="5029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914400"/>
                    <a:ext cx="5715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7:21Z</dcterms:modified>
  <cp:revision>27</cp:revision>
  <dc:subject/>
  <dc:title>No Slide Title</dc:title>
</cp:coreProperties>
</file>