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EF7-AFBA-4D59-B0CB-C15BF020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BF3-BAB6-42F3-A48E-7E3D74C5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278-06A6-4B6F-B436-DAA614FF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D31-1E02-40D3-965B-B2B5DD2F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D54-DF14-40AF-9382-CB4B3E03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68A-A571-40E5-BFCB-4483D8FC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D91-C054-4F31-8C63-DCAC1D86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28E-2091-45D8-AEA8-1F30020E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C8A-E9A4-4FFD-AFAF-75584534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DD8-AAEE-4733-8FE7-9D0569C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170-C95B-453E-8664-5BFD3439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2F0-8775-48B6-96C6-4754B8D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05F6-59A4-42B2-BF68-B8330E553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KAR ZA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6880" y="914400"/>
          <a:ext cx="5410440" cy="472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914400"/>
                    <a:ext cx="5410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6:15Z</dcterms:modified>
  <cp:revision>27</cp:revision>
  <dc:subject/>
  <dc:title>No Slide Title</dc:title>
</cp:coreProperties>
</file>