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C47-EA18-4491-93AC-AE0783AC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A71-54A1-425E-9D60-1726C6F0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2A2-7057-4A04-A3F9-8AC7F4C9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2DD-1DE8-4643-8989-27D65589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D5C-7997-46D2-9AE7-183377DD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C9A-BBCB-49CD-9A24-B3CE1438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656-BCC6-4B3D-BA3F-3F67CE8E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547-52F7-4874-8D52-B173AA7A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F1D-815F-46E8-8FE7-9BCC38A2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897-E5FC-4B65-8087-033E74D4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C16-6B42-4130-9B4D-93DB7FF6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12E-8005-4030-B4F6-715FCE0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01D9-2384-4D51-A41C-E27C547C2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380880"/>
            <a:ext cx="73915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AL KAZANÇ / KAYIP ANALİZ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9907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143000" y="25909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00400" y="1066680"/>
          <a:ext cx="5076720" cy="4419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066680"/>
                    <a:ext cx="50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5:59Z</dcterms:modified>
  <cp:revision>27</cp:revision>
  <dc:subject/>
  <dc:title>No Slide Title</dc:title>
</cp:coreProperties>
</file>