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B2B6-830E-4B93-9A33-05E222C2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489-ECE3-4D4E-8E8D-7F63C775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4F5-71D0-4371-95AC-3C41E199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15D-9B2D-461C-9B4F-C164B5CE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C33-F5D1-4E21-8AE6-E5709160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09F-65D0-4E18-B966-6E593E2C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BED-6DFF-4286-8DC6-70E4833F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BDC-6F6C-4010-B286-B6FE0553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C84-B4EB-4361-B068-D39C2723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0E9-2346-45F9-B9F7-0694B4A1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6595-EED0-427F-95D6-83E5C589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285F-733D-420F-8646-0630D691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BA89-E625-4E84-B911-320FE2EE1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762120"/>
            <a:ext cx="6400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UMS 29 UYGULAMASININ REVİZE UMS 12 AÇISINDAN ERTELENMİŞ                     VERGİ ETKİS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010280" y="7621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7621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010280" y="23623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3623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33520" y="2133720"/>
            <a:ext cx="51814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BİT KIYMET ALIM DEĞERİ                 (UMS 29 değerlemesine tabi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NUNİ KAYITLARDA YENİDEN           DEĞERLENMİŞ DEĞER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S 29 DEĞERLEMES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33526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3886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335268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5105520"/>
            <a:ext cx="4495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GEÇİCİ FARKLILIK DEĞERİ: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1:54Z</dcterms:modified>
  <cp:revision>27</cp:revision>
  <dc:subject/>
  <dc:title>No Slide Title</dc:title>
</cp:coreProperties>
</file>