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1269-2BFF-4784-AB07-84FEAC79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1B98-56C1-43B7-A8EB-283BDFA5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F10F-E03D-4188-B506-88B00D14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CF9B-7F86-4777-A8CA-7B9DC66A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393F-D368-453E-92BB-0E171130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08D9-8B89-4931-B357-1E004142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4EFD-6E71-492C-BBCF-9BDDB4C8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6633-21B6-46EE-A8F7-52CCBAC3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D757-8D85-4271-9296-3BFA3099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15F8-FD1A-4FB5-BE89-D6A2C1FF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9C43-E780-4622-9022-75D9C843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3628-A695-4065-A550-6C9A4A18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FA89-89E1-4CA3-AB03-106AD1589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80880" y="838080"/>
          <a:ext cx="16765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16765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80880" y="243828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43828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80880" y="304920"/>
            <a:ext cx="777240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S 29 ÖRNEĞİ - BİLANÇ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438280" y="914400"/>
          <a:ext cx="5715000" cy="5029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914400"/>
                    <a:ext cx="5715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7:21Z</dcterms:modified>
  <cp:revision>27</cp:revision>
  <dc:subject/>
  <dc:title>No Slide Title</dc:title>
</cp:coreProperties>
</file>