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F232-53CA-40CB-B29C-EFEACC338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8A8F-A1E9-42FB-BEB0-74CC5B9B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0B23-EB57-4140-8AAE-4A287D67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01FD-5E36-4EC5-878F-9F4A7C6A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A060-63D5-4CEB-8B94-8C4ED256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751C-463B-4FAA-8ADB-F097747C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42EF-E1A4-464F-BE84-79E67DAE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5B09-92AB-4446-82A1-DC62CA68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C818-BEA4-45B8-83B2-06651847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A5A9-7631-48BA-A887-30A9B3A9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5F73-C84E-48D5-B3F4-EDC3319C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46DB-5346-40FF-82CA-0DBCB00E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DE54-D20C-4887-AC85-FE8166686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914400"/>
            <a:ext cx="777240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S 29 / 21 KARŞILAŞTIRM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62120" y="1447920"/>
          <a:ext cx="167616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47920"/>
                    <a:ext cx="167616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762120" y="3048120"/>
          <a:ext cx="167616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048120"/>
                    <a:ext cx="16761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514600" y="1523880"/>
          <a:ext cx="5943600" cy="3657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1523880"/>
                    <a:ext cx="59436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2:21Z</dcterms:modified>
  <cp:revision>27</cp:revision>
  <dc:subject/>
  <dc:title>No Slide Title</dc:title>
</cp:coreProperties>
</file>