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008F-AD21-4E3C-8347-08CAC033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C90-6B78-44F3-8006-E5D0C087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74C-E7F3-4A45-9C0E-A471803F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E99-8395-4803-A37E-33287583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ED7-FC1E-41AC-BFF5-DC4B194A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A84C-A1E3-4A25-B5A1-D0A09AE8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D45-FD57-44B0-8D20-373EB474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855-C333-488B-AF2F-21FAAF70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5F5-6B77-43EE-A6BD-5EFD1BA2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3D8-31DF-44BA-A92E-C2028A63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01C-4081-407A-91B7-CA90F7A4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8C2-2C00-431C-A197-CFA901F3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98EF-AB7D-4D34-AB6C-6A6CD7F5D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BİLAN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38280" y="914400"/>
          <a:ext cx="5715000" cy="5029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914400"/>
                    <a:ext cx="5715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7:21Z</dcterms:modified>
  <cp:revision>27</cp:revision>
  <dc:subject/>
  <dc:title>No Slide Title</dc:title>
</cp:coreProperties>
</file>