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AFC-56AC-41CA-ADC4-19385596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ACD-82DA-41DF-ADA6-30FF07EF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304-F082-4A3B-A9D8-428DEED8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2F4-F376-4910-994D-4F74C95D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E0F-AB9D-45CE-9E44-8E51CB06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A21-3E67-44C2-9CC9-EA43FB9A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95C-65AC-485E-8DE9-DEFC86ED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14E-E7E5-4841-A1CA-21A9BD71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CBA-5C85-4A68-8FA6-A29F51E1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F26-0BA3-44F4-BB78-C7F57447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4AD-23EF-4F9B-9653-D935F345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51F-9130-4FAE-9F9B-A2539D04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74CB-4073-416A-A20D-7B8F3B410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762120"/>
            <a:ext cx="6400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UMS 29 UYGULAMASININ REVİZE UMS 12 AÇISINDAN ERTELENMİŞ                     VERGİ ETKİS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2133720"/>
            <a:ext cx="51814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BİT KIYMET ALIM DEĞERİ                 (UMS 29 değerlemesine tabi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UNİ KAYITLARDA YENİDEN           DEĞERLENMİŞ DEĞER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S 29 DEĞERLEMES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3526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886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3526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105520"/>
            <a:ext cx="4495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GEÇİCİ FARKLILIK DEĞERİ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1:54Z</dcterms:modified>
  <cp:revision>27</cp:revision>
  <dc:subject/>
  <dc:title>No Slide Title</dc:title>
</cp:coreProperties>
</file>