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80B-5B08-46D2-9343-471E5F79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82E0-4BC7-468C-8F54-3E6959AF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3028-54E8-4889-80B7-A5F5AF33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B0F0-A3BD-4A07-9EBF-0E5300C52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2C70-C2D7-4DFE-A4CA-F462B97B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D062-5182-4851-80F7-47C54F4A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D74-5279-4155-B4FC-EC50BCE5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7933-A70D-4B93-80A9-64BD93A7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045A-8CE2-4962-BFB8-74C2ED24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28A7-6C2E-4033-BDFE-D8A62A6B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EE92-EB28-4BA1-B262-09C0CB34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7DED-8F15-4BAB-AC36-2A7EC67B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7C11-B45E-44E0-A484-48FBF1D0B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838080"/>
          <a:ext cx="16765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16765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80880" y="243828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43828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80880" y="304920"/>
            <a:ext cx="77724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ÖRNEĞİ - BİLAN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38280" y="914400"/>
          <a:ext cx="5715000" cy="5029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914400"/>
                    <a:ext cx="5715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7:21Z</dcterms:modified>
  <cp:revision>27</cp:revision>
  <dc:subject/>
  <dc:title>No Slide Title</dc:title>
</cp:coreProperties>
</file>