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309-3C34-40A3-A6ED-EF83221C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FA7-FCA3-4E36-A85C-D1A27031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4E6-26D1-405C-8EFB-98A13364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5BAF-FFFF-4019-A909-7400EEED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164-5F3C-4AD9-AA44-4B0DA60C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64E-1CA0-44CF-91BE-06140C6D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168-E80C-429B-999B-EB3DE521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55B-AC39-4E57-9897-AAD00A0D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FCB-F7C8-48D2-AA5C-866397FE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825-1961-484F-A9C3-65CF26D8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F80-B6BB-424E-B9F5-A2A672A0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D208-4D61-4D2A-B12E-83462D41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26BD-EC67-4CAA-AFDD-784BDD1D5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380880"/>
            <a:ext cx="739152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SAL KAZANÇ / KAYIP ANALİZ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3000" y="9907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143000" y="25909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5909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200400" y="1066680"/>
          <a:ext cx="5076720" cy="4419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066680"/>
                    <a:ext cx="50767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5:59Z</dcterms:modified>
  <cp:revision>27</cp:revision>
  <dc:subject/>
  <dc:title>No Slide Title</dc:title>
</cp:coreProperties>
</file>