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B10-12D1-47FF-B10D-3915B85A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A34-DC21-4F09-8A80-9FE3FB89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272-5CAD-4F52-B5C5-E8D98F8D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936-F151-4E61-92D2-6F1BBD00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48C-CB41-4C57-9A4C-84A4DF77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112-E398-4762-9AFC-785D9648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F4C-A091-4A48-9ED7-0E60DD76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6A9-7B53-4A03-86B8-E8F8EBC4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EB1-99E3-4855-899E-DDD27C00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CA4-F46F-4DB0-B88A-5D781BA9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D162-62EE-44E1-A155-825F0C41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2522-D75A-4EB7-8891-B1D3D6F7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34F8-4AB2-4C5D-8727-1ACD56801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1532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33520" y="762120"/>
          <a:ext cx="6430680" cy="480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64306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4:59Z</dcterms:modified>
  <cp:revision>27</cp:revision>
  <dc:subject/>
  <dc:title>No Slide Title</dc:title>
</cp:coreProperties>
</file>