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36D-89E9-4AE9-9D4F-338D6DB2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5D1-5F08-43DB-8D32-7361A2CC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B8AB-BA70-4EB6-9614-6AF3B36F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8FD7-81C0-45D9-AE25-7CD2F4B0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37F6-64A6-4D5F-ADFA-14951144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A45-C1ED-4F6B-BBF4-0E17C574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97C-1581-42D0-92BB-6F6B8EC7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DE8-8020-4C85-BCC8-9F32D815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1C7D-F989-4642-A19C-D36A0BD6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35C3-9955-4285-B656-5D52ABBD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7FCB-D279-4A07-B154-CE9DCFB3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82E-1DEC-4A4F-8276-E58177C4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4CAD-9106-4C32-826D-3AA35B4CD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762120"/>
            <a:ext cx="6400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UMS 29 UYGULAMASININ REVİZE UMS 12 AÇISINDAN ERTELENMİŞ                     VERGİ ETKİS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010280" y="7621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7621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010280" y="23623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3623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33520" y="2133720"/>
            <a:ext cx="51814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BİT KIYMET ALIM DEĞERİ                 (UMS 29 değerlemesine tabi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NUNİ KAYITLARDA YENİDEN           DEĞERLENMİŞ DEĞER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MS 29 DEĞERLEMES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33526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3886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335268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5105520"/>
            <a:ext cx="4495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GEÇİCİ FARKLILIK DEĞERİ: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1:54Z</dcterms:modified>
  <cp:revision>27</cp:revision>
  <dc:subject/>
  <dc:title>No Slide Title</dc:title>
</cp:coreProperties>
</file>