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A6004-D646-4E1E-9D60-1C5CF2F3D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4F8C8-1468-4BF6-82AE-C04EF7C53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7A2D6-5496-4A12-B0C9-4167AA578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1B4AF-1EDE-4717-A630-5A6B8A2B5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17D67-68F9-4B43-AF82-D5828A5DB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710F4-EE9E-4DAB-9858-3B1FA849D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1254A-E2E5-41CE-9AE2-3ABBED7B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23431-B1A4-47E5-A8E3-C2D2E026D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26F01-707B-4457-8064-28ED8DBE5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B5D3D-6552-4AA5-94ED-351B84E2E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0B217-BEC5-41FD-89B8-EFB194691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A593-D28D-499B-BFD3-6B7A86BB7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9F1D-913E-4938-93B7-1F0430B4B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Laundering: </a:t>
            </a:r>
            <a:br>
              <a:rPr sz="2800"/>
            </a:br>
            <a:r>
              <a:rPr b="0" lang="en-US" sz="2800" spc="-1" strike="noStrike">
                <a:solidFill>
                  <a:srgbClr val="000000"/>
                </a:solidFill>
                <a:latin typeface="Times New Roman"/>
              </a:rPr>
              <a:t>New Crime: old idea</a:t>
            </a:r>
            <a:endParaRPr b="0" lang="en-US" sz="2800" spc="-1" strike="noStrike">
              <a:solidFill>
                <a:srgbClr val="000000"/>
              </a:solidFill>
              <a:latin typeface="Times New Roman"/>
            </a:endParaRPr>
          </a:p>
        </p:txBody>
      </p:sp>
      <p:sp>
        <p:nvSpPr>
          <p:cNvPr id="4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Growth of organised crime diversifying into new profit generating offences, drug trafficking etc.  They need to distance themselves effectively from these crimes, and enjoy the profits.</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Greater opportunities for obscuring the nature and source of wealth (globalised economy; developed financial structures; lawyers; financial advisers; accountants; “shell” companies etc).</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 Money Laundering offence needs to cover the many different ways that money can be “cleaned” (made to look legitimate) and catch the very wide range of persons who either know, or may suspect or ought to have known that they have become involved in this process.</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Traditional criminal offences, and most domestic criminal regimes do not have wide enough criminal offences.  Old offences of handling stolen goods/receiving stolen goods insufficient.</a:t>
            </a:r>
            <a:endParaRPr b="0" lang="en-US" sz="1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vidence Prosecutors may us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plice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FLAHIFF (Quebec Superior Cou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xpert”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GOKAL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the unlikelihood of profits coming from legitimate origin  R v BO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nsic evi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ve Surveillance and  Interception of Communic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Audit trai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ntal element</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ferences from objective factual circumstan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fficulty with list approa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lternatives to the knowledge standar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sonable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minal Confiscation</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to confiscate direct and indirect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lue ord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ndatory regimes in som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hould not be capable of frustration by transfer to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par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of that property is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rse onuses </a:t>
            </a:r>
            <a:r>
              <a:rPr b="0" lang="en-US" sz="2400" spc="-1" strike="noStrike" u="sng">
                <a:solidFill>
                  <a:srgbClr val="000000"/>
                </a:solidFill>
                <a:uFillTx/>
                <a:latin typeface="Times New Roman"/>
              </a:rPr>
              <a:t>(Phillips v U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ivil Recove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set Recovery Strategy in UK – a more “joined u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effectively is critical in the fight against Organised Crime</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Money Laundering worldwide is laundered by Organised Cri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3200" spc="-1" strike="noStrike">
                <a:solidFill>
                  <a:srgbClr val="000000"/>
                </a:solidFill>
                <a:latin typeface="Times New Roman"/>
              </a:rPr>
              <a:t>   </a:t>
            </a:r>
            <a:r>
              <a:rPr b="0" lang="en-US" sz="1800" spc="-1" strike="noStrike">
                <a:solidFill>
                  <a:srgbClr val="000000"/>
                </a:solidFill>
                <a:latin typeface="Times New Roman"/>
              </a:rPr>
              <a:t>Successful Money Laundering enables Organised Crime to keep its profits an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solidate their economic power base so they can penetrate the legitimat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y and infect the political proc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protects domestic and global economi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has to be done at 2    </a:t>
            </a:r>
            <a:br>
              <a:rPr sz="2800"/>
            </a:br>
            <a:r>
              <a:rPr b="0" lang="en-US" sz="2800" spc="-1" strike="noStrike">
                <a:solidFill>
                  <a:srgbClr val="000000"/>
                </a:solidFill>
                <a:latin typeface="Times New Roman"/>
              </a:rPr>
              <a:t>  levels: Prevention and Repression.  </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 flow of STRs from the Financial Sector to a Unit which can analyse the reports and pass the STRs that should be investigated further quickly to law enforc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TR regime can be more effective if it is backed up by criminal sanctions.</a:t>
            </a:r>
            <a:endParaRPr b="0" lang="en-US" sz="28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ion of Money Laundering offences should not just rely on STR regimes.  Importance of financial investigation in major proceeds-generating offences. </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and Wales, S.22 Theft Act 1968 inadequate</a:t>
            </a:r>
            <a:endParaRPr b="0" lang="en-US" sz="2400" spc="-1" strike="noStrike">
              <a:solidFill>
                <a:srgbClr val="000000"/>
              </a:solidFill>
              <a:latin typeface="Times New Roman"/>
            </a:endParaRPr>
          </a:p>
        </p:txBody>
      </p:sp>
      <p:sp>
        <p:nvSpPr>
          <p:cNvPr id="5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 person handles stolen goods, if, otherwise than in the course of stealing, knowing or believing them to be stolen goods, he dishonestly receives the goods, or dishonestly undertakes or assists in their retention, removal, disposal or realisation by or for the benefit of another person, or if he arranges to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8 UN Convention against illicit traffic in narcotic goods and psychotropic substances (the Vienna Convention)</a:t>
            </a:r>
            <a:endParaRPr b="0" lang="en-US" sz="2800" spc="-1" strike="noStrike">
              <a:solidFill>
                <a:srgbClr val="000000"/>
              </a:solidFill>
              <a:latin typeface="Times New Roman"/>
            </a:endParaRPr>
          </a:p>
        </p:txBody>
      </p:sp>
      <p:sp>
        <p:nvSpPr>
          <p:cNvPr id="56" name="PlaceHolder 2"/>
          <p:cNvSpPr>
            <a:spLocks noGrp="1"/>
          </p:cNvSpPr>
          <p:nvPr>
            <p:ph/>
          </p:nvPr>
        </p:nvSpPr>
        <p:spPr>
          <a:xfrm>
            <a:off x="762120" y="25909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or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ALMENT or DISGUISE and, subject to constitutional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POSSESSION OR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N, ASSOCIATION, OR CONSPIRACY TO COMMIT, ATTEMPTS TO COMMIT + AIDING, ABETTING, FACILITATING + COUNSELING (drug trafficking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0 Convention on Laundering, Search, Seizure and Confiscation of the Proceeds from Crime (the Strasbourg Convention).</a:t>
            </a:r>
            <a:endParaRPr b="0" lang="en-US" sz="2800" spc="-1" strike="noStrike">
              <a:solidFill>
                <a:srgbClr val="000000"/>
              </a:solidFill>
              <a:latin typeface="Times New Roman"/>
            </a:endParaRPr>
          </a:p>
        </p:txBody>
      </p:sp>
      <p:sp>
        <p:nvSpPr>
          <p:cNvPr id="58"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riminal offence as a result of which proceeds were generated (“all crim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procedure for listed predicate offences (or groups of predicate off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lists cause problems for prosecu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 </a:t>
            </a:r>
            <a:r>
              <a:rPr b="0" i="1" lang="en-US" sz="2400" spc="-1" strike="noStrike">
                <a:solidFill>
                  <a:srgbClr val="000000"/>
                </a:solidFill>
                <a:latin typeface="Times New Roman"/>
              </a:rPr>
              <a:t>“It shall not matter whether the predicate offence was subject to the criminal jurisdiction of the state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0:25:52Z</dcterms:created>
  <dc:creator>Administrator</dc:creator>
  <dc:description/>
  <dc:language>en-US</dc:language>
  <cp:lastModifiedBy>Administrator</cp:lastModifiedBy>
  <dcterms:modified xsi:type="dcterms:W3CDTF">2002-05-23T12:01:06Z</dcterms:modified>
  <cp:revision>22</cp:revision>
  <dc:subject/>
  <dc:title>Money Laundering:  New Crime: old idea</dc:title>
</cp:coreProperties>
</file>