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AD2-44B6-446B-A1A7-24E5C375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2E3-06BF-4B89-AC83-4274C4BA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238-4163-4F37-9307-9BE572E5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17E-142F-45F2-B9C5-956A964C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D718-E9D6-4C0C-B927-62B98A67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5CC1-576C-4955-A8DA-5E0F51BC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0781-FED7-4477-BD95-58CF0386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D5B3-33FB-448D-AE3B-CB81A307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590D-4C8C-45C6-8787-2D5FEB9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2498-492F-450C-9BAB-EC183D00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015B-E4A6-43F0-9EE4-4ECFCEA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C0C-0E6D-4E74-9061-DABD0C2F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A59C-42B3-4038-B24F-7253D4A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4C0B-D6EE-4959-A731-64DA1735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1DC3-8D62-41A3-BE91-0138F3D6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280F-CF77-4217-A430-1C17FC0E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22F5-423F-4E05-A4C6-C3D9E578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55B-3472-489E-8302-BB7A87A8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088-3234-4666-9913-C619B3E0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C20-BD33-4FE3-BB94-ADEB1184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5DF-F8E1-47C4-8DD7-650BF971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1C1-4824-49CC-8B75-58AF13C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004-38BE-4153-961D-4F16BDA1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958-9FCB-463C-9CD3-A228539F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0de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F6EB-CA5A-4F2C-8377-38CDCCEA30F7}" type="datetime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6751-BA20-4A4B-AA01-EF0DED6B2308}" type="slidenum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atch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C332-4243-42B3-9730-F2E2D09024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9CB9-DDF8-4D10-97BD-08D86594F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dee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0dee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0dee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BANKERS ASSOCIATION OF TURKEY -  MONEY LAUNDERING CONFERENCE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Current International Developments in Combating Money Laundering &amp; 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John Carlson, FATF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Istanbul, 24 May 2002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3. Non-financial businesses and profess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ly the 40 Recommendations to -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asinos and other gambling business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alers in real estate and high value item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mpany and trust service provid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otari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ccounting Professional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vestment adviso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 effective STR system is critical to the anti-money laundering system and the bank: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required by the FATF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discourages criminals from misusing banks, as they would be concerned about discove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part of banks due diligence systems, and helps to protect against fraud and other crimes affecting the solvency of the bank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essential to protect the banks reputat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1268280"/>
          <a:ext cx="7772400" cy="431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68280"/>
                    <a:ext cx="77724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053880" y="357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Result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5800" y="2895480"/>
          <a:ext cx="7772400" cy="25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5480"/>
                    <a:ext cx="77724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6480" y="15231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STR in three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mproved STR Effectivenes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ing the level of feedback to reporting institutions, and also creating a closer working relationship between the FIU, the regulator and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d education and training for front-line and other staff of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compliance officers are filtering reports in an appropriate w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financial institutions and their staff have appropriate legal protection from criminal and civil proceedings, which will thus encourage them to make report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cussing increased attention on the NBFI sector, and also on non-cash transac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all institutions within each sector make reports where appropriate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0deed"/>
                </a:solidFill>
                <a:uFillTx/>
                <a:latin typeface="Arial"/>
              </a:rPr>
              <a:t>Topics covered in this Presentation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rrent status of the Non-Cooperative Countries and Territories (NCCT) exercise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view of the FATF 40 Recommendation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mportance and role of Suspicious Transaction Reports (STR)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5 Non-Cooperative Countries and Territories June 2000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Bahama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ayman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iechtenstei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7 NCCTs - June 2001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9 NCCT - May 2002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renad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arshall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Extra counter-measure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er requirements to identify clients from NCC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or systematic reporting of financial transac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CCT based bank requests establishing a subsidiary, branch or representative office take into account that jurisdiction is NCC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non-financial sector businesses of the risk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1460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Major issues in Review of 40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view begun last ye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ATF has prepared a public consultation paper that sets out the issues and the risks, and provides one or more options for dealing with them.  Should be issued 30/31 M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he financial sector and all other interested parties are invited to provide comments to the FATF on the issues raised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Times New Roman"/>
              </a:rPr>
              <a:t>1. Customer due diligence, suspicious transaction reporting and regulation and supervis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efine the obligations to identify and verify the identity of the customer and the beneficial owner, and to perform necessary due diligence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Categories of customer or transactions where there is potentially a higher risk: politically exposed persons, correspondent banking and electronic and other non face-to-face financial service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Simplified or alternative measures for lower risk scenarios, “introduced business” and reliance on third parties to perform some of the identification and verification function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ole of financial intelligence units (MASAK), the need for feedback to reporting institutions, and the regulation and supervision of institutions.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2. Information on beneficial ownership and control of companies, trusts etc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cess to information by law enforcement, regulators and financial institu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aper examines the risks, the current obligations, the purposes for which beneficial ownership and control information is required, the essential requirements and possible measures that could be take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easures to take regarding bearer shares and trus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49:44Z</dcterms:created>
  <dc:creator>OECD</dc:creator>
  <dc:description/>
  <dc:language>en-US</dc:language>
  <cp:lastModifiedBy>EILEEN</cp:lastModifiedBy>
  <cp:lastPrinted>2002-05-23T12:58:07Z</cp:lastPrinted>
  <dcterms:modified xsi:type="dcterms:W3CDTF">2002-05-23T13:38:46Z</dcterms:modified>
  <cp:revision>30</cp:revision>
  <dc:subject/>
  <dc:title>Title</dc:title>
</cp:coreProperties>
</file>