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E6154D-D1A3-4444-9EE8-D27E44B7C7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9B71D-9B9A-42BD-AC48-848D633E8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AD45B1-5CB9-4ECA-BE3E-49DEE6B5FA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18F67F-A9CE-4397-A009-F708900226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BD3CB-DC63-4C7B-9D4B-F1D136EDE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2E987-BBBA-471F-B56E-06F5D9129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9E698-A685-4355-B6ED-99500445B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197DC-A510-4303-9CF8-8DA347EE8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F7526-4DD3-4D25-935E-9E687A839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E485C-5E0B-479E-902B-972A88985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A476E-B6B9-4A40-A0A4-07C4C2A90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3CCEE-F7DD-4BB5-BCC3-40B9781C21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EADFC-2248-46BA-BB82-1DE4C5C53F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ey Laundering: </a:t>
            </a:r>
            <a:br>
              <a:rPr sz="2800"/>
            </a:br>
            <a:r>
              <a:rPr b="0" lang="en-US" sz="2800" spc="-1" strike="noStrike">
                <a:solidFill>
                  <a:srgbClr val="000000"/>
                </a:solidFill>
                <a:latin typeface="Times New Roman"/>
              </a:rPr>
              <a:t>New Crime: old idea</a:t>
            </a:r>
            <a:endParaRPr b="0" lang="en-US" sz="2800" spc="-1" strike="noStrike">
              <a:solidFill>
                <a:srgbClr val="000000"/>
              </a:solidFill>
              <a:latin typeface="Times New Roman"/>
            </a:endParaRPr>
          </a:p>
        </p:txBody>
      </p:sp>
      <p:sp>
        <p:nvSpPr>
          <p:cNvPr id="42" name="PlaceHolder 2"/>
          <p:cNvSpPr>
            <a:spLocks noGrp="1"/>
          </p:cNvSpPr>
          <p:nvPr>
            <p:ph/>
          </p:nvPr>
        </p:nvSpPr>
        <p:spPr>
          <a:xfrm>
            <a:off x="609480" y="1905120"/>
            <a:ext cx="7772400" cy="4114800"/>
          </a:xfrm>
          <a:prstGeom prst="rect">
            <a:avLst/>
          </a:prstGeom>
          <a:noFill/>
          <a:ln w="0">
            <a:noFill/>
          </a:ln>
        </p:spPr>
        <p:txBody>
          <a:bodyPr lIns="90000" rIns="90000" tIns="46800" bIns="46800" anchor="t">
            <a:normAutofit fontScale="93000"/>
          </a:bodyPr>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Growth of organised crime diversifying into new profit generating offences, drug trafficking etc.  They need to distance themselves effectively from these crimes, and enjoy the profits.</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Greater opportunities for obscuring the nature and source of wealth (globalised economy; developed financial structures; lawyers; financial advisers; accountants; “shell” companies etc).</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 Money Laundering offence needs to cover the many different ways that money can be “cleaned” (made to look legitimate) and catch the very wide range of persons who either know, or may suspect or ought to have known that they have become involved in this process.</a:t>
            </a:r>
            <a:endParaRPr b="0" lang="en-US" sz="1800" spc="-1" strike="noStrike">
              <a:solidFill>
                <a:srgbClr val="000000"/>
              </a:solidFill>
              <a:latin typeface="Times New Roman"/>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Traditional criminal offences, and most domestic criminal regimes do not have wide enough criminal offences.  Old offences of handling stolen goods/receiving stolen goods insufficient.</a:t>
            </a:r>
            <a:endParaRPr b="0" lang="en-US" sz="1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s of evidence Prosecutors may use</a:t>
            </a:r>
            <a:endParaRPr b="0" lang="en-US" sz="28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mplice evidence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 v FLAHIFF (Quebec Superior Cour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Expert” evidence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 v GOKAL (1999)</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idence of the unlikelihood of profits coming from legitimate origin  R v BOA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nsic eviden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usive Surveillance and  Interception of Communicatio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idence of Audit trail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ntal element</a:t>
            </a:r>
            <a:endParaRPr b="0" lang="en-US" sz="28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nferences from objective factual circumstanc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Difficulty with list approach</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lternatives to the knowledge standar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uspic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Reasonable suspic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iminal Confiscation</a:t>
            </a:r>
            <a:endParaRPr b="0" lang="en-US" sz="28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eed to confiscate direct and indirect proceed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Value order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Mandatory regimes in some cas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hould not be capable of frustration by transfer to 3</a:t>
            </a:r>
            <a:r>
              <a:rPr b="0" lang="en-US" sz="2400" spc="-1" strike="noStrike" baseline="30000">
                <a:solidFill>
                  <a:srgbClr val="000000"/>
                </a:solidFill>
                <a:latin typeface="Times New Roman"/>
              </a:rPr>
              <a:t>rd</a:t>
            </a:r>
            <a:r>
              <a:rPr b="0" lang="en-US" sz="2400" spc="-1" strike="noStrike">
                <a:solidFill>
                  <a:srgbClr val="000000"/>
                </a:solidFill>
                <a:latin typeface="Times New Roman"/>
              </a:rPr>
              <a:t> parti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roof that property is proceed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Reverse onuses </a:t>
            </a:r>
            <a:r>
              <a:rPr b="0" lang="en-US" sz="2400" spc="-1" strike="noStrike" u="sng">
                <a:solidFill>
                  <a:srgbClr val="000000"/>
                </a:solidFill>
                <a:uFillTx/>
                <a:latin typeface="Times New Roman"/>
              </a:rPr>
              <a:t>(Phillips v UK)</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ivil Recover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sset Recovery Strategy in UK – a more “joined up”</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pproa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ghting Money Laundering effectively is critical in the fight against Organised Crime</a:t>
            </a:r>
            <a:endParaRPr b="0" lang="en-US" sz="28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st Money Laundering worldwide is laundered by Organised Crime.</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3200" spc="-1" strike="noStrike">
                <a:solidFill>
                  <a:srgbClr val="000000"/>
                </a:solidFill>
                <a:latin typeface="Times New Roman"/>
              </a:rPr>
              <a:t>   </a:t>
            </a:r>
            <a:r>
              <a:rPr b="0" lang="en-US" sz="1800" spc="-1" strike="noStrike">
                <a:solidFill>
                  <a:srgbClr val="000000"/>
                </a:solidFill>
                <a:latin typeface="Times New Roman"/>
              </a:rPr>
              <a:t>Successful Money Laundering enables Organised Crime to keep its profits and</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nsolidate their economic power base so they can penetrate the legitimate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conomy and infect the political proces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ghting Money Laundering protects domestic and global economies.</a:t>
            </a:r>
            <a:endParaRPr b="0" lang="en-US" sz="28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ghting Money Laundering has to be done at 2    </a:t>
            </a:r>
            <a:br>
              <a:rPr sz="2800"/>
            </a:br>
            <a:r>
              <a:rPr b="0" lang="en-US" sz="2800" spc="-1" strike="noStrike">
                <a:solidFill>
                  <a:srgbClr val="000000"/>
                </a:solidFill>
                <a:latin typeface="Times New Roman"/>
              </a:rPr>
              <a:t>  levels: Prevention and Repression.  </a:t>
            </a:r>
            <a:endParaRPr b="0" lang="en-US" sz="2800" spc="-1" strike="noStrike">
              <a:solidFill>
                <a:srgbClr val="000000"/>
              </a:solidFill>
              <a:latin typeface="Times New Roman"/>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need a flow of STRs from the Financial Sector to a Unit which can analyse the reports and pass the STRs that should be investigated further quickly to law enforc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STR regime can be more effective if it is backed up by criminal sanctions.</a:t>
            </a:r>
            <a:endParaRPr b="0" lang="en-US" sz="28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estigation of Money Laundering offences should not just rely on STR regimes.  Importance of financial investigation in major proceeds-generating offences. </a:t>
            </a:r>
            <a:endParaRPr b="0" lang="en-US" sz="2800" spc="-1" strike="noStrike">
              <a:solidFill>
                <a:srgbClr val="000000"/>
              </a:solidFill>
              <a:latin typeface="Times New Roman"/>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England and Wales, S.22 Theft Act 1968 inadequate</a:t>
            </a:r>
            <a:endParaRPr b="0" lang="en-US" sz="2400" spc="-1" strike="noStrike">
              <a:solidFill>
                <a:srgbClr val="000000"/>
              </a:solidFill>
              <a:latin typeface="Times New Roman"/>
            </a:endParaRPr>
          </a:p>
        </p:txBody>
      </p:sp>
      <p:sp>
        <p:nvSpPr>
          <p:cNvPr id="54" name="PlaceHolder 2"/>
          <p:cNvSpPr>
            <a:spLocks noGrp="1"/>
          </p:cNvSpPr>
          <p:nvPr>
            <p:ph type="subTitle"/>
          </p:nvPr>
        </p:nvSpPr>
        <p:spPr>
          <a:xfrm>
            <a:off x="1295280" y="3429000"/>
            <a:ext cx="6400800" cy="1752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A person handles stolen goods, if, otherwise than in the course of stealing, knowing or believing them to be stolen goods, he dishonestly receives the goods, or dishonestly undertakes or assists in their retention, removal, disposal or realisation by or for the benefit of another person, or if he arranges to do s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1998 UN Convention against illicit traffic in narcotic goods and psychotropic substances (the Vienna Convention)</a:t>
            </a:r>
            <a:endParaRPr b="0" lang="en-US" sz="2800" spc="-1" strike="noStrike">
              <a:solidFill>
                <a:srgbClr val="000000"/>
              </a:solidFill>
              <a:latin typeface="Times New Roman"/>
            </a:endParaRPr>
          </a:p>
        </p:txBody>
      </p:sp>
      <p:sp>
        <p:nvSpPr>
          <p:cNvPr id="56" name="PlaceHolder 2"/>
          <p:cNvSpPr>
            <a:spLocks noGrp="1"/>
          </p:cNvSpPr>
          <p:nvPr>
            <p:ph/>
          </p:nvPr>
        </p:nvSpPr>
        <p:spPr>
          <a:xfrm>
            <a:off x="762120" y="259092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VERSION or TRANSF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CEALMENT or DISGUISE and, subject to constitutional princip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QUISITION, POSSESSION OR US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TION IN, ASSOCIATION, OR CONSPIRACY TO COMMIT, ATTEMPTS TO COMMIT + AIDING, ABETTING, FACILITATING + COUNSELING (drug trafficking offen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1990 Convention on Laundering, Search, Seizure and Confiscation of the Proceeds from Crime (the Strasbourg Convention).</a:t>
            </a:r>
            <a:endParaRPr b="0" lang="en-US" sz="2800" spc="-1" strike="noStrike">
              <a:solidFill>
                <a:srgbClr val="000000"/>
              </a:solidFill>
              <a:latin typeface="Times New Roman"/>
            </a:endParaRPr>
          </a:p>
        </p:txBody>
      </p:sp>
      <p:sp>
        <p:nvSpPr>
          <p:cNvPr id="58" name="PlaceHolder 2"/>
          <p:cNvSpPr>
            <a:spLocks noGrp="1"/>
          </p:cNvSpPr>
          <p:nvPr>
            <p:ph/>
          </p:nvPr>
        </p:nvSpPr>
        <p:spPr>
          <a:xfrm>
            <a:off x="762120" y="23623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 criminal offence as a result of which proceeds were generated (“all crim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rvation procedure for listed predicate offences (or groups of predicate offen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rt lists cause problems for prosecuto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6: </a:t>
            </a:r>
            <a:r>
              <a:rPr b="0" i="1" lang="en-US" sz="2400" spc="-1" strike="noStrike">
                <a:solidFill>
                  <a:srgbClr val="000000"/>
                </a:solidFill>
                <a:latin typeface="Times New Roman"/>
              </a:rPr>
              <a:t>“It shall not matter whether the predicate offence was subject to the criminal jurisdiction of the state par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3T10:25:52Z</dcterms:created>
  <dc:creator>Administrator</dc:creator>
  <dc:description/>
  <dc:language>en-US</dc:language>
  <cp:lastModifiedBy>Administrator</cp:lastModifiedBy>
  <dcterms:modified xsi:type="dcterms:W3CDTF">2002-05-23T12:01:06Z</dcterms:modified>
  <cp:revision>22</cp:revision>
  <dc:subject/>
  <dc:title>Money Laundering:  New Crime: old idea</dc:title>
</cp:coreProperties>
</file>