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FA8-8098-4CC5-8ED7-F6F6583E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73A-D768-4434-86DF-08B6CB3D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F85-FE18-4106-AC17-0918BB86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12D-38B2-4089-AFAE-D60D3152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9FFD-043D-4DB5-BC6A-E3B6A329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AFB1-1E2C-4D53-BB90-B8AB7093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7BCE-372E-4375-BFFB-7D1A1DC2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D10D-7439-41C4-B306-5A099540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FAE0-5B5C-4EE1-8BA6-9030534A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50A8-36E2-4AC1-8B6E-8D39046E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1E9D-B5AA-4538-92B0-45CD7BCD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F5B-A570-4BA9-BE6D-A5DA2C8A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421E-F4F6-40A0-9D0C-C58DCDD7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F121-4EC3-4F4B-B240-5331958D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B47B-6524-4B9B-BFE7-83B4EC31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036D-CCEE-4EB2-923B-B6CCCC2B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ED50-90E4-4534-B1E2-59E47125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918-0815-4BEF-8819-933AFC5D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B95-3270-446A-9C5E-4F93735C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C80-F910-4C13-941D-188770AB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4F7-9117-4628-8E00-7814BFA4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6DC7-7C26-4162-8143-F0111BA6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2FB-B585-42DA-BE5E-B96760FB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05E-B8F3-4C77-99C0-F6879529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e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0de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0de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0dee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DF8D-2253-4F01-9919-37FE79A27612}" type="datetime"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95CF-FEB3-4CF8-9AB3-DC3344415DBB}" type="slidenum"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hatch_title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9840" y="10663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0deed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4468-80AE-43A8-AF67-BF88430C455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E56B-6702-4501-9FBC-1985BF6F7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0dee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dee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0dee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0dee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BANKERS ASSOCIATION OF TURKEY -  MONEY LAUNDERING CONFERENCE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3962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Current International Developments in Combating Money Laundering &amp; Suspicious Transaction Reporting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John Carlson, FATF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Istanbul, 24 May 2002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3. Non-financial businesses and profess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ly the 40 Recommendations to -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asinos and other gambling business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Dealers in real estate and high value item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ompany and trust service provide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Lawye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Notari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Accounting Professional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vestment adviso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Suspicious Transaction Reporting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 effective STR system is critical to the anti-money laundering system and the bank: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required by the FATF Recommenda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discourages criminals from misusing banks, as they would be concerned about discovery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part of banks due diligence systems, and helps to protect against fraud and other crimes affecting the solvency of the bank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essential to protect the banks reputatio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85800" y="1268280"/>
          <a:ext cx="7772400" cy="4319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68280"/>
                    <a:ext cx="77724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053880" y="35784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Results in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85800" y="2895480"/>
          <a:ext cx="7772400" cy="25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895480"/>
                    <a:ext cx="777240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436480" y="1523160"/>
            <a:ext cx="42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STR in three count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mproved STR Effectivenes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ing the level of feedback to reporting institutions, and also creating a closer working relationship between the FIU, the regulator and financial institu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ed education and training for front-line and other staff of financial institu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compliance officers are filtering reports in an appropriate way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financial institutions and their staff have appropriate legal protection from criminal and civil proceedings, which will thus encourage them to make report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ocussing increased attention on the NBFI sector, and also on non-cash transac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all institutions within each sector make reports where appropriate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0deed"/>
                </a:solidFill>
                <a:uFillTx/>
                <a:latin typeface="Arial"/>
              </a:rPr>
              <a:t>Topics covered in this Presentation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rrent status of the Non-Cooperative Countries and Territories (NCCT) exercise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view of the FATF 40 Recommendation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mportance and role of Suspicious Transaction Reports (STR)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5 Non-Cooperative Countries and Territories June 2000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Bahama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ayman Islands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ook Islands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Dominica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srael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iechtenstei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arshall Islands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anam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7 NCCTs - June 2001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ook Island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Dominic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Egypt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Guatemal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Hungary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ndone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srael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arshall Islands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yanmar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ger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9 NCCT - May 2002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Cook Island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Dominic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Egypt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Grenad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Indones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Marshall Island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Myanmar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iger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Ukraine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Extra counter-measure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cter requirements to identify clients from NCCT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d or systematic reporting of financial transac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CCT based bank requests establishing a subsidiary, branch or representative office take into account that jurisdiction is NCCT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non-financial sector businesses of the risk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1460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Major issues in Review of 40 Recommenda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Review begun last year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ATF has prepared a public consultation paper that sets out the issues and the risks, and provides one or more options for dealing with them.  Should be issued 30/31 May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The financial sector and all other interested parties are invited to provide comments to the FATF on the issues raised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66"/>
                </a:solidFill>
                <a:uFillTx/>
                <a:latin typeface="Times New Roman"/>
              </a:rPr>
              <a:t>1. Customer due diligence, suspicious transaction reporting and regulation and supervisio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Refine the obligations to identify and verify the identity of the customer and the beneficial owner, and to perform necessary due diligence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Categories of customer or transactions where there is potentially a higher risk: politically exposed persons, correspondent banking and electronic and other non face-to-face financial services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Simplified or alternative measures for lower risk scenarios, “introduced business” and reliance on third parties to perform some of the identification and verification functions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Role of financial intelligence units (MASAK), the need for feedback to reporting institutions, and the regulation and supervision of institutions.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2. Information on beneficial ownership and control of companies, trusts etc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cess to information by law enforcement, regulators and financial institu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Paper examines the risks, the current obligations, the purposes for which beneficial ownership and control information is required, the essential requirements and possible measures that could be take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easures to take regarding bearer shares and trust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3:49:44Z</dcterms:created>
  <dc:creator>OECD</dc:creator>
  <dc:description/>
  <dc:language>en-US</dc:language>
  <cp:lastModifiedBy>EILEEN</cp:lastModifiedBy>
  <cp:lastPrinted>2002-05-23T12:58:07Z</cp:lastPrinted>
  <dcterms:modified xsi:type="dcterms:W3CDTF">2002-05-23T13:38:46Z</dcterms:modified>
  <cp:revision>30</cp:revision>
  <dc:subject/>
  <dc:title>Title</dc:title>
</cp:coreProperties>
</file>