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78DA-DDBD-4793-9F8C-53BC9E979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2916-3439-420B-A083-B022A356A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E84C-D0D2-4263-B00F-38E7CB50F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63C4-C784-486C-90A6-BFE687F2C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CE3ED-4313-455D-939A-A144D0DA7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41F1B-6DDF-427A-8D57-B073D1FBB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BF59C-D26F-4C56-9029-87B1AD370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84424-16A3-4A84-9B67-06A678B0F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6EC9F-175C-4442-BDEA-2CB079096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1BC4D-23BC-47AF-A9CC-BBC570DFA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423B2-4A94-4CD2-AEFB-9E6F5787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6D67-F333-4F0F-BC8A-34241D099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E9F25-3EA0-4609-8AB3-A6769480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E02DD-28A3-471E-A20B-EBB75CFC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32A53-1353-4AE8-B159-898A3E9DE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5938F-D1BD-481E-AAF1-71F391FCA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207F0-CDF8-4845-9A2C-D6339FEE8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AE75-4184-4D5C-A289-54D76C87B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6E3B-A5C5-45AE-9D6D-53D4A8111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C846-E993-48D9-8F47-8E6D993E8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14DB-DABE-4E0A-B628-491630C9F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24C8-02AA-4411-AF9C-64A0FE2A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B35E-A6FF-49CD-A712-4ECD91F29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0BA5-57F0-475F-A743-4CD99C18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0dee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e0de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0dee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e0dee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0dee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e0de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0dee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e0dee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0dee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e0dee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0dee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0dee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0dee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0de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36DC6-F890-4884-8D8F-EC72E23F89E9}" type="datetime">
              <a:rPr b="0" lang="en-US" sz="1400" spc="-1" strike="noStrike">
                <a:solidFill>
                  <a:srgbClr val="e0deed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0dee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0dee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0de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FFF4E-1851-455D-B57B-CA7C2E8BB002}" type="slidenum">
              <a:rPr b="0" lang="en-US" sz="1400" spc="-1" strike="noStrike">
                <a:solidFill>
                  <a:srgbClr val="e0dee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hatch_title" descr="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99840" y="10663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0deed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7D2AF-19C8-47C3-B7F7-0F79D14DD47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EAAE-3298-4C9F-A0E7-E50EF06E4F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0dee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0dee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dee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0dee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dee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0dee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0deed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dee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0dee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dee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0dee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dee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0dee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1294920"/>
            <a:ext cx="80773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0deed"/>
                </a:solidFill>
                <a:latin typeface="Arial"/>
              </a:rPr>
              <a:t>BANKERS ASSOCIATION OF TURKEY -  MONEY LAUNDERING CONFERENCE</a:t>
            </a:r>
            <a:endParaRPr b="0" lang="en-US" sz="36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6840" y="396252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deed"/>
                </a:solidFill>
                <a:latin typeface="Arial"/>
              </a:rPr>
              <a:t>Current International Developments in Combating Money Laundering &amp; Suspicious Transaction Reporting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deed"/>
                </a:solidFill>
                <a:latin typeface="Arial"/>
              </a:rPr>
              <a:t>John Carlson, FATF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dee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deed"/>
                </a:solidFill>
                <a:latin typeface="Arial"/>
              </a:rPr>
              <a:t>Istanbul, 24 May 2002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66"/>
                </a:solidFill>
                <a:uFillTx/>
                <a:latin typeface="Arial"/>
              </a:rPr>
              <a:t>3. Non-financial businesses and profession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pply the 40 Recommendations to -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Casinos and other gambling businesse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Dealers in real estate and high value item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Company and trust service provider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Lawyer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Notarie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Accounting Professional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Investment advisor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66"/>
                </a:solidFill>
                <a:uFillTx/>
                <a:latin typeface="Arial"/>
              </a:rPr>
              <a:t>Suspicious Transaction Reporting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n effective STR system is critical to the anti-money laundering system and the bank: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de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it is required by the FATF Recommendation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de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it discourages criminals from misusing banks, as they would be concerned about discovery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de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it is part of banks due diligence systems, and helps to protect against fraud and other crimes affecting the solvency of the bank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de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it is essential to protect the banks reputation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685800" y="1268280"/>
          <a:ext cx="7772400" cy="4319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268280"/>
                    <a:ext cx="777240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3053880" y="357840"/>
            <a:ext cx="327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66"/>
                </a:solidFill>
                <a:uFillTx/>
                <a:latin typeface="Times New Roman"/>
              </a:rPr>
              <a:t>Results in Tur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685800" y="2895480"/>
          <a:ext cx="7772400" cy="2567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895480"/>
                    <a:ext cx="777240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2436480" y="1523160"/>
            <a:ext cx="420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66"/>
                </a:solidFill>
                <a:uFillTx/>
                <a:latin typeface="Times New Roman"/>
              </a:rPr>
              <a:t>STR in three countr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Improved STR Effectiveness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Increasing the level of feedback to reporting institutions, and also creating a closer working relationship between the FIU, the regulator and financial institutions.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Increased education and training for front-line and other staff of financial institutions.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Ensuring that compliance officers are filtering reports in an appropriate way.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76212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Ensuring that financial institutions and their staff have appropriate legal protection from criminal and civil proceedings, which will thus encourage them to make reports.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 algn="just"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Focussing increased attention on the NBFI sector, and also on non-cash transactions.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Ensuring that all institutions within each sector make reports where appropriate.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e0deed"/>
                </a:solidFill>
                <a:uFillTx/>
                <a:latin typeface="Arial"/>
              </a:rPr>
              <a:t>Topics covered in this Presentation</a:t>
            </a:r>
            <a:endParaRPr b="0" lang="en-US" sz="36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ffff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current status of the Non-Cooperative Countries and Territories (NCCT) exercise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ffff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eview of the FATF 40 Recommendations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ffff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importance and role of Suspicious Transaction Reports (STR)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1295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0deed"/>
                </a:solidFill>
                <a:latin typeface="Arial"/>
              </a:rPr>
              <a:t>15 Non-Cooperative Countries and Territories June 2000</a:t>
            </a:r>
            <a:endParaRPr b="0" lang="en-US" sz="36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Bahama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Cayman Islands 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Cook Islands 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Dominica 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Israel </a:t>
            </a: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Lebanon 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Liechtenstein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Marshall Islands </a:t>
            </a: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7960" y="26665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Nauru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Niue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Panama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Philippine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Russia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St. Kitts and Nevi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St. Vincent and the Grenadine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0deed"/>
                </a:solidFill>
                <a:latin typeface="Arial"/>
              </a:rPr>
              <a:t>17 NCCTs - June 2001</a:t>
            </a:r>
            <a:endParaRPr b="0" lang="en-US" sz="36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Cook Island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Dominica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Egypt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Guatemala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Hungary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Indonesia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Israel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Lebanon 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Marshall Islands </a:t>
            </a: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796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Myanmar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Nauru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Nigeria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Niue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Philippine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Russia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St. Kitts and Nevi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St. Vincent and the Grenadine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0deed"/>
                </a:solidFill>
                <a:latin typeface="Arial"/>
              </a:rPr>
              <a:t>19 NCCT - May 2002</a:t>
            </a:r>
            <a:endParaRPr b="0" lang="en-US" sz="36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Cook Islands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Dominica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Egypt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Grenada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Guatemala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Hungary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Indonesia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Israel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Lebanon 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Marshall Islands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1640" y="19807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Myanmar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Nauru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Nigeria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Niue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Philippines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Russia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St. Kitts and Nevis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St. Vincent and the Grenadines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Ukraine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deed"/>
                </a:solidFill>
                <a:latin typeface="Arial"/>
              </a:rPr>
              <a:t>Extra counter-measures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icter requirements to identify clients from NCCT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hanced or systematic reporting of financial transaction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NCCT based bank requests establishing a subsidiary, branch or representative office take into account that jurisdiction is NCCT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rn non-financial sector businesses of the risk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51460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1460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66"/>
                </a:solidFill>
                <a:uFillTx/>
                <a:latin typeface="Arial"/>
              </a:rPr>
              <a:t>Major issues in Review of 40 Recommendation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Review begun last year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FATF has prepared a public consultation paper that sets out the issues and the risks, and provides one or more options for dealing with them.  Should be issued 30/31 May.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The financial sector and all other interested parties are invited to provide comments to the FATF on the issues raised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66"/>
                </a:solidFill>
                <a:uFillTx/>
                <a:latin typeface="Times New Roman"/>
              </a:rPr>
              <a:t>1. Customer due diligence, suspicious transaction reporting and regulation and supervision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499"/>
              </a:spcBef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Refine the obligations to identify and verify the identity of the customer and the beneficial owner, and to perform necessary due diligence;</a:t>
            </a:r>
            <a:endParaRPr b="0" lang="en-US" sz="2000" spc="-1" strike="noStrike">
              <a:solidFill>
                <a:srgbClr val="e0deed"/>
              </a:solidFill>
              <a:latin typeface="Arial"/>
            </a:endParaRPr>
          </a:p>
          <a:p>
            <a:pPr marL="335880" indent="-335880" algn="just">
              <a:spcBef>
                <a:spcPts val="499"/>
              </a:spcBef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Categories of customer or transactions where there is potentially a higher risk: politically exposed persons, correspondent banking and electronic and other non face-to-face financial services;</a:t>
            </a:r>
            <a:endParaRPr b="0" lang="en-US" sz="2000" spc="-1" strike="noStrike">
              <a:solidFill>
                <a:srgbClr val="e0deed"/>
              </a:solidFill>
              <a:latin typeface="Arial"/>
            </a:endParaRPr>
          </a:p>
          <a:p>
            <a:pPr marL="335880" indent="-335880" algn="just">
              <a:spcBef>
                <a:spcPts val="499"/>
              </a:spcBef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Simplified or alternative measures for lower risk scenarios, “introduced business” and reliance on third parties to perform some of the identification and verification functions;</a:t>
            </a:r>
            <a:endParaRPr b="0" lang="en-US" sz="2000" spc="-1" strike="noStrike">
              <a:solidFill>
                <a:srgbClr val="e0deed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Role of financial intelligence units (MASAK), the need for feedback to reporting institutions, and the regulation and supervision of institutions.</a:t>
            </a:r>
            <a:endParaRPr b="0" lang="en-US" sz="20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66"/>
                </a:solidFill>
                <a:uFillTx/>
                <a:latin typeface="Arial"/>
              </a:rPr>
              <a:t>2. Information on beneficial ownership and control of companies, trusts etc.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ccess to information by law enforcement, regulators and financial institution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Paper examines the risks, the current obligations, the purposes for which beneficial ownership and control information is required, the essential requirements and possible measures that could be taken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Measures to take regarding bearer shares and trust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7T13:49:44Z</dcterms:created>
  <dc:creator>OECD</dc:creator>
  <dc:description/>
  <dc:language>en-US</dc:language>
  <cp:lastModifiedBy>EILEEN</cp:lastModifiedBy>
  <cp:lastPrinted>2002-05-23T12:58:07Z</cp:lastPrinted>
  <dcterms:modified xsi:type="dcterms:W3CDTF">2002-05-23T13:38:46Z</dcterms:modified>
  <cp:revision>30</cp:revision>
  <dc:subject/>
  <dc:title>Title</dc:title>
</cp:coreProperties>
</file>