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DIGITAR.WAV" ContentType="audio/x-wav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A299-57C9-4B66-8B81-52082BEFF1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46440" cy="340992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894960" y="4319280"/>
            <a:ext cx="5078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With the sample ending in June 2002, interest rate smothing is higher (0.7) and reaction to expected inflation smaller (1,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\Coletânea de Slides\Área Externa\...\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P time series up to Feb 03 nova estrutura.XLS planilha B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nte: Nota para a Imprensa Setor Externo, 2002 3 2003: Usos e Fo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:\Apresentações\Monetária\Chart-Pack\swap  total FX exposure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00"/>
                </a:solidFill>
                <a:uFillTx/>
                <a:latin typeface="Times New Roman"/>
              </a:rPr>
              <a:t>G:\Roadshow\ARQUIVOS EXCEL SUPORTE\Atividade-Preços\PREÇOS\série ipca livre admin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46440" cy="340992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894960" y="4319280"/>
            <a:ext cx="5078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graph shows, the gap between actual and expected inflation increased after mid-2001, when actual inflation surpassed the upper limit of the tolerance interv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especially for this period, the credibility of the Central Bank seemed to be essential to keep inflation expectations under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eworthy that the difficulties the country faced last year impacted inflation expectations only in the last quarter of 200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dian of inflation expectations for 2002, surveyed by the Banco Central do Brasil’s Investor Relations Group (Gerin), leveled out at around 4.5% through September, but then rapidly deteriorated afterwards and reached 11% at the end of Dece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570-28A4-432E-8A96-C2966743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0B20-A133-4672-AEF8-4480A364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03F-8DF1-4224-A50D-DDCF34DD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F681-0ADC-486D-ACFD-54F1D646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3006-D7CD-4524-918C-3932B514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CF87-A702-4823-8815-B82EFEA3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2C3D-C3D7-4513-B01F-0C21E581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FCE4-0F9D-4803-80D7-1101B5DC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03A0-997C-474B-889D-61710200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847E-F1D2-4125-A28D-8AFB54E7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AE95-B6EC-4990-BCE8-C3D04FA7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8BF5-5876-4C8A-A3C7-595F70A7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C11B-7D51-4F81-8B56-393C8725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143B-EF1C-4AFC-B9FA-70BB9DB0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351D-675F-4C03-AFFD-6DF0FE5C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41BB-41EF-4F03-AF99-A588F7A1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315F-9BFB-4917-B09F-A71DB0C3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7613-F791-4BAE-A1BB-D83ABDE6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537-7D9D-432B-B029-0663C943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0669-2765-498B-958F-1439F6CD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6B6-7355-4922-875F-076BAD17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E2E5-B0BB-4888-B1E1-658B3D61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B7A-E3E5-4DED-B9DD-55E4C637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74FE-1A67-46D1-9BD1-AED83A0E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5DAB-0170-4391-8DE8-66495F9288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D5D9-95CA-42F2-B08D-1F2732DD78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DIGITA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ion Targeting in Emerging Market Economies: The Case of Braz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an Goldfa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inar Organized by the Banks Association of Tur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tember 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143000" y="1523880"/>
            <a:ext cx="6969240" cy="5107680"/>
            <a:chOff x="1143000" y="1523880"/>
            <a:chExt cx="6969240" cy="5107680"/>
          </a:xfrm>
        </p:grpSpPr>
        <p:sp>
          <p:nvSpPr>
            <p:cNvPr id="157" name=""/>
            <p:cNvSpPr/>
            <p:nvPr/>
          </p:nvSpPr>
          <p:spPr>
            <a:xfrm>
              <a:off x="5334120" y="63244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Source: B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43000" y="1523880"/>
              <a:ext cx="6969240" cy="46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8600" y="5392800"/>
              <a:ext cx="622620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68600" y="499752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68600" y="460368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68600" y="421164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68600" y="382896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68600" y="343368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68600" y="264636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8600" y="225252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68600" y="2252520"/>
              <a:ext cx="1440" cy="314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09560" y="5392800"/>
              <a:ext cx="59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9560" y="499752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09560" y="46036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09560" y="421164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09560" y="382896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09560" y="34336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9560" y="304020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09560" y="264636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9560" y="225252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68600" y="304020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6686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11608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56392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02436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47184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91968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36896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81644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26428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2436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1722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62004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06896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5168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92360" y="2424240"/>
              <a:ext cx="6178320" cy="2670120"/>
            </a:xfrm>
            <a:custGeom>
              <a:avLst/>
              <a:gdLst/>
              <a:ahLst/>
              <a:rect l="l" t="t" r="r" b="b"/>
              <a:pathLst>
                <a:path w="524" h="251">
                  <a:moveTo>
                    <a:pt x="0" y="56"/>
                  </a:moveTo>
                  <a:lnTo>
                    <a:pt x="3" y="61"/>
                  </a:lnTo>
                  <a:lnTo>
                    <a:pt x="6" y="80"/>
                  </a:lnTo>
                  <a:lnTo>
                    <a:pt x="9" y="70"/>
                  </a:lnTo>
                  <a:lnTo>
                    <a:pt x="12" y="63"/>
                  </a:lnTo>
                  <a:lnTo>
                    <a:pt x="15" y="68"/>
                  </a:lnTo>
                  <a:lnTo>
                    <a:pt x="19" y="66"/>
                  </a:lnTo>
                  <a:lnTo>
                    <a:pt x="22" y="66"/>
                  </a:lnTo>
                  <a:lnTo>
                    <a:pt x="25" y="69"/>
                  </a:lnTo>
                  <a:lnTo>
                    <a:pt x="28" y="77"/>
                  </a:lnTo>
                  <a:lnTo>
                    <a:pt x="31" y="79"/>
                  </a:lnTo>
                  <a:lnTo>
                    <a:pt x="35" y="88"/>
                  </a:lnTo>
                  <a:lnTo>
                    <a:pt x="38" y="79"/>
                  </a:lnTo>
                  <a:lnTo>
                    <a:pt x="41" y="73"/>
                  </a:lnTo>
                  <a:lnTo>
                    <a:pt x="44" y="66"/>
                  </a:lnTo>
                  <a:lnTo>
                    <a:pt x="47" y="65"/>
                  </a:lnTo>
                  <a:lnTo>
                    <a:pt x="50" y="68"/>
                  </a:lnTo>
                  <a:lnTo>
                    <a:pt x="54" y="73"/>
                  </a:lnTo>
                  <a:lnTo>
                    <a:pt x="57" y="75"/>
                  </a:lnTo>
                  <a:lnTo>
                    <a:pt x="60" y="80"/>
                  </a:lnTo>
                  <a:lnTo>
                    <a:pt x="63" y="82"/>
                  </a:lnTo>
                  <a:lnTo>
                    <a:pt x="66" y="78"/>
                  </a:lnTo>
                  <a:lnTo>
                    <a:pt x="70" y="76"/>
                  </a:lnTo>
                  <a:lnTo>
                    <a:pt x="73" y="70"/>
                  </a:lnTo>
                  <a:lnTo>
                    <a:pt x="76" y="68"/>
                  </a:lnTo>
                  <a:lnTo>
                    <a:pt x="79" y="67"/>
                  </a:lnTo>
                  <a:lnTo>
                    <a:pt x="82" y="59"/>
                  </a:lnTo>
                  <a:lnTo>
                    <a:pt x="85" y="56"/>
                  </a:lnTo>
                  <a:lnTo>
                    <a:pt x="89" y="54"/>
                  </a:lnTo>
                  <a:lnTo>
                    <a:pt x="92" y="46"/>
                  </a:lnTo>
                  <a:lnTo>
                    <a:pt x="95" y="42"/>
                  </a:lnTo>
                  <a:lnTo>
                    <a:pt x="98" y="36"/>
                  </a:lnTo>
                  <a:lnTo>
                    <a:pt x="101" y="28"/>
                  </a:lnTo>
                  <a:lnTo>
                    <a:pt x="105" y="16"/>
                  </a:lnTo>
                  <a:lnTo>
                    <a:pt x="108" y="7"/>
                  </a:lnTo>
                  <a:lnTo>
                    <a:pt x="111" y="0"/>
                  </a:lnTo>
                  <a:lnTo>
                    <a:pt x="114" y="7"/>
                  </a:lnTo>
                  <a:lnTo>
                    <a:pt x="117" y="11"/>
                  </a:lnTo>
                  <a:lnTo>
                    <a:pt x="120" y="14"/>
                  </a:lnTo>
                  <a:lnTo>
                    <a:pt x="124" y="23"/>
                  </a:lnTo>
                  <a:lnTo>
                    <a:pt x="127" y="26"/>
                  </a:lnTo>
                  <a:lnTo>
                    <a:pt x="130" y="37"/>
                  </a:lnTo>
                  <a:lnTo>
                    <a:pt x="133" y="46"/>
                  </a:lnTo>
                  <a:lnTo>
                    <a:pt x="136" y="50"/>
                  </a:lnTo>
                  <a:lnTo>
                    <a:pt x="140" y="42"/>
                  </a:lnTo>
                  <a:lnTo>
                    <a:pt x="143" y="46"/>
                  </a:lnTo>
                  <a:lnTo>
                    <a:pt x="146" y="52"/>
                  </a:lnTo>
                  <a:lnTo>
                    <a:pt x="149" y="64"/>
                  </a:lnTo>
                  <a:lnTo>
                    <a:pt x="152" y="60"/>
                  </a:lnTo>
                  <a:lnTo>
                    <a:pt x="155" y="62"/>
                  </a:lnTo>
                  <a:lnTo>
                    <a:pt x="159" y="59"/>
                  </a:lnTo>
                  <a:lnTo>
                    <a:pt x="162" y="54"/>
                  </a:lnTo>
                  <a:lnTo>
                    <a:pt x="165" y="54"/>
                  </a:lnTo>
                  <a:lnTo>
                    <a:pt x="168" y="52"/>
                  </a:lnTo>
                  <a:lnTo>
                    <a:pt x="171" y="42"/>
                  </a:lnTo>
                  <a:lnTo>
                    <a:pt x="175" y="36"/>
                  </a:lnTo>
                  <a:lnTo>
                    <a:pt x="178" y="37"/>
                  </a:lnTo>
                  <a:lnTo>
                    <a:pt x="181" y="51"/>
                  </a:lnTo>
                  <a:lnTo>
                    <a:pt x="184" y="63"/>
                  </a:lnTo>
                  <a:lnTo>
                    <a:pt x="187" y="70"/>
                  </a:lnTo>
                  <a:lnTo>
                    <a:pt x="190" y="82"/>
                  </a:lnTo>
                  <a:lnTo>
                    <a:pt x="194" y="93"/>
                  </a:lnTo>
                  <a:lnTo>
                    <a:pt x="197" y="106"/>
                  </a:lnTo>
                  <a:lnTo>
                    <a:pt x="200" y="125"/>
                  </a:lnTo>
                  <a:lnTo>
                    <a:pt x="203" y="136"/>
                  </a:lnTo>
                  <a:lnTo>
                    <a:pt x="206" y="147"/>
                  </a:lnTo>
                  <a:lnTo>
                    <a:pt x="210" y="156"/>
                  </a:lnTo>
                  <a:lnTo>
                    <a:pt x="213" y="163"/>
                  </a:lnTo>
                  <a:lnTo>
                    <a:pt x="216" y="165"/>
                  </a:lnTo>
                  <a:lnTo>
                    <a:pt x="219" y="165"/>
                  </a:lnTo>
                  <a:lnTo>
                    <a:pt x="222" y="160"/>
                  </a:lnTo>
                  <a:lnTo>
                    <a:pt x="225" y="154"/>
                  </a:lnTo>
                  <a:lnTo>
                    <a:pt x="229" y="153"/>
                  </a:lnTo>
                  <a:lnTo>
                    <a:pt x="232" y="145"/>
                  </a:lnTo>
                  <a:lnTo>
                    <a:pt x="235" y="141"/>
                  </a:lnTo>
                  <a:lnTo>
                    <a:pt x="238" y="135"/>
                  </a:lnTo>
                  <a:lnTo>
                    <a:pt x="241" y="132"/>
                  </a:lnTo>
                  <a:lnTo>
                    <a:pt x="245" y="128"/>
                  </a:lnTo>
                  <a:lnTo>
                    <a:pt x="248" y="133"/>
                  </a:lnTo>
                  <a:lnTo>
                    <a:pt x="251" y="135"/>
                  </a:lnTo>
                  <a:lnTo>
                    <a:pt x="254" y="142"/>
                  </a:lnTo>
                  <a:lnTo>
                    <a:pt x="257" y="150"/>
                  </a:lnTo>
                  <a:lnTo>
                    <a:pt x="260" y="155"/>
                  </a:lnTo>
                  <a:lnTo>
                    <a:pt x="264" y="170"/>
                  </a:lnTo>
                  <a:lnTo>
                    <a:pt x="267" y="165"/>
                  </a:lnTo>
                  <a:lnTo>
                    <a:pt x="270" y="171"/>
                  </a:lnTo>
                  <a:lnTo>
                    <a:pt x="273" y="174"/>
                  </a:lnTo>
                  <a:lnTo>
                    <a:pt x="276" y="183"/>
                  </a:lnTo>
                  <a:lnTo>
                    <a:pt x="279" y="185"/>
                  </a:lnTo>
                  <a:lnTo>
                    <a:pt x="283" y="188"/>
                  </a:lnTo>
                  <a:lnTo>
                    <a:pt x="286" y="191"/>
                  </a:lnTo>
                  <a:lnTo>
                    <a:pt x="289" y="193"/>
                  </a:lnTo>
                  <a:lnTo>
                    <a:pt x="292" y="194"/>
                  </a:lnTo>
                  <a:lnTo>
                    <a:pt x="295" y="194"/>
                  </a:lnTo>
                  <a:lnTo>
                    <a:pt x="299" y="199"/>
                  </a:lnTo>
                  <a:lnTo>
                    <a:pt x="302" y="197"/>
                  </a:lnTo>
                  <a:lnTo>
                    <a:pt x="305" y="205"/>
                  </a:lnTo>
                  <a:lnTo>
                    <a:pt x="308" y="203"/>
                  </a:lnTo>
                  <a:lnTo>
                    <a:pt x="311" y="204"/>
                  </a:lnTo>
                  <a:lnTo>
                    <a:pt x="314" y="200"/>
                  </a:lnTo>
                  <a:lnTo>
                    <a:pt x="318" y="202"/>
                  </a:lnTo>
                  <a:lnTo>
                    <a:pt x="321" y="202"/>
                  </a:lnTo>
                  <a:lnTo>
                    <a:pt x="324" y="198"/>
                  </a:lnTo>
                  <a:lnTo>
                    <a:pt x="327" y="198"/>
                  </a:lnTo>
                  <a:lnTo>
                    <a:pt x="330" y="210"/>
                  </a:lnTo>
                  <a:lnTo>
                    <a:pt x="334" y="216"/>
                  </a:lnTo>
                  <a:lnTo>
                    <a:pt x="337" y="214"/>
                  </a:lnTo>
                  <a:lnTo>
                    <a:pt x="340" y="214"/>
                  </a:lnTo>
                  <a:lnTo>
                    <a:pt x="343" y="219"/>
                  </a:lnTo>
                  <a:lnTo>
                    <a:pt x="346" y="221"/>
                  </a:lnTo>
                  <a:lnTo>
                    <a:pt x="349" y="224"/>
                  </a:lnTo>
                  <a:lnTo>
                    <a:pt x="353" y="228"/>
                  </a:lnTo>
                  <a:lnTo>
                    <a:pt x="356" y="231"/>
                  </a:lnTo>
                  <a:lnTo>
                    <a:pt x="359" y="239"/>
                  </a:lnTo>
                  <a:lnTo>
                    <a:pt x="362" y="243"/>
                  </a:lnTo>
                  <a:lnTo>
                    <a:pt x="365" y="251"/>
                  </a:lnTo>
                  <a:lnTo>
                    <a:pt x="369" y="236"/>
                  </a:lnTo>
                  <a:lnTo>
                    <a:pt x="372" y="227"/>
                  </a:lnTo>
                  <a:lnTo>
                    <a:pt x="375" y="231"/>
                  </a:lnTo>
                  <a:lnTo>
                    <a:pt x="378" y="232"/>
                  </a:lnTo>
                  <a:lnTo>
                    <a:pt x="381" y="220"/>
                  </a:lnTo>
                  <a:lnTo>
                    <a:pt x="384" y="219"/>
                  </a:lnTo>
                  <a:lnTo>
                    <a:pt x="388" y="217"/>
                  </a:lnTo>
                  <a:lnTo>
                    <a:pt x="391" y="218"/>
                  </a:lnTo>
                  <a:lnTo>
                    <a:pt x="394" y="216"/>
                  </a:lnTo>
                  <a:lnTo>
                    <a:pt x="397" y="211"/>
                  </a:lnTo>
                  <a:lnTo>
                    <a:pt x="400" y="208"/>
                  </a:lnTo>
                  <a:lnTo>
                    <a:pt x="404" y="203"/>
                  </a:lnTo>
                  <a:lnTo>
                    <a:pt x="407" y="203"/>
                  </a:lnTo>
                  <a:lnTo>
                    <a:pt x="410" y="208"/>
                  </a:lnTo>
                  <a:lnTo>
                    <a:pt x="413" y="208"/>
                  </a:lnTo>
                  <a:lnTo>
                    <a:pt x="416" y="206"/>
                  </a:lnTo>
                  <a:lnTo>
                    <a:pt x="419" y="216"/>
                  </a:lnTo>
                  <a:lnTo>
                    <a:pt x="423" y="221"/>
                  </a:lnTo>
                  <a:lnTo>
                    <a:pt x="426" y="228"/>
                  </a:lnTo>
                  <a:lnTo>
                    <a:pt x="429" y="225"/>
                  </a:lnTo>
                  <a:lnTo>
                    <a:pt x="432" y="231"/>
                  </a:lnTo>
                  <a:lnTo>
                    <a:pt x="435" y="232"/>
                  </a:lnTo>
                  <a:lnTo>
                    <a:pt x="439" y="240"/>
                  </a:lnTo>
                  <a:lnTo>
                    <a:pt x="442" y="240"/>
                  </a:lnTo>
                  <a:lnTo>
                    <a:pt x="445" y="239"/>
                  </a:lnTo>
                  <a:lnTo>
                    <a:pt x="448" y="235"/>
                  </a:lnTo>
                  <a:lnTo>
                    <a:pt x="451" y="231"/>
                  </a:lnTo>
                  <a:lnTo>
                    <a:pt x="454" y="225"/>
                  </a:lnTo>
                  <a:lnTo>
                    <a:pt x="458" y="219"/>
                  </a:lnTo>
                  <a:lnTo>
                    <a:pt x="461" y="216"/>
                  </a:lnTo>
                  <a:lnTo>
                    <a:pt x="464" y="206"/>
                  </a:lnTo>
                  <a:lnTo>
                    <a:pt x="467" y="204"/>
                  </a:lnTo>
                  <a:lnTo>
                    <a:pt x="470" y="204"/>
                  </a:lnTo>
                  <a:lnTo>
                    <a:pt x="474" y="199"/>
                  </a:lnTo>
                  <a:lnTo>
                    <a:pt x="477" y="189"/>
                  </a:lnTo>
                  <a:lnTo>
                    <a:pt x="480" y="179"/>
                  </a:lnTo>
                  <a:lnTo>
                    <a:pt x="483" y="163"/>
                  </a:lnTo>
                  <a:lnTo>
                    <a:pt x="486" y="144"/>
                  </a:lnTo>
                  <a:lnTo>
                    <a:pt x="489" y="134"/>
                  </a:lnTo>
                  <a:lnTo>
                    <a:pt x="493" y="121"/>
                  </a:lnTo>
                  <a:lnTo>
                    <a:pt x="496" y="109"/>
                  </a:lnTo>
                  <a:lnTo>
                    <a:pt x="499" y="102"/>
                  </a:lnTo>
                  <a:lnTo>
                    <a:pt x="502" y="92"/>
                  </a:lnTo>
                  <a:lnTo>
                    <a:pt x="505" y="84"/>
                  </a:lnTo>
                  <a:lnTo>
                    <a:pt x="509" y="62"/>
                  </a:lnTo>
                  <a:lnTo>
                    <a:pt x="512" y="48"/>
                  </a:lnTo>
                  <a:lnTo>
                    <a:pt x="515" y="37"/>
                  </a:lnTo>
                  <a:lnTo>
                    <a:pt x="518" y="30"/>
                  </a:lnTo>
                  <a:lnTo>
                    <a:pt x="521" y="30"/>
                  </a:lnTo>
                  <a:lnTo>
                    <a:pt x="524" y="29"/>
                  </a:lnTo>
                </a:path>
              </a:pathLst>
            </a:custGeom>
            <a:noFill/>
            <a:ln w="34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11280" y="1560600"/>
              <a:ext cx="416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urrent Account Balance as % of G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95400" y="1816200"/>
              <a:ext cx="1524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12 months a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60280" y="529596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6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60280" y="490212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5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60280" y="450864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4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0280" y="411480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3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60280" y="373212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2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60280" y="333864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20760" y="294480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20760" y="255096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20760" y="215748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6200000">
              <a:off x="13806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183456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22824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272988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317772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362700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08564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53492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498276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542880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587808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632736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0000">
              <a:off x="67860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6200000">
              <a:off x="723384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58000" y="6248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nte: B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716292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I) Inflation targeting in Emerging Market Economi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ance of inflation targeting (IT) regime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general,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emerging market economies (EMEs)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bit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seems to be a more challenging task in EMEs than in developed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Brazilian experience can be seen as a stress test of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flation before and after the adoption of inflation targe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6320" y="1874880"/>
            <a:ext cx="87627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ion versus targ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9480" y="2017800"/>
            <a:ext cx="82695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mparison of volatil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2280" y="1800360"/>
            <a:ext cx="90680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rade-off - volatilit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-152280" y="1889280"/>
            <a:ext cx="94485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emerging markets are more volati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erging markets adopt inflation targeting in the process of disinfl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: emerging economies are in the process of constructing credibility and instit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shocks: Sudden Stop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ce Issues: Fi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T has the additional disinflation role in EM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815328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urkey and Brazi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09400" y="21366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80360" y="2127240"/>
            <a:ext cx="99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urke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86600" y="2127240"/>
            <a:ext cx="761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3640" y="2573280"/>
            <a:ext cx="3041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otal Public Debt/GN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8320" y="2583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29880" y="2583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880" y="2992320"/>
            <a:ext cx="2158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nflation (% p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41000" y="300204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5320" y="300204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2920" y="3411360"/>
            <a:ext cx="5354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ollar Linked Debt (% of Domestic Deb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41000" y="3422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29880" y="3422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5440" y="3832200"/>
            <a:ext cx="288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rrent Account/GD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57120" y="3841920"/>
            <a:ext cx="48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5320" y="38419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6440" y="4251240"/>
            <a:ext cx="369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imary Surplus (% of GD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4640" y="426096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95320" y="426096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080" y="4670280"/>
            <a:ext cx="225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ating (Moody'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27320" y="468000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18000" y="468000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440" y="5089680"/>
            <a:ext cx="145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MBI (bp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63960" y="510048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0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54640" y="510048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6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3080" y="5562720"/>
            <a:ext cx="3960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al ‘ex-ante’ Interest (% p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8320" y="551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34280" y="55198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24680" y="2460600"/>
            <a:ext cx="278424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cred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ragility of institutions in E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n effort to enhance the credibility of the monetary authority as committed to price stabi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agents assign some positive probability that the central bank will renege on its commitment to the tar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equences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volatility and inflat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of trust building (Svensson, 200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beginning: higher output variability to gain cred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later on: improved trade-off with lower output and inflation variability (CB can be a more flexible inflation targe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II) Inflation targeting in Brazi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IT regime: successful, highly important for macroeconomic stabi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1999 and 2000: targets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2001 and 2002: targets not met - several shocks hitting the econo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2003 adjusted target met; 2004 and 2005, expectations inside the target b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6480" y="3200400"/>
            <a:ext cx="7745760" cy="3571560"/>
            <a:chOff x="456480" y="3200400"/>
            <a:chExt cx="7745760" cy="3571560"/>
          </a:xfrm>
        </p:grpSpPr>
        <p:sp>
          <p:nvSpPr>
            <p:cNvPr id="242" name=""/>
            <p:cNvSpPr/>
            <p:nvPr/>
          </p:nvSpPr>
          <p:spPr>
            <a:xfrm>
              <a:off x="767520" y="600804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7520" y="555300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7520" y="509652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7520" y="464004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7520" y="418356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7520" y="372852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7520" y="327060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7520" y="3270600"/>
              <a:ext cx="1800" cy="319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7840" y="646560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7840" y="600804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7840" y="555300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7840" y="509652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7840" y="464004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7840" y="418356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7840" y="372852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7840" y="327060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6465600"/>
              <a:ext cx="743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67520" y="6465240"/>
              <a:ext cx="180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83024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89080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5316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015160" y="6465240"/>
              <a:ext cx="180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07788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713844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820080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9000" y="6392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9000" y="5937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9000" y="548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9000" y="5025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9000" y="4570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480" y="4114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6480" y="3657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6480" y="32004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379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003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619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261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841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447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085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7240" y="509400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67240" y="4168080"/>
              <a:ext cx="6998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67240" y="4633560"/>
              <a:ext cx="699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5880" y="4417920"/>
              <a:ext cx="69840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62360" y="421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,9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69200" y="509400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46880" y="5533560"/>
              <a:ext cx="720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69200" y="4633560"/>
              <a:ext cx="713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74760" y="520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,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69200" y="5142960"/>
              <a:ext cx="71352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1040" y="4690080"/>
              <a:ext cx="718560" cy="144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11040" y="5533560"/>
              <a:ext cx="704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1040" y="6014520"/>
              <a:ext cx="704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11040" y="5094000"/>
              <a:ext cx="704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25600" y="4701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,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64400" y="565452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64400" y="610704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64400" y="518652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64400" y="3598920"/>
              <a:ext cx="70704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52600" y="3610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,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80400" y="5533560"/>
              <a:ext cx="713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75000" y="5094000"/>
              <a:ext cx="7120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75000" y="6014520"/>
              <a:ext cx="712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14880" y="4492080"/>
              <a:ext cx="854640" cy="27000"/>
            </a:xfrm>
            <a:custGeom>
              <a:avLst/>
              <a:gdLst/>
              <a:ahLst/>
              <a:rect l="l" t="t" r="r" b="b"/>
              <a:pathLst>
                <a:path w="996" h="42">
                  <a:moveTo>
                    <a:pt x="0" y="0"/>
                  </a:moveTo>
                  <a:lnTo>
                    <a:pt x="165" y="0"/>
                  </a:lnTo>
                  <a:lnTo>
                    <a:pt x="165" y="42"/>
                  </a:lnTo>
                  <a:lnTo>
                    <a:pt x="0" y="42"/>
                  </a:lnTo>
                  <a:lnTo>
                    <a:pt x="0" y="0"/>
                  </a:lnTo>
                  <a:close/>
                  <a:moveTo>
                    <a:pt x="289" y="0"/>
                  </a:moveTo>
                  <a:lnTo>
                    <a:pt x="454" y="0"/>
                  </a:lnTo>
                  <a:lnTo>
                    <a:pt x="454" y="42"/>
                  </a:lnTo>
                  <a:lnTo>
                    <a:pt x="289" y="42"/>
                  </a:lnTo>
                  <a:lnTo>
                    <a:pt x="289" y="0"/>
                  </a:lnTo>
                  <a:close/>
                  <a:moveTo>
                    <a:pt x="578" y="0"/>
                  </a:moveTo>
                  <a:lnTo>
                    <a:pt x="743" y="0"/>
                  </a:lnTo>
                  <a:lnTo>
                    <a:pt x="743" y="42"/>
                  </a:lnTo>
                  <a:lnTo>
                    <a:pt x="578" y="42"/>
                  </a:lnTo>
                  <a:lnTo>
                    <a:pt x="578" y="0"/>
                  </a:lnTo>
                  <a:close/>
                  <a:moveTo>
                    <a:pt x="867" y="0"/>
                  </a:moveTo>
                  <a:lnTo>
                    <a:pt x="996" y="0"/>
                  </a:lnTo>
                  <a:lnTo>
                    <a:pt x="996" y="42"/>
                  </a:lnTo>
                  <a:lnTo>
                    <a:pt x="867" y="42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75000" y="4339440"/>
              <a:ext cx="71208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39240" y="4179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,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63560" y="5186520"/>
              <a:ext cx="7189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77240" y="5654520"/>
              <a:ext cx="704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63560" y="4633560"/>
              <a:ext cx="7189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77240" y="4833000"/>
              <a:ext cx="70488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04760" y="4667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,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63720" y="542700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63720" y="601452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63720" y="487152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63720" y="5186520"/>
              <a:ext cx="77184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53880" y="50230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67240" y="4633560"/>
              <a:ext cx="70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uction</a:t>
            </a: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 of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redibility in Braz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transparency to the pub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ons consistent with IT framework (Minella, Freitas, Goldfajn, and Muinhos, 200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ations and inertia affected by introduction of the regim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14240"/>
            <a:ext cx="77929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pt-BR" sz="40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on function of Central ban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30080" y="1981080"/>
            <a:ext cx="841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expect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int estima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B’s inf. Exp.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.7 – 5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vate agents’ inf. exp.: 2.0 – 2.3 (more preci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specifications: greater than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st specifications: greater than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degree of interest-rate smoothin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.7 – 0.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 and inert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supposed to affect formation of expectations -&gt; lower backward-looking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zil: estimation of a simple aggregate supply cu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 reduction in the backward-looking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 estimates: from 0.56 to 0.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Inflation Targeting Question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balance in practice flexibility versus credibil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react to shocks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does output gap affect the desired inflation path of the monetary authorit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design appropriate size of bands, adjustment horizons, communication, transparency and IMF program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V) Challenges: External Shock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56560" y="457200"/>
            <a:ext cx="515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razil – 2002 Confidence Crisis trigger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sidential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31720" y="1371600"/>
            <a:ext cx="8429400" cy="5191200"/>
            <a:chOff x="531720" y="1371600"/>
            <a:chExt cx="8429400" cy="5191200"/>
          </a:xfrm>
        </p:grpSpPr>
        <p:sp>
          <p:nvSpPr>
            <p:cNvPr id="330" name=""/>
            <p:cNvSpPr/>
            <p:nvPr/>
          </p:nvSpPr>
          <p:spPr>
            <a:xfrm>
              <a:off x="1255320" y="13716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533520" y="1371600"/>
              <a:ext cx="8399520" cy="4959360"/>
              <a:chOff x="533520" y="1371600"/>
              <a:chExt cx="8399520" cy="4959360"/>
            </a:xfrm>
          </p:grpSpPr>
          <p:sp>
            <p:nvSpPr>
              <p:cNvPr id="332" name=""/>
              <p:cNvSpPr/>
              <p:nvPr/>
            </p:nvSpPr>
            <p:spPr>
              <a:xfrm>
                <a:off x="533520" y="1371600"/>
                <a:ext cx="8399520" cy="495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00520" y="492912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00520" y="417168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00520" y="341784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00520" y="266040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00520" y="190476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100520" y="1904760"/>
                <a:ext cx="1440" cy="3780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059120" y="568476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059120" y="492912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059120" y="417168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59120" y="341784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059120" y="266040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059120" y="190476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00520" y="568476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1100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1135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1170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1205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240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12751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1308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3431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13780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14130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447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1481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1516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551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1589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1624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659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16941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1727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1762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1797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1832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1867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1900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1935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1970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2005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0401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20750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2108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2143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2178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2213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2248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2281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2316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23511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2386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2421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2456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24940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2527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2562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2597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2632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2667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700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2735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2770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2805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2840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2875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2908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2943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2978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3013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30481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3081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3116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3151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186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221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256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3289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324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3359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3397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3432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3467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3500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3535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3570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36054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3640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3675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3708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3743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3778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3813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3848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3881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3916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3951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3986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4021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4056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4089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4124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4159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4194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4229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4262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4300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4335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4370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4405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4440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4475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4508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4543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4578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46134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4648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4681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4716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4751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4786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4821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4856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4889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4924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959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994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5029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5062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5097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5132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5167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5202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5240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5275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5308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5343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5378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5413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5448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5481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5516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551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5586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5621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5656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56898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5724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5759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5794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5829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5862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5897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5932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5967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6002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6037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6070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6105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6143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6178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213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248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282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6316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6351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6386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6421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6456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64900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6525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6559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6594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629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66628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66978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6732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6767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6802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6837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6870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6905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6940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6975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7010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7048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7081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71168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7151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1870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7221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7256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72900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7324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73598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7394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7429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74631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74980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7533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1066680" y="2133720"/>
              <a:ext cx="7304040" cy="3558600"/>
              <a:chOff x="1066680" y="2133720"/>
              <a:chExt cx="7304040" cy="3558600"/>
            </a:xfrm>
          </p:grpSpPr>
          <p:sp>
            <p:nvSpPr>
              <p:cNvPr id="533" name=""/>
              <p:cNvSpPr/>
              <p:nvPr/>
            </p:nvSpPr>
            <p:spPr>
              <a:xfrm flipV="1">
                <a:off x="75340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75690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76039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6370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767196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77072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77421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7770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781020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84512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78800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9182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79531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9880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80229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80564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80913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81262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81612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81961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82292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826416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829908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833400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836892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1066680" y="4460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101600" y="4460760"/>
                <a:ext cx="3492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1136520" y="4482720"/>
                <a:ext cx="34920" cy="20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71440" y="448308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206360" y="4513320"/>
                <a:ext cx="34920" cy="20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241280" y="4533840"/>
                <a:ext cx="33120" cy="3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1274400" y="45111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09320" y="451152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44240" y="4513320"/>
                <a:ext cx="34920" cy="47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9160" y="456084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14080" y="4565520"/>
                <a:ext cx="33480" cy="22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1447560" y="458640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482480" y="4586400"/>
                <a:ext cx="34920" cy="33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1517400" y="4610160"/>
                <a:ext cx="3816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55560" y="4610160"/>
                <a:ext cx="34920" cy="15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1590480" y="46195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625400" y="46195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1660320" y="4597200"/>
                <a:ext cx="33120" cy="28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1693440" y="456732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1728360" y="4565160"/>
                <a:ext cx="3528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763640" y="4565520"/>
                <a:ext cx="34920" cy="32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1798560" y="4581000"/>
                <a:ext cx="34920" cy="162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33480" y="4581360"/>
                <a:ext cx="331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66600" y="458784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1901520" y="458748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1936440" y="457344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71360" y="457344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2006280" y="4560480"/>
                <a:ext cx="34920" cy="12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2041200" y="4551480"/>
                <a:ext cx="3348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2074680" y="4541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09600" y="454176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44520" y="4541760"/>
                <a:ext cx="34920" cy="11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79440" y="455292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2214360" y="4533480"/>
                <a:ext cx="33120" cy="49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47480" y="453384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82400" y="455292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2317320" y="4546440"/>
                <a:ext cx="3528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52600" y="454644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2387520" y="453204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2422440" y="4512960"/>
                <a:ext cx="3780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460240" y="4470120"/>
                <a:ext cx="3348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2493720" y="4460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2528640" y="445428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2563560" y="441936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2598480" y="438948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2633400" y="4347720"/>
                <a:ext cx="3348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66880" y="4348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2701800" y="431280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2736720" y="431172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771640" y="431172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2806560" y="4263840"/>
                <a:ext cx="34920" cy="61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2841480" y="4228560"/>
                <a:ext cx="331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2874600" y="422100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909520" y="422100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944440" y="4228920"/>
                <a:ext cx="34920" cy="44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979360" y="4273560"/>
                <a:ext cx="34920" cy="33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3014280" y="4296960"/>
                <a:ext cx="3348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3047760" y="427788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3082680" y="427176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3117600" y="4235400"/>
                <a:ext cx="34920" cy="36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3152520" y="4198680"/>
                <a:ext cx="34920" cy="36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3187440" y="4194000"/>
                <a:ext cx="34920" cy="5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222360" y="4194000"/>
                <a:ext cx="33480" cy="11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255840" y="420516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290760" y="421956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3325680" y="4181040"/>
                <a:ext cx="3816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3363840" y="4076280"/>
                <a:ext cx="34920" cy="104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3398760" y="399888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3433680" y="3892320"/>
                <a:ext cx="33120" cy="1062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66800" y="3892680"/>
                <a:ext cx="34920" cy="17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501720" y="3909960"/>
                <a:ext cx="34920" cy="50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3536640" y="3782880"/>
                <a:ext cx="34920" cy="177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3571560" y="370944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606480" y="3709800"/>
                <a:ext cx="34920" cy="78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3641400" y="3676320"/>
                <a:ext cx="33480" cy="111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74880" y="3676680"/>
                <a:ext cx="34920" cy="101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3709800" y="370476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3744720" y="3519360"/>
                <a:ext cx="34920" cy="185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3779640" y="3422160"/>
                <a:ext cx="349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3814560" y="3141720"/>
                <a:ext cx="33120" cy="280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847680" y="3141720"/>
                <a:ext cx="34920" cy="33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3882600" y="3417840"/>
                <a:ext cx="3492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3917520" y="3270240"/>
                <a:ext cx="35280" cy="147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52800" y="3270240"/>
                <a:ext cx="34920" cy="142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987720" y="3413160"/>
                <a:ext cx="34920" cy="98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22640" y="3511440"/>
                <a:ext cx="33120" cy="27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4055760" y="3290760"/>
                <a:ext cx="34920" cy="247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4090680" y="3241800"/>
                <a:ext cx="34920" cy="48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125600" y="324180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160520" y="3255840"/>
                <a:ext cx="34920" cy="28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195440" y="3284640"/>
                <a:ext cx="33480" cy="69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228920" y="3354480"/>
                <a:ext cx="38160" cy="28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267080" y="3382920"/>
                <a:ext cx="34920" cy="79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302000" y="3462480"/>
                <a:ext cx="34920" cy="44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4336920" y="342540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371840" y="34257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406760" y="345132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41680" y="3457440"/>
                <a:ext cx="33120" cy="87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4474800" y="3489480"/>
                <a:ext cx="34920" cy="55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4509720" y="3359160"/>
                <a:ext cx="34920" cy="130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4544640" y="3249720"/>
                <a:ext cx="34920" cy="109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4579560" y="3197160"/>
                <a:ext cx="34920" cy="52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4614480" y="3041640"/>
                <a:ext cx="33480" cy="155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4647960" y="2937960"/>
                <a:ext cx="3492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4682880" y="2701440"/>
                <a:ext cx="34920" cy="236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4717800" y="2498760"/>
                <a:ext cx="34920" cy="203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752720" y="2498760"/>
                <a:ext cx="34920" cy="149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787640" y="2647800"/>
                <a:ext cx="34920" cy="27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822560" y="2924280"/>
                <a:ext cx="33480" cy="36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4856040" y="287928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4890960" y="2840040"/>
                <a:ext cx="34920" cy="39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925880" y="2840040"/>
                <a:ext cx="34920" cy="291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960800" y="3132000"/>
                <a:ext cx="34920" cy="85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995720" y="2865600"/>
                <a:ext cx="33120" cy="352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5028840" y="2607840"/>
                <a:ext cx="34920" cy="257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5063760" y="2541240"/>
                <a:ext cx="34920" cy="66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098680" y="2541600"/>
                <a:ext cx="34920" cy="174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5133600" y="270828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168520" y="2708280"/>
                <a:ext cx="38160" cy="146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06680" y="2854440"/>
                <a:ext cx="34920" cy="112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5241600" y="2943360"/>
                <a:ext cx="33480" cy="23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275080" y="2943360"/>
                <a:ext cx="34920" cy="126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310000" y="3070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344920" y="3070080"/>
                <a:ext cx="34920" cy="38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379840" y="3108240"/>
                <a:ext cx="3492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414760" y="3149640"/>
                <a:ext cx="33120" cy="66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447880" y="321624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482800" y="321624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17720" y="3216240"/>
                <a:ext cx="35280" cy="108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5553000" y="3147840"/>
                <a:ext cx="34920" cy="176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87920" y="3147840"/>
                <a:ext cx="34920" cy="57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5622840" y="3123720"/>
                <a:ext cx="331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655960" y="3124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690880" y="312408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5725800" y="3178080"/>
                <a:ext cx="34920" cy="23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760720" y="3178080"/>
                <a:ext cx="34920" cy="17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795640" y="3119400"/>
                <a:ext cx="33480" cy="76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5829120" y="31129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5864040" y="3040200"/>
                <a:ext cx="34920" cy="72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5898960" y="2854440"/>
                <a:ext cx="34920" cy="185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5933880" y="2755800"/>
                <a:ext cx="34920" cy="98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968800" y="2522520"/>
                <a:ext cx="34920" cy="233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003720" y="2522520"/>
                <a:ext cx="33120" cy="165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6036840" y="2395440"/>
                <a:ext cx="34920" cy="292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71760" y="2395440"/>
                <a:ext cx="3816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09920" y="240336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6144840" y="2390760"/>
                <a:ext cx="34920" cy="85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6179760" y="2133720"/>
                <a:ext cx="34920" cy="257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14680" y="2133720"/>
                <a:ext cx="33480" cy="44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48160" y="2178000"/>
                <a:ext cx="34920" cy="225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283080" y="2403360"/>
                <a:ext cx="3492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318000" y="2444760"/>
                <a:ext cx="34920" cy="149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352920" y="2593800"/>
                <a:ext cx="34920" cy="93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387840" y="2515680"/>
                <a:ext cx="34920" cy="171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6422760" y="2462040"/>
                <a:ext cx="3348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6456240" y="2168280"/>
                <a:ext cx="34920" cy="293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491160" y="2168640"/>
                <a:ext cx="34920" cy="6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526080" y="2228760"/>
                <a:ext cx="34920" cy="44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6561000" y="219204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595920" y="2192400"/>
                <a:ext cx="33120" cy="41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29040" y="2233440"/>
                <a:ext cx="34920" cy="206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663960" y="2440080"/>
                <a:ext cx="34920" cy="135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698880" y="2575080"/>
                <a:ext cx="34920" cy="48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733800" y="262404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768720" y="2658960"/>
                <a:ext cx="34920" cy="101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803640" y="2760480"/>
                <a:ext cx="3348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37120" y="2814480"/>
                <a:ext cx="34920" cy="84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6872040" y="2779200"/>
                <a:ext cx="34920" cy="119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6906960" y="2703240"/>
                <a:ext cx="349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941880" y="2703600"/>
                <a:ext cx="34920" cy="206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976800" y="2909880"/>
                <a:ext cx="38160" cy="33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14960" y="2943360"/>
                <a:ext cx="331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7048080" y="2965320"/>
                <a:ext cx="34920" cy="74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7083000" y="2922120"/>
                <a:ext cx="3492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7117920" y="2913120"/>
                <a:ext cx="3528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1093680" y="1981440"/>
              <a:ext cx="7350120" cy="3781440"/>
              <a:chOff x="1093680" y="1981440"/>
              <a:chExt cx="7350120" cy="3781440"/>
            </a:xfrm>
          </p:grpSpPr>
          <p:sp>
            <p:nvSpPr>
              <p:cNvPr id="734" name=""/>
              <p:cNvSpPr/>
              <p:nvPr/>
            </p:nvSpPr>
            <p:spPr>
              <a:xfrm>
                <a:off x="7186680" y="301032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21600" y="302940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7256520" y="2913120"/>
                <a:ext cx="33120" cy="135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289640" y="2913480"/>
                <a:ext cx="34920" cy="3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324560" y="2916720"/>
                <a:ext cx="34920" cy="156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359480" y="3073680"/>
                <a:ext cx="349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394400" y="3170520"/>
                <a:ext cx="34920" cy="112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429320" y="3283200"/>
                <a:ext cx="3348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7462800" y="330552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497720" y="330552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7532640" y="3230640"/>
                <a:ext cx="34920" cy="88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7567560" y="319572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02480" y="3196080"/>
                <a:ext cx="34920" cy="6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37400" y="3256200"/>
                <a:ext cx="33120" cy="46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70520" y="3302280"/>
                <a:ext cx="34920" cy="149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7705440" y="3348000"/>
                <a:ext cx="3528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7740720" y="327060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7775640" y="3099240"/>
                <a:ext cx="34920" cy="171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810560" y="3099240"/>
                <a:ext cx="331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843680" y="3175200"/>
                <a:ext cx="34920" cy="20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7878600" y="31701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913520" y="3170520"/>
                <a:ext cx="3816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951680" y="3273840"/>
                <a:ext cx="34920" cy="31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986600" y="3305520"/>
                <a:ext cx="34920" cy="27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021520" y="3332520"/>
                <a:ext cx="34920" cy="146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8056440" y="3422520"/>
                <a:ext cx="33480" cy="55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089920" y="342288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124840" y="3503880"/>
                <a:ext cx="3492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159760" y="3557880"/>
                <a:ext cx="34920" cy="46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8194680" y="3588120"/>
                <a:ext cx="34920" cy="15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8229600" y="3540600"/>
                <a:ext cx="33120" cy="47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262720" y="3540600"/>
                <a:ext cx="34920" cy="2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8297640" y="3513240"/>
                <a:ext cx="34920" cy="29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332560" y="351360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367480" y="3591360"/>
                <a:ext cx="349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402400" y="1981440"/>
                <a:ext cx="1800" cy="3780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361360" y="576144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361360" y="522180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361360" y="468036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361360" y="414072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361360" y="360252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361360" y="306252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361360" y="252144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361360" y="198144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093680" y="53186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4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114200" y="525024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4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128600" y="522324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149120" y="5154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7" y="0"/>
                    </a:lnTo>
                    <a:lnTo>
                      <a:pt x="17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155600" y="51296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8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3" y="16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190520" y="511524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0" y="6"/>
                    </a:moveTo>
                    <a:lnTo>
                      <a:pt x="20" y="0"/>
                    </a:lnTo>
                    <a:lnTo>
                      <a:pt x="22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225440" y="5094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260360" y="50756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19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295280" y="506124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6"/>
                    </a:moveTo>
                    <a:lnTo>
                      <a:pt x="19" y="0"/>
                    </a:lnTo>
                    <a:lnTo>
                      <a:pt x="21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328760" y="5040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3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363680" y="50263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6"/>
                    </a:moveTo>
                    <a:lnTo>
                      <a:pt x="20" y="0"/>
                    </a:lnTo>
                    <a:lnTo>
                      <a:pt x="22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98600" y="5005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439640" y="499608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450800" y="50659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465200" y="51375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474560" y="51930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485720" y="52628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498320" y="53344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509480" y="5407200"/>
                <a:ext cx="17640" cy="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09480" y="5383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41520" y="533448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3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544400" y="53247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579320" y="527544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3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582560" y="52660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617480" y="5221800"/>
                <a:ext cx="15840" cy="14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617480" y="5208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647720" y="51598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3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650960" y="51501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682640" y="510084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3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685880" y="50914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720800" y="5046840"/>
                <a:ext cx="17280" cy="3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720800" y="504540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755720" y="508356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0"/>
                    </a:moveTo>
                    <a:lnTo>
                      <a:pt x="9" y="13"/>
                    </a:lnTo>
                    <a:lnTo>
                      <a:pt x="19" y="14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782720" y="5113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817640" y="5094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852560" y="50803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6"/>
                    </a:moveTo>
                    <a:lnTo>
                      <a:pt x="20" y="0"/>
                    </a:lnTo>
                    <a:lnTo>
                      <a:pt x="22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887480" y="5059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19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922400" y="504540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6"/>
                    </a:moveTo>
                    <a:lnTo>
                      <a:pt x="19" y="0"/>
                    </a:lnTo>
                    <a:lnTo>
                      <a:pt x="21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960560" y="50310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1" y="0"/>
                    </a:lnTo>
                    <a:lnTo>
                      <a:pt x="24" y="7"/>
                    </a:lnTo>
                    <a:lnTo>
                      <a:pt x="2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993680" y="5021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3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028600" y="5011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063520" y="50025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098440" y="4993200"/>
                <a:ext cx="38160" cy="187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133360" y="49834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1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71520" y="496764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178000" y="48978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189160" y="48265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195280" y="47563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205000" y="469944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205000" y="468828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212920" y="46166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222280" y="45468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30200" y="447696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239920" y="4422960"/>
                <a:ext cx="17280" cy="7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239920" y="44103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247840" y="43405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257200" y="42692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65120" y="419940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274840" y="414216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274840" y="41310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280960" y="40611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92120" y="39898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98600" y="39200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309760" y="3866040"/>
                <a:ext cx="17280" cy="93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309760" y="38628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319120" y="39340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4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333520" y="4003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344680" y="4057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354040" y="41295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368440" y="4199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379600" y="4253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388960" y="43232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403360" y="43945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412720" y="44485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423880" y="451836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438280" y="45896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447640" y="46342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455920" y="4563000"/>
                <a:ext cx="20520" cy="266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462040" y="44928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468520" y="44229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476440" y="43516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482920" y="42818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485800" y="42580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493720" y="418968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500200" y="4119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503440" y="40467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509560" y="397548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5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517840" y="39056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517840" y="389124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552760" y="39168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585880" y="3943800"/>
                <a:ext cx="42840" cy="219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14" y="13"/>
                    </a:lnTo>
                    <a:lnTo>
                      <a:pt x="27" y="14"/>
                    </a:lnTo>
                    <a:lnTo>
                      <a:pt x="1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624040" y="39657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655720" y="403416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658960" y="40294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690640" y="409752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693880" y="409284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725560" y="416124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728800" y="4156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760480" y="422460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763720" y="4219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793960" y="42883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3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798640" y="4283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828880" y="43516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0"/>
                    </a:moveTo>
                    <a:lnTo>
                      <a:pt x="2" y="8"/>
                    </a:lnTo>
                    <a:lnTo>
                      <a:pt x="13" y="9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832120" y="43502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4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863800" y="441828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6"/>
                    </a:lnTo>
                    <a:lnTo>
                      <a:pt x="13" y="7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867040" y="44136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4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898720" y="448200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5"/>
                    </a:lnTo>
                    <a:lnTo>
                      <a:pt x="13" y="7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901960" y="44690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904840" y="439596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913120" y="432792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916000" y="42548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919240" y="41850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925720" y="4116600"/>
                <a:ext cx="1728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928960" y="404388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5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936880" y="397548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936880" y="396432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940120" y="38912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946240" y="382320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950920" y="37501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954160" y="36802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960640" y="361188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963880" y="35388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966760" y="34689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966760" y="34642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0"/>
                    </a:moveTo>
                    <a:lnTo>
                      <a:pt x="11" y="13"/>
                    </a:lnTo>
                    <a:lnTo>
                      <a:pt x="24" y="14"/>
                    </a:lnTo>
                    <a:lnTo>
                      <a:pt x="1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01680" y="34898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036600" y="3515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071880" y="35406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106800" y="35676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144600" y="3586680"/>
                <a:ext cx="3024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3"/>
                    </a:moveTo>
                    <a:lnTo>
                      <a:pt x="8" y="0"/>
                    </a:lnTo>
                    <a:lnTo>
                      <a:pt x="19" y="1"/>
                    </a:lnTo>
                    <a:lnTo>
                      <a:pt x="1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179520" y="354996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14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209760" y="3515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247920" y="3481560"/>
                <a:ext cx="31680" cy="2412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14"/>
                    </a:moveTo>
                    <a:lnTo>
                      <a:pt x="9" y="0"/>
                    </a:lnTo>
                    <a:lnTo>
                      <a:pt x="20" y="2"/>
                    </a:lnTo>
                    <a:lnTo>
                      <a:pt x="1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82840" y="34549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289320" y="3527640"/>
                <a:ext cx="1728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294000" y="35960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300480" y="3667320"/>
                <a:ext cx="1728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303360" y="37357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309840" y="380880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314520" y="387720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317760" y="38865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324240" y="39596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327120" y="402768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35400" y="410076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338280" y="41691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344760" y="4242240"/>
                <a:ext cx="17280" cy="219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348000" y="43102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4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352680" y="431352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14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390840" y="425952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423960" y="421056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458880" y="41594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493800" y="4110480"/>
                <a:ext cx="3204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4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529080" y="406116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564000" y="401832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590640" y="4086720"/>
                <a:ext cx="2412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5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598920" y="40867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25920" y="415476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1055520" y="2265480"/>
              <a:ext cx="5254560" cy="3166920"/>
              <a:chOff x="1055520" y="2265480"/>
              <a:chExt cx="5254560" cy="3166920"/>
            </a:xfrm>
          </p:grpSpPr>
          <p:sp>
            <p:nvSpPr>
              <p:cNvPr id="935" name=""/>
              <p:cNvSpPr/>
              <p:nvPr/>
            </p:nvSpPr>
            <p:spPr>
              <a:xfrm>
                <a:off x="3632040" y="41544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660840" y="422280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666960" y="422280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95760" y="4290840"/>
                <a:ext cx="23760" cy="162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701880" y="428148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725640" y="421308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736800" y="41990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760560" y="413064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771720" y="41162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795480" y="40482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805200" y="40338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830400" y="3965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840120" y="396072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5" y="15"/>
                    </a:lnTo>
                    <a:lnTo>
                      <a:pt x="16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860640" y="403236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875040" y="406728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5"/>
                    </a:lnTo>
                    <a:lnTo>
                      <a:pt x="15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895560" y="41371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5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906720" y="41655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941640" y="413712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0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975120" y="410688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010040" y="407844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044960" y="40514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3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79880" y="4019400"/>
                <a:ext cx="38160" cy="2412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114800" y="399240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3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147920" y="39639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4" y="1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186080" y="39304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208400" y="38606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221000" y="38210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4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241520" y="374976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255920" y="37098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90840" y="365760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294080" y="36496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4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325760" y="359568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29000" y="3586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60680" y="353376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4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363920" y="35244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394160" y="34732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4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398840" y="34639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429080" y="341136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432320" y="34113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443480" y="34812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57520" y="355284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467240" y="36021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478400" y="36720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491000" y="37432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5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502160" y="37846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16200" y="3714840"/>
                <a:ext cx="2412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533840" y="36496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1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537080" y="36399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51120" y="3568680"/>
                <a:ext cx="2412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66960" y="350532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1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572000" y="34956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584600" y="34257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5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601880" y="336060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1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605120" y="335124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616280" y="3282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622760" y="32097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633920" y="31384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640040" y="30924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651200" y="3024000"/>
                <a:ext cx="1764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657680" y="295128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668840" y="28814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674960" y="28432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703760" y="29113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lnTo>
                      <a:pt x="4" y="10"/>
                    </a:lnTo>
                    <a:lnTo>
                      <a:pt x="15" y="12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709880" y="2913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736880" y="2981160"/>
                <a:ext cx="2556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0"/>
                    </a:moveTo>
                    <a:lnTo>
                      <a:pt x="5" y="9"/>
                    </a:lnTo>
                    <a:lnTo>
                      <a:pt x="16" y="11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744800" y="29811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771800" y="30495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lnTo>
                      <a:pt x="5" y="10"/>
                    </a:lnTo>
                    <a:lnTo>
                      <a:pt x="15" y="12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779720" y="305280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0"/>
                    </a:moveTo>
                    <a:lnTo>
                      <a:pt x="8" y="13"/>
                    </a:lnTo>
                    <a:lnTo>
                      <a:pt x="19" y="14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813200" y="309240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848120" y="313200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5" y="15"/>
                    </a:lnTo>
                    <a:lnTo>
                      <a:pt x="15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868640" y="32004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883040" y="32259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5"/>
                    </a:lnTo>
                    <a:lnTo>
                      <a:pt x="15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906800" y="329400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917960" y="3308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924440" y="32385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932360" y="3166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938480" y="309888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944960" y="30290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952880" y="2970360"/>
                <a:ext cx="17640" cy="10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52880" y="29574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959360" y="28875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965480" y="28177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973400" y="2749680"/>
                <a:ext cx="17640" cy="219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979880" y="267804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986360" y="261936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986360" y="2608200"/>
                <a:ext cx="2196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994280" y="25369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000400" y="246996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008320" y="239868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014800" y="2328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021280" y="2266920"/>
                <a:ext cx="17280" cy="144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021280" y="226548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046480" y="23335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4"/>
                    </a:lnTo>
                    <a:lnTo>
                      <a:pt x="17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056200" y="234792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4"/>
                    </a:lnTo>
                    <a:lnTo>
                      <a:pt x="15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079960" y="241452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091120" y="24289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14880" y="24969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26040" y="250200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160960" y="245268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194080" y="2406600"/>
                <a:ext cx="3204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13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232240" y="235440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267160" y="230508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02080" y="226548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308560" y="23353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319720" y="24066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325840" y="247644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37000" y="2549520"/>
                <a:ext cx="1764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37000" y="25369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43480" y="26082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54640" y="26780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0760" y="27496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2822400"/>
                <a:ext cx="17640" cy="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371920" y="28083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78400" y="28782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89560" y="29480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95680" y="30193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405400" y="3092400"/>
                <a:ext cx="1728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405400" y="3079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0"/>
                    </a:moveTo>
                    <a:lnTo>
                      <a:pt x="3" y="15"/>
                    </a:lnTo>
                    <a:lnTo>
                      <a:pt x="14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13320" y="31510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422680" y="32209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430600" y="32925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440320" y="3363840"/>
                <a:ext cx="1728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440320" y="33526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48240" y="34225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457600" y="34941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465520" y="356400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475240" y="3637080"/>
                <a:ext cx="17280" cy="28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72000" y="362268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506920" y="36561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541840" y="3686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0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575320" y="371952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613120" y="3749760"/>
                <a:ext cx="3204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4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648040" y="3789360"/>
                <a:ext cx="3204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4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683320" y="382752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718240" y="3865680"/>
                <a:ext cx="298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0"/>
                    </a:moveTo>
                    <a:lnTo>
                      <a:pt x="9" y="13"/>
                    </a:lnTo>
                    <a:lnTo>
                      <a:pt x="19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748120" y="390672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3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783040" y="39020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817960" y="38973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852880" y="389412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887800" y="38894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922720" y="388476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1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956200" y="38750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3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991120" y="38624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6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026040" y="38527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064200" y="38368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7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095880" y="378000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8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099120" y="37717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129360" y="371304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8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134040" y="37180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7"/>
                    </a:moveTo>
                    <a:lnTo>
                      <a:pt x="21" y="11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167160" y="3726000"/>
                <a:ext cx="38160" cy="187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8"/>
                    </a:moveTo>
                    <a:lnTo>
                      <a:pt x="22" y="12"/>
                    </a:lnTo>
                    <a:lnTo>
                      <a:pt x="24" y="5"/>
                    </a:lnTo>
                    <a:lnTo>
                      <a:pt x="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202080" y="373536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8"/>
                    </a:moveTo>
                    <a:lnTo>
                      <a:pt x="22" y="14"/>
                    </a:lnTo>
                    <a:lnTo>
                      <a:pt x="24" y="6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237000" y="37479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7"/>
                    </a:moveTo>
                    <a:lnTo>
                      <a:pt x="22" y="12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272280" y="37576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7"/>
                    </a:moveTo>
                    <a:lnTo>
                      <a:pt x="22" y="12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055520" y="530532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090440" y="5211720"/>
                <a:ext cx="9072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125360" y="5118120"/>
                <a:ext cx="88920" cy="601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160280" y="509904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193760" y="508320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228680" y="50641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263600" y="504504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298520" y="50277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333440" y="501012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366560" y="49928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401480" y="497376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436400" y="5172120"/>
                <a:ext cx="9072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471680" y="53719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506600" y="5313240"/>
                <a:ext cx="8856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544400" y="525456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579320" y="519732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612800" y="513864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647720" y="50799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682640" y="502452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717560" y="50608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752480" y="510048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785960" y="508320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820880" y="50641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855800" y="50464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90720" y="50277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925640" y="501156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960560" y="500220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993680" y="49928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028600" y="498312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063520" y="497376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098440" y="49640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133360" y="495612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166840" y="467532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201760" y="439884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236680" y="411948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271600" y="384156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306520" y="4037040"/>
                <a:ext cx="88920" cy="601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341440" y="423216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374920" y="442764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409840" y="462132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47640" y="4246560"/>
                <a:ext cx="9072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482920" y="387036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517840" y="389556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552760" y="3921120"/>
                <a:ext cx="8856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585880" y="39448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620800" y="4008600"/>
                <a:ext cx="90720" cy="6156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655720" y="4071960"/>
                <a:ext cx="9072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"/>
            <p:cNvSpPr/>
            <p:nvPr/>
          </p:nvSpPr>
          <p:spPr>
            <a:xfrm>
              <a:off x="2690640" y="413568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25560" y="41990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760840" y="4262400"/>
              <a:ext cx="8856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93960" y="43275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828880" y="43912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863800" y="44546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98720" y="39499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33640" y="344196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967120" y="34689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002040" y="34941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036960" y="35197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071880" y="35449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106800" y="35719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141720" y="353700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174840" y="35006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209760" y="346896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244680" y="34322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79600" y="386568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314880" y="4300560"/>
              <a:ext cx="8856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352680" y="424836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386160" y="4199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421080" y="41468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456000" y="40975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490920" y="40482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525840" y="39974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60760" y="406584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594240" y="41324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29160" y="42004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64080" y="42688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99000" y="41878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33920" y="410544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67040" y="402300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01960" y="394020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6880" y="404676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871800" y="41515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906720" y="412452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941640" y="40928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975120" y="40658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010040" y="4037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44960" y="400680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079880" y="39783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4800" y="394992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39196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83200" y="38084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18120" y="369900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55920" y="36370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290840" y="35737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325760" y="35132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361040" y="3451320"/>
              <a:ext cx="8856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394160" y="33912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429080" y="35816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464000" y="37735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498920" y="36277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533840" y="348480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567320" y="33386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02240" y="30798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37160" y="28227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672080" y="28926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707000" y="29606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741920" y="303048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775040" y="30704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809960" y="311148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844880" y="320544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879800" y="329724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15080" y="2946600"/>
              <a:ext cx="8856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48200" y="25956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983120" y="2243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018040" y="23259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052960" y="240840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087880" y="24908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122800" y="24415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56280" y="23925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94440" y="23432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9360" y="22924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64280" y="2243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99200" y="25164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334120" y="27860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67240" y="30592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402160" y="333216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37080" y="360216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472000" y="363564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506920" y="36655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41840" y="369900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575320" y="37292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610240" y="37688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645160" y="38070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680080" y="38433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388476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48480" y="388008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83400" y="3875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818320" y="38703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853240" y="38656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888160" y="386100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923080" y="385632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956200" y="384660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991120" y="383544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026040" y="382608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060960" y="37594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99120" y="36910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34040" y="37004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67520" y="3710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02440" y="37213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37360" y="37306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72280" y="37404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503880" y="1371600"/>
              <a:ext cx="317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-BOND SPREAD X ELECTION POLL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837160" y="17337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728080" y="1676520"/>
              <a:ext cx="466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Opposition votes as a proportion of government vo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1400" y="5691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8400" y="4935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31720" y="4178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31720" y="3424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1720" y="26672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1720" y="1911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rot="16200000">
              <a:off x="736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/0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16200000">
              <a:off x="979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16200000">
              <a:off x="12254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6200000">
              <a:off x="14666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rot="16200000">
              <a:off x="1712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5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rot="16200000">
              <a:off x="19573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rot="16200000">
              <a:off x="2203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6200000">
              <a:off x="24447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16200000">
              <a:off x="26877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16200000">
              <a:off x="29304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rot="16200000">
              <a:off x="31766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16200000">
              <a:off x="34178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rot="16200000">
              <a:off x="36608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16200000">
              <a:off x="39034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9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rot="16200000">
              <a:off x="41497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16200000">
              <a:off x="43927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rot="16200000">
              <a:off x="46339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rot="16200000">
              <a:off x="48798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rot="16200000">
              <a:off x="51228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rot="16200000">
              <a:off x="53640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16200000">
              <a:off x="5605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6200000">
              <a:off x="58532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6200000">
              <a:off x="6095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16200000">
              <a:off x="6338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16200000">
              <a:off x="6580080" y="602568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6200000">
              <a:off x="682632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16200000">
              <a:off x="7068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16200000">
              <a:off x="7311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7554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/1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rot="16200000">
              <a:off x="779940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/1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rot="16200000">
              <a:off x="804240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3/01/20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505360" y="570240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504640" y="51627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504640" y="462132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504640" y="40816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504640" y="35434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504640" y="30038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504640" y="246240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504640" y="19227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400800" y="5105520"/>
              <a:ext cx="2092320" cy="29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843600" y="5227920"/>
              <a:ext cx="517680" cy="1440"/>
            </a:xfrm>
            <a:prstGeom prst="line">
              <a:avLst/>
            </a:prstGeom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392240" y="5181840"/>
              <a:ext cx="288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C-bo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12288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27640" y="5499360"/>
              <a:ext cx="3348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33096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43428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53904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642000" y="5499360"/>
              <a:ext cx="1116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629400" y="5334120"/>
              <a:ext cx="82440" cy="5544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26" y="0"/>
                  </a:moveTo>
                  <a:lnTo>
                    <a:pt x="52" y="17"/>
                  </a:lnTo>
                  <a:lnTo>
                    <a:pt x="26" y="35"/>
                  </a:lnTo>
                  <a:lnTo>
                    <a:pt x="0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34960" y="5299200"/>
              <a:ext cx="928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Opposition/Governm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5062680" y="2800440"/>
              <a:ext cx="136440" cy="2245680"/>
              <a:chOff x="5062680" y="2800440"/>
              <a:chExt cx="136440" cy="2245680"/>
            </a:xfrm>
          </p:grpSpPr>
          <p:sp>
            <p:nvSpPr>
              <p:cNvPr id="1299" name=""/>
              <p:cNvSpPr/>
              <p:nvPr/>
            </p:nvSpPr>
            <p:spPr>
              <a:xfrm flipV="1">
                <a:off x="5129280" y="2887200"/>
                <a:ext cx="1080" cy="2158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062680" y="2800440"/>
                <a:ext cx="136440" cy="93600"/>
              </a:xfrm>
              <a:custGeom>
                <a:avLst/>
                <a:gdLst/>
                <a:ahLst/>
                <a:rect l="l" t="t" r="r" b="b"/>
                <a:pathLst>
                  <a:path w="86" h="59">
                    <a:moveTo>
                      <a:pt x="86" y="59"/>
                    </a:moveTo>
                    <a:lnTo>
                      <a:pt x="44" y="0"/>
                    </a:lnTo>
                    <a:lnTo>
                      <a:pt x="0" y="59"/>
                    </a:lnTo>
                    <a:lnTo>
                      <a:pt x="86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"/>
            <p:cNvSpPr/>
            <p:nvPr/>
          </p:nvSpPr>
          <p:spPr>
            <a:xfrm>
              <a:off x="4660920" y="5050080"/>
              <a:ext cx="9493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25600" y="4953240"/>
              <a:ext cx="98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Presidenti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719240" y="5181840"/>
              <a:ext cx="147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andidates Agre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642560" y="5410440"/>
              <a:ext cx="156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on IMF programm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2309760" y="4713480"/>
              <a:ext cx="135000" cy="483840"/>
              <a:chOff x="2309760" y="4713480"/>
              <a:chExt cx="135000" cy="483840"/>
            </a:xfrm>
          </p:grpSpPr>
          <p:sp>
            <p:nvSpPr>
              <p:cNvPr id="1306" name=""/>
              <p:cNvSpPr/>
              <p:nvPr/>
            </p:nvSpPr>
            <p:spPr>
              <a:xfrm flipV="1">
                <a:off x="2368440" y="4797360"/>
                <a:ext cx="6480" cy="3999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309760" y="4713480"/>
                <a:ext cx="135000" cy="92160"/>
              </a:xfrm>
              <a:custGeom>
                <a:avLst/>
                <a:gdLst/>
                <a:ahLst/>
                <a:rect l="l" t="t" r="r" b="b"/>
                <a:pathLst>
                  <a:path w="85" h="58">
                    <a:moveTo>
                      <a:pt x="85" y="58"/>
                    </a:moveTo>
                    <a:lnTo>
                      <a:pt x="41" y="0"/>
                    </a:lnTo>
                    <a:lnTo>
                      <a:pt x="0" y="58"/>
                    </a:lnTo>
                    <a:lnTo>
                      <a:pt x="85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8" name=""/>
            <p:cNvSpPr/>
            <p:nvPr/>
          </p:nvSpPr>
          <p:spPr>
            <a:xfrm>
              <a:off x="2049480" y="5208840"/>
              <a:ext cx="7207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35760" y="5029200"/>
              <a:ext cx="73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seana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512080" y="5257800"/>
              <a:ext cx="61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rne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188080" y="5402520"/>
              <a:ext cx="303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Abandons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513520" y="548640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3" name=""/>
            <p:cNvGrpSpPr/>
            <p:nvPr/>
          </p:nvGrpSpPr>
          <p:grpSpPr>
            <a:xfrm>
              <a:off x="6837480" y="2989440"/>
              <a:ext cx="135000" cy="709200"/>
              <a:chOff x="6837480" y="2989440"/>
              <a:chExt cx="135000" cy="709200"/>
            </a:xfrm>
          </p:grpSpPr>
          <p:sp>
            <p:nvSpPr>
              <p:cNvPr id="1314" name=""/>
              <p:cNvSpPr/>
              <p:nvPr/>
            </p:nvSpPr>
            <p:spPr>
              <a:xfrm flipV="1">
                <a:off x="6902640" y="3075120"/>
                <a:ext cx="1800" cy="6235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837480" y="298944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85" y="59"/>
                    </a:moveTo>
                    <a:lnTo>
                      <a:pt x="43" y="0"/>
                    </a:lnTo>
                    <a:lnTo>
                      <a:pt x="0" y="59"/>
                    </a:lnTo>
                    <a:lnTo>
                      <a:pt x="85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6" name=""/>
            <p:cNvSpPr/>
            <p:nvPr/>
          </p:nvSpPr>
          <p:spPr>
            <a:xfrm>
              <a:off x="6611760" y="3699000"/>
              <a:ext cx="65736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94560" y="371340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nd Rou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779160" y="3962520"/>
              <a:ext cx="72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le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6354720" y="2800440"/>
              <a:ext cx="135000" cy="1360080"/>
              <a:chOff x="6354720" y="2800440"/>
              <a:chExt cx="135000" cy="1360080"/>
            </a:xfrm>
          </p:grpSpPr>
          <p:sp>
            <p:nvSpPr>
              <p:cNvPr id="1320" name=""/>
              <p:cNvSpPr/>
              <p:nvPr/>
            </p:nvSpPr>
            <p:spPr>
              <a:xfrm flipV="1">
                <a:off x="6421320" y="2887200"/>
                <a:ext cx="1440" cy="1273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54720" y="280044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85" y="59"/>
                    </a:moveTo>
                    <a:lnTo>
                      <a:pt x="42" y="0"/>
                    </a:lnTo>
                    <a:lnTo>
                      <a:pt x="0" y="59"/>
                    </a:lnTo>
                    <a:lnTo>
                      <a:pt x="85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6202440" y="4232520"/>
              <a:ext cx="973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556600" y="4267440"/>
              <a:ext cx="155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st Round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le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923760" y="6367680"/>
              <a:ext cx="9972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750680" y="63691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7" name=""/>
          <p:cNvGraphicFramePr/>
          <p:nvPr/>
        </p:nvGraphicFramePr>
        <p:xfrm>
          <a:off x="152280" y="114480"/>
          <a:ext cx="8839440" cy="662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480"/>
                    <a:ext cx="883944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utloo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verview on Brazil: developments and the disinfl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(IT) in Emerging Market Economie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EM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in Braz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halleng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roman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rnal Sh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roman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inflation and Fiscal Domi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4575600" y="533520"/>
            <a:ext cx="4563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GDP and Sudden S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73916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81844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78540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00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95872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11288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817956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49240" y="3373560"/>
            <a:ext cx="370080" cy="1317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838160" y="3373560"/>
            <a:ext cx="408240" cy="235080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825640" y="3373560"/>
            <a:ext cx="392400" cy="231588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797280" y="3373560"/>
            <a:ext cx="409680" cy="224784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937040" y="3373560"/>
            <a:ext cx="409680" cy="15843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002280" y="3373560"/>
            <a:ext cx="407880" cy="143028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989760" y="3373560"/>
            <a:ext cx="392040" cy="13287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961400" y="3373560"/>
            <a:ext cx="409320" cy="105552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62120" y="3373560"/>
            <a:ext cx="7870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3988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0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746360" y="57754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17640" y="57754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06920" y="57070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903920" y="50418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7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969160" y="48895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6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939000" y="47862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6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927920" y="451476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4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00200" y="1952640"/>
            <a:ext cx="6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406160" y="1952640"/>
            <a:ext cx="106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536920" y="1952640"/>
            <a:ext cx="92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rugu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603960" y="1952640"/>
            <a:ext cx="94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648680" y="198108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lay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650920" y="1952640"/>
            <a:ext cx="136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th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86600" y="1952640"/>
            <a:ext cx="77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éx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8013600" y="1952640"/>
            <a:ext cx="74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8192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63368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4" name=""/>
          <p:cNvGraphicFramePr/>
          <p:nvPr/>
        </p:nvGraphicFramePr>
        <p:xfrm>
          <a:off x="152280" y="304920"/>
          <a:ext cx="8839440" cy="642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883944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3631680" y="231840"/>
            <a:ext cx="5441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change Rate and Inf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3048120" y="761040"/>
            <a:ext cx="6095880" cy="7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f01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23880" y="4197240"/>
            <a:ext cx="8115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23960" y="3292560"/>
            <a:ext cx="196920" cy="195120"/>
          </a:xfrm>
          <a:custGeom>
            <a:avLst/>
            <a:gdLst/>
            <a:ahLst/>
            <a:rect l="l" t="t" r="r" b="b"/>
            <a:pathLst>
              <a:path w="124" h="123">
                <a:moveTo>
                  <a:pt x="0" y="123"/>
                </a:moveTo>
                <a:lnTo>
                  <a:pt x="7" y="114"/>
                </a:lnTo>
                <a:lnTo>
                  <a:pt x="16" y="105"/>
                </a:lnTo>
                <a:lnTo>
                  <a:pt x="31" y="82"/>
                </a:lnTo>
                <a:lnTo>
                  <a:pt x="47" y="58"/>
                </a:lnTo>
                <a:lnTo>
                  <a:pt x="61" y="35"/>
                </a:lnTo>
                <a:lnTo>
                  <a:pt x="70" y="25"/>
                </a:lnTo>
                <a:lnTo>
                  <a:pt x="77" y="14"/>
                </a:lnTo>
                <a:lnTo>
                  <a:pt x="86" y="7"/>
                </a:lnTo>
                <a:lnTo>
                  <a:pt x="93" y="2"/>
                </a:lnTo>
                <a:lnTo>
                  <a:pt x="101" y="0"/>
                </a:lnTo>
                <a:lnTo>
                  <a:pt x="108" y="0"/>
                </a:lnTo>
                <a:lnTo>
                  <a:pt x="117" y="4"/>
                </a:lnTo>
                <a:lnTo>
                  <a:pt x="124" y="1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920880" y="3309840"/>
            <a:ext cx="196560" cy="639720"/>
          </a:xfrm>
          <a:custGeom>
            <a:avLst/>
            <a:gdLst/>
            <a:ahLst/>
            <a:rect l="l" t="t" r="r" b="b"/>
            <a:pathLst>
              <a:path w="124" h="403">
                <a:moveTo>
                  <a:pt x="0" y="0"/>
                </a:moveTo>
                <a:lnTo>
                  <a:pt x="7" y="10"/>
                </a:lnTo>
                <a:lnTo>
                  <a:pt x="16" y="26"/>
                </a:lnTo>
                <a:lnTo>
                  <a:pt x="23" y="45"/>
                </a:lnTo>
                <a:lnTo>
                  <a:pt x="31" y="66"/>
                </a:lnTo>
                <a:lnTo>
                  <a:pt x="38" y="91"/>
                </a:lnTo>
                <a:lnTo>
                  <a:pt x="47" y="117"/>
                </a:lnTo>
                <a:lnTo>
                  <a:pt x="54" y="145"/>
                </a:lnTo>
                <a:lnTo>
                  <a:pt x="61" y="174"/>
                </a:lnTo>
                <a:lnTo>
                  <a:pt x="77" y="234"/>
                </a:lnTo>
                <a:lnTo>
                  <a:pt x="93" y="295"/>
                </a:lnTo>
                <a:lnTo>
                  <a:pt x="101" y="325"/>
                </a:lnTo>
                <a:lnTo>
                  <a:pt x="108" y="353"/>
                </a:lnTo>
                <a:lnTo>
                  <a:pt x="117" y="379"/>
                </a:lnTo>
                <a:lnTo>
                  <a:pt x="124" y="403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117440" y="3949560"/>
            <a:ext cx="200160" cy="525600"/>
          </a:xfrm>
          <a:custGeom>
            <a:avLst/>
            <a:gdLst/>
            <a:ahLst/>
            <a:rect l="l" t="t" r="r" b="b"/>
            <a:pathLst>
              <a:path w="126" h="331">
                <a:moveTo>
                  <a:pt x="0" y="0"/>
                </a:moveTo>
                <a:lnTo>
                  <a:pt x="16" y="46"/>
                </a:lnTo>
                <a:lnTo>
                  <a:pt x="32" y="88"/>
                </a:lnTo>
                <a:lnTo>
                  <a:pt x="47" y="130"/>
                </a:lnTo>
                <a:lnTo>
                  <a:pt x="63" y="170"/>
                </a:lnTo>
                <a:lnTo>
                  <a:pt x="95" y="250"/>
                </a:lnTo>
                <a:lnTo>
                  <a:pt x="126" y="33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317600" y="4475160"/>
            <a:ext cx="196920" cy="519120"/>
          </a:xfrm>
          <a:custGeom>
            <a:avLst/>
            <a:gdLst/>
            <a:ahLst/>
            <a:rect l="l" t="t" r="r" b="b"/>
            <a:pathLst>
              <a:path w="124" h="327">
                <a:moveTo>
                  <a:pt x="0" y="0"/>
                </a:moveTo>
                <a:lnTo>
                  <a:pt x="7" y="21"/>
                </a:lnTo>
                <a:lnTo>
                  <a:pt x="16" y="43"/>
                </a:lnTo>
                <a:lnTo>
                  <a:pt x="31" y="91"/>
                </a:lnTo>
                <a:lnTo>
                  <a:pt x="47" y="138"/>
                </a:lnTo>
                <a:lnTo>
                  <a:pt x="63" y="185"/>
                </a:lnTo>
                <a:lnTo>
                  <a:pt x="77" y="230"/>
                </a:lnTo>
                <a:lnTo>
                  <a:pt x="86" y="250"/>
                </a:lnTo>
                <a:lnTo>
                  <a:pt x="93" y="269"/>
                </a:lnTo>
                <a:lnTo>
                  <a:pt x="101" y="286"/>
                </a:lnTo>
                <a:lnTo>
                  <a:pt x="108" y="302"/>
                </a:lnTo>
                <a:lnTo>
                  <a:pt x="117" y="316"/>
                </a:lnTo>
                <a:lnTo>
                  <a:pt x="124" y="327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514520" y="4954680"/>
            <a:ext cx="196920" cy="73080"/>
          </a:xfrm>
          <a:custGeom>
            <a:avLst/>
            <a:gdLst/>
            <a:ahLst/>
            <a:rect l="l" t="t" r="r" b="b"/>
            <a:pathLst>
              <a:path w="124" h="46">
                <a:moveTo>
                  <a:pt x="0" y="25"/>
                </a:moveTo>
                <a:lnTo>
                  <a:pt x="7" y="33"/>
                </a:lnTo>
                <a:lnTo>
                  <a:pt x="16" y="39"/>
                </a:lnTo>
                <a:lnTo>
                  <a:pt x="23" y="42"/>
                </a:lnTo>
                <a:lnTo>
                  <a:pt x="32" y="46"/>
                </a:lnTo>
                <a:lnTo>
                  <a:pt x="39" y="46"/>
                </a:lnTo>
                <a:lnTo>
                  <a:pt x="46" y="46"/>
                </a:lnTo>
                <a:lnTo>
                  <a:pt x="61" y="42"/>
                </a:lnTo>
                <a:lnTo>
                  <a:pt x="77" y="33"/>
                </a:lnTo>
                <a:lnTo>
                  <a:pt x="93" y="23"/>
                </a:lnTo>
                <a:lnTo>
                  <a:pt x="108" y="1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711440" y="4716360"/>
            <a:ext cx="199800" cy="238320"/>
          </a:xfrm>
          <a:custGeom>
            <a:avLst/>
            <a:gdLst/>
            <a:ahLst/>
            <a:rect l="l" t="t" r="r" b="b"/>
            <a:pathLst>
              <a:path w="126" h="150">
                <a:moveTo>
                  <a:pt x="0" y="150"/>
                </a:moveTo>
                <a:lnTo>
                  <a:pt x="16" y="138"/>
                </a:lnTo>
                <a:lnTo>
                  <a:pt x="32" y="122"/>
                </a:lnTo>
                <a:lnTo>
                  <a:pt x="47" y="106"/>
                </a:lnTo>
                <a:lnTo>
                  <a:pt x="63" y="87"/>
                </a:lnTo>
                <a:lnTo>
                  <a:pt x="79" y="66"/>
                </a:lnTo>
                <a:lnTo>
                  <a:pt x="95" y="4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911240" y="4383000"/>
            <a:ext cx="196920" cy="333360"/>
          </a:xfrm>
          <a:custGeom>
            <a:avLst/>
            <a:gdLst/>
            <a:ahLst/>
            <a:rect l="l" t="t" r="r" b="b"/>
            <a:pathLst>
              <a:path w="124" h="210">
                <a:moveTo>
                  <a:pt x="0" y="210"/>
                </a:moveTo>
                <a:lnTo>
                  <a:pt x="31" y="164"/>
                </a:lnTo>
                <a:lnTo>
                  <a:pt x="63" y="114"/>
                </a:lnTo>
                <a:lnTo>
                  <a:pt x="77" y="87"/>
                </a:lnTo>
                <a:lnTo>
                  <a:pt x="93" y="59"/>
                </a:lnTo>
                <a:lnTo>
                  <a:pt x="108" y="3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108160" y="3916440"/>
            <a:ext cx="196920" cy="466560"/>
          </a:xfrm>
          <a:custGeom>
            <a:avLst/>
            <a:gdLst/>
            <a:ahLst/>
            <a:rect l="l" t="t" r="r" b="b"/>
            <a:pathLst>
              <a:path w="124" h="294">
                <a:moveTo>
                  <a:pt x="0" y="294"/>
                </a:moveTo>
                <a:lnTo>
                  <a:pt x="7" y="278"/>
                </a:lnTo>
                <a:lnTo>
                  <a:pt x="16" y="259"/>
                </a:lnTo>
                <a:lnTo>
                  <a:pt x="32" y="221"/>
                </a:lnTo>
                <a:lnTo>
                  <a:pt x="47" y="179"/>
                </a:lnTo>
                <a:lnTo>
                  <a:pt x="61" y="137"/>
                </a:lnTo>
                <a:lnTo>
                  <a:pt x="77" y="97"/>
                </a:lnTo>
                <a:lnTo>
                  <a:pt x="93" y="58"/>
                </a:lnTo>
                <a:lnTo>
                  <a:pt x="101" y="42"/>
                </a:lnTo>
                <a:lnTo>
                  <a:pt x="108" y="27"/>
                </a:lnTo>
                <a:lnTo>
                  <a:pt x="117" y="13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305080" y="3830760"/>
            <a:ext cx="200160" cy="85680"/>
          </a:xfrm>
          <a:custGeom>
            <a:avLst/>
            <a:gdLst/>
            <a:ahLst/>
            <a:rect l="l" t="t" r="r" b="b"/>
            <a:pathLst>
              <a:path w="126" h="54">
                <a:moveTo>
                  <a:pt x="0" y="54"/>
                </a:moveTo>
                <a:lnTo>
                  <a:pt x="16" y="37"/>
                </a:lnTo>
                <a:lnTo>
                  <a:pt x="32" y="21"/>
                </a:lnTo>
                <a:lnTo>
                  <a:pt x="47" y="12"/>
                </a:lnTo>
                <a:lnTo>
                  <a:pt x="63" y="5"/>
                </a:lnTo>
                <a:lnTo>
                  <a:pt x="79" y="2"/>
                </a:lnTo>
                <a:lnTo>
                  <a:pt x="95" y="0"/>
                </a:lnTo>
                <a:lnTo>
                  <a:pt x="110" y="2"/>
                </a:lnTo>
                <a:lnTo>
                  <a:pt x="126" y="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05240" y="3838680"/>
            <a:ext cx="196560" cy="199800"/>
          </a:xfrm>
          <a:custGeom>
            <a:avLst/>
            <a:gdLst/>
            <a:ahLst/>
            <a:rect l="l" t="t" r="r" b="b"/>
            <a:pathLst>
              <a:path w="124" h="126">
                <a:moveTo>
                  <a:pt x="0" y="0"/>
                </a:moveTo>
                <a:lnTo>
                  <a:pt x="16" y="7"/>
                </a:lnTo>
                <a:lnTo>
                  <a:pt x="32" y="18"/>
                </a:lnTo>
                <a:lnTo>
                  <a:pt x="47" y="34"/>
                </a:lnTo>
                <a:lnTo>
                  <a:pt x="63" y="49"/>
                </a:lnTo>
                <a:lnTo>
                  <a:pt x="77" y="69"/>
                </a:lnTo>
                <a:lnTo>
                  <a:pt x="93" y="88"/>
                </a:lnTo>
                <a:lnTo>
                  <a:pt x="108" y="107"/>
                </a:lnTo>
                <a:lnTo>
                  <a:pt x="124" y="12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701800" y="4038480"/>
            <a:ext cx="196920" cy="255600"/>
          </a:xfrm>
          <a:custGeom>
            <a:avLst/>
            <a:gdLst/>
            <a:ahLst/>
            <a:rect l="l" t="t" r="r" b="b"/>
            <a:pathLst>
              <a:path w="124" h="161">
                <a:moveTo>
                  <a:pt x="0" y="0"/>
                </a:moveTo>
                <a:lnTo>
                  <a:pt x="7" y="11"/>
                </a:lnTo>
                <a:lnTo>
                  <a:pt x="16" y="21"/>
                </a:lnTo>
                <a:lnTo>
                  <a:pt x="32" y="46"/>
                </a:lnTo>
                <a:lnTo>
                  <a:pt x="47" y="72"/>
                </a:lnTo>
                <a:lnTo>
                  <a:pt x="61" y="98"/>
                </a:lnTo>
                <a:lnTo>
                  <a:pt x="77" y="123"/>
                </a:lnTo>
                <a:lnTo>
                  <a:pt x="86" y="133"/>
                </a:lnTo>
                <a:lnTo>
                  <a:pt x="93" y="144"/>
                </a:lnTo>
                <a:lnTo>
                  <a:pt x="102" y="151"/>
                </a:lnTo>
                <a:lnTo>
                  <a:pt x="109" y="156"/>
                </a:lnTo>
                <a:lnTo>
                  <a:pt x="117" y="159"/>
                </a:lnTo>
                <a:lnTo>
                  <a:pt x="124" y="16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898720" y="4037040"/>
            <a:ext cx="200160" cy="257040"/>
          </a:xfrm>
          <a:custGeom>
            <a:avLst/>
            <a:gdLst/>
            <a:ahLst/>
            <a:rect l="l" t="t" r="r" b="b"/>
            <a:pathLst>
              <a:path w="126" h="162">
                <a:moveTo>
                  <a:pt x="0" y="162"/>
                </a:moveTo>
                <a:lnTo>
                  <a:pt x="7" y="160"/>
                </a:lnTo>
                <a:lnTo>
                  <a:pt x="16" y="157"/>
                </a:lnTo>
                <a:lnTo>
                  <a:pt x="23" y="152"/>
                </a:lnTo>
                <a:lnTo>
                  <a:pt x="32" y="145"/>
                </a:lnTo>
                <a:lnTo>
                  <a:pt x="39" y="136"/>
                </a:lnTo>
                <a:lnTo>
                  <a:pt x="47" y="125"/>
                </a:lnTo>
                <a:lnTo>
                  <a:pt x="63" y="101"/>
                </a:lnTo>
                <a:lnTo>
                  <a:pt x="79" y="75"/>
                </a:lnTo>
                <a:lnTo>
                  <a:pt x="95" y="49"/>
                </a:lnTo>
                <a:lnTo>
                  <a:pt x="110" y="22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098880" y="3767040"/>
            <a:ext cx="196920" cy="270000"/>
          </a:xfrm>
          <a:custGeom>
            <a:avLst/>
            <a:gdLst/>
            <a:ahLst/>
            <a:rect l="l" t="t" r="r" b="b"/>
            <a:pathLst>
              <a:path w="124" h="170">
                <a:moveTo>
                  <a:pt x="0" y="170"/>
                </a:moveTo>
                <a:lnTo>
                  <a:pt x="63" y="86"/>
                </a:lnTo>
                <a:lnTo>
                  <a:pt x="93" y="44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295800" y="3473280"/>
            <a:ext cx="196560" cy="293760"/>
          </a:xfrm>
          <a:custGeom>
            <a:avLst/>
            <a:gdLst/>
            <a:ahLst/>
            <a:rect l="l" t="t" r="r" b="b"/>
            <a:pathLst>
              <a:path w="124" h="185">
                <a:moveTo>
                  <a:pt x="0" y="185"/>
                </a:moveTo>
                <a:lnTo>
                  <a:pt x="16" y="161"/>
                </a:lnTo>
                <a:lnTo>
                  <a:pt x="32" y="134"/>
                </a:lnTo>
                <a:lnTo>
                  <a:pt x="47" y="106"/>
                </a:lnTo>
                <a:lnTo>
                  <a:pt x="61" y="78"/>
                </a:lnTo>
                <a:lnTo>
                  <a:pt x="77" y="52"/>
                </a:lnTo>
                <a:lnTo>
                  <a:pt x="93" y="30"/>
                </a:lnTo>
                <a:lnTo>
                  <a:pt x="102" y="19"/>
                </a:lnTo>
                <a:lnTo>
                  <a:pt x="109" y="12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492360" y="3465360"/>
            <a:ext cx="200160" cy="96840"/>
          </a:xfrm>
          <a:custGeom>
            <a:avLst/>
            <a:gdLst/>
            <a:ahLst/>
            <a:rect l="l" t="t" r="r" b="b"/>
            <a:pathLst>
              <a:path w="126" h="61">
                <a:moveTo>
                  <a:pt x="0" y="5"/>
                </a:moveTo>
                <a:lnTo>
                  <a:pt x="7" y="1"/>
                </a:lnTo>
                <a:lnTo>
                  <a:pt x="16" y="0"/>
                </a:lnTo>
                <a:lnTo>
                  <a:pt x="32" y="0"/>
                </a:lnTo>
                <a:lnTo>
                  <a:pt x="47" y="3"/>
                </a:lnTo>
                <a:lnTo>
                  <a:pt x="63" y="12"/>
                </a:lnTo>
                <a:lnTo>
                  <a:pt x="79" y="21"/>
                </a:lnTo>
                <a:lnTo>
                  <a:pt x="95" y="33"/>
                </a:lnTo>
                <a:lnTo>
                  <a:pt x="126" y="6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692520" y="3562200"/>
            <a:ext cx="196920" cy="260640"/>
          </a:xfrm>
          <a:custGeom>
            <a:avLst/>
            <a:gdLst/>
            <a:ahLst/>
            <a:rect l="l" t="t" r="r" b="b"/>
            <a:pathLst>
              <a:path w="124" h="164">
                <a:moveTo>
                  <a:pt x="0" y="0"/>
                </a:moveTo>
                <a:lnTo>
                  <a:pt x="16" y="15"/>
                </a:lnTo>
                <a:lnTo>
                  <a:pt x="32" y="35"/>
                </a:lnTo>
                <a:lnTo>
                  <a:pt x="47" y="57"/>
                </a:lnTo>
                <a:lnTo>
                  <a:pt x="63" y="80"/>
                </a:lnTo>
                <a:lnTo>
                  <a:pt x="77" y="105"/>
                </a:lnTo>
                <a:lnTo>
                  <a:pt x="93" y="127"/>
                </a:lnTo>
                <a:lnTo>
                  <a:pt x="108" y="147"/>
                </a:lnTo>
                <a:lnTo>
                  <a:pt x="124" y="16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889440" y="3822840"/>
            <a:ext cx="196920" cy="122040"/>
          </a:xfrm>
          <a:custGeom>
            <a:avLst/>
            <a:gdLst/>
            <a:ahLst/>
            <a:rect l="l" t="t" r="r" b="b"/>
            <a:pathLst>
              <a:path w="124" h="77">
                <a:moveTo>
                  <a:pt x="0" y="0"/>
                </a:moveTo>
                <a:lnTo>
                  <a:pt x="16" y="16"/>
                </a:lnTo>
                <a:lnTo>
                  <a:pt x="32" y="31"/>
                </a:lnTo>
                <a:lnTo>
                  <a:pt x="47" y="47"/>
                </a:lnTo>
                <a:lnTo>
                  <a:pt x="61" y="59"/>
                </a:lnTo>
                <a:lnTo>
                  <a:pt x="77" y="70"/>
                </a:lnTo>
                <a:lnTo>
                  <a:pt x="86" y="73"/>
                </a:lnTo>
                <a:lnTo>
                  <a:pt x="93" y="77"/>
                </a:lnTo>
                <a:lnTo>
                  <a:pt x="102" y="77"/>
                </a:lnTo>
                <a:lnTo>
                  <a:pt x="109" y="77"/>
                </a:lnTo>
                <a:lnTo>
                  <a:pt x="117" y="75"/>
                </a:lnTo>
                <a:lnTo>
                  <a:pt x="124" y="72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086360" y="3592440"/>
            <a:ext cx="199800" cy="344520"/>
          </a:xfrm>
          <a:custGeom>
            <a:avLst/>
            <a:gdLst/>
            <a:ahLst/>
            <a:rect l="l" t="t" r="r" b="b"/>
            <a:pathLst>
              <a:path w="126" h="217">
                <a:moveTo>
                  <a:pt x="0" y="217"/>
                </a:moveTo>
                <a:lnTo>
                  <a:pt x="7" y="211"/>
                </a:lnTo>
                <a:lnTo>
                  <a:pt x="16" y="204"/>
                </a:lnTo>
                <a:lnTo>
                  <a:pt x="23" y="196"/>
                </a:lnTo>
                <a:lnTo>
                  <a:pt x="32" y="185"/>
                </a:lnTo>
                <a:lnTo>
                  <a:pt x="48" y="162"/>
                </a:lnTo>
                <a:lnTo>
                  <a:pt x="63" y="135"/>
                </a:lnTo>
                <a:lnTo>
                  <a:pt x="79" y="103"/>
                </a:lnTo>
                <a:lnTo>
                  <a:pt x="95" y="70"/>
                </a:lnTo>
                <a:lnTo>
                  <a:pt x="110" y="3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86160" y="3048120"/>
            <a:ext cx="196920" cy="544320"/>
          </a:xfrm>
          <a:custGeom>
            <a:avLst/>
            <a:gdLst/>
            <a:ahLst/>
            <a:rect l="l" t="t" r="r" b="b"/>
            <a:pathLst>
              <a:path w="124" h="343">
                <a:moveTo>
                  <a:pt x="0" y="343"/>
                </a:moveTo>
                <a:lnTo>
                  <a:pt x="7" y="325"/>
                </a:lnTo>
                <a:lnTo>
                  <a:pt x="16" y="305"/>
                </a:lnTo>
                <a:lnTo>
                  <a:pt x="32" y="263"/>
                </a:lnTo>
                <a:lnTo>
                  <a:pt x="47" y="215"/>
                </a:lnTo>
                <a:lnTo>
                  <a:pt x="61" y="168"/>
                </a:lnTo>
                <a:lnTo>
                  <a:pt x="77" y="121"/>
                </a:lnTo>
                <a:lnTo>
                  <a:pt x="93" y="76"/>
                </a:lnTo>
                <a:lnTo>
                  <a:pt x="102" y="55"/>
                </a:lnTo>
                <a:lnTo>
                  <a:pt x="109" y="35"/>
                </a:lnTo>
                <a:lnTo>
                  <a:pt x="117" y="1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483080" y="2805120"/>
            <a:ext cx="200160" cy="243000"/>
          </a:xfrm>
          <a:custGeom>
            <a:avLst/>
            <a:gdLst/>
            <a:ahLst/>
            <a:rect l="l" t="t" r="r" b="b"/>
            <a:pathLst>
              <a:path w="126" h="153">
                <a:moveTo>
                  <a:pt x="0" y="153"/>
                </a:moveTo>
                <a:lnTo>
                  <a:pt x="16" y="124"/>
                </a:lnTo>
                <a:lnTo>
                  <a:pt x="32" y="97"/>
                </a:lnTo>
                <a:lnTo>
                  <a:pt x="47" y="73"/>
                </a:lnTo>
                <a:lnTo>
                  <a:pt x="63" y="52"/>
                </a:lnTo>
                <a:lnTo>
                  <a:pt x="79" y="33"/>
                </a:lnTo>
                <a:lnTo>
                  <a:pt x="95" y="19"/>
                </a:lnTo>
                <a:lnTo>
                  <a:pt x="110" y="7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683240" y="2798640"/>
            <a:ext cx="196560" cy="103320"/>
          </a:xfrm>
          <a:custGeom>
            <a:avLst/>
            <a:gdLst/>
            <a:ahLst/>
            <a:rect l="l" t="t" r="r" b="b"/>
            <a:pathLst>
              <a:path w="124" h="65">
                <a:moveTo>
                  <a:pt x="0" y="4"/>
                </a:moveTo>
                <a:lnTo>
                  <a:pt x="7" y="2"/>
                </a:lnTo>
                <a:lnTo>
                  <a:pt x="16" y="0"/>
                </a:lnTo>
                <a:lnTo>
                  <a:pt x="23" y="2"/>
                </a:lnTo>
                <a:lnTo>
                  <a:pt x="32" y="4"/>
                </a:lnTo>
                <a:lnTo>
                  <a:pt x="47" y="11"/>
                </a:lnTo>
                <a:lnTo>
                  <a:pt x="63" y="19"/>
                </a:lnTo>
                <a:lnTo>
                  <a:pt x="77" y="32"/>
                </a:lnTo>
                <a:lnTo>
                  <a:pt x="93" y="44"/>
                </a:lnTo>
                <a:lnTo>
                  <a:pt x="108" y="54"/>
                </a:lnTo>
                <a:lnTo>
                  <a:pt x="124" y="6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879800" y="2901960"/>
            <a:ext cx="196920" cy="119160"/>
          </a:xfrm>
          <a:custGeom>
            <a:avLst/>
            <a:gdLst/>
            <a:ahLst/>
            <a:rect l="l" t="t" r="r" b="b"/>
            <a:pathLst>
              <a:path w="124" h="75">
                <a:moveTo>
                  <a:pt x="0" y="0"/>
                </a:moveTo>
                <a:lnTo>
                  <a:pt x="16" y="9"/>
                </a:lnTo>
                <a:lnTo>
                  <a:pt x="32" y="16"/>
                </a:lnTo>
                <a:lnTo>
                  <a:pt x="61" y="29"/>
                </a:lnTo>
                <a:lnTo>
                  <a:pt x="77" y="38"/>
                </a:lnTo>
                <a:lnTo>
                  <a:pt x="93" y="49"/>
                </a:lnTo>
                <a:lnTo>
                  <a:pt x="109" y="59"/>
                </a:lnTo>
                <a:lnTo>
                  <a:pt x="124" y="7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076720" y="3021120"/>
            <a:ext cx="200160" cy="299880"/>
          </a:xfrm>
          <a:custGeom>
            <a:avLst/>
            <a:gdLst/>
            <a:ahLst/>
            <a:rect l="l" t="t" r="r" b="b"/>
            <a:pathLst>
              <a:path w="126" h="189">
                <a:moveTo>
                  <a:pt x="0" y="0"/>
                </a:moveTo>
                <a:lnTo>
                  <a:pt x="7" y="9"/>
                </a:lnTo>
                <a:lnTo>
                  <a:pt x="16" y="21"/>
                </a:lnTo>
                <a:lnTo>
                  <a:pt x="23" y="33"/>
                </a:lnTo>
                <a:lnTo>
                  <a:pt x="32" y="47"/>
                </a:lnTo>
                <a:lnTo>
                  <a:pt x="47" y="79"/>
                </a:lnTo>
                <a:lnTo>
                  <a:pt x="63" y="110"/>
                </a:lnTo>
                <a:lnTo>
                  <a:pt x="79" y="140"/>
                </a:lnTo>
                <a:lnTo>
                  <a:pt x="88" y="154"/>
                </a:lnTo>
                <a:lnTo>
                  <a:pt x="95" y="166"/>
                </a:lnTo>
                <a:lnTo>
                  <a:pt x="103" y="175"/>
                </a:lnTo>
                <a:lnTo>
                  <a:pt x="110" y="182"/>
                </a:lnTo>
                <a:lnTo>
                  <a:pt x="119" y="187"/>
                </a:lnTo>
                <a:lnTo>
                  <a:pt x="126" y="189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276880" y="3021120"/>
            <a:ext cx="196920" cy="299880"/>
          </a:xfrm>
          <a:custGeom>
            <a:avLst/>
            <a:gdLst/>
            <a:ahLst/>
            <a:rect l="l" t="t" r="r" b="b"/>
            <a:pathLst>
              <a:path w="124" h="189">
                <a:moveTo>
                  <a:pt x="0" y="189"/>
                </a:moveTo>
                <a:lnTo>
                  <a:pt x="7" y="187"/>
                </a:lnTo>
                <a:lnTo>
                  <a:pt x="16" y="182"/>
                </a:lnTo>
                <a:lnTo>
                  <a:pt x="23" y="173"/>
                </a:lnTo>
                <a:lnTo>
                  <a:pt x="32" y="162"/>
                </a:lnTo>
                <a:lnTo>
                  <a:pt x="39" y="148"/>
                </a:lnTo>
                <a:lnTo>
                  <a:pt x="47" y="134"/>
                </a:lnTo>
                <a:lnTo>
                  <a:pt x="63" y="101"/>
                </a:lnTo>
                <a:lnTo>
                  <a:pt x="77" y="68"/>
                </a:lnTo>
                <a:lnTo>
                  <a:pt x="86" y="52"/>
                </a:lnTo>
                <a:lnTo>
                  <a:pt x="93" y="37"/>
                </a:lnTo>
                <a:lnTo>
                  <a:pt x="102" y="24"/>
                </a:lnTo>
                <a:lnTo>
                  <a:pt x="109" y="14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473800" y="3017880"/>
            <a:ext cx="196920" cy="129960"/>
          </a:xfrm>
          <a:custGeom>
            <a:avLst/>
            <a:gdLst/>
            <a:ahLst/>
            <a:rect l="l" t="t" r="r" b="b"/>
            <a:pathLst>
              <a:path w="124" h="82">
                <a:moveTo>
                  <a:pt x="0" y="2"/>
                </a:moveTo>
                <a:lnTo>
                  <a:pt x="12" y="0"/>
                </a:lnTo>
                <a:lnTo>
                  <a:pt x="26" y="0"/>
                </a:lnTo>
                <a:lnTo>
                  <a:pt x="44" y="4"/>
                </a:lnTo>
                <a:lnTo>
                  <a:pt x="61" y="12"/>
                </a:lnTo>
                <a:lnTo>
                  <a:pt x="81" y="23"/>
                </a:lnTo>
                <a:lnTo>
                  <a:pt x="98" y="39"/>
                </a:lnTo>
                <a:lnTo>
                  <a:pt x="112" y="58"/>
                </a:lnTo>
                <a:lnTo>
                  <a:pt x="124" y="82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670720" y="3147840"/>
            <a:ext cx="199800" cy="927360"/>
          </a:xfrm>
          <a:custGeom>
            <a:avLst/>
            <a:gdLst/>
            <a:ahLst/>
            <a:rect l="l" t="t" r="r" b="b"/>
            <a:pathLst>
              <a:path w="126" h="584">
                <a:moveTo>
                  <a:pt x="0" y="0"/>
                </a:moveTo>
                <a:lnTo>
                  <a:pt x="7" y="23"/>
                </a:lnTo>
                <a:lnTo>
                  <a:pt x="16" y="48"/>
                </a:lnTo>
                <a:lnTo>
                  <a:pt x="23" y="75"/>
                </a:lnTo>
                <a:lnTo>
                  <a:pt x="32" y="107"/>
                </a:lnTo>
                <a:lnTo>
                  <a:pt x="39" y="140"/>
                </a:lnTo>
                <a:lnTo>
                  <a:pt x="48" y="175"/>
                </a:lnTo>
                <a:lnTo>
                  <a:pt x="55" y="212"/>
                </a:lnTo>
                <a:lnTo>
                  <a:pt x="63" y="250"/>
                </a:lnTo>
                <a:lnTo>
                  <a:pt x="72" y="289"/>
                </a:lnTo>
                <a:lnTo>
                  <a:pt x="79" y="329"/>
                </a:lnTo>
                <a:lnTo>
                  <a:pt x="95" y="413"/>
                </a:lnTo>
                <a:lnTo>
                  <a:pt x="110" y="498"/>
                </a:lnTo>
                <a:lnTo>
                  <a:pt x="126" y="58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870520" y="4075200"/>
            <a:ext cx="196920" cy="1216080"/>
          </a:xfrm>
          <a:custGeom>
            <a:avLst/>
            <a:gdLst/>
            <a:ahLst/>
            <a:rect l="l" t="t" r="r" b="b"/>
            <a:pathLst>
              <a:path w="124" h="766">
                <a:moveTo>
                  <a:pt x="0" y="0"/>
                </a:moveTo>
                <a:lnTo>
                  <a:pt x="7" y="44"/>
                </a:lnTo>
                <a:lnTo>
                  <a:pt x="16" y="91"/>
                </a:lnTo>
                <a:lnTo>
                  <a:pt x="23" y="142"/>
                </a:lnTo>
                <a:lnTo>
                  <a:pt x="32" y="194"/>
                </a:lnTo>
                <a:lnTo>
                  <a:pt x="39" y="248"/>
                </a:lnTo>
                <a:lnTo>
                  <a:pt x="47" y="302"/>
                </a:lnTo>
                <a:lnTo>
                  <a:pt x="63" y="413"/>
                </a:lnTo>
                <a:lnTo>
                  <a:pt x="70" y="467"/>
                </a:lnTo>
                <a:lnTo>
                  <a:pt x="77" y="519"/>
                </a:lnTo>
                <a:lnTo>
                  <a:pt x="86" y="570"/>
                </a:lnTo>
                <a:lnTo>
                  <a:pt x="93" y="617"/>
                </a:lnTo>
                <a:lnTo>
                  <a:pt x="102" y="661"/>
                </a:lnTo>
                <a:lnTo>
                  <a:pt x="109" y="701"/>
                </a:lnTo>
                <a:lnTo>
                  <a:pt x="112" y="718"/>
                </a:lnTo>
                <a:lnTo>
                  <a:pt x="117" y="736"/>
                </a:lnTo>
                <a:lnTo>
                  <a:pt x="121" y="752"/>
                </a:lnTo>
                <a:lnTo>
                  <a:pt x="124" y="76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067440" y="5291280"/>
            <a:ext cx="196920" cy="171360"/>
          </a:xfrm>
          <a:custGeom>
            <a:avLst/>
            <a:gdLst/>
            <a:ahLst/>
            <a:rect l="l" t="t" r="r" b="b"/>
            <a:pathLst>
              <a:path w="124" h="108">
                <a:moveTo>
                  <a:pt x="0" y="0"/>
                </a:moveTo>
                <a:lnTo>
                  <a:pt x="6" y="14"/>
                </a:lnTo>
                <a:lnTo>
                  <a:pt x="11" y="28"/>
                </a:lnTo>
                <a:lnTo>
                  <a:pt x="27" y="52"/>
                </a:lnTo>
                <a:lnTo>
                  <a:pt x="44" y="73"/>
                </a:lnTo>
                <a:lnTo>
                  <a:pt x="61" y="90"/>
                </a:lnTo>
                <a:lnTo>
                  <a:pt x="72" y="97"/>
                </a:lnTo>
                <a:lnTo>
                  <a:pt x="81" y="103"/>
                </a:lnTo>
                <a:lnTo>
                  <a:pt x="89" y="106"/>
                </a:lnTo>
                <a:lnTo>
                  <a:pt x="98" y="108"/>
                </a:lnTo>
                <a:lnTo>
                  <a:pt x="107" y="108"/>
                </a:lnTo>
                <a:lnTo>
                  <a:pt x="114" y="106"/>
                </a:lnTo>
                <a:lnTo>
                  <a:pt x="119" y="103"/>
                </a:lnTo>
                <a:lnTo>
                  <a:pt x="124" y="97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264360" y="4657680"/>
            <a:ext cx="199800" cy="787320"/>
          </a:xfrm>
          <a:custGeom>
            <a:avLst/>
            <a:gdLst/>
            <a:ahLst/>
            <a:rect l="l" t="t" r="r" b="b"/>
            <a:pathLst>
              <a:path w="126" h="496">
                <a:moveTo>
                  <a:pt x="0" y="496"/>
                </a:moveTo>
                <a:lnTo>
                  <a:pt x="4" y="489"/>
                </a:lnTo>
                <a:lnTo>
                  <a:pt x="7" y="481"/>
                </a:lnTo>
                <a:lnTo>
                  <a:pt x="16" y="461"/>
                </a:lnTo>
                <a:lnTo>
                  <a:pt x="23" y="437"/>
                </a:lnTo>
                <a:lnTo>
                  <a:pt x="32" y="409"/>
                </a:lnTo>
                <a:lnTo>
                  <a:pt x="39" y="378"/>
                </a:lnTo>
                <a:lnTo>
                  <a:pt x="48" y="343"/>
                </a:lnTo>
                <a:lnTo>
                  <a:pt x="55" y="308"/>
                </a:lnTo>
                <a:lnTo>
                  <a:pt x="63" y="269"/>
                </a:lnTo>
                <a:lnTo>
                  <a:pt x="79" y="194"/>
                </a:lnTo>
                <a:lnTo>
                  <a:pt x="88" y="157"/>
                </a:lnTo>
                <a:lnTo>
                  <a:pt x="95" y="121"/>
                </a:lnTo>
                <a:lnTo>
                  <a:pt x="104" y="86"/>
                </a:lnTo>
                <a:lnTo>
                  <a:pt x="110" y="54"/>
                </a:lnTo>
                <a:lnTo>
                  <a:pt x="117" y="2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464160" y="4264200"/>
            <a:ext cx="196920" cy="393480"/>
          </a:xfrm>
          <a:custGeom>
            <a:avLst/>
            <a:gdLst/>
            <a:ahLst/>
            <a:rect l="l" t="t" r="r" b="b"/>
            <a:pathLst>
              <a:path w="124" h="248">
                <a:moveTo>
                  <a:pt x="0" y="248"/>
                </a:moveTo>
                <a:lnTo>
                  <a:pt x="16" y="203"/>
                </a:lnTo>
                <a:lnTo>
                  <a:pt x="32" y="161"/>
                </a:lnTo>
                <a:lnTo>
                  <a:pt x="47" y="122"/>
                </a:lnTo>
                <a:lnTo>
                  <a:pt x="63" y="87"/>
                </a:lnTo>
                <a:lnTo>
                  <a:pt x="70" y="72"/>
                </a:lnTo>
                <a:lnTo>
                  <a:pt x="77" y="56"/>
                </a:lnTo>
                <a:lnTo>
                  <a:pt x="86" y="44"/>
                </a:lnTo>
                <a:lnTo>
                  <a:pt x="93" y="31"/>
                </a:lnTo>
                <a:lnTo>
                  <a:pt x="102" y="21"/>
                </a:lnTo>
                <a:lnTo>
                  <a:pt x="109" y="12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661080" y="4260960"/>
            <a:ext cx="196920" cy="172800"/>
          </a:xfrm>
          <a:custGeom>
            <a:avLst/>
            <a:gdLst/>
            <a:ahLst/>
            <a:rect l="l" t="t" r="r" b="b"/>
            <a:pathLst>
              <a:path w="124" h="109">
                <a:moveTo>
                  <a:pt x="0" y="2"/>
                </a:moveTo>
                <a:lnTo>
                  <a:pt x="7" y="0"/>
                </a:lnTo>
                <a:lnTo>
                  <a:pt x="16" y="0"/>
                </a:lnTo>
                <a:lnTo>
                  <a:pt x="23" y="5"/>
                </a:lnTo>
                <a:lnTo>
                  <a:pt x="32" y="12"/>
                </a:lnTo>
                <a:lnTo>
                  <a:pt x="39" y="21"/>
                </a:lnTo>
                <a:lnTo>
                  <a:pt x="48" y="32"/>
                </a:lnTo>
                <a:lnTo>
                  <a:pt x="62" y="56"/>
                </a:lnTo>
                <a:lnTo>
                  <a:pt x="77" y="81"/>
                </a:lnTo>
                <a:lnTo>
                  <a:pt x="86" y="91"/>
                </a:lnTo>
                <a:lnTo>
                  <a:pt x="93" y="98"/>
                </a:lnTo>
                <a:lnTo>
                  <a:pt x="102" y="105"/>
                </a:lnTo>
                <a:lnTo>
                  <a:pt x="109" y="109"/>
                </a:lnTo>
                <a:lnTo>
                  <a:pt x="117" y="109"/>
                </a:lnTo>
                <a:lnTo>
                  <a:pt x="124" y="10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0" y="3960720"/>
            <a:ext cx="200160" cy="466920"/>
          </a:xfrm>
          <a:custGeom>
            <a:avLst/>
            <a:gdLst/>
            <a:ahLst/>
            <a:rect l="l" t="t" r="r" b="b"/>
            <a:pathLst>
              <a:path w="126" h="294">
                <a:moveTo>
                  <a:pt x="0" y="294"/>
                </a:moveTo>
                <a:lnTo>
                  <a:pt x="7" y="289"/>
                </a:lnTo>
                <a:lnTo>
                  <a:pt x="14" y="280"/>
                </a:lnTo>
                <a:lnTo>
                  <a:pt x="23" y="270"/>
                </a:lnTo>
                <a:lnTo>
                  <a:pt x="30" y="259"/>
                </a:lnTo>
                <a:lnTo>
                  <a:pt x="39" y="245"/>
                </a:lnTo>
                <a:lnTo>
                  <a:pt x="46" y="229"/>
                </a:lnTo>
                <a:lnTo>
                  <a:pt x="55" y="214"/>
                </a:lnTo>
                <a:lnTo>
                  <a:pt x="63" y="194"/>
                </a:lnTo>
                <a:lnTo>
                  <a:pt x="72" y="175"/>
                </a:lnTo>
                <a:lnTo>
                  <a:pt x="81" y="154"/>
                </a:lnTo>
                <a:lnTo>
                  <a:pt x="88" y="131"/>
                </a:lnTo>
                <a:lnTo>
                  <a:pt x="97" y="109"/>
                </a:lnTo>
                <a:lnTo>
                  <a:pt x="112" y="56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058160" y="2717640"/>
            <a:ext cx="196560" cy="1243080"/>
          </a:xfrm>
          <a:custGeom>
            <a:avLst/>
            <a:gdLst/>
            <a:ahLst/>
            <a:rect l="l" t="t" r="r" b="b"/>
            <a:pathLst>
              <a:path w="124" h="783">
                <a:moveTo>
                  <a:pt x="0" y="783"/>
                </a:moveTo>
                <a:lnTo>
                  <a:pt x="7" y="748"/>
                </a:lnTo>
                <a:lnTo>
                  <a:pt x="16" y="708"/>
                </a:lnTo>
                <a:lnTo>
                  <a:pt x="23" y="665"/>
                </a:lnTo>
                <a:lnTo>
                  <a:pt x="32" y="619"/>
                </a:lnTo>
                <a:lnTo>
                  <a:pt x="39" y="570"/>
                </a:lnTo>
                <a:lnTo>
                  <a:pt x="47" y="519"/>
                </a:lnTo>
                <a:lnTo>
                  <a:pt x="54" y="467"/>
                </a:lnTo>
                <a:lnTo>
                  <a:pt x="63" y="415"/>
                </a:lnTo>
                <a:lnTo>
                  <a:pt x="77" y="305"/>
                </a:lnTo>
                <a:lnTo>
                  <a:pt x="93" y="198"/>
                </a:lnTo>
                <a:lnTo>
                  <a:pt x="102" y="145"/>
                </a:lnTo>
                <a:lnTo>
                  <a:pt x="109" y="95"/>
                </a:lnTo>
                <a:lnTo>
                  <a:pt x="117" y="4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254720" y="1697040"/>
            <a:ext cx="196920" cy="1020600"/>
          </a:xfrm>
          <a:custGeom>
            <a:avLst/>
            <a:gdLst/>
            <a:ahLst/>
            <a:rect l="l" t="t" r="r" b="b"/>
            <a:pathLst>
              <a:path w="124" h="643">
                <a:moveTo>
                  <a:pt x="0" y="643"/>
                </a:moveTo>
                <a:lnTo>
                  <a:pt x="7" y="598"/>
                </a:lnTo>
                <a:lnTo>
                  <a:pt x="16" y="551"/>
                </a:lnTo>
                <a:lnTo>
                  <a:pt x="32" y="456"/>
                </a:lnTo>
                <a:lnTo>
                  <a:pt x="48" y="360"/>
                </a:lnTo>
                <a:lnTo>
                  <a:pt x="55" y="315"/>
                </a:lnTo>
                <a:lnTo>
                  <a:pt x="62" y="269"/>
                </a:lnTo>
                <a:lnTo>
                  <a:pt x="70" y="226"/>
                </a:lnTo>
                <a:lnTo>
                  <a:pt x="77" y="184"/>
                </a:lnTo>
                <a:lnTo>
                  <a:pt x="86" y="144"/>
                </a:lnTo>
                <a:lnTo>
                  <a:pt x="93" y="109"/>
                </a:lnTo>
                <a:lnTo>
                  <a:pt x="102" y="75"/>
                </a:lnTo>
                <a:lnTo>
                  <a:pt x="109" y="46"/>
                </a:lnTo>
                <a:lnTo>
                  <a:pt x="117" y="2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451640" y="1663560"/>
            <a:ext cx="200160" cy="136800"/>
          </a:xfrm>
          <a:custGeom>
            <a:avLst/>
            <a:gdLst/>
            <a:ahLst/>
            <a:rect l="l" t="t" r="r" b="b"/>
            <a:pathLst>
              <a:path w="126" h="86">
                <a:moveTo>
                  <a:pt x="0" y="21"/>
                </a:moveTo>
                <a:lnTo>
                  <a:pt x="6" y="11"/>
                </a:lnTo>
                <a:lnTo>
                  <a:pt x="13" y="4"/>
                </a:lnTo>
                <a:lnTo>
                  <a:pt x="20" y="2"/>
                </a:lnTo>
                <a:lnTo>
                  <a:pt x="28" y="0"/>
                </a:lnTo>
                <a:lnTo>
                  <a:pt x="37" y="4"/>
                </a:lnTo>
                <a:lnTo>
                  <a:pt x="46" y="7"/>
                </a:lnTo>
                <a:lnTo>
                  <a:pt x="55" y="14"/>
                </a:lnTo>
                <a:lnTo>
                  <a:pt x="63" y="21"/>
                </a:lnTo>
                <a:lnTo>
                  <a:pt x="81" y="39"/>
                </a:lnTo>
                <a:lnTo>
                  <a:pt x="98" y="58"/>
                </a:lnTo>
                <a:lnTo>
                  <a:pt x="114" y="74"/>
                </a:lnTo>
                <a:lnTo>
                  <a:pt x="121" y="81"/>
                </a:lnTo>
                <a:lnTo>
                  <a:pt x="126" y="8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651800" y="1800360"/>
            <a:ext cx="196920" cy="225360"/>
          </a:xfrm>
          <a:custGeom>
            <a:avLst/>
            <a:gdLst/>
            <a:ahLst/>
            <a:rect l="l" t="t" r="r" b="b"/>
            <a:pathLst>
              <a:path w="124" h="142">
                <a:moveTo>
                  <a:pt x="0" y="0"/>
                </a:moveTo>
                <a:lnTo>
                  <a:pt x="7" y="7"/>
                </a:lnTo>
                <a:lnTo>
                  <a:pt x="16" y="17"/>
                </a:lnTo>
                <a:lnTo>
                  <a:pt x="23" y="28"/>
                </a:lnTo>
                <a:lnTo>
                  <a:pt x="32" y="40"/>
                </a:lnTo>
                <a:lnTo>
                  <a:pt x="48" y="68"/>
                </a:lnTo>
                <a:lnTo>
                  <a:pt x="63" y="96"/>
                </a:lnTo>
                <a:lnTo>
                  <a:pt x="70" y="108"/>
                </a:lnTo>
                <a:lnTo>
                  <a:pt x="77" y="119"/>
                </a:lnTo>
                <a:lnTo>
                  <a:pt x="86" y="129"/>
                </a:lnTo>
                <a:lnTo>
                  <a:pt x="93" y="136"/>
                </a:lnTo>
                <a:lnTo>
                  <a:pt x="102" y="142"/>
                </a:lnTo>
                <a:lnTo>
                  <a:pt x="109" y="142"/>
                </a:lnTo>
                <a:lnTo>
                  <a:pt x="117" y="140"/>
                </a:lnTo>
                <a:lnTo>
                  <a:pt x="124" y="13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848720" y="1378080"/>
            <a:ext cx="198360" cy="636480"/>
          </a:xfrm>
          <a:custGeom>
            <a:avLst/>
            <a:gdLst/>
            <a:ahLst/>
            <a:rect l="l" t="t" r="r" b="b"/>
            <a:pathLst>
              <a:path w="125" h="401">
                <a:moveTo>
                  <a:pt x="0" y="401"/>
                </a:moveTo>
                <a:lnTo>
                  <a:pt x="4" y="395"/>
                </a:lnTo>
                <a:lnTo>
                  <a:pt x="7" y="388"/>
                </a:lnTo>
                <a:lnTo>
                  <a:pt x="13" y="380"/>
                </a:lnTo>
                <a:lnTo>
                  <a:pt x="16" y="369"/>
                </a:lnTo>
                <a:lnTo>
                  <a:pt x="20" y="355"/>
                </a:lnTo>
                <a:lnTo>
                  <a:pt x="23" y="341"/>
                </a:lnTo>
                <a:lnTo>
                  <a:pt x="32" y="310"/>
                </a:lnTo>
                <a:lnTo>
                  <a:pt x="39" y="275"/>
                </a:lnTo>
                <a:lnTo>
                  <a:pt x="48" y="238"/>
                </a:lnTo>
                <a:lnTo>
                  <a:pt x="55" y="198"/>
                </a:lnTo>
                <a:lnTo>
                  <a:pt x="62" y="159"/>
                </a:lnTo>
                <a:lnTo>
                  <a:pt x="70" y="123"/>
                </a:lnTo>
                <a:lnTo>
                  <a:pt x="77" y="88"/>
                </a:lnTo>
                <a:lnTo>
                  <a:pt x="83" y="72"/>
                </a:lnTo>
                <a:lnTo>
                  <a:pt x="86" y="56"/>
                </a:lnTo>
                <a:lnTo>
                  <a:pt x="90" y="44"/>
                </a:lnTo>
                <a:lnTo>
                  <a:pt x="93" y="32"/>
                </a:lnTo>
                <a:lnTo>
                  <a:pt x="97" y="21"/>
                </a:lnTo>
                <a:lnTo>
                  <a:pt x="102" y="13"/>
                </a:lnTo>
                <a:lnTo>
                  <a:pt x="105" y="7"/>
                </a:lnTo>
                <a:lnTo>
                  <a:pt x="109" y="2"/>
                </a:lnTo>
                <a:lnTo>
                  <a:pt x="112" y="0"/>
                </a:lnTo>
                <a:lnTo>
                  <a:pt x="116" y="2"/>
                </a:lnTo>
                <a:lnTo>
                  <a:pt x="121" y="4"/>
                </a:lnTo>
                <a:lnTo>
                  <a:pt x="125" y="1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047080" y="1395360"/>
            <a:ext cx="198360" cy="1387440"/>
          </a:xfrm>
          <a:custGeom>
            <a:avLst/>
            <a:gdLst/>
            <a:ahLst/>
            <a:rect l="l" t="t" r="r" b="b"/>
            <a:pathLst>
              <a:path w="125" h="874">
                <a:moveTo>
                  <a:pt x="0" y="0"/>
                </a:moveTo>
                <a:lnTo>
                  <a:pt x="3" y="9"/>
                </a:lnTo>
                <a:lnTo>
                  <a:pt x="6" y="21"/>
                </a:lnTo>
                <a:lnTo>
                  <a:pt x="12" y="35"/>
                </a:lnTo>
                <a:lnTo>
                  <a:pt x="15" y="52"/>
                </a:lnTo>
                <a:lnTo>
                  <a:pt x="19" y="71"/>
                </a:lnTo>
                <a:lnTo>
                  <a:pt x="22" y="92"/>
                </a:lnTo>
                <a:lnTo>
                  <a:pt x="27" y="115"/>
                </a:lnTo>
                <a:lnTo>
                  <a:pt x="31" y="141"/>
                </a:lnTo>
                <a:lnTo>
                  <a:pt x="34" y="168"/>
                </a:lnTo>
                <a:lnTo>
                  <a:pt x="38" y="196"/>
                </a:lnTo>
                <a:lnTo>
                  <a:pt x="43" y="225"/>
                </a:lnTo>
                <a:lnTo>
                  <a:pt x="47" y="257"/>
                </a:lnTo>
                <a:lnTo>
                  <a:pt x="54" y="321"/>
                </a:lnTo>
                <a:lnTo>
                  <a:pt x="62" y="388"/>
                </a:lnTo>
                <a:lnTo>
                  <a:pt x="71" y="458"/>
                </a:lnTo>
                <a:lnTo>
                  <a:pt x="78" y="526"/>
                </a:lnTo>
                <a:lnTo>
                  <a:pt x="87" y="594"/>
                </a:lnTo>
                <a:lnTo>
                  <a:pt x="94" y="660"/>
                </a:lnTo>
                <a:lnTo>
                  <a:pt x="103" y="722"/>
                </a:lnTo>
                <a:lnTo>
                  <a:pt x="106" y="751"/>
                </a:lnTo>
                <a:lnTo>
                  <a:pt x="110" y="779"/>
                </a:lnTo>
                <a:lnTo>
                  <a:pt x="113" y="805"/>
                </a:lnTo>
                <a:lnTo>
                  <a:pt x="117" y="830"/>
                </a:lnTo>
                <a:lnTo>
                  <a:pt x="122" y="853"/>
                </a:lnTo>
                <a:lnTo>
                  <a:pt x="125" y="87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8245440" y="2782800"/>
            <a:ext cx="196920" cy="612720"/>
          </a:xfrm>
          <a:custGeom>
            <a:avLst/>
            <a:gdLst/>
            <a:ahLst/>
            <a:rect l="l" t="t" r="r" b="b"/>
            <a:pathLst>
              <a:path w="124" h="386">
                <a:moveTo>
                  <a:pt x="0" y="0"/>
                </a:moveTo>
                <a:lnTo>
                  <a:pt x="7" y="29"/>
                </a:lnTo>
                <a:lnTo>
                  <a:pt x="14" y="57"/>
                </a:lnTo>
                <a:lnTo>
                  <a:pt x="21" y="82"/>
                </a:lnTo>
                <a:lnTo>
                  <a:pt x="30" y="104"/>
                </a:lnTo>
                <a:lnTo>
                  <a:pt x="37" y="125"/>
                </a:lnTo>
                <a:lnTo>
                  <a:pt x="46" y="145"/>
                </a:lnTo>
                <a:lnTo>
                  <a:pt x="63" y="181"/>
                </a:lnTo>
                <a:lnTo>
                  <a:pt x="70" y="201"/>
                </a:lnTo>
                <a:lnTo>
                  <a:pt x="79" y="222"/>
                </a:lnTo>
                <a:lnTo>
                  <a:pt x="88" y="243"/>
                </a:lnTo>
                <a:lnTo>
                  <a:pt x="95" y="265"/>
                </a:lnTo>
                <a:lnTo>
                  <a:pt x="103" y="291"/>
                </a:lnTo>
                <a:lnTo>
                  <a:pt x="110" y="319"/>
                </a:lnTo>
                <a:lnTo>
                  <a:pt x="117" y="351"/>
                </a:lnTo>
                <a:lnTo>
                  <a:pt x="124" y="38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442360" y="3395520"/>
            <a:ext cx="198360" cy="1714680"/>
          </a:xfrm>
          <a:custGeom>
            <a:avLst/>
            <a:gdLst/>
            <a:ahLst/>
            <a:rect l="l" t="t" r="r" b="b"/>
            <a:pathLst>
              <a:path w="125" h="1080">
                <a:moveTo>
                  <a:pt x="0" y="0"/>
                </a:moveTo>
                <a:lnTo>
                  <a:pt x="4" y="23"/>
                </a:lnTo>
                <a:lnTo>
                  <a:pt x="7" y="49"/>
                </a:lnTo>
                <a:lnTo>
                  <a:pt x="16" y="101"/>
                </a:lnTo>
                <a:lnTo>
                  <a:pt x="23" y="159"/>
                </a:lnTo>
                <a:lnTo>
                  <a:pt x="32" y="222"/>
                </a:lnTo>
                <a:lnTo>
                  <a:pt x="39" y="286"/>
                </a:lnTo>
                <a:lnTo>
                  <a:pt x="48" y="355"/>
                </a:lnTo>
                <a:lnTo>
                  <a:pt x="55" y="425"/>
                </a:lnTo>
                <a:lnTo>
                  <a:pt x="62" y="496"/>
                </a:lnTo>
                <a:lnTo>
                  <a:pt x="70" y="570"/>
                </a:lnTo>
                <a:lnTo>
                  <a:pt x="77" y="645"/>
                </a:lnTo>
                <a:lnTo>
                  <a:pt x="93" y="793"/>
                </a:lnTo>
                <a:lnTo>
                  <a:pt x="102" y="867"/>
                </a:lnTo>
                <a:lnTo>
                  <a:pt x="109" y="940"/>
                </a:lnTo>
                <a:lnTo>
                  <a:pt x="118" y="1012"/>
                </a:lnTo>
                <a:lnTo>
                  <a:pt x="125" y="108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960" y="4216320"/>
            <a:ext cx="196920" cy="303120"/>
          </a:xfrm>
          <a:custGeom>
            <a:avLst/>
            <a:gdLst/>
            <a:ahLst/>
            <a:rect l="l" t="t" r="r" b="b"/>
            <a:pathLst>
              <a:path w="124" h="191">
                <a:moveTo>
                  <a:pt x="0" y="0"/>
                </a:moveTo>
                <a:lnTo>
                  <a:pt x="31" y="46"/>
                </a:lnTo>
                <a:lnTo>
                  <a:pt x="61" y="91"/>
                </a:lnTo>
                <a:lnTo>
                  <a:pt x="77" y="114"/>
                </a:lnTo>
                <a:lnTo>
                  <a:pt x="93" y="138"/>
                </a:lnTo>
                <a:lnTo>
                  <a:pt x="108" y="163"/>
                </a:lnTo>
                <a:lnTo>
                  <a:pt x="124" y="19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920880" y="4519440"/>
            <a:ext cx="196560" cy="424080"/>
          </a:xfrm>
          <a:custGeom>
            <a:avLst/>
            <a:gdLst/>
            <a:ahLst/>
            <a:rect l="l" t="t" r="r" b="b"/>
            <a:pathLst>
              <a:path w="124" h="267">
                <a:moveTo>
                  <a:pt x="0" y="0"/>
                </a:moveTo>
                <a:lnTo>
                  <a:pt x="16" y="31"/>
                </a:lnTo>
                <a:lnTo>
                  <a:pt x="31" y="64"/>
                </a:lnTo>
                <a:lnTo>
                  <a:pt x="47" y="101"/>
                </a:lnTo>
                <a:lnTo>
                  <a:pt x="61" y="138"/>
                </a:lnTo>
                <a:lnTo>
                  <a:pt x="77" y="174"/>
                </a:lnTo>
                <a:lnTo>
                  <a:pt x="93" y="209"/>
                </a:lnTo>
                <a:lnTo>
                  <a:pt x="108" y="241"/>
                </a:lnTo>
                <a:lnTo>
                  <a:pt x="117" y="255"/>
                </a:lnTo>
                <a:lnTo>
                  <a:pt x="124" y="267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117440" y="4943520"/>
            <a:ext cx="200160" cy="191880"/>
          </a:xfrm>
          <a:custGeom>
            <a:avLst/>
            <a:gdLst/>
            <a:ahLst/>
            <a:rect l="l" t="t" r="r" b="b"/>
            <a:pathLst>
              <a:path w="126" h="121">
                <a:moveTo>
                  <a:pt x="0" y="0"/>
                </a:moveTo>
                <a:lnTo>
                  <a:pt x="16" y="23"/>
                </a:lnTo>
                <a:lnTo>
                  <a:pt x="32" y="42"/>
                </a:lnTo>
                <a:lnTo>
                  <a:pt x="47" y="58"/>
                </a:lnTo>
                <a:lnTo>
                  <a:pt x="63" y="73"/>
                </a:lnTo>
                <a:lnTo>
                  <a:pt x="79" y="86"/>
                </a:lnTo>
                <a:lnTo>
                  <a:pt x="95" y="98"/>
                </a:lnTo>
                <a:lnTo>
                  <a:pt x="126" y="12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317600" y="5135400"/>
            <a:ext cx="196920" cy="100080"/>
          </a:xfrm>
          <a:custGeom>
            <a:avLst/>
            <a:gdLst/>
            <a:ahLst/>
            <a:rect l="l" t="t" r="r" b="b"/>
            <a:pathLst>
              <a:path w="124" h="63">
                <a:moveTo>
                  <a:pt x="0" y="0"/>
                </a:moveTo>
                <a:lnTo>
                  <a:pt x="16" y="10"/>
                </a:lnTo>
                <a:lnTo>
                  <a:pt x="31" y="21"/>
                </a:lnTo>
                <a:lnTo>
                  <a:pt x="63" y="36"/>
                </a:lnTo>
                <a:lnTo>
                  <a:pt x="93" y="50"/>
                </a:lnTo>
                <a:lnTo>
                  <a:pt x="124" y="63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514520" y="5235480"/>
            <a:ext cx="196920" cy="60480"/>
          </a:xfrm>
          <a:custGeom>
            <a:avLst/>
            <a:gdLst/>
            <a:ahLst/>
            <a:rect l="l" t="t" r="r" b="b"/>
            <a:pathLst>
              <a:path w="124" h="38">
                <a:moveTo>
                  <a:pt x="0" y="0"/>
                </a:moveTo>
                <a:lnTo>
                  <a:pt x="32" y="12"/>
                </a:lnTo>
                <a:lnTo>
                  <a:pt x="61" y="22"/>
                </a:lnTo>
                <a:lnTo>
                  <a:pt x="93" y="33"/>
                </a:lnTo>
                <a:lnTo>
                  <a:pt x="124" y="3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711440" y="5291280"/>
            <a:ext cx="199800" cy="41040"/>
          </a:xfrm>
          <a:custGeom>
            <a:avLst/>
            <a:gdLst/>
            <a:ahLst/>
            <a:rect l="l" t="t" r="r" b="b"/>
            <a:pathLst>
              <a:path w="126" h="26">
                <a:moveTo>
                  <a:pt x="0" y="3"/>
                </a:moveTo>
                <a:lnTo>
                  <a:pt x="14" y="7"/>
                </a:lnTo>
                <a:lnTo>
                  <a:pt x="30" y="12"/>
                </a:lnTo>
                <a:lnTo>
                  <a:pt x="46" y="17"/>
                </a:lnTo>
                <a:lnTo>
                  <a:pt x="63" y="22"/>
                </a:lnTo>
                <a:lnTo>
                  <a:pt x="81" y="26"/>
                </a:lnTo>
                <a:lnTo>
                  <a:pt x="89" y="24"/>
                </a:lnTo>
                <a:lnTo>
                  <a:pt x="96" y="22"/>
                </a:lnTo>
                <a:lnTo>
                  <a:pt x="105" y="21"/>
                </a:lnTo>
                <a:lnTo>
                  <a:pt x="112" y="15"/>
                </a:lnTo>
                <a:lnTo>
                  <a:pt x="119" y="8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11240" y="4687920"/>
            <a:ext cx="196920" cy="603360"/>
          </a:xfrm>
          <a:custGeom>
            <a:avLst/>
            <a:gdLst/>
            <a:ahLst/>
            <a:rect l="l" t="t" r="r" b="b"/>
            <a:pathLst>
              <a:path w="124" h="380">
                <a:moveTo>
                  <a:pt x="0" y="380"/>
                </a:moveTo>
                <a:lnTo>
                  <a:pt x="7" y="366"/>
                </a:lnTo>
                <a:lnTo>
                  <a:pt x="16" y="350"/>
                </a:lnTo>
                <a:lnTo>
                  <a:pt x="23" y="332"/>
                </a:lnTo>
                <a:lnTo>
                  <a:pt x="31" y="313"/>
                </a:lnTo>
                <a:lnTo>
                  <a:pt x="38" y="290"/>
                </a:lnTo>
                <a:lnTo>
                  <a:pt x="47" y="268"/>
                </a:lnTo>
                <a:lnTo>
                  <a:pt x="54" y="243"/>
                </a:lnTo>
                <a:lnTo>
                  <a:pt x="63" y="217"/>
                </a:lnTo>
                <a:lnTo>
                  <a:pt x="77" y="163"/>
                </a:lnTo>
                <a:lnTo>
                  <a:pt x="93" y="109"/>
                </a:lnTo>
                <a:lnTo>
                  <a:pt x="108" y="53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08160" y="3997440"/>
            <a:ext cx="196920" cy="690480"/>
          </a:xfrm>
          <a:custGeom>
            <a:avLst/>
            <a:gdLst/>
            <a:ahLst/>
            <a:rect l="l" t="t" r="r" b="b"/>
            <a:pathLst>
              <a:path w="124" h="435">
                <a:moveTo>
                  <a:pt x="0" y="435"/>
                </a:moveTo>
                <a:lnTo>
                  <a:pt x="7" y="409"/>
                </a:lnTo>
                <a:lnTo>
                  <a:pt x="16" y="381"/>
                </a:lnTo>
                <a:lnTo>
                  <a:pt x="23" y="351"/>
                </a:lnTo>
                <a:lnTo>
                  <a:pt x="32" y="320"/>
                </a:lnTo>
                <a:lnTo>
                  <a:pt x="47" y="257"/>
                </a:lnTo>
                <a:lnTo>
                  <a:pt x="61" y="194"/>
                </a:lnTo>
                <a:lnTo>
                  <a:pt x="70" y="163"/>
                </a:lnTo>
                <a:lnTo>
                  <a:pt x="77" y="135"/>
                </a:lnTo>
                <a:lnTo>
                  <a:pt x="86" y="107"/>
                </a:lnTo>
                <a:lnTo>
                  <a:pt x="93" y="79"/>
                </a:lnTo>
                <a:lnTo>
                  <a:pt x="101" y="56"/>
                </a:lnTo>
                <a:lnTo>
                  <a:pt x="108" y="33"/>
                </a:lnTo>
                <a:lnTo>
                  <a:pt x="117" y="1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305080" y="3933720"/>
            <a:ext cx="200160" cy="63720"/>
          </a:xfrm>
          <a:custGeom>
            <a:avLst/>
            <a:gdLst/>
            <a:ahLst/>
            <a:rect l="l" t="t" r="r" b="b"/>
            <a:pathLst>
              <a:path w="126" h="40">
                <a:moveTo>
                  <a:pt x="0" y="40"/>
                </a:moveTo>
                <a:lnTo>
                  <a:pt x="12" y="24"/>
                </a:lnTo>
                <a:lnTo>
                  <a:pt x="28" y="10"/>
                </a:lnTo>
                <a:lnTo>
                  <a:pt x="46" y="3"/>
                </a:lnTo>
                <a:lnTo>
                  <a:pt x="63" y="0"/>
                </a:lnTo>
                <a:lnTo>
                  <a:pt x="81" y="2"/>
                </a:lnTo>
                <a:lnTo>
                  <a:pt x="89" y="5"/>
                </a:lnTo>
                <a:lnTo>
                  <a:pt x="98" y="9"/>
                </a:lnTo>
                <a:lnTo>
                  <a:pt x="107" y="16"/>
                </a:lnTo>
                <a:lnTo>
                  <a:pt x="114" y="23"/>
                </a:lnTo>
                <a:lnTo>
                  <a:pt x="121" y="30"/>
                </a:lnTo>
                <a:lnTo>
                  <a:pt x="126" y="4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505240" y="3997440"/>
            <a:ext cx="196560" cy="776160"/>
          </a:xfrm>
          <a:custGeom>
            <a:avLst/>
            <a:gdLst/>
            <a:ahLst/>
            <a:rect l="l" t="t" r="r" b="b"/>
            <a:pathLst>
              <a:path w="124" h="489">
                <a:moveTo>
                  <a:pt x="0" y="0"/>
                </a:moveTo>
                <a:lnTo>
                  <a:pt x="7" y="18"/>
                </a:lnTo>
                <a:lnTo>
                  <a:pt x="16" y="39"/>
                </a:lnTo>
                <a:lnTo>
                  <a:pt x="23" y="65"/>
                </a:lnTo>
                <a:lnTo>
                  <a:pt x="32" y="93"/>
                </a:lnTo>
                <a:lnTo>
                  <a:pt x="38" y="122"/>
                </a:lnTo>
                <a:lnTo>
                  <a:pt x="47" y="156"/>
                </a:lnTo>
                <a:lnTo>
                  <a:pt x="54" y="189"/>
                </a:lnTo>
                <a:lnTo>
                  <a:pt x="63" y="226"/>
                </a:lnTo>
                <a:lnTo>
                  <a:pt x="77" y="297"/>
                </a:lnTo>
                <a:lnTo>
                  <a:pt x="86" y="332"/>
                </a:lnTo>
                <a:lnTo>
                  <a:pt x="93" y="367"/>
                </a:lnTo>
                <a:lnTo>
                  <a:pt x="101" y="402"/>
                </a:lnTo>
                <a:lnTo>
                  <a:pt x="108" y="434"/>
                </a:lnTo>
                <a:lnTo>
                  <a:pt x="117" y="463"/>
                </a:lnTo>
                <a:lnTo>
                  <a:pt x="124" y="48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701800" y="4773600"/>
            <a:ext cx="196920" cy="503280"/>
          </a:xfrm>
          <a:custGeom>
            <a:avLst/>
            <a:gdLst/>
            <a:ahLst/>
            <a:rect l="l" t="t" r="r" b="b"/>
            <a:pathLst>
              <a:path w="124" h="317">
                <a:moveTo>
                  <a:pt x="0" y="0"/>
                </a:moveTo>
                <a:lnTo>
                  <a:pt x="16" y="51"/>
                </a:lnTo>
                <a:lnTo>
                  <a:pt x="32" y="102"/>
                </a:lnTo>
                <a:lnTo>
                  <a:pt x="47" y="151"/>
                </a:lnTo>
                <a:lnTo>
                  <a:pt x="61" y="196"/>
                </a:lnTo>
                <a:lnTo>
                  <a:pt x="70" y="217"/>
                </a:lnTo>
                <a:lnTo>
                  <a:pt x="77" y="236"/>
                </a:lnTo>
                <a:lnTo>
                  <a:pt x="86" y="256"/>
                </a:lnTo>
                <a:lnTo>
                  <a:pt x="93" y="271"/>
                </a:lnTo>
                <a:lnTo>
                  <a:pt x="102" y="287"/>
                </a:lnTo>
                <a:lnTo>
                  <a:pt x="109" y="299"/>
                </a:lnTo>
                <a:lnTo>
                  <a:pt x="117" y="310"/>
                </a:lnTo>
                <a:lnTo>
                  <a:pt x="124" y="317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898720" y="5095800"/>
            <a:ext cx="200160" cy="192240"/>
          </a:xfrm>
          <a:custGeom>
            <a:avLst/>
            <a:gdLst/>
            <a:ahLst/>
            <a:rect l="l" t="t" r="r" b="b"/>
            <a:pathLst>
              <a:path w="126" h="121">
                <a:moveTo>
                  <a:pt x="0" y="114"/>
                </a:moveTo>
                <a:lnTo>
                  <a:pt x="7" y="119"/>
                </a:lnTo>
                <a:lnTo>
                  <a:pt x="16" y="121"/>
                </a:lnTo>
                <a:lnTo>
                  <a:pt x="23" y="119"/>
                </a:lnTo>
                <a:lnTo>
                  <a:pt x="32" y="116"/>
                </a:lnTo>
                <a:lnTo>
                  <a:pt x="39" y="110"/>
                </a:lnTo>
                <a:lnTo>
                  <a:pt x="47" y="103"/>
                </a:lnTo>
                <a:lnTo>
                  <a:pt x="54" y="95"/>
                </a:lnTo>
                <a:lnTo>
                  <a:pt x="63" y="86"/>
                </a:lnTo>
                <a:lnTo>
                  <a:pt x="79" y="63"/>
                </a:lnTo>
                <a:lnTo>
                  <a:pt x="95" y="40"/>
                </a:lnTo>
                <a:lnTo>
                  <a:pt x="110" y="18"/>
                </a:lnTo>
                <a:lnTo>
                  <a:pt x="119" y="9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098880" y="4876920"/>
            <a:ext cx="196920" cy="218880"/>
          </a:xfrm>
          <a:custGeom>
            <a:avLst/>
            <a:gdLst/>
            <a:ahLst/>
            <a:rect l="l" t="t" r="r" b="b"/>
            <a:pathLst>
              <a:path w="124" h="138">
                <a:moveTo>
                  <a:pt x="0" y="138"/>
                </a:moveTo>
                <a:lnTo>
                  <a:pt x="16" y="121"/>
                </a:lnTo>
                <a:lnTo>
                  <a:pt x="32" y="103"/>
                </a:lnTo>
                <a:lnTo>
                  <a:pt x="63" y="65"/>
                </a:lnTo>
                <a:lnTo>
                  <a:pt x="77" y="46"/>
                </a:lnTo>
                <a:lnTo>
                  <a:pt x="93" y="28"/>
                </a:lnTo>
                <a:lnTo>
                  <a:pt x="108" y="1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295800" y="4805280"/>
            <a:ext cx="196560" cy="71640"/>
          </a:xfrm>
          <a:custGeom>
            <a:avLst/>
            <a:gdLst/>
            <a:ahLst/>
            <a:rect l="l" t="t" r="r" b="b"/>
            <a:pathLst>
              <a:path w="124" h="45">
                <a:moveTo>
                  <a:pt x="0" y="45"/>
                </a:moveTo>
                <a:lnTo>
                  <a:pt x="16" y="35"/>
                </a:lnTo>
                <a:lnTo>
                  <a:pt x="32" y="24"/>
                </a:lnTo>
                <a:lnTo>
                  <a:pt x="47" y="17"/>
                </a:lnTo>
                <a:lnTo>
                  <a:pt x="61" y="10"/>
                </a:lnTo>
                <a:lnTo>
                  <a:pt x="77" y="5"/>
                </a:lnTo>
                <a:lnTo>
                  <a:pt x="93" y="1"/>
                </a:lnTo>
                <a:lnTo>
                  <a:pt x="109" y="0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492360" y="4805280"/>
            <a:ext cx="200160" cy="108000"/>
          </a:xfrm>
          <a:custGeom>
            <a:avLst/>
            <a:gdLst/>
            <a:ahLst/>
            <a:rect l="l" t="t" r="r" b="b"/>
            <a:pathLst>
              <a:path w="126" h="68">
                <a:moveTo>
                  <a:pt x="0" y="0"/>
                </a:moveTo>
                <a:lnTo>
                  <a:pt x="16" y="3"/>
                </a:lnTo>
                <a:lnTo>
                  <a:pt x="32" y="10"/>
                </a:lnTo>
                <a:lnTo>
                  <a:pt x="47" y="21"/>
                </a:lnTo>
                <a:lnTo>
                  <a:pt x="63" y="31"/>
                </a:lnTo>
                <a:lnTo>
                  <a:pt x="79" y="43"/>
                </a:lnTo>
                <a:lnTo>
                  <a:pt x="95" y="54"/>
                </a:lnTo>
                <a:lnTo>
                  <a:pt x="110" y="63"/>
                </a:lnTo>
                <a:lnTo>
                  <a:pt x="126" y="6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692520" y="4906800"/>
            <a:ext cx="196920" cy="11160"/>
          </a:xfrm>
          <a:custGeom>
            <a:avLst/>
            <a:gdLst/>
            <a:ahLst/>
            <a:rect l="l" t="t" r="r" b="b"/>
            <a:pathLst>
              <a:path w="124" h="7">
                <a:moveTo>
                  <a:pt x="0" y="4"/>
                </a:moveTo>
                <a:lnTo>
                  <a:pt x="16" y="7"/>
                </a:lnTo>
                <a:lnTo>
                  <a:pt x="32" y="7"/>
                </a:lnTo>
                <a:lnTo>
                  <a:pt x="47" y="7"/>
                </a:lnTo>
                <a:lnTo>
                  <a:pt x="63" y="6"/>
                </a:lnTo>
                <a:lnTo>
                  <a:pt x="93" y="2"/>
                </a:lnTo>
                <a:lnTo>
                  <a:pt x="108" y="0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889440" y="4906800"/>
            <a:ext cx="196920" cy="25560"/>
          </a:xfrm>
          <a:custGeom>
            <a:avLst/>
            <a:gdLst/>
            <a:ahLst/>
            <a:rect l="l" t="t" r="r" b="b"/>
            <a:pathLst>
              <a:path w="124" h="16">
                <a:moveTo>
                  <a:pt x="0" y="0"/>
                </a:moveTo>
                <a:lnTo>
                  <a:pt x="16" y="2"/>
                </a:lnTo>
                <a:lnTo>
                  <a:pt x="32" y="4"/>
                </a:lnTo>
                <a:lnTo>
                  <a:pt x="61" y="11"/>
                </a:lnTo>
                <a:lnTo>
                  <a:pt x="93" y="16"/>
                </a:lnTo>
                <a:lnTo>
                  <a:pt x="109" y="16"/>
                </a:lnTo>
                <a:lnTo>
                  <a:pt x="124" y="16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086360" y="4861080"/>
            <a:ext cx="199800" cy="71280"/>
          </a:xfrm>
          <a:custGeom>
            <a:avLst/>
            <a:gdLst/>
            <a:ahLst/>
            <a:rect l="l" t="t" r="r" b="b"/>
            <a:pathLst>
              <a:path w="126" h="45">
                <a:moveTo>
                  <a:pt x="0" y="45"/>
                </a:moveTo>
                <a:lnTo>
                  <a:pt x="32" y="43"/>
                </a:lnTo>
                <a:lnTo>
                  <a:pt x="48" y="42"/>
                </a:lnTo>
                <a:lnTo>
                  <a:pt x="63" y="38"/>
                </a:lnTo>
                <a:lnTo>
                  <a:pt x="79" y="35"/>
                </a:lnTo>
                <a:lnTo>
                  <a:pt x="95" y="26"/>
                </a:lnTo>
                <a:lnTo>
                  <a:pt x="110" y="15"/>
                </a:lnTo>
                <a:lnTo>
                  <a:pt x="119" y="8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286160" y="4471920"/>
            <a:ext cx="196920" cy="389160"/>
          </a:xfrm>
          <a:custGeom>
            <a:avLst/>
            <a:gdLst/>
            <a:ahLst/>
            <a:rect l="l" t="t" r="r" b="b"/>
            <a:pathLst>
              <a:path w="124" h="245">
                <a:moveTo>
                  <a:pt x="0" y="245"/>
                </a:moveTo>
                <a:lnTo>
                  <a:pt x="7" y="234"/>
                </a:lnTo>
                <a:lnTo>
                  <a:pt x="16" y="222"/>
                </a:lnTo>
                <a:lnTo>
                  <a:pt x="23" y="210"/>
                </a:lnTo>
                <a:lnTo>
                  <a:pt x="32" y="194"/>
                </a:lnTo>
                <a:lnTo>
                  <a:pt x="47" y="161"/>
                </a:lnTo>
                <a:lnTo>
                  <a:pt x="61" y="126"/>
                </a:lnTo>
                <a:lnTo>
                  <a:pt x="77" y="89"/>
                </a:lnTo>
                <a:lnTo>
                  <a:pt x="93" y="56"/>
                </a:lnTo>
                <a:lnTo>
                  <a:pt x="102" y="40"/>
                </a:lnTo>
                <a:lnTo>
                  <a:pt x="109" y="24"/>
                </a:lnTo>
                <a:lnTo>
                  <a:pt x="117" y="1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483080" y="4316400"/>
            <a:ext cx="200160" cy="155520"/>
          </a:xfrm>
          <a:custGeom>
            <a:avLst/>
            <a:gdLst/>
            <a:ahLst/>
            <a:rect l="l" t="t" r="r" b="b"/>
            <a:pathLst>
              <a:path w="126" h="98">
                <a:moveTo>
                  <a:pt x="0" y="98"/>
                </a:moveTo>
                <a:lnTo>
                  <a:pt x="16" y="77"/>
                </a:lnTo>
                <a:lnTo>
                  <a:pt x="32" y="60"/>
                </a:lnTo>
                <a:lnTo>
                  <a:pt x="47" y="42"/>
                </a:lnTo>
                <a:lnTo>
                  <a:pt x="63" y="28"/>
                </a:lnTo>
                <a:lnTo>
                  <a:pt x="79" y="18"/>
                </a:lnTo>
                <a:lnTo>
                  <a:pt x="95" y="9"/>
                </a:lnTo>
                <a:lnTo>
                  <a:pt x="110" y="2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83240" y="4316400"/>
            <a:ext cx="196560" cy="130320"/>
          </a:xfrm>
          <a:custGeom>
            <a:avLst/>
            <a:gdLst/>
            <a:ahLst/>
            <a:rect l="l" t="t" r="r" b="b"/>
            <a:pathLst>
              <a:path w="124" h="82">
                <a:moveTo>
                  <a:pt x="0" y="0"/>
                </a:moveTo>
                <a:lnTo>
                  <a:pt x="16" y="2"/>
                </a:lnTo>
                <a:lnTo>
                  <a:pt x="32" y="5"/>
                </a:lnTo>
                <a:lnTo>
                  <a:pt x="47" y="14"/>
                </a:lnTo>
                <a:lnTo>
                  <a:pt x="63" y="25"/>
                </a:lnTo>
                <a:lnTo>
                  <a:pt x="77" y="37"/>
                </a:lnTo>
                <a:lnTo>
                  <a:pt x="93" y="53"/>
                </a:lnTo>
                <a:lnTo>
                  <a:pt x="124" y="82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879800" y="4446720"/>
            <a:ext cx="196920" cy="261720"/>
          </a:xfrm>
          <a:custGeom>
            <a:avLst/>
            <a:gdLst/>
            <a:ahLst/>
            <a:rect l="l" t="t" r="r" b="b"/>
            <a:pathLst>
              <a:path w="124" h="165">
                <a:moveTo>
                  <a:pt x="0" y="0"/>
                </a:moveTo>
                <a:lnTo>
                  <a:pt x="16" y="18"/>
                </a:lnTo>
                <a:lnTo>
                  <a:pt x="32" y="39"/>
                </a:lnTo>
                <a:lnTo>
                  <a:pt x="47" y="63"/>
                </a:lnTo>
                <a:lnTo>
                  <a:pt x="61" y="88"/>
                </a:lnTo>
                <a:lnTo>
                  <a:pt x="77" y="112"/>
                </a:lnTo>
                <a:lnTo>
                  <a:pt x="93" y="133"/>
                </a:lnTo>
                <a:lnTo>
                  <a:pt x="109" y="152"/>
                </a:lnTo>
                <a:lnTo>
                  <a:pt x="117" y="159"/>
                </a:lnTo>
                <a:lnTo>
                  <a:pt x="124" y="16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076720" y="4702320"/>
            <a:ext cx="200160" cy="29880"/>
          </a:xfrm>
          <a:custGeom>
            <a:avLst/>
            <a:gdLst/>
            <a:ahLst/>
            <a:rect l="l" t="t" r="r" b="b"/>
            <a:pathLst>
              <a:path w="126" h="19">
                <a:moveTo>
                  <a:pt x="0" y="4"/>
                </a:moveTo>
                <a:lnTo>
                  <a:pt x="16" y="12"/>
                </a:lnTo>
                <a:lnTo>
                  <a:pt x="32" y="18"/>
                </a:lnTo>
                <a:lnTo>
                  <a:pt x="47" y="19"/>
                </a:lnTo>
                <a:lnTo>
                  <a:pt x="63" y="19"/>
                </a:lnTo>
                <a:lnTo>
                  <a:pt x="79" y="18"/>
                </a:lnTo>
                <a:lnTo>
                  <a:pt x="95" y="14"/>
                </a:lnTo>
                <a:lnTo>
                  <a:pt x="110" y="7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276880" y="4508640"/>
            <a:ext cx="196920" cy="193680"/>
          </a:xfrm>
          <a:custGeom>
            <a:avLst/>
            <a:gdLst/>
            <a:ahLst/>
            <a:rect l="l" t="t" r="r" b="b"/>
            <a:pathLst>
              <a:path w="124" h="122">
                <a:moveTo>
                  <a:pt x="0" y="122"/>
                </a:moveTo>
                <a:lnTo>
                  <a:pt x="7" y="117"/>
                </a:lnTo>
                <a:lnTo>
                  <a:pt x="16" y="112"/>
                </a:lnTo>
                <a:lnTo>
                  <a:pt x="32" y="94"/>
                </a:lnTo>
                <a:lnTo>
                  <a:pt x="47" y="75"/>
                </a:lnTo>
                <a:lnTo>
                  <a:pt x="63" y="54"/>
                </a:lnTo>
                <a:lnTo>
                  <a:pt x="77" y="35"/>
                </a:lnTo>
                <a:lnTo>
                  <a:pt x="93" y="17"/>
                </a:lnTo>
                <a:lnTo>
                  <a:pt x="102" y="10"/>
                </a:lnTo>
                <a:lnTo>
                  <a:pt x="109" y="5"/>
                </a:lnTo>
                <a:lnTo>
                  <a:pt x="117" y="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473800" y="4508640"/>
            <a:ext cx="196920" cy="160200"/>
          </a:xfrm>
          <a:custGeom>
            <a:avLst/>
            <a:gdLst/>
            <a:ahLst/>
            <a:rect l="l" t="t" r="r" b="b"/>
            <a:pathLst>
              <a:path w="124" h="101">
                <a:moveTo>
                  <a:pt x="0" y="0"/>
                </a:moveTo>
                <a:lnTo>
                  <a:pt x="7" y="0"/>
                </a:lnTo>
                <a:lnTo>
                  <a:pt x="16" y="1"/>
                </a:lnTo>
                <a:lnTo>
                  <a:pt x="23" y="5"/>
                </a:lnTo>
                <a:lnTo>
                  <a:pt x="32" y="8"/>
                </a:lnTo>
                <a:lnTo>
                  <a:pt x="47" y="21"/>
                </a:lnTo>
                <a:lnTo>
                  <a:pt x="61" y="36"/>
                </a:lnTo>
                <a:lnTo>
                  <a:pt x="77" y="52"/>
                </a:lnTo>
                <a:lnTo>
                  <a:pt x="93" y="70"/>
                </a:lnTo>
                <a:lnTo>
                  <a:pt x="109" y="87"/>
                </a:lnTo>
                <a:lnTo>
                  <a:pt x="124" y="10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670720" y="4668840"/>
            <a:ext cx="199800" cy="182520"/>
          </a:xfrm>
          <a:custGeom>
            <a:avLst/>
            <a:gdLst/>
            <a:ahLst/>
            <a:rect l="l" t="t" r="r" b="b"/>
            <a:pathLst>
              <a:path w="126" h="115">
                <a:moveTo>
                  <a:pt x="0" y="0"/>
                </a:moveTo>
                <a:lnTo>
                  <a:pt x="16" y="14"/>
                </a:lnTo>
                <a:lnTo>
                  <a:pt x="32" y="30"/>
                </a:lnTo>
                <a:lnTo>
                  <a:pt x="63" y="63"/>
                </a:lnTo>
                <a:lnTo>
                  <a:pt x="79" y="79"/>
                </a:lnTo>
                <a:lnTo>
                  <a:pt x="95" y="93"/>
                </a:lnTo>
                <a:lnTo>
                  <a:pt x="110" y="105"/>
                </a:lnTo>
                <a:lnTo>
                  <a:pt x="126" y="11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870520" y="4851360"/>
            <a:ext cx="196920" cy="36720"/>
          </a:xfrm>
          <a:custGeom>
            <a:avLst/>
            <a:gdLst/>
            <a:ahLst/>
            <a:rect l="l" t="t" r="r" b="b"/>
            <a:pathLst>
              <a:path w="124" h="23">
                <a:moveTo>
                  <a:pt x="0" y="0"/>
                </a:moveTo>
                <a:lnTo>
                  <a:pt x="16" y="7"/>
                </a:lnTo>
                <a:lnTo>
                  <a:pt x="32" y="14"/>
                </a:lnTo>
                <a:lnTo>
                  <a:pt x="47" y="18"/>
                </a:lnTo>
                <a:lnTo>
                  <a:pt x="63" y="21"/>
                </a:lnTo>
                <a:lnTo>
                  <a:pt x="77" y="23"/>
                </a:lnTo>
                <a:lnTo>
                  <a:pt x="93" y="21"/>
                </a:lnTo>
                <a:lnTo>
                  <a:pt x="109" y="20"/>
                </a:lnTo>
                <a:lnTo>
                  <a:pt x="124" y="16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067440" y="4732200"/>
            <a:ext cx="196920" cy="144720"/>
          </a:xfrm>
          <a:custGeom>
            <a:avLst/>
            <a:gdLst/>
            <a:ahLst/>
            <a:rect l="l" t="t" r="r" b="b"/>
            <a:pathLst>
              <a:path w="124" h="91">
                <a:moveTo>
                  <a:pt x="0" y="91"/>
                </a:moveTo>
                <a:lnTo>
                  <a:pt x="7" y="88"/>
                </a:lnTo>
                <a:lnTo>
                  <a:pt x="16" y="84"/>
                </a:lnTo>
                <a:lnTo>
                  <a:pt x="32" y="72"/>
                </a:lnTo>
                <a:lnTo>
                  <a:pt x="47" y="58"/>
                </a:lnTo>
                <a:lnTo>
                  <a:pt x="61" y="44"/>
                </a:lnTo>
                <a:lnTo>
                  <a:pt x="77" y="28"/>
                </a:lnTo>
                <a:lnTo>
                  <a:pt x="93" y="16"/>
                </a:lnTo>
                <a:lnTo>
                  <a:pt x="109" y="5"/>
                </a:lnTo>
                <a:lnTo>
                  <a:pt x="117" y="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264360" y="4732200"/>
            <a:ext cx="199800" cy="77760"/>
          </a:xfrm>
          <a:custGeom>
            <a:avLst/>
            <a:gdLst/>
            <a:ahLst/>
            <a:rect l="l" t="t" r="r" b="b"/>
            <a:pathLst>
              <a:path w="126" h="49">
                <a:moveTo>
                  <a:pt x="0" y="0"/>
                </a:moveTo>
                <a:lnTo>
                  <a:pt x="16" y="0"/>
                </a:lnTo>
                <a:lnTo>
                  <a:pt x="32" y="2"/>
                </a:lnTo>
                <a:lnTo>
                  <a:pt x="48" y="7"/>
                </a:lnTo>
                <a:lnTo>
                  <a:pt x="63" y="16"/>
                </a:lnTo>
                <a:lnTo>
                  <a:pt x="95" y="33"/>
                </a:lnTo>
                <a:lnTo>
                  <a:pt x="110" y="42"/>
                </a:lnTo>
                <a:lnTo>
                  <a:pt x="126" y="4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464160" y="4809960"/>
            <a:ext cx="196920" cy="95400"/>
          </a:xfrm>
          <a:custGeom>
            <a:avLst/>
            <a:gdLst/>
            <a:ahLst/>
            <a:rect l="l" t="t" r="r" b="b"/>
            <a:pathLst>
              <a:path w="124" h="60">
                <a:moveTo>
                  <a:pt x="0" y="0"/>
                </a:moveTo>
                <a:lnTo>
                  <a:pt x="16" y="9"/>
                </a:lnTo>
                <a:lnTo>
                  <a:pt x="32" y="18"/>
                </a:lnTo>
                <a:lnTo>
                  <a:pt x="47" y="30"/>
                </a:lnTo>
                <a:lnTo>
                  <a:pt x="63" y="40"/>
                </a:lnTo>
                <a:lnTo>
                  <a:pt x="77" y="49"/>
                </a:lnTo>
                <a:lnTo>
                  <a:pt x="93" y="56"/>
                </a:lnTo>
                <a:lnTo>
                  <a:pt x="109" y="60"/>
                </a:lnTo>
                <a:lnTo>
                  <a:pt x="117" y="60"/>
                </a:lnTo>
                <a:lnTo>
                  <a:pt x="124" y="5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661080" y="4702320"/>
            <a:ext cx="196920" cy="199800"/>
          </a:xfrm>
          <a:custGeom>
            <a:avLst/>
            <a:gdLst/>
            <a:ahLst/>
            <a:rect l="l" t="t" r="r" b="b"/>
            <a:pathLst>
              <a:path w="124" h="126">
                <a:moveTo>
                  <a:pt x="0" y="126"/>
                </a:moveTo>
                <a:lnTo>
                  <a:pt x="7" y="122"/>
                </a:lnTo>
                <a:lnTo>
                  <a:pt x="16" y="119"/>
                </a:lnTo>
                <a:lnTo>
                  <a:pt x="32" y="108"/>
                </a:lnTo>
                <a:lnTo>
                  <a:pt x="48" y="93"/>
                </a:lnTo>
                <a:lnTo>
                  <a:pt x="62" y="75"/>
                </a:lnTo>
                <a:lnTo>
                  <a:pt x="77" y="56"/>
                </a:lnTo>
                <a:lnTo>
                  <a:pt x="93" y="37"/>
                </a:lnTo>
                <a:lnTo>
                  <a:pt x="109" y="18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858000" y="4471920"/>
            <a:ext cx="200160" cy="230400"/>
          </a:xfrm>
          <a:custGeom>
            <a:avLst/>
            <a:gdLst/>
            <a:ahLst/>
            <a:rect l="l" t="t" r="r" b="b"/>
            <a:pathLst>
              <a:path w="126" h="145">
                <a:moveTo>
                  <a:pt x="0" y="145"/>
                </a:moveTo>
                <a:lnTo>
                  <a:pt x="16" y="128"/>
                </a:lnTo>
                <a:lnTo>
                  <a:pt x="32" y="108"/>
                </a:lnTo>
                <a:lnTo>
                  <a:pt x="63" y="70"/>
                </a:lnTo>
                <a:lnTo>
                  <a:pt x="95" y="33"/>
                </a:lnTo>
                <a:lnTo>
                  <a:pt x="111" y="16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058160" y="4322880"/>
            <a:ext cx="196560" cy="149040"/>
          </a:xfrm>
          <a:custGeom>
            <a:avLst/>
            <a:gdLst/>
            <a:ahLst/>
            <a:rect l="l" t="t" r="r" b="b"/>
            <a:pathLst>
              <a:path w="124" h="94">
                <a:moveTo>
                  <a:pt x="0" y="94"/>
                </a:moveTo>
                <a:lnTo>
                  <a:pt x="32" y="66"/>
                </a:lnTo>
                <a:lnTo>
                  <a:pt x="63" y="40"/>
                </a:lnTo>
                <a:lnTo>
                  <a:pt x="93" y="19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254720" y="4257720"/>
            <a:ext cx="196920" cy="65160"/>
          </a:xfrm>
          <a:custGeom>
            <a:avLst/>
            <a:gdLst/>
            <a:ahLst/>
            <a:rect l="l" t="t" r="r" b="b"/>
            <a:pathLst>
              <a:path w="124" h="41">
                <a:moveTo>
                  <a:pt x="0" y="41"/>
                </a:moveTo>
                <a:lnTo>
                  <a:pt x="4" y="39"/>
                </a:lnTo>
                <a:lnTo>
                  <a:pt x="11" y="39"/>
                </a:lnTo>
                <a:lnTo>
                  <a:pt x="25" y="39"/>
                </a:lnTo>
                <a:lnTo>
                  <a:pt x="42" y="41"/>
                </a:lnTo>
                <a:lnTo>
                  <a:pt x="62" y="41"/>
                </a:lnTo>
                <a:lnTo>
                  <a:pt x="83" y="39"/>
                </a:lnTo>
                <a:lnTo>
                  <a:pt x="91" y="35"/>
                </a:lnTo>
                <a:lnTo>
                  <a:pt x="100" y="32"/>
                </a:lnTo>
                <a:lnTo>
                  <a:pt x="109" y="27"/>
                </a:lnTo>
                <a:lnTo>
                  <a:pt x="114" y="20"/>
                </a:lnTo>
                <a:lnTo>
                  <a:pt x="121" y="1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451640" y="2940120"/>
            <a:ext cx="200160" cy="1317600"/>
          </a:xfrm>
          <a:custGeom>
            <a:avLst/>
            <a:gdLst/>
            <a:ahLst/>
            <a:rect l="l" t="t" r="r" b="b"/>
            <a:pathLst>
              <a:path w="126" h="830">
                <a:moveTo>
                  <a:pt x="0" y="830"/>
                </a:moveTo>
                <a:lnTo>
                  <a:pt x="4" y="816"/>
                </a:lnTo>
                <a:lnTo>
                  <a:pt x="7" y="799"/>
                </a:lnTo>
                <a:lnTo>
                  <a:pt x="13" y="781"/>
                </a:lnTo>
                <a:lnTo>
                  <a:pt x="16" y="762"/>
                </a:lnTo>
                <a:lnTo>
                  <a:pt x="20" y="741"/>
                </a:lnTo>
                <a:lnTo>
                  <a:pt x="23" y="719"/>
                </a:lnTo>
                <a:lnTo>
                  <a:pt x="32" y="671"/>
                </a:lnTo>
                <a:lnTo>
                  <a:pt x="39" y="619"/>
                </a:lnTo>
                <a:lnTo>
                  <a:pt x="48" y="563"/>
                </a:lnTo>
                <a:lnTo>
                  <a:pt x="55" y="505"/>
                </a:lnTo>
                <a:lnTo>
                  <a:pt x="63" y="446"/>
                </a:lnTo>
                <a:lnTo>
                  <a:pt x="79" y="324"/>
                </a:lnTo>
                <a:lnTo>
                  <a:pt x="88" y="264"/>
                </a:lnTo>
                <a:lnTo>
                  <a:pt x="95" y="205"/>
                </a:lnTo>
                <a:lnTo>
                  <a:pt x="104" y="149"/>
                </a:lnTo>
                <a:lnTo>
                  <a:pt x="111" y="95"/>
                </a:lnTo>
                <a:lnTo>
                  <a:pt x="118" y="46"/>
                </a:lnTo>
                <a:lnTo>
                  <a:pt x="123" y="21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651800" y="2100240"/>
            <a:ext cx="196920" cy="839880"/>
          </a:xfrm>
          <a:custGeom>
            <a:avLst/>
            <a:gdLst/>
            <a:ahLst/>
            <a:rect l="l" t="t" r="r" b="b"/>
            <a:pathLst>
              <a:path w="124" h="529">
                <a:moveTo>
                  <a:pt x="0" y="529"/>
                </a:moveTo>
                <a:lnTo>
                  <a:pt x="7" y="487"/>
                </a:lnTo>
                <a:lnTo>
                  <a:pt x="16" y="447"/>
                </a:lnTo>
                <a:lnTo>
                  <a:pt x="23" y="409"/>
                </a:lnTo>
                <a:lnTo>
                  <a:pt x="32" y="372"/>
                </a:lnTo>
                <a:lnTo>
                  <a:pt x="48" y="302"/>
                </a:lnTo>
                <a:lnTo>
                  <a:pt x="63" y="236"/>
                </a:lnTo>
                <a:lnTo>
                  <a:pt x="77" y="173"/>
                </a:lnTo>
                <a:lnTo>
                  <a:pt x="93" y="113"/>
                </a:lnTo>
                <a:lnTo>
                  <a:pt x="109" y="5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848720" y="1506600"/>
            <a:ext cx="198360" cy="593640"/>
          </a:xfrm>
          <a:custGeom>
            <a:avLst/>
            <a:gdLst/>
            <a:ahLst/>
            <a:rect l="l" t="t" r="r" b="b"/>
            <a:pathLst>
              <a:path w="125" h="374">
                <a:moveTo>
                  <a:pt x="0" y="374"/>
                </a:moveTo>
                <a:lnTo>
                  <a:pt x="7" y="344"/>
                </a:lnTo>
                <a:lnTo>
                  <a:pt x="16" y="313"/>
                </a:lnTo>
                <a:lnTo>
                  <a:pt x="32" y="248"/>
                </a:lnTo>
                <a:lnTo>
                  <a:pt x="48" y="181"/>
                </a:lnTo>
                <a:lnTo>
                  <a:pt x="55" y="150"/>
                </a:lnTo>
                <a:lnTo>
                  <a:pt x="62" y="120"/>
                </a:lnTo>
                <a:lnTo>
                  <a:pt x="70" y="92"/>
                </a:lnTo>
                <a:lnTo>
                  <a:pt x="77" y="66"/>
                </a:lnTo>
                <a:lnTo>
                  <a:pt x="86" y="45"/>
                </a:lnTo>
                <a:lnTo>
                  <a:pt x="93" y="26"/>
                </a:lnTo>
                <a:lnTo>
                  <a:pt x="102" y="12"/>
                </a:lnTo>
                <a:lnTo>
                  <a:pt x="105" y="7"/>
                </a:lnTo>
                <a:lnTo>
                  <a:pt x="109" y="3"/>
                </a:lnTo>
                <a:lnTo>
                  <a:pt x="112" y="1"/>
                </a:lnTo>
                <a:lnTo>
                  <a:pt x="118" y="0"/>
                </a:lnTo>
                <a:lnTo>
                  <a:pt x="121" y="1"/>
                </a:lnTo>
                <a:lnTo>
                  <a:pt x="125" y="3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047080" y="1511280"/>
            <a:ext cx="198360" cy="897120"/>
          </a:xfrm>
          <a:custGeom>
            <a:avLst/>
            <a:gdLst/>
            <a:ahLst/>
            <a:rect l="l" t="t" r="r" b="b"/>
            <a:pathLst>
              <a:path w="125" h="565">
                <a:moveTo>
                  <a:pt x="0" y="0"/>
                </a:moveTo>
                <a:lnTo>
                  <a:pt x="3" y="4"/>
                </a:lnTo>
                <a:lnTo>
                  <a:pt x="6" y="11"/>
                </a:lnTo>
                <a:lnTo>
                  <a:pt x="12" y="18"/>
                </a:lnTo>
                <a:lnTo>
                  <a:pt x="15" y="28"/>
                </a:lnTo>
                <a:lnTo>
                  <a:pt x="19" y="39"/>
                </a:lnTo>
                <a:lnTo>
                  <a:pt x="22" y="51"/>
                </a:lnTo>
                <a:lnTo>
                  <a:pt x="27" y="67"/>
                </a:lnTo>
                <a:lnTo>
                  <a:pt x="31" y="81"/>
                </a:lnTo>
                <a:lnTo>
                  <a:pt x="38" y="116"/>
                </a:lnTo>
                <a:lnTo>
                  <a:pt x="47" y="154"/>
                </a:lnTo>
                <a:lnTo>
                  <a:pt x="54" y="196"/>
                </a:lnTo>
                <a:lnTo>
                  <a:pt x="62" y="240"/>
                </a:lnTo>
                <a:lnTo>
                  <a:pt x="71" y="283"/>
                </a:lnTo>
                <a:lnTo>
                  <a:pt x="78" y="329"/>
                </a:lnTo>
                <a:lnTo>
                  <a:pt x="87" y="374"/>
                </a:lnTo>
                <a:lnTo>
                  <a:pt x="94" y="418"/>
                </a:lnTo>
                <a:lnTo>
                  <a:pt x="103" y="460"/>
                </a:lnTo>
                <a:lnTo>
                  <a:pt x="110" y="500"/>
                </a:lnTo>
                <a:lnTo>
                  <a:pt x="117" y="535"/>
                </a:lnTo>
                <a:lnTo>
                  <a:pt x="122" y="551"/>
                </a:lnTo>
                <a:lnTo>
                  <a:pt x="125" y="56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245440" y="2408400"/>
            <a:ext cx="196920" cy="515880"/>
          </a:xfrm>
          <a:custGeom>
            <a:avLst/>
            <a:gdLst/>
            <a:ahLst/>
            <a:rect l="l" t="t" r="r" b="b"/>
            <a:pathLst>
              <a:path w="124" h="325">
                <a:moveTo>
                  <a:pt x="0" y="0"/>
                </a:moveTo>
                <a:lnTo>
                  <a:pt x="7" y="26"/>
                </a:lnTo>
                <a:lnTo>
                  <a:pt x="16" y="50"/>
                </a:lnTo>
                <a:lnTo>
                  <a:pt x="23" y="73"/>
                </a:lnTo>
                <a:lnTo>
                  <a:pt x="32" y="94"/>
                </a:lnTo>
                <a:lnTo>
                  <a:pt x="48" y="133"/>
                </a:lnTo>
                <a:lnTo>
                  <a:pt x="63" y="169"/>
                </a:lnTo>
                <a:lnTo>
                  <a:pt x="77" y="204"/>
                </a:lnTo>
                <a:lnTo>
                  <a:pt x="93" y="239"/>
                </a:lnTo>
                <a:lnTo>
                  <a:pt x="102" y="258"/>
                </a:lnTo>
                <a:lnTo>
                  <a:pt x="109" y="279"/>
                </a:lnTo>
                <a:lnTo>
                  <a:pt x="117" y="302"/>
                </a:lnTo>
                <a:lnTo>
                  <a:pt x="124" y="32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8442360" y="2924280"/>
            <a:ext cx="198360" cy="728640"/>
          </a:xfrm>
          <a:custGeom>
            <a:avLst/>
            <a:gdLst/>
            <a:ahLst/>
            <a:rect l="l" t="t" r="r" b="b"/>
            <a:pathLst>
              <a:path w="125" h="459">
                <a:moveTo>
                  <a:pt x="0" y="0"/>
                </a:moveTo>
                <a:lnTo>
                  <a:pt x="16" y="50"/>
                </a:lnTo>
                <a:lnTo>
                  <a:pt x="32" y="105"/>
                </a:lnTo>
                <a:lnTo>
                  <a:pt x="48" y="162"/>
                </a:lnTo>
                <a:lnTo>
                  <a:pt x="62" y="222"/>
                </a:lnTo>
                <a:lnTo>
                  <a:pt x="93" y="341"/>
                </a:lnTo>
                <a:lnTo>
                  <a:pt x="109" y="402"/>
                </a:lnTo>
                <a:lnTo>
                  <a:pt x="125" y="45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16080" y="554508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16080" y="507348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20840" y="4602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85280" y="4127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85280" y="3656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82320" y="3184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82320" y="2712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82320" y="2238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82320" y="1766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82320" y="1295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4128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14192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90368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71620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1648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28184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09112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89140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65676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46604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6632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8841960" y="5545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841960" y="49388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8802360" y="43308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8802360" y="3722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8802360" y="3117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8802360" y="25099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8802360" y="1903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8802360" y="1295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548000" y="1600200"/>
            <a:ext cx="6212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66ff33"/>
                </a:solidFill>
                <a:latin typeface="Arial"/>
              </a:rPr>
              <a:t>Exchange Rate Depreciation accumulated in 3 months in t-3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66ff33"/>
                </a:solidFill>
                <a:latin typeface="Arial"/>
              </a:rPr>
              <a:t>Left Sc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666880" y="5502240"/>
            <a:ext cx="5334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Accumulated Inflation in 3 months, annualiz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ffff00"/>
                </a:solidFill>
                <a:latin typeface="Arial"/>
              </a:rPr>
              <a:t>Right Sc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1447920" y="2438280"/>
            <a:ext cx="761760" cy="0"/>
          </a:xfrm>
          <a:prstGeom prst="line">
            <a:avLst/>
          </a:prstGeom>
          <a:ln w="0">
            <a:solidFill>
              <a:srgbClr val="66ff33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238880" y="5029200"/>
            <a:ext cx="685800" cy="0"/>
          </a:xfrm>
          <a:prstGeom prst="line">
            <a:avLst/>
          </a:prstGeom>
          <a:ln w="0">
            <a:solidFill>
              <a:srgbClr val="ffff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Recursive estimate: Change in the pass-throug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3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84103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" descr=""/>
          <p:cNvPicPr/>
          <p:nvPr/>
        </p:nvPicPr>
        <p:blipFill>
          <a:blip r:embed="rId1"/>
          <a:stretch/>
        </p:blipFill>
        <p:spPr>
          <a:xfrm>
            <a:off x="1219320" y="1751040"/>
            <a:ext cx="73152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/>
          <p:nvPr/>
        </p:nvSpPr>
        <p:spPr>
          <a:xfrm>
            <a:off x="3048120" y="838080"/>
            <a:ext cx="6095880" cy="7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f01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8246520" y="2438280"/>
            <a:ext cx="526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br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,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46120" y="2251080"/>
            <a:ext cx="546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z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,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500960" y="2743200"/>
            <a:ext cx="685800" cy="533520"/>
          </a:xfrm>
          <a:prstGeom prst="line">
            <a:avLst/>
          </a:prstGeom>
          <a:ln w="0">
            <a:solidFill>
              <a:srgbClr val="ffffff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259920" y="294336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734160" y="2166840"/>
            <a:ext cx="762120" cy="5763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244520" y="2219400"/>
            <a:ext cx="8748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332000" y="2219400"/>
            <a:ext cx="73080" cy="1746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405080" y="2394000"/>
            <a:ext cx="87120" cy="176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492200" y="2570040"/>
            <a:ext cx="87480" cy="203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79680" y="2773440"/>
            <a:ext cx="87120" cy="145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666800" y="2919240"/>
            <a:ext cx="87480" cy="174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754280" y="3094200"/>
            <a:ext cx="73080" cy="871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827360" y="3181320"/>
            <a:ext cx="87120" cy="117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914480" y="3298680"/>
            <a:ext cx="874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001960" y="3444840"/>
            <a:ext cx="87120" cy="1602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089080" y="3605040"/>
            <a:ext cx="730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162160" y="3751200"/>
            <a:ext cx="874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249640" y="3765600"/>
            <a:ext cx="889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2338560" y="3808440"/>
            <a:ext cx="8712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425680" y="3808440"/>
            <a:ext cx="874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513160" y="3867120"/>
            <a:ext cx="72720" cy="1033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585880" y="3970440"/>
            <a:ext cx="87480" cy="871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673360" y="4057560"/>
            <a:ext cx="87480" cy="115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760840" y="4173480"/>
            <a:ext cx="8712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847960" y="4232160"/>
            <a:ext cx="730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921040" y="4246560"/>
            <a:ext cx="8712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008160" y="4246560"/>
            <a:ext cx="874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095640" y="427500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182760" y="4275000"/>
            <a:ext cx="87480" cy="59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270240" y="4334040"/>
            <a:ext cx="7308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343320" y="4348080"/>
            <a:ext cx="8712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430440" y="4363920"/>
            <a:ext cx="8892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3519360" y="4435560"/>
            <a:ext cx="874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606840" y="4435560"/>
            <a:ext cx="730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679920" y="4494240"/>
            <a:ext cx="8712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767040" y="4538520"/>
            <a:ext cx="8748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854520" y="4611600"/>
            <a:ext cx="87120" cy="28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941640" y="4640400"/>
            <a:ext cx="874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029120" y="4668840"/>
            <a:ext cx="730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102200" y="4699080"/>
            <a:ext cx="8712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189320" y="4713120"/>
            <a:ext cx="8748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4276800" y="4640400"/>
            <a:ext cx="87120" cy="727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4363920" y="4552560"/>
            <a:ext cx="730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4437000" y="450828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524480" y="4508640"/>
            <a:ext cx="87120" cy="298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4611600" y="4508280"/>
            <a:ext cx="88920" cy="298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4700520" y="4363920"/>
            <a:ext cx="87480" cy="1447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4788000" y="4217760"/>
            <a:ext cx="73080" cy="145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4861080" y="4144680"/>
            <a:ext cx="871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4948200" y="3998880"/>
            <a:ext cx="874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5035680" y="3852720"/>
            <a:ext cx="8712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5122800" y="3823920"/>
            <a:ext cx="730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195880" y="3824280"/>
            <a:ext cx="874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283360" y="3838680"/>
            <a:ext cx="87120" cy="115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370480" y="3954600"/>
            <a:ext cx="87480" cy="117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457960" y="4071960"/>
            <a:ext cx="727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530680" y="408636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5618160" y="4114800"/>
            <a:ext cx="874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5705640" y="4057200"/>
            <a:ext cx="88560" cy="57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5794200" y="3954600"/>
            <a:ext cx="87480" cy="102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881680" y="3954600"/>
            <a:ext cx="730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954760" y="3970440"/>
            <a:ext cx="87120" cy="129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41880" y="4100400"/>
            <a:ext cx="874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129360" y="4187880"/>
            <a:ext cx="8712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216480" y="4187880"/>
            <a:ext cx="7308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289560" y="4144680"/>
            <a:ext cx="87480" cy="42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6377040" y="4130640"/>
            <a:ext cx="871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6464160" y="4100400"/>
            <a:ext cx="874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6551640" y="4057200"/>
            <a:ext cx="87120" cy="42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6638760" y="4012920"/>
            <a:ext cx="730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711840" y="401328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799320" y="4057560"/>
            <a:ext cx="871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86440" y="4130640"/>
            <a:ext cx="889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6975360" y="4041360"/>
            <a:ext cx="71640" cy="88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7047000" y="3984120"/>
            <a:ext cx="88920" cy="57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135920" y="398448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223040" y="3984480"/>
            <a:ext cx="8748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310520" y="3984480"/>
            <a:ext cx="871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7397640" y="3970080"/>
            <a:ext cx="730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7470720" y="3940200"/>
            <a:ext cx="874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558200" y="3940200"/>
            <a:ext cx="8712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645320" y="3970440"/>
            <a:ext cx="8748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7732800" y="3984480"/>
            <a:ext cx="730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805880" y="399888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7893000" y="3939840"/>
            <a:ext cx="874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V="1">
            <a:off x="7980480" y="3881160"/>
            <a:ext cx="8712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8067600" y="3574800"/>
            <a:ext cx="88920" cy="306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8156520" y="3385800"/>
            <a:ext cx="73080" cy="1890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8229600" y="3138480"/>
            <a:ext cx="87480" cy="247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8317080" y="3033360"/>
            <a:ext cx="56880" cy="1047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8404200" y="2890440"/>
            <a:ext cx="874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845640" y="4815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845640" y="4202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32960" y="35910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32960" y="297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32960" y="2365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32960" y="1752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rot="16200000">
            <a:off x="9723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rot="16200000">
            <a:off x="128088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rot="16200000">
            <a:off x="16437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rot="16200000">
            <a:off x="19789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rot="16200000">
            <a:off x="228564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rot="16200000">
            <a:off x="26503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rot="16200000">
            <a:off x="29995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rot="16200000">
            <a:off x="330624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rot="16200000">
            <a:off x="36709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rot="16200000">
            <a:off x="40075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rot="16200000">
            <a:off x="431280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rot="16200000">
            <a:off x="46760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rot="16200000">
            <a:off x="50126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rot="16200000">
            <a:off x="531936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rot="16200000">
            <a:off x="56822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rot="16200000">
            <a:off x="60188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rot="16200000">
            <a:off x="633996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rot="16200000">
            <a:off x="67032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rot="16200000">
            <a:off x="70398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rot="16200000">
            <a:off x="734652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rot="16200000">
            <a:off x="77112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rot="16200000">
            <a:off x="80445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8339040" y="2971440"/>
            <a:ext cx="57240" cy="1047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089080" y="304920"/>
            <a:ext cx="7101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Humanst521 Cn BT"/>
              </a:rPr>
              <a:t>Accumulated Inflation – 12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hocks and adjusted targets: the case of Brazil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o accommodate its direct imp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o fight secondary effects, but choosing some horizon to weed out these effects – some weight to output variability in the objective fun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35072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hodolog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shocks (supply shock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mmodate direct impact, and fight part of inertia inherited from the previous year (secondary effec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 different inflation and output trajectories associated with different interest rate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ooses the optimal path based on CB’s aversion to inflation var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ed target is publicly annou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azil: Adjusted target 2003 and 200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1"/>
          <a:stretch/>
        </p:blipFill>
        <p:spPr>
          <a:xfrm>
            <a:off x="762120" y="2017800"/>
            <a:ext cx="765648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flation Expect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4" name="" descr=""/>
          <p:cNvPicPr/>
          <p:nvPr/>
        </p:nvPicPr>
        <p:blipFill>
          <a:blip r:embed="rId1"/>
          <a:srcRect l="0" t="8669" r="0" b="80941"/>
          <a:stretch/>
        </p:blipFill>
        <p:spPr>
          <a:xfrm>
            <a:off x="533520" y="1981080"/>
            <a:ext cx="7543800" cy="457200"/>
          </a:xfrm>
          <a:prstGeom prst="rect">
            <a:avLst/>
          </a:prstGeom>
          <a:ln w="0">
            <a:noFill/>
          </a:ln>
        </p:spPr>
      </p:pic>
      <p:pic>
        <p:nvPicPr>
          <p:cNvPr id="1615" name="" descr=""/>
          <p:cNvPicPr/>
          <p:nvPr/>
        </p:nvPicPr>
        <p:blipFill>
          <a:blip r:embed="rId2"/>
          <a:stretch/>
        </p:blipFill>
        <p:spPr>
          <a:xfrm>
            <a:off x="609480" y="2496960"/>
            <a:ext cx="777240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)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razil: developments and the disinflation process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V) Challenges: Fiscal Domina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"/>
          <p:cNvSpPr/>
          <p:nvPr/>
        </p:nvSpPr>
        <p:spPr>
          <a:xfrm>
            <a:off x="1295280" y="914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371600" y="304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f a Country has a high debt level, Fiscal Dominance (F.D.) is a pos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80880" y="6172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lanchard (2003) discusses this efect for the Brazil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304920" y="1905120"/>
            <a:ext cx="8686800" cy="4041000"/>
            <a:chOff x="304920" y="1905120"/>
            <a:chExt cx="8686800" cy="4041000"/>
          </a:xfrm>
        </p:grpSpPr>
        <p:sp>
          <p:nvSpPr>
            <p:cNvPr id="1621" name=""/>
            <p:cNvSpPr/>
            <p:nvPr/>
          </p:nvSpPr>
          <p:spPr>
            <a:xfrm>
              <a:off x="380880" y="28195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terest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638680" y="21337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  <a:ea typeface="Arial Unicode MS"/>
                </a:rPr>
                <a:t>Inf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24080" y="19051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Output G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581280" y="30481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change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057400" y="236196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304920" y="304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3581280" y="2057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638680" y="2133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87692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057400" y="3352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505320" y="3124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5105520" y="28195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238880" y="1905120"/>
              <a:ext cx="17528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radicional Chann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981080" y="388620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2819520" y="4267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048120" y="41911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Probability of defa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648320" y="4572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7543800" y="4343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858000" y="4648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010280" y="3657600"/>
              <a:ext cx="19814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F.Domin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562720" y="4267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562720" y="419112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Exchange 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467480" y="4419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  <a:ea typeface="Arial Unicode MS"/>
                </a:rPr>
                <a:t>Inf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4647960" y="4800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886200" y="5029200"/>
              <a:ext cx="220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99"/>
                  </a:solidFill>
                  <a:latin typeface="Tahoma"/>
                </a:rPr>
                <a:t>(Feedback, in case o dolar linked deb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6" name=""/>
          <p:cNvGraphicFramePr/>
          <p:nvPr/>
        </p:nvGraphicFramePr>
        <p:xfrm>
          <a:off x="1066680" y="1828800"/>
          <a:ext cx="7239240" cy="48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23924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8" name=""/>
          <p:cNvSpPr/>
          <p:nvPr/>
        </p:nvSpPr>
        <p:spPr>
          <a:xfrm>
            <a:off x="1371600" y="3049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al exchange rate depreciation due to the 2001 crisis (energy + Argentina) and 2002 crises (confidence) push the debt/GDP ratio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9" name="" descr=""/>
          <p:cNvPicPr/>
          <p:nvPr/>
        </p:nvPicPr>
        <p:blipFill>
          <a:blip r:embed="rId1"/>
          <a:stretch/>
        </p:blipFill>
        <p:spPr>
          <a:xfrm>
            <a:off x="1447920" y="1844640"/>
            <a:ext cx="7162560" cy="5013360"/>
          </a:xfrm>
          <a:prstGeom prst="rect">
            <a:avLst/>
          </a:prstGeom>
          <a:ln w="0">
            <a:noFill/>
          </a:ln>
        </p:spPr>
      </p:pic>
      <p:sp>
        <p:nvSpPr>
          <p:cNvPr id="1650" name=""/>
          <p:cNvSpPr/>
          <p:nvPr/>
        </p:nvSpPr>
        <p:spPr>
          <a:xfrm>
            <a:off x="13716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nd also did the monetary tight i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in EMEs has been relatively successful but has shown to be a more challenging task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building cred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reducing inflatio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external shock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Fiscal domin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razil has been a stress test for the reg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clusions II: “sudden stops”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shocks tend to play a more important role in EMEs than in developed econom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Es are subject to “sudden stop” in capital flow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exchange rate depreciations lead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breaches of targ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higher volatility of inflation, output, exchange rate and interest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clusions III: Response to shock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optimal response will depend on the nature of the shock, on a number of economic parameters and elasticities, and on the preferences of society relative to the inflation versus output-gap volatility trade-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IV: Horiz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magic number. It depends on the type, size and persistence of the sh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MEs are more subject to larger shocks -&gt; longer target horiz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t, with a central bank building credibility, longer horizons could be interpreted as lenien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V: How to deal with higher volatilit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To build credibil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good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solve fiscal and external frag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Use flexibility to deal with sh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ucial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munication and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Macroeconomic Pol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de liberalization 199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flation stabilization, Real plan 199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nking reform, 19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flation targeting adopted in 1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loating exchange rate in January 1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und fiscal policy: agreement with local governments 1997, primary surpluses 199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716256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High inflation period ended in 1994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8156" r="0" b="11284"/>
          <a:stretch/>
        </p:blipFill>
        <p:spPr>
          <a:xfrm>
            <a:off x="685800" y="2666880"/>
            <a:ext cx="7772400" cy="3810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86000" y="1981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PCA, YoY % 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37360" y="762120"/>
            <a:ext cx="42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iscal Primary Sur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62120" y="1560600"/>
            <a:ext cx="70866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762012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00:33Z</dcterms:created>
  <dc:creator>"a</dc:creator>
  <dc:description/>
  <dc:language>en-US</dc:language>
  <cp:lastModifiedBy>Administrador</cp:lastModifiedBy>
  <dcterms:modified xsi:type="dcterms:W3CDTF">2004-09-27T23:09:05Z</dcterms:modified>
  <cp:revision>184</cp:revision>
  <dc:subject/>
  <dc:title>Inflation Targeting in Emerging Market Econom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69781796</vt:r8>
  </property>
  <property fmtid="{D5CDD505-2E9C-101B-9397-08002B2CF9AE}" pid="3" name="_AuthorEmail">
    <vt:lpwstr>ibarenboim@gaveainvest.com.br</vt:lpwstr>
  </property>
  <property fmtid="{D5CDD505-2E9C-101B-9397-08002B2CF9AE}" pid="4" name="_AuthorEmailDisplayName">
    <vt:lpwstr>Igor Barenboim (RJ)</vt:lpwstr>
  </property>
  <property fmtid="{D5CDD505-2E9C-101B-9397-08002B2CF9AE}" pid="5" name="_EmailSubject">
    <vt:lpwstr>consegui abrir a apresentação</vt:lpwstr>
  </property>
  <property fmtid="{D5CDD505-2E9C-101B-9397-08002B2CF9AE}" pid="6" name="_PreviousAdHocReviewCycleID">
    <vt:r8>-1433890333</vt:r8>
  </property>
  <property fmtid="{D5CDD505-2E9C-101B-9397-08002B2CF9AE}" pid="7" name="_ReviewingToolsShownOnce">
    <vt:lpwstr/>
  </property>
</Properties>
</file>