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4CFB-D667-4C19-8865-AAF3E1238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11C5-BC2F-4C60-B18A-1F60229DB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A3EB-4734-4926-B43D-F0E24A536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8D63-2CC7-4EB9-B7FC-41977D1FE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0225-A3F0-4584-A23D-ACB12225B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32D9-0CD3-42E1-899B-956939BFF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BFD5-76C5-4FE4-AABB-8BD00CCE6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6B08-1B9B-45D7-B54F-B5C6E0703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C5DA-7FC2-41B6-A48A-6E7157BA7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52AE-909B-473A-8194-98A95E8C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49C0-3998-41D1-B2BA-394D93003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76C7-6E1F-4720-925F-A77BB89B0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4212E-D8F8-4904-9329-ABCA346E0F70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lation Targeting in a high public debt cou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lation and the exchange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lation, the real exchange rate, and fiscal domi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lation and GDP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 exchange rate and the current accou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 months inflation rates – Wholesale prices are more affected by the exchange rate than consumer pr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691200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gets and 12 months rates of the headline and core inf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71640" y="1254240"/>
            <a:ext cx="7129440" cy="48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nnualized Monthly Core Inflation Rates and Inflation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26920" y="1270080"/>
            <a:ext cx="7417080" cy="49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recently the favorable international economic conditions  are leading to the appreciation of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late May 2004 perspectives concerning the interest rate adjustment in United States improved, leading to a decline in Treasury Bonds yields and in emerging markets risk premium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mption of stronger capital inflows helped to appreciate the Brazilian currency, relatively reducing inflation pressures on tradable goods pric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est rates in U. 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187280" y="1290600"/>
            <a:ext cx="6913800" cy="47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zil: Exchange rate and risk prem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042920" y="1336680"/>
            <a:ext cx="6913800" cy="48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k premium in other emerging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187280" y="1204920"/>
            <a:ext cx="6840720" cy="52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a complex causation network linking the public debt, the risk premium, the real exchange rate, and the interest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 its size and its high dollar linked proportion, the public debt dynamics is also dependent upon the real exchange r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ncrease in the risk perception concerning the public debt sustainability leads to a decline in the demand for Brazilian bonds, rising risk premiums and depreciating the real exchange rate, which leads to a new round of increase in the debt/GDP rati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xchange rate depreciation rises actual inflation and inflation expectations, leading to a rise in interest r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r real interest rates causes low growth rates, that combined with a more depreciated real exchange rate requires a higher primary fiscal surplus to stabilize the debt/GDP rati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et public debt in propotion to GDP and the real exchange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662472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position of the Federal Domestic Public Deb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662472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iscal Policy, the Public Debt, and Monetary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he exchange rate is very volatile, and heavily dependent upon capital flow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ublic debt dynamics is affected by the real exchange rate. Real and nominal exchange rate are highly correl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pital flows are affected by: a) risk perceptions concerning the public debt sustainability; b) external conditions, as the degree of international liquidity and the degree of risk aver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onger-term interest rate is affected by the fluctuations in risk premium and in the nominal exchange rate (through inflation expect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547640" y="1362240"/>
            <a:ext cx="6337440" cy="47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obg-Term interest rate and the basic interest rate follow similar paths, although with lag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42920" y="1538280"/>
            <a:ext cx="6985080" cy="46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ole of fiscal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order to breach such causation chain, the primary fiscal surpluses have to be high enough to lead to a debt/GDP redu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h aim turns more difficult due to the covariance structure of the variables affecting the equation of the public debt dynamics – the real interest rate, the real exchange rate, and the GDP growth r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real exchange rate depreciation leads to more inflation, that requires an increase in the real interest rate, that leads to a decline in GDP growth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ll such changes act in the same direction, which is a worsening of the public debt dynamic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a consequence the primary fiscal surplus has to be high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imary Fiscal Surpluses since 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187280" y="1174680"/>
            <a:ext cx="6840720" cy="50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-cyclical nature of fiscal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aiming at a fixed primary fiscal surplus target, government has to cut spending when tax revenues are declining in face of a downward GDP cycle, and to increase spending when the economy is growing fast, leading to a rise in tax collect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h pro-cyclical nature becomes visible by observing the revenues and expenditures behavior in two succeeding cyc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2003 cont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2004 reco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et Non-Financial Expenditures and Revenues of the 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ederal 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6769080" cy="49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axes and Contributions  and  Expendi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74739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entions in the foreign exchange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of the time the exchange rate is completely free to flo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there were excep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2001, when the contagion from the Argentina crisis hit Brazi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2002 when there was a sudden-stop in capital inflows that significantly depreciated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entral Bank – Foreign Exchange Sales on the Spot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826920" y="984240"/>
            <a:ext cx="7561440" cy="58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tocks of Dollar Bonds and Exchange Rate Swaps – US$ b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71640" y="1008000"/>
            <a:ext cx="7272360" cy="57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the adherence to the floating exchange rate regime, in 1999, the exchange rate turned very volatile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55640" y="1352520"/>
            <a:ext cx="7416720" cy="51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Yields of the 360-Day Exchange Rate Sw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00000" y="950760"/>
            <a:ext cx="734400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ic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a short recession in 2003, the economy rebounded in 200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strial output is leading such rebound, which has been mostly and export-lead growt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ualized quarterly rates of GDP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332000" y="1274760"/>
            <a:ext cx="655308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strial 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26920" y="950760"/>
            <a:ext cx="756144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 Exchange Rate and the Current Ac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1998/99 the current account deficit reached an unsustainable level, close to 5% of GDP. Since then the real exchange rate depreciation lead to an equilibrium, and more recently to a surpl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orts were boosted, and are presently rising around 30% per year, and imports are recovering with the rebound in industrial acti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the current account adjustment had as a counterpart a reduction in consumption and in investmen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Account bal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116000" y="1346040"/>
            <a:ext cx="6840720" cy="48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urrent Account Balance and Real Exchange Rate – quarterly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826920" y="1281240"/>
            <a:ext cx="6985080" cy="48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orts, Imports and Trade Bal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748800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..but the current account adjustment lead to a decline in the Consumption/GDP rat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187280" y="1405080"/>
            <a:ext cx="6769440" cy="45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..which was produced by the decline in real w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55640" y="1162080"/>
            <a:ext cx="7272360" cy="55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fluctuations of the nominal exchange rate are highly correlated with the real exchange rate fluctuat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332000" y="1444680"/>
            <a:ext cx="648000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stments/GDP are also negatively correlated with the Current Account/G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116000" y="1353960"/>
            <a:ext cx="6912000" cy="47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h volatility is partly a consequence of the exchange rate reg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“crawling-peg” regime (until late 1998), external shocks were absorbed by the real interest rat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floating exchange rate regime the real interest rate volatility declined, and shocks are predominantly absorbed by the exchange ra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124000" y="1278000"/>
            <a:ext cx="482436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ital flows are an important driving force affecting the exchange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rise in the demand for bonds produces two effec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secondary market it rises prices and reduces risk premium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also increases the demand for newly issued bonds, increasing capital inflows, and appreciating the exchange r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a consequence we should expect a positive correlation between risk-premiums and the nominal exchange r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763640" y="3801960"/>
            <a:ext cx="590400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..but risk premiums (and the exchange rate) are also affected by risk aversion and the international liquid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16000" y="1424160"/>
            <a:ext cx="684072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flation and shocks in the exchange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Which has been the inflation rates behavior during the inflation targeting regim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change Rate (in levels) and Monthly Inflation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116000" y="1351080"/>
            <a:ext cx="676908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1T13:17:25Z</dcterms:created>
  <dc:creator>affonso</dc:creator>
  <dc:description/>
  <dc:language>en-US</dc:language>
  <cp:lastModifiedBy>affonso</cp:lastModifiedBy>
  <dcterms:modified xsi:type="dcterms:W3CDTF">2004-09-24T16:01:07Z</dcterms:modified>
  <cp:revision>50</cp:revision>
  <dc:subject/>
  <dc:title>Consolidated Net Public Debt over GDP</dc:title>
</cp:coreProperties>
</file>