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72D-55F6-422C-B6C5-2C650377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DA7-F91B-470F-BF26-BE816982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4F4-DB8F-4C00-A43D-1E141E9C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830-7711-4AA9-9146-5ACB9E72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48F-DBDD-4E6B-AFB0-95D93EB3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016-EA81-4EB2-BD13-C641F882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2DD-3049-437D-BB0E-FEF5890B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0DC-B8CB-497C-B445-B0E3E216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44D-64AD-4C94-9C0D-1EC810D7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2BBA-5098-459E-9555-0F3A767D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50C-3A79-46B2-9E2E-71FB4C8B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8F79-1348-4A26-BC8B-BA1B23BB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1C2B-1EDD-409E-86E8-FDC40FFBD91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Targeting in a high public debt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, the real exchange rate, and fiscal dom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GDP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xchange rate and the current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months inflation rates – Wholesale prices are more affected by the exchange rate than consumer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12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s and 12 months rates of the headline and core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1254240"/>
            <a:ext cx="71294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nualized Monthly Core Inflation Rates and Inflation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1270080"/>
            <a:ext cx="741708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ecently the favorable international economic conditions  are leading to the appreciation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late May 2004 perspectives concerning the interest rate adjustment in United States improved, leading to a decline in Treasury Bonds yields and in emerging markets risk premiu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mption of stronger capital inflows helped to appreciate the Brazilian currency, relatively reducing inflation pressures on tradable goods pr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 rates in U. 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87280" y="1290600"/>
            <a:ext cx="691380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: Exchange rate and risk prem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1336680"/>
            <a:ext cx="69138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premium in other emerging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87280" y="1204920"/>
            <a:ext cx="68407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omplex causation network linking the public debt, the risk premium, the real exchange rate, and the interes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its size and its high dollar linked proportion, the public debt dynamics is also dependent upon the real exchange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crease in the risk perception concerning the public debt sustainability leads to a decline in the demand for Brazilian bonds, rising risk premiums and depreciating the real exchange rate, which leads to a new round of increase in the debt/GDP rat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depreciation rises actual inflation and inflation expectations, leading to a rise in interest r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real interest rates causes low growth rates, that combined with a more depreciated real exchange rate requires a higher primary fiscal surplus to stabilize the debt/GDP rat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t public debt in propotion to GDP and the real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6247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ition of the Federal Domestic Public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6247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scal Policy, the Public Debt, and Monetar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he exchange rate is very volatile, and heavily dependent upon capital f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ublic debt dynamics is affected by the real exchange rate. Real and nominal exchange rate are highly cor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ital flows are affected by: a) risk perceptions concerning the public debt sustainability; b) external conditions, as the degree of international liquidity and the degree of risk aver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nger-term interest rate is affected by the fluctuations in risk premium and in the nominal exchange rate (through inflation expect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47640" y="1362240"/>
            <a:ext cx="633744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bg-Term interest rate and the basic interest rate follow similar paths, although with la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42920" y="1538280"/>
            <a:ext cx="69850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le of fisc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breach such causation chain, the primary fiscal surpluses have to be high enough to lead to a debt/GDP re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im turns more difficult due to the covariance structure of the variables affecting the equation of the public debt dynamics – the real interest rate, the real exchange rate, and the GDP growth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al exchange rate depreciation leads to more inflation, that requires an increase in the real interest rate, that leads to a decline in GDP growth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 such changes act in the same direction, which is a worsening of the public debt dynam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onsequence the primary fiscal surplus has to be hig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mary Fiscal Surpluses since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87280" y="1174680"/>
            <a:ext cx="684072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-cyclical nature of fisc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iming at a fixed primary fiscal surplus target, government has to cut spending when tax revenues are declining in face of a downward GDP cycle, and to increase spending when the economy is growing fast, leading to a rise in tax colle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pro-cyclical nature becomes visible by observing the revenues and expenditures behavior in two succeeding cyc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03 con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04 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t Non-Financial Expenditures and Revenues of the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ederal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es and Contributions  and  Expendi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473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tions in the foreign exchang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time the exchange rate is completely free to flo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re were exce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1, when the contagion from the Argentina crisis hit Brazi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2 when there was a sudden-stop in capital inflows that significantly depreciat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ntral Bank – Foreign Exchange Sales on the Spot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984240"/>
            <a:ext cx="756144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ocks of Dollar Bonds and Exchange Rate Swaps – US$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1008000"/>
            <a:ext cx="727236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adherence to the floating exchange rate regime, in 1999, the exchange rate turned very volatil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52520"/>
            <a:ext cx="74167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Yields of the 360-Day Exchange Rate Sw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950760"/>
            <a:ext cx="7344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a short recession in 2003, the economy rebounded in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output is leading such rebound, which has been mostly and export-lead grow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ized quarterly rates of GDP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1274760"/>
            <a:ext cx="6553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950760"/>
            <a:ext cx="75614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xchange Rate and the Current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8/99 the current account deficit reached an unsustainable level, close to 5% of GDP. Since then the real exchange rate depreciation lead to an equilibrium, and more recently to a sur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 were boosted, and are presently rising around 30% per year, and imports are recovering with the rebound in industrial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current account adjustment had as a counterpart a reduction in consumption and in invest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ccount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84072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rrent Account Balance and Real Exchange Rate – quarterl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1281240"/>
            <a:ext cx="69850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, Imports and Trade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but the current account adjustment lead to a decline in the Consumption/GDP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7280" y="1405080"/>
            <a:ext cx="676944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which was produced by the decline in real 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162080"/>
            <a:ext cx="727236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luctuations of the nominal exchange rate are highly correlated with the real exchange rate fluctu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1444680"/>
            <a:ext cx="64800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s/GDP are also negatively correlated with the Current Account/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353960"/>
            <a:ext cx="691200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volatility is partly a consequence of the exchange rate reg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“crawling-peg” regime (until late 1998), external shocks were absorbed by the real interest r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loating exchange rate regime the real interest rate volatility declined, and shocks are predominantly absorbed by the exchange r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1278000"/>
            <a:ext cx="4824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flows are an important driving force affecting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 in the demand for bonds produces two eff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secondary market it rises prices and reduces risk premiu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lso increases the demand for newly issued bonds, increasing capital inflows, and appreciating the exchange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onsequence we should expect a positive correlation between risk-premiums and the nominal exchange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3640" y="3801960"/>
            <a:ext cx="5904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but risk premiums (and the exchange rate) are also affected by risk aversion and the international liquid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1424160"/>
            <a:ext cx="68407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lation and shocks in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hich has been the inflation rates behavior during the inflation targeting reg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change Rate (in levels) and Monthly Inflation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351080"/>
            <a:ext cx="67690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3:17:25Z</dcterms:created>
  <dc:creator>affonso</dc:creator>
  <dc:description/>
  <dc:language>en-US</dc:language>
  <cp:lastModifiedBy>affonso</cp:lastModifiedBy>
  <dcterms:modified xsi:type="dcterms:W3CDTF">2004-09-24T16:01:07Z</dcterms:modified>
  <cp:revision>50</cp:revision>
  <dc:subject/>
  <dc:title>Consolidated Net Public Debt over GDP</dc:title>
</cp:coreProperties>
</file>