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5FA6-ABE1-4565-971E-7BEB9D1BB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3309-533E-4C87-B573-C330D0B2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9C9-155A-4935-86EE-126AF48C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1A7D-67CA-411F-A389-6973240A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EB4-6C5F-4CCA-82D3-F3CBA45F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3A63-2036-4278-80FF-BD862382E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826-2365-4A93-8820-507319EDD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EAA9-3D3D-4875-A790-BB4E703C8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8BF8-A0C0-4AA8-81D3-FEA3402D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09A6-7A2F-4810-A472-9D1F94A8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557E-4F4F-47C5-855B-F34470E0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324F-9371-436C-89B9-93D680D9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4488-E62B-49AE-A915-CACCA4C8F5E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Targeting in a high public debt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, the real exchange rate, and fiscal domi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lation and GDP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xchange rate and the current accou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 months inflation rates – Wholesale prices are more affected by the exchange rate than consumer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69120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s and 12 months rates of the headline and core inf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71640" y="1254240"/>
            <a:ext cx="7129440" cy="48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nnualized Monthly Core Inflation Rates and Inflation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26920" y="1270080"/>
            <a:ext cx="741708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recently the favorable international economic conditions  are leading to the appreciation of the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late May 2004 perspectives concerning the interest rate adjustment in United States improved, leading to a decline in Treasury Bonds yields and in emerging markets risk premium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mption of stronger capital inflows helped to appreciate the Brazilian currency, relatively reducing inflation pressures on tradable goods pric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est rates in U. 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187280" y="1290600"/>
            <a:ext cx="691380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: Exchange rate and risk prem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1336680"/>
            <a:ext cx="691380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k premium in other emerging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87280" y="1204920"/>
            <a:ext cx="6840720" cy="52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complex causation network linking the public debt, the risk premium, the real exchange rate, and the interest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iven its size and its high dollar linked proportion, the public debt dynamics is also dependent upon the real exchange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crease in the risk perception concerning the public debt sustainability leads to a decline in the demand for Brazilian bonds, rising risk premiums and depreciating the real exchange rate, which leads to a new round of increase in the debt/GDP rat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xchange rate depreciation rises actual inflation and inflation expectations, leading to a rise in interest r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real interest rates causes low growth rates, that combined with a more depreciated real exchange rate requires a higher primary fiscal surplus to stabilize the debt/GDP rat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t public debt in propotion to GDP and the real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62472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sition of the Federal Domestic Public Deb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6624720" cy="48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scal Policy, the Public Debt, and Monetary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he exchange rate is very volatile, and heavily dependent upon capital fl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ublic debt dynamics is affected by the real exchange rate. Real and nominal exchange rate are highly correla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ital flows are affected by: a) risk perceptions concerning the public debt sustainability; b) external conditions, as the degree of international liquidity and the degree of risk avers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longer-term interest rate is affected by the fluctuations in risk premium and in the nominal exchange rate (through inflation expect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47640" y="1362240"/>
            <a:ext cx="633744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obg-Term interest rate and the basic interest rate follow similar paths, although with lag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42920" y="1538280"/>
            <a:ext cx="698508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ole of fiscal 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order to breach such causation chain, the primary fiscal surpluses have to be high enough to lead to a debt/GDP re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aim turns more difficult due to the covariance structure of the variables affecting the equation of the public debt dynamics – the real interest rate, the real exchange rate, and the GDP growth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real exchange rate depreciation leads to more inflation, that requires an increase in the real interest rate, that leads to a decline in GDP growth.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ll such changes act in the same direction, which is a worsening of the public debt dynamic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consequence the primary fiscal surplus has to be high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mary Fiscal Surpluses since 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187280" y="1174680"/>
            <a:ext cx="6840720" cy="50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-cyclical nature of fiscal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aiming at a fixed primary fiscal surplus target, government has to cut spending when tax revenues are declining in face of a downward GDP cycle, and to increase spending when the economy is growing fast, leading to a rise in tax colle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pro-cyclical nature becomes visible by observing the revenues and expenditures behavior in two succeeding cyc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03 con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2004 reco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t Non-Financial Expenditures and Revenues of the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ederal Gover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76908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xes and Contributions  and  Expendi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4739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entions in the foreign exchange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of the time the exchange rate is completely free to flo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re were excep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1, when the contagion from the Argentina crisis hit Brazi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2002 when there was a sudden-stop in capital inflows that significantly depreciated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entral Bank – Foreign Exchange Sales on the Spot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826920" y="984240"/>
            <a:ext cx="756144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tocks of Dollar Bonds and Exchange Rate Swaps – US$ b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1008000"/>
            <a:ext cx="7272360" cy="57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the adherence to the floating exchange rate regime, in 1999, the exchange rate turned very volatile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352520"/>
            <a:ext cx="741672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Yields of the 360-Day Exchange Rate Sw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00000" y="950760"/>
            <a:ext cx="734400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ic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 a short recession in 2003, the economy rebounded in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 output is leading such rebound, which has been mostly and export-lead growt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ualized quarterly rates of GDP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332000" y="1274760"/>
            <a:ext cx="655308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strial P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26920" y="950760"/>
            <a:ext cx="756144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Exchange Rate and the Current Acco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1998/99 the current account deficit reached an unsustainable level, close to 5% of GDP. Since then the real exchange rate depreciation lead to an equilibrium, and more recently to a surpl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 were boosted, and are presently rising around 30% per year, and imports are recovering with the rebound in industrial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the current account adjustment had as a counterpart a reduction in consumption and in investme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Account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16000" y="1346040"/>
            <a:ext cx="684072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rrent Account Balance and Real Exchange Rate – quarterly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826920" y="1281240"/>
            <a:ext cx="6985080" cy="48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orts, Imports and Trade Bal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488000" cy="50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but the current account adjustment lead to a decline in the Consumption/GDP rat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187280" y="1405080"/>
            <a:ext cx="676944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which was produced by the decline in real w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55640" y="1162080"/>
            <a:ext cx="727236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fluctuations of the nominal exchange rate are highly correlated with the real exchange rate fluctu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332000" y="1444680"/>
            <a:ext cx="6480000" cy="48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ments/GDP are also negatively correlated with the Current Account/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116000" y="1353960"/>
            <a:ext cx="6912000" cy="47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ch volatility is partly a consequence of the exchange rate reg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3938760"/>
            <a:ext cx="82296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“crawling-peg” regime (until late 1998), external shocks were absorbed by the real interest ra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floating exchange rate regime the real interest rate volatility declined, and shocks are predominantly absorbed by the exchange ra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124000" y="1278000"/>
            <a:ext cx="4824360" cy="25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 flows are an important driving force affecting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 in the demand for bonds produces two effec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secondary market it rises prices and reduces risk premium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also increases the demand for newly issued bonds, increasing capital inflows, and appreciating the exchange 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a consequence we should expect a positive correlation between risk-premiums and the nominal exchange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63640" y="3801960"/>
            <a:ext cx="59040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..but risk premiums (and the exchange rate) are also affected by risk aversion and the international liquidit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16000" y="1424160"/>
            <a:ext cx="684072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flation and shocks in the exchange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Which has been the inflation rates behavior during the inflation targeting reg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change Rate (in levels) and Monthly Inflation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16000" y="1351080"/>
            <a:ext cx="676908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1T13:17:25Z</dcterms:created>
  <dc:creator>affonso</dc:creator>
  <dc:description/>
  <dc:language>en-US</dc:language>
  <cp:lastModifiedBy>affonso</cp:lastModifiedBy>
  <dcterms:modified xsi:type="dcterms:W3CDTF">2004-09-24T16:01:07Z</dcterms:modified>
  <cp:revision>50</cp:revision>
  <dc:subject/>
  <dc:title>Consolidated Net Public Debt over GDP</dc:title>
</cp:coreProperties>
</file>