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E38D3-8537-404D-8535-8A38A7691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ACBF8-6708-4855-83CE-AD45E6BF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B4632-FECA-4B17-9D20-9388F60D8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98E8D-3AA0-4AB2-9022-12350CC97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92E20-C6D9-40A9-8E01-9B247A5EE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6AB0E-F91E-43A2-8DBC-D6E4460F0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63F58-CA31-42F0-8338-D07AB73F5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94BAD-2390-480F-99B5-E6AFC81B1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CDBB-FF72-4478-B683-2E42DF842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5422E-1D9C-4CA7-A9B3-4FA694B4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308D-C1F9-48BD-9A1C-B88463BC9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1C6A0-8709-484F-9EEC-C702358EF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90DD-5110-413A-BB32-D50929F68A5C}"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3 : Tanımlar</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Holding Şirket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Kurulu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a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ğlı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Nitelikli P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Hakim Ort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stek Hizmeti Kuruluş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madde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önetim kurulunun kredi açma, onay verme ve diğer idari esaslara ilişkin politikaları oluşturmak, bunların uygulanmasını ve izlenmesini sağlamak ve gerekli tedbirleri almak ile yükümlü olduğu,</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redi açma yetkisini haiz olanların, kendileri, eşleri  ve velayet altındaki çocukları ile bunlarla risk grubu oluşturan kişilerin kredi taleplerine ilişkin değerlendirme ve karar verme aşamalarında yer alamayacağı ve bu durumu yazılı olarak yetkililere bildirmekle yükümlü olduğu, </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irtilerek hem kredi sürecinin önceden yönetim kurulu tarafından belirlenmiş politikalar çerçevesinde yürütülmesi hem de muhtemel çıkar çatışmalarının önlenmesi hedeflen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 - Diğer</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urul, Kanunun 50. ve 51. Maddelerine aykırı açılan kredilerin, özkaynaktan indirim kalemi olarak dikkate alınmasına karar vermeye veya bu krediler tutarında ilave öz kaynak temin edilmesini zorunlu tutmaya yetkili kılı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nunda, 52. ve 53. Madde ile, kredilerin izlenmesi ile karşılıklar ve teminatlara ilişkin temel esaslara yer verilmiş; uygulama esasları Kurul’un yetkisine bırak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racılık maliyetlerini artıracak olmasına rağmen kanunun 76. Maddesi ile müşterilere kredi sözleşmelerinin bir nüshasının verilmesi zorunlu kılın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nın dahil olduğu risk grubuna açılacak krediler özkaynakların %20’si ile sınırlandırılmıştır. Kurul bu sınırı %25’e kadar yükseltmeye ve tekrar indirmeye yetkili kılın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iğer risk gruplarından her bir risk grubuna açılacak krediler özkaynakların %25’i ile sınırlandırıl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sermayesinde %1 ve daha fazla paya sahip olup pay defterine kayıtlı olan ortaklara ve bunlarla risk grubu oluşturan kişilere kullandırılacak kredilerin toplamı özkaynakların %50’si ile sınırlandırılmışt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irlikte kontrol edilen ortaklıklarda kredi, ortaklığı birlikte kontrol eden hissedarlara payları oranında kullandırılmış sayılır</a:t>
            </a:r>
            <a:r>
              <a:rPr b="0" lang="en-US" sz="2400" spc="-1" strike="noStrike">
                <a:solidFill>
                  <a:srgbClr val="000000"/>
                </a:solidFill>
                <a:latin typeface="Times New Roman"/>
              </a:rPr>
              <a:t>” hükmü ile birlikte kontrol edilen ortaklıklara ilişkin risk dağıtımı netleştirilmişt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 maddede yer verilen “Kredi sınırları, ana ortaklık bakımından konsolide esasa göre uygulanır” hükmü çerçevesinde kredi sınırlamalarının sadece konsolide bazda hesaplanacağı düşünülmektedir. Ancak, bu kanuna ilişkin olarak çıkarılacak yönetmeliklerde bu hususun açıklığa kavuşturulması beklenmelid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çici Madde 5 : Kredi Sınırları</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edi sınırlarının hesabında;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anın dahil olduğu risk grubu açısından sınır 2005 yılında %35, 2006 yılında %25 ve 1.1.2007 tarihinden itibaren %20 olarak uygulanacaktı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ğer risk grupları açısından sınır 2005 yılında %35 ve 1.1.2006 tarihinden itibaren %25 olarak uygulanacaktı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aklık payları 2005 yılında %40, 2006 yılında %50, 2007 yılında %60, 2008 yılında %75, 2009 yılında %90 ve 1.1.2010 tarihinden itibaren de %100 oranında dikkate alınacak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5 : Kredi Sınırlamalarına Tabi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Olmayan İşlemler </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melde bir önceki yasadaki istisnalar korunmuştur, ancak bir önceki yasadan farklı olarak maddenin son bendindeki ‘Kurulca belirlenecek diğer işlemler’ ibaresi ile Kurul’a yeni istisnalara belirleme yetkisi verilmişt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6 : Ortaklık Paylarına İlişkin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Sınırlamalar</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nın kredi kuruluşları ve finansal kuruluşlar dışındaki bir ortaklıktaki payı Banka özkaynaklarının %15’ini ve bu ortaklıklardaki paylarının toplamı Banka özkaynaklarının %60’ını aşamaz kuralı korun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tirak edilen şirketin sermayesinin %10’undan daha düşük olan iştiraklere ilişkin istisna kaldırıldı.</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ınırların aşılması halinde aşım tutarının özkaynak hesabında ana sermayeden indirim kalemi olarak dikkate alınması hükmü getirild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tek Hizmeti Kuruluşları </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15 : Destek hizmeti kuruluşlarını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yetkilendirilmesine ve yetkileri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aldırılmasına Kurul’ca karar veril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5 : Destek hizmeti kuruluşlarına ve hizme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lınabilecek konulara ilişkin usul ve esaslar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urul’ca belirleni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6 : Destek hizmeti kuruluşları verdikleri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hizmetlerden doğabilecek zararları karşıla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macıyla sorumluluk sigortası yaptır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zorundad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Özkaynaklar ve Standart Oranlar</a:t>
            </a:r>
            <a:br>
              <a:rPr sz="3200"/>
            </a:br>
            <a:r>
              <a:rPr b="1" lang="tr-TR" sz="3200" spc="-1" strike="noStrike">
                <a:solidFill>
                  <a:srgbClr val="000000"/>
                </a:solidFill>
                <a:latin typeface="Times New Roman"/>
              </a:rPr>
              <a:t>Madde 43 : Koruyucu Düzenlemele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uyucu Düzenlemeler ile Kurul hem konsolide hem de konsolide olmayan bazda Mali Bünyeyi etkileyen tüm unsurların ve maruz kalınan risklerin Tespiti, Tahlili, İzlenmesi, Ölçülmesi ve Değerlendirilmesi Amacıy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t Oranlar ve Sınırlamalar belirle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hususta gerekli düzenlemeleri yapma ve bunlar hakkında her türlü tedbiri alm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usunda yetkili kılınmış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rıca Kurul, Kurumsal Yönetim Hükümleri ve Koruyucu Hükümlerin uygulanmasını dikkate alarak her bir banka veya banka grubu içi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ha ihtiyatlı sınır ve oranlar tespit edebil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saplama ve bildirim dönemlerini farklılaştırm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olarak belirlenmemiş sınır ve oranlar tespit etm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susunda yetkili kılı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5 : Sermaye Yeterliliği</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anındaki minimum sermaye yeterliliği oranı yeni yasada da korunmuştu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yrıca Kurul, Bankaların iç sistemleri, aktif ve mali yapılarını dikkate alara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ari sermaye yeterliliği oranını ar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alar bazında farklılaş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nağı katılma hesabı olan aktiflerin risk ağırlıklarını belirlemey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etkili kılın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7 : Aşımların Giderilmesi</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kanun ve kanuna bağlı olarak getirilen düzenlemelerde yer alan sınırlama ve oranlara ilişkin aşımların Kurul tarafından belirlenecek usul ve esaslar çerçevesinde giderilmesi zorunlu kılınmıştı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kaynaklarda meydana gelebilecek düşüşler nedeniyle oluşabilecek aşımlar Kurum’un belirleyeceği bir sürede giderilecek, bu süre içinde idari para cezalarına ilişkin hükümler uygulanmayacak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rediler ve Risk Grubu</a:t>
            </a:r>
            <a:br>
              <a:rPr sz="3200"/>
            </a:br>
            <a:r>
              <a:rPr b="1" lang="en-US" sz="3200" spc="-1" strike="noStrike">
                <a:solidFill>
                  <a:srgbClr val="000000"/>
                </a:solidFill>
                <a:latin typeface="Times New Roman"/>
              </a:rPr>
              <a:t>Madde 48 : Krediler</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önceki kanunda yer alan ve kanunun uygulamasında Kredi sayılan işlemlere ilişkin tanım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garanti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ayrinakdi kredi niteliğindeki taahhüt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ahakkuk etmekle birlikte tahsil edilmemiş faiz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rs repo işlemlerinden alacakl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adeli işlem , opsiyon ve benzeri sözleşmeler nedeniyle üstlenilen risk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urulca kredi olarak kabul edilen işlemle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dahil ed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işi, Eşi ve Çocukları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 bu bankanın nitelikli pay sahipleri, yönetim kurulu üyeleri ve genel müdürü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ru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önetim kurulu üyeliğ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müdürlük,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ayet altında olmayan çocuklar</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çısından risk grubuna dahil edilme esaslarını belirleme yetkisine sahip kılınmış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inin ödeme güçlüğüne düşmesinin diğer bir  veya birkaçının ödeme güçlüğüne düşmesi sonucunu doğuracak boyutta kefalet, garanti ve benzeri ilişkiler bulunan gerçek ve tüzel kişiler ilgili risk grubuna dahil edil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anka risk grubuna kullandırılan kredilerde,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ararlarının yönetim kurulu üye tam sayısının 2/3 çoğunluğu ile alınması 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oşullarının kredi kullananın lehine diğer kişi ve gruplara kullandırılanlardan ve piyasa koşullarından farklılık arz etmemesi şarttı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risk grubunda yer alan kişilere açılan krediler Kurum’a düzenli olarak raporlanı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gibi hükümler ile Banka-Banka risk grubu kredi ilişkilerini daha ayrıntılı bir biçimde düzenleme yoluna gidil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anın yönetim kurulu üyelerine, mensuplarına ve bunların eşlerine ve velayet altındaki çocuklarına verilebilecek krediler kanunda açıkça sayılmıştır. Bun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5 katına kadar verilece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3 katına kadar çek karnesi ve kredi kartı verilmesi suretiyle kullandır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kit, nakit benzeri kıymet ve hesaplar ile kıymetli madenler karşılığı aç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ine, TCMB, ÖİB ve TOKİ tarafından ihraç edilen veya ödemesi garanti edilen borçlanmaya ilişkin menkul kıymetler karşılığı verilecek kredile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larak belirle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8:49:58Z</dcterms:created>
  <dc:creator>MM35711</dc:creator>
  <dc:description/>
  <dc:language>en-US</dc:language>
  <cp:lastModifiedBy>tascioglua</cp:lastModifiedBy>
  <dcterms:modified xsi:type="dcterms:W3CDTF">2005-11-14T08:49:28Z</dcterms:modified>
  <cp:revision>20</cp:revision>
  <dc:subject/>
  <dc:title>Madde 3 : Tanımlar</dc:title>
</cp:coreProperties>
</file>