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1620F-D5F1-42B8-A244-5EBCDC9FF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DD19B-22FC-49AE-A023-7AF0ECE88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919D6-BB8C-4EBB-A143-95C5D8E10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A2B2E-F5B0-43C3-910F-25730FBAD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4CCB8-5708-4649-899A-418F23422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8C99B-AEBA-4BA8-9939-12D6F8295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EAFEF-5AFF-4D10-ADBF-825D7C9CE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A98C0-404B-44CF-9DE5-26D9EF1D5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EAEBF-E45E-4A7F-B584-85418618F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C3937-7AF8-42EA-BE3E-7B608F6C2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F9473-B8C2-418A-81A3-23315BED5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A95BC-9D7F-430E-9717-B928B4AB3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5D858-7848-4E30-8A27-0DF1A4080D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mailto:suna.oksay@tsrsb.org.tr" TargetMode="External"/><Relationship Id="rId2" Type="http://schemas.openxmlformats.org/officeDocument/2006/relationships/hyperlink" Target="http://www.s-oksay.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764640"/>
            <a:ext cx="8280360" cy="547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KONUT FİNANSMANI SİSTEMİNDE</a:t>
            </a:r>
            <a:br>
              <a:rPr sz="4000"/>
            </a:br>
            <a:r>
              <a:rPr b="1" lang="tr-TR" sz="4000" spc="-1" strike="noStrike">
                <a:solidFill>
                  <a:srgbClr val="000000"/>
                </a:solidFill>
                <a:latin typeface="Arial"/>
              </a:rPr>
              <a:t>SİGORTANIN YERİ</a:t>
            </a:r>
            <a:br>
              <a:rPr sz="4000"/>
            </a:br>
            <a:br>
              <a:rPr sz="4000"/>
            </a:br>
            <a:br>
              <a:rPr sz="4000"/>
            </a:br>
            <a:r>
              <a:rPr b="1" lang="tr-TR" sz="1800" spc="-1" strike="noStrike">
                <a:solidFill>
                  <a:srgbClr val="000000"/>
                </a:solidFill>
                <a:latin typeface="Arial"/>
              </a:rPr>
              <a:t>Doç.Dr.Suna OKSAY</a:t>
            </a:r>
            <a:br>
              <a:rPr sz="1800"/>
            </a:br>
            <a:r>
              <a:rPr b="1" lang="tr-TR" sz="1800" spc="-1" strike="noStrike">
                <a:solidFill>
                  <a:srgbClr val="000000"/>
                </a:solidFill>
                <a:latin typeface="Arial"/>
              </a:rPr>
              <a:t>Türkiye Sigorta ve Reasürans Şirketleri Birliği</a:t>
            </a:r>
            <a:br>
              <a:rPr sz="1800"/>
            </a:br>
            <a:r>
              <a:rPr b="1" lang="tr-TR" sz="1800" spc="-1" strike="noStrike">
                <a:solidFill>
                  <a:srgbClr val="000000"/>
                </a:solidFill>
                <a:latin typeface="Arial"/>
              </a:rPr>
              <a:t>Genel Sekreter Yardımcısı</a:t>
            </a:r>
            <a:br>
              <a:rPr sz="1800"/>
            </a:br>
            <a:br>
              <a:rPr sz="1800"/>
            </a:br>
            <a:br>
              <a:rPr sz="2800"/>
            </a:br>
            <a:r>
              <a:rPr b="0" lang="tr-TR" sz="1200" spc="-1" strike="noStrike">
                <a:solidFill>
                  <a:srgbClr val="000000"/>
                </a:solidFill>
                <a:latin typeface="Arial"/>
              </a:rPr>
              <a:t>* 4 Nisan 2006 tarihinde Türkiye Bankalar Birliği’nde yapılan değerlendirme toplantısında yapılan sunumdur.</a:t>
            </a: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4920" y="115560"/>
            <a:ext cx="8218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ORTA ve BİREYSEL EMEKLİLİK  ŞİRKETLERİ</a:t>
            </a:r>
            <a:endParaRPr b="0" lang="en-US" sz="3600" spc="-1" strike="noStrike">
              <a:solidFill>
                <a:srgbClr val="000000"/>
              </a:solidFill>
              <a:latin typeface="Arial"/>
            </a:endParaRPr>
          </a:p>
        </p:txBody>
      </p:sp>
      <p:sp>
        <p:nvSpPr>
          <p:cNvPr id="67" name="PlaceHolder 2"/>
          <p:cNvSpPr>
            <a:spLocks noGrp="1"/>
          </p:cNvSpPr>
          <p:nvPr>
            <p:ph/>
          </p:nvPr>
        </p:nvSpPr>
        <p:spPr>
          <a:xfrm>
            <a:off x="468360" y="1413000"/>
            <a:ext cx="8229600" cy="5256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istemde Sigorta Şirketlerinin Üç Temel Fonksiyonu Bulunmaktad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1-</a:t>
            </a:r>
            <a:r>
              <a:rPr b="0" lang="tr-TR" sz="2800" spc="-1" strike="noStrike">
                <a:solidFill>
                  <a:srgbClr val="000000"/>
                </a:solidFill>
                <a:latin typeface="Arial"/>
              </a:rPr>
              <a:t> İpotekli Konut Kredisinin Ödenmesi İçin Tasarruf Yapılmasını Sağlamak (Sigorta ve Bireysel Emeklilik Şirketle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2-</a:t>
            </a:r>
            <a:r>
              <a:rPr b="0" lang="tr-TR" sz="2800" spc="-1" strike="noStrike">
                <a:solidFill>
                  <a:srgbClr val="000000"/>
                </a:solidFill>
                <a:latin typeface="Arial"/>
              </a:rPr>
              <a:t> Sistemi ve Ülke Ekonomisini Ortaya Çıkabilecek Riskler Nedeniyle, Oluşabilecek Ekonomik Kayıplara Karşı Korumak (Sigorta Ş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3-</a:t>
            </a:r>
            <a:r>
              <a:rPr b="0" lang="tr-TR" sz="2800" spc="-1" strike="noStrike">
                <a:solidFill>
                  <a:srgbClr val="000000"/>
                </a:solidFill>
                <a:latin typeface="Arial"/>
              </a:rPr>
              <a:t> İkincil Piyasalardaki İpotekli Konut Kredisi Menkul Değerlerini Satın Alarak Yatırım Yapmak (Sigorta ve Bireysel Emeklilik Şirketler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3627A98-E43E-49E7-B051-89B67523D7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1125360"/>
            <a:ext cx="821844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İpotekli Konut Kredisinin Ödenmesi İçin Tasarruf Yapılmasını Sağlamak (Sigorta ve Bireysel Emeklilik Şirketleri)</a:t>
            </a:r>
            <a:br>
              <a:rPr sz="3200"/>
            </a:br>
            <a:endParaRPr b="0" lang="en-US" sz="3200" spc="-1" strike="noStrike">
              <a:solidFill>
                <a:srgbClr val="000000"/>
              </a:solidFill>
              <a:latin typeface="Arial"/>
            </a:endParaRPr>
          </a:p>
        </p:txBody>
      </p:sp>
      <p:sp>
        <p:nvSpPr>
          <p:cNvPr id="69" name="PlaceHolder 2"/>
          <p:cNvSpPr>
            <a:spLocks noGrp="1"/>
          </p:cNvSpPr>
          <p:nvPr>
            <p:ph/>
          </p:nvPr>
        </p:nvSpPr>
        <p:spPr>
          <a:xfrm>
            <a:off x="468360" y="2852640"/>
            <a:ext cx="8229600" cy="23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1. Emeklilik Planları (Pension Pl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2. Mortgage Bağlantılı Bir Tür Hayat Sigortası (Endowment Polic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95F5D92-7D98-413E-8B5A-34DF14690B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Geri Ödeme Modeline Göre </a:t>
            </a:r>
            <a:br>
              <a:rPr sz="3600"/>
            </a:br>
            <a:r>
              <a:rPr b="1" lang="tr-TR" sz="3600" spc="-1" strike="noStrike">
                <a:solidFill>
                  <a:srgbClr val="000000"/>
                </a:solidFill>
                <a:latin typeface="Arial"/>
              </a:rPr>
              <a:t>Mortgage 2’ye ayrılır</a:t>
            </a: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Arial"/>
              </a:rPr>
              <a:t>Geri Ödemeli;</a:t>
            </a:r>
            <a:r>
              <a:rPr b="0" lang="tr-TR" sz="3200" spc="-1" strike="noStrike">
                <a:solidFill>
                  <a:srgbClr val="000000"/>
                </a:solidFill>
                <a:latin typeface="Arial"/>
              </a:rPr>
              <a:t> aylık ödemeler faiz ile birlikte ana para ödemesini de içermektedi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Arial"/>
              </a:rPr>
              <a:t>Faiz Ödemeli;</a:t>
            </a:r>
            <a:r>
              <a:rPr b="0" lang="tr-TR" sz="3200" spc="-1" strike="noStrike">
                <a:solidFill>
                  <a:srgbClr val="000000"/>
                </a:solidFill>
                <a:latin typeface="Arial"/>
              </a:rPr>
              <a:t> aylık ödemeler sadece faizi içermektedir. Ancak bunun yanında, ISA, pension plan veya endowment policy satın alınarak, mortgage borcunun ödenmesi garanti edili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19223E4-E105-49D4-A798-3704417667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1.1. Emeklilik Planları </a:t>
            </a:r>
            <a:br>
              <a:rPr sz="4000"/>
            </a:br>
            <a:r>
              <a:rPr b="1" lang="tr-TR" sz="4000" spc="-1" strike="noStrike">
                <a:solidFill>
                  <a:srgbClr val="000000"/>
                </a:solidFill>
                <a:latin typeface="Arial"/>
              </a:rPr>
              <a:t>(Pension Plan-PP)</a:t>
            </a:r>
            <a:endParaRPr b="0" lang="en-US" sz="4000" spc="-1" strike="noStrike">
              <a:solidFill>
                <a:srgbClr val="000000"/>
              </a:solidFill>
              <a:latin typeface="Arial"/>
            </a:endParaRPr>
          </a:p>
        </p:txBody>
      </p:sp>
      <p:sp>
        <p:nvSpPr>
          <p:cNvPr id="73"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Yüksek vergi avantajı vardır ve ölüm riskini de kaps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İşyerinde yaptırılan PP şeklinde de olabilir. Bu durumun en önemli sakıncası işten çıkınca, yeni bir ödeme kaynağı bulma zorunluluğud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PP ile mortgage borcundan daha fazla bir birikim elde etme ihtimali sistemin en önemli avantajı iken, daha az birikim sağlamak ise en önemli dezavantajını oluştur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yrıca, birikimin süresinden önce nakite döndürülmesi durumunda ceza uygulanmaktadı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4EFB7CC-FF2B-47B1-A12F-3FD417D483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821844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1.2. Mortgage Bağlantılı Bir Tür Hayat Sigortası </a:t>
            </a:r>
            <a:br>
              <a:rPr sz="4000"/>
            </a:br>
            <a:r>
              <a:rPr b="1" lang="tr-TR" sz="4000" spc="-1" strike="noStrike">
                <a:solidFill>
                  <a:srgbClr val="000000"/>
                </a:solidFill>
                <a:latin typeface="Arial"/>
              </a:rPr>
              <a:t>(Endowment Policy)</a:t>
            </a:r>
            <a:endParaRPr b="0" lang="en-US" sz="4000" spc="-1" strike="noStrike">
              <a:solidFill>
                <a:srgbClr val="000000"/>
              </a:solidFill>
              <a:latin typeface="Arial"/>
            </a:endParaRPr>
          </a:p>
        </p:txBody>
      </p:sp>
      <p:sp>
        <p:nvSpPr>
          <p:cNvPr id="75" name="PlaceHolder 2"/>
          <p:cNvSpPr>
            <a:spLocks noGrp="1"/>
          </p:cNvSpPr>
          <p:nvPr>
            <p:ph/>
          </p:nvPr>
        </p:nvSpPr>
        <p:spPr>
          <a:xfrm>
            <a:off x="179280" y="2636640"/>
            <a:ext cx="8785440" cy="3384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lüm riskini de kapsayan bir üründür. Ancak, kötü yatırım yapıldığında mortgage borcunu ödeyecek toplam miktar birikemeyebilir.</a:t>
            </a:r>
            <a:br>
              <a:rPr sz="3200"/>
            </a:br>
            <a:r>
              <a:rPr b="0" lang="en-US" sz="3200" spc="-1" strike="noStrike">
                <a:solidFill>
                  <a:srgbClr val="000000"/>
                </a:solidFill>
                <a:latin typeface="Arial"/>
              </a:rPr>
              <a:t>(Bu nedenle poliçe değerlerinin belirli aralıklarla gözden geçirilmesi gerekmektedi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B7B192C-36EE-4E7C-BF26-4BB4ACF445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2060640"/>
            <a:ext cx="8964720" cy="20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2- Sistemi ve Ülke Ekonomisini Ortaya Çıkabilecek Riskler Nedeniyle, Oluşabilecek Ekonomik Kayıplara Karşı Korumak </a:t>
            </a:r>
            <a:br>
              <a:rPr sz="3200"/>
            </a:br>
            <a:r>
              <a:rPr b="1" lang="tr-TR" sz="3200" spc="-1" strike="noStrike">
                <a:solidFill>
                  <a:srgbClr val="000000"/>
                </a:solidFill>
                <a:latin typeface="Arial"/>
              </a:rPr>
              <a:t>(Sigorta Şti.)</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0EC77F4-6C73-4118-9D05-C6E351A536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274680"/>
            <a:ext cx="896472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orta Şirketlerinin Taraflar Açısından </a:t>
            </a:r>
            <a:br>
              <a:rPr sz="3600"/>
            </a:br>
            <a:r>
              <a:rPr b="1" lang="en-US" sz="3600" spc="-1" strike="noStrike">
                <a:solidFill>
                  <a:srgbClr val="000000"/>
                </a:solidFill>
                <a:latin typeface="Arial"/>
              </a:rPr>
              <a:t>Ortadan Kaldırdığı Riskler</a:t>
            </a:r>
            <a:endParaRPr b="0" lang="en-US" sz="3600" spc="-1" strike="noStrike">
              <a:solidFill>
                <a:srgbClr val="000000"/>
              </a:solidFill>
              <a:latin typeface="Arial"/>
            </a:endParaRPr>
          </a:p>
        </p:txBody>
      </p:sp>
      <p:sp>
        <p:nvSpPr>
          <p:cNvPr id="78" name="PlaceHolder 2"/>
          <p:cNvSpPr>
            <a:spLocks noGrp="1"/>
          </p:cNvSpPr>
          <p:nvPr>
            <p:ph/>
          </p:nvPr>
        </p:nvSpPr>
        <p:spPr>
          <a:xfrm>
            <a:off x="457200" y="1773360"/>
            <a:ext cx="8362800" cy="468000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 Tüketici, Hem de Kredi Kuruluşu İçin; Kredilerin Geri Ödenmeme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 Tüketici, Hem de Kredi Kuruluşu İçin; Kredi Taksitlerinin Geçici Olarak Ödenmeme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utun Değerinde Meydana Gelebilecek Düşüşlerden Dolayı, Konutun Satılması Durumunda Kredi Veren Kuruluşların Zarar Etme, Konut Sahibinin İse Borçlu Kalma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utun Tapu Kayıtlarında Mevcut Olan Ama Bilinmeyen Sorunlardan Dolayı Oluşabilecek Maddi Kayıpları Ortadan Kaldırı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20CBB54-0D22-4851-9CAB-57099193CD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rtgage ile Birlikte Kullanılan Başlıca Sigorta Ürünleri</a:t>
            </a:r>
            <a:endParaRPr b="0" lang="en-US" sz="3600" spc="-1" strike="noStrike">
              <a:solidFill>
                <a:srgbClr val="000000"/>
              </a:solidFill>
              <a:latin typeface="Arial"/>
            </a:endParaRPr>
          </a:p>
        </p:txBody>
      </p:sp>
      <p:sp>
        <p:nvSpPr>
          <p:cNvPr id="80" name="PlaceHolder 2"/>
          <p:cNvSpPr>
            <a:spLocks noGrp="1"/>
          </p:cNvSpPr>
          <p:nvPr>
            <p:ph/>
          </p:nvPr>
        </p:nvSpPr>
        <p:spPr>
          <a:xfrm>
            <a:off x="250920" y="1628640"/>
            <a:ext cx="864216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ALAN (</a:t>
            </a:r>
            <a:r>
              <a:rPr b="1" lang="tr-TR" sz="2400" spc="-1" strike="noStrike">
                <a:solidFill>
                  <a:srgbClr val="000000"/>
                </a:solidFill>
                <a:latin typeface="Arial"/>
              </a:rPr>
              <a:t>TÜKET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itle Insurance (Tapu Sicil Sigortas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Payment Protection Insurance</a:t>
            </a:r>
            <a:br>
              <a:rPr sz="2400"/>
            </a:br>
            <a:r>
              <a:rPr b="0" lang="tr-TR" sz="2400" spc="-1" strike="noStrike">
                <a:solidFill>
                  <a:srgbClr val="000000"/>
                </a:solidFill>
                <a:latin typeface="Arial"/>
              </a:rPr>
              <a:t>(İpotekli Konut Kredisi Ödemelerini Koruma Sigortası)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Credit Protection Insurance</a:t>
            </a:r>
            <a:br>
              <a:rPr sz="2400"/>
            </a:br>
            <a:r>
              <a:rPr b="0" lang="tr-TR" sz="2400" spc="-1" strike="noStrike">
                <a:solidFill>
                  <a:srgbClr val="000000"/>
                </a:solidFill>
                <a:latin typeface="Arial"/>
              </a:rPr>
              <a:t>(İpotekli Konut Kredisi Koruma Sigortas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Insurance (Mortgage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VER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itle Insurance</a:t>
            </a:r>
            <a:br>
              <a:rPr sz="2400"/>
            </a:br>
            <a:r>
              <a:rPr b="0" lang="tr-TR" sz="2400" spc="-1" strike="noStrike">
                <a:solidFill>
                  <a:srgbClr val="000000"/>
                </a:solidFill>
                <a:latin typeface="Arial"/>
              </a:rPr>
              <a:t>(İpotek Alacaklısını Koruma Tapu Sicili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5. Indemnity Insurance (Değer Kaybı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6. Konut Sigortası</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B96B1F-E377-4A9B-B20F-87C29EFE4A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476280"/>
            <a:ext cx="8229600" cy="5906880"/>
          </a:xfrm>
          <a:prstGeom prst="rect">
            <a:avLst/>
          </a:prstGeom>
          <a:noFill/>
          <a:ln w="0">
            <a:noFill/>
          </a:ln>
        </p:spPr>
        <p:txBody>
          <a:bodyPr lIns="90000" rIns="90000" tIns="46800" bIns="4680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1. Title Insurance</a:t>
            </a:r>
            <a:endParaRPr b="0" lang="en-US" sz="36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verilerek ipotek altına alınan gayrimenkulün tapu sicil kayıtlarının temiz olduğunu ve ipoteğin nakte çevrilmek istendiğinde bir sorun çıkmayacağını garanti eden ve aksi durumlardaki zararı kapsama alan bir sigorta ürünüdür.</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Bu sigorta tipinde primin peşin olarak tahsil edilmesi esast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apsamı farklılık gösteren çok çeşitli türleri olmakla birlikte, genel olarak iki ana başlık altında incelenebilecek olan bir sigorta tipidir.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1) İpotek alacaklısını korumaya yönelik olan sigortalar (lender’s policy)</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2) Taşınmazın mülkiyetini alan kişileri korumaya yönelik olan sigortalar (owner’s policy)</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DA04C7E-96F5-43EE-A311-A039578C84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94920" y="836640"/>
            <a:ext cx="8280360" cy="561672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2. Mortgage Payment Protection Insurance</a:t>
            </a:r>
            <a:endParaRPr b="0" lang="en-US" sz="36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İşsiz kalınması, hastalık veya kaza gibi nedenlerle gelirde bir azalma olması riskini kapsamına alan bir sigorta tipidir.</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3. Mortgage Credit Protection Insurance</a:t>
            </a:r>
            <a:endParaRPr b="0" lang="en-US" sz="36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Ölüm durumunda mortgage kredisini ödeyen bir sigorta üründür. Bu sigorta yaptırılmadığı takdirde, ölüm halinde ev satılarak kalan borç tahsil edilir.</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F3F76E8-0C98-49C8-8258-B4FD8954B5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68360" y="404640"/>
            <a:ext cx="8280360" cy="6140520"/>
          </a:xfrm>
          <a:prstGeom prst="rect">
            <a:avLst/>
          </a:prstGeom>
          <a:ln w="0">
            <a:noFill/>
          </a:ln>
        </p:spPr>
      </p:pic>
      <p:sp>
        <p:nvSpPr>
          <p:cNvPr id="2" name="PlaceHolder 1"/>
          <p:cNvSpPr>
            <a:spLocks noGrp="1"/>
          </p:cNvSpPr>
          <p:nvPr>
            <p:ph type="sldNum" idx="3"/>
          </p:nvPr>
        </p:nvSpPr>
        <p:spPr/>
        <p:txBody>
          <a:bodyPr/>
          <a:p>
            <a:fld id="{E3AE698C-8B23-46EF-9967-1978A151D2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404640"/>
            <a:ext cx="8229600" cy="6120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4. Mortgage Insurance</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2800" spc="-1" strike="noStrike">
                <a:solidFill>
                  <a:srgbClr val="000000"/>
                </a:solidFill>
                <a:latin typeface="Arial"/>
              </a:rPr>
              <a:t>Mortgage Sigortası, finans kurumlarının finanse ettiği %75 – 80’lik krediye ilave olarak, bakiye kısmın da finansmanının sağlanabilmesi için, yaptırılır. Bu sigorta,%20-25’lik kısmın ödenmemesi riskini garanti altına almaktadır.</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5. Indemnity Insurance</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	</a:t>
            </a:r>
            <a:r>
              <a:rPr b="0" lang="tr-TR" sz="2800" spc="-1" strike="noStrike">
                <a:solidFill>
                  <a:srgbClr val="000000"/>
                </a:solidFill>
                <a:latin typeface="Arial"/>
              </a:rPr>
              <a:t>İpotek tesis edilen konutun değerinde meydana gelebilecek olumsuz değişimleri garanti altına alan bir sigortadır.</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6. Hayat Sigortası</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7. Konut Sigortası</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BE113FD2-FC6A-4659-A042-91968C2976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95280" y="404280"/>
            <a:ext cx="8229600" cy="5761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Çok Teşekkür Ederim…</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Her türlü soru ve bilgi talebi içi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Doç.Dr.Suna Oksay</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ürkiye Sigorta ve Reasürans Şirketleri Birliğ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www.tsrsb.org.t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el   : 0212 283 13 3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Faks: 0212 325 61 08</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E-mail: </a:t>
            </a:r>
            <a:r>
              <a:rPr b="0" lang="tr-TR" sz="2800" spc="-1" strike="noStrike" u="sng">
                <a:solidFill>
                  <a:srgbClr val="009999"/>
                </a:solidFill>
                <a:uFillTx/>
                <a:latin typeface="Arial"/>
                <a:hlinkClick r:id="rId1"/>
              </a:rPr>
              <a:t>suna.oksay@tsrsb.org.t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         </a:t>
            </a:r>
            <a:r>
              <a:rPr b="0" lang="tr-TR" sz="2800" spc="-1" strike="noStrike" u="sng">
                <a:solidFill>
                  <a:srgbClr val="009999"/>
                </a:solidFill>
                <a:uFillTx/>
                <a:latin typeface="Arial"/>
                <a:hlinkClick r:id="rId2"/>
              </a:rPr>
              <a:t>www.s-oksay.com</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93BF8A6-A8C6-43AD-935A-58E42E1016C3}"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ÜRKİYE SİGORTA VE REASÜRANS ŞİRKETLERİ BİRLİĞİ</a:t>
            </a:r>
            <a:endParaRPr b="0" lang="en-US" sz="3600" spc="-1" strike="noStrike">
              <a:solidFill>
                <a:srgbClr val="000000"/>
              </a:solidFill>
              <a:latin typeface="Arial"/>
            </a:endParaRPr>
          </a:p>
        </p:txBody>
      </p:sp>
      <p:sp>
        <p:nvSpPr>
          <p:cNvPr id="44" name="PlaceHolder 2"/>
          <p:cNvSpPr>
            <a:spLocks noGrp="1"/>
          </p:cNvSpPr>
          <p:nvPr>
            <p:ph/>
          </p:nvPr>
        </p:nvSpPr>
        <p:spPr>
          <a:xfrm>
            <a:off x="250560" y="1599840"/>
            <a:ext cx="87138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ürkiye Sigorta ve Reasürans Şirketleri Birliği, 7397 Sayılı Sigorta Murakabe Kanunu’nun 36ıncı maddesine göre sigortacılık mesleğinin geliştirilmesi, şirketler arasında dayanışma sağlanması ve haksız rekabetin önlenmesi amacıyla kurulan, tüzel kişiliğe haiz kamu kurumu niteliğinde bir meslek kuruluşudu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ürkiye’de çalışan bütün sigorta ve reasürans şirketleri, kuruluşlarının tamamlanmasından ve ruhsatların alınmasından itibaren üç ay içerisinde Birliğe üye olmak zorundadır.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40ED373-2590-4C78-AA56-0C64B65B5C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95280" y="0"/>
            <a:ext cx="8137440" cy="6669000"/>
          </a:xfrm>
          <a:prstGeom prst="rect">
            <a:avLst/>
          </a:prstGeom>
          <a:ln w="0">
            <a:noFill/>
          </a:ln>
        </p:spPr>
      </p:pic>
      <p:sp>
        <p:nvSpPr>
          <p:cNvPr id="2" name="PlaceHolder 1"/>
          <p:cNvSpPr>
            <a:spLocks noGrp="1"/>
          </p:cNvSpPr>
          <p:nvPr>
            <p:ph type="sldNum" idx="3"/>
          </p:nvPr>
        </p:nvSpPr>
        <p:spPr/>
        <p:txBody>
          <a:bodyPr/>
          <a:p>
            <a:fld id="{558A118B-E731-405F-8186-0A9557C125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rtgage</a:t>
            </a:r>
            <a:endParaRPr b="0" lang="en-US" sz="4000" spc="-1" strike="noStrike">
              <a:solidFill>
                <a:srgbClr val="000000"/>
              </a:solidFill>
              <a:latin typeface="Arial"/>
            </a:endParaRPr>
          </a:p>
        </p:txBody>
      </p:sp>
      <p:sp>
        <p:nvSpPr>
          <p:cNvPr id="47"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ut satın almak için, konut finansmanı kredi kuruluşlarından, ipotek karşılığı para ödünç alınması işlemine denilmektedir. (Birincil Piya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faiziyle birlikte, belirli bir dönem içerisinde geri ödenir. (Birincil Piya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 kredilerin diğer konut kredilerinden temel farkı, kaynak sağlayabilmek amacıyla, kredi veren kuruluşların, ipotekli kredileri karşılığında menkul kıymet ihraç ederek, kredilerini, menkul kıymetleri satın alan yatırımcılar aracılığıyla finanse ediyor olmalarıdı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kincil Piyas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2593E27-C1B3-49FA-8CC7-E1E4D88C4A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864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İN ÖNEMİ</a:t>
            </a:r>
            <a:endParaRPr b="0" lang="en-US" sz="3200" spc="-1" strike="noStrike">
              <a:solidFill>
                <a:srgbClr val="000000"/>
              </a:solidFill>
              <a:latin typeface="Arial"/>
            </a:endParaRPr>
          </a:p>
        </p:txBody>
      </p:sp>
      <p:sp>
        <p:nvSpPr>
          <p:cNvPr id="49" name="PlaceHolder 2"/>
          <p:cNvSpPr>
            <a:spLocks noGrp="1"/>
          </p:cNvSpPr>
          <p:nvPr>
            <p:ph/>
          </p:nvPr>
        </p:nvSpPr>
        <p:spPr>
          <a:xfrm>
            <a:off x="179280" y="620280"/>
            <a:ext cx="8964720" cy="60930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İpoteğe dayalı konut kredileri, uzun vadeli ve düşük faizli krediler olduğundan, birikimi olmayan çok sayıda insanın, özellikle genç hanehalklarının ve orta gelirlilerin, konut sahibi olmasına imkan sağla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onut alım gücünü ve dolayısıyla talebini artırıcı bir etki yapan bu krediler, konut sektörünün ve konut kredilerinin hacimlerinin büyümesine yol açar, dolayısıyla ekonomik büyümeyi artırı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Yeni finansal araçlar getirmesi nedeniyle, finansal piyasaların derinleşmesini sağlar. Derinleşen finansal piyasalar ise, tasarrufların ve yatırımların artırılmasını destekle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Ülkeye giren dolaylı yabancı sermaye yatırımlarını artırı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redilerin gerek konut sektörüne, gerekse ekonomiye yapacağı olumlu etkiler, üretimin, ticaretin ve istihdamın da artmasına yol aça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rtan konut sahipliği sayısı nedeniyle, artan emlak vergisi gelirleri devletin vergi gelirlerini de artıracaktı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evletin birincil ve ikincil piyasalardaki aktörlerden ve işlemlerden alacağı vergi gelirleri artacaktı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B64DCF8-3CD2-4B00-99F2-684B8883A3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1476360" y="692280"/>
            <a:ext cx="6912000" cy="5699160"/>
            <a:chOff x="1476360" y="692280"/>
            <a:chExt cx="6912000" cy="5699160"/>
          </a:xfrm>
        </p:grpSpPr>
        <p:sp>
          <p:nvSpPr>
            <p:cNvPr id="51" name="_s94226"/>
            <p:cNvSpPr/>
            <p:nvPr/>
          </p:nvSpPr>
          <p:spPr>
            <a:xfrm flipH="1" flipV="1">
              <a:off x="3254400" y="3039840"/>
              <a:ext cx="6588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 name="_s94225"/>
            <p:cNvSpPr/>
            <p:nvPr/>
          </p:nvSpPr>
          <p:spPr>
            <a:xfrm>
              <a:off x="1476360" y="2135160"/>
              <a:ext cx="2016000" cy="16081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rincil Piyasa-</a:t>
              </a:r>
              <a:r>
                <a:rPr b="0"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i Riskte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ruyan Kuruluşla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İGORTA ŞİRKETLERİ</a:t>
              </a:r>
              <a:endParaRPr b="0" lang="en-US" sz="1200" spc="-1" strike="noStrike">
                <a:solidFill>
                  <a:srgbClr val="000000"/>
                </a:solidFill>
                <a:latin typeface="Arial"/>
              </a:endParaRPr>
            </a:p>
          </p:txBody>
        </p:sp>
        <p:sp>
          <p:nvSpPr>
            <p:cNvPr id="53" name="_s94223"/>
            <p:cNvSpPr/>
            <p:nvPr/>
          </p:nvSpPr>
          <p:spPr>
            <a:xfrm flipH="1">
              <a:off x="3757320" y="4027680"/>
              <a:ext cx="4064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 name="_s94222"/>
            <p:cNvSpPr/>
            <p:nvPr/>
          </p:nvSpPr>
          <p:spPr>
            <a:xfrm>
              <a:off x="2124000" y="4454640"/>
              <a:ext cx="2087640" cy="15224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TÜKETİCİLER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Kredi Talep Eden(Bir.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_s94221"/>
            <p:cNvSpPr/>
            <p:nvPr/>
          </p:nvSpPr>
          <p:spPr>
            <a:xfrm>
              <a:off x="4976640" y="4027680"/>
              <a:ext cx="4082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6" name="_s94220"/>
            <p:cNvSpPr/>
            <p:nvPr/>
          </p:nvSpPr>
          <p:spPr>
            <a:xfrm>
              <a:off x="4643280" y="4437000"/>
              <a:ext cx="2880000" cy="19544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Diğer Aktörler:</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EMEKLİLİK FONLARI</a:t>
              </a:r>
              <a:r>
                <a:rPr b="1" lang="tr-TR" sz="1200" spc="-1" strike="noStrike">
                  <a:solidFill>
                    <a:srgbClr val="000000"/>
                  </a:solidFill>
                  <a:latin typeface="Arial"/>
                </a:rPr>
                <a:t> (Bir.ve İki.Piy.)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DİĞER YATIRIMCILAR</a:t>
              </a:r>
              <a:r>
                <a:rPr b="1" lang="tr-TR" sz="1200" spc="-1" strike="noStrike">
                  <a:solidFill>
                    <a:srgbClr val="000000"/>
                  </a:solidFill>
                  <a:latin typeface="Arial"/>
                </a:rPr>
                <a:t> (İki.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BROKERLER</a:t>
              </a:r>
              <a:r>
                <a:rPr b="1" lang="tr-TR" sz="1200" spc="-1" strike="noStrike">
                  <a:solidFill>
                    <a:srgbClr val="000000"/>
                  </a:solidFill>
                  <a:latin typeface="Arial"/>
                </a:rPr>
                <a:t> (Bir.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GAYRİMEN.DEĞ.UZ.</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_s94219"/>
            <p:cNvSpPr/>
            <p:nvPr/>
          </p:nvSpPr>
          <p:spPr>
            <a:xfrm flipV="1">
              <a:off x="5227560" y="3039840"/>
              <a:ext cx="6606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 name="_s94218"/>
            <p:cNvSpPr/>
            <p:nvPr/>
          </p:nvSpPr>
          <p:spPr>
            <a:xfrm>
              <a:off x="5853240" y="2016000"/>
              <a:ext cx="2535120" cy="16560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kincil Piya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ruluşları:</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KONUT FİNANS.KURULUŞLA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u="sng">
                  <a:solidFill>
                    <a:srgbClr val="000000"/>
                  </a:solidFill>
                  <a:uFillTx/>
                  <a:latin typeface="Arial"/>
                </a:rPr>
                <a:t>SERMAYE PİYASAS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KURULUŞLA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İGORTA ŞİRKETLE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_s94217"/>
            <p:cNvSpPr/>
            <p:nvPr/>
          </p:nvSpPr>
          <p:spPr>
            <a:xfrm flipV="1">
              <a:off x="4570560" y="2082600"/>
              <a:ext cx="0" cy="693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 name="_s94216"/>
            <p:cNvSpPr/>
            <p:nvPr/>
          </p:nvSpPr>
          <p:spPr>
            <a:xfrm>
              <a:off x="3276720" y="692280"/>
              <a:ext cx="2663640" cy="143496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rincil Piya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ut Finans.Kuruluşları:</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BANKALAR</a:t>
              </a:r>
              <a:r>
                <a:rPr b="1" lang="en-US" sz="1200" spc="-1" strike="noStrike">
                  <a:solidFill>
                    <a:srgbClr val="000000"/>
                  </a:solidFill>
                  <a:latin typeface="Arial"/>
                </a:rPr>
                <a:t>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u="sng">
                  <a:solidFill>
                    <a:srgbClr val="000000"/>
                  </a:solidFill>
                  <a:uFillTx/>
                  <a:latin typeface="Arial"/>
                </a:rPr>
                <a:t>FİN.KİRALAMA ŞİRKETLERİ</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İNANSMAN ŞİRKETLERİ</a:t>
              </a:r>
              <a:endParaRPr b="0" lang="en-US" sz="1200" spc="-1" strike="noStrike">
                <a:solidFill>
                  <a:srgbClr val="000000"/>
                </a:solidFill>
                <a:latin typeface="Arial"/>
              </a:endParaRPr>
            </a:p>
          </p:txBody>
        </p:sp>
        <p:sp>
          <p:nvSpPr>
            <p:cNvPr id="61" name="_s94215"/>
            <p:cNvSpPr/>
            <p:nvPr/>
          </p:nvSpPr>
          <p:spPr>
            <a:xfrm>
              <a:off x="3878280" y="2776680"/>
              <a:ext cx="138420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OTEKL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U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SMAN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İSTEMİ</a:t>
              </a:r>
              <a:endParaRPr b="0" lang="en-US" sz="1200" spc="-1" strike="noStrike">
                <a:solidFill>
                  <a:srgbClr val="000000"/>
                </a:solidFill>
                <a:latin typeface="Arial"/>
              </a:endParaRPr>
            </a:p>
          </p:txBody>
        </p:sp>
      </p:grpSp>
      <p:sp>
        <p:nvSpPr>
          <p:cNvPr id="2" name="PlaceHolder 1"/>
          <p:cNvSpPr>
            <a:spLocks noGrp="1"/>
          </p:cNvSpPr>
          <p:nvPr>
            <p:ph type="sldNum" idx="3"/>
          </p:nvPr>
        </p:nvSpPr>
        <p:spPr/>
        <p:txBody>
          <a:bodyPr/>
          <a:p>
            <a:fld id="{A1347D3E-52B1-4858-8E58-1CE6B75CDE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KREDİ VEREN KURULUŞLAR</a:t>
            </a:r>
            <a:r>
              <a:rPr b="1" lang="tr-TR" sz="4000" spc="-1" strike="noStrike">
                <a:solidFill>
                  <a:srgbClr val="000000"/>
                </a:solidFill>
                <a:latin typeface="Arial"/>
              </a:rPr>
              <a:t> </a:t>
            </a:r>
            <a:br>
              <a:rPr sz="4000"/>
            </a:br>
            <a:r>
              <a:rPr b="1" lang="tr-TR" sz="3200" spc="-1" strike="noStrike">
                <a:solidFill>
                  <a:srgbClr val="000000"/>
                </a:solidFill>
                <a:latin typeface="Arial"/>
              </a:rPr>
              <a:t>(Bankalar, Leasing Şti.)</a:t>
            </a:r>
            <a:endParaRPr b="0" lang="en-US" sz="3200" spc="-1" strike="noStrike">
              <a:solidFill>
                <a:srgbClr val="000000"/>
              </a:solidFill>
              <a:latin typeface="Arial"/>
            </a:endParaRPr>
          </a:p>
        </p:txBody>
      </p:sp>
      <p:sp>
        <p:nvSpPr>
          <p:cNvPr id="63" name="PlaceHolder 2"/>
          <p:cNvSpPr>
            <a:spLocks noGrp="1"/>
          </p:cNvSpPr>
          <p:nvPr>
            <p:ph/>
          </p:nvPr>
        </p:nvSpPr>
        <p:spPr>
          <a:xfrm>
            <a:off x="468360" y="1699920"/>
            <a:ext cx="8229600" cy="5157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stemde Üç Temel İşlev Üstlenmektedir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0" lang="en-US" sz="3200" spc="-1" strike="noStrike">
                <a:solidFill>
                  <a:srgbClr val="000000"/>
                </a:solidFill>
                <a:latin typeface="Arial"/>
              </a:rPr>
              <a:t>  İpotekli Konut kredisi verme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2-</a:t>
            </a:r>
            <a:r>
              <a:rPr b="0" lang="en-US" sz="3200" spc="-1" strike="noStrike">
                <a:solidFill>
                  <a:srgbClr val="000000"/>
                </a:solidFill>
                <a:latin typeface="Arial"/>
              </a:rPr>
              <a:t>  Verilen krediler karşılığında alınan ipoteklere dayalı olarak, menkul kıymet ihraç etm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3-</a:t>
            </a:r>
            <a:r>
              <a:rPr b="0" lang="en-US" sz="3200" spc="-1" strike="noStrike">
                <a:solidFill>
                  <a:srgbClr val="000000"/>
                </a:solidFill>
                <a:latin typeface="Arial"/>
              </a:rPr>
              <a:t>  Kredilerin geri ödemelerini tahsil etmek ve bu ödemelerin, menkul kıymetleri satın alan yatırımcılara ödenmesini sağlama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272C2BF-839D-4F3D-95D2-41846725F6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RMAYE PİYASASI KURULUŞLARI</a:t>
            </a:r>
            <a:endParaRPr b="0" lang="en-US" sz="3600" spc="-1" strike="noStrike">
              <a:solidFill>
                <a:srgbClr val="000000"/>
              </a:solidFill>
              <a:latin typeface="Arial"/>
            </a:endParaRPr>
          </a:p>
        </p:txBody>
      </p:sp>
      <p:sp>
        <p:nvSpPr>
          <p:cNvPr id="65" name="PlaceHolder 2"/>
          <p:cNvSpPr>
            <a:spLocks noGrp="1"/>
          </p:cNvSpPr>
          <p:nvPr>
            <p:ph/>
          </p:nvPr>
        </p:nvSpPr>
        <p:spPr>
          <a:xfrm>
            <a:off x="468360" y="2205000"/>
            <a:ext cx="8229600" cy="338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edi Veren Kuruluşların, İpotekli Krediler Karşılığında Çıkaracakları Menkul Değerleri, Talep Eden Yerli ve Yabancı Yatırımcılara Satmak İçin iki kurumun arasında aracılık görevi üstlenirle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8A69B54-E9C7-428F-932B-D754D41852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3T20:02:46Z</dcterms:created>
  <dc:creator>oksays</dc:creator>
  <dc:description/>
  <dc:language>en-US</dc:language>
  <cp:lastModifiedBy>mumcum</cp:lastModifiedBy>
  <dcterms:modified xsi:type="dcterms:W3CDTF">2006-04-07T06:50:51Z</dcterms:modified>
  <cp:revision>145</cp:revision>
  <dc:subject/>
  <dc:title>İPOTEKLİ KONUT KREDİLERİ</dc:title>
</cp:coreProperties>
</file>