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71C3-1A0A-4715-830D-FDC4998D4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536E-AE62-4AD6-B427-746DB09D5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F5F0-3BD7-4FAF-8E12-74594CB42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8297-7984-43CB-993D-DDC41A3C7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FD077-507C-42E7-A8C7-AC48992AEC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A7245-46EE-4513-BB01-297B19ED58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19397-A0EE-4F8C-9D1E-67E1B5C6C0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DC0AE-1458-4385-AFCC-23E2EA9FD7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9E697-69C9-471C-B52B-1F02C94053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98F95-01D0-4EE9-B60D-2D89BD825C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7E639-7A91-425D-92A7-7EBD7E6C8D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30D78-6152-4678-A117-BA43C6EC6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6BC03-0BDE-47C5-AA17-547706B9B0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1E89-3CAF-4346-9264-74F4543B62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3612A-A940-4A7F-8925-A9ECACC04F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F160C-1E7D-4327-BBCF-9BD6474653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810A3-480E-4929-A769-385E69F4DD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ED2E-74FD-4D1D-AA32-2A9AF7EBB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C91C-D637-4A50-93FF-207932133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BCFF-A43F-4066-ACC9-75FD5EE26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1101-A607-4E56-BE16-FD5EA4036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15C6-97C7-46BA-BA8B-48E7D83D6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7034-B73E-4124-AACA-6FE425704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A6F2-79DB-4C20-AD81-E11263566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06668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5640" y="762120"/>
            <a:ext cx="510552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5400000">
            <a:off x="4844880" y="-3075840"/>
            <a:ext cx="127080" cy="7953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2a4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 rot="5400000">
            <a:off x="4704480" y="-2768760"/>
            <a:ext cx="127080" cy="7846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992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sldNum" idx="1"/>
          </p:nvPr>
        </p:nvSpPr>
        <p:spPr>
          <a:xfrm>
            <a:off x="6901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2563-3248-4860-985A-D2C641EE71F2}" type="slidenum">
              <a:rPr b="0" lang="tr-TR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d8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8852-1265-4D92-90A4-EF1BB8F409E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6000" y="1700280"/>
            <a:ext cx="67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DAS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ZORUNLU DEPREM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İGORTAS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*4 Nisan 2006 tarihinde Türkiye Bankalar Birliği’nde yapılan değerlendirme toplantısında yapılan sunumdur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3736-0BDD-425F-9371-63AA2F77B1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26920" y="1557360"/>
          <a:ext cx="7921800" cy="2808360"/>
        </p:xfrm>
        <a:graphic>
          <a:graphicData uri="http://schemas.openxmlformats.org/drawingml/2006/table">
            <a:tbl>
              <a:tblPr/>
              <a:tblGrid>
                <a:gridCol w="1984680"/>
                <a:gridCol w="1136520"/>
                <a:gridCol w="984240"/>
                <a:gridCol w="1152360"/>
                <a:gridCol w="1440000"/>
                <a:gridCol w="1224000"/>
              </a:tblGrid>
              <a:tr h="59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BÖLGELER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OPLAM 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SİGORTAL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ENETRASYON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ORANLARI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EMİNA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RİM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AK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663.12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6.97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1,84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.259.564.37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.505.465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11.78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58.65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9,5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17.001.04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741.523,3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EGE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318.26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56.64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,7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358.561.38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39.377.092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GÜNEY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742.86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4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,2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901.670.6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23.561,4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ARA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282.09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62.65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,6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.390.042.35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0.489.301,2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MARMARA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143.47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155.60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7,8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61.536.10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9.730.205,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İÇ ANADOL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227.05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45.46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0,0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654.751.5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4.391.184,3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ÜRKİYE GENE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2.988.66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2.522.73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9,42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00.743.127.4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73.658.333,2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rot="16200000">
            <a:off x="-2224800" y="3672360"/>
            <a:ext cx="5375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Bölgelere göre Penatrasyon oranları%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D1C6-6FFD-4152-AC47-97DB1B1ED7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MİNAT KAPSAMI VE LİMİT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Kapsama giren konutlar içi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ang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infilak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er kaymas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erdiği zararla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-2126160" y="3861360"/>
            <a:ext cx="511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153E-1662-467A-BEB7-8E68995FBD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560" y="134136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gortalı binalarda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meller, ana duva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ğımsız bölümleri ayıran ortak duvarlar, tavan ve taban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rdivenler, sahanlıklar, korido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Çatılar ve bacalarda meydana gelenler de dahil olmak üz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 doğrudan neden olacağı maddi zararlar sigorta bedeline kadar teminat altına alınmaktadı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2398320" y="3956040"/>
            <a:ext cx="5479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5950-4B0B-43F1-84CF-CAACB52E4A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763640" y="2349360"/>
          <a:ext cx="6048000" cy="2822400"/>
        </p:xfrm>
        <a:graphic>
          <a:graphicData uri="http://schemas.openxmlformats.org/drawingml/2006/table">
            <a:tbl>
              <a:tblPr/>
              <a:tblGrid>
                <a:gridCol w="4043880"/>
                <a:gridCol w="2004120"/>
              </a:tblGrid>
              <a:tr h="90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igorta Bedel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2 fiyat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Çelik,Betonarme,Karka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1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Yığma Kagi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9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ğer Yapıla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5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2483-D249-4B53-946A-FD5917EF1E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280" y="1125000"/>
            <a:ext cx="7715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DASK tarafından verilen azami teminat tutarı 2006 yılı için 100.000 YTL olarak belirlenmişt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zami teminat tutarının tespitinde mevcut yapı stokunun büyük bir kısmını oluşturan binaların yeniden inşa bedeli (arsa değeri hariç) dikkate alınmaktadır.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ğer meskenin değeri DASK tarafından verilen teminat tutarını aşıyorsa sigortalı, aşan kısım için sigorta şirketlerinden isteğe bağlı olarak ek teminat alabilmekted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1693800" y="4294080"/>
            <a:ext cx="43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7B65-267A-438B-B81B-5AAEB6B1DF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1640" y="1271520"/>
            <a:ext cx="784836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Primlerin Tespiti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igorta primi tutarını 3 faktör belirlemektedi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bulunduğu deprem risk bölgesi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yapı tarzı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meskenin brüt yüzölçüm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4438800" y="28796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4438800" y="31543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-4438800" y="3429000"/>
            <a:ext cx="104760" cy="104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4ADA-1FBB-4EAA-B6A9-12DF6AFB4E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15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nce sigorta bedeli bulunur ve daha sonra bu bedel aşağıdaki tabloda gösterilen tarife fiyatıyla çarpılı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Buna göre, ödenmesi gereken prim tutarı, Zorunlu Deprem Sigortası Tarife ve Talimatında belirlendiği üzere; yapı tarzına göre her yıl tespit edilen birim metrekare maliyetler ve meskenin brüt yüzölçümünün çarpımı sonucu bulunan sigorta bedeli ile tarife fiyatının çarpımı suretiyle hesaplanmaktadır.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RNEK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 metrekare, birinci derecede deprem bölgesinde bulunan betonarme bir konutun sigorta bedeli ve sigorta primi şu şekilde hesaplanır: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Bedeli = brüt yüzölçüm x birim metrekare maliyeti (betonarme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100 x 410 YTL = 41.000 YTL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Primi = sigorta bedeli x tarife fiyatı + maktu prim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41.000 YTL x 0.0022 + 10 YTL maktu prim =100,20 YTL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-2045880" y="3610080"/>
            <a:ext cx="48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FDD0-DC36-4429-AE60-0963F9D2DE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15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 u="sng">
                <a:solidFill>
                  <a:srgbClr val="003366"/>
                </a:solidFill>
                <a:uFillTx/>
                <a:latin typeface="Arial"/>
              </a:rPr>
              <a:t>Poliçe yenilemelerinin takib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15 Aralık 2005 tarihinden itibaren geçmiş 60 güne ait yenilenmeyen v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60 gün ileriye dönük vadesi dolacak poliçeler içi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Günlük olarak yenilenen poliçeler, gün sonlarında bu data ve listelerde güncellen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Önemli noktala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76E9-1F7E-4243-BFDA-5864AFF33B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2920" y="1268280"/>
            <a:ext cx="748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ZORUNLU DEPREM SİGORTASINA DAİR KANUN HÜKMÜNDE KARARNAME</a:t>
            </a: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Zorunlu deprem sigortasının düzenlenmesi, Bakanlar Kurulu’nca 25.11.1999 tarihinde kararlaştırılmıştı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27 Eylül 2000 tarihinden itibaren kapsam dahilindeki meskenler için deprem sigortası yaptırmak zorunlu hale getirild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Sigorta yapmak ve bu Kanun Hükmünde Kararname ile kendisine verilen diğer görevleri yerine getirmek üzere, Bakanlık nezdinde kamu tüzel kişiliğini haiz “Doğal Afet Sigortaları Kurumu” kurulmuştu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-2607840" y="34092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587 sayılı Kanun Hükmündeki Karar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2E4D-E660-4398-BA9F-80A61340BF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00000" y="119700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Kapsamdaki konutları, depreme karşı sigortala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Sigorta sistemini kullanarak devletin depremlerden kaynaklanan mali yükünü azaltmak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hasarlarının karşılanmasında uzun vadeli kaynak birikimini temin etme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riskini sigorta yoluyla uluslararası reasürans ve sermaye piyasalarına dağıt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Toplumda sigorta bilincinin gelişmesine katkıda bulunma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2773080" y="3334680"/>
            <a:ext cx="6226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DASK’ın Amacı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CF50-A9BE-42D4-9351-403AD778B9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00000" y="1628640"/>
            <a:ext cx="82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Zorunlu Deprem sigortası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25 Sigorta Şirket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v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bu şirketlere bağlı Banka şubeleri v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acenteler tarafından düzenlenmektedir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8932-B4A9-4D43-AB59-B21CCC338F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7570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runlu Deprem Sigortası, genel anlamda,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elediye sınırları içinde kalan meskenle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önelik olarak oluşturulan bir sigorta sistemidi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puya kayıtlı ve özel mülkiyete tabi taşınmazlar üzerinde mesken olarak inşa edilmiş binalar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34 sayılı Kat Mülkiyeti Kanunu kapsamındaki bağımsız bölümler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 binaların içinde yer alan ve ticarethane, büro ve benzeri amaçlarla kullanılan bağımsız bölüml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-2003760" y="3883320"/>
            <a:ext cx="4978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B5FD-6872-4A2B-810D-A1B76B0538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1125000"/>
            <a:ext cx="7871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ğal afetler nedeniyle Devlet tarafından yaptırılan veya verilen kredi ile yapılan meskenl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ukarıdaki koşullara uyan, kat irtifakı tesis edilmiş binalar, tapuda henüz cins tashihi yapılmamış ve tapu kütüğünde vasfı "arsa vs." olarak görünen binalar, tapu tahsisi henüz yapılmamış kooperatif evle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nüz bağımsız tapusu olmayan meskenlerin sigortası, sigorta ettirenin beyanına dayanarak ve arsa tapusuna ait bilgilerle yapılabil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057040" y="3936600"/>
            <a:ext cx="497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5224-E9E8-4513-8676-83B1D9CD77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99640" y="1241280"/>
            <a:ext cx="7643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3366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amu kurum ve kuruluşlarına ait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öy yerleşim alanlarında yapılan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mamı ticari ve sinai amaçlar için kullanılan binalar (iş hanı, iş merkezi, idari hizmet binaları, eğitim merkezi binaları vs.)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İnşaatı henüz tamamlanmamış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7 Aralık 1999 tarihinden sonra mesken olarak inşa edilmiş olan ancak ilgili mevzuat çerçevesinde inşaat ruhsatı bulunmayan bağımsız bölümler ve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puya kayıtlı bulunmayan ve özel mülkiyete tabi olmayan arazi ve arsaların -hazine arazileri vb.- üzerine inşa edilmiş binal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-1751400" y="4207680"/>
            <a:ext cx="4400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76C0-8261-4BF2-BE43-E21406EA56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Yıllara göre poliçe üretimler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26920" y="1341360"/>
          <a:ext cx="7921800" cy="2184480"/>
        </p:xfrm>
        <a:graphic>
          <a:graphicData uri="http://schemas.openxmlformats.org/drawingml/2006/table">
            <a:tbl>
              <a:tblPr/>
              <a:tblGrid>
                <a:gridCol w="2649600"/>
                <a:gridCol w="1808280"/>
                <a:gridCol w="1654200"/>
                <a:gridCol w="180972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ari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çe adedi (Bin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det artış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7.09 -31.12.2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.7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.5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5.7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5.6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26.2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.0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1.01 -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.03.20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4.3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5.4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11280" y="3616200"/>
          <a:ext cx="813744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616200"/>
                    <a:ext cx="813744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45B2-6352-490E-89D9-9D97F64407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126828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oliçe Adedi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.522.73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Teminat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.743.127.445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rim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3.658.333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Teminat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9.934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Prim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69.-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ıllık Artış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,4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enileme Oranı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Dosyası(2000’den it.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8.13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Tutarı(YTL)(2000’den it.)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5.620.726.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2568600" y="35593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evcut Durum / 31 Mart 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3664-77CC-4247-A57A-F99CDC01B5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3:34:48Z</dcterms:created>
  <dc:creator>tibety</dc:creator>
  <dc:description/>
  <dc:language>en-US</dc:language>
  <cp:lastModifiedBy>mumcum</cp:lastModifiedBy>
  <dcterms:modified xsi:type="dcterms:W3CDTF">2006-04-07T06:28:11Z</dcterms:modified>
  <cp:revision>80</cp:revision>
  <dc:subject/>
  <dc:title>Slide 1</dc:title>
</cp:coreProperties>
</file>