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EB90-D01A-4AEA-B04E-90068378C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0581-6237-413C-8429-0F6090495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B980-C1F7-4934-846E-591303DB1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9E3C-F2E1-4225-8C94-8FCC13A12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E7FA-C86D-48CF-92DA-380BEF2451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A635-7EB5-43A5-80E4-05C80EB133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EF1E-2209-4367-8073-56D55893C7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D347-A247-4892-A31E-2145EC6FF4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23F2-BC51-4400-950E-486B43912D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EDCAE-02A3-4F14-B80B-E9185C30F8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19308-D0F3-4082-BC68-DD45A90AF2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F83EE-BE34-4435-B728-988E5F1F8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1AD4-5AFF-4101-A4F8-6D61BB92DC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3AD8-DE24-49F2-936B-99B13A97F3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13F06-548C-44D7-AD75-31A781AFFC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5568-C5DB-45DA-B81D-07D472A989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213B-1218-4437-9A8C-4BF3D04B4C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42462-9C66-4711-A55E-48575FAF0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8CB0-F2D1-4FFE-A550-02DF056B0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AF34-C517-4C8B-AC78-A45300AEF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5605-F55B-42AF-8385-01E6940FD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924D-EA33-400E-A910-F7C8D5B82A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3C726-D95F-4CE3-BC8D-267541D7A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0CC4-742C-43D0-B7B6-9722EB011D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0"/>
            <a:ext cx="2514600" cy="1066680"/>
          </a:xfrm>
          <a:prstGeom prst="rect">
            <a:avLst/>
          </a:prstGeom>
          <a:solidFill>
            <a:srgbClr val="417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762120"/>
            <a:ext cx="510552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flipV="1" rot="5400000">
            <a:off x="4844880" y="-3075840"/>
            <a:ext cx="127080" cy="7953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2a45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 rot="5400000">
            <a:off x="4704480" y="-2768760"/>
            <a:ext cx="127080" cy="784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992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sldNum" idx="1"/>
          </p:nvPr>
        </p:nvSpPr>
        <p:spPr>
          <a:xfrm>
            <a:off x="6901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781-CB68-4281-B43D-6B3972705606}" type="slidenum">
              <a:rPr b="0" lang="tr-TR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d8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6132-9CDF-4376-822E-FEEF7474F85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16000" y="1700280"/>
            <a:ext cx="6769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DASK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ZORUNLU DEPREM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İGORTASI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*4 Nisan 2006 tarihinde Türkiye Bankalar Birliği’nde yapılan değerlendirme toplantısında yapılan sunumdur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79E5-4522-43FD-8436-5D6D93FC4AE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6920" y="1557360"/>
          <a:ext cx="7921800" cy="2808360"/>
        </p:xfrm>
        <a:graphic>
          <a:graphicData uri="http://schemas.openxmlformats.org/drawingml/2006/table">
            <a:tbl>
              <a:tblPr/>
              <a:tblGrid>
                <a:gridCol w="1984680"/>
                <a:gridCol w="1136520"/>
                <a:gridCol w="984240"/>
                <a:gridCol w="1152360"/>
                <a:gridCol w="1440000"/>
                <a:gridCol w="1224000"/>
              </a:tblGrid>
              <a:tr h="59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BÖLGELER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OPLAM 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SİGORTALI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ONU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ENETRASYON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ORANLARI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EMİNAT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PRİM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AK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663.12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6.97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1,84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.259.564.37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.505.465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11.788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58.65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9,5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17.001.04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741.523,3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EGE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318.26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56.64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9,7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358.561.380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39.377.092,1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GÜNEYDOĞU ANADOLU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742.86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44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,2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901.670.6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423.561,4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KARADENİZ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282.09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62.65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2,6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6.390.042.35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0.489.301,2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MARMARA BÖLGE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.143.47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.155.602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7,89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6.761.536.10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89.730.205,5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İÇ ANADOLU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.227.055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445.469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20,00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7.654.751.5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14.391.184,37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  </a:t>
                      </a:r>
                      <a:r>
                        <a:rPr b="1" lang="tr-TR" sz="800" spc="-1" strike="noStrike">
                          <a:solidFill>
                            <a:srgbClr val="003366"/>
                          </a:solidFill>
                          <a:latin typeface="Verdana"/>
                          <a:ea typeface="Arial"/>
                        </a:rPr>
                        <a:t>TÜRKİYE GENEL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2.988.663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2.522.736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9,42%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00.743.127.445,00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800" spc="-1" strike="noStrike">
                          <a:solidFill>
                            <a:srgbClr val="ff0000"/>
                          </a:solidFill>
                          <a:latin typeface="Verdana"/>
                          <a:ea typeface="Arial"/>
                        </a:rPr>
                        <a:t>173.658.333,21</a:t>
                      </a:r>
                      <a:endParaRPr b="0" lang="en-US" sz="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 rot="16200000">
            <a:off x="-2224800" y="3672360"/>
            <a:ext cx="5375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Bölgelere göre Penatrasyon oranları%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DE74-F3B6-4E87-9942-DD129FC65D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42920" y="1268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MİNAT KAPSAMI VE LİMİTİ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Kapsama giren konutlar içi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ang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infilak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 sonucu yer kaymasını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verdiği zararla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-2126160" y="3861360"/>
            <a:ext cx="5114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1010-D868-4AB6-80ED-57AE7C244F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42560" y="134136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gortalı binalarda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emeller, ana duva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Bağımsız bölümleri ayıran ortak duvarlar, tavan ve taban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rdivenler, sahanlıklar, koridorlar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Çatılar ve bacalarda meydana gelenler de dahil olmak üz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Depremin doğrudan neden olacağı maddi zararlar sigorta bedeline kadar teminat altına alınmaktadı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-2398320" y="3956040"/>
            <a:ext cx="547992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00E7-9CFA-451E-B370-9A3457D7EE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763640" y="2349360"/>
          <a:ext cx="6048000" cy="2822400"/>
        </p:xfrm>
        <a:graphic>
          <a:graphicData uri="http://schemas.openxmlformats.org/drawingml/2006/table">
            <a:tbl>
              <a:tblPr/>
              <a:tblGrid>
                <a:gridCol w="4043880"/>
                <a:gridCol w="2004120"/>
              </a:tblGrid>
              <a:tr h="90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Sigorta Bedel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m2 fiyatı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Çelik,Betonarme,Karkas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1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Yığma Kagi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90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Diğer Yapılar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55,0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0913A-B5C5-4A0C-BBF6-2D99BB9253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280" y="1125000"/>
            <a:ext cx="7715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DASK tarafından verilen azami teminat tutarı 2006 yılı için 100.000 YTL olarak belirlenmişt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Azami teminat tutarının tespitinde mevcut yapı stokunun büyük bir kısmını oluşturan binaların yeniden inşa bedeli (arsa değeri hariç) dikkate alınmaktadır.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66"/>
                </a:solidFill>
                <a:latin typeface="Arial"/>
              </a:rPr>
              <a:t>Eğer meskenin değeri DASK tarafından verilen teminat tutarını aşıyorsa sigortalı, aşan kısım için sigorta şirketlerinden isteğe bağlı olarak ek teminat alabilmektedir.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1693800" y="4294080"/>
            <a:ext cx="43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Teminat Kapsamı ve limit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2A0A-AABF-4FBC-8AAF-4E33FE25D89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71640" y="1271520"/>
            <a:ext cx="784836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3366"/>
                </a:solidFill>
                <a:latin typeface="Arial"/>
              </a:rPr>
              <a:t>Primlerin Tespiti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Sigorta primi tutarını 3 faktör belirlemektedir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bulunduğu deprem risk bölgesi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binanın yapı tarzı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 </a:t>
            </a:r>
            <a:r>
              <a:rPr b="0" lang="tr-TR" sz="2800" spc="-1" strike="noStrike">
                <a:solidFill>
                  <a:srgbClr val="003366"/>
                </a:solidFill>
                <a:latin typeface="Arial"/>
              </a:rPr>
              <a:t>meskenin brüt yüzölçüm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4438800" y="287964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438800" y="3154320"/>
            <a:ext cx="104760" cy="104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-4438800" y="3429000"/>
            <a:ext cx="104760" cy="104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6200000">
            <a:off x="-2213640" y="3876840"/>
            <a:ext cx="5181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A7CD-DC11-4FF4-ADB4-6A6A06148D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715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nce sigorta bedeli bulunur ve daha sonra bu bedel aşağıdaki tabloda gösterilen tarife fiyatıyla çarpılı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Buna göre, ödenmesi gereken prim tutarı, Zorunlu Deprem Sigortası Tarife ve Talimatında belirlendiği üzere; yapı tarzına göre her yıl tespit edilen birim metrekare maliyetler ve meskenin brüt yüzölçümünün çarpımı sonucu bulunan sigorta bedeli ile tarife fiyatının çarpımı suretiyle hesaplanmaktadır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RNEK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 metrekare, birinci derecede deprem bölgesinde bulunan betonarme bir konutun sigorta bedeli ve sigorta primi şu şekilde hesaplanır: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Bedeli = brüt yüzölçüm x birim metrekare maliyeti (betonarme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100 x 410 YTL = 41.000 YTL 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Sigorta Primi = sigorta bedeli x tarife fiyatı + maktu prim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= 41.000 YTL x 0.0022 + 10 YTL maktu prim =100,20 YTL)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-2045880" y="3610080"/>
            <a:ext cx="48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Sigorta Bedeli ve Primle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BE39-3423-478B-92CE-CB453A6ACB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26920" y="1268280"/>
            <a:ext cx="77155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 u="sng">
                <a:solidFill>
                  <a:srgbClr val="003366"/>
                </a:solidFill>
                <a:uFillTx/>
                <a:latin typeface="Arial"/>
              </a:rPr>
              <a:t>Poliçe yenilemelerinin takib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15 Aralık 2005 tarihinden itibaren geçmiş 60 güne ait yenilenmeyen v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60 gün ileriye dönük vadesi dolacak poliçeler için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i="1" lang="tr-TR" sz="2800" spc="-1" strike="noStrike">
                <a:solidFill>
                  <a:srgbClr val="003366"/>
                </a:solidFill>
                <a:latin typeface="Arial"/>
              </a:rPr>
              <a:t>Günlük olarak yenilenen poliçeler, gün sonlarında bu data ve listelerde güncellen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Önemli noktalar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2EA4-52CA-495F-831E-E50038AFDB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42920" y="1268280"/>
            <a:ext cx="7489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ZORUNLU DEPREM SİGORTASINA DAİR KANUN HÜKMÜNDE KARARNAME</a:t>
            </a: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Zorunlu deprem sigortasının düzenlenmesi, Bakanlar Kurulu’nca 25.11.1999 tarihinde kararlaştırılmıştı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27 Eylül 2000 tarihinden itibaren kapsam dahilindeki meskenler için deprem sigortası yaptırmak zorunlu hale getiril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400" spc="-1" strike="noStrike">
                <a:solidFill>
                  <a:srgbClr val="003366"/>
                </a:solidFill>
                <a:latin typeface="Arial"/>
              </a:rPr>
              <a:t>Sigorta yapmak ve bu Kanun Hükmünde Kararname ile kendisine verilen diğer görevleri yerine getirmek üzere, Bakanlık nezdinde kamu tüzel kişiliğini haiz “Doğal Afet Sigortaları Kurumu” kurulmuştur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2607840" y="340920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587 sayılı Kanun Hükmündeki Karar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34AC-FEF4-4BD8-B056-085B934078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00000" y="1197000"/>
            <a:ext cx="806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Kapsamdaki konutları, depreme karşı sigortala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Sigorta sistemini kullanarak devletin depremlerden kaynaklanan mali yükünü azaltmak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hasarlarının karşılanmasında uzun vadeli kaynak birikimini temin etme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Deprem riskini sigorta yoluyla uluslararası reasürans ve sermaye piyasalarına dağıtmak,</a:t>
            </a:r>
            <a:br>
              <a:rPr sz="2400"/>
            </a:b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003366"/>
                </a:solidFill>
                <a:latin typeface="Arial"/>
              </a:rPr>
              <a:t>Toplumda sigorta bilincinin gelişmesine katkıda bulunma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73080" y="3334680"/>
            <a:ext cx="62262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200" rIns="106200" tIns="52920" bIns="52920" anchor="t">
            <a:spAutoFit/>
          </a:bodyPr>
          <a:p>
            <a:pPr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DASK’ın Amacı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E320-95BD-4FF6-B3D6-3FC2E502BF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00000" y="1628640"/>
            <a:ext cx="824400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Zorunlu Deprem sigortası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25 Sigorta Şirket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v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bu şirketlere bağlı Banka şubeleri 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3366"/>
                </a:solidFill>
                <a:latin typeface="Arial"/>
              </a:rPr>
              <a:t>acenteler tarafından düzenlenmektedi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271B-AC44-499E-ADF9-1B87FFD89D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570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runlu Deprem Sigortası, genel anlamda, </a:t>
            </a:r>
            <a:r>
              <a:rPr b="0" i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elediye sınırları içinde kalan meskenler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yönelik olarak oluşturulan bir sigorta sistemidi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apuya kayıtlı ve özel mülkiyete tabi taşınmazlar üzerinde mesken olarak inşa edilmiş binalar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34 sayılı Kat Mülkiyeti Kanunu kapsamındaki bağımsız bölümler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 binaların içinde yer alan ve ticarethane, büro ve benzeri amaçlarla kullanılan bağımsız bölüml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003760" y="3883320"/>
            <a:ext cx="49784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BC61-D13B-470C-A506-CF11DE2075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1125000"/>
            <a:ext cx="78710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apsamdaki Binal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ğal afetler nedeniyle Devlet tarafından yaptırılan veya verilen kredi ile yapılan meskenler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ukarıdaki koşullara uyan, kat irtifakı tesis edilmiş binalar, tapuda henüz cins tashihi yapılmamış ve tapu kütüğünde vasfı "arsa vs." olarak görünen binalar, tapu tahsisi henüz yapılmamış kooperatif evl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nüz bağımsız tapusu olmayan meskenlerin sigortası, sigorta ettirenin beyanına dayanarak ve arsa tapusuna ait bilgilerle yapılabilmektedi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057040" y="3936600"/>
            <a:ext cx="4977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Kapsamdaki Binalar</a:t>
            </a: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D2D5-D3E3-495F-934A-779F36834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99640" y="1241280"/>
            <a:ext cx="7643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3366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amu kurum ve kuruluşlarına ait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Köy yerleşim alanlarında yapılan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mamı ticari ve sinai amaçlar için kullanılan binalar (iş hanı, iş merkezi, idari hizmet binaları, eğitim merkezi binaları vs.)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İnşaatı henüz tamamlanmamış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7 Aralık 1999 tarihinden sonra mesken olarak inşa edilmiş olan ancak ilgili mevzuat çerçevesinde inşaat ruhsatı bulunmayan bağımsız bölümler ve binalar,</a:t>
            </a:r>
            <a:br>
              <a:rPr sz="2000"/>
            </a:b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apuya kayıtlı bulunmayan ve özel mülkiyete tabi olmayan arazi ve arsaların -hazine arazileri vb.- üzerine inşa edilmiş binala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6200000">
            <a:off x="-1751400" y="4207680"/>
            <a:ext cx="44006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psam Dışında Kalan Binalar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BC9ED-33B4-4B62-BD75-EF9BC5AC26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16200000">
            <a:off x="-2548080" y="3610440"/>
            <a:ext cx="58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ffff"/>
                </a:solidFill>
                <a:latin typeface="Arial"/>
              </a:rPr>
              <a:t>Yıllara göre poliçe üretimleri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1341360"/>
          <a:ext cx="7921800" cy="2184480"/>
        </p:xfrm>
        <a:graphic>
          <a:graphicData uri="http://schemas.openxmlformats.org/drawingml/2006/table">
            <a:tbl>
              <a:tblPr/>
              <a:tblGrid>
                <a:gridCol w="2649600"/>
                <a:gridCol w="1808280"/>
                <a:gridCol w="1654200"/>
                <a:gridCol w="180972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arih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oliçe adedi (Bin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Prim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Adet artış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7.09 -31.12.20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.7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.5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1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5.7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5.6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-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0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26.2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.4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9.0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01.01 -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.03.20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4.3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Arial"/>
                        </a:rPr>
                        <a:t>55.4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11280" y="3616200"/>
          <a:ext cx="8137440" cy="32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616200"/>
                    <a:ext cx="8137440" cy="32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710D-07D9-490C-BB75-3DE26BC146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126828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oliçe Adedi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2.522.73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Teminat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00.743.127.445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Toplam Prim (YTL) (yaşayan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3.658.333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Teminat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9.934.-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Ortalama Prim (YTL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69.-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ıllık Artış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7,4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Yenileme Oranı (%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Dosyası(2000’den it.)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8.135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1062000"/>
                <a:tab algn="l" pos="2124000"/>
                <a:tab algn="l" pos="3186000"/>
                <a:tab algn="l" pos="4248000"/>
                <a:tab algn="l" pos="5310360"/>
                <a:tab algn="l" pos="6372360"/>
                <a:tab algn="l" pos="7434360"/>
                <a:tab algn="l" pos="8496360"/>
                <a:tab algn="l" pos="9558360"/>
                <a:tab algn="l" pos="10620360"/>
              </a:tabLst>
            </a:pP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Ödenen Hasar Tutarı(YTL)(2000’den it.)   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tr-TR" sz="2000" spc="-1" strike="noStrike">
                <a:solidFill>
                  <a:srgbClr val="003366"/>
                </a:solidFill>
                <a:latin typeface="Arial"/>
              </a:rPr>
              <a:t>15.620.726.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-2568600" y="355932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vcut Durum / 31 Mart 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678B2-9469-41E2-8183-D71FE6CA82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3:34:48Z</dcterms:created>
  <dc:creator>tibety</dc:creator>
  <dc:description/>
  <dc:language>en-US</dc:language>
  <cp:lastModifiedBy>mumcum</cp:lastModifiedBy>
  <dcterms:modified xsi:type="dcterms:W3CDTF">2006-04-07T06:28:11Z</dcterms:modified>
  <cp:revision>80</cp:revision>
  <dc:subject/>
  <dc:title>Slide 1</dc:title>
</cp:coreProperties>
</file>