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040" y="381888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972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04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6464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560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12960" y="848880"/>
            <a:ext cx="34668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spcAft>
                <a:spcPts val="10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972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14040" y="381888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972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1404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464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5600" y="3818880"/>
            <a:ext cx="242892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2960" y="848880"/>
            <a:ext cx="346680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9720" y="381888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818880"/>
            <a:ext cx="7543800" cy="19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960" y="848880"/>
            <a:ext cx="346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8913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2280" indent="-34128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34128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-34272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-34272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-342720"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7600" y="63612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12080" y="326880"/>
            <a:ext cx="1636560" cy="43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Citibank_c" descr=""/>
          <p:cNvPicPr/>
          <p:nvPr/>
        </p:nvPicPr>
        <p:blipFill>
          <a:blip r:embed="rId2"/>
          <a:stretch/>
        </p:blipFill>
        <p:spPr>
          <a:xfrm>
            <a:off x="2171880" y="2308320"/>
            <a:ext cx="4800600" cy="13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800600" y="5334120"/>
            <a:ext cx="374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28840" y="6431040"/>
            <a:ext cx="5194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Copyright </a:t>
            </a:r>
            <a:r>
              <a:rPr b="0" lang="en-US" sz="700" spc="-1" strike="noStrike">
                <a:solidFill>
                  <a:srgbClr val="808080"/>
                </a:solidFill>
                <a:latin typeface="Tahoma"/>
              </a:rPr>
              <a:t>© 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2004 Citigroup Inc. CITIGROUP and the Umbrella Device are trademarks and service marks </a:t>
            </a:r>
            <a:br>
              <a:rPr sz="700"/>
            </a:b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of Citicorp or its affiliates and are used and registered throughout the wor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0184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95288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8000">
                <a:solidFill>
                  <a:srgbClr val="003399"/>
                </a:solidFill>
                <a:latin typeface="Arial"/>
              </a:rPr>
              <a:t>Ertan Guv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-8000">
                <a:solidFill>
                  <a:srgbClr val="003399"/>
                </a:solidFill>
                <a:latin typeface="Arial"/>
              </a:rPr>
              <a:t>Bilgi Teknoloj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800" y="228600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8913"/>
                </a:solidFill>
                <a:latin typeface="Times New Roman"/>
              </a:rPr>
              <a:t>CitiBank’da Dış Destek Hizme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4165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Dış  Destek  Kullanımının kısa tanımı   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4440" y="990720"/>
            <a:ext cx="610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kanın ana faaliyet alanı dışında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günlük işlerini kendi elemanları yer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şka şirketlere (yerli / yabancı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yurt içi / yurt dışı) yaptırılması iş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ış Destek Kullanımı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ye adlandırıyoruz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324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Neden Dış Destek  ?  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8640" y="803160"/>
            <a:ext cx="8481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ajla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endi işine daha fazla odaklanabilme olanağ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tandardizasyonda kolaylık (uluslararası ve kurumsal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erkezi operasyonda kolaylı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arklı ülkelerdeki deneyimlerden faydalanma olanağ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netim kolaylıklar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aynakların daha etkin kullanım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erektiğinde ve çok kısa sürede kapasite artımı olanağ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ızlı büyüm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enel ve kısmi felaket durumlarında iş devamlılığını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ağlanması, (Deprem, salgın hastalık vs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İş yükünün hafifletilmesi, dağıtıl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5803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Şu anda yapmakta olduğumuz dış destek kullanımları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803160"/>
            <a:ext cx="6020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urumsal Bankacılık – Varş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reysel Bankacılık – Singap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erver Yönetimi / desteği – Bom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eknoloji Operasyonları – Bom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etwork Yönetimi – Lo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nternet Sistemleri – Lo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elefon sistem yönetimi – P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rdımcı güvenlik ekibi –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ata hatları –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kstre basım işlemleri –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546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Şu ana kadar görmüş olduğumuz faydalar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880" y="803160"/>
            <a:ext cx="8961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azı yeknesak işlerin konunun uzmanlarına yaptırılması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icroSoft Patch’lerini takip etmek / uygulama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nti-Virüs patchlerini takip etmek /  uygulama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ünsonu işleri için vardiyalı ele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ulundurma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onanım altyapısının satın alınması, bakımı, deste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le uğraşan yüksek kalifiye eleman bulundurulmuy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(Sistem / network / veri tabanı uzmanları ve programcı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lgi işlem merkezi kurmamanın verdiği maliyet avantajlar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lgi işlem Felaket Durum merkezi kurmamanın verdi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maliyet avantajlar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1844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Firma zorunlulukları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3240" y="803160"/>
            <a:ext cx="9132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Kurumsal standartların uygulanması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ynı yapının tüm ülkelerde kurul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yni bankacılık programlarının kullanılma zorunluluğ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ynı denetim yapılarının kurul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ynı işletim kurallarının uygulan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adece merkezce onaylı cihaz, program, işlet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istemi ve veri tabanlarının kullanılma zorunluluğ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urt dışı işlem merkezlerinin Citibank Şirketleri olmalar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urt içi firmalarının deneyimli, iyi referansı olan firmalard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eçilme zorunluluğ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rma ana merkez seviyesinde finansal bilgi konsolidasyon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133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Sorumluklar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9000" y="803160"/>
            <a:ext cx="768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ış destek kullanmadaki sorumlulu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işim Yönetimi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roje Yönetimi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roblem Yönetimi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istemlere giriş haklarının verilmesi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istemlerin sahipliliği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istemlere ilişkin bir yatırım yapılması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Uygulamaların devreye alınma kararları - Istanb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ış kaynak kullanım kapasitesi -  ilgili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82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8913"/>
                </a:solidFill>
                <a:latin typeface="Arial"/>
              </a:rPr>
              <a:t>Bilgilerin Güvenliği</a:t>
            </a:r>
            <a:endParaRPr b="1" i="1" lang="en-US" sz="1800" spc="-1" strike="noStrike">
              <a:solidFill>
                <a:srgbClr val="ff891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33320"/>
            <a:ext cx="716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a2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200" y="803160"/>
            <a:ext cx="7611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ziksel Güven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lgi İşlem merkezi güvenli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rişim Güvenli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Erişim Haklarının verilmesi ve peryodik kontro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izlilik  anlaş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etleme Yetk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nlaşmalarda hizmet alınana firmaların her türl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netiminin bizim tarafımızdan yapılab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kkı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0:55:29Z</dcterms:created>
  <dc:creator>EYANIK1</dc:creator>
  <dc:description/>
  <dc:language>en-US</dc:language>
  <cp:lastModifiedBy>eg58142</cp:lastModifiedBy>
  <cp:lastPrinted>2001-04-11T13:02:16Z</cp:lastPrinted>
  <dcterms:modified xsi:type="dcterms:W3CDTF">2006-04-20T05:28:44Z</dcterms:modified>
  <cp:revision>595</cp:revision>
  <dc:subject/>
  <dc:title>No Slide Title</dc:title>
</cp:coreProperties>
</file>