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4.jpeg" ContentType="image/jpeg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F18D50F-E77F-46F2-877B-8A887B5AF8EC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E620F79-4C0A-4938-8063-4206F5C1C1BC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1040" y="74304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88480" y="471636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9E6DD47-7C68-4B04-AC33-5B93B78AB5F5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528D263-4F73-42A5-9FCC-AE2981371528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70DA300-7180-4319-848A-D107511C0955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6E00E40-8E05-4B42-A19D-FC7B9EC9E459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083901F-6249-4EDA-81A9-3F97A1E693FF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F69D1F9-C9DF-4C3B-AC90-3BE7D4DED5E8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5230306-A173-4864-A8A8-6FF324D250AF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87E0EE5-3618-438D-8BD6-7277A9C41435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9305884-2A9F-460A-BDC8-2F7E812D350D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3CEF560-D758-4908-A519-06BB4A9A8D13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77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01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77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01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17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76360" y="61495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tr-TR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8C7F-0813-4DF6-8F1F-1F62BA010089}" type="slidenum">
              <a:rPr b="0" i="1" lang="tr-TR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572160" y="6140520"/>
            <a:ext cx="2543400" cy="6840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62000" y="6308640"/>
            <a:ext cx="178596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4040" y="261900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ürkiye Ekonomisinin Görünümü ve Beklentile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1360" y="4375080"/>
            <a:ext cx="65134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Century Gothic"/>
              </a:rPr>
              <a:t>Dr. Ahmet Çimenoğl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entury Gothic"/>
              </a:rPr>
              <a:t>İstanbul, 6 Aralık 2007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3880" y="6172200"/>
            <a:ext cx="21337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080" y="17280"/>
            <a:ext cx="8881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7’de ihracattaki güçlü artışlar sürerken; 2008 için küresel yavaşlama ve YTL’nin değeri risk unsuru oluşturuyo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62480" y="1508040"/>
          <a:ext cx="403848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2480" y="1508040"/>
                    <a:ext cx="403848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71440" y="3860640"/>
          <a:ext cx="4024440" cy="230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40" y="3860640"/>
                    <a:ext cx="4024440" cy="23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624560" y="3703680"/>
            <a:ext cx="371448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TÜFE bazlı reel efektif döviz kur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4126320"/>
            <a:ext cx="3664080" cy="161568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YTL’deki değer kazancına rağmen, işgücü verimliliğindeki ve yatırımlardaki artışlar ihracatın güçlü artışına katkıda bulun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2008’de ihracatın, AB büyümesinde öngörülen yavaşlama ve reel kur artışının sürmesine bağlı olarak 2007’ye göre daha yavaş artmasını bekliyoruz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06520" y="1619280"/>
          <a:ext cx="3625920" cy="218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520" y="1619280"/>
                    <a:ext cx="362592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20680" y="136692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Dış Ticar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milyar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11760" y="130032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Reel Kur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8280" y="380376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erimlilik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6188040"/>
            <a:ext cx="37148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* Mevsimselliikten arındırılmış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Cari işlemler açığı hız kesm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7240" y="1711440"/>
          <a:ext cx="45432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711440"/>
                    <a:ext cx="45432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451332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 YKB tahm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680" y="135576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Cari denge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GSYİH’ya oran olarak, %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6400" y="4870080"/>
            <a:ext cx="5729400" cy="12258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erek ekonomideki yavaşlama, gerekse 2007 başında gerileyen petrol fiyatları ithalatın hız kesmesinde etkili ol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İthalatın yeniden hızlanmaya başlamasıyla cari işlemler açığı 2007’nin ikinci yarısında yeniden büyümeye başlad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etrol fiyatlarındaki yükselişin 2006 yılında olduğu gibi, 2008 yılında da cari açığı olumsuz etkileyecek faktörlerden biri olması bekleniy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97560" y="1789200"/>
          <a:ext cx="441144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789200"/>
                    <a:ext cx="441144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889520" y="1368360"/>
            <a:ext cx="37116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Petrol fiyat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aril başına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Düşük esnekliğe sahip olması nedeniyle, harcamalar tarafında alınabilecek önlemler sınırl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7026120" y="2025000"/>
            <a:ext cx="2117880" cy="30510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Seçimler nedeniyle mal ve hizmet alımları ile hanehalklarına ve belediyelere yapılan transferlerde normalin üstünde bir artış gözlen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Harcamaların yapısının yeterince esnek olmaması nedeniyle, bütçe disiplinin devam ettirilebilmesi büyük ölçüde gelir tarafında yapılacak reformlara bağlıdı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7840" y="5632200"/>
            <a:ext cx="6748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Vergi tabanının genişletilmesi ve kayıtdışılıkla mücadele öncelikli olarak değerlendirilmelid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8120" y="1336680"/>
            <a:ext cx="67550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tçe dengesindeki bozulma devam edecek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6977160" y="1979640"/>
            <a:ext cx="2035080" cy="341604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aşta bütçe dengesi olmak üzere, ekonomik temellerdeki iyileşmeye paralel olarak, faiz dışı fazla hedefinin düşürülmesi normal bir geliş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ncak, gelirler tarafında herhangi bir düzenleme yapılmadan ve sosyal güvenlik sistemine ilişkin sorun çözülmeden böyle bir adım atılması risk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2240" y="5487840"/>
            <a:ext cx="6584760" cy="6019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 bütçe taslağında vergi gelirleri için öngörülen %13.3’lük artış, iç talepte önümüzdeki yıl beklenen canlanmanın da üzerinde. Bu ise yeni vergi artışlarının gündeme gelebileceğinin önemli bir gösterge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440" y="1338120"/>
            <a:ext cx="658656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3720" y="1325520"/>
          <a:ext cx="827244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1325520"/>
                    <a:ext cx="827244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06440" y="615636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 12 aylı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5360" y="1136520"/>
          <a:ext cx="8383680" cy="51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136520"/>
                    <a:ext cx="838368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31920" y="612792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* Enerji, işlenmemiş gıda ürünleri, alkollü içkiler, tütün ürünleri ile altın hari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Hizmet fiyatları, enflasyondaki düşüşe destek ver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74640" y="1219320"/>
            <a:ext cx="792000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Özel tüketim harcamaları yavaşlad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3680" y="1363680"/>
          <a:ext cx="834228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363680"/>
                    <a:ext cx="834228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36080" y="6084720"/>
            <a:ext cx="349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Reel, mevsimsellikten arındırılmı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9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1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ç talepteki zayıf sinyaller yılın ikinci yarısında da sürü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160" y="1616040"/>
          <a:ext cx="441792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" y="1616040"/>
                    <a:ext cx="441792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395960" y="1682640"/>
          <a:ext cx="4562280" cy="403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5960" y="1682640"/>
                    <a:ext cx="45622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01760" y="136224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Beyaz Eşya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75200" y="137808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Otomobil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8’de faizlerde düşüşün devam etmesi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58720" y="1449360"/>
          <a:ext cx="7790040" cy="44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449360"/>
                    <a:ext cx="779004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 flipV="1">
            <a:off x="6492960" y="1904760"/>
            <a:ext cx="0" cy="269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yüme oranlarının hızlanması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"/>
          <p:cNvSpPr/>
          <p:nvPr/>
        </p:nvSpPr>
        <p:spPr>
          <a:xfrm>
            <a:off x="7031160" y="2116080"/>
            <a:ext cx="2035080" cy="32335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urlardaki değerlenmeye bağlı olarak iç talebin yavaşladığı dönemlerde ihracat artışları büyümeyi önemli ölçüde destekle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Önümüzdeki dönemde faizlerdeki gerilemeye paralel olarak özel tüketim ve özel yatırım harcamalarının yeniden canlanması bekleniy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5520" y="5595840"/>
            <a:ext cx="6667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ndan itibaren ekonomideki büyüme oranının %6 seviyesini aşması yüksek bir olasılı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7320" y="1378080"/>
            <a:ext cx="66625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stihdamla ilgili gelişmeler önümüzdeki dönemin en büyük zorluklarından bir tanesi..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46000" y="3429000"/>
          <a:ext cx="313848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3429000"/>
                    <a:ext cx="313848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042920" y="57625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2007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95480" y="6345360"/>
            <a:ext cx="280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Kaynak: TÜİ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950000" y="3224160"/>
          <a:ext cx="3412800" cy="28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0000" y="3224160"/>
                    <a:ext cx="341280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873080" y="6168960"/>
            <a:ext cx="494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* 2007 Ocak-Eylül dönemi ortalama verilerine gö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990720" y="1125360"/>
            <a:ext cx="6902280" cy="2546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40400" y="1247760"/>
            <a:ext cx="268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entury Gothic"/>
              </a:rPr>
              <a:t>İşsizlik Oranlar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08:21:59Z</dcterms:created>
  <dc:creator>YKB</dc:creator>
  <dc:description/>
  <dc:language>en-US</dc:language>
  <cp:lastModifiedBy>YKB</cp:lastModifiedBy>
  <dcterms:modified xsi:type="dcterms:W3CDTF">2007-11-29T08:21:08Z</dcterms:modified>
  <cp:revision>16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