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8FF7899-4996-49BF-AFE7-0F580B8E6798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BE769B3-EFD1-4A18-83B8-4EE75570C06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C5B99C9-7FD2-47FE-9F5C-86870E2126C5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F709ECD-2647-4524-9520-90364385C0E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F97357C-3DAB-4225-BB84-445518083F8E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CA69161-DCD0-4389-9921-32CA4358DEFF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78D0CF1-5B65-4C5C-93F4-6C22D70F1369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EB7E175-745C-4AA7-A870-9919428F0068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B1F7BDC-C4FE-46C9-BA84-603B10EE1DE4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5711960-F7F7-4A6C-B0E6-28DDA755A38A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CE56B91-595A-4423-893F-282947F8297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BB51FD5-095F-4DD8-963E-DC11EF8E918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17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360" y="6149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A84F-37EC-4698-A9F3-AB6714E88C81}" type="slidenum">
              <a:rPr b="0" i="1" lang="tr-TR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572160" y="6140520"/>
            <a:ext cx="2543400" cy="6840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2000" y="6308640"/>
            <a:ext cx="1785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61900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ürkiye Ekonomisinin Görünümü ve Beklentile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1360" y="4375080"/>
            <a:ext cx="65134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entury Gothic"/>
              </a:rPr>
              <a:t>Dr. Ahmet Çimenoğl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entury Gothic"/>
              </a:rPr>
              <a:t>İstanbul, 6 Aralık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6172200"/>
            <a:ext cx="2133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080" y="1728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7’de ihracattaki güçlü artışlar sürerken; 2008 için küresel yavaşlama ve YTL’nin değeri risk unsuru oluşturuyo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62480" y="1508040"/>
          <a:ext cx="403848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1508040"/>
                    <a:ext cx="40384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1440" y="3860640"/>
          <a:ext cx="4024440" cy="230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40" y="3860640"/>
                    <a:ext cx="402444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24560" y="3703680"/>
            <a:ext cx="37144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ÜFE bazlı reel efektif döviz kur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126320"/>
            <a:ext cx="3664080" cy="161568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YTL’deki değer kazancına rağmen, işgücü verimliliğindeki ve yatırımlardaki artışlar ihracatın güçlü artışına katkıda bulun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2008’de ihracatın, AB büyümesinde öngörülen yavaşlama ve reel kur artışının sürmesine bağlı olarak 2007’ye göre daha yavaş artmasını bekliyoruz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6520" y="1619280"/>
          <a:ext cx="362592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20" y="1619280"/>
                    <a:ext cx="36259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0680" y="136692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Dış Ticar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milyar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11760" y="130032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Reel Kur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280" y="380376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erimlilik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6188040"/>
            <a:ext cx="3714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* Mevsimselliikten arındırılmış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Cari işlemler açığı hız kesm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240" y="1711440"/>
          <a:ext cx="45432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711440"/>
                    <a:ext cx="45432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451332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 YKB tahm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680" y="135576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Cari deng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GSYİH’ya oran olarak, %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6400" y="4870080"/>
            <a:ext cx="5729400" cy="12258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erek ekonomideki yavaşlama, gerekse 2007 başında gerileyen petrol fiyatları ithalatın hız kesmesinde etkili ol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İthalatın yeniden hızlanmaya başlamasıyla cari işlemler açığı 2007’nin ikinci yarısında yeniden büyümeye başlad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etrol fiyatlarındaki yükselişin 2006 yılında olduğu gibi, 2008 yılında da cari açığı olumsuz etkileyecek faktörlerden biri olması be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97560" y="1789200"/>
          <a:ext cx="44114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789200"/>
                    <a:ext cx="44114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889520" y="1368360"/>
            <a:ext cx="3711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Petrol fiyat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aril başına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Düşük esnekliğe sahip olması nedeniyle, harcamalar tarafında alınabilecek önlemler sınırl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7026120" y="2025000"/>
            <a:ext cx="2117880" cy="30510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Seçimler nedeniyle mal ve hizmet alımları ile hanehalklarına ve belediyelere yapılan transferlerde normalin üstünde bir artış gözlen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Harcamaların yapısının yeterince esnek olmaması nedeniyle, bütçe disiplinin devam ettirilebilmesi büyük ölçüde gelir tarafında yapılacak reformlara bağlıd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840" y="5632200"/>
            <a:ext cx="6748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Vergi tabanının genişletilmesi ve kayıtdışılıkla mücadele öncelikli olarak değerlendirilmelid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8120" y="1336680"/>
            <a:ext cx="67550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tçe dengesindeki bozulma devam edecek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6977160" y="1979640"/>
            <a:ext cx="2035080" cy="341604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aşta bütçe dengesi olmak üzere, ekonomik temellerdeki iyileşmeye paralel olarak, faiz dışı fazla hedefinin düşürülmesi normal bir geliş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ncak, gelirler tarafında herhangi bir düzenleme yapılmadan ve sosyal güvenlik sistemine ilişkin sorun çözülmeden böyle bir adım atılması risk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5487840"/>
            <a:ext cx="6584760" cy="6019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 bütçe taslağında vergi gelirleri için öngörülen %13.3’lük artış, iç talepte önümüzdeki yıl beklenen canlanmanın da üzerinde. Bu ise yeni vergi artışlarının gündeme gelebileceğinin önemli bir gösterge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338120"/>
            <a:ext cx="65865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3720" y="1325520"/>
          <a:ext cx="82724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325520"/>
                    <a:ext cx="82724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06440" y="615636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 12 aylı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5360" y="1136520"/>
          <a:ext cx="838368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36520"/>
                    <a:ext cx="83836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1920" y="612792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* Enerji, işlenmemiş gıda ürünleri, alkollü içkiler, tütün ürünleri ile altın hari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Hizmet fiyatları, enflasyondaki düşüşe destek ver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4640" y="1219320"/>
            <a:ext cx="7920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Özel tüketim harcamaları yavaşlad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3680" y="1363680"/>
          <a:ext cx="83422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363680"/>
                    <a:ext cx="83422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6080" y="6084720"/>
            <a:ext cx="349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el, mevsimsellikten arındırılmı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9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ç talepteki zayıf sinyaller yılın ikinci yarısında da sürü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160" y="1616040"/>
          <a:ext cx="441792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616040"/>
                    <a:ext cx="441792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95960" y="1682640"/>
          <a:ext cx="456228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682640"/>
                    <a:ext cx="4562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1760" y="136224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Beyaz Eşya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5200" y="137808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Otomobil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8’de faizlerde düşüşün devam etmesi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58720" y="1449360"/>
          <a:ext cx="779004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49360"/>
                    <a:ext cx="779004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 flipV="1">
            <a:off x="6492960" y="1904760"/>
            <a:ext cx="0" cy="26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yüme oranlarının hızlanması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7031160" y="2116080"/>
            <a:ext cx="2035080" cy="32335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urlardaki değerlenmeye bağlı olarak iç talebin yavaşladığı dönemlerde ihracat artışları büyümeyi önemli ölçüde destekle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Önümüzdeki dönemde faizlerdeki gerilemeye paralel olarak özel tüketim ve özel yatırım harcamalarının yeniden canlanması bekleni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520" y="5595840"/>
            <a:ext cx="6667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ndan itibaren ekonomideki büyüme oranının %6 seviyesini aşması yüksek bir olasılı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7320" y="1378080"/>
            <a:ext cx="66625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stihdamla ilgili gelişmeler önümüzdeki dönemin en büyük zorluklarından bir tanesi..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6000" y="3429000"/>
          <a:ext cx="31384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429000"/>
                    <a:ext cx="31384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042920" y="5762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2007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95480" y="6345360"/>
            <a:ext cx="280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Kaynak: TÜ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50000" y="3224160"/>
          <a:ext cx="3412800" cy="28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24160"/>
                    <a:ext cx="341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73080" y="6168960"/>
            <a:ext cx="494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* 2007 Ocak-Eylül dönemi ortalama verilerine gö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990720" y="1125360"/>
            <a:ext cx="6902280" cy="254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40400" y="1247760"/>
            <a:ext cx="268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entury Gothic"/>
              </a:rPr>
              <a:t>İşsizlik Oran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8:21:59Z</dcterms:created>
  <dc:creator>YKB</dc:creator>
  <dc:description/>
  <dc:language>en-US</dc:language>
  <cp:lastModifiedBy>YKB</cp:lastModifiedBy>
  <dcterms:modified xsi:type="dcterms:W3CDTF">2007-11-29T08:21:08Z</dcterms:modified>
  <cp:revision>16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