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5.wmf" ContentType="image/x-wmf"/>
  <Override PartName="/ppt/media/image2.png" ContentType="image/png"/>
  <Override PartName="/ppt/media/image4.jpeg" ContentType="image/jpeg"/>
  <Override PartName="/ppt/media/image10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tr-T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CF5E09C-4D29-4EFF-92AB-B7D813287F9A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39F596D-8C42-47F8-919E-4CEB87598FC2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51040" y="743040"/>
            <a:ext cx="4967280" cy="3724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88480" y="471636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01BECA5-7861-48A3-991B-5C9A2C8636E1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2165118-3725-4E0B-BA8F-528A2D69277C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2F179AC-59E1-4D4F-A6FB-0AE8824D5B5F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27911C8-4C51-4F99-ADB7-BF03BE8C4178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EB9F855-C8F3-4D78-AA90-DA313EEAC43F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F6D3A80-4DC9-41FF-A371-2D1C10D93DB2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54707B6-B69E-4C0A-A41D-E8601B58E342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219D540-043F-4CED-8D20-9EAAD7BBCD65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872797E-5F5A-4CAA-9D8F-88BD006C8F3D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2F2E74E-70ED-49A8-AC7A-9C3659C5724C}" type="slidenum">
              <a:rPr b="0" lang="tr-T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tr-T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60400" y="749160"/>
            <a:ext cx="4948200" cy="37101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888840" y="4716000"/>
            <a:ext cx="4889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528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23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772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016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2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772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016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17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232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232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528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276360" y="61495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tr-TR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FCC0-714C-4947-B702-9A5B849DAD83}" type="slidenum">
              <a:rPr b="0" i="1" lang="tr-TR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572160" y="6140520"/>
            <a:ext cx="2543400" cy="68400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162000" y="6308640"/>
            <a:ext cx="178596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4040" y="2619000"/>
            <a:ext cx="7176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Türkiye Ekonomisinin Görünümü ve Beklentiler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1360" y="4375080"/>
            <a:ext cx="651348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Century Gothic"/>
              </a:rPr>
              <a:t>Dr. Ahmet Çimenoğlu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entury Gothic"/>
              </a:rPr>
              <a:t>İstanbul, 6 Aralık 2007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23880" y="6172200"/>
            <a:ext cx="213372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2080" y="17280"/>
            <a:ext cx="8881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2007’de ihracattaki güçlü artışlar sürerken; 2008 için küresel yavaşlama ve YTL’nin değeri risk unsuru oluşturuyor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362480" y="1508040"/>
          <a:ext cx="4038480" cy="21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2480" y="1508040"/>
                    <a:ext cx="403848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71440" y="3860640"/>
          <a:ext cx="4024440" cy="230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440" y="3860640"/>
                    <a:ext cx="4024440" cy="23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624560" y="3703680"/>
            <a:ext cx="371448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TÜFE bazlı reel efektif döviz kur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32360" y="4126320"/>
            <a:ext cx="3664080" cy="161568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YTL’deki değer kazancına rağmen, işgücü verimliliğindeki ve yatırımlardaki artışlar ihracatın güçlü artışına katkıda bulund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2008’de ihracatın, AB büyümesinde öngörülen yavaşlama ve reel kur artışının sürmesine bağlı olarak 2007’ye göre daha yavaş artmasını bekliyoruz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06520" y="1619280"/>
          <a:ext cx="3625920" cy="218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520" y="1619280"/>
                    <a:ext cx="362592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20680" y="1366920"/>
            <a:ext cx="47084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Dış Ticar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milyar dola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11760" y="1300320"/>
            <a:ext cx="37940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Reel Kur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8280" y="3803760"/>
            <a:ext cx="37940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Verimlilik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9960" y="6188040"/>
            <a:ext cx="3714840" cy="1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** Mevsimselliikten arındırılmış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4480" y="306000"/>
            <a:ext cx="866916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Cari işlemler açığı hız kesm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7240" y="1711440"/>
          <a:ext cx="4543200" cy="30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1711440"/>
                    <a:ext cx="4543200" cy="30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0" y="451332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Arial"/>
              </a:rPr>
              <a:t>* YKB tahm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0680" y="1355760"/>
            <a:ext cx="47084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Cari denge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GSYİH’ya oran olarak, %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6400" y="4870080"/>
            <a:ext cx="5729400" cy="12258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Gerek ekonomideki yavaşlama, gerekse 2007 başında gerileyen petrol fiyatları ithalatın hız kesmesinde etkili old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İthalatın yeniden hızlanmaya başlamasıyla cari işlemler açığı 2007’nin ikinci yarısında yeniden büyümeye başlad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etrol fiyatlarındaki yükselişin 2006 yılında olduğu gibi, 2008 yılında da cari açığı olumsuz etkileyecek faktörlerden biri olması bekleniy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97560" y="1789200"/>
          <a:ext cx="441144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7560" y="1789200"/>
                    <a:ext cx="441144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889520" y="1368360"/>
            <a:ext cx="371160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Petrol fiyat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varil başına dolar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Düşük esnekliğe sahip olması nedeniyle, harcamalar tarafında alınabilecek önlemler sınırlı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"/>
          <p:cNvSpPr/>
          <p:nvPr/>
        </p:nvSpPr>
        <p:spPr>
          <a:xfrm>
            <a:off x="7026120" y="2025000"/>
            <a:ext cx="2117880" cy="30510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Seçimler nedeniyle mal ve hizmet alımları ile hanehalklarına ve belediyelere yapılan transferlerde normalin üstünde bir artış gözlenmiş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Harcamaların yapısının yeterince esnek olmaması nedeniyle, bütçe disiplinin devam ettirilebilmesi büyük ölçüde gelir tarafında yapılacak reformlara bağlıdı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7840" y="5632200"/>
            <a:ext cx="6748560" cy="4194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entury Gothic"/>
              </a:rPr>
              <a:t>Vergi tabanının genişletilmesi ve kayıtdışılıkla mücadele öncelikli olarak değerlendirilmelidi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8120" y="1336680"/>
            <a:ext cx="675504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Bütçe dengesindeki bozulma devam edecek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"/>
          <p:cNvSpPr/>
          <p:nvPr/>
        </p:nvSpPr>
        <p:spPr>
          <a:xfrm>
            <a:off x="6977160" y="1979640"/>
            <a:ext cx="2035080" cy="341604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aşta bütçe dengesi olmak üzere, ekonomik temellerdeki iyileşmeye paralel olarak, faiz dışı fazla hedefinin düşürülmesi normal bir geliş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ncak, gelirler tarafında herhangi bir düzenleme yapılmadan ve sosyal güvenlik sistemine ilişkin sorun çözülmeden böyle bir adım atılması risk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2240" y="5487840"/>
            <a:ext cx="6584760" cy="60192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2008 yılı bütçe taslağında vergi gelirleri için öngörülen %13.3’lük artış, iç talepte önümüzdeki yıl beklenen canlanmanın da üzerinde. Bu ise yeni vergi artışlarının gündeme gelebileceğinin önemli bir gösterge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0440" y="1338120"/>
            <a:ext cx="6586560" cy="40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Enflasyonda azalma trendi sona erdi (mi?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23720" y="1325520"/>
          <a:ext cx="8272440" cy="47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720" y="1325520"/>
                    <a:ext cx="827244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06440" y="6156360"/>
            <a:ext cx="413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* 12 aylı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Enflasyonda azalma trendi sona erdi (mi?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5360" y="1136520"/>
          <a:ext cx="8383680" cy="51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136520"/>
                    <a:ext cx="8383680" cy="51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31920" y="6127920"/>
            <a:ext cx="413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** Enerji, işlenmemiş gıda ürünleri, alkollü içkiler, tütün ürünleri ile altın hariç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Hizmet fiyatları, enflasyondaki düşüşe destek ver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74640" y="1219320"/>
            <a:ext cx="7920000" cy="48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Özel tüketim harcamaları yavaşladı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3680" y="1363680"/>
          <a:ext cx="834228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363680"/>
                    <a:ext cx="834228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136080" y="6084720"/>
            <a:ext cx="349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Reel, mevsimsellikten arındırılmı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19</a:t>
            </a: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1=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İç talepteki zayıf sinyaller yılın ikinci yarısında da sürü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1160" y="1616040"/>
          <a:ext cx="4417920" cy="40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" y="1616040"/>
                    <a:ext cx="4417920" cy="40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395960" y="1682640"/>
          <a:ext cx="4562280" cy="403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95960" y="1682640"/>
                    <a:ext cx="456228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401760" y="1362240"/>
            <a:ext cx="3638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Beyaz Eşya Satış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ad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75200" y="1378080"/>
            <a:ext cx="3638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Otomobil Satışları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 (</a:t>
            </a:r>
            <a:r>
              <a:rPr b="1" lang="tr-TR" sz="1200" spc="-1" strike="noStrike" u="sng">
                <a:solidFill>
                  <a:srgbClr val="000000"/>
                </a:solidFill>
                <a:uFillTx/>
                <a:latin typeface="Arial"/>
              </a:rPr>
              <a:t>adet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2008’de faizlerde düşüşün devam etmesi beklen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58720" y="1449360"/>
          <a:ext cx="7790040" cy="441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449360"/>
                    <a:ext cx="779004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 flipV="1">
            <a:off x="6492960" y="1904760"/>
            <a:ext cx="0" cy="269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74480" y="306000"/>
            <a:ext cx="866916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Büyüme oranlarının hızlanması bekleniyor…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"/>
          <p:cNvSpPr/>
          <p:nvPr/>
        </p:nvSpPr>
        <p:spPr>
          <a:xfrm>
            <a:off x="7031160" y="2116080"/>
            <a:ext cx="2035080" cy="323352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Kurlardaki değerlenmeye bağlı olarak iç talebin yavaşladığı dönemlerde ihracat artışları büyümeyi önemli ölçüde desteklemiş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Önümüzdeki dönemde faizlerdeki gerilemeye paralel olarak özel tüketim ve özel yatırım harcamalarının yeniden canlanması bekleniy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5520" y="5595840"/>
            <a:ext cx="6667560" cy="419400"/>
          </a:xfrm>
          <a:prstGeom prst="rect">
            <a:avLst/>
          </a:prstGeom>
          <a:solidFill>
            <a:srgbClr val="f3f3f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7000" bIns="270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2008 yılından itibaren ekonomideki büyüme oranının %6 seviyesini aşması yüksek bir olasılı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7320" y="1378080"/>
            <a:ext cx="666252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Century Gothic"/>
              </a:rPr>
              <a:t>İstihdamla ilgili gelişmeler önümüzdeki dönemin en büyük zorluklarından bir tanesi...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846000" y="3429000"/>
          <a:ext cx="3138480" cy="26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3429000"/>
                    <a:ext cx="313848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042920" y="576252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      2007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95480" y="6345360"/>
            <a:ext cx="280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Century Gothic"/>
              </a:rPr>
              <a:t>Kaynak: TÜİ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950000" y="3224160"/>
          <a:ext cx="3412800" cy="281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0000" y="3224160"/>
                    <a:ext cx="3412800" cy="28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873080" y="6168960"/>
            <a:ext cx="4940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Century Gothic"/>
              </a:rPr>
              <a:t>* 2007 Ocak-Eylül dönemi ortalama verilerine gö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990720" y="1125360"/>
            <a:ext cx="6902280" cy="2546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540400" y="1247760"/>
            <a:ext cx="268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entury Gothic"/>
              </a:rPr>
              <a:t>İşsizlik Oranlar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0T08:21:59Z</dcterms:created>
  <dc:creator>YKB</dc:creator>
  <dc:description/>
  <dc:language>en-US</dc:language>
  <cp:lastModifiedBy>YKB</cp:lastModifiedBy>
  <dcterms:modified xsi:type="dcterms:W3CDTF">2007-11-29T08:21:08Z</dcterms:modified>
  <cp:revision>16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