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8000-39DC-4F76-B62B-9EA625BB6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A79-4118-46D3-95F1-41A6B3FE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9D96-598B-4064-88DB-E2BCB837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8370-FF08-4A8D-AC5B-0A9E830D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6C9-A5F8-4CC7-9017-0298DC60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5FCA-D6AA-4AA8-9152-87B4BB468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85E8-D597-4F33-B6A7-3C626BB0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3426-9744-480E-A79E-674C723E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D12E9-CEFC-492D-83F9-A024FD45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4D20-754F-4D0E-B151-137AA0ED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B476-1FE2-40A8-9C5E-38669027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B52B-A715-49F7-B3E8-D6169E74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3E29-FFA5-4A7E-859E-C98496CA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6185-0101-4101-9FC9-19C0F837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D97C-5305-4994-B2F3-DFB72FA7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4092-B8B2-4435-8840-4DAED000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18160"/>
            <a:ext cx="264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F571-76ED-4D3D-8615-E2095D1E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B525-2727-4708-BABB-7B3FA46C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0978-ACFC-4C34-82FA-627E35BD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712C-15D8-43EA-8040-C52232652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840-310F-4226-8C69-AC93D1BD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EAA-C5B4-4197-BFAF-5D5234F6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816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E26-EE42-4643-9BDE-0FED4458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8160"/>
            <a:ext cx="8229600" cy="23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4DA1-7291-42D5-A32D-25DFEC20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-15840" y="-15840"/>
            <a:ext cx="9185400" cy="6410160"/>
            <a:chOff x="-15840" y="-15840"/>
            <a:chExt cx="9185400" cy="6410160"/>
          </a:xfrm>
        </p:grpSpPr>
        <p:sp>
          <p:nvSpPr>
            <p:cNvPr id="1" name="Freeform 8"/>
            <p:cNvSpPr/>
            <p:nvPr/>
          </p:nvSpPr>
          <p:spPr>
            <a:xfrm>
              <a:off x="-15840" y="-15840"/>
              <a:ext cx="9170640" cy="6395760"/>
            </a:xfrm>
            <a:prstGeom prst="pi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-1080" y="-1440"/>
              <a:ext cx="9170640" cy="639576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6274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10"/>
          <p:cNvSpPr/>
          <p:nvPr/>
        </p:nvSpPr>
        <p:spPr>
          <a:xfrm>
            <a:off x="-15840" y="5281560"/>
            <a:ext cx="9169200" cy="1602000"/>
          </a:xfrm>
          <a:prstGeom prst="pie">
            <a:avLst/>
          </a:prstGeom>
          <a:gradFill rotWithShape="0">
            <a:gsLst>
              <a:gs pos="0">
                <a:srgbClr val="0066cc"/>
              </a:gs>
              <a:gs pos="100000">
                <a:srgbClr val="70b04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8B18-9605-4C24-906E-030EB265A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-14400" y="4292640"/>
            <a:ext cx="9164880" cy="259236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Group 8"/>
          <p:cNvGrpSpPr/>
          <p:nvPr/>
        </p:nvGrpSpPr>
        <p:grpSpPr>
          <a:xfrm>
            <a:off x="-14400" y="0"/>
            <a:ext cx="9172800" cy="6124680"/>
            <a:chOff x="-14400" y="0"/>
            <a:chExt cx="9172800" cy="6124680"/>
          </a:xfrm>
        </p:grpSpPr>
        <p:sp>
          <p:nvSpPr>
            <p:cNvPr id="47" name="Freeform 9"/>
            <p:cNvSpPr/>
            <p:nvPr/>
          </p:nvSpPr>
          <p:spPr>
            <a:xfrm>
              <a:off x="0" y="0"/>
              <a:ext cx="9158400" cy="6124680"/>
            </a:xfrm>
            <a:prstGeom prst="pi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-14400" y="0"/>
              <a:ext cx="9158400" cy="6124680"/>
            </a:xfrm>
            <a:prstGeom prst="pie">
              <a:avLst/>
            </a:prstGeom>
            <a:gradFill rotWithShape="0">
              <a:gsLst>
                <a:gs pos="0">
                  <a:srgbClr val="002f5e">
                    <a:alpha val="44313"/>
                  </a:srgbClr>
                </a:gs>
                <a:gs pos="100000">
                  <a:srgbClr val="00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189720" y="130320"/>
            <a:ext cx="2306880" cy="1657440"/>
            <a:chOff x="189720" y="130320"/>
            <a:chExt cx="2306880" cy="1657440"/>
          </a:xfrm>
        </p:grpSpPr>
        <p:sp>
          <p:nvSpPr>
            <p:cNvPr id="50" name="Oval 12"/>
            <p:cNvSpPr/>
            <p:nvPr/>
          </p:nvSpPr>
          <p:spPr>
            <a:xfrm rot="20667600">
              <a:off x="304560" y="387360"/>
              <a:ext cx="2076480" cy="11430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e5d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3"/>
            <p:cNvSpPr/>
            <p:nvPr/>
          </p:nvSpPr>
          <p:spPr>
            <a:xfrm rot="20667600">
              <a:off x="399960" y="474480"/>
              <a:ext cx="1842840" cy="955440"/>
            </a:xfrm>
            <a:prstGeom prst="ellipse">
              <a:avLst/>
            </a:prstGeom>
            <a:gradFill rotWithShape="0">
              <a:gsLst>
                <a:gs pos="0">
                  <a:srgbClr val="002e5d"/>
                </a:gs>
                <a:gs pos="100000">
                  <a:srgbClr val="0066cc"/>
                </a:gs>
              </a:gsLst>
              <a:lin ang="198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" name="Text Box 14"/>
          <p:cNvSpPr/>
          <p:nvPr/>
        </p:nvSpPr>
        <p:spPr>
          <a:xfrm>
            <a:off x="762480" y="609480"/>
            <a:ext cx="115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adcf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E16-09BE-463F-9DE8-97B0F43560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6017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40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3642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Teşkilat yapısı, görev ve yetkiler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Object 7" descr=""/>
          <p:cNvPicPr/>
          <p:nvPr/>
        </p:nvPicPr>
        <p:blipFill>
          <a:blip r:embed="rId1"/>
          <a:stretch/>
        </p:blipFill>
        <p:spPr>
          <a:xfrm>
            <a:off x="324000" y="0"/>
            <a:ext cx="2071440" cy="2359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43080" y="47149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9adcf6"/>
                </a:solidFill>
                <a:latin typeface="Arial"/>
              </a:rPr>
              <a:t>Mali Suçları Araştırma Kurulu</a:t>
            </a:r>
            <a:endParaRPr b="1" i="1" lang="en-US" sz="24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9 Kasım 1996 tarihinde kurulmuştu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7 Şubat 1997 tarihinde fiilen çalışmalarına başlamıştı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18.10.2006’da 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5549 sayılı Suç Gelirlerinin Aklanmasının Önlenmesi Hakkında Kanunla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görev ve yetkileri yeniden belirlenmişt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Maliye Bakanına doğrudan bağlı olarak çalışmaktadı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61928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242100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84360" y="2708280"/>
            <a:ext cx="431964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2708280"/>
            <a:ext cx="0" cy="287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04000" y="2708280"/>
            <a:ext cx="0" cy="50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4365720"/>
            <a:ext cx="201636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Dış İlişki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Mevzuat İz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860640"/>
            <a:ext cx="302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71640" y="3860640"/>
            <a:ext cx="0" cy="505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95640" y="3860640"/>
            <a:ext cx="0" cy="576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149720"/>
            <a:ext cx="2087640" cy="934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Analiz/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437000"/>
            <a:ext cx="2087640" cy="93528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Toplam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Veri Giri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Bilgi İşlem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04000" y="3500280"/>
            <a:ext cx="0" cy="289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12000" y="3789360"/>
            <a:ext cx="2089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1200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101080" y="378936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5805360"/>
            <a:ext cx="208764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Yükümlü Denetim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Kamuoyu Duyarlılığ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nsan Kaynaklar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84360" y="3860640"/>
            <a:ext cx="0" cy="194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0360" y="2997360"/>
            <a:ext cx="1920960" cy="502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 Yr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4360" y="4149720"/>
            <a:ext cx="1955880" cy="9367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000096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ffff"/>
                </a:solidFill>
                <a:latin typeface="Arial"/>
              </a:rPr>
              <a:t>DAİRE BAŞKANLIĞ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Terörün Finansman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İdari Mali İşl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43280" y="189000"/>
            <a:ext cx="334476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LİYE BAKA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332000" y="907920"/>
            <a:ext cx="62643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9636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32000" y="907920"/>
            <a:ext cx="0" cy="360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00720" y="90792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00720" y="765000"/>
            <a:ext cx="0" cy="287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59280" y="1197000"/>
            <a:ext cx="3097080" cy="57636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ASA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59640" y="1125360"/>
            <a:ext cx="2089080" cy="35892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Maliye Teftiş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25360"/>
            <a:ext cx="2232000" cy="432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Arial"/>
              </a:rPr>
              <a:t>Hesap Uzmanları Kurul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773360"/>
            <a:ext cx="0" cy="2156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76720" y="1916280"/>
            <a:ext cx="2447640" cy="576000"/>
          </a:xfrm>
          <a:prstGeom prst="rect">
            <a:avLst/>
          </a:prstGeom>
          <a:gradFill rotWithShape="0">
            <a:gsLst>
              <a:gs pos="0">
                <a:srgbClr val="0000c0"/>
              </a:gs>
              <a:gs pos="100000">
                <a:srgbClr val="70b040">
                  <a:alpha val="9215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aşk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9adcf6"/>
                </a:solidFill>
                <a:latin typeface="Arial"/>
              </a:rPr>
              <a:t>MASAK Personeli</a:t>
            </a:r>
            <a:endParaRPr b="1" i="1" lang="en-US" sz="3600" spc="-1" strike="noStrike">
              <a:solidFill>
                <a:srgbClr val="9adcf6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052640"/>
          <a:ext cx="7601040" cy="3917880"/>
        </p:xfrm>
        <a:graphic>
          <a:graphicData uri="http://schemas.openxmlformats.org/drawingml/2006/table">
            <a:tbl>
              <a:tblPr/>
              <a:tblGrid>
                <a:gridCol w="4221000"/>
                <a:gridCol w="338004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nksiyonel Görev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Y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2f4776"/>
                        </a:gs>
                        <a:gs pos="50000">
                          <a:srgbClr val="6699ff"/>
                        </a:gs>
                        <a:gs pos="100000">
                          <a:srgbClr val="2f4776"/>
                        </a:gs>
                      </a:gsLst>
                      <a:lin ang="54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İdari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SA Uzman Yardımcıs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gi Denetmen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lgi İşlem Personel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49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ğer Person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20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4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TOPLAM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4511e"/>
                        </a:gs>
                        <a:gs pos="50000">
                          <a:srgbClr val="70b040"/>
                        </a:gs>
                        <a:gs pos="100000">
                          <a:srgbClr val="34511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2800" spc="-1" strike="noStrike">
                          <a:solidFill>
                            <a:srgbClr val="0066cc"/>
                          </a:solidFill>
                          <a:latin typeface="Arial"/>
                        </a:rPr>
                        <a:t>14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3200" spc="-1" strike="noStrike">
                <a:solidFill>
                  <a:srgbClr val="9adcf6"/>
                </a:solidFill>
                <a:latin typeface="Arial"/>
              </a:rPr>
              <a:t>MASAK’ın Temel Fonksiyonları</a:t>
            </a:r>
            <a:endParaRPr b="1" i="1" lang="en-US" sz="3200" spc="-1" strike="noStrike">
              <a:solidFill>
                <a:srgbClr val="9adcf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Veri toplama, analiz, değerlendir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Yükümlülük Denetimi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Politika belirleme ve mevzuat geliştir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Uluslararası İlişki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Koordinasy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3 Dikdörtgen"/>
          <p:cNvGrpSpPr/>
          <p:nvPr/>
        </p:nvGrpSpPr>
        <p:grpSpPr>
          <a:xfrm>
            <a:off x="225360" y="1749600"/>
            <a:ext cx="3328920" cy="896760"/>
            <a:chOff x="225360" y="1749600"/>
            <a:chExt cx="3328920" cy="896760"/>
          </a:xfrm>
        </p:grpSpPr>
        <p:pic>
          <p:nvPicPr>
            <p:cNvPr id="136" name="3 Dikdörtgen" descr=""/>
            <p:cNvPicPr/>
            <p:nvPr/>
          </p:nvPicPr>
          <p:blipFill>
            <a:blip r:embed="rId1"/>
            <a:stretch/>
          </p:blipFill>
          <p:spPr>
            <a:xfrm>
              <a:off x="225360" y="1749600"/>
              <a:ext cx="3328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285840" y="1785960"/>
              <a:ext cx="32144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Önleyici 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4 Dikdörtgen"/>
          <p:cNvGrpSpPr/>
          <p:nvPr/>
        </p:nvGrpSpPr>
        <p:grpSpPr>
          <a:xfrm>
            <a:off x="5657760" y="1749600"/>
            <a:ext cx="3175200" cy="896760"/>
            <a:chOff x="5657760" y="1749600"/>
            <a:chExt cx="3175200" cy="896760"/>
          </a:xfrm>
        </p:grpSpPr>
        <p:pic>
          <p:nvPicPr>
            <p:cNvPr id="139" name="4 Dikdörtgen" descr=""/>
            <p:cNvPicPr/>
            <p:nvPr/>
          </p:nvPicPr>
          <p:blipFill>
            <a:blip r:embed="rId2"/>
            <a:stretch/>
          </p:blipFill>
          <p:spPr>
            <a:xfrm>
              <a:off x="5657760" y="1749600"/>
              <a:ext cx="317520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786280" y="1785960"/>
              <a:ext cx="292896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2800" spc="-1" strike="noStrike">
                  <a:solidFill>
                    <a:srgbClr val="ffffff"/>
                  </a:solidFill>
                  <a:latin typeface="Arial"/>
                </a:rPr>
                <a:t>BastırıcıTedbirler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7 Yuvarlatılmış Çapraz Köşeli Dikdörtgen"/>
          <p:cNvSpPr/>
          <p:nvPr/>
        </p:nvSpPr>
        <p:spPr>
          <a:xfrm>
            <a:off x="71280" y="2708280"/>
            <a:ext cx="171468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Kimlik tesp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8 Yuvarlatılmış Çapraz Köşeli Dikdörtgen"/>
          <p:cNvSpPr/>
          <p:nvPr/>
        </p:nvSpPr>
        <p:spPr>
          <a:xfrm>
            <a:off x="71280" y="328608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Şİ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9 Yuvarlatılmış Çapraz Köşeli Dikdörtgen"/>
          <p:cNvSpPr/>
          <p:nvPr/>
        </p:nvSpPr>
        <p:spPr>
          <a:xfrm>
            <a:off x="71280" y="3786120"/>
            <a:ext cx="171468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Eği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10 Yuvarlatılmış Çapraz Köşeli Dikdörtgen"/>
          <p:cNvSpPr/>
          <p:nvPr/>
        </p:nvSpPr>
        <p:spPr>
          <a:xfrm>
            <a:off x="108000" y="429264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ç Deneti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11 Yuvarlatılmış Çapraz Köşeli Dikdörtgen"/>
          <p:cNvSpPr/>
          <p:nvPr/>
        </p:nvSpPr>
        <p:spPr>
          <a:xfrm>
            <a:off x="1930320" y="2708280"/>
            <a:ext cx="177804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İç Kontrol ve 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12 Yuvarlatılmış Çapraz Köşeli Dikdörtgen"/>
          <p:cNvSpPr/>
          <p:nvPr/>
        </p:nvSpPr>
        <p:spPr>
          <a:xfrm>
            <a:off x="1920960" y="3286080"/>
            <a:ext cx="1714320" cy="42876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Uyum Görevlis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13 Yuvarlatılmış Çapraz Köşeli Dikdörtgen"/>
          <p:cNvSpPr/>
          <p:nvPr/>
        </p:nvSpPr>
        <p:spPr>
          <a:xfrm>
            <a:off x="1928880" y="3786120"/>
            <a:ext cx="1706400" cy="50652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Bilgi Belge Ve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14 Yuvarlatılmış Çapraz Köşeli Dikdörtgen"/>
          <p:cNvSpPr/>
          <p:nvPr/>
        </p:nvSpPr>
        <p:spPr>
          <a:xfrm>
            <a:off x="1920960" y="4365720"/>
            <a:ext cx="1714320" cy="428400"/>
          </a:xfrm>
          <a:prstGeom prst="pie">
            <a:avLst/>
          </a:prstGeom>
          <a:solidFill>
            <a:srgbClr val="993366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Muhafaza-İbra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9" name="18 Şekil"/>
          <p:cNvCxnSpPr/>
          <p:nvPr/>
        </p:nvCxnSpPr>
        <p:spPr>
          <a:xfrm flipV="1" rot="10800000">
            <a:off x="1891440" y="856800"/>
            <a:ext cx="210924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cxnSp>
        <p:nvCxnSpPr>
          <p:cNvPr id="150" name="21 Şekil"/>
          <p:cNvCxnSpPr/>
          <p:nvPr/>
        </p:nvCxnSpPr>
        <p:spPr>
          <a:xfrm>
            <a:off x="5143680" y="857160"/>
            <a:ext cx="2108880" cy="929520"/>
          </a:xfrm>
          <a:prstGeom prst="bentConnector2">
            <a:avLst/>
          </a:prstGeom>
          <a:ln w="38160">
            <a:solidFill>
              <a:srgbClr val="258ad6"/>
            </a:solidFill>
            <a:miter/>
            <a:tailEnd len="med" type="arrow" w="med"/>
          </a:ln>
        </p:spPr>
      </p:cxnSp>
      <p:sp>
        <p:nvSpPr>
          <p:cNvPr id="151" name="AutoShape 5"/>
          <p:cNvSpPr/>
          <p:nvPr/>
        </p:nvSpPr>
        <p:spPr>
          <a:xfrm rot="10800000">
            <a:off x="-360" y="4797000"/>
            <a:ext cx="3714840" cy="71460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30 Dikdörtgen"/>
          <p:cNvGrpSpPr/>
          <p:nvPr/>
        </p:nvGrpSpPr>
        <p:grpSpPr>
          <a:xfrm>
            <a:off x="152280" y="5462640"/>
            <a:ext cx="3329280" cy="895320"/>
            <a:chOff x="152280" y="5462640"/>
            <a:chExt cx="3329280" cy="895320"/>
          </a:xfrm>
        </p:grpSpPr>
        <p:pic>
          <p:nvPicPr>
            <p:cNvPr id="153" name="30 Dikdörtgen" descr=""/>
            <p:cNvPicPr/>
            <p:nvPr/>
          </p:nvPicPr>
          <p:blipFill>
            <a:blip r:embed="rId3"/>
            <a:stretch/>
          </p:blipFill>
          <p:spPr>
            <a:xfrm>
              <a:off x="152280" y="5462640"/>
              <a:ext cx="332928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214200" y="5500800"/>
              <a:ext cx="32148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Yükümlülük Denetimi - Eğitim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31 Yuvarlatılmış Çapraz Köşeli Dikdörtgen"/>
          <p:cNvSpPr/>
          <p:nvPr/>
        </p:nvSpPr>
        <p:spPr>
          <a:xfrm>
            <a:off x="6357960" y="271476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Ön 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32 Yuvarlatılmış Çapraz Köşeli Dikdörtgen"/>
          <p:cNvSpPr/>
          <p:nvPr/>
        </p:nvSpPr>
        <p:spPr>
          <a:xfrm>
            <a:off x="6357960" y="3214800"/>
            <a:ext cx="1928880" cy="42840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eğerlendir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33 Yuvarlatılmış Çapraz Köşeli Dikdörtgen"/>
          <p:cNvSpPr/>
          <p:nvPr/>
        </p:nvSpPr>
        <p:spPr>
          <a:xfrm>
            <a:off x="6372360" y="422100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Araştırma İncele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5"/>
          <p:cNvSpPr/>
          <p:nvPr/>
        </p:nvSpPr>
        <p:spPr>
          <a:xfrm rot="10800000">
            <a:off x="5428800" y="4357800"/>
            <a:ext cx="3714840" cy="1000080"/>
          </a:xfrm>
          <a:prstGeom prst="upArrow">
            <a:avLst>
              <a:gd name="adj1" fmla="val 57296"/>
              <a:gd name="adj2" fmla="val 62796"/>
            </a:avLst>
          </a:prstGeom>
          <a:gradFill rotWithShape="0">
            <a:gsLst>
              <a:gs pos="0">
                <a:srgbClr val="9adcf6"/>
              </a:gs>
              <a:gs pos="100000">
                <a:srgbClr val="ddf3fc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35 Dikdörtgen"/>
          <p:cNvGrpSpPr/>
          <p:nvPr/>
        </p:nvGrpSpPr>
        <p:grpSpPr>
          <a:xfrm>
            <a:off x="5278320" y="5394240"/>
            <a:ext cx="1293840" cy="897120"/>
            <a:chOff x="5278320" y="5394240"/>
            <a:chExt cx="1293840" cy="897120"/>
          </a:xfrm>
        </p:grpSpPr>
        <p:pic>
          <p:nvPicPr>
            <p:cNvPr id="160" name="35 Dikdörtgen" descr=""/>
            <p:cNvPicPr/>
            <p:nvPr/>
          </p:nvPicPr>
          <p:blipFill>
            <a:blip r:embed="rId4"/>
            <a:stretch/>
          </p:blipFill>
          <p:spPr>
            <a:xfrm>
              <a:off x="5278320" y="5394240"/>
              <a:ext cx="12938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35788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Suç Duyurus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36 Dikdörtgen"/>
          <p:cNvGrpSpPr/>
          <p:nvPr/>
        </p:nvGrpSpPr>
        <p:grpSpPr>
          <a:xfrm>
            <a:off x="7869240" y="5394240"/>
            <a:ext cx="1255680" cy="897120"/>
            <a:chOff x="7869240" y="5394240"/>
            <a:chExt cx="1255680" cy="897120"/>
          </a:xfrm>
        </p:grpSpPr>
        <p:pic>
          <p:nvPicPr>
            <p:cNvPr id="163" name="36 Dikdörtgen" descr=""/>
            <p:cNvPicPr/>
            <p:nvPr/>
          </p:nvPicPr>
          <p:blipFill>
            <a:blip r:embed="rId5"/>
            <a:stretch/>
          </p:blipFill>
          <p:spPr>
            <a:xfrm>
              <a:off x="7869240" y="5394240"/>
              <a:ext cx="125568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792972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VT Kayı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5" name="39 Dikdörtgen"/>
          <p:cNvGrpSpPr/>
          <p:nvPr/>
        </p:nvGrpSpPr>
        <p:grpSpPr>
          <a:xfrm>
            <a:off x="6583320" y="5357880"/>
            <a:ext cx="1255680" cy="933480"/>
            <a:chOff x="6583320" y="5357880"/>
            <a:chExt cx="1255680" cy="933480"/>
          </a:xfrm>
        </p:grpSpPr>
        <p:pic>
          <p:nvPicPr>
            <p:cNvPr id="166" name="39 Dikdörtgen" descr=""/>
            <p:cNvPicPr/>
            <p:nvPr/>
          </p:nvPicPr>
          <p:blipFill>
            <a:blip r:embed="rId6"/>
            <a:stretch/>
          </p:blipFill>
          <p:spPr>
            <a:xfrm>
              <a:off x="6583320" y="5357880"/>
              <a:ext cx="125568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6643800" y="5429160"/>
              <a:ext cx="114300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1600" spc="-1" strike="noStrike">
                  <a:solidFill>
                    <a:srgbClr val="0066cc"/>
                  </a:solidFill>
                  <a:latin typeface="Arial"/>
                </a:rPr>
                <a:t>İlgili Birime Sev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41 Dikdörtgen"/>
          <p:cNvSpPr/>
          <p:nvPr/>
        </p:nvSpPr>
        <p:spPr>
          <a:xfrm rot="5400000">
            <a:off x="310716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Uluslararası İlişki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42 Dikdörtgen"/>
          <p:cNvSpPr/>
          <p:nvPr/>
        </p:nvSpPr>
        <p:spPr>
          <a:xfrm rot="5400000">
            <a:off x="3821400" y="3536280"/>
            <a:ext cx="23576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Düzen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Object 2" descr=""/>
          <p:cNvPicPr/>
          <p:nvPr/>
        </p:nvPicPr>
        <p:blipFill>
          <a:blip r:embed="rId7"/>
          <a:stretch/>
        </p:blipFill>
        <p:spPr>
          <a:xfrm>
            <a:off x="3857760" y="214200"/>
            <a:ext cx="1428480" cy="1357560"/>
          </a:xfrm>
          <a:prstGeom prst="rect">
            <a:avLst/>
          </a:prstGeom>
          <a:ln w="0">
            <a:noFill/>
          </a:ln>
        </p:spPr>
      </p:pic>
      <p:sp>
        <p:nvSpPr>
          <p:cNvPr id="171" name="44 Dikdörtgen"/>
          <p:cNvSpPr/>
          <p:nvPr/>
        </p:nvSpPr>
        <p:spPr>
          <a:xfrm rot="5400000">
            <a:off x="3714480" y="5572080"/>
            <a:ext cx="11430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c0"/>
                </a:solidFill>
                <a:latin typeface="Arial"/>
              </a:rPr>
              <a:t>FAT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46 Düz Bağlayıcı"/>
          <p:cNvSpPr/>
          <p:nvPr/>
        </p:nvSpPr>
        <p:spPr>
          <a:xfrm flipH="1">
            <a:off x="4284720" y="5002200"/>
            <a:ext cx="1440" cy="285840"/>
          </a:xfrm>
          <a:prstGeom prst="line">
            <a:avLst/>
          </a:prstGeom>
          <a:ln w="3816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3" name="50 Dirsek Bağlayıcısı"/>
          <p:cNvCxnSpPr>
            <a:endCxn id="168" idx="1"/>
          </p:cNvCxnSpPr>
          <p:nvPr/>
        </p:nvCxnSpPr>
        <p:spPr>
          <a:xfrm rot="5400000">
            <a:off x="3928320" y="1928880"/>
            <a:ext cx="1072080" cy="35784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cxnSp>
        <p:nvCxnSpPr>
          <p:cNvPr id="174" name="51 Dirsek Bağlayıcısı"/>
          <p:cNvCxnSpPr>
            <a:endCxn id="169" idx="1"/>
          </p:cNvCxnSpPr>
          <p:nvPr/>
        </p:nvCxnSpPr>
        <p:spPr>
          <a:xfrm flipH="1" rot="16200000">
            <a:off x="4285440" y="1928520"/>
            <a:ext cx="1072080" cy="358200"/>
          </a:xfrm>
          <a:prstGeom prst="bentConnector3">
            <a:avLst>
              <a:gd name="adj1" fmla="val 49983"/>
            </a:avLst>
          </a:prstGeom>
          <a:ln w="38160">
            <a:solidFill>
              <a:srgbClr val="2a99ec"/>
            </a:solidFill>
            <a:miter/>
            <a:tailEnd len="med" type="arrow" w="med"/>
          </a:ln>
        </p:spPr>
      </p:cxnSp>
      <p:sp>
        <p:nvSpPr>
          <p:cNvPr id="175" name="33 Yuvarlatılmış Çapraz Köşeli Dikdörtgen"/>
          <p:cNvSpPr/>
          <p:nvPr/>
        </p:nvSpPr>
        <p:spPr>
          <a:xfrm>
            <a:off x="6372360" y="3716280"/>
            <a:ext cx="1928520" cy="428760"/>
          </a:xfrm>
          <a:prstGeom prst="pie">
            <a:avLst/>
          </a:prstGeom>
          <a:solidFill>
            <a:srgbClr val="ff3300"/>
          </a:solidFill>
          <a:ln w="25560">
            <a:solidFill>
              <a:srgbClr val="8b6f2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Genel Anali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24000" y="496800"/>
            <a:ext cx="1143000" cy="339840"/>
          </a:xfrm>
          <a:prstGeom prst="rect">
            <a:avLst/>
          </a:prstGeom>
          <a:solidFill>
            <a:srgbClr val="000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YÜKÜMLÜL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73200" y="496800"/>
            <a:ext cx="91440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A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SAVCILI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OLLU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UR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496800"/>
            <a:ext cx="12445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KİŞ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96800"/>
            <a:ext cx="101592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ŞİRK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78840" y="496800"/>
            <a:ext cx="1117440" cy="370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URTDI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0240" y="928800"/>
            <a:ext cx="7620120" cy="771480"/>
          </a:xfrm>
          <a:prstGeom prst="flowChartMerge">
            <a:avLst/>
          </a:prstGeom>
          <a:solidFill>
            <a:srgbClr val="70b04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İHBARLAR ve ŞÜPHELİ İŞLEM BİLDİRİMLER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211640" y="1700280"/>
            <a:ext cx="487440" cy="554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520" y="2389320"/>
            <a:ext cx="248904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DEĞERLENDİ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65760" y="2389320"/>
            <a:ext cx="2540160" cy="349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66cc"/>
                </a:solidFill>
                <a:latin typeface="Tahoma"/>
              </a:rPr>
              <a:t>ARAŞTIRMA VE İNCELE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57913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7 GRUP İNCELEME ELEMANI**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2984400"/>
            <a:ext cx="2514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MSA UZMANLAR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3557520"/>
            <a:ext cx="2514600" cy="113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Veri topla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91320" y="3557520"/>
            <a:ext cx="2514600" cy="10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Bilgi ve belge temi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Yerinde inceleme ve ifadelere başvur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66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 </a:t>
            </a:r>
            <a:r>
              <a:rPr b="1" lang="tr-TR" sz="1200" spc="-1" strike="noStrike">
                <a:solidFill>
                  <a:srgbClr val="0066cc"/>
                </a:solidFill>
                <a:latin typeface="Tahoma"/>
              </a:rPr>
              <a:t>Analiz ve değerlendir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497520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DEĞERLENDİRME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4952880"/>
            <a:ext cx="2514600" cy="276480"/>
          </a:xfrm>
          <a:prstGeom prst="rect">
            <a:avLst/>
          </a:prstGeom>
          <a:solidFill>
            <a:srgbClr val="be993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0000"/>
                </a:solidFill>
                <a:latin typeface="Tahoma"/>
              </a:rPr>
              <a:t>ARŞ.VE İNC. RAPORU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5610240"/>
            <a:ext cx="251460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CUMHURİYET BAŞSAVCILI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08360" y="3246480"/>
            <a:ext cx="1727280" cy="1165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Yasa Uygulayıcı Birimler ile Koordinasy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4498920"/>
            <a:ext cx="1600200" cy="390960"/>
          </a:xfrm>
          <a:prstGeom prst="ellipse">
            <a:avLst/>
          </a:prstGeom>
          <a:solidFill>
            <a:srgbClr val="993366"/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0066cc"/>
                </a:solidFill>
                <a:latin typeface="Tahoma"/>
              </a:rPr>
              <a:t>Tedb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4635360"/>
            <a:ext cx="38124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048120" y="4635360"/>
            <a:ext cx="76176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35640" y="3789360"/>
            <a:ext cx="355680" cy="1116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048120" y="3803760"/>
            <a:ext cx="650880" cy="0"/>
          </a:xfrm>
          <a:prstGeom prst="line">
            <a:avLst/>
          </a:prstGeom>
          <a:ln w="93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2220840"/>
            <a:ext cx="54100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2220840"/>
            <a:ext cx="0" cy="165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138400"/>
            <a:ext cx="0" cy="82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76520" y="2781360"/>
            <a:ext cx="15840" cy="196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676520" y="4653000"/>
            <a:ext cx="15840" cy="299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7086600" y="2708280"/>
            <a:ext cx="6480" cy="270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86600" y="3389400"/>
            <a:ext cx="0" cy="164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83360" y="4581360"/>
            <a:ext cx="3240" cy="3715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528156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715000" y="5938920"/>
            <a:ext cx="8380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79640" y="5445000"/>
            <a:ext cx="0" cy="6573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6093000"/>
            <a:ext cx="114300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048120" y="51166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429000" y="2328840"/>
            <a:ext cx="0" cy="27972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9000" y="2320920"/>
            <a:ext cx="23623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100" spc="-1" strike="noStrike">
                <a:solidFill>
                  <a:srgbClr val="cc00cc"/>
                </a:solidFill>
                <a:latin typeface="Tahoma"/>
                <a:ea typeface="Arial"/>
              </a:rPr>
              <a:t>**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Maliye Müfettişleri, Hesap Uzmanları, Gelirler Kont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Bankalar Yem. Mur.,</a:t>
            </a:r>
            <a:r>
              <a:rPr b="1" lang="en-US" sz="1100" spc="-1" strike="noStrike">
                <a:solidFill>
                  <a:srgbClr val="9adcf6"/>
                </a:solidFill>
                <a:latin typeface="Tahoma"/>
                <a:ea typeface="Arial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Hazine Kont., Sermaye Piyasası</a:t>
            </a:r>
            <a:r>
              <a:rPr b="1" lang="tr-TR" sz="11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tr-TR" sz="1100" spc="-1" strike="noStrike">
                <a:solidFill>
                  <a:srgbClr val="9adcf6"/>
                </a:solidFill>
                <a:latin typeface="Tahoma"/>
              </a:rPr>
              <a:t>Uzmanları, Gümrük Müfettişleri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5280" y="587700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15200" y="5775480"/>
            <a:ext cx="1143000" cy="574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MASA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00" spc="-1" strike="noStrike">
                <a:solidFill>
                  <a:srgbClr val="ffffff"/>
                </a:solidFill>
                <a:latin typeface="Tahoma"/>
              </a:rPr>
              <a:t>Veri Tabanı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544500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5281560"/>
            <a:ext cx="0" cy="49392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24000" y="580536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</a:t>
            </a:r>
            <a:r>
              <a:rPr b="1" lang="tr-T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938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tespit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4450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85080" y="530064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0000"/>
                </a:solidFill>
                <a:latin typeface="Times New Roman"/>
              </a:rPr>
              <a:t>Suç Y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32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1200" spc="-1" strike="noStrike">
                <a:solidFill>
                  <a:srgbClr val="ffffff"/>
                </a:solidFill>
                <a:latin typeface="Times New Roman"/>
              </a:rPr>
              <a:t>Kapsamlı inceleme gereğ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9bc3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3 Diyagram" descr=""/>
          <p:cNvPicPr/>
          <p:nvPr/>
        </p:nvPicPr>
        <p:blipFill>
          <a:blip r:embed="rId1"/>
          <a:stretch/>
        </p:blipFill>
        <p:spPr>
          <a:xfrm>
            <a:off x="1901880" y="858960"/>
            <a:ext cx="5389560" cy="3225600"/>
          </a:xfrm>
          <a:prstGeom prst="rect">
            <a:avLst/>
          </a:prstGeom>
          <a:ln w="0">
            <a:noFill/>
          </a:ln>
        </p:spPr>
      </p:pic>
      <p:sp>
        <p:nvSpPr>
          <p:cNvPr id="228" name="4 Metin kutusu"/>
          <p:cNvSpPr/>
          <p:nvPr/>
        </p:nvSpPr>
        <p:spPr>
          <a:xfrm>
            <a:off x="179280" y="260280"/>
            <a:ext cx="3027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700" spc="-1" strike="noStrike">
                <a:solidFill>
                  <a:srgbClr val="ffffff"/>
                </a:solidFill>
                <a:latin typeface="Arial"/>
              </a:rPr>
              <a:t>Süreç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9"/>
          <p:cNvSpPr/>
          <p:nvPr/>
        </p:nvSpPr>
        <p:spPr>
          <a:xfrm>
            <a:off x="5145120" y="480528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6b8ed3"/>
              </a:gs>
              <a:gs pos="100000">
                <a:srgbClr val="25314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İncele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2857680" y="486900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70b040"/>
              </a:gs>
              <a:gs pos="100000">
                <a:srgbClr val="273d16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Su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Arial"/>
              </a:rPr>
              <a:t>Duyurus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1" name="Oval 10"/>
          <p:cNvGrpSpPr/>
          <p:nvPr/>
        </p:nvGrpSpPr>
        <p:grpSpPr>
          <a:xfrm>
            <a:off x="5262480" y="2781360"/>
            <a:ext cx="965160" cy="1012680"/>
            <a:chOff x="5262480" y="2781360"/>
            <a:chExt cx="965160" cy="1012680"/>
          </a:xfrm>
        </p:grpSpPr>
        <p:pic>
          <p:nvPicPr>
            <p:cNvPr id="232" name="Oval 10" descr=""/>
            <p:cNvPicPr/>
            <p:nvPr/>
          </p:nvPicPr>
          <p:blipFill>
            <a:blip r:embed="rId2"/>
            <a:stretch/>
          </p:blipFill>
          <p:spPr>
            <a:xfrm>
              <a:off x="5262480" y="2781360"/>
              <a:ext cx="9651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5441040" y="2943720"/>
              <a:ext cx="610560" cy="65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V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ayı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Oval 16"/>
          <p:cNvSpPr/>
          <p:nvPr/>
        </p:nvSpPr>
        <p:spPr>
          <a:xfrm>
            <a:off x="3851280" y="3508200"/>
            <a:ext cx="1368360" cy="1248120"/>
          </a:xfrm>
          <a:prstGeom prst="ellipse">
            <a:avLst/>
          </a:prstGeom>
          <a:gradFill rotWithShape="0">
            <a:gsLst>
              <a:gs pos="0">
                <a:srgbClr val="9adcf6"/>
              </a:gs>
              <a:gs pos="100000">
                <a:srgbClr val="374f5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ff3300"/>
                </a:solidFill>
                <a:latin typeface="Arial"/>
              </a:rPr>
              <a:t>Değerlendi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Oval 13"/>
          <p:cNvGrpSpPr/>
          <p:nvPr/>
        </p:nvGrpSpPr>
        <p:grpSpPr>
          <a:xfrm>
            <a:off x="2771640" y="2781360"/>
            <a:ext cx="1020960" cy="1031760"/>
            <a:chOff x="2771640" y="2781360"/>
            <a:chExt cx="1020960" cy="1031760"/>
          </a:xfrm>
        </p:grpSpPr>
        <p:pic>
          <p:nvPicPr>
            <p:cNvPr id="236" name="Oval 13" descr=""/>
            <p:cNvPicPr/>
            <p:nvPr/>
          </p:nvPicPr>
          <p:blipFill>
            <a:blip r:embed="rId3"/>
            <a:stretch/>
          </p:blipFill>
          <p:spPr>
            <a:xfrm>
              <a:off x="2771640" y="2781360"/>
              <a:ext cx="102096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953440" y="2949120"/>
              <a:ext cx="66348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Başk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Kuru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r-TR" sz="1800" spc="-1" strike="noStrike">
                  <a:solidFill>
                    <a:srgbClr val="ffffff"/>
                  </a:solidFill>
                  <a:latin typeface="Arial"/>
                </a:rPr>
                <a:t>Sev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49 Aşağı Ok"/>
          <p:cNvGrpSpPr/>
          <p:nvPr/>
        </p:nvGrpSpPr>
        <p:grpSpPr>
          <a:xfrm>
            <a:off x="3700440" y="4492800"/>
            <a:ext cx="542880" cy="542880"/>
            <a:chOff x="3700440" y="4492800"/>
            <a:chExt cx="542880" cy="542880"/>
          </a:xfrm>
        </p:grpSpPr>
        <p:pic>
          <p:nvPicPr>
            <p:cNvPr id="239" name="49 Aşağı Ok" descr=""/>
            <p:cNvPicPr/>
            <p:nvPr/>
          </p:nvPicPr>
          <p:blipFill>
            <a:blip r:embed="rId4"/>
            <a:stretch/>
          </p:blipFill>
          <p:spPr>
            <a:xfrm>
              <a:off x="3700440" y="44928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rot="2764200">
              <a:off x="3852360" y="4572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50 Aşağı Ok"/>
          <p:cNvGrpSpPr/>
          <p:nvPr/>
        </p:nvGrpSpPr>
        <p:grpSpPr>
          <a:xfrm>
            <a:off x="4821120" y="4572000"/>
            <a:ext cx="536760" cy="549360"/>
            <a:chOff x="4821120" y="4572000"/>
            <a:chExt cx="536760" cy="549360"/>
          </a:xfrm>
        </p:grpSpPr>
        <p:pic>
          <p:nvPicPr>
            <p:cNvPr id="242" name="50 Aşağı Ok" descr=""/>
            <p:cNvPicPr/>
            <p:nvPr/>
          </p:nvPicPr>
          <p:blipFill>
            <a:blip r:embed="rId5"/>
            <a:stretch/>
          </p:blipFill>
          <p:spPr>
            <a:xfrm>
              <a:off x="4821120" y="4572000"/>
              <a:ext cx="5367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18735600">
              <a:off x="4952160" y="4653360"/>
              <a:ext cx="2685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4" name="51 Aşağı Ok"/>
          <p:cNvGrpSpPr/>
          <p:nvPr/>
        </p:nvGrpSpPr>
        <p:grpSpPr>
          <a:xfrm>
            <a:off x="4084560" y="5175360"/>
            <a:ext cx="1041480" cy="652320"/>
            <a:chOff x="4084560" y="5175360"/>
            <a:chExt cx="1041480" cy="652320"/>
          </a:xfrm>
        </p:grpSpPr>
        <p:pic>
          <p:nvPicPr>
            <p:cNvPr id="245" name="51 Aşağı Ok" descr=""/>
            <p:cNvPicPr/>
            <p:nvPr/>
          </p:nvPicPr>
          <p:blipFill>
            <a:blip r:embed="rId6"/>
            <a:stretch/>
          </p:blipFill>
          <p:spPr>
            <a:xfrm>
              <a:off x="4084560" y="5175360"/>
              <a:ext cx="1041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 rot="5400000">
              <a:off x="4540320" y="5085360"/>
              <a:ext cx="26856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49 Aşağı Ok"/>
          <p:cNvGrpSpPr/>
          <p:nvPr/>
        </p:nvGrpSpPr>
        <p:grpSpPr>
          <a:xfrm>
            <a:off x="3596400" y="2885040"/>
            <a:ext cx="767160" cy="767160"/>
            <a:chOff x="3596400" y="2885040"/>
            <a:chExt cx="767160" cy="767160"/>
          </a:xfrm>
        </p:grpSpPr>
        <p:pic>
          <p:nvPicPr>
            <p:cNvPr id="248" name="49 Aşağı Ok" descr=""/>
            <p:cNvPicPr/>
            <p:nvPr/>
          </p:nvPicPr>
          <p:blipFill>
            <a:blip r:embed="rId7"/>
            <a:stretch/>
          </p:blipFill>
          <p:spPr>
            <a:xfrm rot="2573400">
              <a:off x="3708360" y="299700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 rot="5338200">
              <a:off x="3878640" y="309600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49 Aşağı Ok"/>
          <p:cNvGrpSpPr/>
          <p:nvPr/>
        </p:nvGrpSpPr>
        <p:grpSpPr>
          <a:xfrm>
            <a:off x="4708800" y="2885040"/>
            <a:ext cx="767520" cy="767520"/>
            <a:chOff x="4708800" y="2885040"/>
            <a:chExt cx="767520" cy="767520"/>
          </a:xfrm>
        </p:grpSpPr>
        <p:pic>
          <p:nvPicPr>
            <p:cNvPr id="251" name="49 Aşağı Ok" descr=""/>
            <p:cNvPicPr/>
            <p:nvPr/>
          </p:nvPicPr>
          <p:blipFill>
            <a:blip r:embed="rId8"/>
            <a:stretch/>
          </p:blipFill>
          <p:spPr>
            <a:xfrm rot="13408800">
              <a:off x="4820760" y="2997360"/>
              <a:ext cx="5428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 rot="16173000">
              <a:off x="4925160" y="3123720"/>
              <a:ext cx="2682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0:21:54Z</dcterms:created>
  <dc:creator>xp</dc:creator>
  <dc:description/>
  <cp:keywords/>
  <dc:language>en-US</dc:language>
  <cp:lastModifiedBy>CUSLUOGLU</cp:lastModifiedBy>
  <dcterms:modified xsi:type="dcterms:W3CDTF">2009-09-25T22:16:12Z</dcterms:modified>
  <cp:revision>58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2251033</vt:lpwstr>
  </property>
</Properties>
</file>