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B6A2-03F0-49B6-AB23-950056693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F61A-EAB1-4439-8CE7-4AFCF2F2D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D619-0C6E-41AA-ADCD-9B76317EB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60AD-CD2B-4714-A8E2-816FE2168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41812-C539-4C89-B147-E90B75B09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39D75-3A3E-49BC-AB36-EC41E9070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2164C-ADB3-4097-8088-D5C3640EE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1FF85-B24B-4285-A5FE-0BA587841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34784-EFA3-454F-B891-DA585561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08F8E-4539-4069-90A9-F7DC496C4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9486B-0230-4321-A519-DE3D8D04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6A81-3A7F-4566-9C86-3549A5E8B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EA4B0-770A-46FD-A042-D1147A4E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C9B38-C3B2-4FF8-9659-F17C7323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1B762-B47E-4DAB-A327-5003B960D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8AFB7-05DE-4DF7-8B9B-E172A76EB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ACF4A-0A0F-44B9-A8C4-902C7A641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4B71-2BA0-4BD6-9A0B-184F3485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9AF5-8414-4FDA-8D04-71969A0CF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71EF-60F8-48BA-8FC9-AF39CE6B3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3800-34FD-44A4-83CA-3EF3262B6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05BE-22F2-45E4-97BA-3E3C0F42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C016-2570-488C-82F3-C091B955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A36D-2B3A-44A9-9919-E8C77FCE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bc3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-15840" y="-15840"/>
            <a:ext cx="9185400" cy="6410160"/>
            <a:chOff x="-15840" y="-15840"/>
            <a:chExt cx="9185400" cy="6410160"/>
          </a:xfrm>
        </p:grpSpPr>
        <p:sp>
          <p:nvSpPr>
            <p:cNvPr id="1" name="Freeform 8"/>
            <p:cNvSpPr/>
            <p:nvPr/>
          </p:nvSpPr>
          <p:spPr>
            <a:xfrm>
              <a:off x="-15840" y="-15840"/>
              <a:ext cx="9170640" cy="639576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-1080" y="-1440"/>
              <a:ext cx="9170640" cy="6395760"/>
            </a:xfrm>
            <a:prstGeom prst="pie">
              <a:avLst/>
            </a:prstGeom>
            <a:gradFill rotWithShape="0">
              <a:gsLst>
                <a:gs pos="0">
                  <a:srgbClr val="002f5e">
                    <a:alpha val="46274"/>
                  </a:srgbClr>
                </a:gs>
                <a:gs pos="100000">
                  <a:srgbClr val="00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10"/>
          <p:cNvSpPr/>
          <p:nvPr/>
        </p:nvSpPr>
        <p:spPr>
          <a:xfrm>
            <a:off x="-15840" y="5281560"/>
            <a:ext cx="9169200" cy="1602000"/>
          </a:xfrm>
          <a:prstGeom prst="pie">
            <a:avLst/>
          </a:prstGeom>
          <a:gradFill rotWithShape="0">
            <a:gsLst>
              <a:gs pos="0">
                <a:srgbClr val="0066cc"/>
              </a:gs>
              <a:gs pos="100000">
                <a:srgbClr val="70b04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adcf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68328-8883-4AC3-A21E-06DAD0183A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bc3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7"/>
          <p:cNvSpPr/>
          <p:nvPr/>
        </p:nvSpPr>
        <p:spPr>
          <a:xfrm>
            <a:off x="-14400" y="4292640"/>
            <a:ext cx="9164880" cy="259236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" name="Group 8"/>
          <p:cNvGrpSpPr/>
          <p:nvPr/>
        </p:nvGrpSpPr>
        <p:grpSpPr>
          <a:xfrm>
            <a:off x="-14400" y="0"/>
            <a:ext cx="9172800" cy="6124680"/>
            <a:chOff x="-14400" y="0"/>
            <a:chExt cx="9172800" cy="6124680"/>
          </a:xfrm>
        </p:grpSpPr>
        <p:sp>
          <p:nvSpPr>
            <p:cNvPr id="47" name="Freeform 9"/>
            <p:cNvSpPr/>
            <p:nvPr/>
          </p:nvSpPr>
          <p:spPr>
            <a:xfrm>
              <a:off x="0" y="0"/>
              <a:ext cx="9158400" cy="6124680"/>
            </a:xfrm>
            <a:prstGeom prst="pi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Freeform 10"/>
            <p:cNvSpPr/>
            <p:nvPr/>
          </p:nvSpPr>
          <p:spPr>
            <a:xfrm>
              <a:off x="-14400" y="0"/>
              <a:ext cx="9158400" cy="6124680"/>
            </a:xfrm>
            <a:prstGeom prst="pie">
              <a:avLst/>
            </a:prstGeom>
            <a:gradFill rotWithShape="0">
              <a:gsLst>
                <a:gs pos="0">
                  <a:srgbClr val="002f5e">
                    <a:alpha val="44313"/>
                  </a:srgbClr>
                </a:gs>
                <a:gs pos="100000">
                  <a:srgbClr val="00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189720" y="130320"/>
            <a:ext cx="2306880" cy="1657440"/>
            <a:chOff x="189720" y="130320"/>
            <a:chExt cx="2306880" cy="1657440"/>
          </a:xfrm>
        </p:grpSpPr>
        <p:sp>
          <p:nvSpPr>
            <p:cNvPr id="50" name="Oval 12"/>
            <p:cNvSpPr/>
            <p:nvPr/>
          </p:nvSpPr>
          <p:spPr>
            <a:xfrm rot="20667600">
              <a:off x="304560" y="387360"/>
              <a:ext cx="2076480" cy="1143000"/>
            </a:xfrm>
            <a:prstGeom prst="ellips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2e5d"/>
                </a:gs>
              </a:gsLst>
              <a:lin ang="198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13"/>
            <p:cNvSpPr/>
            <p:nvPr/>
          </p:nvSpPr>
          <p:spPr>
            <a:xfrm rot="20667600">
              <a:off x="399960" y="474480"/>
              <a:ext cx="1842840" cy="955440"/>
            </a:xfrm>
            <a:prstGeom prst="ellipse">
              <a:avLst/>
            </a:prstGeom>
            <a:gradFill rotWithShape="0">
              <a:gsLst>
                <a:gs pos="0">
                  <a:srgbClr val="002e5d"/>
                </a:gs>
                <a:gs pos="100000">
                  <a:srgbClr val="0066cc"/>
                </a:gs>
              </a:gsLst>
              <a:lin ang="198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" name="Text Box 14"/>
          <p:cNvSpPr/>
          <p:nvPr/>
        </p:nvSpPr>
        <p:spPr>
          <a:xfrm>
            <a:off x="762480" y="609480"/>
            <a:ext cx="1155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adcf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179DE-32E9-48BD-80DA-42CA15F72D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bc3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6017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9adcf6"/>
                </a:solidFill>
                <a:latin typeface="Arial"/>
              </a:rPr>
              <a:t>Mali Suçları Araştırma Kurulu</a:t>
            </a: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295280" y="3642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Teşkilat yapısı, görev ve yetkiler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Object 7" descr=""/>
          <p:cNvPicPr/>
          <p:nvPr/>
        </p:nvPicPr>
        <p:blipFill>
          <a:blip r:embed="rId1"/>
          <a:stretch/>
        </p:blipFill>
        <p:spPr>
          <a:xfrm>
            <a:off x="324000" y="0"/>
            <a:ext cx="2071440" cy="235908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1243080" y="471492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bc3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9adcf6"/>
                </a:solidFill>
                <a:latin typeface="Arial"/>
              </a:rPr>
              <a:t>Mali Suçları Araştırma Kurulu</a:t>
            </a:r>
            <a:endParaRPr b="1" i="1" lang="en-US" sz="24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19 Kasım 1996 tarihinde kurulmuştu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17 Şubat 1997 tarihinde fiilen çalışmalarına başlamıştı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18.10.2006’da </a:t>
            </a:r>
            <a:r>
              <a:rPr b="0" lang="tr-TR" sz="2800" spc="-1" strike="noStrike" u="sng">
                <a:solidFill>
                  <a:srgbClr val="ffffff"/>
                </a:solidFill>
                <a:uFillTx/>
                <a:latin typeface="Arial"/>
              </a:rPr>
              <a:t>5549 sayılı Suç Gelirlerinin Aklanmasının Önlenmesi Hakkında Kanunla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 görev ve yetkileri yeniden belirlenmişti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Maliye Bakanına doğrudan bağlı olarak çalışmaktadı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bc3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619280" y="2997360"/>
            <a:ext cx="1920960" cy="502920"/>
          </a:xfrm>
          <a:prstGeom prst="rect">
            <a:avLst/>
          </a:prstGeom>
          <a:gradFill rotWithShape="0">
            <a:gsLst>
              <a:gs pos="0">
                <a:srgbClr val="0000c0"/>
              </a:gs>
              <a:gs pos="100000">
                <a:srgbClr val="70b040">
                  <a:alpha val="92156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ffffff"/>
                </a:solidFill>
                <a:latin typeface="Arial"/>
              </a:rPr>
              <a:t>Başkan Yr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00720" y="2421000"/>
            <a:ext cx="0" cy="287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84360" y="2708280"/>
            <a:ext cx="43196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84360" y="2708280"/>
            <a:ext cx="0" cy="287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04000" y="2708280"/>
            <a:ext cx="0" cy="504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9280" y="4365720"/>
            <a:ext cx="2016360" cy="934920"/>
          </a:xfrm>
          <a:prstGeom prst="rect">
            <a:avLst/>
          </a:prstGeom>
          <a:gradFill rotWithShape="0">
            <a:gsLst>
              <a:gs pos="0">
                <a:srgbClr val="0000c0"/>
              </a:gs>
              <a:gs pos="100000">
                <a:srgbClr val="000096">
                  <a:alpha val="92156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ffff"/>
                </a:solidFill>
                <a:latin typeface="Arial"/>
              </a:rPr>
              <a:t>DAİRE BAŞKANLIĞ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Dış İlişki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Mevzuat İzle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0" cy="360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71640" y="3860640"/>
            <a:ext cx="3024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71640" y="3860640"/>
            <a:ext cx="0" cy="5050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95640" y="3860640"/>
            <a:ext cx="0" cy="576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149720"/>
            <a:ext cx="2087640" cy="934920"/>
          </a:xfrm>
          <a:prstGeom prst="rect">
            <a:avLst/>
          </a:prstGeom>
          <a:gradFill rotWithShape="0">
            <a:gsLst>
              <a:gs pos="0">
                <a:srgbClr val="0000c0"/>
              </a:gs>
              <a:gs pos="100000">
                <a:srgbClr val="000096">
                  <a:alpha val="92156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ffff"/>
                </a:solidFill>
                <a:latin typeface="Arial"/>
              </a:rPr>
              <a:t>DAİRE BAŞKANLIĞ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Analiz/Değerlendir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İncele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71640" y="4437000"/>
            <a:ext cx="2087640" cy="935280"/>
          </a:xfrm>
          <a:prstGeom prst="rect">
            <a:avLst/>
          </a:prstGeom>
          <a:gradFill rotWithShape="0">
            <a:gsLst>
              <a:gs pos="0">
                <a:srgbClr val="0000c0"/>
              </a:gs>
              <a:gs pos="100000">
                <a:srgbClr val="000096">
                  <a:alpha val="92156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ffff"/>
                </a:solidFill>
                <a:latin typeface="Arial"/>
              </a:rPr>
              <a:t>DAİRE BAŞKANLIĞ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Veri Topla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Veri Giriş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Bilgi İşlem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04000" y="3500280"/>
            <a:ext cx="0" cy="2890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12000" y="3789360"/>
            <a:ext cx="20890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12000" y="3789360"/>
            <a:ext cx="0" cy="360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101080" y="3789360"/>
            <a:ext cx="0" cy="360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47640" y="5805360"/>
            <a:ext cx="2087640" cy="936720"/>
          </a:xfrm>
          <a:prstGeom prst="rect">
            <a:avLst/>
          </a:prstGeom>
          <a:gradFill rotWithShape="0">
            <a:gsLst>
              <a:gs pos="0">
                <a:srgbClr val="0000c0"/>
              </a:gs>
              <a:gs pos="100000">
                <a:srgbClr val="000096">
                  <a:alpha val="92156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ffff"/>
                </a:solidFill>
                <a:latin typeface="Arial"/>
              </a:rPr>
              <a:t>DAİRE BAŞKANLIĞ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Yükümlü Denetim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Kamuoyu Duyarlılığı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İnsan Kaynakları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484360" y="3860640"/>
            <a:ext cx="0" cy="1944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940360" y="2997360"/>
            <a:ext cx="1920960" cy="502920"/>
          </a:xfrm>
          <a:prstGeom prst="rect">
            <a:avLst/>
          </a:prstGeom>
          <a:gradFill rotWithShape="0">
            <a:gsLst>
              <a:gs pos="0">
                <a:srgbClr val="0000c0"/>
              </a:gs>
              <a:gs pos="100000">
                <a:srgbClr val="70b040">
                  <a:alpha val="92156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ffffff"/>
                </a:solidFill>
                <a:latin typeface="Arial"/>
              </a:rPr>
              <a:t>Başkan Yr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164360" y="4149720"/>
            <a:ext cx="1955880" cy="936720"/>
          </a:xfrm>
          <a:prstGeom prst="rect">
            <a:avLst/>
          </a:prstGeom>
          <a:gradFill rotWithShape="0">
            <a:gsLst>
              <a:gs pos="0">
                <a:srgbClr val="0000c0"/>
              </a:gs>
              <a:gs pos="100000">
                <a:srgbClr val="000096">
                  <a:alpha val="92156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ffff"/>
                </a:solidFill>
                <a:latin typeface="Arial"/>
              </a:rPr>
              <a:t>DAİRE BAŞKANLIĞ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Terörün Finansmanı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Genel Anali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İdari Mali İş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843280" y="189000"/>
            <a:ext cx="334476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MALİYE BAKA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332000" y="907920"/>
            <a:ext cx="6264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96360" y="907920"/>
            <a:ext cx="0" cy="287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32000" y="907920"/>
            <a:ext cx="0" cy="360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00720" y="907920"/>
            <a:ext cx="0" cy="287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00720" y="765000"/>
            <a:ext cx="0" cy="287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59280" y="1197000"/>
            <a:ext cx="3097080" cy="576360"/>
          </a:xfrm>
          <a:prstGeom prst="rect">
            <a:avLst/>
          </a:prstGeom>
          <a:gradFill rotWithShape="0">
            <a:gsLst>
              <a:gs pos="0">
                <a:srgbClr val="0000c0"/>
              </a:gs>
              <a:gs pos="100000">
                <a:srgbClr val="70b040">
                  <a:alpha val="92156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MAS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659640" y="1125360"/>
            <a:ext cx="2089080" cy="358920"/>
          </a:xfrm>
          <a:prstGeom prst="rect">
            <a:avLst/>
          </a:prstGeom>
          <a:gradFill rotWithShape="0">
            <a:gsLst>
              <a:gs pos="0">
                <a:srgbClr val="0000c0"/>
              </a:gs>
              <a:gs pos="100000">
                <a:srgbClr val="70b040">
                  <a:alpha val="92156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ffffff"/>
                </a:solidFill>
                <a:latin typeface="Arial"/>
              </a:rPr>
              <a:t>Maliye Teftiş Kurul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1125360"/>
            <a:ext cx="2232000" cy="432000"/>
          </a:xfrm>
          <a:prstGeom prst="rect">
            <a:avLst/>
          </a:prstGeom>
          <a:gradFill rotWithShape="0">
            <a:gsLst>
              <a:gs pos="0">
                <a:srgbClr val="0000c0"/>
              </a:gs>
              <a:gs pos="100000">
                <a:srgbClr val="70b040">
                  <a:alpha val="92156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ffffff"/>
                </a:solidFill>
                <a:latin typeface="Arial"/>
              </a:rPr>
              <a:t>Hesap Uzmanları Kurul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00720" y="1773360"/>
            <a:ext cx="0" cy="215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76720" y="1916280"/>
            <a:ext cx="2447640" cy="576000"/>
          </a:xfrm>
          <a:prstGeom prst="rect">
            <a:avLst/>
          </a:prstGeom>
          <a:gradFill rotWithShape="0">
            <a:gsLst>
              <a:gs pos="0">
                <a:srgbClr val="0000c0"/>
              </a:gs>
              <a:gs pos="100000">
                <a:srgbClr val="70b040">
                  <a:alpha val="92156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ffffff"/>
                </a:solidFill>
                <a:latin typeface="Arial"/>
              </a:rPr>
              <a:t>Başk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bc3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9adcf6"/>
                </a:solidFill>
                <a:latin typeface="Arial"/>
              </a:rPr>
              <a:t>MASAK Personeli</a:t>
            </a:r>
            <a:endParaRPr b="1" i="1" lang="en-US" sz="3600" spc="-1" strike="noStrike">
              <a:solidFill>
                <a:srgbClr val="9adcf6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39640" y="1052640"/>
          <a:ext cx="7601040" cy="3917880"/>
        </p:xfrm>
        <a:graphic>
          <a:graphicData uri="http://schemas.openxmlformats.org/drawingml/2006/table">
            <a:tbl>
              <a:tblPr/>
              <a:tblGrid>
                <a:gridCol w="4221000"/>
                <a:gridCol w="3380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nksiyonel Göre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Y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0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İdari Person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4511e"/>
                        </a:gs>
                        <a:gs pos="50000">
                          <a:srgbClr val="70b040"/>
                        </a:gs>
                        <a:gs pos="100000">
                          <a:srgbClr val="34511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49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SA Uzman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4511e"/>
                        </a:gs>
                        <a:gs pos="50000">
                          <a:srgbClr val="70b040"/>
                        </a:gs>
                        <a:gs pos="100000">
                          <a:srgbClr val="34511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4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0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SA Uzman Yardımcıs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4511e"/>
                        </a:gs>
                        <a:gs pos="50000">
                          <a:srgbClr val="70b040"/>
                        </a:gs>
                        <a:gs pos="100000">
                          <a:srgbClr val="34511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49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gi Denetmen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4511e"/>
                        </a:gs>
                        <a:gs pos="50000">
                          <a:srgbClr val="70b040"/>
                        </a:gs>
                        <a:gs pos="100000">
                          <a:srgbClr val="34511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0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lgi İşlem Personel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4511e"/>
                        </a:gs>
                        <a:gs pos="50000">
                          <a:srgbClr val="70b040"/>
                        </a:gs>
                        <a:gs pos="100000">
                          <a:srgbClr val="34511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49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ğer Person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4511e"/>
                        </a:gs>
                        <a:gs pos="50000">
                          <a:srgbClr val="70b040"/>
                        </a:gs>
                        <a:gs pos="100000">
                          <a:srgbClr val="34511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5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TOPLA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4511e"/>
                        </a:gs>
                        <a:gs pos="50000">
                          <a:srgbClr val="70b040"/>
                        </a:gs>
                        <a:gs pos="100000">
                          <a:srgbClr val="34511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14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bc3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3200" spc="-1" strike="noStrike">
                <a:solidFill>
                  <a:srgbClr val="9adcf6"/>
                </a:solidFill>
                <a:latin typeface="Arial"/>
              </a:rPr>
              <a:t>MASAK’ın Temel Fonksiyonları</a:t>
            </a:r>
            <a:endParaRPr b="1" i="1" lang="en-US" sz="32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Veri toplama, analiz, değerlendirm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İncele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Yükümlülük Denetim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Politika belirleme ve mevzuat geliştir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Uluslararası İlişki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Koordinasy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bc3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3 Dikdörtgen"/>
          <p:cNvGrpSpPr/>
          <p:nvPr/>
        </p:nvGrpSpPr>
        <p:grpSpPr>
          <a:xfrm>
            <a:off x="225360" y="1749600"/>
            <a:ext cx="3328920" cy="896760"/>
            <a:chOff x="225360" y="1749600"/>
            <a:chExt cx="3328920" cy="896760"/>
          </a:xfrm>
        </p:grpSpPr>
        <p:pic>
          <p:nvPicPr>
            <p:cNvPr id="136" name="3 Dikdörtgen" descr=""/>
            <p:cNvPicPr/>
            <p:nvPr/>
          </p:nvPicPr>
          <p:blipFill>
            <a:blip r:embed="rId1"/>
            <a:stretch/>
          </p:blipFill>
          <p:spPr>
            <a:xfrm>
              <a:off x="225360" y="1749600"/>
              <a:ext cx="3328920" cy="89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285840" y="1785960"/>
              <a:ext cx="321444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800" spc="-1" strike="noStrike">
                  <a:solidFill>
                    <a:srgbClr val="ffffff"/>
                  </a:solidFill>
                  <a:latin typeface="Arial"/>
                </a:rPr>
                <a:t>Önleyici Tedbirler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8" name="4 Dikdörtgen"/>
          <p:cNvGrpSpPr/>
          <p:nvPr/>
        </p:nvGrpSpPr>
        <p:grpSpPr>
          <a:xfrm>
            <a:off x="5657760" y="1749600"/>
            <a:ext cx="3175200" cy="896760"/>
            <a:chOff x="5657760" y="1749600"/>
            <a:chExt cx="3175200" cy="896760"/>
          </a:xfrm>
        </p:grpSpPr>
        <p:pic>
          <p:nvPicPr>
            <p:cNvPr id="139" name="4 Dikdörtgen" descr=""/>
            <p:cNvPicPr/>
            <p:nvPr/>
          </p:nvPicPr>
          <p:blipFill>
            <a:blip r:embed="rId2"/>
            <a:stretch/>
          </p:blipFill>
          <p:spPr>
            <a:xfrm>
              <a:off x="5657760" y="1749600"/>
              <a:ext cx="3175200" cy="89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5786280" y="1785960"/>
              <a:ext cx="292896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800" spc="-1" strike="noStrike">
                  <a:solidFill>
                    <a:srgbClr val="ffffff"/>
                  </a:solidFill>
                  <a:latin typeface="Arial"/>
                </a:rPr>
                <a:t>BastırıcıTedbirler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1" name="7 Yuvarlatılmış Çapraz Köşeli Dikdörtgen"/>
          <p:cNvSpPr/>
          <p:nvPr/>
        </p:nvSpPr>
        <p:spPr>
          <a:xfrm>
            <a:off x="71280" y="2708280"/>
            <a:ext cx="1714680" cy="506520"/>
          </a:xfrm>
          <a:prstGeom prst="pie">
            <a:avLst/>
          </a:prstGeom>
          <a:solidFill>
            <a:srgbClr val="993366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Kimlik tespi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8 Yuvarlatılmış Çapraz Köşeli Dikdörtgen"/>
          <p:cNvSpPr/>
          <p:nvPr/>
        </p:nvSpPr>
        <p:spPr>
          <a:xfrm>
            <a:off x="71280" y="3286080"/>
            <a:ext cx="1714680" cy="428760"/>
          </a:xfrm>
          <a:prstGeom prst="pie">
            <a:avLst/>
          </a:prstGeom>
          <a:solidFill>
            <a:srgbClr val="993366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İ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9 Yuvarlatılmış Çapraz Köşeli Dikdörtgen"/>
          <p:cNvSpPr/>
          <p:nvPr/>
        </p:nvSpPr>
        <p:spPr>
          <a:xfrm>
            <a:off x="71280" y="3786120"/>
            <a:ext cx="1714680" cy="428760"/>
          </a:xfrm>
          <a:prstGeom prst="pie">
            <a:avLst/>
          </a:prstGeom>
          <a:solidFill>
            <a:srgbClr val="993366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Eğiti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10 Yuvarlatılmış Çapraz Köşeli Dikdörtgen"/>
          <p:cNvSpPr/>
          <p:nvPr/>
        </p:nvSpPr>
        <p:spPr>
          <a:xfrm>
            <a:off x="108000" y="4292640"/>
            <a:ext cx="1714320" cy="428760"/>
          </a:xfrm>
          <a:prstGeom prst="pie">
            <a:avLst/>
          </a:prstGeom>
          <a:solidFill>
            <a:srgbClr val="993366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İç Deneti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11 Yuvarlatılmış Çapraz Köşeli Dikdörtgen"/>
          <p:cNvSpPr/>
          <p:nvPr/>
        </p:nvSpPr>
        <p:spPr>
          <a:xfrm>
            <a:off x="1930320" y="2708280"/>
            <a:ext cx="1778040" cy="506520"/>
          </a:xfrm>
          <a:prstGeom prst="pie">
            <a:avLst/>
          </a:prstGeom>
          <a:solidFill>
            <a:srgbClr val="993366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ffffff"/>
                </a:solidFill>
                <a:latin typeface="Arial"/>
              </a:rPr>
              <a:t>İç Kontrol ve 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12 Yuvarlatılmış Çapraz Köşeli Dikdörtgen"/>
          <p:cNvSpPr/>
          <p:nvPr/>
        </p:nvSpPr>
        <p:spPr>
          <a:xfrm>
            <a:off x="1920960" y="3286080"/>
            <a:ext cx="1714320" cy="428760"/>
          </a:xfrm>
          <a:prstGeom prst="pie">
            <a:avLst/>
          </a:prstGeom>
          <a:solidFill>
            <a:srgbClr val="993366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ffffff"/>
                </a:solidFill>
                <a:latin typeface="Arial"/>
              </a:rPr>
              <a:t>Uyum Görevlis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13 Yuvarlatılmış Çapraz Köşeli Dikdörtgen"/>
          <p:cNvSpPr/>
          <p:nvPr/>
        </p:nvSpPr>
        <p:spPr>
          <a:xfrm>
            <a:off x="1928880" y="3786120"/>
            <a:ext cx="1706400" cy="506520"/>
          </a:xfrm>
          <a:prstGeom prst="pie">
            <a:avLst/>
          </a:prstGeom>
          <a:solidFill>
            <a:srgbClr val="993366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ffffff"/>
                </a:solidFill>
                <a:latin typeface="Arial"/>
              </a:rPr>
              <a:t>Bilgi Belge Ver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14 Yuvarlatılmış Çapraz Köşeli Dikdörtgen"/>
          <p:cNvSpPr/>
          <p:nvPr/>
        </p:nvSpPr>
        <p:spPr>
          <a:xfrm>
            <a:off x="1920960" y="4365720"/>
            <a:ext cx="1714320" cy="428400"/>
          </a:xfrm>
          <a:prstGeom prst="pie">
            <a:avLst/>
          </a:prstGeom>
          <a:solidFill>
            <a:srgbClr val="993366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ffffff"/>
                </a:solidFill>
                <a:latin typeface="Arial"/>
              </a:rPr>
              <a:t>Muhafaza-İbra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9" name="18 Şekil"/>
          <p:cNvCxnSpPr/>
          <p:nvPr/>
        </p:nvCxnSpPr>
        <p:spPr>
          <a:xfrm flipV="1" rot="10800000">
            <a:off x="1891440" y="856800"/>
            <a:ext cx="2109240" cy="929520"/>
          </a:xfrm>
          <a:prstGeom prst="bentConnector2">
            <a:avLst/>
          </a:prstGeom>
          <a:ln w="38160">
            <a:solidFill>
              <a:srgbClr val="258ad6"/>
            </a:solidFill>
            <a:miter/>
            <a:tailEnd len="med" type="arrow" w="med"/>
          </a:ln>
        </p:spPr>
      </p:cxnSp>
      <p:cxnSp>
        <p:nvCxnSpPr>
          <p:cNvPr id="150" name="21 Şekil"/>
          <p:cNvCxnSpPr/>
          <p:nvPr/>
        </p:nvCxnSpPr>
        <p:spPr>
          <a:xfrm>
            <a:off x="5143680" y="857160"/>
            <a:ext cx="2108880" cy="929520"/>
          </a:xfrm>
          <a:prstGeom prst="bentConnector2">
            <a:avLst/>
          </a:prstGeom>
          <a:ln w="38160">
            <a:solidFill>
              <a:srgbClr val="258ad6"/>
            </a:solidFill>
            <a:miter/>
            <a:tailEnd len="med" type="arrow" w="med"/>
          </a:ln>
        </p:spPr>
      </p:cxnSp>
      <p:sp>
        <p:nvSpPr>
          <p:cNvPr id="151" name="AutoShape 5"/>
          <p:cNvSpPr/>
          <p:nvPr/>
        </p:nvSpPr>
        <p:spPr>
          <a:xfrm rot="10800000">
            <a:off x="-360" y="4797000"/>
            <a:ext cx="3714840" cy="714600"/>
          </a:xfrm>
          <a:prstGeom prst="upArrow">
            <a:avLst>
              <a:gd name="adj1" fmla="val 57296"/>
              <a:gd name="adj2" fmla="val 62796"/>
            </a:avLst>
          </a:prstGeom>
          <a:gradFill rotWithShape="0">
            <a:gsLst>
              <a:gs pos="0">
                <a:srgbClr val="9adcf6"/>
              </a:gs>
              <a:gs pos="100000">
                <a:srgbClr val="ddf3fc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" name="30 Dikdörtgen"/>
          <p:cNvGrpSpPr/>
          <p:nvPr/>
        </p:nvGrpSpPr>
        <p:grpSpPr>
          <a:xfrm>
            <a:off x="152280" y="5462640"/>
            <a:ext cx="3329280" cy="895320"/>
            <a:chOff x="152280" y="5462640"/>
            <a:chExt cx="3329280" cy="895320"/>
          </a:xfrm>
        </p:grpSpPr>
        <p:pic>
          <p:nvPicPr>
            <p:cNvPr id="153" name="30 Dikdörtgen" descr=""/>
            <p:cNvPicPr/>
            <p:nvPr/>
          </p:nvPicPr>
          <p:blipFill>
            <a:blip r:embed="rId3"/>
            <a:stretch/>
          </p:blipFill>
          <p:spPr>
            <a:xfrm>
              <a:off x="152280" y="5462640"/>
              <a:ext cx="332928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214200" y="5500800"/>
              <a:ext cx="321480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600" spc="-1" strike="noStrike">
                  <a:solidFill>
                    <a:srgbClr val="0066cc"/>
                  </a:solidFill>
                  <a:latin typeface="Arial"/>
                </a:rPr>
                <a:t>Yükümlülük Denetimi - Eğitim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" name="31 Yuvarlatılmış Çapraz Köşeli Dikdörtgen"/>
          <p:cNvSpPr/>
          <p:nvPr/>
        </p:nvSpPr>
        <p:spPr>
          <a:xfrm>
            <a:off x="6357960" y="2714760"/>
            <a:ext cx="1928880" cy="428400"/>
          </a:xfrm>
          <a:prstGeom prst="pie">
            <a:avLst/>
          </a:prstGeom>
          <a:solidFill>
            <a:srgbClr val="ff3300"/>
          </a:solidFill>
          <a:ln w="25560">
            <a:solidFill>
              <a:srgbClr val="8b6f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Ön Değerlendir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32 Yuvarlatılmış Çapraz Köşeli Dikdörtgen"/>
          <p:cNvSpPr/>
          <p:nvPr/>
        </p:nvSpPr>
        <p:spPr>
          <a:xfrm>
            <a:off x="6357960" y="3214800"/>
            <a:ext cx="1928880" cy="428400"/>
          </a:xfrm>
          <a:prstGeom prst="pie">
            <a:avLst/>
          </a:prstGeom>
          <a:solidFill>
            <a:srgbClr val="ff3300"/>
          </a:solidFill>
          <a:ln w="25560">
            <a:solidFill>
              <a:srgbClr val="8b6f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Değerlendir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33 Yuvarlatılmış Çapraz Köşeli Dikdörtgen"/>
          <p:cNvSpPr/>
          <p:nvPr/>
        </p:nvSpPr>
        <p:spPr>
          <a:xfrm>
            <a:off x="6372360" y="4221000"/>
            <a:ext cx="1928520" cy="428760"/>
          </a:xfrm>
          <a:prstGeom prst="pie">
            <a:avLst/>
          </a:prstGeom>
          <a:solidFill>
            <a:srgbClr val="ff3300"/>
          </a:solidFill>
          <a:ln w="25560">
            <a:solidFill>
              <a:srgbClr val="8b6f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Araştırma İncele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AutoShape 5"/>
          <p:cNvSpPr/>
          <p:nvPr/>
        </p:nvSpPr>
        <p:spPr>
          <a:xfrm rot="10800000">
            <a:off x="5428800" y="4357800"/>
            <a:ext cx="3714840" cy="1000080"/>
          </a:xfrm>
          <a:prstGeom prst="upArrow">
            <a:avLst>
              <a:gd name="adj1" fmla="val 57296"/>
              <a:gd name="adj2" fmla="val 62796"/>
            </a:avLst>
          </a:prstGeom>
          <a:gradFill rotWithShape="0">
            <a:gsLst>
              <a:gs pos="0">
                <a:srgbClr val="9adcf6"/>
              </a:gs>
              <a:gs pos="100000">
                <a:srgbClr val="ddf3fc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35 Dikdörtgen"/>
          <p:cNvGrpSpPr/>
          <p:nvPr/>
        </p:nvGrpSpPr>
        <p:grpSpPr>
          <a:xfrm>
            <a:off x="5278320" y="5394240"/>
            <a:ext cx="1293840" cy="897120"/>
            <a:chOff x="5278320" y="5394240"/>
            <a:chExt cx="1293840" cy="897120"/>
          </a:xfrm>
        </p:grpSpPr>
        <p:pic>
          <p:nvPicPr>
            <p:cNvPr id="160" name="35 Dikdörtgen" descr=""/>
            <p:cNvPicPr/>
            <p:nvPr/>
          </p:nvPicPr>
          <p:blipFill>
            <a:blip r:embed="rId4"/>
            <a:stretch/>
          </p:blipFill>
          <p:spPr>
            <a:xfrm>
              <a:off x="5278320" y="5394240"/>
              <a:ext cx="129384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357880" y="5429160"/>
              <a:ext cx="114300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600" spc="-1" strike="noStrike">
                  <a:solidFill>
                    <a:srgbClr val="0066cc"/>
                  </a:solidFill>
                  <a:latin typeface="Arial"/>
                </a:rPr>
                <a:t>Suç Duyurusu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2" name="36 Dikdörtgen"/>
          <p:cNvGrpSpPr/>
          <p:nvPr/>
        </p:nvGrpSpPr>
        <p:grpSpPr>
          <a:xfrm>
            <a:off x="7869240" y="5394240"/>
            <a:ext cx="1255680" cy="897120"/>
            <a:chOff x="7869240" y="5394240"/>
            <a:chExt cx="1255680" cy="897120"/>
          </a:xfrm>
        </p:grpSpPr>
        <p:pic>
          <p:nvPicPr>
            <p:cNvPr id="163" name="36 Dikdörtgen" descr=""/>
            <p:cNvPicPr/>
            <p:nvPr/>
          </p:nvPicPr>
          <p:blipFill>
            <a:blip r:embed="rId5"/>
            <a:stretch/>
          </p:blipFill>
          <p:spPr>
            <a:xfrm>
              <a:off x="7869240" y="5394240"/>
              <a:ext cx="125568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7929720" y="5429160"/>
              <a:ext cx="114300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600" spc="-1" strike="noStrike">
                  <a:solidFill>
                    <a:srgbClr val="0066cc"/>
                  </a:solidFill>
                  <a:latin typeface="Arial"/>
                </a:rPr>
                <a:t>VT Kayı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5" name="39 Dikdörtgen"/>
          <p:cNvGrpSpPr/>
          <p:nvPr/>
        </p:nvGrpSpPr>
        <p:grpSpPr>
          <a:xfrm>
            <a:off x="6583320" y="5357880"/>
            <a:ext cx="1255680" cy="933480"/>
            <a:chOff x="6583320" y="5357880"/>
            <a:chExt cx="1255680" cy="933480"/>
          </a:xfrm>
        </p:grpSpPr>
        <p:pic>
          <p:nvPicPr>
            <p:cNvPr id="166" name="39 Dikdörtgen" descr=""/>
            <p:cNvPicPr/>
            <p:nvPr/>
          </p:nvPicPr>
          <p:blipFill>
            <a:blip r:embed="rId6"/>
            <a:stretch/>
          </p:blipFill>
          <p:spPr>
            <a:xfrm>
              <a:off x="6583320" y="5357880"/>
              <a:ext cx="1255680" cy="9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6643800" y="5429160"/>
              <a:ext cx="114300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600" spc="-1" strike="noStrike">
                  <a:solidFill>
                    <a:srgbClr val="0066cc"/>
                  </a:solidFill>
                  <a:latin typeface="Arial"/>
                </a:rPr>
                <a:t>İlgili Birime Sev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" name="41 Dikdörtgen"/>
          <p:cNvSpPr/>
          <p:nvPr/>
        </p:nvSpPr>
        <p:spPr>
          <a:xfrm rot="5400000">
            <a:off x="3107160" y="3536280"/>
            <a:ext cx="2357640" cy="571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c0"/>
                </a:solidFill>
                <a:latin typeface="Arial"/>
              </a:rPr>
              <a:t>Uluslararası İlişki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42 Dikdörtgen"/>
          <p:cNvSpPr/>
          <p:nvPr/>
        </p:nvSpPr>
        <p:spPr>
          <a:xfrm rot="5400000">
            <a:off x="3821400" y="3536280"/>
            <a:ext cx="2357640" cy="571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c0"/>
                </a:solidFill>
                <a:latin typeface="Arial"/>
              </a:rPr>
              <a:t>Düzenle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Object 2" descr=""/>
          <p:cNvPicPr/>
          <p:nvPr/>
        </p:nvPicPr>
        <p:blipFill>
          <a:blip r:embed="rId7"/>
          <a:stretch/>
        </p:blipFill>
        <p:spPr>
          <a:xfrm>
            <a:off x="3857760" y="214200"/>
            <a:ext cx="1428480" cy="1357560"/>
          </a:xfrm>
          <a:prstGeom prst="rect">
            <a:avLst/>
          </a:prstGeom>
          <a:ln w="0">
            <a:noFill/>
          </a:ln>
        </p:spPr>
      </p:pic>
      <p:sp>
        <p:nvSpPr>
          <p:cNvPr id="171" name="44 Dikdörtgen"/>
          <p:cNvSpPr/>
          <p:nvPr/>
        </p:nvSpPr>
        <p:spPr>
          <a:xfrm rot="5400000">
            <a:off x="3714480" y="5572080"/>
            <a:ext cx="1143000" cy="571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c0"/>
                </a:solidFill>
                <a:latin typeface="Arial"/>
              </a:rPr>
              <a:t>FAT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46 Düz Bağlayıcı"/>
          <p:cNvSpPr/>
          <p:nvPr/>
        </p:nvSpPr>
        <p:spPr>
          <a:xfrm flipH="1">
            <a:off x="4284720" y="5002200"/>
            <a:ext cx="1440" cy="285840"/>
          </a:xfrm>
          <a:prstGeom prst="line">
            <a:avLst/>
          </a:prstGeom>
          <a:ln w="3816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3" name="50 Dirsek Bağlayıcısı"/>
          <p:cNvCxnSpPr>
            <a:endCxn id="168" idx="1"/>
          </p:cNvCxnSpPr>
          <p:nvPr/>
        </p:nvCxnSpPr>
        <p:spPr>
          <a:xfrm rot="5400000">
            <a:off x="3928320" y="1928880"/>
            <a:ext cx="1072080" cy="357840"/>
          </a:xfrm>
          <a:prstGeom prst="bentConnector3">
            <a:avLst>
              <a:gd name="adj1" fmla="val 49983"/>
            </a:avLst>
          </a:prstGeom>
          <a:ln w="38160">
            <a:solidFill>
              <a:srgbClr val="2a99ec"/>
            </a:solidFill>
            <a:miter/>
            <a:tailEnd len="med" type="arrow" w="med"/>
          </a:ln>
        </p:spPr>
      </p:cxnSp>
      <p:cxnSp>
        <p:nvCxnSpPr>
          <p:cNvPr id="174" name="51 Dirsek Bağlayıcısı"/>
          <p:cNvCxnSpPr>
            <a:endCxn id="169" idx="1"/>
          </p:cNvCxnSpPr>
          <p:nvPr/>
        </p:nvCxnSpPr>
        <p:spPr>
          <a:xfrm flipH="1" rot="16200000">
            <a:off x="4285440" y="1928520"/>
            <a:ext cx="1072080" cy="358200"/>
          </a:xfrm>
          <a:prstGeom prst="bentConnector3">
            <a:avLst>
              <a:gd name="adj1" fmla="val 49983"/>
            </a:avLst>
          </a:prstGeom>
          <a:ln w="38160">
            <a:solidFill>
              <a:srgbClr val="2a99ec"/>
            </a:solidFill>
            <a:miter/>
            <a:tailEnd len="med" type="arrow" w="med"/>
          </a:ln>
        </p:spPr>
      </p:cxnSp>
      <p:sp>
        <p:nvSpPr>
          <p:cNvPr id="175" name="33 Yuvarlatılmış Çapraz Köşeli Dikdörtgen"/>
          <p:cNvSpPr/>
          <p:nvPr/>
        </p:nvSpPr>
        <p:spPr>
          <a:xfrm>
            <a:off x="6372360" y="3716280"/>
            <a:ext cx="1928520" cy="428760"/>
          </a:xfrm>
          <a:prstGeom prst="pie">
            <a:avLst/>
          </a:prstGeom>
          <a:solidFill>
            <a:srgbClr val="ff3300"/>
          </a:solidFill>
          <a:ln w="25560">
            <a:solidFill>
              <a:srgbClr val="8b6f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Genel Anali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bc3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24000" y="496800"/>
            <a:ext cx="1143000" cy="339840"/>
          </a:xfrm>
          <a:prstGeom prst="rect">
            <a:avLst/>
          </a:prstGeom>
          <a:solidFill>
            <a:srgbClr val="000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ffffff"/>
                </a:solidFill>
                <a:latin typeface="Tahoma"/>
              </a:rPr>
              <a:t>YÜKÜMLÜL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73200" y="496800"/>
            <a:ext cx="9144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BAS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496800"/>
            <a:ext cx="101592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SAVCILI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KOLLU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708360" y="496800"/>
            <a:ext cx="101592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KUR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830840" y="496800"/>
            <a:ext cx="124452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KİŞİ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96800"/>
            <a:ext cx="101592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ŞİRK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278840" y="496800"/>
            <a:ext cx="111744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YURTDIŞ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60240" y="928800"/>
            <a:ext cx="7620120" cy="771480"/>
          </a:xfrm>
          <a:prstGeom prst="flowChartMerge">
            <a:avLst/>
          </a:prstGeom>
          <a:solidFill>
            <a:srgbClr val="70b04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ffffff"/>
                </a:solidFill>
                <a:latin typeface="Tahoma"/>
              </a:rPr>
              <a:t>İHBARLAR ve ŞÜPHELİ İŞLEM BİLDİRİMLERİ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211640" y="1700280"/>
            <a:ext cx="487440" cy="5540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33520" y="2389320"/>
            <a:ext cx="2489040" cy="349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66cc"/>
                </a:solidFill>
                <a:latin typeface="Tahoma"/>
              </a:rPr>
              <a:t>DEĞERLENDİR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65760" y="2389320"/>
            <a:ext cx="2540160" cy="349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66cc"/>
                </a:solidFill>
                <a:latin typeface="Tahoma"/>
              </a:rPr>
              <a:t>ARAŞTIRMA VE İNCELE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>
            <a:hlinkClick r:id="rId2" action="ppaction://hlinksldjump"/>
          </p:cNvPr>
          <p:cNvSpPr/>
          <p:nvPr/>
        </p:nvSpPr>
        <p:spPr>
          <a:xfrm>
            <a:off x="5791320" y="2984400"/>
            <a:ext cx="2514600" cy="4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7 GRUP İNCELEME ELEMANI*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2984400"/>
            <a:ext cx="2514600" cy="4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MSA UZMANLAR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3520" y="3557520"/>
            <a:ext cx="2514600" cy="1135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66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Veri toplam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66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 </a:t>
            </a: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Anali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66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 </a:t>
            </a: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Değerlendir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66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791320" y="3557520"/>
            <a:ext cx="2514600" cy="10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66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Bilgi ve belge temin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66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 </a:t>
            </a: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Yerinde inceleme ve ifadelere başvurm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66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 </a:t>
            </a: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Analiz ve değerlendir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4975200"/>
            <a:ext cx="2514600" cy="276480"/>
          </a:xfrm>
          <a:prstGeom prst="rect">
            <a:avLst/>
          </a:prstGeom>
          <a:solidFill>
            <a:srgbClr val="be993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ff0000"/>
                </a:solidFill>
                <a:latin typeface="Tahoma"/>
              </a:rPr>
              <a:t>DEĞERLENDİRME RAPO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791320" y="4952880"/>
            <a:ext cx="2514600" cy="276480"/>
          </a:xfrm>
          <a:prstGeom prst="rect">
            <a:avLst/>
          </a:prstGeom>
          <a:solidFill>
            <a:srgbClr val="be993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ff0000"/>
                </a:solidFill>
                <a:latin typeface="Tahoma"/>
              </a:rPr>
              <a:t>ARŞ.VE İNC. RAPO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00400" y="5610240"/>
            <a:ext cx="251460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ffffff"/>
                </a:solidFill>
                <a:latin typeface="Tahoma"/>
              </a:rPr>
              <a:t>CUMHURİYET BAŞSAVCILIĞ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08360" y="3246480"/>
            <a:ext cx="1727280" cy="1165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200" spc="-1" strike="noStrike">
                <a:solidFill>
                  <a:srgbClr val="0066cc"/>
                </a:solidFill>
                <a:latin typeface="Tahoma"/>
              </a:rPr>
              <a:t>Yasa Uygulayıcı Birimler ile Koordinasy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09880" y="4498920"/>
            <a:ext cx="1600200" cy="39096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200" spc="-1" strike="noStrike">
                <a:solidFill>
                  <a:srgbClr val="0066cc"/>
                </a:solidFill>
                <a:latin typeface="Tahoma"/>
              </a:rPr>
              <a:t>Tedb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410080" y="4635360"/>
            <a:ext cx="381240" cy="0"/>
          </a:xfrm>
          <a:prstGeom prst="line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048120" y="4635360"/>
            <a:ext cx="761760" cy="0"/>
          </a:xfrm>
          <a:prstGeom prst="line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435640" y="3789360"/>
            <a:ext cx="355680" cy="11160"/>
          </a:xfrm>
          <a:prstGeom prst="line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048120" y="3803760"/>
            <a:ext cx="650880" cy="0"/>
          </a:xfrm>
          <a:prstGeom prst="line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676520" y="2220840"/>
            <a:ext cx="54100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76520" y="2220840"/>
            <a:ext cx="0" cy="1652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2220840"/>
            <a:ext cx="0" cy="1652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495680" y="2138400"/>
            <a:ext cx="0" cy="824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676520" y="2781360"/>
            <a:ext cx="15840" cy="1969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76520" y="3389400"/>
            <a:ext cx="0" cy="1648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1676520" y="4653000"/>
            <a:ext cx="15840" cy="2998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7086600" y="2708280"/>
            <a:ext cx="6480" cy="2700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086600" y="3389400"/>
            <a:ext cx="0" cy="1648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083360" y="4581360"/>
            <a:ext cx="3240" cy="3715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5281560"/>
            <a:ext cx="0" cy="6573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5715000" y="5938920"/>
            <a:ext cx="83808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979640" y="5445000"/>
            <a:ext cx="0" cy="6573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979640" y="6093000"/>
            <a:ext cx="11430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48120" y="511668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429000" y="2328840"/>
            <a:ext cx="0" cy="27972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429000" y="2320920"/>
            <a:ext cx="236232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642924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100" spc="-1" strike="noStrike">
                <a:solidFill>
                  <a:srgbClr val="cc00cc"/>
                </a:solidFill>
                <a:latin typeface="Tahoma"/>
                <a:ea typeface="Arial"/>
              </a:rPr>
              <a:t>**</a:t>
            </a:r>
            <a:r>
              <a:rPr b="1" lang="tr-TR" sz="1100" spc="-1" strike="noStrike">
                <a:solidFill>
                  <a:srgbClr val="9adcf6"/>
                </a:solidFill>
                <a:latin typeface="Tahoma"/>
              </a:rPr>
              <a:t>Maliye Müfettişleri, Hesap Uzmanları, Gelirler Kont.,</a:t>
            </a:r>
            <a:r>
              <a:rPr b="1" lang="en-US" sz="1100" spc="-1" strike="noStrike">
                <a:solidFill>
                  <a:srgbClr val="9adcf6"/>
                </a:solidFill>
                <a:latin typeface="Tahoma"/>
                <a:ea typeface="Arial"/>
              </a:rPr>
              <a:t> </a:t>
            </a:r>
            <a:r>
              <a:rPr b="1" lang="tr-TR" sz="1100" spc="-1" strike="noStrike">
                <a:solidFill>
                  <a:srgbClr val="9adcf6"/>
                </a:solidFill>
                <a:latin typeface="Tahoma"/>
              </a:rPr>
              <a:t>Bankalar Yem. Mur.,</a:t>
            </a:r>
            <a:r>
              <a:rPr b="1" lang="en-US" sz="1100" spc="-1" strike="noStrike">
                <a:solidFill>
                  <a:srgbClr val="9adcf6"/>
                </a:solidFill>
                <a:latin typeface="Tahoma"/>
                <a:ea typeface="Arial"/>
              </a:rPr>
              <a:t> </a:t>
            </a:r>
            <a:r>
              <a:rPr b="1" lang="tr-TR" sz="1100" spc="-1" strike="noStrike">
                <a:solidFill>
                  <a:srgbClr val="9adcf6"/>
                </a:solidFill>
                <a:latin typeface="Tahoma"/>
              </a:rPr>
              <a:t>Hazine Kont., Sermaye Piyasası</a:t>
            </a:r>
            <a:r>
              <a:rPr b="1" lang="tr-TR" sz="11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tr-TR" sz="1100" spc="-1" strike="noStrike">
                <a:solidFill>
                  <a:srgbClr val="9adcf6"/>
                </a:solidFill>
                <a:latin typeface="Tahoma"/>
              </a:rPr>
              <a:t>Uzmanları, Gümrük Müfettişleri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5280" y="5877000"/>
            <a:ext cx="1143000" cy="57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ffffff"/>
                </a:solidFill>
                <a:latin typeface="Tahoma"/>
              </a:rPr>
              <a:t>MASA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ffffff"/>
                </a:solidFill>
                <a:latin typeface="Tahoma"/>
              </a:rPr>
              <a:t>Veri Tabanı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315200" y="5775480"/>
            <a:ext cx="1143000" cy="57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ffffff"/>
                </a:solidFill>
                <a:latin typeface="Tahoma"/>
              </a:rPr>
              <a:t>MASA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ffffff"/>
                </a:solidFill>
                <a:latin typeface="Tahoma"/>
              </a:rPr>
              <a:t>Veri Tabanı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71640" y="5445000"/>
            <a:ext cx="0" cy="4939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848720" y="5281560"/>
            <a:ext cx="0" cy="4939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124000" y="580536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imes New Roman"/>
              </a:rPr>
              <a:t>Suç</a:t>
            </a:r>
            <a:r>
              <a:rPr b="1" lang="tr-T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tr-TR" sz="1400" spc="-1" strike="noStrike">
                <a:solidFill>
                  <a:srgbClr val="ff0000"/>
                </a:solidFill>
                <a:latin typeface="Times New Roman"/>
              </a:rPr>
              <a:t>tespit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715000" y="59389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imes New Roman"/>
              </a:rPr>
              <a:t>Suç tespit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544500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imes New Roman"/>
              </a:rPr>
              <a:t>Suç Yo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885080" y="530064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imes New Roman"/>
              </a:rPr>
              <a:t>Suç Yo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232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200" spc="-1" strike="noStrike">
                <a:solidFill>
                  <a:srgbClr val="ffffff"/>
                </a:solidFill>
                <a:latin typeface="Times New Roman"/>
              </a:rPr>
              <a:t>Kapsamlı inceleme gereğ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bc3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3 Diyagram" descr=""/>
          <p:cNvPicPr/>
          <p:nvPr/>
        </p:nvPicPr>
        <p:blipFill>
          <a:blip r:embed="rId1"/>
          <a:stretch/>
        </p:blipFill>
        <p:spPr>
          <a:xfrm>
            <a:off x="1901880" y="858960"/>
            <a:ext cx="5389560" cy="3225600"/>
          </a:xfrm>
          <a:prstGeom prst="rect">
            <a:avLst/>
          </a:prstGeom>
          <a:ln w="0">
            <a:noFill/>
          </a:ln>
        </p:spPr>
      </p:pic>
      <p:sp>
        <p:nvSpPr>
          <p:cNvPr id="228" name="4 Metin kutusu"/>
          <p:cNvSpPr/>
          <p:nvPr/>
        </p:nvSpPr>
        <p:spPr>
          <a:xfrm>
            <a:off x="179280" y="260280"/>
            <a:ext cx="3027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ffffff"/>
                </a:solidFill>
                <a:latin typeface="Arial"/>
              </a:rPr>
              <a:t>Süreç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Oval 19"/>
          <p:cNvSpPr/>
          <p:nvPr/>
        </p:nvSpPr>
        <p:spPr>
          <a:xfrm>
            <a:off x="5145120" y="480528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6b8ed3"/>
              </a:gs>
              <a:gs pos="100000">
                <a:srgbClr val="25314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İncele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Oval 7"/>
          <p:cNvSpPr/>
          <p:nvPr/>
        </p:nvSpPr>
        <p:spPr>
          <a:xfrm>
            <a:off x="2857680" y="4869000"/>
            <a:ext cx="1284120" cy="1274760"/>
          </a:xfrm>
          <a:prstGeom prst="ellipse">
            <a:avLst/>
          </a:prstGeom>
          <a:gradFill rotWithShape="0">
            <a:gsLst>
              <a:gs pos="0">
                <a:srgbClr val="70b040"/>
              </a:gs>
              <a:gs pos="100000">
                <a:srgbClr val="273d16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Su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Duyurus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1" name="Oval 10"/>
          <p:cNvGrpSpPr/>
          <p:nvPr/>
        </p:nvGrpSpPr>
        <p:grpSpPr>
          <a:xfrm>
            <a:off x="5262480" y="2781360"/>
            <a:ext cx="965160" cy="1012680"/>
            <a:chOff x="5262480" y="2781360"/>
            <a:chExt cx="965160" cy="1012680"/>
          </a:xfrm>
        </p:grpSpPr>
        <p:pic>
          <p:nvPicPr>
            <p:cNvPr id="232" name="Oval 10" descr=""/>
            <p:cNvPicPr/>
            <p:nvPr/>
          </p:nvPicPr>
          <p:blipFill>
            <a:blip r:embed="rId2"/>
            <a:stretch/>
          </p:blipFill>
          <p:spPr>
            <a:xfrm>
              <a:off x="5262480" y="2781360"/>
              <a:ext cx="965160" cy="10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5441040" y="2943720"/>
              <a:ext cx="610560" cy="65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Arial"/>
                </a:rPr>
                <a:t>V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Arial"/>
                </a:rPr>
                <a:t>Kayı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4" name="Oval 16"/>
          <p:cNvSpPr/>
          <p:nvPr/>
        </p:nvSpPr>
        <p:spPr>
          <a:xfrm>
            <a:off x="3851280" y="3508200"/>
            <a:ext cx="1368360" cy="1248120"/>
          </a:xfrm>
          <a:prstGeom prst="ellipse">
            <a:avLst/>
          </a:prstGeom>
          <a:gradFill rotWithShape="0">
            <a:gsLst>
              <a:gs pos="0">
                <a:srgbClr val="9adcf6"/>
              </a:gs>
              <a:gs pos="100000">
                <a:srgbClr val="374f5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3300"/>
                </a:solidFill>
                <a:latin typeface="Arial"/>
              </a:rPr>
              <a:t>Değerlendir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5" name="Oval 13"/>
          <p:cNvGrpSpPr/>
          <p:nvPr/>
        </p:nvGrpSpPr>
        <p:grpSpPr>
          <a:xfrm>
            <a:off x="2771640" y="2781360"/>
            <a:ext cx="1020960" cy="1031760"/>
            <a:chOff x="2771640" y="2781360"/>
            <a:chExt cx="1020960" cy="1031760"/>
          </a:xfrm>
        </p:grpSpPr>
        <p:pic>
          <p:nvPicPr>
            <p:cNvPr id="236" name="Oval 13" descr=""/>
            <p:cNvPicPr/>
            <p:nvPr/>
          </p:nvPicPr>
          <p:blipFill>
            <a:blip r:embed="rId3"/>
            <a:stretch/>
          </p:blipFill>
          <p:spPr>
            <a:xfrm>
              <a:off x="2771640" y="2781360"/>
              <a:ext cx="1020960" cy="103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953440" y="2949120"/>
              <a:ext cx="66348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Arial"/>
                </a:rPr>
                <a:t>Başk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Arial"/>
                </a:rPr>
                <a:t>Kurum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Arial"/>
                </a:rPr>
                <a:t>Sev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8" name="49 Aşağı Ok"/>
          <p:cNvGrpSpPr/>
          <p:nvPr/>
        </p:nvGrpSpPr>
        <p:grpSpPr>
          <a:xfrm>
            <a:off x="3700440" y="4492800"/>
            <a:ext cx="542880" cy="542880"/>
            <a:chOff x="3700440" y="4492800"/>
            <a:chExt cx="542880" cy="542880"/>
          </a:xfrm>
        </p:grpSpPr>
        <p:pic>
          <p:nvPicPr>
            <p:cNvPr id="239" name="49 Aşağı Ok" descr=""/>
            <p:cNvPicPr/>
            <p:nvPr/>
          </p:nvPicPr>
          <p:blipFill>
            <a:blip r:embed="rId4"/>
            <a:stretch/>
          </p:blipFill>
          <p:spPr>
            <a:xfrm>
              <a:off x="3700440" y="4492800"/>
              <a:ext cx="54288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 rot="2764200">
              <a:off x="3852360" y="4572720"/>
              <a:ext cx="2682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1" name="50 Aşağı Ok"/>
          <p:cNvGrpSpPr/>
          <p:nvPr/>
        </p:nvGrpSpPr>
        <p:grpSpPr>
          <a:xfrm>
            <a:off x="4821120" y="4572000"/>
            <a:ext cx="536760" cy="549360"/>
            <a:chOff x="4821120" y="4572000"/>
            <a:chExt cx="536760" cy="549360"/>
          </a:xfrm>
        </p:grpSpPr>
        <p:pic>
          <p:nvPicPr>
            <p:cNvPr id="242" name="50 Aşağı Ok" descr=""/>
            <p:cNvPicPr/>
            <p:nvPr/>
          </p:nvPicPr>
          <p:blipFill>
            <a:blip r:embed="rId5"/>
            <a:stretch/>
          </p:blipFill>
          <p:spPr>
            <a:xfrm>
              <a:off x="4821120" y="4572000"/>
              <a:ext cx="5367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 rot="18735600">
              <a:off x="4952160" y="4653360"/>
              <a:ext cx="26856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4" name="51 Aşağı Ok"/>
          <p:cNvGrpSpPr/>
          <p:nvPr/>
        </p:nvGrpSpPr>
        <p:grpSpPr>
          <a:xfrm>
            <a:off x="4084560" y="5175360"/>
            <a:ext cx="1041480" cy="652320"/>
            <a:chOff x="4084560" y="5175360"/>
            <a:chExt cx="1041480" cy="652320"/>
          </a:xfrm>
        </p:grpSpPr>
        <p:pic>
          <p:nvPicPr>
            <p:cNvPr id="245" name="51 Aşağı Ok" descr=""/>
            <p:cNvPicPr/>
            <p:nvPr/>
          </p:nvPicPr>
          <p:blipFill>
            <a:blip r:embed="rId6"/>
            <a:stretch/>
          </p:blipFill>
          <p:spPr>
            <a:xfrm>
              <a:off x="4084560" y="5175360"/>
              <a:ext cx="104148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 rot="5400000">
              <a:off x="4540320" y="5085360"/>
              <a:ext cx="26856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7" name="49 Aşağı Ok"/>
          <p:cNvGrpSpPr/>
          <p:nvPr/>
        </p:nvGrpSpPr>
        <p:grpSpPr>
          <a:xfrm>
            <a:off x="3596400" y="2885040"/>
            <a:ext cx="767160" cy="767160"/>
            <a:chOff x="3596400" y="2885040"/>
            <a:chExt cx="767160" cy="767160"/>
          </a:xfrm>
        </p:grpSpPr>
        <p:pic>
          <p:nvPicPr>
            <p:cNvPr id="248" name="49 Aşağı Ok" descr=""/>
            <p:cNvPicPr/>
            <p:nvPr/>
          </p:nvPicPr>
          <p:blipFill>
            <a:blip r:embed="rId7"/>
            <a:stretch/>
          </p:blipFill>
          <p:spPr>
            <a:xfrm rot="2573400">
              <a:off x="3708360" y="2997000"/>
              <a:ext cx="54288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 rot="5338200">
              <a:off x="3878640" y="3096000"/>
              <a:ext cx="2682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0" name="49 Aşağı Ok"/>
          <p:cNvGrpSpPr/>
          <p:nvPr/>
        </p:nvGrpSpPr>
        <p:grpSpPr>
          <a:xfrm>
            <a:off x="4708800" y="2885040"/>
            <a:ext cx="767520" cy="767520"/>
            <a:chOff x="4708800" y="2885040"/>
            <a:chExt cx="767520" cy="767520"/>
          </a:xfrm>
        </p:grpSpPr>
        <p:pic>
          <p:nvPicPr>
            <p:cNvPr id="251" name="49 Aşağı Ok" descr=""/>
            <p:cNvPicPr/>
            <p:nvPr/>
          </p:nvPicPr>
          <p:blipFill>
            <a:blip r:embed="rId8"/>
            <a:stretch/>
          </p:blipFill>
          <p:spPr>
            <a:xfrm rot="13408800">
              <a:off x="4820760" y="2997360"/>
              <a:ext cx="54288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 rot="16173000">
              <a:off x="4925160" y="3123720"/>
              <a:ext cx="2682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20:21:54Z</dcterms:created>
  <dc:creator>xp</dc:creator>
  <dc:description/>
  <cp:keywords/>
  <dc:language>en-US</dc:language>
  <cp:lastModifiedBy>CUSLUOGLU</cp:lastModifiedBy>
  <dcterms:modified xsi:type="dcterms:W3CDTF">2009-09-25T22:16:12Z</dcterms:modified>
  <cp:revision>58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812251033</vt:lpwstr>
  </property>
</Properties>
</file>