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F50-AB93-45B9-B705-D720135F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F13-EF74-4BDB-A565-FFF49990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969-DA8A-488E-9060-F10462AB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35B3-D99C-47B3-89DF-8088AB2A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6F5E-1BCE-41C1-AF18-4EDCE229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B0D3-E90C-4A8F-9CA7-B5C6B761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B29E-48A1-41FA-9797-AF02B0B0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0422-F111-4BDA-8174-B2A23CA3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D633-3ECA-4A2D-9F4A-AA7435BB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3CD8-175F-447E-9127-29FB8E20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F466-FCF2-471D-96F5-38B3B167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74B-025A-4332-A3A7-B551DF3C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D870-64C7-4DDA-86A8-AAA3E102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BFDA-7B4F-4CED-8117-920063C2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4670-08DC-4960-90A4-9A6002DA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3D98-6DF5-4437-9B2B-F307D26D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9B23-946E-4F6C-9DE8-CD879A55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277-F9C0-499A-8AF7-C785B483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452-56B3-426E-A47E-DF535AF5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1B0-4DF6-4478-808D-EB10518C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944-F8C6-4614-B88F-61268908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03C-F041-4FE8-AF4A-2DC18A3E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A06-F240-4D4B-B0B4-44A4BBB3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1C36-A5C0-4693-9132-203C78E4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15840" y="-15840"/>
            <a:ext cx="9185400" cy="6410160"/>
            <a:chOff x="-15840" y="-15840"/>
            <a:chExt cx="9185400" cy="6410160"/>
          </a:xfrm>
        </p:grpSpPr>
        <p:sp>
          <p:nvSpPr>
            <p:cNvPr id="1" name="Freeform 8"/>
            <p:cNvSpPr/>
            <p:nvPr/>
          </p:nvSpPr>
          <p:spPr>
            <a:xfrm>
              <a:off x="-15840" y="-15840"/>
              <a:ext cx="9170640" cy="63957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-1080" y="-1440"/>
              <a:ext cx="9170640" cy="639576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10"/>
          <p:cNvSpPr/>
          <p:nvPr/>
        </p:nvSpPr>
        <p:spPr>
          <a:xfrm>
            <a:off x="-15840" y="5281560"/>
            <a:ext cx="9169200" cy="160200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100000">
                <a:srgbClr val="70b0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7874-E2F6-45AD-84D7-63B844CF4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-14400" y="4292640"/>
            <a:ext cx="9164880" cy="25923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-14400" y="0"/>
            <a:ext cx="9172800" cy="6124680"/>
            <a:chOff x="-14400" y="0"/>
            <a:chExt cx="9172800" cy="6124680"/>
          </a:xfrm>
        </p:grpSpPr>
        <p:sp>
          <p:nvSpPr>
            <p:cNvPr id="47" name="Freeform 9"/>
            <p:cNvSpPr/>
            <p:nvPr/>
          </p:nvSpPr>
          <p:spPr>
            <a:xfrm>
              <a:off x="0" y="0"/>
              <a:ext cx="9158400" cy="61246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-14400" y="0"/>
              <a:ext cx="9158400" cy="612468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4313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189720" y="130320"/>
            <a:ext cx="2306880" cy="1657440"/>
            <a:chOff x="189720" y="130320"/>
            <a:chExt cx="2306880" cy="1657440"/>
          </a:xfrm>
        </p:grpSpPr>
        <p:sp>
          <p:nvSpPr>
            <p:cNvPr id="50" name="Oval 12"/>
            <p:cNvSpPr/>
            <p:nvPr/>
          </p:nvSpPr>
          <p:spPr>
            <a:xfrm rot="20667600">
              <a:off x="304560" y="387360"/>
              <a:ext cx="2076480" cy="11430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e5d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13"/>
            <p:cNvSpPr/>
            <p:nvPr/>
          </p:nvSpPr>
          <p:spPr>
            <a:xfrm rot="20667600">
              <a:off x="399960" y="474480"/>
              <a:ext cx="1842840" cy="955440"/>
            </a:xfrm>
            <a:prstGeom prst="ellipse">
              <a:avLst/>
            </a:prstGeom>
            <a:gradFill rotWithShape="0">
              <a:gsLst>
                <a:gs pos="0">
                  <a:srgbClr val="002e5d"/>
                </a:gs>
                <a:gs pos="100000">
                  <a:srgbClr val="0066cc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Text Box 14"/>
          <p:cNvSpPr/>
          <p:nvPr/>
        </p:nvSpPr>
        <p:spPr>
          <a:xfrm>
            <a:off x="762480" y="609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055F-B9C6-456B-B30E-8CEE8298A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6017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9adcf6"/>
                </a:solidFill>
                <a:latin typeface="Arial"/>
              </a:rPr>
              <a:t>Mali Suçları Araştırma Kurulu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3642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şkilat yapısı, görev ve yetki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Object 7" descr=""/>
          <p:cNvPicPr/>
          <p:nvPr/>
        </p:nvPicPr>
        <p:blipFill>
          <a:blip r:embed="rId1"/>
          <a:stretch/>
        </p:blipFill>
        <p:spPr>
          <a:xfrm>
            <a:off x="324000" y="0"/>
            <a:ext cx="2071440" cy="23590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43080" y="47149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9adcf6"/>
                </a:solidFill>
                <a:latin typeface="Arial"/>
              </a:rPr>
              <a:t>Mali Suçları Araştırma Kurulu</a:t>
            </a:r>
            <a:endParaRPr b="1" i="1" lang="en-US" sz="24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9 Kasım 1996 tarihinde kurulmuşt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7 Şubat 1997 tarihinde fiilen çalışmalarına başlamışt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8.10.2006’da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5549 sayılı Suç Gelirlerinin Aklanmasının Önlenmesi Hakkında Kanunla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görev ve yetkileri yeniden belirlenmişt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aliye Bakanına doğrudan bağlı olarak çalışmaktadı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19280" y="2997360"/>
            <a:ext cx="1920960" cy="502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 Y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242100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2708280"/>
            <a:ext cx="431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270828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2708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365720"/>
            <a:ext cx="2016360" cy="934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Dış İlişki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Mevzuat İz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860640"/>
            <a:ext cx="302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386064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386064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149720"/>
            <a:ext cx="2087640" cy="934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Analiz/Değerlendi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437000"/>
            <a:ext cx="2087640" cy="93528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Veri Topl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Veri Giri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Bilgi İşle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3500280"/>
            <a:ext cx="0" cy="28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3789360"/>
            <a:ext cx="208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378936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01080" y="378936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805360"/>
            <a:ext cx="2087640" cy="9367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Yükümlü Denetim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Kamuoyu Duyarlılığ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nsan Kaynaklar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3860640"/>
            <a:ext cx="0" cy="19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2997360"/>
            <a:ext cx="1920960" cy="502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 Y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4149720"/>
            <a:ext cx="1955880" cy="9367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Terörün Finansman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Genel Anali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dari Mali İş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189000"/>
            <a:ext cx="334476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ALİYE BAK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907920"/>
            <a:ext cx="626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96360" y="90792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90792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90792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76500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1197000"/>
            <a:ext cx="3097080" cy="57636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AS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1125360"/>
            <a:ext cx="2089080" cy="358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Arial"/>
              </a:rPr>
              <a:t>Maliye Teftiş Kuru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25360"/>
            <a:ext cx="2232000" cy="43200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Arial"/>
              </a:rPr>
              <a:t>Hesap Uzmanları Kuru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773360"/>
            <a:ext cx="0" cy="21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1916280"/>
            <a:ext cx="2447640" cy="57600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9adcf6"/>
                </a:solidFill>
                <a:latin typeface="Arial"/>
              </a:rPr>
              <a:t>MASAK Personeli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052640"/>
          <a:ext cx="7601040" cy="3917880"/>
        </p:xfrm>
        <a:graphic>
          <a:graphicData uri="http://schemas.openxmlformats.org/drawingml/2006/table">
            <a:tbl>
              <a:tblPr/>
              <a:tblGrid>
                <a:gridCol w="4221000"/>
                <a:gridCol w="3380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nksiyonel Gör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Y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İdari Perso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A Uzman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A Uzman Yardımcıs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gi Denetme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gi İşlem Persone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ğer Perso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9adcf6"/>
                </a:solidFill>
                <a:latin typeface="Arial"/>
              </a:rPr>
              <a:t>MASAK’ın Temel Fonksiyonları</a:t>
            </a:r>
            <a:endParaRPr b="1" i="1" lang="en-US" sz="32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toplama, analiz, değerlendir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ükümlülük Denetim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olitika belirleme ve mevzuat gelişt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Uluslararası İlişk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oordinasy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3 Dikdörtgen"/>
          <p:cNvGrpSpPr/>
          <p:nvPr/>
        </p:nvGrpSpPr>
        <p:grpSpPr>
          <a:xfrm>
            <a:off x="225360" y="1749600"/>
            <a:ext cx="3328920" cy="896760"/>
            <a:chOff x="225360" y="1749600"/>
            <a:chExt cx="3328920" cy="896760"/>
          </a:xfrm>
        </p:grpSpPr>
        <p:pic>
          <p:nvPicPr>
            <p:cNvPr id="136" name="3 Dikdörtgen" descr=""/>
            <p:cNvPicPr/>
            <p:nvPr/>
          </p:nvPicPr>
          <p:blipFill>
            <a:blip r:embed="rId1"/>
            <a:stretch/>
          </p:blipFill>
          <p:spPr>
            <a:xfrm>
              <a:off x="225360" y="1749600"/>
              <a:ext cx="33289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5840" y="1785960"/>
              <a:ext cx="3214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800" spc="-1" strike="noStrike">
                  <a:solidFill>
                    <a:srgbClr val="ffffff"/>
                  </a:solidFill>
                  <a:latin typeface="Arial"/>
                </a:rPr>
                <a:t>Önleyici Tedbirl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4 Dikdörtgen"/>
          <p:cNvGrpSpPr/>
          <p:nvPr/>
        </p:nvGrpSpPr>
        <p:grpSpPr>
          <a:xfrm>
            <a:off x="5657760" y="1749600"/>
            <a:ext cx="3175200" cy="896760"/>
            <a:chOff x="5657760" y="1749600"/>
            <a:chExt cx="3175200" cy="896760"/>
          </a:xfrm>
        </p:grpSpPr>
        <p:pic>
          <p:nvPicPr>
            <p:cNvPr id="139" name="4 Dikdörtgen" descr=""/>
            <p:cNvPicPr/>
            <p:nvPr/>
          </p:nvPicPr>
          <p:blipFill>
            <a:blip r:embed="rId2"/>
            <a:stretch/>
          </p:blipFill>
          <p:spPr>
            <a:xfrm>
              <a:off x="5657760" y="1749600"/>
              <a:ext cx="31752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786280" y="1785960"/>
              <a:ext cx="29289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800" spc="-1" strike="noStrike">
                  <a:solidFill>
                    <a:srgbClr val="ffffff"/>
                  </a:solidFill>
                  <a:latin typeface="Arial"/>
                </a:rPr>
                <a:t>BastırıcıTedbirl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7 Yuvarlatılmış Çapraz Köşeli Dikdörtgen"/>
          <p:cNvSpPr/>
          <p:nvPr/>
        </p:nvSpPr>
        <p:spPr>
          <a:xfrm>
            <a:off x="71280" y="2708280"/>
            <a:ext cx="171468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imlik tespi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8 Yuvarlatılmış Çapraz Köşeli Dikdörtgen"/>
          <p:cNvSpPr/>
          <p:nvPr/>
        </p:nvSpPr>
        <p:spPr>
          <a:xfrm>
            <a:off x="71280" y="3286080"/>
            <a:ext cx="171468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İ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9 Yuvarlatılmış Çapraz Köşeli Dikdörtgen"/>
          <p:cNvSpPr/>
          <p:nvPr/>
        </p:nvSpPr>
        <p:spPr>
          <a:xfrm>
            <a:off x="71280" y="3786120"/>
            <a:ext cx="171468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10 Yuvarlatılmış Çapraz Köşeli Dikdörtgen"/>
          <p:cNvSpPr/>
          <p:nvPr/>
        </p:nvSpPr>
        <p:spPr>
          <a:xfrm>
            <a:off x="108000" y="4292640"/>
            <a:ext cx="171432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ç Denet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11 Yuvarlatılmış Çapraz Köşeli Dikdörtgen"/>
          <p:cNvSpPr/>
          <p:nvPr/>
        </p:nvSpPr>
        <p:spPr>
          <a:xfrm>
            <a:off x="1930320" y="2708280"/>
            <a:ext cx="177804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İç Kontrol ve 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12 Yuvarlatılmış Çapraz Köşeli Dikdörtgen"/>
          <p:cNvSpPr/>
          <p:nvPr/>
        </p:nvSpPr>
        <p:spPr>
          <a:xfrm>
            <a:off x="1920960" y="3286080"/>
            <a:ext cx="171432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Uyum Görevli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13 Yuvarlatılmış Çapraz Köşeli Dikdörtgen"/>
          <p:cNvSpPr/>
          <p:nvPr/>
        </p:nvSpPr>
        <p:spPr>
          <a:xfrm>
            <a:off x="1928880" y="3786120"/>
            <a:ext cx="170640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ilgi Belge Ve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14 Yuvarlatılmış Çapraz Köşeli Dikdörtgen"/>
          <p:cNvSpPr/>
          <p:nvPr/>
        </p:nvSpPr>
        <p:spPr>
          <a:xfrm>
            <a:off x="1920960" y="4365720"/>
            <a:ext cx="1714320" cy="42840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Muhafaza-İbra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18 Şekil"/>
          <p:cNvCxnSpPr/>
          <p:nvPr/>
        </p:nvCxnSpPr>
        <p:spPr>
          <a:xfrm flipV="1" rot="10800000">
            <a:off x="1891440" y="856800"/>
            <a:ext cx="2109240" cy="929520"/>
          </a:xfrm>
          <a:prstGeom prst="bentConnector2">
            <a:avLst/>
          </a:prstGeom>
          <a:ln w="38160">
            <a:solidFill>
              <a:srgbClr val="258ad6"/>
            </a:solidFill>
            <a:miter/>
            <a:tailEnd len="med" type="arrow" w="med"/>
          </a:ln>
        </p:spPr>
      </p:cxnSp>
      <p:cxnSp>
        <p:nvCxnSpPr>
          <p:cNvPr id="150" name="21 Şekil"/>
          <p:cNvCxnSpPr/>
          <p:nvPr/>
        </p:nvCxnSpPr>
        <p:spPr>
          <a:xfrm>
            <a:off x="5143680" y="857160"/>
            <a:ext cx="2108880" cy="929520"/>
          </a:xfrm>
          <a:prstGeom prst="bentConnector2">
            <a:avLst/>
          </a:prstGeom>
          <a:ln w="38160">
            <a:solidFill>
              <a:srgbClr val="258ad6"/>
            </a:solidFill>
            <a:miter/>
            <a:tailEnd len="med" type="arrow" w="med"/>
          </a:ln>
        </p:spPr>
      </p:cxnSp>
      <p:sp>
        <p:nvSpPr>
          <p:cNvPr id="151" name="AutoShape 5"/>
          <p:cNvSpPr/>
          <p:nvPr/>
        </p:nvSpPr>
        <p:spPr>
          <a:xfrm rot="10800000">
            <a:off x="-360" y="4797000"/>
            <a:ext cx="3714840" cy="71460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df3fc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30 Dikdörtgen"/>
          <p:cNvGrpSpPr/>
          <p:nvPr/>
        </p:nvGrpSpPr>
        <p:grpSpPr>
          <a:xfrm>
            <a:off x="152280" y="5462640"/>
            <a:ext cx="3329280" cy="895320"/>
            <a:chOff x="152280" y="5462640"/>
            <a:chExt cx="3329280" cy="895320"/>
          </a:xfrm>
        </p:grpSpPr>
        <p:pic>
          <p:nvPicPr>
            <p:cNvPr id="153" name="30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5462640"/>
              <a:ext cx="33292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14200" y="5500800"/>
              <a:ext cx="3214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Yükümlülük Denetimi - Eğitim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31 Yuvarlatılmış Çapraz Köşeli Dikdörtgen"/>
          <p:cNvSpPr/>
          <p:nvPr/>
        </p:nvSpPr>
        <p:spPr>
          <a:xfrm>
            <a:off x="6357960" y="2714760"/>
            <a:ext cx="1928880" cy="42840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Ön Değerlendi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32 Yuvarlatılmış Çapraz Köşeli Dikdörtgen"/>
          <p:cNvSpPr/>
          <p:nvPr/>
        </p:nvSpPr>
        <p:spPr>
          <a:xfrm>
            <a:off x="6357960" y="3214800"/>
            <a:ext cx="1928880" cy="42840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eğerlendi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33 Yuvarlatılmış Çapraz Köşeli Dikdörtgen"/>
          <p:cNvSpPr/>
          <p:nvPr/>
        </p:nvSpPr>
        <p:spPr>
          <a:xfrm>
            <a:off x="6372360" y="4221000"/>
            <a:ext cx="1928520" cy="42876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Araştırma İncele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 rot="10800000">
            <a:off x="5428800" y="4357800"/>
            <a:ext cx="3714840" cy="10000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df3fc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35 Dikdörtgen"/>
          <p:cNvGrpSpPr/>
          <p:nvPr/>
        </p:nvGrpSpPr>
        <p:grpSpPr>
          <a:xfrm>
            <a:off x="5278320" y="5394240"/>
            <a:ext cx="1293840" cy="897120"/>
            <a:chOff x="5278320" y="5394240"/>
            <a:chExt cx="1293840" cy="897120"/>
          </a:xfrm>
        </p:grpSpPr>
        <p:pic>
          <p:nvPicPr>
            <p:cNvPr id="160" name="35 Dikdörtgen" descr=""/>
            <p:cNvPicPr/>
            <p:nvPr/>
          </p:nvPicPr>
          <p:blipFill>
            <a:blip r:embed="rId4"/>
            <a:stretch/>
          </p:blipFill>
          <p:spPr>
            <a:xfrm>
              <a:off x="5278320" y="5394240"/>
              <a:ext cx="12938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35788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Suç Duyurus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36 Dikdörtgen"/>
          <p:cNvGrpSpPr/>
          <p:nvPr/>
        </p:nvGrpSpPr>
        <p:grpSpPr>
          <a:xfrm>
            <a:off x="7869240" y="5394240"/>
            <a:ext cx="1255680" cy="897120"/>
            <a:chOff x="7869240" y="5394240"/>
            <a:chExt cx="1255680" cy="897120"/>
          </a:xfrm>
        </p:grpSpPr>
        <p:pic>
          <p:nvPicPr>
            <p:cNvPr id="163" name="36 Dikdörtgen" descr=""/>
            <p:cNvPicPr/>
            <p:nvPr/>
          </p:nvPicPr>
          <p:blipFill>
            <a:blip r:embed="rId5"/>
            <a:stretch/>
          </p:blipFill>
          <p:spPr>
            <a:xfrm>
              <a:off x="7869240" y="5394240"/>
              <a:ext cx="12556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92972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VT Kayı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39 Dikdörtgen"/>
          <p:cNvGrpSpPr/>
          <p:nvPr/>
        </p:nvGrpSpPr>
        <p:grpSpPr>
          <a:xfrm>
            <a:off x="6583320" y="5357880"/>
            <a:ext cx="1255680" cy="933480"/>
            <a:chOff x="6583320" y="5357880"/>
            <a:chExt cx="1255680" cy="933480"/>
          </a:xfrm>
        </p:grpSpPr>
        <p:pic>
          <p:nvPicPr>
            <p:cNvPr id="166" name="39 Dikdörtgen" descr=""/>
            <p:cNvPicPr/>
            <p:nvPr/>
          </p:nvPicPr>
          <p:blipFill>
            <a:blip r:embed="rId6"/>
            <a:stretch/>
          </p:blipFill>
          <p:spPr>
            <a:xfrm>
              <a:off x="6583320" y="5357880"/>
              <a:ext cx="12556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64380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İlgili Birime Sev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41 Dikdörtgen"/>
          <p:cNvSpPr/>
          <p:nvPr/>
        </p:nvSpPr>
        <p:spPr>
          <a:xfrm rot="5400000">
            <a:off x="3107160" y="3536280"/>
            <a:ext cx="23576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Uluslararası İliş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42 Dikdörtgen"/>
          <p:cNvSpPr/>
          <p:nvPr/>
        </p:nvSpPr>
        <p:spPr>
          <a:xfrm rot="5400000">
            <a:off x="3821400" y="3536280"/>
            <a:ext cx="23576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Düzenl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Object 2" descr=""/>
          <p:cNvPicPr/>
          <p:nvPr/>
        </p:nvPicPr>
        <p:blipFill>
          <a:blip r:embed="rId7"/>
          <a:stretch/>
        </p:blipFill>
        <p:spPr>
          <a:xfrm>
            <a:off x="3857760" y="214200"/>
            <a:ext cx="1428480" cy="1357560"/>
          </a:xfrm>
          <a:prstGeom prst="rect">
            <a:avLst/>
          </a:prstGeom>
          <a:ln w="0">
            <a:noFill/>
          </a:ln>
        </p:spPr>
      </p:pic>
      <p:sp>
        <p:nvSpPr>
          <p:cNvPr id="171" name="44 Dikdörtgen"/>
          <p:cNvSpPr/>
          <p:nvPr/>
        </p:nvSpPr>
        <p:spPr>
          <a:xfrm rot="5400000">
            <a:off x="3714480" y="5572080"/>
            <a:ext cx="114300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FAT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46 Düz Bağlayıcı"/>
          <p:cNvSpPr/>
          <p:nvPr/>
        </p:nvSpPr>
        <p:spPr>
          <a:xfrm flipH="1">
            <a:off x="4284720" y="5002200"/>
            <a:ext cx="1440" cy="285840"/>
          </a:xfrm>
          <a:prstGeom prst="line">
            <a:avLst/>
          </a:prstGeom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50 Dirsek Bağlayıcısı"/>
          <p:cNvCxnSpPr>
            <a:endCxn id="168" idx="1"/>
          </p:cNvCxnSpPr>
          <p:nvPr/>
        </p:nvCxnSpPr>
        <p:spPr>
          <a:xfrm rot="5400000">
            <a:off x="3928320" y="1928880"/>
            <a:ext cx="1072080" cy="357840"/>
          </a:xfrm>
          <a:prstGeom prst="bentConnector3">
            <a:avLst>
              <a:gd name="adj1" fmla="val 49983"/>
            </a:avLst>
          </a:prstGeom>
          <a:ln w="38160">
            <a:solidFill>
              <a:srgbClr val="2a99ec"/>
            </a:solidFill>
            <a:miter/>
            <a:tailEnd len="med" type="arrow" w="med"/>
          </a:ln>
        </p:spPr>
      </p:cxnSp>
      <p:cxnSp>
        <p:nvCxnSpPr>
          <p:cNvPr id="174" name="51 Dirsek Bağlayıcısı"/>
          <p:cNvCxnSpPr>
            <a:endCxn id="169" idx="1"/>
          </p:cNvCxnSpPr>
          <p:nvPr/>
        </p:nvCxnSpPr>
        <p:spPr>
          <a:xfrm flipH="1" rot="16200000">
            <a:off x="4285440" y="1928520"/>
            <a:ext cx="1072080" cy="358200"/>
          </a:xfrm>
          <a:prstGeom prst="bentConnector3">
            <a:avLst>
              <a:gd name="adj1" fmla="val 49983"/>
            </a:avLst>
          </a:prstGeom>
          <a:ln w="38160">
            <a:solidFill>
              <a:srgbClr val="2a99ec"/>
            </a:solidFill>
            <a:miter/>
            <a:tailEnd len="med" type="arrow" w="med"/>
          </a:ln>
        </p:spPr>
      </p:cxnSp>
      <p:sp>
        <p:nvSpPr>
          <p:cNvPr id="175" name="33 Yuvarlatılmış Çapraz Köşeli Dikdörtgen"/>
          <p:cNvSpPr/>
          <p:nvPr/>
        </p:nvSpPr>
        <p:spPr>
          <a:xfrm>
            <a:off x="6372360" y="3716280"/>
            <a:ext cx="1928520" cy="42876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Genel Anal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496800"/>
            <a:ext cx="1143000" cy="339840"/>
          </a:xfrm>
          <a:prstGeom prst="rect">
            <a:avLst/>
          </a:prstGeom>
          <a:solidFill>
            <a:srgbClr val="000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YÜKÜMLÜ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73200" y="496800"/>
            <a:ext cx="914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BA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SAVCILI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OLLU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UR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496800"/>
            <a:ext cx="12445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İŞ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ŞİRK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78840" y="496800"/>
            <a:ext cx="11174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YURTDI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0240" y="928800"/>
            <a:ext cx="7620120" cy="771480"/>
          </a:xfrm>
          <a:prstGeom prst="flowChartMerge">
            <a:avLst/>
          </a:prstGeom>
          <a:solidFill>
            <a:srgbClr val="70b0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İHBARLAR ve ŞÜPHELİ İŞLEM BİLDİRİMLER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487440" cy="554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2389320"/>
            <a:ext cx="248904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66cc"/>
                </a:solidFill>
                <a:latin typeface="Tahoma"/>
              </a:rPr>
              <a:t>DEĞERLENDİ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65760" y="2389320"/>
            <a:ext cx="254016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66cc"/>
                </a:solidFill>
                <a:latin typeface="Tahoma"/>
              </a:rPr>
              <a:t>ARAŞTIRMA VE İNCE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5791320" y="2984400"/>
            <a:ext cx="2514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7 GRUP İNCELEME ELEMANI*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2984400"/>
            <a:ext cx="2514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MSA UZMANLAR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3557520"/>
            <a:ext cx="2514600" cy="11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Veri topla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Anal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Değerlendir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3557520"/>
            <a:ext cx="2514600" cy="10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Bilgi ve belge temi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Yerinde inceleme ve ifadelere başvur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Analiz ve değerlendir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975200"/>
            <a:ext cx="2514600" cy="276480"/>
          </a:xfrm>
          <a:prstGeom prst="rect">
            <a:avLst/>
          </a:prstGeom>
          <a:solidFill>
            <a:srgbClr val="be9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Tahoma"/>
              </a:rPr>
              <a:t>DEĞERLENDİRME RAPO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952880"/>
            <a:ext cx="2514600" cy="276480"/>
          </a:xfrm>
          <a:prstGeom prst="rect">
            <a:avLst/>
          </a:prstGeom>
          <a:solidFill>
            <a:srgbClr val="be9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Tahoma"/>
              </a:rPr>
              <a:t>ARŞ.VE İNC. RAPO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5610240"/>
            <a:ext cx="251460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CUMHURİYET BAŞSAVCILI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3246480"/>
            <a:ext cx="1727280" cy="1165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0066cc"/>
                </a:solidFill>
                <a:latin typeface="Tahoma"/>
              </a:rPr>
              <a:t>Yasa Uygulayıcı Birimler ile Koordinasy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4498920"/>
            <a:ext cx="1600200" cy="39096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0066cc"/>
                </a:solidFill>
                <a:latin typeface="Tahoma"/>
              </a:rPr>
              <a:t>Tedb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4635360"/>
            <a:ext cx="38124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048120" y="4635360"/>
            <a:ext cx="76176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3789360"/>
            <a:ext cx="355680" cy="1116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048120" y="3803760"/>
            <a:ext cx="65088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2220840"/>
            <a:ext cx="54100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2220840"/>
            <a:ext cx="0" cy="16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220840"/>
            <a:ext cx="0" cy="16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138400"/>
            <a:ext cx="0" cy="82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76520" y="2781360"/>
            <a:ext cx="15840" cy="196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3389400"/>
            <a:ext cx="0" cy="164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676520" y="4653000"/>
            <a:ext cx="15840" cy="299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086600" y="2708280"/>
            <a:ext cx="6480" cy="270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3389400"/>
            <a:ext cx="0" cy="164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83360" y="4581360"/>
            <a:ext cx="324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5281560"/>
            <a:ext cx="0" cy="657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715000" y="5938920"/>
            <a:ext cx="838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5445000"/>
            <a:ext cx="0" cy="657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79640" y="6093000"/>
            <a:ext cx="1143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5116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429000" y="2328840"/>
            <a:ext cx="0" cy="279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232092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100" spc="-1" strike="noStrike">
                <a:solidFill>
                  <a:srgbClr val="cc00cc"/>
                </a:solidFill>
                <a:latin typeface="Tahoma"/>
                <a:ea typeface="Arial"/>
              </a:rPr>
              <a:t>**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Maliye Müfettişleri, Hesap Uzmanları, Gelirler Kont.,</a:t>
            </a:r>
            <a:r>
              <a:rPr b="1" lang="en-US" sz="1100" spc="-1" strike="noStrike">
                <a:solidFill>
                  <a:srgbClr val="9adcf6"/>
                </a:solidFill>
                <a:latin typeface="Tahoma"/>
                <a:ea typeface="Arial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Bankalar Yem. Mur.,</a:t>
            </a:r>
            <a:r>
              <a:rPr b="1" lang="en-US" sz="1100" spc="-1" strike="noStrike">
                <a:solidFill>
                  <a:srgbClr val="9adcf6"/>
                </a:solidFill>
                <a:latin typeface="Tahoma"/>
                <a:ea typeface="Arial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Hazine Kont., Sermaye Piyasası</a:t>
            </a:r>
            <a:r>
              <a:rPr b="1" lang="tr-TR" sz="11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Uzmanları, Gümrük Müfettişleri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877000"/>
            <a:ext cx="114300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MAS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Veri Taban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5775480"/>
            <a:ext cx="114300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MAS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Veri Taban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5445000"/>
            <a:ext cx="0" cy="493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5281560"/>
            <a:ext cx="0" cy="493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58053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</a:t>
            </a:r>
            <a:r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tespi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938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tespi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445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Y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85080" y="53006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Y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232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Times New Roman"/>
              </a:rPr>
              <a:t>Kapsamlı inceleme gere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3 Diyagram" descr=""/>
          <p:cNvPicPr/>
          <p:nvPr/>
        </p:nvPicPr>
        <p:blipFill>
          <a:blip r:embed="rId1"/>
          <a:stretch/>
        </p:blipFill>
        <p:spPr>
          <a:xfrm>
            <a:off x="1901880" y="858960"/>
            <a:ext cx="5389560" cy="3225600"/>
          </a:xfrm>
          <a:prstGeom prst="rect">
            <a:avLst/>
          </a:prstGeom>
          <a:ln w="0">
            <a:noFill/>
          </a:ln>
        </p:spPr>
      </p:pic>
      <p:sp>
        <p:nvSpPr>
          <p:cNvPr id="228" name="4 Metin kutusu"/>
          <p:cNvSpPr/>
          <p:nvPr/>
        </p:nvSpPr>
        <p:spPr>
          <a:xfrm>
            <a:off x="179280" y="260280"/>
            <a:ext cx="3027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Arial"/>
              </a:rPr>
              <a:t>Süreç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19"/>
          <p:cNvSpPr/>
          <p:nvPr/>
        </p:nvSpPr>
        <p:spPr>
          <a:xfrm>
            <a:off x="5145120" y="48052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6b8ed3"/>
              </a:gs>
              <a:gs pos="100000">
                <a:srgbClr val="25314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2857680" y="48690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0b040"/>
              </a:gs>
              <a:gs pos="100000">
                <a:srgbClr val="273d1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u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uyuru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Oval 10"/>
          <p:cNvGrpSpPr/>
          <p:nvPr/>
        </p:nvGrpSpPr>
        <p:grpSpPr>
          <a:xfrm>
            <a:off x="5262480" y="2781360"/>
            <a:ext cx="965160" cy="1012680"/>
            <a:chOff x="5262480" y="2781360"/>
            <a:chExt cx="965160" cy="1012680"/>
          </a:xfrm>
        </p:grpSpPr>
        <p:pic>
          <p:nvPicPr>
            <p:cNvPr id="232" name="Oval 10" descr=""/>
            <p:cNvPicPr/>
            <p:nvPr/>
          </p:nvPicPr>
          <p:blipFill>
            <a:blip r:embed="rId2"/>
            <a:stretch/>
          </p:blipFill>
          <p:spPr>
            <a:xfrm>
              <a:off x="5262480" y="2781360"/>
              <a:ext cx="965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441040" y="2943720"/>
              <a:ext cx="610560" cy="65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V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Kayı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Oval 16"/>
          <p:cNvSpPr/>
          <p:nvPr/>
        </p:nvSpPr>
        <p:spPr>
          <a:xfrm>
            <a:off x="3851280" y="3508200"/>
            <a:ext cx="1368360" cy="1248120"/>
          </a:xfrm>
          <a:prstGeom prst="ellipse">
            <a:avLst/>
          </a:prstGeom>
          <a:gradFill rotWithShape="0">
            <a:gsLst>
              <a:gs pos="0">
                <a:srgbClr val="9adcf6"/>
              </a:gs>
              <a:gs pos="100000">
                <a:srgbClr val="374f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3300"/>
                </a:solidFill>
                <a:latin typeface="Arial"/>
              </a:rPr>
              <a:t>Değerlendi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Oval 13"/>
          <p:cNvGrpSpPr/>
          <p:nvPr/>
        </p:nvGrpSpPr>
        <p:grpSpPr>
          <a:xfrm>
            <a:off x="2771640" y="2781360"/>
            <a:ext cx="1020960" cy="1031760"/>
            <a:chOff x="2771640" y="2781360"/>
            <a:chExt cx="1020960" cy="1031760"/>
          </a:xfrm>
        </p:grpSpPr>
        <p:pic>
          <p:nvPicPr>
            <p:cNvPr id="236" name="Oval 13" descr=""/>
            <p:cNvPicPr/>
            <p:nvPr/>
          </p:nvPicPr>
          <p:blipFill>
            <a:blip r:embed="rId3"/>
            <a:stretch/>
          </p:blipFill>
          <p:spPr>
            <a:xfrm>
              <a:off x="2771640" y="2781360"/>
              <a:ext cx="102096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953440" y="2949120"/>
              <a:ext cx="663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Başk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Kuru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Sev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49 Aşağı Ok"/>
          <p:cNvGrpSpPr/>
          <p:nvPr/>
        </p:nvGrpSpPr>
        <p:grpSpPr>
          <a:xfrm>
            <a:off x="3700440" y="4492800"/>
            <a:ext cx="542880" cy="542880"/>
            <a:chOff x="3700440" y="4492800"/>
            <a:chExt cx="542880" cy="542880"/>
          </a:xfrm>
        </p:grpSpPr>
        <p:pic>
          <p:nvPicPr>
            <p:cNvPr id="239" name="49 Aşağı Ok" descr=""/>
            <p:cNvPicPr/>
            <p:nvPr/>
          </p:nvPicPr>
          <p:blipFill>
            <a:blip r:embed="rId4"/>
            <a:stretch/>
          </p:blipFill>
          <p:spPr>
            <a:xfrm>
              <a:off x="3700440" y="449280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rot="2764200">
              <a:off x="3852360" y="457272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50 Aşağı Ok"/>
          <p:cNvGrpSpPr/>
          <p:nvPr/>
        </p:nvGrpSpPr>
        <p:grpSpPr>
          <a:xfrm>
            <a:off x="4821120" y="4572000"/>
            <a:ext cx="536760" cy="549360"/>
            <a:chOff x="4821120" y="4572000"/>
            <a:chExt cx="536760" cy="549360"/>
          </a:xfrm>
        </p:grpSpPr>
        <p:pic>
          <p:nvPicPr>
            <p:cNvPr id="242" name="50 Aşağı Ok" descr=""/>
            <p:cNvPicPr/>
            <p:nvPr/>
          </p:nvPicPr>
          <p:blipFill>
            <a:blip r:embed="rId5"/>
            <a:stretch/>
          </p:blipFill>
          <p:spPr>
            <a:xfrm>
              <a:off x="4821120" y="457200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rot="18735600">
              <a:off x="4952160" y="4653360"/>
              <a:ext cx="2685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51 Aşağı Ok"/>
          <p:cNvGrpSpPr/>
          <p:nvPr/>
        </p:nvGrpSpPr>
        <p:grpSpPr>
          <a:xfrm>
            <a:off x="4084560" y="5175360"/>
            <a:ext cx="1041480" cy="652320"/>
            <a:chOff x="4084560" y="5175360"/>
            <a:chExt cx="1041480" cy="652320"/>
          </a:xfrm>
        </p:grpSpPr>
        <p:pic>
          <p:nvPicPr>
            <p:cNvPr id="245" name="51 Aşağı Ok" descr=""/>
            <p:cNvPicPr/>
            <p:nvPr/>
          </p:nvPicPr>
          <p:blipFill>
            <a:blip r:embed="rId6"/>
            <a:stretch/>
          </p:blipFill>
          <p:spPr>
            <a:xfrm>
              <a:off x="4084560" y="5175360"/>
              <a:ext cx="10414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5400000">
              <a:off x="4540320" y="5085360"/>
              <a:ext cx="2685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49 Aşağı Ok"/>
          <p:cNvGrpSpPr/>
          <p:nvPr/>
        </p:nvGrpSpPr>
        <p:grpSpPr>
          <a:xfrm>
            <a:off x="3596400" y="2885040"/>
            <a:ext cx="767160" cy="767160"/>
            <a:chOff x="3596400" y="2885040"/>
            <a:chExt cx="767160" cy="767160"/>
          </a:xfrm>
        </p:grpSpPr>
        <p:pic>
          <p:nvPicPr>
            <p:cNvPr id="248" name="49 Aşağı Ok" descr=""/>
            <p:cNvPicPr/>
            <p:nvPr/>
          </p:nvPicPr>
          <p:blipFill>
            <a:blip r:embed="rId7"/>
            <a:stretch/>
          </p:blipFill>
          <p:spPr>
            <a:xfrm rot="2573400">
              <a:off x="3708360" y="299700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5338200">
              <a:off x="3878640" y="309600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49 Aşağı Ok"/>
          <p:cNvGrpSpPr/>
          <p:nvPr/>
        </p:nvGrpSpPr>
        <p:grpSpPr>
          <a:xfrm>
            <a:off x="4708800" y="2885040"/>
            <a:ext cx="767520" cy="767520"/>
            <a:chOff x="4708800" y="2885040"/>
            <a:chExt cx="767520" cy="767520"/>
          </a:xfrm>
        </p:grpSpPr>
        <p:pic>
          <p:nvPicPr>
            <p:cNvPr id="251" name="49 Aşağı Ok" descr=""/>
            <p:cNvPicPr/>
            <p:nvPr/>
          </p:nvPicPr>
          <p:blipFill>
            <a:blip r:embed="rId8"/>
            <a:stretch/>
          </p:blipFill>
          <p:spPr>
            <a:xfrm rot="13408800">
              <a:off x="4820760" y="299736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16173000">
              <a:off x="4925160" y="312372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0:21:54Z</dcterms:created>
  <dc:creator>xp</dc:creator>
  <dc:description/>
  <cp:keywords/>
  <dc:language>en-US</dc:language>
  <cp:lastModifiedBy>CUSLUOGLU</cp:lastModifiedBy>
  <dcterms:modified xsi:type="dcterms:W3CDTF">2009-09-25T22:16:12Z</dcterms:modified>
  <cp:revision>58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2251033</vt:lpwstr>
  </property>
</Properties>
</file>