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907588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68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882360" y="479520"/>
            <a:ext cx="500364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Click to move the slide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hdr"/>
          </p:nvPr>
        </p:nvSpPr>
        <p:spPr>
          <a:xfrm>
            <a:off x="3047760" y="-360"/>
            <a:ext cx="2901960" cy="685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85840" indent="0" algn="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1" i="1" lang="en-GB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r>
              <a:rPr b="1" i="1" lang="en-GB" sz="900" spc="-1" strike="noStrike">
                <a:solidFill>
                  <a:srgbClr val="000000"/>
                </a:solidFill>
                <a:latin typeface="Times New Roman"/>
              </a:rPr>
              <a:t>Lecture gui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 algn="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Times New Roman"/>
              </a:rPr>
              <a:t>IAS 32 &amp; IAS 3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 algn="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Times New Roman"/>
              </a:rPr>
              <a:t>Financial Instrum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76640" y="9371160"/>
            <a:ext cx="2106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marL="285840" indent="-285840" algn="ct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5"/>
          </p:nvPr>
        </p:nvSpPr>
        <p:spPr>
          <a:xfrm>
            <a:off x="685440" y="937584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85840" indent="0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85840" indent="0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January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2286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PMG Logo"/>
              </a:rPr>
              <a:t>kpmg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76640" y="9371160"/>
            <a:ext cx="2106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marL="285840" indent="-285840" algn="ct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fld id="{A163001B-E73B-4AE4-B03B-9093321C871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05320" y="9645480"/>
            <a:ext cx="266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 2001 KPMG International, a Swiss association. All rights reserved.</a:t>
            </a: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 that for current IAS companies: Cannot state that they report under IAS unless all standards and interpretations are follow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Implementa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--at beginning of financial year in which IAS 39 is adop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--no restatement of earlier yea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--transition adjustments are to beginning retained earning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 retrospective changes may be made 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--”redesignate” hedg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--transactions not meeting this criteria under IAS 39 for derecognition are only affected prospectivel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IAS: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IAS 39.17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FIA: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Chapter 11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FIA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Chapter 11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4400" y="45720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FIA: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Chapter 11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edicated resources are key to an organised implementation project. The implementation team can devote the time to identifying the enterprise’s issues, and determine whether outside assistance is necessary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 process for communication should be set u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nternal parti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enior manage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xternal parties – analysts, major investors, lenders want to know the impact of IAS 39 on the enterprise’s bottom line. Internal and external auditors will also focus heavily on implement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Implementation team identifies the key issues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This will involve reviewing current practices of the enterprise, and anticipated new transactions/activiti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822780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9520" y="3581280"/>
            <a:ext cx="822780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952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584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21600" y="158112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3680" y="158112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9520" y="358128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21600" y="358128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3680" y="358128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D0B5-1230-426A-AC50-71746DCA3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9520" y="1581120"/>
            <a:ext cx="8227800" cy="38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6D53-7210-4048-9CFC-CFBD0F70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822780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5FD6-1416-48C5-8A20-F9F9D91B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14E0-A099-44B7-97DC-6FEF7645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9104-43A9-4489-A070-FE5438B8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8080" y="672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CE2D-B3AD-4987-A601-CF4606FB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952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6E1F-77E7-4928-942D-724748A5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9520" y="1581120"/>
            <a:ext cx="8227800" cy="38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5584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2E1F-91F9-4B3B-9764-3E9ECF6A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9520" y="3581280"/>
            <a:ext cx="822780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7F17-9238-4B1A-9F92-0743F573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822780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9520" y="3581280"/>
            <a:ext cx="822780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A198-A22D-485C-BA48-EF83F9A4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952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5584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A963-E0A0-4982-B44E-FA6143C95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21600" y="158112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03680" y="158112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9520" y="358128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21600" y="358128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03680" y="358128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BEA3-DB0A-48B9-A6D1-2D1558540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822780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672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952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584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9520" y="3581280"/>
            <a:ext cx="822780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Click to edit the title text format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9520" y="1581120"/>
            <a:ext cx="822780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2" marL="922320" indent="-1573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3" marL="1262160" indent="-22536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4" marL="1601640" indent="-22536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5" marL="1601640" indent="-225360">
              <a:lnSpc>
                <a:spcPct val="90000"/>
              </a:lnSpc>
              <a:spcBef>
                <a:spcPts val="1375"/>
              </a:spcBef>
              <a:buClr>
                <a:srgbClr val="0000ff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6" marL="1601640" indent="-225360">
              <a:lnSpc>
                <a:spcPct val="90000"/>
              </a:lnSpc>
              <a:spcBef>
                <a:spcPts val="1375"/>
              </a:spcBef>
              <a:buClr>
                <a:srgbClr val="0000ff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43332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85840"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US" sz="1400" spc="-1" strike="noStrike">
                <a:solidFill>
                  <a:srgbClr val="ffff00"/>
                </a:solidFill>
                <a:latin typeface="Univers 45 Light"/>
              </a:defRPr>
            </a:lvl1pPr>
          </a:lstStyle>
          <a:p>
            <a:pPr marL="285840"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Univers 45 Light"/>
              </a:rPr>
              <a:t>&lt;footer&gt;</a:t>
            </a:r>
            <a:r>
              <a:rPr b="1" lang="en-US" sz="1400" spc="-1" strike="noStrike">
                <a:solidFill>
                  <a:srgbClr val="ffff00"/>
                </a:solidFill>
                <a:latin typeface="Univers 45 Light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Univers 45 Light"/>
              </a:rPr>
              <a:t>IAS 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228600" y="6324480"/>
          <a:ext cx="2743200" cy="3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6324480"/>
                    <a:ext cx="2743200" cy="3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" name=""/>
          <p:cNvGraphicFramePr/>
          <p:nvPr/>
        </p:nvGraphicFramePr>
        <p:xfrm>
          <a:off x="6481800" y="6300720"/>
          <a:ext cx="3200400" cy="38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81800" y="6300720"/>
                    <a:ext cx="32004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560" y="6188040"/>
            <a:ext cx="80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KPMG Logo"/>
              </a:rPr>
              <a:t>kpmg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1375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Click to edit the title text format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7617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85840"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US" sz="1400" spc="-1" strike="noStrike">
                <a:solidFill>
                  <a:srgbClr val="ffff00"/>
                </a:solidFill>
                <a:latin typeface="Univers 45 Light"/>
              </a:defRPr>
            </a:lvl1pPr>
          </a:lstStyle>
          <a:p>
            <a:pPr marL="285840"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235CF07-6B21-4363-9345-A5267872857C}" type="slidenum">
              <a:rPr b="1" lang="en-US" sz="1400" spc="-1" strike="noStrike">
                <a:solidFill>
                  <a:srgbClr val="ffff00"/>
                </a:solidFill>
                <a:latin typeface="Univers 45 Ligh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85840"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US" sz="1400" spc="-1" strike="noStrike">
                <a:solidFill>
                  <a:srgbClr val="ffff00"/>
                </a:solidFill>
                <a:latin typeface="Univers 45 Light"/>
              </a:defRPr>
            </a:lvl1pPr>
          </a:lstStyle>
          <a:p>
            <a:pPr marL="285840"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Univers 45 Ligh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38880" y="6673680"/>
            <a:ext cx="2667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yright © 2001 KPMG International, a Swiss association. All rights reserved.</a:t>
            </a:r>
            <a:r>
              <a:rPr b="0" lang="en-GB" sz="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Transition rules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320"/>
            <a:ext cx="990432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9520" y="1580760"/>
            <a:ext cx="8227800" cy="421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No restatement of prior period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If prior to IAS 39 there is no hedge relationship: cannot retrospectively designate as hedge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If prior to IAS 39 there is a hedge relationship: provisions of Standard should be applied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Upon adoption: all derivatives are capitalised at fair value, and other financial instruments measured at fair value or at cost depending on classification 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Difference of remeasurement are recorded as adjustment of beginning retained earning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IAS 39 implementation: </a:t>
            </a:r>
            <a:br>
              <a:rPr sz="2600"/>
            </a:br>
            <a:r>
              <a:rPr b="0" i="1" lang="en-US" sz="2600" spc="-1" strike="noStrike">
                <a:solidFill>
                  <a:srgbClr val="003399"/>
                </a:solidFill>
                <a:latin typeface="Univers 45 Light"/>
              </a:rPr>
              <a:t>Finally…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31840" y="1747800"/>
            <a:ext cx="7639200" cy="29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Implement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Univers 55"/>
              </a:rPr>
              <a:t>Business process and accounting policy change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Univers 55"/>
              </a:rPr>
              <a:t>IT change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Structured rollout including training (as necessary)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User acceptance testing of change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Accounting transition adjustment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Univers 55"/>
              </a:rPr>
              <a:t>Record all FI on balance sheet 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Univers 55"/>
              </a:rPr>
              <a:t>Re</a:t>
            </a:r>
            <a:r>
              <a:rPr b="0" lang="tr-TR" sz="2000" spc="-1" strike="noStrike">
                <a:solidFill>
                  <a:srgbClr val="000000"/>
                </a:solidFill>
                <a:latin typeface="Univers 55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Univers 55"/>
              </a:rPr>
              <a:t>measure applicable FI to fair value 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484960" y="2719440"/>
            <a:ext cx="185256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Univers 45 Light"/>
              </a:rPr>
              <a:t>Produce IT specifications for workarounds and system enhancement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Univers 45 Light"/>
              </a:rPr>
              <a:t>Specification of BP changes </a:t>
            </a:r>
            <a:r>
              <a:rPr b="0" lang="nl-NL" sz="900" spc="-1" strike="noStrike">
                <a:solidFill>
                  <a:srgbClr val="000000"/>
                </a:solidFill>
                <a:latin typeface="Univers 45 Light"/>
              </a:rPr>
              <a:t>(</a:t>
            </a:r>
            <a:r>
              <a:rPr b="0" lang="en-GB" sz="900" spc="-1" strike="noStrike">
                <a:solidFill>
                  <a:srgbClr val="000000"/>
                </a:solidFill>
                <a:latin typeface="Univers 45 Light"/>
              </a:rPr>
              <a:t>e.g. new procedures)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85160" y="1600200"/>
            <a:ext cx="1450800" cy="106992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89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1440" y="1703520"/>
            <a:ext cx="2235240" cy="927000"/>
          </a:xfrm>
          <a:custGeom>
            <a:avLst/>
            <a:gdLst>
              <a:gd name="textAreaLeft" fmla="*/ 0 w 2235240"/>
              <a:gd name="textAreaRight" fmla="*/ 2235240 w 2235240"/>
              <a:gd name="textAreaTop" fmla="*/ 0 h 927000"/>
              <a:gd name="textAreaBottom" fmla="*/ 927360 h 92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98" y="0"/>
                </a:lnTo>
                <a:lnTo>
                  <a:pt x="21600" y="10800"/>
                </a:lnTo>
                <a:lnTo>
                  <a:pt x="161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a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241800" y="1703520"/>
            <a:ext cx="2496960" cy="928440"/>
            <a:chOff x="3241800" y="1703520"/>
            <a:chExt cx="2496960" cy="928440"/>
          </a:xfrm>
        </p:grpSpPr>
        <p:sp>
          <p:nvSpPr>
            <p:cNvPr id="126" name=""/>
            <p:cNvSpPr/>
            <p:nvPr/>
          </p:nvSpPr>
          <p:spPr>
            <a:xfrm>
              <a:off x="3241800" y="1703520"/>
              <a:ext cx="2496960" cy="928440"/>
            </a:xfrm>
            <a:custGeom>
              <a:avLst/>
              <a:gdLst/>
              <a:ahLst/>
              <a:rect l="l" t="t" r="r" b="b"/>
              <a:pathLst>
                <a:path w="1573" h="585">
                  <a:moveTo>
                    <a:pt x="1179" y="0"/>
                  </a:moveTo>
                  <a:lnTo>
                    <a:pt x="0" y="0"/>
                  </a:lnTo>
                  <a:lnTo>
                    <a:pt x="393" y="292"/>
                  </a:lnTo>
                  <a:lnTo>
                    <a:pt x="0" y="584"/>
                  </a:lnTo>
                  <a:lnTo>
                    <a:pt x="1179" y="584"/>
                  </a:lnTo>
                  <a:lnTo>
                    <a:pt x="1572" y="292"/>
                  </a:lnTo>
                  <a:lnTo>
                    <a:pt x="1179" y="0"/>
                  </a:lnTo>
                </a:path>
              </a:pathLst>
            </a:custGeom>
            <a:solidFill>
              <a:srgbClr val="789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333600" y="1749600"/>
              <a:ext cx="2022480" cy="8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305320" y="1703520"/>
            <a:ext cx="2417760" cy="928440"/>
            <a:chOff x="5305320" y="1703520"/>
            <a:chExt cx="2417760" cy="928440"/>
          </a:xfrm>
        </p:grpSpPr>
        <p:sp>
          <p:nvSpPr>
            <p:cNvPr id="129" name=""/>
            <p:cNvSpPr/>
            <p:nvPr/>
          </p:nvSpPr>
          <p:spPr>
            <a:xfrm>
              <a:off x="5305320" y="1703520"/>
              <a:ext cx="2417760" cy="928440"/>
            </a:xfrm>
            <a:custGeom>
              <a:avLst/>
              <a:gdLst/>
              <a:ahLst/>
              <a:rect l="l" t="t" r="r" b="b"/>
              <a:pathLst>
                <a:path w="1523" h="585">
                  <a:moveTo>
                    <a:pt x="1141" y="0"/>
                  </a:moveTo>
                  <a:lnTo>
                    <a:pt x="0" y="0"/>
                  </a:lnTo>
                  <a:lnTo>
                    <a:pt x="380" y="292"/>
                  </a:lnTo>
                  <a:lnTo>
                    <a:pt x="0" y="584"/>
                  </a:lnTo>
                  <a:lnTo>
                    <a:pt x="1141" y="584"/>
                  </a:lnTo>
                  <a:lnTo>
                    <a:pt x="1522" y="292"/>
                  </a:lnTo>
                  <a:lnTo>
                    <a:pt x="1141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88120" y="1744560"/>
              <a:ext cx="19684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420920" y="1763640"/>
            <a:ext cx="189864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 45 Light"/>
              </a:rPr>
              <a:t>Awarenes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86120" y="1763640"/>
            <a:ext cx="16477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 45 Light"/>
              </a:rPr>
              <a:t>Understanding and Assessment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11760" y="1763640"/>
            <a:ext cx="172080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 45 Light"/>
              </a:rPr>
              <a:t>Design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826400" y="1844640"/>
            <a:ext cx="18097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Univers 45 Light"/>
              </a:rPr>
              <a:t>Implementation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840" y="1893960"/>
            <a:ext cx="1263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80000"/>
                </a:solidFill>
                <a:latin typeface="Univers 45 Light"/>
              </a:rPr>
              <a:t>Project Phase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840" y="2719440"/>
            <a:ext cx="93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80000"/>
                </a:solidFill>
                <a:latin typeface="Univers 45 Light"/>
              </a:rPr>
              <a:t>Key Step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8280" y="5133960"/>
            <a:ext cx="1503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80000"/>
                </a:solidFill>
                <a:latin typeface="Univers 45 Light"/>
              </a:rPr>
              <a:t>Deliverable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98680" y="5164200"/>
            <a:ext cx="15429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IAS 39  training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6120" y="2719440"/>
            <a:ext cx="155736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Conduct IAS 39 technical accounting workshops with potentially impacted business areas accounting and other interested partie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24080" y="2716200"/>
            <a:ext cx="221004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Resolve technical accounting question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Analyse derivatives usage (including embedded)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Analyse financial assets and financial liabilities usage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Review current state of business processes (BP) and systems (IT)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Identify BP and IT “gaps” vs. requirements and alternatives to fill the gap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Choose alternative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Estimate P&amp;L impact 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5105520"/>
            <a:ext cx="2286000" cy="18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Identification of impacted activities (inc. derivative inventory)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High-level BP and IT map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Identification of gaps between current BP/IT vs. IAS 39 requirements, alternatives to fill the gap and agreed upon decisions on how to fill gap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Quantified P&amp;L impact for both minimum  compliance and achievement of hedge accounting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42120" y="5164200"/>
            <a:ext cx="1876320" cy="5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IT specifications for each busines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BP redesign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818480" y="5164200"/>
            <a:ext cx="20876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Accepted changes  to IT and BP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Compliance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26400" y="2752560"/>
            <a:ext cx="202572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BP change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IT change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Rollout and training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User acceptance testing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Recommended IAS 39 Implementation Approach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600" spc="-1" strike="noStrike">
                <a:solidFill>
                  <a:srgbClr val="003399"/>
                </a:solidFill>
                <a:latin typeface="Univers 45 Light"/>
              </a:rPr>
              <a:t>Transition adjustments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9880" y="1600200"/>
          <a:ext cx="8227800" cy="4748040"/>
        </p:xfrm>
        <a:graphic>
          <a:graphicData uri="http://schemas.openxmlformats.org/drawingml/2006/table">
            <a:tbl>
              <a:tblPr/>
              <a:tblGrid>
                <a:gridCol w="2743200"/>
                <a:gridCol w="2741400"/>
                <a:gridCol w="274320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Transition adjustment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Subsequent accounting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83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Derivatives to be remeasured at fair value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Recognise adjustment in retained earnings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No later reversal necessary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108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Financial assets and liabilities remeasured at fair value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Recognise adjustment of previous carrying amount in retained earnings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When sold reversal possible for AFS (Q&amp;A 172-1)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182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Revaluation gain (IAS 25) in separate component if related to AFS with fair value changes in equity; otherwise in retained earnings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600" spc="-1" strike="noStrike">
                <a:solidFill>
                  <a:srgbClr val="003399"/>
                </a:solidFill>
                <a:latin typeface="Univers 45 Light"/>
              </a:rPr>
              <a:t>Transition adjustments - continued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838080" y="1359000"/>
          <a:ext cx="8227800" cy="4905360"/>
        </p:xfrm>
        <a:graphic>
          <a:graphicData uri="http://schemas.openxmlformats.org/drawingml/2006/table">
            <a:tbl>
              <a:tblPr/>
              <a:tblGrid>
                <a:gridCol w="2743200"/>
                <a:gridCol w="2741400"/>
                <a:gridCol w="2743200"/>
              </a:tblGrid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Transition adjustment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Subsequent accounting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Deferred gains and losses, now effective part of CFH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Recognise in separate component of equity (if expected to occur Q&amp;A 172-2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Treat in conformity with CFH model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13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Hedged items in FVH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Adjust balance sheet position to reflect fair value of hedging instrument (in retained earnings)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Apply FVH  model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Effective part of CFH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Not mentioned in IAS 39; include in separate component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To be reversed when hedged item recognised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Ineffective part of CFH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No guidance available; include in retained earnings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No guidance available: remains in equity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Implementation process and organisation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8227800" cy="350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Structure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Typical Implementation Structure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05" name=""/>
          <p:cNvSpPr/>
          <p:nvPr/>
        </p:nvSpPr>
        <p:spPr>
          <a:xfrm>
            <a:off x="3887640" y="1612800"/>
            <a:ext cx="2210040" cy="106704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nivers 45 Light"/>
              </a:rPr>
              <a:t>Steering Committee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87640" y="3073320"/>
            <a:ext cx="2210040" cy="1067040"/>
          </a:xfrm>
          <a:prstGeom prst="ellipse">
            <a:avLst/>
          </a:prstGeom>
          <a:solidFill>
            <a:srgbClr val="aa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nivers 45 Light"/>
              </a:rPr>
              <a:t>Working Committee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78440" y="4572000"/>
            <a:ext cx="182880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nivers 45 Light"/>
              </a:rPr>
              <a:t>Project Manager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5689440"/>
            <a:ext cx="5870520" cy="6858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 45 Light"/>
              </a:rPr>
              <a:t>Implementation Team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8100000">
            <a:off x="4827240" y="5475240"/>
            <a:ext cx="330120" cy="331920"/>
          </a:xfrm>
          <a:prstGeom prst="rtTriangle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8100000">
            <a:off x="4827240" y="4332240"/>
            <a:ext cx="330120" cy="331920"/>
          </a:xfrm>
          <a:prstGeom prst="rtTriangl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8100000">
            <a:off x="4827240" y="2859120"/>
            <a:ext cx="330120" cy="331920"/>
          </a:xfrm>
          <a:prstGeom prst="rtTriangle">
            <a:avLst/>
          </a:prstGeom>
          <a:solidFill>
            <a:srgbClr val="aa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IAS 39 implementation: </a:t>
            </a:r>
            <a:br>
              <a:rPr sz="2600"/>
            </a:br>
            <a:r>
              <a:rPr b="0" i="1" lang="en-US" sz="2600" spc="-1" strike="noStrike">
                <a:solidFill>
                  <a:srgbClr val="003399"/>
                </a:solidFill>
                <a:latin typeface="Univers 45 Light"/>
              </a:rPr>
              <a:t>Awareness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31840" y="1747800"/>
            <a:ext cx="7639200" cy="29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Identify implementation team(s) 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Team leader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Team member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Identify business areas that will be most impacted (accounting, treasury, other interested parties)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Hold workshops and training (run by technical accountants)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IAS 39 implementation: </a:t>
            </a:r>
            <a:br>
              <a:rPr sz="2600"/>
            </a:br>
            <a:r>
              <a:rPr b="0" i="1" lang="en-US" sz="2600" spc="-1" strike="noStrike">
                <a:solidFill>
                  <a:srgbClr val="003399"/>
                </a:solidFill>
                <a:latin typeface="Univers 45 Light"/>
              </a:rPr>
              <a:t>(1) Assessment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31840" y="1747800"/>
            <a:ext cx="7639200" cy="38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Identify enterprise’s key issue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Evaluate the financial instruments used by the enterprise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Identify any off-balance sheet instrument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Analyse usage of financial instrument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Classification of all financial instrument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Derivatives usage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Perform an “inventory” of all derivatives including embedded derivatives (both on and off balance sheet)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etermine whether embedded derivatives must be separated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Review internal / treasury hedging practice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IAS 39 implementation: </a:t>
            </a:r>
            <a:br>
              <a:rPr sz="2600"/>
            </a:br>
            <a:r>
              <a:rPr b="0" i="1" lang="en-US" sz="2600" spc="-1" strike="noStrike">
                <a:solidFill>
                  <a:srgbClr val="003399"/>
                </a:solidFill>
                <a:latin typeface="Univers 45 Light"/>
              </a:rPr>
              <a:t>(2) Assessment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31840" y="1747440"/>
            <a:ext cx="7639200" cy="38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Review current business processe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Decision making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Will the enterprise have HTM investments?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oes the enterprise plan to use hedge accounting?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Identify alternative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2" marL="922320" indent="-15732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Assess P&amp;L impact</a:t>
            </a:r>
            <a:endParaRPr b="0" i="1" lang="en-US" sz="2000" spc="-1" strike="noStrike">
              <a:solidFill>
                <a:srgbClr val="000000"/>
              </a:solidFill>
              <a:latin typeface="Univers 55"/>
            </a:endParaRPr>
          </a:p>
          <a:p>
            <a:pPr marL="330120" indent="-33012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Review current IT system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Can systems support: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2" marL="922320" indent="-15732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fair value calculations </a:t>
            </a:r>
            <a:endParaRPr b="0" i="1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2" marL="922320" indent="-15732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amortised cost calculations</a:t>
            </a:r>
            <a:endParaRPr b="0" i="1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2" marL="922320" indent="-15732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impairment assessments</a:t>
            </a:r>
            <a:endParaRPr b="0" i="1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2" marL="922320" indent="-15732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NPV of expected cash flows information </a:t>
            </a:r>
            <a:endParaRPr b="0" i="1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Identify “gaps” 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2" marL="922320" indent="0">
              <a:lnSpc>
                <a:spcPct val="80000"/>
              </a:lnSpc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2000" spc="-1" strike="noStrike">
              <a:solidFill>
                <a:srgbClr val="000000"/>
              </a:solidFill>
              <a:latin typeface="Univers 55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IAS 39 implementation: </a:t>
            </a:r>
            <a:br>
              <a:rPr sz="2600"/>
            </a:br>
            <a:r>
              <a:rPr b="0" i="1" lang="en-US" sz="2600" spc="-1" strike="noStrike">
                <a:solidFill>
                  <a:srgbClr val="003399"/>
                </a:solidFill>
                <a:latin typeface="Univers 45 Light"/>
              </a:rPr>
              <a:t>Design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31840" y="1747440"/>
            <a:ext cx="7639200" cy="366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Produce IT specifications 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Workaround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Enhancement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Draft new business and accounting policies and procedures (where necessary)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To support hedging decision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For consistent accounting for financial instruments enterprise-wide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For financial reporting requirement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Documentation of hedge relationships i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Univers 45 Light"/>
              </a:rPr>
              <a:t>critical</a:t>
            </a: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 by adoption date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4:39:38Z</dcterms:created>
  <dc:creator>ICT</dc:creator>
  <dc:description>SEPTEMBER 1999 Release candidate 2.0</dc:description>
  <dc:language>en-US</dc:language>
  <cp:lastModifiedBy>KPMG</cp:lastModifiedBy>
  <cp:lastPrinted>2000-05-24T16:39:45Z</cp:lastPrinted>
  <dcterms:modified xsi:type="dcterms:W3CDTF">2001-05-24T10:21:44Z</dcterms:modified>
  <cp:revision>276</cp:revision>
  <dc:subject>KIS2 compliant template </dc:subject>
  <dc:title>KPMG Blank Presentation Template</dc:title>
</cp:coreProperties>
</file>