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82360" y="479520"/>
            <a:ext cx="5003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move the slide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3047760" y="-360"/>
            <a:ext cx="2901960" cy="685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i="1" lang="en-GB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1" i="1" lang="en-GB" sz="900" spc="-1" strike="noStrike">
                <a:solidFill>
                  <a:srgbClr val="000000"/>
                </a:solidFill>
                <a:latin typeface="Times New Roman"/>
              </a:rPr>
              <a:t>Lecture gui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IAS 32 &amp; IAS 3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Financial Instru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76640" y="9371160"/>
            <a:ext cx="2106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marL="285840" indent="-285840"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5"/>
          </p:nvPr>
        </p:nvSpPr>
        <p:spPr>
          <a:xfrm>
            <a:off x="685440" y="937584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January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28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PMG Logo"/>
              </a:rPr>
              <a:t>kpmg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76640" y="9371160"/>
            <a:ext cx="2106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marL="285840" indent="-285840"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81ACA465-D153-4CA1-AD9C-8A02FC04AE1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9645480"/>
            <a:ext cx="266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1 KPMG International, a Swiss association. All rights reserved.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 that for current IAS companies: Cannot state that they report under IAS unless all standards and interpretations are follow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mplement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at beginning of financial year in which IAS 39 is adop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no restatement of earlier yea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transition adjustments are to beginning retained earning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 retrospective changes may be made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”redesignate” hedg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transactions not meeting this criteria under IAS 39 for derecognition are only affected prospective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A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AS 39.1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45720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dicated resources are key to an organised implementation project. The implementation team can devote the time to identifying the enterprise’s issues, and determine whether outside assistance is necessary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 process for communication should be set 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ternal part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nior 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xternal parties – analysts, major investors, lenders want to know the impact of IAS 39 on the enterprise’s bottom line. Internal and external auditors will also focus heavily on implemen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mplementation team identifies the key issue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is will involve reviewing current practices of the enterprise, and anticipated new transactions/activit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2160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368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952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2160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368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91F-5716-4D0E-9C31-31BD1137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493-32CB-4F58-8832-EA88E74F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6AD-EEB1-4EB1-9C80-BB8E2091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4511-26A6-4FCF-ADDA-CA079418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82F-F3D6-4B24-A977-42714CE9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672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62BC-5ED4-4401-B205-552D8B9B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1CF-D51A-4BB0-966F-F704D390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FB4-F667-4102-A3F5-CEA69941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FAA-D9C3-4A69-A2DF-D4F0FC02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D25B-B7F7-4A1D-8FE1-77A24D27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FEAC-0FE7-451F-86CA-5EA5CD56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2160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0368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952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2160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0368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C26-03DC-4BD2-BAE4-36AAE08E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672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2" marL="922320" indent="-1573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3" marL="1262160" indent="-225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4" marL="1601640" indent="-225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5" marL="1601640" indent="-225360">
              <a:lnSpc>
                <a:spcPct val="90000"/>
              </a:lnSpc>
              <a:spcBef>
                <a:spcPts val="1375"/>
              </a:spcBef>
              <a:buClr>
                <a:srgbClr val="0000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6" marL="1601640" indent="-225360">
              <a:lnSpc>
                <a:spcPct val="90000"/>
              </a:lnSpc>
              <a:spcBef>
                <a:spcPts val="1375"/>
              </a:spcBef>
              <a:buClr>
                <a:srgbClr val="0000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43332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footer&gt;</a:t>
            </a: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IAS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28600" y="6324480"/>
          <a:ext cx="2743200" cy="3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324480"/>
                    <a:ext cx="274320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6481800" y="6300720"/>
          <a:ext cx="3200400" cy="3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81800" y="6300720"/>
                    <a:ext cx="32004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560" y="6188040"/>
            <a:ext cx="80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KPMG Logo"/>
              </a:rPr>
              <a:t>kpmg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13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6A685C-1C51-4354-B789-93BBDBC9FF60}" type="slidenum"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38880" y="6673680"/>
            <a:ext cx="2667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right © 2001 KPMG International, a Swiss association. All rights reserved.</a:t>
            </a:r>
            <a:r>
              <a:rPr b="0" lang="en-GB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Transition rule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320"/>
            <a:ext cx="99043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8227800" cy="42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No restatement of prior period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f prior to IAS 39 there is no hedge relationship: cannot retrospectively designate as hedg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f prior to IAS 39 there is a hedge relationship: provisions of Standard should be applied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Upon adoption: all derivatives are capitalised at fair value, and other financial instruments measured at fair value or at cost depending on classification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Difference of remeasurement are recorded as adjustment of beginning retained earning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Finally…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mplement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Business process and accounting policy chang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IT chang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Structured rollout including training (as necessary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User acceptance testing of chang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Accounting transition adjustment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Record all FI on balance sheet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Re</a:t>
            </a:r>
            <a:r>
              <a:rPr b="0" lang="tr-TR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measure applicable FI to fair value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484960" y="2719440"/>
            <a:ext cx="185256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Produce IT specifications for workarounds and system enhancement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Specification of BP changes </a:t>
            </a:r>
            <a:r>
              <a:rPr b="0" lang="nl-NL" sz="900" spc="-1" strike="noStrike">
                <a:solidFill>
                  <a:srgbClr val="000000"/>
                </a:solidFill>
                <a:latin typeface="Univers 45 Light"/>
              </a:rPr>
              <a:t>(</a:t>
            </a: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e.g. new procedures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5160" y="1600200"/>
            <a:ext cx="1450800" cy="10699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89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1440" y="1703520"/>
            <a:ext cx="2235240" cy="927000"/>
          </a:xfrm>
          <a:custGeom>
            <a:avLst/>
            <a:gdLst>
              <a:gd name="textAreaLeft" fmla="*/ 0 w 2235240"/>
              <a:gd name="textAreaRight" fmla="*/ 2235240 w 223524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41800" y="1703520"/>
            <a:ext cx="2496960" cy="928440"/>
            <a:chOff x="3241800" y="1703520"/>
            <a:chExt cx="2496960" cy="928440"/>
          </a:xfrm>
        </p:grpSpPr>
        <p:sp>
          <p:nvSpPr>
            <p:cNvPr id="126" name=""/>
            <p:cNvSpPr/>
            <p:nvPr/>
          </p:nvSpPr>
          <p:spPr>
            <a:xfrm>
              <a:off x="3241800" y="1703520"/>
              <a:ext cx="2496960" cy="928440"/>
            </a:xfrm>
            <a:custGeom>
              <a:avLst/>
              <a:gdLst/>
              <a:ahLst/>
              <a:rect l="l" t="t" r="r" b="b"/>
              <a:pathLst>
                <a:path w="1573" h="585">
                  <a:moveTo>
                    <a:pt x="1179" y="0"/>
                  </a:moveTo>
                  <a:lnTo>
                    <a:pt x="0" y="0"/>
                  </a:lnTo>
                  <a:lnTo>
                    <a:pt x="393" y="292"/>
                  </a:lnTo>
                  <a:lnTo>
                    <a:pt x="0" y="584"/>
                  </a:lnTo>
                  <a:lnTo>
                    <a:pt x="1179" y="584"/>
                  </a:lnTo>
                  <a:lnTo>
                    <a:pt x="1572" y="292"/>
                  </a:lnTo>
                  <a:lnTo>
                    <a:pt x="1179" y="0"/>
                  </a:lnTo>
                </a:path>
              </a:pathLst>
            </a:custGeom>
            <a:solidFill>
              <a:srgbClr val="78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33600" y="1749600"/>
              <a:ext cx="202248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05320" y="1703520"/>
            <a:ext cx="2417760" cy="928440"/>
            <a:chOff x="5305320" y="1703520"/>
            <a:chExt cx="2417760" cy="928440"/>
          </a:xfrm>
        </p:grpSpPr>
        <p:sp>
          <p:nvSpPr>
            <p:cNvPr id="129" name=""/>
            <p:cNvSpPr/>
            <p:nvPr/>
          </p:nvSpPr>
          <p:spPr>
            <a:xfrm>
              <a:off x="5305320" y="1703520"/>
              <a:ext cx="2417760" cy="928440"/>
            </a:xfrm>
            <a:custGeom>
              <a:avLst/>
              <a:gdLst/>
              <a:ahLst/>
              <a:rect l="l" t="t" r="r" b="b"/>
              <a:pathLst>
                <a:path w="1523" h="585">
                  <a:moveTo>
                    <a:pt x="1141" y="0"/>
                  </a:moveTo>
                  <a:lnTo>
                    <a:pt x="0" y="0"/>
                  </a:lnTo>
                  <a:lnTo>
                    <a:pt x="380" y="292"/>
                  </a:lnTo>
                  <a:lnTo>
                    <a:pt x="0" y="584"/>
                  </a:lnTo>
                  <a:lnTo>
                    <a:pt x="1141" y="584"/>
                  </a:lnTo>
                  <a:lnTo>
                    <a:pt x="1522" y="292"/>
                  </a:lnTo>
                  <a:lnTo>
                    <a:pt x="114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88120" y="1744560"/>
              <a:ext cx="19684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20920" y="1763640"/>
            <a:ext cx="1898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Awarenes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86120" y="1763640"/>
            <a:ext cx="1647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Understanding and Assessmen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1760" y="1763640"/>
            <a:ext cx="17208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Desig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26400" y="1844640"/>
            <a:ext cx="18097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Implement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840" y="1893960"/>
            <a:ext cx="1263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Project Phas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840" y="271944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Key Step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8280" y="5133960"/>
            <a:ext cx="1503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Deliverabl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98680" y="5164200"/>
            <a:ext cx="1542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AS 39  train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6120" y="2719440"/>
            <a:ext cx="15573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onduct IAS 39 technical accounting workshops with potentially impacted business areas accounting and other interested parti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2716200"/>
            <a:ext cx="22100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esolve technical accounting question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nalyse derivatives usage (including embedded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nalyse financial assets and financial liabilities usage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eview current state of business processes (BP) and systems (IT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y BP and IT “gaps” vs. requirements and alternatives to fill the g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hoose alternativ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Estimate P&amp;L impact 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5105520"/>
            <a:ext cx="228600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ication of impacted activities (inc. derivative inventory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High-level BP and IT m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ication of gaps between current BP/IT vs. IAS 39 requirements, alternatives to fill the gap and agreed upon decisions on how to fill g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Quantified P&amp;L impact for both minimum  compliance and achievement of hedge account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42120" y="5164200"/>
            <a:ext cx="1876320" cy="5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T specifications for each busines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BP redesign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18480" y="5164200"/>
            <a:ext cx="2087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ccepted changes  to IT and BP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ompliance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26400" y="2752560"/>
            <a:ext cx="20257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BP chang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T chang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ollout and train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User acceptance test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Recommended IAS 39 Implementation Approach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600" spc="-1" strike="noStrike">
                <a:solidFill>
                  <a:srgbClr val="003399"/>
                </a:solidFill>
                <a:latin typeface="Univers 45 Light"/>
              </a:rPr>
              <a:t>Transition adjustment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9880" y="1600200"/>
          <a:ext cx="8227800" cy="4748040"/>
        </p:xfrm>
        <a:graphic>
          <a:graphicData uri="http://schemas.openxmlformats.org/drawingml/2006/table">
            <a:tbl>
              <a:tblPr/>
              <a:tblGrid>
                <a:gridCol w="2743200"/>
                <a:gridCol w="2741400"/>
                <a:gridCol w="27432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ansition adjustm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Subsequent accounting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Derivatives to be remeasured at fair valu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adjustment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later reversal necessary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0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Financial assets and liabilities remeasured at fair valu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adjustment of previous carrying amount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When sold reversal possible for AFS (Q&amp;A 172-1)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82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valuation gain (IAS 25) in separate component if related to AFS with fair value changes in equity; otherwise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600" spc="-1" strike="noStrike">
                <a:solidFill>
                  <a:srgbClr val="003399"/>
                </a:solidFill>
                <a:latin typeface="Univers 45 Light"/>
              </a:rPr>
              <a:t>Transition adjustments - continued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1359000"/>
          <a:ext cx="8227800" cy="4905360"/>
        </p:xfrm>
        <a:graphic>
          <a:graphicData uri="http://schemas.openxmlformats.org/drawingml/2006/table">
            <a:tbl>
              <a:tblPr/>
              <a:tblGrid>
                <a:gridCol w="2743200"/>
                <a:gridCol w="2741400"/>
                <a:gridCol w="274320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ansition adjustm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Subsequent accounting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Deferred gains and losses, now 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in separate component of equity (if expected to occur Q&amp;A 172-2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eat in conformity with CFH model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Hedged items in FV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Adjust balance sheet position to reflect fair value of hedging instrument (in retained earnings)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Apply FVH  model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t mentioned in IAS 39; include in separate compon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o be reversed when hedged item recognised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In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guidance available; include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guidance available: remains in equity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mplementation process and organisation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5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tructur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Typical Implementation Structure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5" name=""/>
          <p:cNvSpPr/>
          <p:nvPr/>
        </p:nvSpPr>
        <p:spPr>
          <a:xfrm>
            <a:off x="3887640" y="1612800"/>
            <a:ext cx="2210040" cy="10670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Steering Committe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7640" y="3073320"/>
            <a:ext cx="2210040" cy="1067040"/>
          </a:xfrm>
          <a:prstGeom prst="ellipse">
            <a:avLst/>
          </a:pr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Working Committe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78440" y="4572000"/>
            <a:ext cx="182880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Project Manager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5689440"/>
            <a:ext cx="5870520" cy="685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 45 Light"/>
              </a:rPr>
              <a:t>Implementation Team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8100000">
            <a:off x="4827240" y="5475240"/>
            <a:ext cx="330120" cy="331920"/>
          </a:xfrm>
          <a:prstGeom prst="rtTriangl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8100000">
            <a:off x="4827240" y="4332240"/>
            <a:ext cx="330120" cy="331920"/>
          </a:xfrm>
          <a:prstGeom prst="rtTriangl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8100000">
            <a:off x="4827240" y="2859120"/>
            <a:ext cx="330120" cy="331920"/>
          </a:xfrm>
          <a:prstGeom prst="rtTriangle">
            <a:avLst/>
          </a:pr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Awarenes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implementation team(s)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eam leader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eam member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business areas that will be most impacted (accounting, treasury, other interested parties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Hold workshops and training (run by technical accountants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(1) Assessmen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38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enterprise’s key issu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Evaluate the financial instruments used by the enterpris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any off-balance sheet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Analyse usage of financial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Classification of all financial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erivatives usag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Perform an “inventory” of all derivatives including embedded derivatives (both on and off balance sheet)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etermine whether embedded derivatives must be separated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Review internal / treasury hedging practic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(2) Assessmen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31840" y="1747440"/>
            <a:ext cx="7639200" cy="38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Review current business process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ecision making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Will the enterprise have HTM investments?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oes the enterprise plan to use hedge accounting?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alternativ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Assess P&amp;L impact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Review current IT system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Can systems support: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fair value calculations 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amortised cost calculations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impairment assessments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NPV of expected cash flows information 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“gaps”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0">
              <a:lnSpc>
                <a:spcPct val="8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Design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31840" y="1747440"/>
            <a:ext cx="7639200" cy="366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Produce IT specifications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Workaround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Enhance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raft new business and accounting policies and procedures (where necessary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o support hedging decision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For consistent accounting for financial instruments enterprise-wide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For financial reporting require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ocumentation of hedge relationships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Univers 45 Light"/>
              </a:rPr>
              <a:t>critical</a:t>
            </a: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 by adoption dat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4:39:38Z</dcterms:created>
  <dc:creator>ICT</dc:creator>
  <dc:description>SEPTEMBER 1999 Release candidate 2.0</dc:description>
  <dc:language>en-US</dc:language>
  <cp:lastModifiedBy>KPMG</cp:lastModifiedBy>
  <cp:lastPrinted>2000-05-24T16:39:45Z</cp:lastPrinted>
  <dcterms:modified xsi:type="dcterms:W3CDTF">2001-05-24T10:21:44Z</dcterms:modified>
  <cp:revision>276</cp:revision>
  <dc:subject>KIS2 compliant template </dc:subject>
  <dc:title>KPMG Blank Presentation Template</dc:title>
</cp:coreProperties>
</file>