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28600" y="6324480"/>
          <a:ext cx="2743200" cy="3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324480"/>
                    <a:ext cx="274320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5867280" y="6324480"/>
          <a:ext cx="320040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324480"/>
                    <a:ext cx="3200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VES &amp; HEDGE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EMPTIONS BY CONT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Normal purchases and sales of non-financial assets/liabilities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(39.1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Regular way contracts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(39.3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Rights and obligations under insurance contracts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(39.1(d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Financial guarantee contracts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(39.1(f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EMPTIONS BY CONT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rmal Purchases and Sales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cts to buy or sell non-financial assets or liabilities that are intended to be settled by physical delivery in the normal course of busi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practice of settling 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EMPTIONS BY CONT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Way Contracts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3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ontract requires delivery of a financial asset in a time frame that is generally established by regulation or convention in the marketpl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forward contract between trade date and settlement date is a derivative but may meet regular way exem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EMPTIONS BY CONT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ditional Insurance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cts (defined in IAS 32.2) are outside the scope of IAS 32 &amp;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derivatives embedded in such contracts are included within the scope of IAS 39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(d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EMPTIONS BY CONT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rtain financial guarantee contracts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(f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cts that provide for payments to be made if the debtor fails to make payment when d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example, letters of 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contract provides payment in response to changes in a variable- it is within the scope of IAS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example, in response to a credit down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THER EXEMPTIONS BY CONTRACT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39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ests in subsidiaries, associates and joint ventures (IAS 27, 28 &amp; 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ghts and obligations under leases (IAS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ployee benefit plans (IAS 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quity of the issuing entity (issuer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gent consideration in business combinations (IAS 22.65-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cts requiring payment based on geological, climatic or other physical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MBEDDED DERIV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mbedded derivativ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components of a financial instrument that affect some of the cash flows in a manner similar to a derivativ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icit or implicit terms in the contract that act like deriva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YBRID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ybrid contrac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host contract + embedded deriv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80880" y="1143000"/>
            <a:ext cx="8369280" cy="5245200"/>
            <a:chOff x="380880" y="1143000"/>
            <a:chExt cx="8369280" cy="5245200"/>
          </a:xfrm>
        </p:grpSpPr>
        <p:sp>
          <p:nvSpPr>
            <p:cNvPr id="78" name=""/>
            <p:cNvSpPr/>
            <p:nvPr/>
          </p:nvSpPr>
          <p:spPr>
            <a:xfrm>
              <a:off x="380880" y="1143000"/>
              <a:ext cx="8369280" cy="524520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31840" y="2197080"/>
              <a:ext cx="4425840" cy="3168720"/>
            </a:xfrm>
            <a:prstGeom prst="ellipse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7040" y="2121120"/>
              <a:ext cx="1312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71800" y="1643040"/>
              <a:ext cx="1355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74640" y="2176560"/>
              <a:ext cx="16099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93760" y="3164040"/>
              <a:ext cx="1384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4800" y="2710080"/>
              <a:ext cx="1525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55520" y="3849840"/>
              <a:ext cx="1511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48120" y="4078440"/>
              <a:ext cx="1144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79760" y="4154760"/>
              <a:ext cx="10731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62520" y="3544920"/>
              <a:ext cx="1455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39560" y="5016600"/>
              <a:ext cx="60199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60520" y="1282680"/>
              <a:ext cx="186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st Contra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3640" y="2425680"/>
              <a:ext cx="2354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Embedded Deriva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08440" y="2070360"/>
              <a:ext cx="74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b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46480" y="2880000"/>
              <a:ext cx="2064600" cy="22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FX O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Interest Rate Inde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Leverage Fea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Commodity Inde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Equity Inde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56160" y="4203720"/>
              <a:ext cx="903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87120" y="2044800"/>
              <a:ext cx="958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67320" y="4127760"/>
              <a:ext cx="1925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surance Contra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914400" y="457200"/>
            <a:ext cx="604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BRID 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EFINITION OF A DERIV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BEDDED DERIVATIVE - DECISIO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30040" y="1295280"/>
            <a:ext cx="8664840" cy="3581640"/>
            <a:chOff x="230040" y="1295280"/>
            <a:chExt cx="8664840" cy="3581640"/>
          </a:xfrm>
        </p:grpSpPr>
        <p:sp>
          <p:nvSpPr>
            <p:cNvPr id="101" name=""/>
            <p:cNvSpPr/>
            <p:nvPr/>
          </p:nvSpPr>
          <p:spPr>
            <a:xfrm>
              <a:off x="230040" y="1758960"/>
              <a:ext cx="2121120" cy="1587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 it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el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lated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trac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71800" y="1739880"/>
              <a:ext cx="2209680" cy="1587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ould it be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rivative if i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as freestandin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1295280"/>
              <a:ext cx="513000" cy="326736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91320" y="1758960"/>
              <a:ext cx="2146320" cy="16635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 the contrac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rried 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ir valu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0280" y="4121280"/>
              <a:ext cx="7512120" cy="75564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0360" y="1584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1160" y="1638360"/>
              <a:ext cx="2133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73480" y="2514600"/>
              <a:ext cx="5983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62320" y="2147760"/>
              <a:ext cx="609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81480" y="2571840"/>
              <a:ext cx="609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89480" y="2232000"/>
              <a:ext cx="533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340000">
              <a:off x="7179840" y="2677320"/>
              <a:ext cx="28908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eparate Derivativ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59092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232000"/>
              <a:ext cx="609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90600" y="3352680"/>
              <a:ext cx="0" cy="762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14800" y="3352680"/>
              <a:ext cx="0" cy="838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34320" y="3429000"/>
              <a:ext cx="0" cy="762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97160" y="3557520"/>
              <a:ext cx="519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08400" y="35812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40520" y="35812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85800" y="4281480"/>
              <a:ext cx="5105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Do Not Separate Deriv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ELY RELATED -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ly related refers to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23(a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conomic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tors to cons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ype of h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nder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ELY RELATED - UNDERLY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Type of host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der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b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224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qu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quity of same iss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a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f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ACCOUNTING FOR CONTRACTS WITH EMBEDDED DERIVATIV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the embedded derivative is required to be separated from host and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can be identified and reliably measu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st contract—Apply applicable IAS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bedded derivative—Apply IAS 39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2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 embedded derivative may be designated as a hedging instrument (if it meets other qualifying criteri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ACCOUNTING FOR CONTRACTS WITH EMBEDDED DERIVATIV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the embedded derivativ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anno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reliably be identified and meas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unt for the contract as a financial instrument held for trading (at fair value)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2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HED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ollowing criteria apply to all qualifying hedges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4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ignation &amp;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isk manag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ffective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QUALIFYING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IGNATION AND 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mal documentation is required at the inception of the hedge and must includ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42(a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ication of the hedging instrument and the hedged item or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ature of the risk being hed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risk management objective/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effectiveness will be ass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EDGED I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sed asset, liability, forecasted transaction, firm commitment that expose the entity to risk of changes in fair value or future cash flows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payment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 QUALIFYING FOR HEDGE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No hedge accounting fo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actions that do not affect net profit or loss &amp; those already recorded at fair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rtfolio of dissimila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quity method investments (associ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ority interests/ consolidated inves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m commitments to enter into business combinations, except foreign cur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 eq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Derivatives considered to be futures, forwards, swaps, options ..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IAS 39 definition is based on certain distinguishing characteristic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Provides certain scope except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SKS THAT CAN BE HEDG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Financial assets and liabiliti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Changes in overall fair value or cash flows of the entire hedged item, 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Changes due to market interest rates, 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Changes due to an obligor’s creditworthiness, 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Changes due to foreign currency exchange ra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SKS THAT CAN BE HEDGED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Non-financial assets and liabilities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(39.12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Foreign currency risk, 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Changes in overall fair value of the entire hedged i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EDGE EFFECTIVENESS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degree to which offsetting changes in fair value or cash flows attributable to a hedged risk are achieved by the hedging instrumen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46-15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st measure and expectation must hold at inception and on ongoing basis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42(b,d &amp; e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IGHLY EF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hedge is highly effective i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at inception and throughout the life of the hed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 enterprise can expect the changes in the fair value or cash flows of the hedged item to b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most fully offs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y the changes in the fair value or cash flows of the hedging instrument and actual results are within a range of 80% to 125%.  (39.14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IGHLY EF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l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io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ressio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mulative off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licy dictates how effectiveness is to be measure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4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URCES OF INEFFECTIV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spcAft>
                <a:spcPts val="312"/>
              </a:spcAft>
              <a:buClr>
                <a:srgbClr val="ffffff"/>
              </a:buClr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neffectiveness may result fr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buClr>
                <a:srgbClr val="000000"/>
              </a:buClr>
              <a:buFont typeface="Times New Roman"/>
              <a:buChar char="–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difference in the basis of hedging instrument and the hedged item (eg. Euro vs. GBP or Libor vs. 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erent notional and principal amounts for the derivative and hedged i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erent maturity or repricing 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erent quantities, location or delivery 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erent creditworth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neffectiveness is recorded in the P&amp;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FFECTIVENESS I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not highly effective, the hedge doesn’t get favourable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highly effective criterion is met, some ineffectiveness may occur.  Any ineffectiveness will be recorded through net profit or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IR VALUE HED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CONCEPTS - FAIR VALUE HED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rivative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alway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ported on the balance sheet at fair value unless specifically exemp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anges in a derivative’s fair value, including changes in time value, are always recognised in earn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anges in the fair value of hedged items due to the hedged risk are recognised in earnings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adju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carrying amount of those ite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A FAIR VALUE H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ir value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osure to changes in the fair value of a recognised asset or liability, or an identified portion thereof, that is attributable to a specific risk and that affects reported net income.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37(a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REE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derivative instrument is a financial instrument: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ose value changes in response to the change in a specified variable or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at requires no initial net investment or smaller initial net investment relative to other types of contracts with similar responses to change in market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at is settled at a future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IR VALUE HED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&amp;L exposure to changes in fair valu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37(a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isk expo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est, Credit, Fx, Overall fair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urces of exposu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ancial assets or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n-financial assets or liabilities (only overall fair 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m commitments (although accounted for as cash flow hedge under IAS 3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IR VALUE HEDG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ir value hed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hedging relationship where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changes in the fair value of the hedged item attributable to a particular risk are offset by changes in the fair value of the hedging instr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HEDGED I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sed financial assets or li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ire asset or 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xed rate debt, fixed rate loans recei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ied portion of the asset or 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up of similar assets or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sed non-financial assets or li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ELD-TO-MATURITY INVEST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dging i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imite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credit ris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eign currency ris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OUNTING FOR A FAIR VALUE H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all hedge criteria are met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39.142)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n a fair value hedge should be accounted for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gain or loss from remeasuring the hedging instrument at fair value should be recognised in the P/L,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5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OUNTING FOR A FAIR VALUE HEDG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gain or loss on the hedged item attributable to the hedged risk should adjust the carrying amount of the hedged item and be recognised in the P/L (basis adjustment)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5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et effec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y ineffectiveness is reflected in the P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MPAIR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dged item is still subject to impairment re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ly after basis of the hedged item is adjusted for changes in the fair value he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MPAIRMENT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mpact of the hedging instrument is  not considered in assessing the hedged item’s impair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erivative is already recorded at fair value, so impairment evaluation is not relevant to the derivative (ie. the hedging instru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SH FLOW HED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KEY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rivatives ar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way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ported on the balance sheet at fair value unless specifically exem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s in a derivative’s fair value are recorded to equity to the extent the hedge is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dged item i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adjust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changes in fair value of derivative until is recognised on the balance sheet (ie. when the forecasted transaction occ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effectiveness is recorded in P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HARACTERISTIC 1 - VARIABLE or INDEX  (UNDERLY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interest 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rice of a security or security price inde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rice of a commodity or commodity price inde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oreign exchange 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easure of creditworthi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A CASH FLOW EXPOS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Cash flow exposure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(39.137(b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osure to variability in cash flows that (i) is attributable to a particular risk associated with a recognised asset or liability, or a forecasted transaction; and (ii) that will affect inco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dge of unrecognised firm commitment is accounted for as cash flow hedge even though it has a fair value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A CASH FLOW HEDGE?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Cash flow hedg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 hedging relationship where the variability of the hedged item’s cash flows is offset by the cash flows of the hedging instrument.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EDGEABLE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recognised asset or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riable rate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recasted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ticipated issuance of fixed-rate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unrecognised firm commi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inding agreement to purchase inventory at a fixed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OUNTING FOR A CASH FLOW HEDGE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all hedge criteria are met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39.142)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hedge should be accounted for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ortion of the gain or loss on the hedging instrument that is effective should be recorded in equity;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58(a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OUNTING FOR A CASH FLOW HEDG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e ineffective portion should be reported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39.158(b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mmediately in the P/L if the hedging instrument is a derivative, 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n equity if the entity has elected to record changes in the fair value of available for sale assets in equ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39.103) (non-derivativ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CONTINUE HEDGE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dge accounting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prospectively discontinued when: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(39.16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edging instrument expires or is sold, terminated or exercised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edge no longer meets the criteria for qualification for hedge acc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mmitted or forecasted transaction is no longer expected to occur, in which case any related net gain or loss in equity should be reclassified to the P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RACTERISTIC 2 - INITIAL NET INVES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 derivative requires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either </a:t>
            </a:r>
            <a:r>
              <a:rPr b="0" i="1" lang="en-GB" sz="1500" spc="-1" strike="noStrike">
                <a:solidFill>
                  <a:srgbClr val="000000"/>
                </a:solidFill>
                <a:latin typeface="Times New Roman"/>
              </a:rPr>
              <a:t>(39.1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initial net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maller initial net investment than other types of contracts that have a similar response to changes in market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 derivative does not require an initial net investment of the notional amou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argin accou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ption premiu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HARACTERTISTIC 3- SETTLED AT A FUTURE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tlement of contract in the futur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es not matter if settlement is net or g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IONAL AMOUNT OR PAYMENT PRO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rivatives commonly have either a notional amount or a payment provision: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39.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ional amount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xamples include a number of shares, units, tonnes, a currency am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yment provision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pecifies a fixed or determinable settlement if the underlying behaves in a specified way (example - if interest rates increase by 300 basis points, 1 million is pa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LUSTRATION - INTEREST RATE SW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ny X enters into an interest rate swap at-market with the following te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</a:rPr>
              <a:t>year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te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Notional amount of 100 mill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ompany X pays variable based on EURIBOR and receives a fixed rate of 5% (paid semiannually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11:55:48Z</dcterms:created>
  <dc:creator>PwC</dc:creator>
  <dc:description/>
  <dc:language>en-US</dc:language>
  <cp:lastModifiedBy>Deloitte &amp; Touche</cp:lastModifiedBy>
  <dcterms:modified xsi:type="dcterms:W3CDTF">2001-05-24T07:10:32Z</dcterms:modified>
  <cp:revision>12</cp:revision>
  <dc:subject/>
  <dc:title>No Slide Title</dc:title>
</cp:coreProperties>
</file>