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EF6C-78AA-4FC2-AC6A-D948D9D9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64A9-79C9-48EC-BE49-94D31A76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7397-F98E-49D1-89B9-7D230C4B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99A0-CEAD-43E4-895B-224CA2B0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9BCC-F692-4AB7-AC21-7B466262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EE5C-A877-4C4A-9412-9BEF1EE8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461C-F15D-4A88-805B-28B92542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2B90-E64E-4C2A-BF5E-3D66441D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FD7F-0E9A-4222-9C4B-985140FF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BD00-E441-4B7D-AEF9-9B81C27B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2591-8ADB-49D3-A2F7-9A80B398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AB8A-3AD8-43AD-8994-A6F8DCE9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33D8-F0B6-40D4-A5A3-D785784E29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1680" y="1143000"/>
            <a:ext cx="868932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K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SOCIATION OF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RK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stanbu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16 November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ISMA_Centre_Logo" descr=""/>
          <p:cNvPicPr/>
          <p:nvPr/>
        </p:nvPicPr>
        <p:blipFill>
          <a:blip r:embed="rId1"/>
          <a:stretch/>
        </p:blipFill>
        <p:spPr>
          <a:xfrm>
            <a:off x="304920" y="5562720"/>
            <a:ext cx="2095560" cy="857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781680" y="5257800"/>
            <a:ext cx="196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chard Comot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MA Cent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ading Univers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gl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7240" y="6435720"/>
            <a:ext cx="22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ismacentre.reading.ac.u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02200" y="642636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mottor@cs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4920" y="1639800"/>
            <a:ext cx="667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who uses currency futur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ail --- like simpli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 or leveraged credits --- need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 banking systems --- need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ed markets --- like transpar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3840" y="1639800"/>
            <a:ext cx="5980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the future for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vergence with OTC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y OTC instruments are beco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moditised --- ie si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llateralised --- ie sec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tomated --- ie trans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st like currency futur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11680" y="1143000"/>
            <a:ext cx="868932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K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SOCIATION OF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RK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stanbu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16 November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ISMA_Centre_Logo" descr=""/>
          <p:cNvPicPr/>
          <p:nvPr/>
        </p:nvPicPr>
        <p:blipFill>
          <a:blip r:embed="rId1"/>
          <a:stretch/>
        </p:blipFill>
        <p:spPr>
          <a:xfrm>
            <a:off x="304920" y="5562720"/>
            <a:ext cx="2095560" cy="857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781680" y="5257800"/>
            <a:ext cx="196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chard Comot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MA Cent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ading Univers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gl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7240" y="6435720"/>
            <a:ext cx="22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ismacentre.reading.ac.u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02200" y="642636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mottor@cs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2760" y="1639800"/>
            <a:ext cx="6981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significance of currency futures in the FX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al function of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lure of innovative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se are currency futur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uses currency futur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0960" y="1639800"/>
            <a:ext cx="887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significance of currency futures in the FX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rrency futures = 0.8% of global FX turno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rrency futures = 1.2% of global forward FX turno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rrency futures = 0.5% of all futures contracts outstan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currency futures contracts have been delis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futures exchanges have delisted all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42960" y="446040"/>
          <a:ext cx="7607160" cy="589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446040"/>
                    <a:ext cx="7607160" cy="58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677960" y="154944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1828800"/>
            <a:ext cx="3049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1828800"/>
            <a:ext cx="17524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41560" y="152388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ia &amp; Russ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00800" y="1905120"/>
            <a:ext cx="1522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2760" y="38862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x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952880" y="4191120"/>
            <a:ext cx="763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2040" y="1639800"/>
            <a:ext cx="816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ce of currency futures in the FX market ---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bu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cy futures important for CME &amp; BM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Latin America, currency futures = 11% of all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2760" y="1639800"/>
            <a:ext cx="69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ce of currency futures in the FX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global insignific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local signific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8880" y="1639800"/>
            <a:ext cx="8966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ce of currency futures in the FX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financial function of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cy futures are forward FX contr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2 types of forward FX contrac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right forwards --- used for currency risk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X swaps --- used for interest rate risk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t rate risk management is more import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cy futures = outright forw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right forwards = USD 131 billion per day in April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X swaps = USD 656 billion per day in April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role for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6360" y="1639800"/>
            <a:ext cx="8615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failure of innovative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ovative contracts, 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ME Rolling Spot contracts (exchange-traded FX swap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s in contracts specif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empts to increase deal size to OTC levels, 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order facilitie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hange for physical facili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ME market-making fac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5280" y="1639800"/>
            <a:ext cx="764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what use are currency futur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isation --- inflexible but si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aranteed settlement --- inconvenient but sec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hange-trading --- transparent but fa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4T22:10:34Z</dcterms:created>
  <dc:creator>Richard Comotto</dc:creator>
  <dc:description/>
  <dc:language>en-US</dc:language>
  <cp:lastModifiedBy>GÜNHAN GÜNEÇ</cp:lastModifiedBy>
  <dcterms:modified xsi:type="dcterms:W3CDTF">2001-11-19T08:03:53Z</dcterms:modified>
  <cp:revision>7</cp:revision>
  <dc:subject/>
  <dc:title>The role of currency futures in global financial markets</dc:title>
</cp:coreProperties>
</file>