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4BF-B528-443E-A632-FF5D94CF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6E32-FA5F-41B8-81A3-7675AE70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AA4A-31DE-4AAC-A072-CE693267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1EDC-AE56-4ADB-B0E5-00DBB3AB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14AF-BC7D-45D7-AA22-CCC52033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3C67-600E-4506-B06C-6D6FF342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6588-32B7-4369-A282-6A0897E1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082-83E8-4368-AD5F-D165A86D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1D98-A345-4FD6-8A80-98293478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CB5F-949C-4A4E-A358-CC640A25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0DC-6264-4E90-B692-F3B0F987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4BD-A1FB-4107-8866-D9B6C349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8275-D120-47A0-95FA-C9B4ADDB7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1680" y="1143000"/>
            <a:ext cx="86893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K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SOCIATION OF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R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stanb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6 November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ISMA_Centre_Logo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2095560" cy="857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781680" y="5257800"/>
            <a:ext cx="196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chard Com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MA Cent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ing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7240" y="6435720"/>
            <a:ext cx="22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ismacentre.reading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02200" y="64263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ottor@c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4920" y="1639800"/>
            <a:ext cx="667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who uses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il --- like simpl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 or leveraged credits --- need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 banking systems --- need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ed markets --- like transpar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840" y="1639800"/>
            <a:ext cx="5980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the future for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vergence with OTC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OTC instruments are beco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moditised --- ie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llateralised --- ie sec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omated --- ie trans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 like currency fu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1680" y="1143000"/>
            <a:ext cx="86893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K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SOCIATION OF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R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stanb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6 November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ISMA_Centre_Logo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2095560" cy="857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81680" y="5257800"/>
            <a:ext cx="196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chard Com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MA Cent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ing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7240" y="6435720"/>
            <a:ext cx="22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ismacentre.reading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02200" y="64263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ottor@c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760" y="1639800"/>
            <a:ext cx="698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al function of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ure of innovative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se are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uses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0960" y="1639800"/>
            <a:ext cx="887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0.8% of global FX turn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1.2% of global forward FX turn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0.5% of all futures contracts outsta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currency futures contracts have been delis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futures exchanges have delisted all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42960" y="446040"/>
          <a:ext cx="7607160" cy="58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46040"/>
                    <a:ext cx="760716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77960" y="154944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1828800"/>
            <a:ext cx="3049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828800"/>
            <a:ext cx="17524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41560" y="15238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ia &amp; Rus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1905120"/>
            <a:ext cx="1522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2760" y="3886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952880" y="4191120"/>
            <a:ext cx="763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040" y="1639800"/>
            <a:ext cx="81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 ---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important for CME &amp; B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Latin America, currency futures = 11% of all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2760" y="1639800"/>
            <a:ext cx="69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global insignifi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ocal signifi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8880" y="1639800"/>
            <a:ext cx="896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inancial function of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are forward FX contr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2 types of forward FX contrac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ight forwards --- used for currency risk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X swaps --- used for interest rate risk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 rate risk management is more impor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= outright forw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ight forwards = USD 131 billion per day in April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X swaps = USD 656 billion per day in April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role for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6360" y="1639800"/>
            <a:ext cx="8615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ailure of innovative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ovative contracts, 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E Rolling Spot contracts (exchange-traded FX swap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in contracts specif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mpts to increase deal size to OTC levels, 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order faciliti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for physical facili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E market-makin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5280" y="1639800"/>
            <a:ext cx="764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what use are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isation --- inflexible but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aranteed settlement --- inconvenient but sec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-trading --- transparent but f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22:10:34Z</dcterms:created>
  <dc:creator>Richard Comotto</dc:creator>
  <dc:description/>
  <dc:language>en-US</dc:language>
  <cp:lastModifiedBy>GÜNHAN GÜNEÇ</cp:lastModifiedBy>
  <dcterms:modified xsi:type="dcterms:W3CDTF">2001-11-19T08:03:53Z</dcterms:modified>
  <cp:revision>7</cp:revision>
  <dc:subject/>
  <dc:title>The role of currency futures in global financial markets</dc:title>
</cp:coreProperties>
</file>