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FAE9-23FE-4E0F-808A-1B85F638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E1E1-FF09-44C2-8C3F-ECF7ABD4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6ED3-606C-4131-920C-224BD3C3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EE3-85F5-4FE9-A48D-21B7D890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B82A-7677-417A-8CF1-24388E1F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5A94-BE1B-4F1B-9E3A-F8E3ACBA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709E-EBB1-4E91-A069-96FCB319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525A-6F1B-4381-AC84-502091FE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8998-7F3C-4528-93D8-764F8790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FB44-BCC3-4339-ABA2-55A58E73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18A4-591A-4738-9DBA-02267DF5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9CA4-97F9-4BB6-8BD9-7531D088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1B2F-C3CD-4071-A921-1855CF8C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F496-DF3A-4219-8707-2BF61EED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7BF6-5281-40EC-A16A-BC51D63B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F1BF-0128-4522-946D-821AB2C2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0883-DA74-4745-9CD0-AE241349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B349-24CC-47BD-BE28-B0E10AF5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1887-0948-402E-A143-7A789B8C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564C-AF77-464E-B77F-259A6CA2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B256-EC91-46F3-88E4-DB88AFF3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5044-6C6D-4D8B-86B0-7242D181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C6BB-171C-4235-B48E-07775915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4B7E-CD95-4EA6-B155-65A4C4CA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8E0D-A6E8-4594-8DE7-EC187599542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C440-8C3C-4C13-A663-BF2629B203E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li İşlemler Piyasasının Spot Piyasa Üzerindeki Etkiler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Kürşat Aydoğ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ilkent Üniversite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Kasım 200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4505400" cy="65534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714280" y="1270080"/>
            <a:ext cx="294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ulgular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Hisse Senedi Vadel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İşlem Piyasaları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Bulgular:</a:t>
            </a:r>
            <a:br>
              <a:rPr sz="4400"/>
            </a:b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Döviz Vadeli İşlem Piyasaları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Clifton (1985)  Yen, SF, DM, C$    Art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Chatrath, Ramchander ve Song (1996) Yen, 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  <a:ea typeface="Tahoma"/>
              </a:rPr>
              <a:t>£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, DM, C$    Art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drangi ve Chatrath (1998) Yen, 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  <a:ea typeface="Tahoma"/>
              </a:rPr>
              <a:t>£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, DM, C$    Art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Jochum ve Kodres   Gel. Piyasalar  Etki yo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Shastri, Sultan ve Tandon (1996) Azal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 Bitimi Etki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Vade bitiminde spot piyasa işlem hacmi yükseliy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Spot piyasada fazla bir fiyat etkisi yo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BD spot hisse piyasasında 1987 öncesi gözlenen yüksek oynaklık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triple witching hour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Öncü-İzleyici Etki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Teorik Fiy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Vadeli işlem fiyatı teorik fiyattan en fazla işlem maliyeti kadar farklılaşabili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508040" y="2700360"/>
            <a:ext cx="267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F*</a:t>
            </a:r>
            <a:r>
              <a:rPr b="0" lang="tr-TR" sz="24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 = S</a:t>
            </a:r>
            <a:r>
              <a:rPr b="0" lang="tr-TR" sz="24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(1 + r – d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Öncü-İzleyici Etki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ükemmel piyasalarda F</a:t>
            </a:r>
            <a:r>
              <a:rPr b="0" lang="tr-TR" sz="32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 ve S</a:t>
            </a:r>
            <a:r>
              <a:rPr b="0" lang="tr-TR" sz="32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 arasında tam korelasyon olmalıdı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Oysa gerçek piyasalar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enkronize olmayan işleml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Açığa satışlarda kısıtlamal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İşlem yoğunluğunda farklılıkl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evcuttu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Öncü-İzleyici Etkisi: Bulg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Hisse Senedi Endeksi Vadeli İşlemler Piyasası Spot piyasaya 5 – 45 dakika öncülük ede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azı piyasalarda spot piyasanın vadeli işlem piyasasına 1-2 dakika öncülük ettiği görülmektedi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li İşlemler ve Likidi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lım-satım marjı: bir likidite gösterge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arjı belirleyen etmenle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Ters seçim (</a:t>
            </a:r>
            <a:r>
              <a:rPr b="0" i="1" lang="tr-TR" sz="2800" spc="-1" strike="noStrike">
                <a:solidFill>
                  <a:srgbClr val="40458c"/>
                </a:solidFill>
                <a:latin typeface="Tahoma"/>
              </a:rPr>
              <a:t>adverse selection</a:t>
            </a: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Piyasa yapıcılığının sabit maliyetler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Envanter risk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mpirik Bulgular: Marj yükseliy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Diğer Husus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Vadeli işlemlerin mali krizler esnasında oynamış olduğu ro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Yönlendirme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Manipulation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ihtimal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Türev piyasalardaki gelişme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Vadeli sözleşmeler işlem hacminde artış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Egzotik sözleşmel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Türev piyasalarda globalleş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kandal batıklar: Barings, Orange Coun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“</a:t>
            </a: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Türev piyasalar spot piyasalardaki istikrarı bozar”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u önerme kuramsal açıdan ne ölçüde doğrudu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u önerme ampirik olarak desteklenmekte midi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Tartışmanın temelinde ‘spekülatif işlemlerin’ piyasa istikrarı üzerindeki etkisi yer alır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301320" y="2319480"/>
            <a:ext cx="2901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mit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J. S. Mil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M. Friedma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Kald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te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Baumo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6880" y="2362320"/>
            <a:ext cx="152640" cy="1371600"/>
          </a:xfrm>
          <a:custGeom>
            <a:avLst/>
            <a:gdLst>
              <a:gd name="textAreaLeft" fmla="*/ 0 w 152640"/>
              <a:gd name="textAreaRight" fmla="*/ 107280 w 15264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77840" y="2590920"/>
            <a:ext cx="54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pekülasyon istikrarsızlığa yol açmaz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0560" y="449568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pekülasyon istikrarsızlığa yol aç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66880" y="41911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Vadeli Piyasanın Spot Piyasaya Etkiler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Spot piyasalardaki oynaklık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volatility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açısınd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Likidite açısınd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Piyasa etkinliği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efficiency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açısınd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li İşlemlerin Özellikler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Düşük teminat yükümlülüğü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margin requiremen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Düşük işlem maliyet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erkezi tak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Günlük değerlendirme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marking to marke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Kaldıraç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leverage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etki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Vadeli Piyasanın Spot Piyasaya Etkileri –Teorik Yaklaşım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Yukarıdaki nedenlerle spot piyasalarda oynaklık ARTAR, likidite AZALIR (bilgili yatırımcılar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Yukarıdaki nedenlerle spot piyasalarda oynaklık AZALIR, likidite ARTAR (yeni mali araçlar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Vadeli Piyasanın Spot Piyasaya Etkileri – Ampirik Çalışmalar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piyasadaki oynaklık vadeli işlem piyasası kurulmasının öncesinde ve sonrasında farklılık sergiliyor mu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piyasadaki oynaklık vadeli piyasa işlem hacmi ile ilişkili mi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ve vadeli piyasalar arasında nedensellik, öncü-izleyici etkis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piyasada likidite farklılık gösteriyor mu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Bulgular:</a:t>
            </a:r>
            <a:br>
              <a:rPr sz="4400"/>
            </a:b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Emtia Piyasaları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14400" y="1309680"/>
            <a:ext cx="74674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Bulgular:</a:t>
            </a:r>
            <a:br>
              <a:rPr sz="4400"/>
            </a:b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Faiz Oranı Piyasaları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3:14:12Z</dcterms:created>
  <dc:creator>.</dc:creator>
  <dc:description/>
  <dc:language>en-US</dc:language>
  <cp:lastModifiedBy>GÜNHAN GÜNEÇ</cp:lastModifiedBy>
  <dcterms:modified xsi:type="dcterms:W3CDTF">2001-11-19T08:03:46Z</dcterms:modified>
  <cp:revision>4</cp:revision>
  <dc:subject/>
  <dc:title>Vadeli İşlemler Piyasasının Spot Piyasa Üzerindeki Etkileri</dc:title>
</cp:coreProperties>
</file>