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DEC8-48B8-4B5F-87BA-4441AFF19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02F0-E712-4BD2-B069-D25CBA06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A360-031D-4215-AD52-DB74E8812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8B4A-EC71-4379-835A-395DD3CD0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B108-0DF5-41B1-BCD5-1944DB181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0CC51-84F5-4F8F-9830-BFB6C81E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5157A-601A-496B-99AC-C4C859DE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FBDE-86D0-4436-A857-600C11BF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2204-2390-4E1A-9ABE-BAC63ED5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3DA2-BDF5-45BD-8091-EA9E0452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CAA8-2535-4422-AAFD-E9AAF9F0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0AB4-BD61-420D-A7F4-F7F1B4EC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C307-7255-43F1-971C-B9FC6124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7FA4-AACF-42BB-AD02-284D533A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D4FF-4BD0-4C7D-B17B-88CA9270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B867-C57E-44DC-820A-2EEABA786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31B5-8E44-4624-9475-CD6C6F558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CAFD-330A-4E64-9CA9-B341A317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CDD4-AA3F-4C04-951C-7358910D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4767-8918-4246-A6BD-97A55A08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41AC-7EE6-4B47-BD6A-FE45D6E1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D146-69A5-47EF-B04E-91742528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EDCB-BFC6-4E47-8687-6C430215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35FA-F4EE-4EAB-8519-F8918DAC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624A-F6DD-4A75-943F-9E2E55FDF14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729A-4C3E-44D5-8B0D-D1BA439FEA0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Vadeli İşlemler Piyasasının Spot Piyasa Üzerindeki Etkiler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Kürşat Aydoğa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Bilkent Üniversites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Kasım 200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4505400" cy="65534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714280" y="1270080"/>
            <a:ext cx="294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Bulgular</a:t>
            </a: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Hisse Senedi Vadel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İşlem Piyasaları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Bulgular:</a:t>
            </a:r>
            <a:br>
              <a:rPr sz="4400"/>
            </a:b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Döviz Vadeli İşlem Piyasaları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Clifton (1985)  Yen, SF, DM, C$    Artış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Chatrath, Ramchander ve Song (1996) Yen, 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  <a:ea typeface="Tahoma"/>
              </a:rPr>
              <a:t>£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, DM, C$    Artış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Adrangi ve Chatrath (1998) Yen, 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  <a:ea typeface="Tahoma"/>
              </a:rPr>
              <a:t>£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, DM, C$    Artış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Jochum ve Kodres   Gel. Piyasalar  Etki yo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Shastri, Sultan ve Tandon (1996) Azalış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Vade Bitimi Etkis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Vade bitiminde spot piyasa işlem hacmi yükseliy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Spot piyasada fazla bir fiyat etkisi yo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ABD spot hisse piyasasında 1987 öncesi gözlenen yüksek oynaklık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triple witching hour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Öncü-İzleyici Etkis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Teorik Fiy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Vadeli işlem fiyatı teorik fiyattan en fazla işlem maliyeti kadar farklılaşabili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1508040" y="2700360"/>
            <a:ext cx="267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F*</a:t>
            </a:r>
            <a:r>
              <a:rPr b="0" lang="tr-TR" sz="2400" spc="-1" strike="noStrike" baseline="-25000">
                <a:solidFill>
                  <a:srgbClr val="40458c"/>
                </a:solidFill>
                <a:latin typeface="Tahoma"/>
              </a:rPr>
              <a:t>t</a:t>
            </a: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 = S</a:t>
            </a:r>
            <a:r>
              <a:rPr b="0" lang="tr-TR" sz="2400" spc="-1" strike="noStrike" baseline="-25000">
                <a:solidFill>
                  <a:srgbClr val="40458c"/>
                </a:solidFill>
                <a:latin typeface="Tahoma"/>
              </a:rPr>
              <a:t>t</a:t>
            </a: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(1 + r – d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Öncü-İzleyici Etkis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Mükemmel piyasalarda F</a:t>
            </a:r>
            <a:r>
              <a:rPr b="0" lang="tr-TR" sz="3200" spc="-1" strike="noStrike" baseline="-25000">
                <a:solidFill>
                  <a:srgbClr val="40458c"/>
                </a:solidFill>
                <a:latin typeface="Tahoma"/>
              </a:rPr>
              <a:t>t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 ve S</a:t>
            </a:r>
            <a:r>
              <a:rPr b="0" lang="tr-TR" sz="3200" spc="-1" strike="noStrike" baseline="-25000">
                <a:solidFill>
                  <a:srgbClr val="40458c"/>
                </a:solidFill>
                <a:latin typeface="Tahoma"/>
              </a:rPr>
              <a:t>t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 arasında tam korelasyon olmalıdı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Oysa gerçek piyasalard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enkronize olmayan işleml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Açığa satışlarda kısıtlamal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İşlem yoğunluğunda farklılıkl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mevcuttu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Öncü-İzleyici Etkisi: Bulgul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Hisse Senedi Endeksi Vadeli İşlemler Piyasası Spot piyasaya 5 – 45 dakika öncülük ede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Bazı piyasalarda spot piyasanın vadeli işlem piyasasına 1-2 dakika öncülük ettiği görülmektedi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Vadeli İşlemler ve Likidit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Alım-satım marjı: bir likidite gösterges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Marjı belirleyen etmenler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Ters seçim (</a:t>
            </a:r>
            <a:r>
              <a:rPr b="0" i="1" lang="tr-TR" sz="2800" spc="-1" strike="noStrike">
                <a:solidFill>
                  <a:srgbClr val="40458c"/>
                </a:solidFill>
                <a:latin typeface="Tahoma"/>
              </a:rPr>
              <a:t>adverse selection</a:t>
            </a: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Piyasa yapıcılığının sabit maliyetler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Envanter risk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Ampirik Bulgular: Marj yükseliy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Diğer Hususl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Vadeli işlemlerin mali krizler esnasında oynamış olduğu ro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Yönlendirme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Manipulation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 ihtimal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Türev piyasalardaki gelişmel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Vadeli sözleşmeler işlem hacminde artış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Egzotik sözleşmel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Türev piyasalarda globalleşm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kandal batıklar: Barings, Orange Coun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“</a:t>
            </a: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Türev piyasalar spot piyasalardaki istikrarı bozar”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Bu önerme kuramsal açıdan ne ölçüde doğrudu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Bu önerme ampirik olarak desteklenmekte midi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Tartışmanın temelinde ‘spekülatif işlemlerin’ piyasa istikrarı üzerindeki etkisi yer alır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301320" y="2319480"/>
            <a:ext cx="2901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Smit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J. S. Mil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M. Friedma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Kald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Stei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Baumo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66880" y="2362320"/>
            <a:ext cx="152640" cy="1371600"/>
          </a:xfrm>
          <a:custGeom>
            <a:avLst/>
            <a:gdLst>
              <a:gd name="textAreaLeft" fmla="*/ 0 w 152640"/>
              <a:gd name="textAreaRight" fmla="*/ 107280 w 15264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77840" y="2590920"/>
            <a:ext cx="54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Spekülasyon istikrarsızlığa yol açmaz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0560" y="449568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Spekülasyon istikrarsızlığa yol aça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666880" y="4191120"/>
            <a:ext cx="76320" cy="1295280"/>
          </a:xfrm>
          <a:custGeom>
            <a:avLst/>
            <a:gdLst>
              <a:gd name="textAreaLeft" fmla="*/ 0 w 76320"/>
              <a:gd name="textAreaRight" fmla="*/ 53640 w 7632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Vadeli Piyasanın Spot Piyasaya Etkileri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Spot piyasalardaki oynaklık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volatility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 açısında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Likidite açısında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Piyasa etkinliği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efficiency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 açısında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Vadeli İşlemlerin Özellikler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Düşük teminat yükümlülüğü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margin requirement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Düşük işlem maliyet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Merkezi tak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Günlük değerlendirme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marking to market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Kaldıraç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leverage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 etkis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Vadeli Piyasanın Spot Piyasaya Etkileri –Teorik Yaklaşım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Yukarıdaki nedenlerle spot piyasalarda oynaklık ARTAR, likidite AZALIR (bilgili yatırımcılar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Yukarıdaki nedenlerle spot piyasalarda oynaklık AZALIR, likidite ARTAR (yeni mali araçlar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Vadeli Piyasanın Spot Piyasaya Etkileri – Ampirik Çalışmalar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pot piyasadaki oynaklık vadeli işlem piyasası kurulmasının öncesinde ve sonrasında farklılık sergiliyor mu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pot piyasadaki oynaklık vadeli piyasa işlem hacmi ile ilişkili mi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pot ve vadeli piyasalar arasında nedensellik, öncü-izleyici etkis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pot piyasada likidite farklılık gösteriyor mu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Bulgular:</a:t>
            </a:r>
            <a:br>
              <a:rPr sz="4400"/>
            </a:b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Emtia Piyasaları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914400" y="1309680"/>
            <a:ext cx="74674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Bulgular:</a:t>
            </a:r>
            <a:br>
              <a:rPr sz="4400"/>
            </a:b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Faiz Oranı Piyasaları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696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3:14:12Z</dcterms:created>
  <dc:creator>.</dc:creator>
  <dc:description/>
  <dc:language>en-US</dc:language>
  <cp:lastModifiedBy>GÜNHAN GÜNEÇ</cp:lastModifiedBy>
  <dcterms:modified xsi:type="dcterms:W3CDTF">2001-11-19T08:03:46Z</dcterms:modified>
  <cp:revision>4</cp:revision>
  <dc:subject/>
  <dc:title>Vadeli İşlemler Piyasasının Spot Piyasa Üzerindeki Etkileri</dc:title>
</cp:coreProperties>
</file>