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7EA6-AF33-4D03-9BF9-ED91C319A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6E97-804B-4BAA-964F-CB33F8A07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0566-B299-4C79-B997-F0A3A36DF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70FC-EEE1-461E-8CE8-2C0AA3FBD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787AA-9C23-4A6C-8A3E-D07500EF1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55372-8D45-4F6B-BC51-3514D1C58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D0E23-CB4B-4F2E-B523-386B600EB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7BA0F-28B6-45FF-BF2B-7AFA1E99D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877E7-EC9C-4DD6-9C70-369B60635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9032C-5962-492E-81E8-60CC1E9DA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3BD31-AA3C-4444-9DC4-CE9F2C35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51D0-C5D8-4CB0-8333-E818BD797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E3C8B-71D2-4F56-9E74-38FE05C3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C1449-7DF0-4AF3-A2E5-65E075A3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4285B-885A-4845-B32B-75A7A3B4D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844EB-1237-477E-945A-886A610A4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58784-A91D-40E0-A990-AA84BC157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E16F-5E57-4F4D-80E8-19293F6D1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BCBC-780E-4328-8AB8-B171EDC77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B65B-3BC9-45D8-A0F5-33D1DEA19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B28A-0BC7-469A-8A39-B52B5F19A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F556-9A13-4FF5-9C43-B7393C03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17C3-3526-48C7-A479-F778DF08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6E90-129F-4AE3-BF35-B05DAA57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7F951-D6CF-4568-9FCE-7E04295A91A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7B9C5-0AD8-44C8-933B-D0B220F3F54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Vadeli İşlemler Piyasasının Spot Piyasa Üzerindeki Etkiler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Kürşat Aydoğa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Bilkent Üniversites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Kasım 2001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143000" y="152280"/>
            <a:ext cx="4505400" cy="65534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5714280" y="1270080"/>
            <a:ext cx="2948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Bulgular</a:t>
            </a: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Hisse Senedi Vadeli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İşlem Piyasaları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Bulgular:</a:t>
            </a:r>
            <a:br>
              <a:rPr sz="4400"/>
            </a:br>
            <a:r>
              <a:rPr b="0" lang="tr-TR" sz="3600" spc="-1" strike="noStrike">
                <a:solidFill>
                  <a:srgbClr val="660066"/>
                </a:solidFill>
                <a:latin typeface="Tahoma"/>
              </a:rPr>
              <a:t>Döviz Vadeli İşlem Piyasaları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Clifton (1985)  Yen, SF, DM, C$    Artış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Chatrath, Ramchander ve Song (1996) Yen, 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  <a:ea typeface="Tahoma"/>
              </a:rPr>
              <a:t>£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, DM, C$    Artış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Adrangi ve Chatrath (1998) Yen, 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  <a:ea typeface="Tahoma"/>
              </a:rPr>
              <a:t>£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, DM, C$    Artış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Jochum ve Kodres   Gel. Piyasalar  Etki yok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Shastri, Sultan ve Tandon (1996) Azalış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Vade Bitimi Etkis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Vade bitiminde spot piyasa işlem hacmi yükseliyo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Spot piyasada fazla bir fiyat etkisi yok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ABD spot hisse piyasasında 1987 öncesi gözlenen yüksek oynaklık (</a:t>
            </a:r>
            <a:r>
              <a:rPr b="0" i="1" lang="tr-TR" sz="3200" spc="-1" strike="noStrike">
                <a:solidFill>
                  <a:srgbClr val="40458c"/>
                </a:solidFill>
                <a:latin typeface="Tahoma"/>
              </a:rPr>
              <a:t>triple witching hour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Öncü-İzleyici Etkis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Teorik Fiy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Vadeli işlem fiyatı teorik fiyattan en fazla işlem maliyeti kadar farklılaşabili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8" name=""/>
          <p:cNvSpPr/>
          <p:nvPr/>
        </p:nvSpPr>
        <p:spPr>
          <a:xfrm>
            <a:off x="1508040" y="2700360"/>
            <a:ext cx="2678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F*</a:t>
            </a:r>
            <a:r>
              <a:rPr b="0" lang="tr-TR" sz="2400" spc="-1" strike="noStrike" baseline="-25000">
                <a:solidFill>
                  <a:srgbClr val="40458c"/>
                </a:solidFill>
                <a:latin typeface="Tahoma"/>
              </a:rPr>
              <a:t>t</a:t>
            </a: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 = S</a:t>
            </a:r>
            <a:r>
              <a:rPr b="0" lang="tr-TR" sz="2400" spc="-1" strike="noStrike" baseline="-25000">
                <a:solidFill>
                  <a:srgbClr val="40458c"/>
                </a:solidFill>
                <a:latin typeface="Tahoma"/>
              </a:rPr>
              <a:t>t</a:t>
            </a: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(1 + r – d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Öncü-İzleyici Etkis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Mükemmel piyasalarda F</a:t>
            </a:r>
            <a:r>
              <a:rPr b="0" lang="tr-TR" sz="3200" spc="-1" strike="noStrike" baseline="-25000">
                <a:solidFill>
                  <a:srgbClr val="40458c"/>
                </a:solidFill>
                <a:latin typeface="Tahoma"/>
              </a:rPr>
              <a:t>t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 ve S</a:t>
            </a:r>
            <a:r>
              <a:rPr b="0" lang="tr-TR" sz="3200" spc="-1" strike="noStrike" baseline="-25000">
                <a:solidFill>
                  <a:srgbClr val="40458c"/>
                </a:solidFill>
                <a:latin typeface="Tahoma"/>
              </a:rPr>
              <a:t>t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 arasında tam korelasyon olmalıdır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Oysa gerçek piyasalard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Senkronize olmayan işleml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Açığa satışlarda kısıtlamala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İşlem yoğunluğunda farklılıkla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mevcuttu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Öncü-İzleyici Etkisi: Bulgula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Hisse Senedi Endeksi Vadeli İşlemler Piyasası Spot piyasaya 5 – 45 dakika öncülük eder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Bazı piyasalarda spot piyasanın vadeli işlem piyasasına 1-2 dakika öncülük ettiği görülmektedir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Vadeli İşlemler ve Likidit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Alım-satım marjı: bir likidite gösterges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Marjı belirleyen etmenler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Ters seçim (</a:t>
            </a:r>
            <a:r>
              <a:rPr b="0" i="1" lang="tr-TR" sz="2800" spc="-1" strike="noStrike">
                <a:solidFill>
                  <a:srgbClr val="40458c"/>
                </a:solidFill>
                <a:latin typeface="Tahoma"/>
              </a:rPr>
              <a:t>adverse selection</a:t>
            </a: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Piyasa yapıcılığının sabit maliyetler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Envanter risk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Ampirik Bulgular: Marj yükseliyo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Diğer Hususla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Vadeli işlemlerin mali krizler esnasında oynamış olduğu ro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Yönlendirme (</a:t>
            </a:r>
            <a:r>
              <a:rPr b="0" i="1" lang="tr-TR" sz="3200" spc="-1" strike="noStrike">
                <a:solidFill>
                  <a:srgbClr val="40458c"/>
                </a:solidFill>
                <a:latin typeface="Tahoma"/>
              </a:rPr>
              <a:t>Manipulation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) ihtimal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Türev piyasalardaki gelişmel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Vadeli sözleşmeler işlem hacminde artış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Egzotik sözleşmel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Türev piyasalarda globalleşm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Skandal batıklar: Barings, Orange Count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“</a:t>
            </a: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Türev piyasalar spot piyasalardaki istikrarı bozar”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Bu önerme kuramsal açıdan ne ölçüde doğrudur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Bu önerme ampirik olarak desteklenmekte midir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660066"/>
                </a:solidFill>
                <a:latin typeface="Tahoma"/>
              </a:rPr>
              <a:t>Tartışmanın temelinde ‘spekülatif işlemlerin’ piyasa istikrarı üzerindeki etkisi yer alır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"/>
          <p:cNvSpPr/>
          <p:nvPr/>
        </p:nvSpPr>
        <p:spPr>
          <a:xfrm>
            <a:off x="301320" y="2319480"/>
            <a:ext cx="2901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40458c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Smith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J. S. Mil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M. Friedma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Kaldo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Stei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Baumo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666880" y="2362320"/>
            <a:ext cx="152640" cy="1371600"/>
          </a:xfrm>
          <a:custGeom>
            <a:avLst/>
            <a:gdLst>
              <a:gd name="textAreaLeft" fmla="*/ 0 w 152640"/>
              <a:gd name="textAreaRight" fmla="*/ 107280 w 152640"/>
              <a:gd name="textAreaTop" fmla="*/ 56880 h 1371600"/>
              <a:gd name="textAreaBottom" fmla="*/ 13147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877840" y="2590920"/>
            <a:ext cx="544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Spekülasyon istikrarsızlığa yol açmaz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0560" y="449568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Spekülasyon istikrarsızlığa yol aça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666880" y="4191120"/>
            <a:ext cx="76320" cy="1295280"/>
          </a:xfrm>
          <a:custGeom>
            <a:avLst/>
            <a:gdLst>
              <a:gd name="textAreaLeft" fmla="*/ 0 w 76320"/>
              <a:gd name="textAreaRight" fmla="*/ 53640 w 76320"/>
              <a:gd name="textAreaTop" fmla="*/ 53640 h 1295280"/>
              <a:gd name="textAreaBottom" fmla="*/ 1241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660066"/>
                </a:solidFill>
                <a:latin typeface="Tahoma"/>
              </a:rPr>
              <a:t>Vadeli Piyasanın Spot Piyasaya Etkileri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Spot piyasalardaki oynaklık (</a:t>
            </a:r>
            <a:r>
              <a:rPr b="0" i="1" lang="tr-TR" sz="3200" spc="-1" strike="noStrike">
                <a:solidFill>
                  <a:srgbClr val="40458c"/>
                </a:solidFill>
                <a:latin typeface="Tahoma"/>
              </a:rPr>
              <a:t>volatility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) açısında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Likidite açısında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Piyasa etkinliği (</a:t>
            </a:r>
            <a:r>
              <a:rPr b="0" i="1" lang="tr-TR" sz="3200" spc="-1" strike="noStrike">
                <a:solidFill>
                  <a:srgbClr val="40458c"/>
                </a:solidFill>
                <a:latin typeface="Tahoma"/>
              </a:rPr>
              <a:t>efficiency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) açısında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Vadeli İşlemlerin Özellikler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Düşük teminat yükümlülüğü (</a:t>
            </a:r>
            <a:r>
              <a:rPr b="0" i="1" lang="tr-TR" sz="3200" spc="-1" strike="noStrike">
                <a:solidFill>
                  <a:srgbClr val="40458c"/>
                </a:solidFill>
                <a:latin typeface="Tahoma"/>
              </a:rPr>
              <a:t>margin requirement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Düşük işlem maliyet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Merkezi tak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Günlük değerlendirme (</a:t>
            </a:r>
            <a:r>
              <a:rPr b="0" i="1" lang="tr-TR" sz="3200" spc="-1" strike="noStrike">
                <a:solidFill>
                  <a:srgbClr val="40458c"/>
                </a:solidFill>
                <a:latin typeface="Tahoma"/>
              </a:rPr>
              <a:t>marking to market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Kaldıraç (</a:t>
            </a:r>
            <a:r>
              <a:rPr b="0" i="1" lang="tr-TR" sz="3200" spc="-1" strike="noStrike">
                <a:solidFill>
                  <a:srgbClr val="40458c"/>
                </a:solidFill>
                <a:latin typeface="Tahoma"/>
              </a:rPr>
              <a:t>leverage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) etkis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660066"/>
                </a:solidFill>
                <a:latin typeface="Tahoma"/>
              </a:rPr>
              <a:t>Vadeli Piyasanın Spot Piyasaya Etkileri –Teorik Yaklaşım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Yukarıdaki nedenlerle spot piyasalarda oynaklık ARTAR, likidite AZALIR (bilgili yatırımcılar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Yukarıdaki nedenlerle spot piyasalarda oynaklık AZALIR, likidite ARTAR (yeni mali araçlar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660066"/>
                </a:solidFill>
                <a:latin typeface="Tahoma"/>
              </a:rPr>
              <a:t>Vadeli Piyasanın Spot Piyasaya Etkileri – Ampirik Çalışmalar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Spot piyasadaki oynaklık vadeli işlem piyasası kurulmasının öncesinde ve sonrasında farklılık sergiliyor mu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Spot piyasadaki oynaklık vadeli piyasa işlem hacmi ile ilişkili mi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Spot ve vadeli piyasalar arasında nedensellik, öncü-izleyici etkis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Spot piyasada likidite farklılık gösteriyor mu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Bulgular:</a:t>
            </a:r>
            <a:br>
              <a:rPr sz="4400"/>
            </a:br>
            <a:r>
              <a:rPr b="0" lang="tr-TR" sz="3600" spc="-1" strike="noStrike">
                <a:solidFill>
                  <a:srgbClr val="660066"/>
                </a:solidFill>
                <a:latin typeface="Tahoma"/>
              </a:rPr>
              <a:t>Emtia Piyasaları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914400" y="1309680"/>
            <a:ext cx="7467480" cy="51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Bulgular:</a:t>
            </a:r>
            <a:br>
              <a:rPr sz="4400"/>
            </a:br>
            <a:r>
              <a:rPr b="0" lang="tr-TR" sz="3600" spc="-1" strike="noStrike">
                <a:solidFill>
                  <a:srgbClr val="660066"/>
                </a:solidFill>
                <a:latin typeface="Tahoma"/>
              </a:rPr>
              <a:t>Faiz Oranı Piyasaları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76960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3:14:12Z</dcterms:created>
  <dc:creator>.</dc:creator>
  <dc:description/>
  <dc:language>en-US</dc:language>
  <cp:lastModifiedBy>GÜNHAN GÜNEÇ</cp:lastModifiedBy>
  <dcterms:modified xsi:type="dcterms:W3CDTF">2001-11-19T08:03:46Z</dcterms:modified>
  <cp:revision>4</cp:revision>
  <dc:subject/>
  <dc:title>Vadeli İşlemler Piyasasının Spot Piyasa Üzerindeki Etkileri</dc:title>
</cp:coreProperties>
</file>