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2899A-71B6-4817-B91B-78F2E2C8B1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4F5A0-FFCE-46C9-B87F-E7BC79AEB2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FC354-491F-4B75-851E-65C340BB44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C14C0-1ED1-4794-9B96-5772DEA82D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52280" y="759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6A27E-7529-49AD-9334-9811317E01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6584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02720" y="167616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22860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6584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02720" y="3944880"/>
            <a:ext cx="2796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E8544-406B-49DD-9ECF-EEAC2A31F5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8132A-2BE9-42D8-A02D-D780B5C13F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26ADF-7D9E-4233-BDD0-2624A3E6C9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2280" y="759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A965A-5A79-4DD8-A53B-F2600A7C73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C3272-F63E-4061-83EA-C4C9A81630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394488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7BBC2-E56E-4446-B60A-9EEF0CBB6C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3944880"/>
            <a:ext cx="8686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76AE6-0989-4928-A7D7-8DB3B898DD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1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5308D-B8C9-4603-A907-E9AE49F32B3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RAFT 6  - 28 JAN 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819520" y="411480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00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1295280"/>
            <a:ext cx="4038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523880" y="1752480"/>
            <a:ext cx="5181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4159080"/>
            <a:ext cx="845820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İSMAİL YANI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Arial"/>
              </a:rPr>
              <a:t>TEB YÖNETİM KURULU ÜYESİ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Arial"/>
              </a:rPr>
              <a:t>iyanik@teb.com.t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95280" y="281952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Times New Roman"/>
              </a:rPr>
              <a:t>13 NİSAN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114300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RİSK YÖNETİM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6178F-E61B-4F96-AD96-254E2175502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85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Operasyonel risk: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Banka içi kontrollerdeki aksamalar sonucu hata v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usulsüzlükleri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gözden k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ç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dan,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anka yönetimi ve personeli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araf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d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aman ve ko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ullara uygu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hareket edilememesinden, bank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yönetimindeki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hatalardan, bilgi teknolojis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istemlerindeki hata ve aksamal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le deprem,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yang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, sel gibi felaketlerde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aynaklanabilecek kay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pl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ya d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arara u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ama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htimalin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İş 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süreçlerinde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hata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riski: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İ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emin b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ang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dan sonuna -dea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gerçekl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irilmesinde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ihai tak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uçland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m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a- kadar her 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ma v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üreçt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hata, noksan veya kaça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ucu olu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bilecek kay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p riskin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Bilgi sistemlerinde hata riski: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Hata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teknoloji veya yat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 seçimi , sistem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gel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irme ve uygulam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ça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al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da b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, hardware, software, network v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ayüz uygulamal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da baş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t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aynaklanabilecek zar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İnsandan kaynaklanan riskler: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oland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, personel suistimali, personel hat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,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yetkisiz faaliyet, onay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em ve personel yetersizl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 veya kilit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personelin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ayb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dan do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cak zarar ihtimali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Do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ğ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al afet ve 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dış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 faktörlerden kaynaklanan riskler</a:t>
            </a:r>
            <a:r>
              <a:rPr b="0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: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eprem, yang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 ,sel gibi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o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fetler ile ilet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m, ul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ım ve enerji altyap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da y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nan sorunlar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edeniyle zarar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u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ama ihtimali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00094-0971-4D0D-996B-E40DDD10C9E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228600"/>
            <a:ext cx="9144000" cy="75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Düzenlemelere uyulmama riski</a:t>
            </a:r>
            <a:r>
              <a:rPr b="0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: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Mevzuat hükümlerine ve kanunlar ile yasal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üzenleme v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y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ükümlülüklere, Bankam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 iç mevzuat hükümlerine veya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uluslarar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kabul görmü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urallara uyulmam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sonucu ortay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ç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abilecek resmi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erciler taraf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dan verilen faiz,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ödeme cezal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, iş koluna getirilen yasak veya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lamalar ile zorunlu düzeltme 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emlerinin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aliyeti nedeni ile u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ayb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Mevzuata ilişkin yetersiz bilgi riski: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Banka tarafından yetersiz ya da yan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yasal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ilgi v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elgeye dayanarak yapılabilecek 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emler neticesinde hakl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eklenenden dü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ük,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yükümlülüklerin ise beklenenin üzerind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gerçekl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htimalin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Vergi riski :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Vergi mevzuat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a ay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 veya Bankam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 bilonço pozisyonundan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o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bilecek resmi mercilerce talep edilebilecek ek vergi ve vergi cez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htimali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İtibar riski: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Faaliyetlerindeki b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lar ya da mevcut yasal düzenlemeler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uygu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avr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mam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neticesinde bankaya duyulan güvenin azalm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veya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tib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 zedelenmes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le ortaya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ç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abilecek kayb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Yasal risk ve yükümlülük riski: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ankam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ca taraf olunan sözl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elerde eksik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yada hata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,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yetersiz hükümler ve uygulama usulleri bulunm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nedeniyle k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arafa yasal olara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yapt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da bulunulamam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veya üçüncü k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lerin Bankam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a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olan taleplerinde yeterli yasal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ayan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 bulunamaması nedeniyle zarara uğrama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htimalin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7EEBC-E73A-49C4-85C0-BEBB0EDE1A80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28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Güvenlik riski :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azaen veya k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bir eylem sonucu Bankam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 sahip olduğu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ilginin v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v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r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l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 gizlilik,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ütünlük ve do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uluk veya kull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l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 v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er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lebilirl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nin yitirilmesin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apsayan bilgi sistemleri ve fizikse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güvenlik riski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7D733-9911-4253-8DC3-2C7DFEF26F6A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600200" y="2209680"/>
            <a:ext cx="5578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27160" y="1793880"/>
            <a:ext cx="588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133720" y="2270160"/>
            <a:ext cx="5105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3300"/>
                </a:solidFill>
                <a:latin typeface="Times New Roman"/>
              </a:rPr>
              <a:t>RİSK YÖNETİMİ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3300"/>
                </a:solidFill>
                <a:latin typeface="Times New Roman"/>
              </a:rPr>
              <a:t>TEMEL İLKEL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F0C04-12FD-40CB-83E2-F0D4F4C8A94D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819520" y="411480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00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1752480"/>
            <a:ext cx="5181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19320" y="1709640"/>
            <a:ext cx="7772400" cy="40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 u="sng">
                <a:solidFill>
                  <a:srgbClr val="ffffff"/>
                </a:solidFill>
                <a:uFillTx/>
                <a:latin typeface="Arial"/>
              </a:rPr>
              <a:t>KURUMU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Stratejis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Politikalar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Yönetim Kültürü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Tüm çalışanlarca bilinmeli ve benimsenmelidi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81080" y="0"/>
            <a:ext cx="510552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ÖNCELİK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94C3F-783A-4A92-8D5E-D60021918184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819520" y="411480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00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1295280"/>
            <a:ext cx="4038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3880" y="1752480"/>
            <a:ext cx="5181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38080" y="1701720"/>
            <a:ext cx="7772400" cy="33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400" spc="-1" strike="noStrike">
                <a:solidFill>
                  <a:srgbClr val="ffffff"/>
                </a:solidFill>
                <a:latin typeface="Arial"/>
              </a:rPr>
              <a:t>Yönetimin 1’nci sorumluluğu kurumun riskini yönetecek kişileri eğitmek, geliştirmek, yönlendirmek ve desteklemekti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0"/>
            <a:ext cx="510552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ÖNCELİK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8A6E8-B0AF-4CBE-A0C5-62459609633C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79246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Faaliyetlerin ayrılığı ilke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752480" y="3276720"/>
            <a:ext cx="4819680" cy="2476080"/>
            <a:chOff x="1752480" y="3276720"/>
            <a:chExt cx="4819680" cy="2476080"/>
          </a:xfrm>
        </p:grpSpPr>
        <p:sp>
          <p:nvSpPr>
            <p:cNvPr id="139" name=""/>
            <p:cNvSpPr/>
            <p:nvPr/>
          </p:nvSpPr>
          <p:spPr>
            <a:xfrm>
              <a:off x="2912400" y="3782160"/>
              <a:ext cx="2483640" cy="151776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752480" y="5247360"/>
              <a:ext cx="1427400" cy="5054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448440" y="3276720"/>
              <a:ext cx="1427400" cy="505440"/>
            </a:xfrm>
            <a:prstGeom prst="ellips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44760" y="5247360"/>
              <a:ext cx="1427400" cy="505440"/>
            </a:xfrm>
            <a:prstGeom prst="ellips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733920" y="327672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3300"/>
                </a:solidFill>
                <a:latin typeface="Times New Roman"/>
              </a:rPr>
              <a:t>Pazarlama / Haz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81080" y="533412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Operasy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410080" y="533412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3300"/>
                </a:solidFill>
                <a:latin typeface="Times New Roman"/>
              </a:rPr>
              <a:t>K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62320" y="0"/>
            <a:ext cx="434340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RİSK YÖNETİM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2841E-DA16-42AA-BDF4-A4BFF95EA22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914040" y="24382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Faaliyetlerin ayrılığı ilke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76520" y="3733920"/>
            <a:ext cx="1904760" cy="137160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Fiyatl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52880" y="3581280"/>
            <a:ext cx="2438640" cy="15242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Değerl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038480" y="449568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62320" y="0"/>
            <a:ext cx="434340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RİSK YÖNETİM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010E6-5126-459A-A1CD-70F4CDF1AD8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914040" y="1523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Faaliyetlerin ayrılığı ilke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76520" y="2666880"/>
            <a:ext cx="1904760" cy="137160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Ticari Portfö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952880" y="2514600"/>
            <a:ext cx="2438640" cy="15238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Yatırı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Portföy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038480" y="342900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4419360" y="3124080"/>
            <a:ext cx="15228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9480" y="4343400"/>
            <a:ext cx="7772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Times New Roman"/>
              </a:rPr>
              <a:t>Piyasa fiyatına göre değerleme  (MTM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362320" y="152280"/>
            <a:ext cx="434340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RİSK YÖNETİMİ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AD99E-64E9-48D1-B522-48A6A84B79B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819520" y="411480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00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66680" y="1295280"/>
            <a:ext cx="4038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523880" y="1752480"/>
            <a:ext cx="5181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1793880"/>
            <a:ext cx="7772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tr-TR" sz="3600" spc="-1" strike="noStrike">
                <a:solidFill>
                  <a:srgbClr val="ffffff"/>
                </a:solidFill>
                <a:latin typeface="Times New Roman"/>
              </a:rPr>
              <a:t>Müşteri segmentler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tr-TR" sz="3600" spc="-1" strike="noStrike">
                <a:solidFill>
                  <a:srgbClr val="ffffff"/>
                </a:solidFill>
                <a:latin typeface="Times New Roman"/>
              </a:rPr>
              <a:t>Sektörl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tr-TR" sz="3600" spc="-1" strike="noStrike">
                <a:solidFill>
                  <a:srgbClr val="ffffff"/>
                </a:solidFill>
                <a:latin typeface="Times New Roman"/>
              </a:rPr>
              <a:t>Bölgel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362320" y="228600"/>
            <a:ext cx="4343400" cy="13716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30492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RİSKİN </a:t>
            </a:r>
            <a:br>
              <a:rPr sz="4400"/>
            </a:b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DAĞITILMAS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5B35C-C118-41B1-BB36-6AFE655B62A8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819520" y="411480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00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66680" y="1295280"/>
            <a:ext cx="4038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23880" y="1752480"/>
            <a:ext cx="5181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362320"/>
            <a:ext cx="87631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fffff"/>
                </a:solidFill>
                <a:latin typeface="Arial"/>
              </a:rPr>
              <a:t>BANKAMIZIN HEDEF ve AMAÇLARINA ULAŞMASINI ETKİLEYEN HER TÜRLÜ UNSU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23880" y="457200"/>
            <a:ext cx="586764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81080" y="45720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Rİ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2CA63-BC1B-4191-B810-0769379EA18D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819520" y="411480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00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905120" y="2130480"/>
            <a:ext cx="777240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Kredi / Karşı taraf riskler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Ülke / Bölge / Sektör limitler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Gap Limitleri (Faiz riski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Likidite rasyo limitler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362320" y="304920"/>
            <a:ext cx="4343400" cy="129528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200" spc="-1" strike="noStrike">
                <a:solidFill>
                  <a:srgbClr val="ffffff"/>
                </a:solidFill>
                <a:latin typeface="Arial"/>
              </a:rPr>
              <a:t>RİSKİN 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200" spc="-1" strike="noStrike">
                <a:solidFill>
                  <a:srgbClr val="ffffff"/>
                </a:solidFill>
                <a:latin typeface="Arial"/>
              </a:rPr>
              <a:t>LİMİTLENMESİ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D06B8-9CF5-4F48-914B-D7A0EFBE6BF8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447920" y="304920"/>
            <a:ext cx="609588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819520" y="411480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00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295280"/>
            <a:ext cx="4038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3880" y="1752480"/>
            <a:ext cx="5181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676520" y="609480"/>
            <a:ext cx="7772400" cy="48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Tarif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Hedef müşter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Risk / kontrol noktalar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Risk / Getir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Operasyon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3600" spc="-1" strike="noStrike">
                <a:solidFill>
                  <a:srgbClr val="ffffff"/>
                </a:solidFill>
                <a:latin typeface="Arial"/>
              </a:rPr>
              <a:t>Muhasebes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48440" y="433440"/>
            <a:ext cx="5804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ÜRÜN EL KİTAPLAR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9DEE1-3858-4FA8-9AD1-5FE4F8D8FF66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819520" y="411480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00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066680" y="1295280"/>
            <a:ext cx="4038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23880" y="1752480"/>
            <a:ext cx="5181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4920" y="2046240"/>
            <a:ext cx="8534160" cy="40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tr-TR" sz="3400" spc="-1" strike="noStrike">
                <a:solidFill>
                  <a:srgbClr val="ffffff"/>
                </a:solidFill>
                <a:latin typeface="Times New Roman"/>
              </a:rPr>
              <a:t>DÜRÜSTLÜK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tr-TR" sz="3400" spc="-1" strike="noStrike">
                <a:solidFill>
                  <a:srgbClr val="ffffff"/>
                </a:solidFill>
                <a:latin typeface="Times New Roman"/>
              </a:rPr>
              <a:t>Aklımızı kullanarak hareket etmek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tr-TR" sz="3400" spc="-1" strike="noStrike">
                <a:solidFill>
                  <a:srgbClr val="ffffff"/>
                </a:solidFill>
                <a:latin typeface="Times New Roman"/>
              </a:rPr>
              <a:t>Risk alanların tecrübe ile gelişen yeteneği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523880" y="457200"/>
            <a:ext cx="586764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981080" y="45720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ÜÇ ANA UNSU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00A0E-DE29-4391-87D2-88A0257C858C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362320" y="152280"/>
            <a:ext cx="4343400" cy="16002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819160" y="456840"/>
            <a:ext cx="510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TEKNOLOJİK </a:t>
            </a:r>
            <a:br>
              <a:rPr sz="4400"/>
            </a:b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GELİŞMELER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90720" y="205704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Telefon             Teleks              Reu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Bilgisayar teknolojilerinin gelişmesi sonucu hesaplama          ve bilgiye ulaşma maliyetlerinin ucuzlamas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1978            $ 500        MI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2000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        ---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666880" y="2209680"/>
            <a:ext cx="457200" cy="152640"/>
          </a:xfrm>
          <a:prstGeom prst="rightArrow">
            <a:avLst>
              <a:gd name="adj1" fmla="val 50000"/>
              <a:gd name="adj2" fmla="val 748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2209680"/>
            <a:ext cx="457200" cy="152640"/>
          </a:xfrm>
          <a:prstGeom prst="rightArrow">
            <a:avLst>
              <a:gd name="adj1" fmla="val 50000"/>
              <a:gd name="adj2" fmla="val 748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DFB4C-8B28-4C30-8798-78611A2C736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762120" y="24382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1984  Reuters  Green Monitor   $ 500/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Daha fazla bilgi                          $  50/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2572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2572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362320" y="228600"/>
            <a:ext cx="4343400" cy="13716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905120" y="304920"/>
            <a:ext cx="5105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TEKNOLOJİK </a:t>
            </a:r>
            <a:br>
              <a:rPr sz="4400"/>
            </a:b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GELİŞME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BADCC-B1F6-43FD-BD99-9CA638138A8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1066680" y="19047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Internet/Intranet’in yayılmas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Riski oluşturan bilgilerin konsolidasyon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tr-TR" sz="2400" spc="-1" strike="noStrike">
                <a:solidFill>
                  <a:srgbClr val="ffffff"/>
                </a:solidFill>
                <a:latin typeface="Arial"/>
              </a:rPr>
              <a:t>İşlem datas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tr-TR" sz="2400" spc="-1" strike="noStrike">
                <a:solidFill>
                  <a:srgbClr val="ffffff"/>
                </a:solidFill>
                <a:latin typeface="Arial"/>
              </a:rPr>
              <a:t>Kur/faiz datas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tr-TR" sz="2400" spc="-1" strike="noStrike">
                <a:solidFill>
                  <a:srgbClr val="ffffff"/>
                </a:solidFill>
                <a:latin typeface="Arial"/>
              </a:rPr>
              <a:t>Diğer piyasa veriler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tr-TR" sz="2400" spc="-1" strike="noStrike">
                <a:solidFill>
                  <a:srgbClr val="ffffff"/>
                </a:solidFill>
                <a:latin typeface="Arial"/>
              </a:rPr>
              <a:t>Müşteri bilgiler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362320" y="228600"/>
            <a:ext cx="4343400" cy="129528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905120" y="304920"/>
            <a:ext cx="5105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TEKNOLOJİK </a:t>
            </a:r>
            <a:br>
              <a:rPr sz="4400"/>
            </a:b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GELİŞME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D6F5C-2C86-436A-95CC-F04DD6751E6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762120" y="259092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Aylık             Haftalık            Günlük           Real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676520" y="3124080"/>
            <a:ext cx="838080" cy="304920"/>
          </a:xfrm>
          <a:prstGeom prst="rightArrow">
            <a:avLst>
              <a:gd name="adj1" fmla="val 50000"/>
              <a:gd name="adj2" fmla="val 6871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733920" y="3124080"/>
            <a:ext cx="838080" cy="304920"/>
          </a:xfrm>
          <a:prstGeom prst="rightArrow">
            <a:avLst>
              <a:gd name="adj1" fmla="val 50000"/>
              <a:gd name="adj2" fmla="val 6871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715000" y="3124080"/>
            <a:ext cx="838080" cy="304920"/>
          </a:xfrm>
          <a:prstGeom prst="rightArrow">
            <a:avLst>
              <a:gd name="adj1" fmla="val 50000"/>
              <a:gd name="adj2" fmla="val 6871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362320" y="304920"/>
            <a:ext cx="4343400" cy="129528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905120" y="304920"/>
            <a:ext cx="5105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TEKNOLOJİK </a:t>
            </a:r>
            <a:br>
              <a:rPr sz="4400"/>
            </a:b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GELİŞME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3363F-6A63-461E-A113-546289AB368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1066680" y="22093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Para Piyasalar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Hazine bonosunun ilk defa repolanması (198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Banka bilançolarında yoğunlaş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400" spc="-1" strike="noStrike">
                <a:solidFill>
                  <a:srgbClr val="ff9900"/>
                </a:solidFill>
                <a:latin typeface="Arial"/>
              </a:rPr>
              <a:t>Hazine Bonos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400" spc="-1" strike="noStrike">
                <a:solidFill>
                  <a:srgbClr val="ff9900"/>
                </a:solidFill>
                <a:latin typeface="Arial"/>
              </a:rPr>
              <a:t>Eurob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Yabancı piyasaların ilgisi/etki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362320" y="304920"/>
            <a:ext cx="4343400" cy="121896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905120" y="304920"/>
            <a:ext cx="5105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TÜRKİY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PİYASAS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4FAF4-1485-41B2-AC1E-A10FC772427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609480" y="21333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Capital Accord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Ocak 199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Amendment to the Capital Accord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Nisan 199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Bankaların İç Denetim ve Risk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Yönetimi Sistemleri Hakkında Yönetmeli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Ocak 20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Bankaların Sermaye Yeterliliğinin Ölçülmes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ve Değerlendirilmesine İlişkin Yönetmeli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Ocak 2002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057400" y="152280"/>
            <a:ext cx="4800600" cy="13716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05120" y="304920"/>
            <a:ext cx="5105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KANUN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DÜZENLEME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BDC99-7443-4148-81DB-3ED6559C077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2819520" y="411480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00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066680" y="1295280"/>
            <a:ext cx="4038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23880" y="1752480"/>
            <a:ext cx="5181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80880" y="1432080"/>
            <a:ext cx="8610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BDDK tarafından yayımlanan 8 Şubat 2001 tarihli “Bankaların İç Denetim ve Risk  Yönetimi Sistemleri Hakkındaki Yönetmelik Bankalarda aşağıda belirtilen alanlarda değişiklik yaratmışt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09680" y="3476520"/>
            <a:ext cx="4953240" cy="18288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BANKA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127160" y="3338640"/>
            <a:ext cx="207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Arial"/>
              </a:rPr>
              <a:t>Yönetim Kuruluna İlave Sorumlulu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0880" y="4267080"/>
            <a:ext cx="2073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Arial"/>
              </a:rPr>
              <a:t>Kuvvetler Ayrılığı İlkesinin Daha Etkin Uygulanmas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447920" y="5334120"/>
            <a:ext cx="207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Arial"/>
              </a:rPr>
              <a:t>Sermaye Yeterliliği Hesaplamas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5410080"/>
            <a:ext cx="207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Arial"/>
              </a:rPr>
              <a:t>Piyasa ve Kredi Riski Yönetim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36840" y="2895480"/>
            <a:ext cx="207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Arial"/>
              </a:rPr>
              <a:t>Organizasyon Yapısında Değişikli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546880" y="2971800"/>
            <a:ext cx="207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Arial"/>
              </a:rPr>
              <a:t>Daha Etkin İç Kontrol Sistem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010280" y="3733920"/>
            <a:ext cx="1752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Arial"/>
              </a:rPr>
              <a:t>İlave Raporlama ve Bildirim Yükümlülüğ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553080" y="49338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Arial"/>
              </a:rPr>
              <a:t>Banka Risklilik Düzeyinin Belirlenmesi, Bankanın Temel İşlevsel Faaliyet Alanlarının Özel Kontrol Ve İncelemele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0"/>
            <a:ext cx="586728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057400" y="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BDDK TALEPLER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9BECC-BBF4-4AE0-8955-F0D44624CFC2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2743200"/>
            <a:ext cx="1904760" cy="18288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Müşteril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veri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hizm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81280" y="2743200"/>
            <a:ext cx="1981440" cy="1828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Yöneti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8120" y="327672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15000" y="327672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248520" y="2743200"/>
            <a:ext cx="2133360" cy="175248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Başarılı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Bankacılı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23880" y="457200"/>
            <a:ext cx="586764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45720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RİSK YÖNETİM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0E57B-1F7D-4A5B-8AE3-D4578C3F54F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3808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Risk politikalarının oluşturulmas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Faaliyetlerin risklilik düzeyinin değerlendirilmes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Acil ve beklenmedik durum planı uygulamas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Piyasa riskinini ölçülmesi (Standart metod yada VaR) (1.1.200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Banka iştiraklerinin risk yönetiminde dikkate alınması (1.7.200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QIS-TR  (28.02.2004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905120" y="228600"/>
            <a:ext cx="586728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362320" y="228600"/>
            <a:ext cx="5105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BDDK TALEPLER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CAE88-EA2A-4651-A896-CF834AB555A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685800" y="2666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Hazine  pozisyonlarından (trading book) bir günlük elde tutma süresi ve belli bir güven aralığında - %99 – olasılıkla kaybedilecek en yüksek tutar (TL veya USD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209680" y="457200"/>
            <a:ext cx="434340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752480" y="45720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V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CEE5D-F97F-4200-B396-90D5D8A962E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13716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Risk Yönetim Arac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Banka Yönetimini, Resmi Otoriteyi ve Piyasayı Bilgilendir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Sermaye Yeterliliği Hesaplamas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Performans Ölçü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Limit Tahsis / İzle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209680" y="457200"/>
            <a:ext cx="434340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752480" y="45720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V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60136-5016-4997-897B-B211F542FD9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1143000" y="205704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Varsayımsal veya gerçekleşmiş olayla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      – 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olağanüstü fiyat değişiklikler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Banka portföyüne uygun senaryol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Deprem - Kasım - Şubat - Irak krizler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Olay ve parametre seçim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Öngörü ve tecrüb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209680" y="304920"/>
            <a:ext cx="4876920" cy="13716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209680" y="304920"/>
            <a:ext cx="5029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Stres Testi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Senaryo Analiz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D8DE6-DD5D-4C52-B737-4FE33712CEB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1447560" y="25146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Faiz oranlarına paralel-non paralel şokl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Kur şoklar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Durasyon – gap analizler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209680" y="228600"/>
            <a:ext cx="4343400" cy="129528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09680" y="304920"/>
            <a:ext cx="434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DUYARLILIK  DURASY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E7D4C-2123-48DA-A64D-37B8AEA258A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380880" y="21333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Risk iştah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Risk politikalar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cc66"/>
                </a:solidFill>
                <a:latin typeface="Arial"/>
              </a:rPr>
              <a:t>İhtiyaçlar önceden tespit edilmel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Kritik nokta/seviy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Kritik ürün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4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Bilanço hassasiye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209680" y="380880"/>
            <a:ext cx="4343400" cy="129564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752480" y="45720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TAVSİYE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ÖNCELİK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8D8D1-03E2-4019-91D7-68A44E4980F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cc66"/>
                </a:solidFill>
                <a:latin typeface="Arial"/>
              </a:rPr>
              <a:t>İnsana yatırım önceliğ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7161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600" spc="-1" strike="noStrike">
                <a:solidFill>
                  <a:srgbClr val="ffffff"/>
                </a:solidFill>
                <a:latin typeface="Arial"/>
              </a:rPr>
              <a:t>Bilinçlendirm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17161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600" spc="-1" strike="noStrike">
                <a:solidFill>
                  <a:srgbClr val="ffffff"/>
                </a:solidFill>
                <a:latin typeface="Arial"/>
              </a:rPr>
              <a:t>Eğiti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209680" y="380880"/>
            <a:ext cx="4343400" cy="121932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52480" y="45720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TAVSİYE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ÖNCELİK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AC9F7-8926-4B09-A961-DE3444208C8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1218960" y="22860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cc66"/>
                </a:solidFill>
                <a:latin typeface="Arial"/>
              </a:rPr>
              <a:t>Bilgi İşlem Altyapıs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Detaylı Anali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ffffff"/>
                </a:solidFill>
                <a:latin typeface="Arial"/>
              </a:rPr>
              <a:t>Risk Yönetimi          Hazırlık          Data toplam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581280" y="4191120"/>
            <a:ext cx="533520" cy="152280"/>
          </a:xfrm>
          <a:prstGeom prst="rightArrow">
            <a:avLst>
              <a:gd name="adj1" fmla="val 50000"/>
              <a:gd name="adj2" fmla="val 8758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209680" y="380880"/>
            <a:ext cx="4343400" cy="129564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752480" y="45720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TAVSİYE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ÖNCELİK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334120" y="4191120"/>
            <a:ext cx="533160" cy="152280"/>
          </a:xfrm>
          <a:prstGeom prst="rightArrow">
            <a:avLst>
              <a:gd name="adj1" fmla="val 50000"/>
              <a:gd name="adj2" fmla="val 8753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884D7-28FD-45C5-AF32-3F48F34E577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990720" y="25146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Lokal destek sağlanmal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Türk piyasalarının özelliklerine (Volatilite, veri eksikliği v.b.) uygun sentezl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Know-how kurum içinde içselleştirilmel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209680" y="380880"/>
            <a:ext cx="4343400" cy="129564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52480" y="45720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TAVSİYE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ÖNCELİK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0BFDC-0777-4608-9C6B-6230655EA0C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1447920" y="2286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Arial"/>
              </a:rPr>
              <a:t>Risk Yöneticisinin rolü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ffffff"/>
                </a:solidFill>
                <a:latin typeface="Arial"/>
              </a:rPr>
              <a:t>İcraya karışacak mı 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ffffff"/>
                </a:solidFill>
                <a:latin typeface="Arial"/>
              </a:rPr>
              <a:t>Sadece karar desteği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ffffff"/>
                </a:solidFill>
                <a:latin typeface="Arial"/>
              </a:rPr>
              <a:t>Yurtdışı örnekl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ffffff"/>
                </a:solidFill>
                <a:latin typeface="Arial"/>
              </a:rPr>
              <a:t>BDD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209680" y="380880"/>
            <a:ext cx="4343400" cy="13716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752480" y="45720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TAVSİYE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ÖNCELİKL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3CBD5-3165-482A-BE24-DBECEB2E4D5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YK, kurumlarında etkin bir Risk Yönetimi olduğundan emin olmak is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9900"/>
                </a:solidFill>
                <a:latin typeface="Arial"/>
              </a:rPr>
              <a:t>NEDEN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Kurumlar değişir (kişiler ve yapı olarak) bu değişim geleneksel kontrollerin değişmesine genellikle atlanmasına sebep olu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Yeni teknoloji beraberinde yeni riskler getiri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İşlemler giderek daha karmaşık yapılar içerir     (türev ürünler, structur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Kasıtlı hata veya ihmal bir çok kurum için hala problem teşkil ediy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Stratejik hata maliyetleri arttırı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Kontrol aksaklıkları kurumu önemli derecede etki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23880" y="380880"/>
            <a:ext cx="640080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52480" y="380880"/>
            <a:ext cx="6019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YK – RY BAKIŞ AÇIS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65F03-B448-4579-8C93-F92C2B7D75F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11430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Risk Yönetiminin önemi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9900"/>
                </a:solidFill>
                <a:latin typeface="Arial"/>
              </a:rPr>
              <a:t>Üst Yönetimin bilgilendirilmesi/bilinçlendirilmes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Standart Meto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9900"/>
                </a:solidFill>
                <a:latin typeface="Arial"/>
              </a:rPr>
              <a:t>Yeterli mi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9900"/>
                </a:solidFill>
                <a:latin typeface="Arial"/>
              </a:rPr>
              <a:t>Doğru data (Garbage in / Garbage Ou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Doğru çözüm her zaman pahalı değildi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Black Box çözüm yokt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Bu bir yaşam biçimidi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90920" y="609480"/>
            <a:ext cx="434340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209680" y="60948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SONU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247200" y="5867280"/>
            <a:ext cx="291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SEL II YAKI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ECDFE-CB15-4A66-94F0-3ECE66CDD23C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218960" y="28195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3300"/>
                </a:solidFill>
                <a:latin typeface="Arial"/>
              </a:rPr>
              <a:t>1994 Orange County  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Structured Securities  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$1.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3300"/>
                </a:solidFill>
                <a:latin typeface="Arial"/>
              </a:rPr>
              <a:t>1995 Barings</a:t>
            </a:r>
            <a:r>
              <a:rPr b="0" lang="tr-TR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Nikkei  Futures 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$ 1.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3300"/>
                </a:solidFill>
                <a:latin typeface="Arial"/>
              </a:rPr>
              <a:t>1996 Sumitomo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          Yetkisiz Pozisyon 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$ 2.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ff3300"/>
                </a:solidFill>
                <a:latin typeface="Arial"/>
              </a:rPr>
              <a:t>2002 Allied Irish </a:t>
            </a:r>
            <a:r>
              <a:rPr b="0" lang="tr-TR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 Currency Options 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$ 0.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457200"/>
            <a:ext cx="5181480" cy="1143000"/>
          </a:xfrm>
          <a:prstGeom prst="rect">
            <a:avLst/>
          </a:prstGeom>
          <a:gradFill rotWithShape="0">
            <a:gsLst>
              <a:gs pos="0">
                <a:srgbClr val="650000"/>
              </a:gs>
              <a:gs pos="50000">
                <a:srgbClr val="ff0000"/>
              </a:gs>
              <a:gs pos="100000">
                <a:srgbClr val="6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828800" y="380880"/>
            <a:ext cx="5410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rial"/>
              </a:rPr>
              <a:t>BÜYÜK KAYIPL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9F6EC-8932-424C-9439-064CE64D3A9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600200" y="2209680"/>
            <a:ext cx="5578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27160" y="1793880"/>
            <a:ext cx="588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91120" y="2511360"/>
            <a:ext cx="6180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3300"/>
                </a:solidFill>
                <a:latin typeface="Arial"/>
              </a:rPr>
              <a:t>RİSK YÖNETİMİ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3300"/>
                </a:solidFill>
                <a:latin typeface="Arial"/>
              </a:rPr>
              <a:t>TEMEL RİSK TANIMLAR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4FCC2-7385-42F2-B2A8-DEDBDAA42BD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60948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Strateji riski</a:t>
            </a:r>
            <a:r>
              <a:rPr b="0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: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 Seçilen uygulama ve kararlara b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olarak, 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olu v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d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tri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genelinde meydana gelen dönemsel d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mler veya teknoloji d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mle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eticesind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ortaya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ç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abilece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arara u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ama ihtimalin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Kredi riski</a:t>
            </a:r>
            <a:r>
              <a:rPr b="0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: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anka mü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erisinin yap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an sözl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e gereklerine uymayarak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yükümlülü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ünü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men veya tamamen zam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da yerine getirememesinden dolay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ank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 k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tığ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durumu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Sistemik risk: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Finansal sistemdeki kurulu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ardan kaynaklanabilece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ödem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istemlerine il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in olu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bilecek aksak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lar v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bu aksaklıkların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finansal sistemi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stikr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üzerindeki etkilerinden kaynaklanan zarara u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ama ihtimalin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Ülke riski: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Uluslarar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kredi 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emlerinde, krediyi alan k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 ya da kurulu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un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faaliyette bulunduğu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ülkenin ekonomik, sosyal v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politik yap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nedeniyl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yükümlülü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ün 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men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veya tamame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am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da yerine getirilememesi ihtimalin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D0AB1-FCF4-4242-9598-7D554A12E0C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533520"/>
            <a:ext cx="914400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İş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lemin sonuçland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ı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r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ı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lamamas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ı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 riski</a:t>
            </a:r>
            <a:r>
              <a:rPr b="0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: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ank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 k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taraftan, umulan süred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em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onu finansal arac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yada fonu (nakdi) teslim alamam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, eld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edememesi durumunu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İş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lemin sonuçland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ı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r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ı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lma öncesi olu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ş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an risk: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İş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emi yapan taraflardan birinin,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emi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üresi 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ç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nde, sözl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edeki yükümlülü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ünü yerine getiremeyec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nin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nl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d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ğı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urumu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Transfer riski: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Krediyi alan kişi ya da kurulu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un bulundu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u ülkenin ekonomi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urumu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ve mevzuat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nedeniyle döviz borcunun ay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türde veya konvertib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er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ir döviz ile ger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ödenememe ihtimalin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Faiz oran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ı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 riski: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Faiz oranlarındaki hareketler nedeniyle bank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 pozisyon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urumun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olarak maruz kalabilec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 zarar ihtimalin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C8541-8E6C-4763-8402-EF76F01CE01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55548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Likidite riski: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Bank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 nakit a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ş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daki dengesizlik sonucunda nakit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çıkı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tam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olara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ve zam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da k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ayacak düzeyde ve nitelikte nakit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m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evcudun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veya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akit gir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ne sahip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ulunmam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Piyasaya ili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ş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kin likidite riski:</a:t>
            </a:r>
            <a:r>
              <a:rPr b="1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ank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 piyasaya gerekt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 gibi girememesi, baz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ünlerdeki 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piyasa yap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ve piyasalard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olu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engeller ve bölünmeler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edeniyl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ozisyonl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uygun bir fiyatta, yeterli tutarlarda ve h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olarak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apatamam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veya pozisyonlardan çıkamamas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durumunda ortaya ç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an zarar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htimalin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Fonlamaya ili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</a:rPr>
              <a:t>ş</a:t>
            </a: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kin likidite riski: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Nakit gir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ve ç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daki düzensizlikler v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vadey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nakit ak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uyumsuzlukla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nedeniyl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fonlama yükümlülü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ünü makul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bir maliyet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le potansiyel olarak yerine getirememe ihtimalin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Piyasa riski</a:t>
            </a:r>
            <a:r>
              <a:rPr b="0" lang="tr-TR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: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Bilanço içi ve bilanço d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ş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hesaplarda bankalarca tutulan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pozisyonlarda finansal piyasadak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algalanmalardan kaynaklan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faiz, kur ve hiss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enedi fiyat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elerine ba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ğ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olarak ortaya ç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an faiz ora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ı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iski, hiss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enedi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pozisyon riski ve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ur riski gibi riskler nedeniyle zarar etme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htimalin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B06C8-5FF0-4E0F-AEC0-269504F8409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9T19:07:35Z</dcterms:created>
  <dc:creator>Robert Fleming &amp; Co Limited</dc:creator>
  <dc:description/>
  <dc:language>en-US</dc:language>
  <cp:lastModifiedBy>krandaa</cp:lastModifiedBy>
  <cp:lastPrinted>2000-01-26T21:41:00Z</cp:lastPrinted>
  <dcterms:modified xsi:type="dcterms:W3CDTF">2004-04-26T14:07:19Z</dcterms:modified>
  <cp:revision>438</cp:revision>
  <dc:subject/>
  <dc:title>No Slide Title</dc:title>
</cp:coreProperties>
</file>