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540F-A20C-4C69-ABD7-BE0E0BA84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FCD2-C20A-446F-ABBE-64DB167F0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DDFC-DAC0-43AE-A559-653DC9B4A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47E5-9300-40C6-B867-E296EB557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D889-366C-420A-AFEE-E56D34E4B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5DE1-A203-48C7-A1C8-E32DAC781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6095-4470-48FE-9AFD-9C9A98996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0991-C035-4958-B6D2-73F98C012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D803-0440-4B98-B97A-466F520E6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DB12-650F-458E-9854-359574649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8FA1-0F8E-4A13-8633-BAE81E7F4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DD52-CE33-4FD1-A4D2-788D55B19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D195-DB41-4B29-8E00-64BC4A5789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FT 6  - 28 JAN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59080"/>
            <a:ext cx="84582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İSMAİL YA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TEB YÖNETİM KURULU ÜYES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yanik@teb.com.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819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13 NİSA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66FB-3CCB-4426-9043-F3B47C43664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syonel risk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içi kontrollerdeki aksamalar sonucu hat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ulsüzlükler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zden 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yönetimi ve personel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 ve k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lara 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reket edilememesinden, ban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önetimindek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ardan, bilgi teknoloji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deki hata ve aks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deprem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, sel gibi felaketler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 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üreçlerinde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hata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sonuna -de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ilmesin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ihai ta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ç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- kadar her 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çt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, noksan veya kaç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cu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 risk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Bilgi sistemlerinde hata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eknoloji veya 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 seçimi , siste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me ve uygulam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hardware, software, networ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yüz uygul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ş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t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za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nsandan kaynaklanan riskler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, personel suistimali, personel hat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kisiz faaliyet, onay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 ve personel yetersiz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veya kil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el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cak zarar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o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l afet ve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dı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faktörlerden kaynaklanan riskler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prem, 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,sel gib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fetler ile ile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, u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ım ve enerji alt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an sorunl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zarar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u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4247-5CB2-45EF-A00F-FDC3338256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üzenlemelere uyulmam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Mevzuat hükümlerine ve kanunlar ile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üzenleme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ümlülüklere,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iç mevzuat hükümlerine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abul görmü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allara uyu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onucu orta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resm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rciler 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verilen faiz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 cez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iş koluna getirilen yasak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amalar ile zorunlu düzeltme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iyeti nedeni ile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Mevzuata ilişkin yetersiz bilgi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tarafından yetersiz ya da yan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lgeye dayanarak yapılabilecek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 neticesinde ha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klenenden d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klerin ise beklenenin üzer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Vergi riski 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rgi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ay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ya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bilonço pozisyonund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resmi mercilerce talep edilebilecek ek vergi ve vergi cez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tiba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aliyetlerindeki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ya da mevcut yasal düzenlemeler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v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ticesinde bankaya duyulan güvenin aza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tib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zedelenme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Yasal risk ve yükümlülük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ca taraf olun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de eksi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da 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ersiz hükümler ve uygulama usulleri bulun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a yasal 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p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da bulunu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üçüncü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rin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n taleplerinde yeterli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ya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bulunamaması nedeniyle zarara uğ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8693-CF40-450A-B6E7-19D44C61FB3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Güvenlik riski 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zaen veya 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r eylem sonucu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sahip olduğ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nin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gizlili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ütünlük ve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uluk veya kul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l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bilir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yitirilmes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sayan bilgi sistemleri ve fizikse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üvenlik riski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D5A8A-AF18-4DBD-ABCC-8F74C2229C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7016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TEMEL İLKE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8E4A-608E-47C7-8952-42D3C52FEC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709640"/>
            <a:ext cx="7772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KURUM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trateji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Politik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Yönetim Kültür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üm çalışanlarca bilinmeli ve benimsenmeli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615A-855B-445E-B6B8-7855B0465CE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0172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ffffff"/>
                </a:solidFill>
                <a:latin typeface="Arial"/>
              </a:rPr>
              <a:t>Yönetimin 1’nci sorumluluğu kurumun riskini yönetecek kişileri eğitmek, geliştirmek, yönlendirmek ve desteklemekt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06EB-952F-416E-8E07-0B35B321BE6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3276720"/>
            <a:ext cx="4819680" cy="2476080"/>
            <a:chOff x="1752480" y="3276720"/>
            <a:chExt cx="4819680" cy="2476080"/>
          </a:xfrm>
        </p:grpSpPr>
        <p:sp>
          <p:nvSpPr>
            <p:cNvPr id="139" name=""/>
            <p:cNvSpPr/>
            <p:nvPr/>
          </p:nvSpPr>
          <p:spPr>
            <a:xfrm>
              <a:off x="2912400" y="3782160"/>
              <a:ext cx="2483640" cy="15177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247360"/>
              <a:ext cx="1427400" cy="505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8440" y="3276720"/>
              <a:ext cx="1427400" cy="5054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4760" y="5247360"/>
              <a:ext cx="1427400" cy="5054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76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Pazarlama / Haz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3341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Operas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334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K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86EEE-899F-4EC7-8419-9AE767403F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73392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yat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581280"/>
            <a:ext cx="2438640" cy="1524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er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A8BCB-A135-4958-95E7-89E1149570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66688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icari Portfö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514600"/>
            <a:ext cx="24386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atır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ortföy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429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19360" y="31240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343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Piyasa fiyatına göre değerleme  (M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522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C29F-B283-4C8B-ADF2-277D369F1F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1793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Müşteri segmen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Sektör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Bölge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İN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AĞITILM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085E-A5F9-4394-8A22-A73B12F995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ANKAMIZIN HEDEF ve AMAÇLARINA ULAŞMASINI ETKİLEYEN HER TÜRLÜ UN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741F-F0BA-4BF1-946F-CD5034905A3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130480"/>
            <a:ext cx="77724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redi / Karşı taraf risk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Ülke / Bölge / Sektör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Gap Limitleri (Faiz ri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Likidite rasyo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RİSKİN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LİMİTLENMES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35B8-0E7C-4B9E-8D7E-AAD09C20B45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04920"/>
            <a:ext cx="60958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609480"/>
            <a:ext cx="77724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ari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Hedef müşt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kontrol nokt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Geti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Operasy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Muhaseb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8440" y="43344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RÜN EL KİTAP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951A-A55F-4357-9A75-FE0FB1FDD6D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46240"/>
            <a:ext cx="853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DÜRÜSTLÜ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Aklımızı kullanarak hareket etm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Risk alanların tecrübe ile gelişen yeteneğ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Ç ANA UNS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B0CDC-FB28-4CF6-A668-36FDE19D3ED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152280"/>
            <a:ext cx="4343400" cy="16002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elefon             Teleks              Re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lgisayar teknolojilerinin gelişmesi sonucu hesaplama          ve bilgiye ulaşma maliyetlerinin ucuz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78            $ 500        M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---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076B-464F-47DA-919D-43747FFBAF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84  Reuters  Green Monitor   $ 50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ha fazla bilgi                          $  5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BFEA-657F-4919-A48C-17A439A664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nternet/Intranet’in yayı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i oluşturan bilgilerin konsolidasy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İşlem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Kur/faiz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Diğer piyasa ver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Müşteri bilg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8567-0DE7-4853-AA47-408CF6B465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ylık             Haftalık            Günlük          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824D-FBCC-4114-8210-58B3BAB854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ra Piyasa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azine bonosunun ilk defa repolanması (19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bilançolarında yoğunlaş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Hazine Bo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Euro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abancı piyasaların ilgisi/etk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04920"/>
            <a:ext cx="4343400" cy="121896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ÜRKİ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PİYA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903B-C128-4258-98D6-F3DD26586A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mendment to the 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Nisan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İç Denetim ve Ris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önetimi Sistemleri Hakkında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Sermaye Yeterliliğinin Ölçülmes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ve Değerlendirilmesine İlişkin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2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152280"/>
            <a:ext cx="48006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KANUN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ÜZENLE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6C12-350C-4DDB-A359-2D7AA71083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4320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DDK tarafından yayımlanan 8 Şubat 2001 tarihli “Bankaların İç Denetim ve Risk  Yönetimi Sistemleri Hakkındaki Yönetmelik Bankalarda aşağıda belirtilen alanlarda değişiklik yara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476520"/>
            <a:ext cx="4953240" cy="1828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386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Yönetim Kuruluna İlave Sorumlul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26708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Kuvvetler Ayrılığı İlkesinin Daha Etkin Uygula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410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Piyasa ve Kredi Riski Yöneti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6840" y="28954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rganizasyon Yapısında Değişik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880" y="297180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aha Etkin İç Kontrol Sist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733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İlave Raporlama ve Bildirim Yükümlülüğ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9338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Banka Risklilik Düzeyinin Belirlenmesi, Bankanın Temel İşlevsel Faaliyet Alanlarının Özel Kontrol Ve İncelemel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26C6-EDE2-46A8-A12C-4569FAB0B2F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743200"/>
            <a:ext cx="190476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üşteril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er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743200"/>
            <a:ext cx="19814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743200"/>
            <a:ext cx="2133360" cy="1752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arıl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nkacılı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F094-C2A7-40B8-8015-D4CD74A183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nın oluşturul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Faaliyetlerin risklilik düzeyinin değer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cil ve beklenmedik durum planı uygula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iyasa riskinini ölçülmesi (Standart metod yada VaR) (1.1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anka iştiraklerinin risk yönetiminde dikkate alınması (1.7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IS-TR  (28.02.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2860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2AC5-E9D6-4891-ADBC-AF01A044C6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azine  pozisyonlarından (trading book) bir günlük elde tutma süresi ve belli bir güven aralığında - %99 – olasılıkla kaybedilecek en yüksek tutar (TL veya US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75A1-8994-4A9B-AF4E-B1B704B9A3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 Yönetim Arac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Yönetimini, Resmi Otoriteyi ve Piyasayı Bilg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erformans Ölçü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imit Tahsis / İz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9B214-5E9A-4D7E-809E-5AA2D4F2FF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Varsayımsal veya gerçekleşmiş olay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ğanüstü fiyat değişiklik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portföyüne uygun senary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prem - Kasım - Şubat - Irak kr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y ve parametre seç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ngörü ve tecrü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04920"/>
            <a:ext cx="487692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tres Tes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enaryo Anal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934B-24BA-4C41-9C06-BF73ED9AC8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44756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iz oranlarına paralel-non paralel şok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 şok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urasyon – gap anal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049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UYARLILIK  DURAS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59DC-A760-4023-BE3C-E5BA0AE533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iştah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cc66"/>
                </a:solidFill>
                <a:latin typeface="Arial"/>
              </a:rPr>
              <a:t>İhtiyaçlar önceden tespit edilme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nokta/sevi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ürün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ilanço hassasiy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06DB-BCF9-4B29-8E54-A26DA4D841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İnsana yatırım önceliğ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Bilinçlendir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80880"/>
            <a:ext cx="4343400" cy="12193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2105-8612-468D-AA0F-D130B06614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Bilgi İşlem Altyapı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taylı Anal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Risk Yönetimi          Hazırlık          Data topl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DF28-C31F-4AB6-9FAA-F144A682A61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okal destek sağlanmal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ürk piyasalarının özelliklerine (Volatilite, veri eksikliği v.b.) uygun sentez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now-how kurum içinde içselleştirilm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C03F-42DF-4351-BCE0-68CB7A85DB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Risk Yöneticisinin rol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İcraya karışacak mı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Sadece karar desteğ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Yurtdışı örnek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BDD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8088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F5F0-75E9-4D46-9F82-5015BD1CE2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K, kurumlarında etkin bir Risk Yönetimi olduğundan emin olmak 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00"/>
                </a:solidFill>
                <a:latin typeface="Arial"/>
              </a:rPr>
              <a:t>NEDE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urumlar değişir (kişiler ve yapı olarak) bu değişim geleneksel kontrollerin değişmesine genellikle atlanmasına sebep ol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eni teknoloji beraberinde yeni riskler getir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emler giderek daha karmaşık yapılar içerir     (türev ürünler, stru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asıtlı hata veya ihmal bir çok kurum için hala problem teşkil ed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tratejik hata maliyetleri arttırı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ontrol aksaklıkları kurumu önemli derecede et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880"/>
            <a:ext cx="64008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YK – RY BAKIŞ AÇ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DD65-DC98-411D-BFED-F72151E618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Yönetiminin önem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Üst Yönetimin bilgilendirilmesi/bilinç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andart Met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Yeterli m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Doğru data (Garbage in /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ğru çözüm her zaman pahalı değil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lack Box çözüm yok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u bir yaşam biçimi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6094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60948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ONU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7200" y="58672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 II YAK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12A2-5C7F-4286-8785-0A03551202F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4 Orange County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ructured Securities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1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5 Barings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Nikkei  Future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6 Sumitomo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Yetkisiz Pozisyon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2002 Allied Irish 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Currency Option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"/>
            <a:ext cx="51814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808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ÜYÜK KAYIP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9533-52CE-46A2-92C5-2C5AD072C4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91120" y="2511360"/>
            <a:ext cx="618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TEMEL RİSK TANI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E644-5310-42AD-AB66-3252447D13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ratej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Seçilen uygulama ve kararlar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,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lu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r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linde meydana gelen dönemsel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 veya teknoloji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tices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red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m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isinin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gereklerine uymay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veya tamamen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ememesinden dol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tı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ik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deki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dan kaynaklan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e i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n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aksak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u aksaklıkları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ik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zerindeki etkilerinden kaynaklanan 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Ülk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de, krediyi alan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aliyette bulunduğ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lkenin ekonomik, sosyal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k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 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tamam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ilememesi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F07E-B993-4BD6-9F7C-389A2AD40B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53352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amamas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raftan, umulan süre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nu finansal ara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da fonu (nakdi) teslim a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el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dememesi durumun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ma öncesi olu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n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i yapan taraflardan birinin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s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e,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deki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yerine getiremey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nsfe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yi alan kiş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bulund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ülkenin ekonom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rum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döviz borcunun ay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ürde veya konvertib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döviz ile g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n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aiz oran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iz oranlarındaki hareketler nedeniyle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ozisyo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maruz kalabil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zarar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D7F15-8233-4242-9EEB-5B5F888EFDB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5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engesizlik sonucunda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çık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m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yacak düzeyde ve nitelikte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cud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 sahi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ulun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iyasaya gerek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gibi girememesi, ba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ünlerdeki 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iyasa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piyasalar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geller ve bölünmel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zisyon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gun bir fiyatta, yeterli tutarlarda ve 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at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pozisyonlardan çık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nda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zar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onlam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üzensizlikle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adey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umsuzlu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nlama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maku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maliye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potansiyel olarak yerine getir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lanço içi ve bilanço 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esaplarda bankalarca tutul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larda finansal piyasada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lgalanmalardan kaynaklan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iz, kur ve hiss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 fi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ine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faiz o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iski, hiss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 risk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 riski gibi riskler nedeniyle zarar et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4685-96CD-4070-8DE7-6D1BE4CAD34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9:07:35Z</dcterms:created>
  <dc:creator>Robert Fleming &amp; Co Limited</dc:creator>
  <dc:description/>
  <dc:language>en-US</dc:language>
  <cp:lastModifiedBy>krandaa</cp:lastModifiedBy>
  <cp:lastPrinted>2000-01-26T21:41:00Z</cp:lastPrinted>
  <dcterms:modified xsi:type="dcterms:W3CDTF">2004-04-26T14:07:19Z</dcterms:modified>
  <cp:revision>438</cp:revision>
  <dc:subject/>
  <dc:title>No Slide Title</dc:title>
</cp:coreProperties>
</file>