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14326-308B-42FE-9620-C819746E1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7DDAB-AA7E-41AC-A592-C3205C18D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76926-8F05-47C7-B034-3DBE82C179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93E2B-8511-4495-ADC3-C9B05AD24E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42682-5948-4660-87EC-494A0664FA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7033F-A00D-4368-92CA-E0302043A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5AA4D-FBBE-4FE1-8801-D25C361715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769FF-B058-4B38-96B0-17546EB885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E523D-76D0-4A79-A6F3-23DE3BF42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DE15F-1581-4432-886B-74AB42A232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6AB9D-0B9B-4DA8-BC6F-A737346AB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28D4D-15BE-4247-A889-700DE4462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C058-946D-4E4D-9529-A4CDEF5763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RAFT 6  - 28 JAN 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159080"/>
            <a:ext cx="84582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İSMAİL YANI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TEB YÖNETİM KURULU ÜYES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iyanik@teb.com.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28195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"/>
              </a:rPr>
              <a:t>13 NİSAN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43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CB02D-4DF1-4454-9F2D-1F1D90EE686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85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Operasyonel risk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anka içi kontrollerdeki aksamalar sonucu hata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sulsüzlükleri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özden k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,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 yönetimi ve personel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araf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man ve k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llara uygu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reket edilememesinden, bank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önetimindek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talardan, bilgi teknolojis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lerindeki hata ve aksam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 deprem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ang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, sel gibi felaketlerde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naklanabilecek ka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a d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rara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İş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üreçlerinde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hata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in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ng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 sonuna -de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rçek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irilmesinde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ihai tak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uçlan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- kadar her 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ma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üreçt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ta, noksan veya kaç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ucu o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ilecek ka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 riskin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Bilgi sistemlerinde hata 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t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eknoloji veya y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 seçimi , siste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irme ve uygulam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ç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hardware, software, network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yüz uygulam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baş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t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naklanabilecek zar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İnsandan kaynaklanan riskler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olan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, personel suistimali, personel hat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etkisiz faaliyet, onay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 ve personel yetersiz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veya kili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ersoneli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b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 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cak zarar ihtima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Do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al afet ve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dı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faktörlerden kaynaklanan riskler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prem, yang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,sel gib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fetler ile ilet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, ul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ım ve enerji alt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y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an sorunla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deniyle zarar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u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ihtima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D89B1-F7FE-4181-BE4E-755E5DFC3EA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28600"/>
            <a:ext cx="91440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Düzenlemelere uyulmama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Mevzuat hükümlerine ve kanunlar ile yasa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üzenleme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kümlülüklere,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 iç mevzuat hükümlerine 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luslarar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kabul görmü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urallara uyul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sonucu ortay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bilecek resm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rciler taraf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 verilen faiz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ödeme cez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iş koluna getirilen yasak 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lamalar ile zorunlu düzeltme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lerini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liyeti nedeni ile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b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Mevzuata ilişkin yetersiz bilgi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anka tarafından yetersiz ya da yan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asa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lgi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elgeye dayanarak yapılabilecek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ler neticesinde hak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eklenenden d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k,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ükümlülüklerin ise beklenenin üzerin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rçek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Vergi riski 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rgi mevzu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 ay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 veya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 bilonço pozisyonunda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ilecek resmi mercilerce talep edilebilecek ek vergi ve vergi cez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İtibar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Faaliyetlerindeki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lar ya da mevcut yasal düzenlemeler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ygu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vr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ticesinde bankaya duyulan güvenin azal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tib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zedelenmes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 orta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bilecek kayb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Yasal risk ve yükümlülük 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ca taraf olunan söz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lerde eksik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ada hat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etersiz hükümler ve uygulama usulleri bulun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arafa yasal olar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ap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da bulunul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ya üçüncü k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rin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lan taleplerinde yeterli yasa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yan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bulunamaması nedeniyle zarara uğram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762C9-8304-4A26-9F68-C88BCBC6EC4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Güvenlik riski :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zaen veya k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ir eylem sonucu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sahip olduğu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lginin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v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r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gizlilik,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ütünlük ve 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uluk veya kull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l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bilir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in yitirilmesin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psayan bilgi sistemleri ve fizikse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üvenlik riski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57485-130D-45C5-B6E3-F49C4FEF93D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00200" y="2209680"/>
            <a:ext cx="557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27160" y="179388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227016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Times New Roman"/>
              </a:rPr>
              <a:t>RİSK YÖNETİM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Times New Roman"/>
              </a:rPr>
              <a:t>TEMEL İLKE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A7903-9822-43C5-98C9-2B543851C94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1709640"/>
            <a:ext cx="77724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 u="sng">
                <a:solidFill>
                  <a:srgbClr val="ffffff"/>
                </a:solidFill>
                <a:uFillTx/>
                <a:latin typeface="Arial"/>
              </a:rPr>
              <a:t>KURUMU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Strateji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Politikalar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Yönetim Kültürü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Tüm çalışanlarca bilinmeli ve benimsenmelid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0"/>
            <a:ext cx="510552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C02D4-5E69-407F-97D0-567FE9E6916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701720"/>
            <a:ext cx="7772400" cy="33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ffffff"/>
                </a:solidFill>
                <a:latin typeface="Arial"/>
              </a:rPr>
              <a:t>Yönetimin 1’nci sorumluluğu kurumun riskini yönetecek kişileri eğitmek, geliştirmek, yönlendirmek ve desteklemekti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0"/>
            <a:ext cx="510552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32686-4824-4464-AC6D-9E37DBD776C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aliyetlerin ayrılığı ilk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52480" y="3276720"/>
            <a:ext cx="4819680" cy="2476080"/>
            <a:chOff x="1752480" y="3276720"/>
            <a:chExt cx="4819680" cy="2476080"/>
          </a:xfrm>
        </p:grpSpPr>
        <p:sp>
          <p:nvSpPr>
            <p:cNvPr id="139" name=""/>
            <p:cNvSpPr/>
            <p:nvPr/>
          </p:nvSpPr>
          <p:spPr>
            <a:xfrm>
              <a:off x="2912400" y="3782160"/>
              <a:ext cx="2483640" cy="151776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52480" y="5247360"/>
              <a:ext cx="1427400" cy="5054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48440" y="3276720"/>
              <a:ext cx="1427400" cy="5054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4760" y="5247360"/>
              <a:ext cx="1427400" cy="5054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733920" y="32767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3300"/>
                </a:solidFill>
                <a:latin typeface="Times New Roman"/>
              </a:rPr>
              <a:t>Pazarlama / Haz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53341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Operasy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10080" y="5334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3300"/>
                </a:solidFill>
                <a:latin typeface="Times New Roman"/>
              </a:rPr>
              <a:t>K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3FF13-C248-4321-9AB9-6F035251B9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14040" y="24382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aliyetlerin ayrılığı ilk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733920"/>
            <a:ext cx="1904760" cy="13716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Fiyat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3581280"/>
            <a:ext cx="2438640" cy="15242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Değerl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44956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0F0B9-6F7E-4B0E-A2E6-D89E1521E4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14040" y="1523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aliyetlerin ayrılığı ilk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2666880"/>
            <a:ext cx="1904760" cy="13716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icari Portfö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52880" y="2514600"/>
            <a:ext cx="2438640" cy="1523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Yatırı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Portföy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34290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419360" y="31240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43434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Piyasa fiyatına göre değerleme  (MT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15228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77D26-BB84-424B-A257-FB9548FA91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17938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Müşteri segment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Sektör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Bölge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228600"/>
            <a:ext cx="43434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304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İN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DAĞITILMA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650C6-DA31-4516-AA27-A2F8ACE06A2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362320"/>
            <a:ext cx="8763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BANKAMIZIN HEDEF ve AMAÇLARINA ULAŞMASINI ETKİLEYEN HER TÜRLÜ UNS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457200"/>
            <a:ext cx="586764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9E184-71EF-4630-9D48-55A9809420C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2130480"/>
            <a:ext cx="77724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Kredi / Karşı taraf risk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Ülke / Bölge / Sektör limit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Gap Limitleri (Faiz risk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Likidite rasyo limit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30492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ffffff"/>
                </a:solidFill>
                <a:latin typeface="Arial"/>
              </a:rPr>
              <a:t>RİSKİN 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ffffff"/>
                </a:solidFill>
                <a:latin typeface="Arial"/>
              </a:rPr>
              <a:t>LİMİTLENMES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D3D12-4C6D-456E-B087-F62AEA44DBA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47920" y="304920"/>
            <a:ext cx="60958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76520" y="609480"/>
            <a:ext cx="77724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Tarif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Hedef müşt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Risk / kontrol noktalar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Risk / Geti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Operasyo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Muhasebe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48440" y="433440"/>
            <a:ext cx="580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ÜRÜN EL KİTAPLA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DC642-1558-4C02-AB46-DC80A3D6AB0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2046240"/>
            <a:ext cx="853416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DÜRÜSTLÜ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Aklımızı kullanarak hareket etme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Risk alanların tecrübe ile gelişen yeteneğ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457200"/>
            <a:ext cx="586764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ÜÇ ANA UNS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F76E1-3F73-426B-9F23-0C60C011900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362320" y="152280"/>
            <a:ext cx="4343400" cy="16002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510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Telefon             Teleks              Reu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ilgisayar teknolojilerinin gelişmesi sonucu hesaplama          ve bilgiye ulaşma maliyetlerinin ucuzla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1978            $ 500        M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    ---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2209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2209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2DF94-459A-4FED-876F-FC974CB632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62120" y="2438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1984  Reuters  Green Monitor   $ 500/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aha fazla bilgi                          $  50/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257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257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228600"/>
            <a:ext cx="43434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46270-3A87-4AA6-ABE8-E1B832C8AC1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066680" y="19047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Internet/Intranet’in yayıl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Riski oluşturan bilgilerin konsolidasy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İşlem dat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Kur/faiz dat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Diğer piyasa veri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Müşteri bilgi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22860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F2A8D-01C7-4791-9D0C-01DDB8DFAC0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762120" y="25909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ylık             Haftalık            Günlük           Real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3124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3920" y="3124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3124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30492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1E85F-E5E9-4713-961C-6E0EE18D5A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66680" y="22093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Para Piyasalar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Hazine bonosunun ilk defa repolanması (198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 bilançolarında yoğunlaş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9900"/>
                </a:solidFill>
                <a:latin typeface="Arial"/>
              </a:rPr>
              <a:t>Hazine Bono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9900"/>
                </a:solidFill>
                <a:latin typeface="Arial"/>
              </a:rPr>
              <a:t>Eurob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Yabancı piyasaların ilgisi/etki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62320" y="304920"/>
            <a:ext cx="4343400" cy="121896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ÜRKİY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PİYASA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7C89D-7D60-4A1C-8E65-F6DB3CBE3FB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09480" y="21333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Capital Accor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Ocak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Amendment to the Capital Accor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Nisan 19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ankaların İç Denetim ve Ris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Yönetimi Sistemleri Hakkında Yönetmeli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Ocak 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ankaların Sermaye Yeterliliğinin Ölçülmes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ve Değerlendirilmesine İlişkin Yönetmeli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Ocak 2002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152280"/>
            <a:ext cx="48006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KANUN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DÜZENLE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7F6BD-7BDB-4357-9B63-80C5BB29B14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432080"/>
            <a:ext cx="861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DDK tarafından yayımlanan 8 Şubat 2001 tarihli “Bankaların İç Denetim ve Risk  Yönetimi Sistemleri Hakkındaki Yönetmelik Bankalarda aşağıda belirtilen alanlarda değişiklik yarat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476520"/>
            <a:ext cx="4953240" cy="18288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27160" y="333864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Yönetim Kuruluna İlave Sorumlulu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4267080"/>
            <a:ext cx="20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Kuvvetler Ayrılığı İlkesinin Daha Etkin Uygulanmas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533412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Sermaye Yeterliliği Hesaplamas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541008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Piyasa ve Kredi Riski Yöneti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36840" y="289548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Organizasyon Yapısında Değişikl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46880" y="297180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Daha Etkin İç Kontrol Sist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10280" y="3733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İlave Raporlama ve Bildirim Yükümlülüğ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9338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Banka Risklilik Düzeyinin Belirlenmesi, Bankanın Temel İşlevsel Faaliyet Alanlarının Özel Kontrol Ve İncelemel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0"/>
            <a:ext cx="58672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BDDK TALEPLER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DBE96-A9BC-4E88-A302-AF066E137C8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2743200"/>
            <a:ext cx="1904760" cy="1828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üşteril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veri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iz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2743200"/>
            <a:ext cx="198144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öneti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32767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32767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2743200"/>
            <a:ext cx="2133360" cy="17524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şarıl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nkacılı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457200"/>
            <a:ext cx="586764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8CDE8-8DDF-4EBE-BC18-E4DA931D19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politikalarının oluşturulmas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Faaliyetlerin risklilik düzeyinin değerlendirilme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Acil ve beklenmedik durum planı uygulamas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Piyasa riskinini ölçülmesi (Standart metod yada VaR) (1.1.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anka iştiraklerinin risk yönetiminde dikkate alınması (1.7.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QIS-TR  (28.02.200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228600"/>
            <a:ext cx="58672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22860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BDDK TALEPLER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6803D-B5FE-4FC3-B0CD-C7F97575C74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Hazine  pozisyonlarından (trading book) bir günlük elde tutma süresi ve belli bir güven aralığında - %99 – olasılıkla kaybedilecek en yüksek tutar (TL veya USD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09680" y="45720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603B3-14CA-444D-B0FF-9B2D8B5C80D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3716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Risk Yönetim Arac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 Yönetimini, Resmi Otoriteyi ve Piyasayı Bilgi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Sermaye Yeterliliği Hesapla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Performans Ölçü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Limit Tahsis / İzl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45720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D4145-2911-475A-9442-71CC2B6C89D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Varsayımsal veya gerçekleşmiş olay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  –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olağanüstü fiyat değişiklik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 portföyüne uygun senaryo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eprem - Kasım - Şubat - Irak kriz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Olay ve parametre seçi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Öngörü ve tecrü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09680" y="304920"/>
            <a:ext cx="487692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9680" y="30492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Stres Test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Senaryo Analiz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D0FF6-94CD-44E0-B4DF-3D72CFE5B6B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447560" y="2514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iz oranlarına paralel-non paralel şok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ur şoklar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urasyon – gap analiz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22860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30492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DUYARLILIK  DURASY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AB068-D37F-49A5-9E95-620DDC2EE95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80880" y="21333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iştah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politikalar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cc66"/>
                </a:solidFill>
                <a:latin typeface="Arial"/>
              </a:rPr>
              <a:t>İhtiyaçlar önceden tespit edilme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Kritik nokta/seviy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Kritik ürün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ilanço hassasiye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09680" y="380880"/>
            <a:ext cx="4343400" cy="129564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1FB57-E443-4322-BB32-028FA274991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cc66"/>
                </a:solidFill>
                <a:latin typeface="Arial"/>
              </a:rPr>
              <a:t>İnsana yatırım önceliğ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161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Bilinçlendir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7161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Eğiti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09680" y="380880"/>
            <a:ext cx="4343400" cy="121932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BAA44-7E51-4855-9127-531DE0C8E50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21896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cc66"/>
                </a:solidFill>
                <a:latin typeface="Arial"/>
              </a:rPr>
              <a:t>Bilgi İşlem Altyapı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etaylı Anal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Risk Yönetimi          Hazırlık          Data topla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41911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380880"/>
            <a:ext cx="4343400" cy="129564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4191120"/>
            <a:ext cx="533160" cy="152280"/>
          </a:xfrm>
          <a:prstGeom prst="rightArrow">
            <a:avLst>
              <a:gd name="adj1" fmla="val 50000"/>
              <a:gd name="adj2" fmla="val 87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3A9A9-D7C8-450D-B827-6C804628E1B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990720" y="2514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Lokal destek sağlanmal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Türk piyasalarının özelliklerine (Volatilite, veri eksikliği v.b.) uygun sentez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now-how kurum içinde içselleştirilme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80880"/>
            <a:ext cx="4343400" cy="129564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593D5-56A9-4C6D-A9C0-29AEF78F9FF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44792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Risk Yöneticisinin rol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İcraya karışacak mı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Sadece karar desteğ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Yurtdışı örnekl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BDD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09680" y="380880"/>
            <a:ext cx="43434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61339-1FE7-4825-8F61-997C6020781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YK, kurumlarında etkin bir Risk Yönetimi olduğundan emin olmak i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9900"/>
                </a:solidFill>
                <a:latin typeface="Arial"/>
              </a:rPr>
              <a:t>NEDEN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urumlar değişir (kişiler ve yapı olarak) bu değişim geleneksel kontrollerin değişmesine genellikle atlanmasına sebep olu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Yeni teknoloji beraberinde yeni riskler getir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şlemler giderek daha karmaşık yapılar içerir     (türev ürünler, structu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asıtlı hata veya ihmal bir çok kurum için hala problem teşkil ediy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Stratejik hata maliyetleri arttırı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ontrol aksaklıkları kurumu önemli derecede etki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380880"/>
            <a:ext cx="64008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8088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YK – RY BAKIŞ AÇI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F02CA-A58B-496E-AC8F-8EBC383CF7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Yönetiminin önemi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9900"/>
                </a:solidFill>
                <a:latin typeface="Arial"/>
              </a:rPr>
              <a:t>Üst Yönetimin bilgilendirilmesi/bilinçlendirilme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Standart Meto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9900"/>
                </a:solidFill>
                <a:latin typeface="Arial"/>
              </a:rPr>
              <a:t>Yeterli m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9900"/>
                </a:solidFill>
                <a:latin typeface="Arial"/>
              </a:rPr>
              <a:t>Doğru data (Garbage in / Garbage Ou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Doğru çözüm her zaman pahalı değild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lack Box çözüm yokt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u bir yaşam biçimid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60948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09680" y="60948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SONU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7200" y="586728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L II YAKI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83077-BB90-45B8-87D6-3CBF1A83C7A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218960" y="28195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1994 Orange County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Structured Securities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1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1995 Barings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Nikkei  Futures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 1.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1996 Sumitomo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         Yetkisiz Pozisyon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 2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2002 Allied Irish 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Currency Options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 0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57200"/>
            <a:ext cx="51814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380880"/>
            <a:ext cx="5410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BÜYÜK KAYIP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9AF47-53ED-4576-BAE8-C2E367F641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00200" y="2209680"/>
            <a:ext cx="557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27160" y="179388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91120" y="2511360"/>
            <a:ext cx="6180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Arial"/>
              </a:rPr>
              <a:t>RİSK YÖNETİM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Arial"/>
              </a:rPr>
              <a:t>TEMEL RİSK TANIMLA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DE7BF-4DBE-4CC6-9673-100896B030B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094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trateji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Seçilen uygulama ve kararlara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,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olu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tr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nelinde meydana gelen dönemsel 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ler veya teknoloji 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le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ticesin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rta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bilece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rara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ihtimalin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Kredi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 m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erisinin 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n söz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 gereklerine uymayarak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men veya tamamen zam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yerine getirememesinden dola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tı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durum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istemik risk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inansal sistemdeki kuru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dan kaynaklanabilece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ödem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lerine i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in o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ilecek aksak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lar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u aksaklıkları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inansal sistemi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stikr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zerindeki etkilerinden kaynaklanan zarara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Ülke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luslarar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kredi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lerinde, krediyi alan k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ya da kuru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aaliyette bulunduğ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lkenin ekonomik, sosyal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k 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 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me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ya tamame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m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yerine getirilememesi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170B9-5D22-4A83-AC72-03E27FF1FB2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533520"/>
            <a:ext cx="9144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İ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emin sonuçland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r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amamas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araftan, umulan süred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onu finansal arac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ada fonu (nakdi) teslim al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eld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dememesi durumun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İ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emin sonuçland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r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ma öncesi olu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an risk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ş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mi yapan taraflardan birinin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i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üresi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de, söz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deki 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ü yerine getiremeyec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i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l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ğ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urum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Transfer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Krediyi alan kişi ya da kuru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n bulund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 ülkenin ekonomi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rum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 mevzu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 döviz borcunun ay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ürde veya konvertib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r döviz ile ge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ödenememe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Faiz oran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Faiz oranlarındaki hareketler nedeniyle 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pozisyo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urumun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 maruz kalabilec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zarar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FAB6B-3485-4360-9E92-04A05806C94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554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ikidite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nakit 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ki dengesizlik sonucunda naki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çık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am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lar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 zam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yacak düzeyde ve nitelikte naki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vcudun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kit gi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e sahi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ulun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iyasaya ili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kin likidite 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piyasaya gerekt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gibi girememesi, baz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ünlerdeki 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piyasa 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 piyasalard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geller ve bölünmele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deniyl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zisyon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ygun bir fiyatta, yeterli tutarlarda ve h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pat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ya pozisyonlardan çık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durumunda ortaya 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n zara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Fonlamaya ili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kin likidite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akit gi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 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ki düzensizlikler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adey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akit 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yumsuzluk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onlama 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ü maku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r maliye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 potansiyel olarak yerine getirememe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iyasa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ilanço içi ve bilanço 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hesaplarda bankalarca tutula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zisyonlarda finansal piyasadak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lgalanmalardan kaynaklan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aiz, kur ve hiss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enedi fiy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lerine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 ortaya 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n faiz or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iski, hiss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ened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zisyon riski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ur riski gibi riskler nedeniyle zarar etm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6E2D1-543E-4219-B82C-E964D6FC6D0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19:07:35Z</dcterms:created>
  <dc:creator>Robert Fleming &amp; Co Limited</dc:creator>
  <dc:description/>
  <dc:language>en-US</dc:language>
  <cp:lastModifiedBy>krandaa</cp:lastModifiedBy>
  <cp:lastPrinted>2000-01-26T21:41:00Z</cp:lastPrinted>
  <dcterms:modified xsi:type="dcterms:W3CDTF">2004-04-26T14:07:19Z</dcterms:modified>
  <cp:revision>438</cp:revision>
  <dc:subject/>
  <dc:title>No Slide Title</dc:title>
</cp:coreProperties>
</file>