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E71-5326-46A0-8F7E-708EC1C6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DB9-8895-42B9-9755-739D5355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E1C7-2596-40CA-8D3D-2B016D67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E9D9-97A5-4B3B-A354-523279A9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1AC-0CC2-4422-A4EE-CEF539F6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6910-3B1E-4FBD-A90A-1486943F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ACF-3352-4383-9B55-B9737A0F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2B1-6641-47EE-A997-35DDDB46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602-41BE-48E5-8D30-77CF4A90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410-1599-4916-8050-AD3305F8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33C-76F1-4658-9E71-715E9A0F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8DDE-27F8-464A-A8BC-58ADD0DA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5AF4-13A4-4270-A704-1C176598B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3333cc"/>
                </a:solidFill>
                <a:latin typeface="Times New Roman"/>
              </a:rPr>
              <a:t>Son Ekonomik Göstergeler</a:t>
            </a: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*</a:t>
            </a:r>
            <a:br>
              <a:rPr sz="4800"/>
            </a:br>
            <a:br>
              <a:rPr sz="4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Dr. Ekrem Keskin</a:t>
            </a:r>
            <a:br>
              <a:rPr sz="1800"/>
            </a:br>
            <a:r>
              <a:rPr b="1" lang="tr-TR" sz="1800" spc="-1" strike="noStrike">
                <a:solidFill>
                  <a:srgbClr val="3333cc"/>
                </a:solidFill>
                <a:latin typeface="Times New Roman"/>
              </a:rPr>
              <a:t>13 Nisan 2004</a:t>
            </a:r>
            <a:br>
              <a:rPr sz="3200"/>
            </a:br>
            <a:br>
              <a:rPr sz="4800"/>
            </a:br>
            <a:br>
              <a:rPr sz="4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*Bu sunumda yer alan tablo ve grafikler, TBB tarafından düzenlenen </a:t>
            </a:r>
            <a:br>
              <a:rPr sz="1800"/>
            </a:br>
            <a:r>
              <a:rPr b="0" lang="tr-TR" sz="1800" spc="-1" strike="noStrike">
                <a:solidFill>
                  <a:srgbClr val="3333cc"/>
                </a:solidFill>
                <a:latin typeface="Times New Roman"/>
              </a:rPr>
              <a:t>Ekonomi Muhabirleri Eğitim Programı’nda yapılan konuşma için hazırlanmıştı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762120" y="990720"/>
          <a:ext cx="801504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90720"/>
                    <a:ext cx="801504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685800" y="914400"/>
          <a:ext cx="769608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76960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609480" y="838080"/>
          <a:ext cx="76964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76964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457200" y="838080"/>
          <a:ext cx="80010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38080"/>
                    <a:ext cx="80010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3520" y="838080"/>
          <a:ext cx="807696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38080"/>
                    <a:ext cx="80769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781200" y="838080"/>
          <a:ext cx="798192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838080"/>
                    <a:ext cx="7981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533520" y="457200"/>
          <a:ext cx="792468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9246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12720" y="67464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4604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4637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04920" y="110016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714440" y="112536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3720" y="1482840"/>
            <a:ext cx="110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Trilyon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768440" y="148284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4440" y="185724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1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1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736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3.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37480" y="18320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5.0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36880" y="18748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03360" y="2225520"/>
            <a:ext cx="68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807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2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64920" y="2201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.0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440200" y="224316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4800" y="259380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240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6.4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46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2.9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8240" y="25700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7.5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440200" y="2612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3360" y="2963880"/>
            <a:ext cx="47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51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.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736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8.9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37480" y="29383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2.5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372520" y="298116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2280" y="3700440"/>
            <a:ext cx="302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dışın. menkul kıymet (BD)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51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736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.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37480" y="36766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2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440200" y="3719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2640" y="407052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51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.8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736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6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37480" y="4044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336880" y="40878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2640" y="4438800"/>
            <a:ext cx="59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807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2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64920" y="4414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8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70640" y="445788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3360" y="480708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80720" y="47829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736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1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37480" y="47829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0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36880" y="4826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440" y="517680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51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.4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736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3.4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837480" y="51516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36880" y="51944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3000" y="5551560"/>
            <a:ext cx="19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ilgi için (M2RY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240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5.8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46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6.3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708240" y="55278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8.9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40200" y="55738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6520" y="5991120"/>
            <a:ext cx="98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12720" y="49068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4604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637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0492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14440" y="941400"/>
            <a:ext cx="73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Yıl 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4120" y="1298520"/>
            <a:ext cx="127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768440" y="1298520"/>
            <a:ext cx="63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% de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58800" y="1647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05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8.8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2768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9.6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91120" y="1647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2.2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380440" y="16905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8800" y="2016000"/>
            <a:ext cx="73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336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7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5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1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017840" y="2016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3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483400" y="2058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386080"/>
            <a:ext cx="707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2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05120" y="238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82.6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00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8.6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62960" y="238608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9.7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80440" y="24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59160" y="2754360"/>
            <a:ext cx="71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605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3.7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2768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8.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91120" y="2754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7.5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415360" y="279720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54840" y="3492360"/>
            <a:ext cx="298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.dışın. menkul kıymet (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605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1.1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2768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7.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91120" y="34923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2.7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380440" y="353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8440" y="3860640"/>
            <a:ext cx="50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605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8.6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2768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5.2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91120" y="38606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1.36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440" y="3903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" y="4229280"/>
            <a:ext cx="518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36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4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55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8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17840" y="42292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4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14200" y="42721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-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60" y="4599000"/>
            <a:ext cx="1021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t. Fo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336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7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955840" y="45990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7.9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891120" y="45990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1.4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80440" y="46418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57360" y="496728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05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3.9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2768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45.0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891120" y="49672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4.2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380440" y="5010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440" y="5705640"/>
            <a:ext cx="224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787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06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0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53.7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62960" y="570564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74.0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380440" y="5748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2440" y="6165720"/>
            <a:ext cx="93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* Piyasa değ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107720" y="860400"/>
            <a:ext cx="1533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Para Tal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107000" y="1230480"/>
            <a:ext cx="145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% dağıl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2688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4456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86120" y="16444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01600" y="2386080"/>
            <a:ext cx="61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Nak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25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8475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11360" y="2386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99080" y="2755800"/>
            <a:ext cx="186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siz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25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75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911360" y="2755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02320" y="312408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Re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25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8475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911360" y="31240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099440" y="3492360"/>
            <a:ext cx="172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Vadeli mevdu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4979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20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82120" y="3492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02680" y="3862440"/>
            <a:ext cx="552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979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20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82120" y="3862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101600" y="4230720"/>
            <a:ext cx="73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2Y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6868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591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53240" y="423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99080" y="4968720"/>
            <a:ext cx="2292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ilgi için (M2RYB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6868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591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3240" y="496404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03040" y="533700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979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720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82120" y="5332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02320" y="5705640"/>
            <a:ext cx="532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979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20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782120" y="57006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2280" y="1828800"/>
          <a:ext cx="8458200" cy="441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458200" cy="441000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84600" y="990720"/>
            <a:ext cx="67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520" y="1596960"/>
            <a:ext cx="3655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Kredi Hac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160" y="1967040"/>
            <a:ext cx="398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4588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4136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11200" y="201312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975080" y="201312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73640" y="239220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83880" y="276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480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.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6672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8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46280" y="2760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.1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683920" y="2760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0320" y="312912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480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4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6672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.7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046280" y="3129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8.1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683920" y="31291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600" y="349884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8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.1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.0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724960" y="349884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95400" y="4235400"/>
            <a:ext cx="2670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5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6672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.4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04628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.9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320" y="4605480"/>
            <a:ext cx="659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0480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6672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46280" y="4605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.9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8683920" y="4605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600" y="4973760"/>
            <a:ext cx="66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23960" y="4973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6672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8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046280" y="4973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.9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803800" y="4973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2840" y="674640"/>
            <a:ext cx="39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Mevduat Bankaları Kredi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520" y="1044720"/>
            <a:ext cx="3993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Sorunlu krediler ve karşılık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74588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4136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11200" y="10904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975080" y="10904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973640" y="146988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214920" y="1838160"/>
            <a:ext cx="443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asfiye olunacak alacaklar (TOA) (brü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11160" y="2206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2396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.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8624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5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64000" y="2206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724960" y="220680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24480" y="257652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22396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18624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164000" y="25765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3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803800" y="2576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53640" y="2944800"/>
            <a:ext cx="20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Ayrılan karşılı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2396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8624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4000" y="2944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803800" y="2944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000" y="3313080"/>
            <a:ext cx="112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2396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5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186240" y="33130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.5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343280" y="331308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605440" y="331308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170640" y="3683160"/>
            <a:ext cx="374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brüt)/sorunsuz krediler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52312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8360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463160" y="3683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219960" y="4051440"/>
            <a:ext cx="446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(net)/  Sorunsuz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64156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038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583040" y="4051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-207720" y="4421160"/>
            <a:ext cx="42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A (net)/ Toplam kredilere oranı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64156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583040" y="44211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-223560" y="5157720"/>
            <a:ext cx="4554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krediler (sorunsuz+sorunlu (net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-11160" y="5527800"/>
            <a:ext cx="141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10480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8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6672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1.3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046280" y="5527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803800" y="55278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-24480" y="58960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0480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.5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6672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.9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046280" y="58960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.5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683920" y="5896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39480" y="1089000"/>
            <a:ext cx="452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Tüketici kredileri ve kredi kart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780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4604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66920" y="15112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870320" y="151128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868880" y="18763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91160" y="2241720"/>
            <a:ext cx="222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trilyon T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47360" y="2241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29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.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71760" y="22417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9.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8538480" y="2241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7720" y="2606760"/>
            <a:ext cx="203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etici Kredile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24736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158520" y="26067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71760" y="26067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38480" y="2606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29560" y="2971800"/>
            <a:ext cx="339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4736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.9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158520" y="297180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.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971760" y="29718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.7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8480" y="2971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3080" y="333864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6545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671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5920" y="33386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240" y="3703680"/>
            <a:ext cx="1669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Kredi Kart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24736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1585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087320" y="370368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38480" y="3703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3800" y="4068720"/>
            <a:ext cx="40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24736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0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1585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.5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87320" y="406872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.3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538480" y="4068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3080" y="4433760"/>
            <a:ext cx="40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5382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4940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79640" y="443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461080" y="4433760"/>
            <a:ext cx="34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68840" y="4799160"/>
            <a:ext cx="2478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 (milyon do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47360" y="4799160"/>
            <a:ext cx="57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.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429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.8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71760" y="479916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.5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538480" y="47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3000" y="5530680"/>
            <a:ext cx="39952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ük.kre. ve kre. kart./Mev. ban. k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)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51520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42672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356960" y="5791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47880" y="2225520"/>
            <a:ext cx="5330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ff0000"/>
                </a:solidFill>
                <a:latin typeface="Times New Roman"/>
              </a:rPr>
              <a:t>Mevduat bankaları sorunsuz kredileri*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280" y="2671920"/>
            <a:ext cx="482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* Tüketici kredileri ve kredi kartları hariç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70736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9312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55040" y="2671920"/>
            <a:ext cx="939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907760" y="2671920"/>
            <a:ext cx="794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906320" y="3059280"/>
            <a:ext cx="80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-44280" y="3446640"/>
            <a:ext cx="1398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TL trily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0418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5.27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99436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4.66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966000" y="3446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35.99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725680" y="344664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-70560" y="3833640"/>
            <a:ext cx="1695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0418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5.30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99436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4.6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966000" y="3833640"/>
            <a:ext cx="738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27.36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04000" y="38336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-38880" y="4309920"/>
            <a:ext cx="2108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500" spc="-1" strike="noStrike">
                <a:solidFill>
                  <a:srgbClr val="000000"/>
                </a:solidFill>
                <a:latin typeface="Times New Roman"/>
              </a:rPr>
              <a:t>* Yurtiçi şubelerden açıl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040" y="490680"/>
            <a:ext cx="3204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Banka Sistemi Mevduat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4588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4136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11200" y="91584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03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75080" y="91584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Yıl 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160" y="1285920"/>
            <a:ext cx="122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rilyon 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973640" y="1285920"/>
            <a:ext cx="765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% değ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-135720" y="165420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10480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.48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6672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5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046280" y="16542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6.8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8683920" y="16542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-167760" y="202248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10480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4.5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6672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1.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046280" y="202248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4.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724960" y="202248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7000" y="23922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8600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1.0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4648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7.3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926040" y="23922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51.6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803800" y="23922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11880" y="3129120"/>
            <a:ext cx="1424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Milyon d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-135720" y="3498840"/>
            <a:ext cx="3257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TL Mevdua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10480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.2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06672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3.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46280" y="349884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6.0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683920" y="3498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-167760" y="3867120"/>
            <a:ext cx="3734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Bankalardaki YP Mevduat (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0480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5.1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06672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.7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46280" y="386712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9.2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724960" y="3867120"/>
            <a:ext cx="214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7000" y="4235400"/>
            <a:ext cx="849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104800" y="4235400"/>
            <a:ext cx="70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.3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94648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4.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926040" y="4235400"/>
            <a:ext cx="832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5.3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683920" y="4235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-151920" y="4973760"/>
            <a:ext cx="3467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Sorunsuz krediler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52312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48360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463160" y="4973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20" y="5342040"/>
            <a:ext cx="46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2312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48360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463160" y="534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920" y="571176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52312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48360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63160" y="5711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-249120" y="6080040"/>
            <a:ext cx="489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(Sorunsuz+sorunlu (net)) kredi/mevduat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52312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360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463160" y="6080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200" y="19080"/>
            <a:ext cx="4838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Times New Roman"/>
              </a:rPr>
              <a:t>Kamu iç borçlanması ve mali sistem (%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6496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0.12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90184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12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96528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6.12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9000" y="353880"/>
            <a:ext cx="896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.02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3120" y="1014480"/>
            <a:ext cx="278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496120" y="990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9152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045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417160" y="99072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120" y="1328760"/>
            <a:ext cx="294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ğu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496120" y="13050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9152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045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417160" y="1305000"/>
            <a:ext cx="38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-180360" y="1643040"/>
            <a:ext cx="312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amu kağıtları stoku/M2YRF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61068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336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16192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-237960" y="2270160"/>
            <a:ext cx="383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961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1068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2336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536320" y="2246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-252000" y="2584440"/>
            <a:ext cx="400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lardaki menkul kıymetler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961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1068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2336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536320" y="2560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-242640" y="3213000"/>
            <a:ext cx="388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anka dışı kesimlerde kamu k.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61068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336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536320" y="3187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3120" y="3840120"/>
            <a:ext cx="286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amu kağıtları stoku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4709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58512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98160" y="38163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-141840" y="4154400"/>
            <a:ext cx="265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* (canlı)/M2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4961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1068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2336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36320" y="41306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-146160" y="4468680"/>
            <a:ext cx="27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canlı)/M2Y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61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61068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2336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536320" y="44434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-227160" y="4782960"/>
            <a:ext cx="370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Kredi stoku (TGA (ne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9612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1068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23360" y="47577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760" y="5095800"/>
            <a:ext cx="3827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Kredi stoku (TGA (brüt) dahil)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4709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58512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598160" y="50720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3840" y="5410080"/>
            <a:ext cx="1399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4709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58512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98160" y="53863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840" y="572436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Times New Roman"/>
              </a:rPr>
              <a:t>M2YRF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4709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98160" y="569916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-52560" y="6039000"/>
            <a:ext cx="156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61068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3360" y="60134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-65880" y="6351480"/>
            <a:ext cx="17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M2YRFD/GSM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61068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23360" y="63277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-110520" y="6642000"/>
            <a:ext cx="206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* Yurtiçinden açılan kred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914400"/>
          <a:ext cx="8686800" cy="55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68680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a50021"/>
                </a:solidFill>
                <a:latin typeface="Times New Roman"/>
              </a:rPr>
              <a:t>Dış Borç Stoku (milyar dola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1981080"/>
          <a:ext cx="7772400" cy="480060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1067040"/>
                <a:gridCol w="1295280"/>
                <a:gridCol w="1219320"/>
                <a:gridCol w="1066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p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2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3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7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Ka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8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6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5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Ö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9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5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3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5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inans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4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4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9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7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03280" y="712800"/>
            <a:ext cx="1893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Finansal aktifl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720" y="1054080"/>
            <a:ext cx="2924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(GSMH'ye oran</a:t>
            </a:r>
            <a:r>
              <a:rPr b="1" lang="tr-TR" sz="2100" spc="-1" strike="noStrike">
                <a:solidFill>
                  <a:srgbClr val="ff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85920" y="1054080"/>
            <a:ext cx="480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066680"/>
            <a:ext cx="187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%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516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082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14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9272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3548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878600" y="1395360"/>
            <a:ext cx="537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560" y="2077920"/>
            <a:ext cx="2385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ara ve para benzer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62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1904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621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348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4660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89360" y="20779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600" y="2421000"/>
            <a:ext cx="491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762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904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621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48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4660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289360" y="24210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5880" y="2762280"/>
            <a:ext cx="71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TH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9040" y="27622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1904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621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0348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4660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89360" y="27622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4720" y="3103560"/>
            <a:ext cx="274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ozel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762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1904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621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0348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60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289360" y="310356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3640" y="3444840"/>
            <a:ext cx="1521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isse sened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762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1904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621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0348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4660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289360" y="344484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00" y="3786120"/>
            <a:ext cx="2951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enkul kiymetler (kamu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9040" y="378612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1904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21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348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68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4660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89360" y="37861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3280" y="4127400"/>
            <a:ext cx="1657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Devlet tahvil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9040" y="412740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1904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621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348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4660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289360" y="412740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60" y="4468680"/>
            <a:ext cx="1819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Hazine bono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9904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84920" y="446868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0348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4660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89360" y="446868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4360" y="4809960"/>
            <a:ext cx="415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Ya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992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03040" y="4809960"/>
            <a:ext cx="1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0440" y="4809960"/>
            <a:ext cx="75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ı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50000" y="4809960"/>
            <a:ext cx="808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m fon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904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41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8849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2768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7080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412120" y="4809960"/>
            <a:ext cx="135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3280" y="5494320"/>
            <a:ext cx="892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Topla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76280" y="5494320"/>
            <a:ext cx="26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66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796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8072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6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2384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7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66600" y="5494320"/>
            <a:ext cx="40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85800" y="685800"/>
          <a:ext cx="7924680" cy="5122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92468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82600" y="463680"/>
            <a:ext cx="8597520" cy="5631840"/>
            <a:chOff x="282600" y="463680"/>
            <a:chExt cx="8597520" cy="5631840"/>
          </a:xfrm>
        </p:grpSpPr>
        <p:sp>
          <p:nvSpPr>
            <p:cNvPr id="136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4280" y="52833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4280" y="48445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4280" y="44056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54280" y="396864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54280" y="35294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4280" y="265392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4280" y="221508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54280" y="177624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4280" y="1339560"/>
              <a:ext cx="80125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4280" y="1339560"/>
              <a:ext cx="8012520" cy="3943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4280" y="1339560"/>
              <a:ext cx="1440" cy="394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2080" y="52833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2080" y="48445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2080" y="44056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2080" y="3968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2080" y="35294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2080" y="30909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02080" y="26539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2080" y="22150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080" y="177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2080" y="133956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54280" y="3090960"/>
              <a:ext cx="801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98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1114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12312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6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49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621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739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86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9983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129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225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377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50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63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7669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2883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146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31438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3273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4045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521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6518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78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91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029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15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28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4190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4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6666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959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92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0565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173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3042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3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630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56944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107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941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0710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20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3187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4796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7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7086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8382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9562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708588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2151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73465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74628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5938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77234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785268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79837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810000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823140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836064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849024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8608320" y="3090600"/>
              <a:ext cx="180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873792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8867160" y="3090600"/>
              <a:ext cx="1440" cy="83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19800" y="186156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8" y="0"/>
                  </a:moveTo>
                  <a:lnTo>
                    <a:pt x="39" y="23"/>
                  </a:lnTo>
                  <a:lnTo>
                    <a:pt x="31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49400" y="19868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4"/>
                  </a:lnTo>
                  <a:lnTo>
                    <a:pt x="16" y="46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1200" y="2195280"/>
              <a:ext cx="37440" cy="615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15" y="0"/>
                  </a:moveTo>
                  <a:lnTo>
                    <a:pt x="23" y="23"/>
                  </a:lnTo>
                  <a:lnTo>
                    <a:pt x="8" y="34"/>
                  </a:lnTo>
                  <a:lnTo>
                    <a:pt x="0" y="1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66040" y="2236680"/>
              <a:ext cx="39240" cy="6156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8" y="0"/>
                  </a:moveTo>
                  <a:lnTo>
                    <a:pt x="24" y="11"/>
                  </a:lnTo>
                  <a:lnTo>
                    <a:pt x="16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97080" y="2320200"/>
              <a:ext cx="5220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52600" y="227880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8120" y="223668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65800" y="2278800"/>
              <a:ext cx="5040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8" y="0"/>
                  </a:moveTo>
                  <a:lnTo>
                    <a:pt x="31" y="11"/>
                  </a:lnTo>
                  <a:lnTo>
                    <a:pt x="23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3240" y="229824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21320" y="2256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34640" y="2256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63880" y="2320200"/>
              <a:ext cx="52200" cy="103320"/>
            </a:xfrm>
            <a:custGeom>
              <a:avLst/>
              <a:gdLst/>
              <a:ahLst/>
              <a:rect l="l" t="t" r="r" b="b"/>
              <a:pathLst>
                <a:path w="32" h="57">
                  <a:moveTo>
                    <a:pt x="16" y="0"/>
                  </a:moveTo>
                  <a:lnTo>
                    <a:pt x="32" y="46"/>
                  </a:lnTo>
                  <a:lnTo>
                    <a:pt x="16" y="57"/>
                  </a:lnTo>
                  <a:lnTo>
                    <a:pt x="0" y="1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42720" y="25488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16" y="0"/>
                  </a:moveTo>
                  <a:lnTo>
                    <a:pt x="32" y="35"/>
                  </a:lnTo>
                  <a:lnTo>
                    <a:pt x="16" y="46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06440" y="279900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46040" y="300744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11200" y="3257640"/>
              <a:ext cx="52200" cy="84960"/>
            </a:xfrm>
            <a:custGeom>
              <a:avLst/>
              <a:gdLst/>
              <a:ahLst/>
              <a:rect l="l" t="t" r="r" b="b"/>
              <a:pathLst>
                <a:path w="32" h="47">
                  <a:moveTo>
                    <a:pt x="8" y="0"/>
                  </a:moveTo>
                  <a:lnTo>
                    <a:pt x="32" y="35"/>
                  </a:lnTo>
                  <a:lnTo>
                    <a:pt x="24" y="47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4116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8480" y="3384720"/>
              <a:ext cx="50760" cy="6156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0"/>
                  </a:moveTo>
                  <a:lnTo>
                    <a:pt x="31" y="11"/>
                  </a:lnTo>
                  <a:lnTo>
                    <a:pt x="31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54000" y="3404520"/>
              <a:ext cx="52200" cy="6372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12"/>
                  </a:moveTo>
                  <a:lnTo>
                    <a:pt x="32" y="0"/>
                  </a:lnTo>
                  <a:lnTo>
                    <a:pt x="32" y="23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6560" y="334296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49120" y="334296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65400" y="3257640"/>
              <a:ext cx="12960" cy="435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78360" y="32576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22720" y="3301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65280" y="3238200"/>
              <a:ext cx="65160" cy="82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07840" y="31125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51840" y="2987640"/>
              <a:ext cx="63720" cy="831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7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1800" y="279900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24" y="0"/>
                  </a:lnTo>
                  <a:lnTo>
                    <a:pt x="32" y="12"/>
                  </a:lnTo>
                  <a:lnTo>
                    <a:pt x="8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85120" y="261216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4"/>
                  </a:moveTo>
                  <a:lnTo>
                    <a:pt x="16" y="0"/>
                  </a:lnTo>
                  <a:lnTo>
                    <a:pt x="32" y="11"/>
                  </a:lnTo>
                  <a:lnTo>
                    <a:pt x="16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63600" y="24037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2840" y="2153520"/>
              <a:ext cx="39240" cy="8280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42080" y="192312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46"/>
                  </a:moveTo>
                  <a:lnTo>
                    <a:pt x="8" y="0"/>
                  </a:lnTo>
                  <a:lnTo>
                    <a:pt x="23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360" y="1672920"/>
              <a:ext cx="3780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0" y="34"/>
                  </a:moveTo>
                  <a:lnTo>
                    <a:pt x="7" y="0"/>
                  </a:lnTo>
                  <a:lnTo>
                    <a:pt x="23" y="11"/>
                  </a:lnTo>
                  <a:lnTo>
                    <a:pt x="15" y="4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079880" y="167292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6160" y="14223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2080" y="1172520"/>
              <a:ext cx="2628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58720" y="921960"/>
              <a:ext cx="2592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84640" y="67212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46"/>
                  </a:moveTo>
                  <a:lnTo>
                    <a:pt x="8" y="0"/>
                  </a:lnTo>
                  <a:lnTo>
                    <a:pt x="24" y="0"/>
                  </a:lnTo>
                  <a:lnTo>
                    <a:pt x="16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0920" y="5050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37200" y="755640"/>
              <a:ext cx="25920" cy="82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250520" y="1005480"/>
              <a:ext cx="37440" cy="83160"/>
            </a:xfrm>
            <a:custGeom>
              <a:avLst/>
              <a:gdLst/>
              <a:ahLst/>
              <a:rect l="l" t="t" r="r" b="b"/>
              <a:pathLst>
                <a:path w="23" h="46">
                  <a:moveTo>
                    <a:pt x="16" y="0"/>
                  </a:moveTo>
                  <a:lnTo>
                    <a:pt x="23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76440" y="1256040"/>
              <a:ext cx="24840" cy="83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87960" y="150588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14240" y="17564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40160" y="2006280"/>
              <a:ext cx="26280" cy="637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40160" y="2070000"/>
              <a:ext cx="26280" cy="1944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79760" y="2256840"/>
              <a:ext cx="39240" cy="8316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16" y="0"/>
                  </a:moveTo>
                  <a:lnTo>
                    <a:pt x="24" y="46"/>
                  </a:lnTo>
                  <a:lnTo>
                    <a:pt x="8" y="46"/>
                  </a:lnTo>
                  <a:lnTo>
                    <a:pt x="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000" y="2465280"/>
              <a:ext cx="52200" cy="105120"/>
            </a:xfrm>
            <a:custGeom>
              <a:avLst/>
              <a:gdLst/>
              <a:ahLst/>
              <a:rect l="l" t="t" r="r" b="b"/>
              <a:pathLst>
                <a:path w="32" h="58">
                  <a:moveTo>
                    <a:pt x="16" y="0"/>
                  </a:moveTo>
                  <a:lnTo>
                    <a:pt x="32" y="46"/>
                  </a:lnTo>
                  <a:lnTo>
                    <a:pt x="16" y="58"/>
                  </a:lnTo>
                  <a:lnTo>
                    <a:pt x="0" y="1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84520" y="2715840"/>
              <a:ext cx="5076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2708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23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82960" y="2715840"/>
              <a:ext cx="52200" cy="8280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25880" y="286272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8" y="0"/>
                  </a:moveTo>
                  <a:lnTo>
                    <a:pt x="32" y="23"/>
                  </a:lnTo>
                  <a:lnTo>
                    <a:pt x="24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69880" y="2965680"/>
              <a:ext cx="50400" cy="630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12440" y="3090960"/>
              <a:ext cx="39240" cy="6372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23"/>
                  </a:lnTo>
                  <a:lnTo>
                    <a:pt x="16" y="35"/>
                  </a:lnTo>
                  <a:lnTo>
                    <a:pt x="0" y="1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38720" y="313272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2040" y="3216240"/>
              <a:ext cx="39240" cy="6300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8" y="0"/>
                  </a:moveTo>
                  <a:lnTo>
                    <a:pt x="24" y="12"/>
                  </a:lnTo>
                  <a:lnTo>
                    <a:pt x="16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67960" y="3238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99360" y="32796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1920" y="319608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784120" y="3071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28480" y="294624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58080" y="2757240"/>
              <a:ext cx="52200" cy="83160"/>
            </a:xfrm>
            <a:custGeom>
              <a:avLst/>
              <a:gdLst/>
              <a:ahLst/>
              <a:rect l="l" t="t" r="r" b="b"/>
              <a:pathLst>
                <a:path w="32" h="46">
                  <a:moveTo>
                    <a:pt x="0" y="35"/>
                  </a:moveTo>
                  <a:lnTo>
                    <a:pt x="16" y="0"/>
                  </a:lnTo>
                  <a:lnTo>
                    <a:pt x="32" y="12"/>
                  </a:lnTo>
                  <a:lnTo>
                    <a:pt x="16" y="46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87680" y="269568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4640" y="2715840"/>
              <a:ext cx="378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82800" y="271584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00520" y="2673720"/>
              <a:ext cx="1332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00520" y="2653920"/>
              <a:ext cx="5256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11"/>
                  </a:moveTo>
                  <a:lnTo>
                    <a:pt x="24" y="0"/>
                  </a:lnTo>
                  <a:lnTo>
                    <a:pt x="32" y="23"/>
                  </a:lnTo>
                  <a:lnTo>
                    <a:pt x="8" y="3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56040" y="2612160"/>
              <a:ext cx="6552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40" y="23"/>
                  </a:lnTo>
                  <a:lnTo>
                    <a:pt x="32" y="46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896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0"/>
                  </a:moveTo>
                  <a:lnTo>
                    <a:pt x="32" y="12"/>
                  </a:lnTo>
                  <a:lnTo>
                    <a:pt x="32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42960" y="2653920"/>
              <a:ext cx="63720" cy="8280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23"/>
                  </a:moveTo>
                  <a:lnTo>
                    <a:pt x="31" y="0"/>
                  </a:lnTo>
                  <a:lnTo>
                    <a:pt x="39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11800" y="2715840"/>
              <a:ext cx="5220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51400" y="273708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67680" y="2673720"/>
              <a:ext cx="129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80640" y="2673720"/>
              <a:ext cx="52560" cy="630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8" y="0"/>
                  </a:moveTo>
                  <a:lnTo>
                    <a:pt x="32" y="12"/>
                  </a:lnTo>
                  <a:lnTo>
                    <a:pt x="24" y="35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23200" y="273708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520" y="277920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36400" y="275724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91920" y="2779200"/>
              <a:ext cx="2628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918560" y="2779200"/>
              <a:ext cx="2592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47800" y="27792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0"/>
                  </a:moveTo>
                  <a:lnTo>
                    <a:pt x="32" y="11"/>
                  </a:lnTo>
                  <a:lnTo>
                    <a:pt x="32" y="34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05480" y="2799000"/>
              <a:ext cx="50400" cy="6372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0" y="0"/>
                  </a:moveTo>
                  <a:lnTo>
                    <a:pt x="31" y="12"/>
                  </a:lnTo>
                  <a:lnTo>
                    <a:pt x="31" y="35"/>
                  </a:lnTo>
                  <a:lnTo>
                    <a:pt x="0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60640" y="2799000"/>
              <a:ext cx="52560" cy="41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516520" y="2820600"/>
              <a:ext cx="52200" cy="6156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8" y="0"/>
                  </a:moveTo>
                  <a:lnTo>
                    <a:pt x="32" y="11"/>
                  </a:lnTo>
                  <a:lnTo>
                    <a:pt x="24" y="34"/>
                  </a:lnTo>
                  <a:lnTo>
                    <a:pt x="0" y="2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555760" y="2840760"/>
              <a:ext cx="129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59080" y="2757240"/>
              <a:ext cx="65160" cy="831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0" y="23"/>
                  </a:moveTo>
                  <a:lnTo>
                    <a:pt x="32" y="0"/>
                  </a:lnTo>
                  <a:lnTo>
                    <a:pt x="40" y="23"/>
                  </a:lnTo>
                  <a:lnTo>
                    <a:pt x="8" y="46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9800" y="1650960"/>
              <a:ext cx="6360480" cy="1961640"/>
            </a:xfrm>
            <a:custGeom>
              <a:avLst/>
              <a:gdLst/>
              <a:ahLst/>
              <a:rect l="l" t="t" r="r" b="b"/>
              <a:pathLst>
                <a:path w="489" h="94">
                  <a:moveTo>
                    <a:pt x="0" y="27"/>
                  </a:moveTo>
                  <a:lnTo>
                    <a:pt x="10" y="34"/>
                  </a:lnTo>
                  <a:lnTo>
                    <a:pt x="19" y="45"/>
                  </a:lnTo>
                  <a:lnTo>
                    <a:pt x="29" y="44"/>
                  </a:lnTo>
                  <a:lnTo>
                    <a:pt x="39" y="40"/>
                  </a:lnTo>
                  <a:lnTo>
                    <a:pt x="49" y="38"/>
                  </a:lnTo>
                  <a:lnTo>
                    <a:pt x="59" y="29"/>
                  </a:lnTo>
                  <a:lnTo>
                    <a:pt x="68" y="27"/>
                  </a:lnTo>
                  <a:lnTo>
                    <a:pt x="78" y="19"/>
                  </a:lnTo>
                  <a:lnTo>
                    <a:pt x="88" y="18"/>
                  </a:lnTo>
                  <a:lnTo>
                    <a:pt x="98" y="34"/>
                  </a:lnTo>
                  <a:lnTo>
                    <a:pt x="107" y="55"/>
                  </a:lnTo>
                  <a:lnTo>
                    <a:pt x="117" y="60"/>
                  </a:lnTo>
                  <a:lnTo>
                    <a:pt x="127" y="55"/>
                  </a:lnTo>
                  <a:lnTo>
                    <a:pt x="137" y="65"/>
                  </a:lnTo>
                  <a:lnTo>
                    <a:pt x="147" y="79"/>
                  </a:lnTo>
                  <a:lnTo>
                    <a:pt x="156" y="81"/>
                  </a:lnTo>
                  <a:lnTo>
                    <a:pt x="166" y="81"/>
                  </a:lnTo>
                  <a:lnTo>
                    <a:pt x="176" y="87"/>
                  </a:lnTo>
                  <a:lnTo>
                    <a:pt x="186" y="91"/>
                  </a:lnTo>
                  <a:lnTo>
                    <a:pt x="195" y="94"/>
                  </a:lnTo>
                  <a:lnTo>
                    <a:pt x="205" y="94"/>
                  </a:lnTo>
                  <a:lnTo>
                    <a:pt x="215" y="92"/>
                  </a:lnTo>
                  <a:lnTo>
                    <a:pt x="225" y="90"/>
                  </a:lnTo>
                  <a:lnTo>
                    <a:pt x="235" y="85"/>
                  </a:lnTo>
                  <a:lnTo>
                    <a:pt x="244" y="61"/>
                  </a:lnTo>
                  <a:lnTo>
                    <a:pt x="254" y="0"/>
                  </a:lnTo>
                  <a:lnTo>
                    <a:pt x="264" y="27"/>
                  </a:lnTo>
                  <a:lnTo>
                    <a:pt x="274" y="45"/>
                  </a:lnTo>
                  <a:lnTo>
                    <a:pt x="283" y="43"/>
                  </a:lnTo>
                  <a:lnTo>
                    <a:pt x="293" y="33"/>
                  </a:lnTo>
                  <a:lnTo>
                    <a:pt x="303" y="35"/>
                  </a:lnTo>
                  <a:lnTo>
                    <a:pt x="313" y="35"/>
                  </a:lnTo>
                  <a:lnTo>
                    <a:pt x="323" y="29"/>
                  </a:lnTo>
                  <a:lnTo>
                    <a:pt x="332" y="31"/>
                  </a:lnTo>
                  <a:lnTo>
                    <a:pt x="342" y="35"/>
                  </a:lnTo>
                  <a:lnTo>
                    <a:pt x="352" y="36"/>
                  </a:lnTo>
                  <a:lnTo>
                    <a:pt x="362" y="36"/>
                  </a:lnTo>
                  <a:lnTo>
                    <a:pt x="371" y="42"/>
                  </a:lnTo>
                  <a:lnTo>
                    <a:pt x="381" y="49"/>
                  </a:lnTo>
                  <a:lnTo>
                    <a:pt x="391" y="49"/>
                  </a:lnTo>
                  <a:lnTo>
                    <a:pt x="401" y="34"/>
                  </a:lnTo>
                  <a:lnTo>
                    <a:pt x="411" y="31"/>
                  </a:lnTo>
                  <a:lnTo>
                    <a:pt x="420" y="30"/>
                  </a:lnTo>
                  <a:lnTo>
                    <a:pt x="430" y="29"/>
                  </a:lnTo>
                  <a:lnTo>
                    <a:pt x="440" y="25"/>
                  </a:lnTo>
                  <a:lnTo>
                    <a:pt x="450" y="36"/>
                  </a:lnTo>
                  <a:lnTo>
                    <a:pt x="459" y="35"/>
                  </a:lnTo>
                  <a:lnTo>
                    <a:pt x="469" y="29"/>
                  </a:lnTo>
                  <a:lnTo>
                    <a:pt x="479" y="32"/>
                  </a:lnTo>
                  <a:lnTo>
                    <a:pt x="489" y="19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98240" y="650160"/>
              <a:ext cx="6470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Kamu Kağıtlarında Reel Faiz Oranı, TEFE'ye göre %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7040" y="5116680"/>
              <a:ext cx="39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6960" y="467784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6960" y="42390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6960" y="380196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960" y="336312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-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5840" y="292428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7000" y="248724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7000" y="20484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7000" y="160956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7000" y="117252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09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99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634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966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1944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94260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78360" y="33210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700" spc="-1" strike="noStrike">
                  <a:solidFill>
                    <a:srgbClr val="000000"/>
                  </a:solidFill>
                  <a:latin typeface="Times New Roman"/>
                </a:rPr>
                <a:t>0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1160" y="4510800"/>
              <a:ext cx="4370760" cy="156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79920" y="5283360"/>
              <a:ext cx="5076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358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9168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247200" y="5283360"/>
              <a:ext cx="52200" cy="414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320" y="5116680"/>
              <a:ext cx="1171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Beklene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74760" y="5303160"/>
              <a:ext cx="51948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7880" y="5116680"/>
              <a:ext cx="1454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2200" spc="-1" strike="noStrike">
                  <a:solidFill>
                    <a:srgbClr val="000000"/>
                  </a:solidFill>
                  <a:latin typeface="Times New Roman"/>
                </a:rPr>
                <a:t>Gerçekleş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2600" y="463680"/>
              <a:ext cx="8597520" cy="5631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781200" y="609480"/>
          <a:ext cx="75834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609480"/>
                    <a:ext cx="7583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5:15:46Z</dcterms:created>
  <dc:creator>KeskinE</dc:creator>
  <dc:description/>
  <dc:language>en-US</dc:language>
  <cp:lastModifiedBy>KeskinE</cp:lastModifiedBy>
  <dcterms:modified xsi:type="dcterms:W3CDTF">2004-04-14T08:38:57Z</dcterms:modified>
  <cp:revision>11</cp:revision>
  <dc:subject/>
  <dc:title>No Slide Title</dc:title>
</cp:coreProperties>
</file>