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6027-10C1-4602-94F9-20AA0F54E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8B71-0548-427D-89B1-008384AF1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1E2A4-CE06-481D-B9DF-AD949D9CB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A10C7-2342-4CA2-9705-F962492C1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98C14-E2B1-4535-9EDB-FA2CDAEE5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9BB82-C82D-430F-B8A7-676C49BF9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FD612-EBFC-49D7-B9DD-10DA2A538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43D0-156B-4C92-9877-8EF049E8A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4693-A9B8-4B2A-B61B-255F4AFCB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C8B11-2522-4AF2-9A0D-C9D59EC0B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183B6-F7BF-4315-B819-5435A565B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51B7-A974-42AA-BF80-0147370E3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75D3-C49A-4ECD-8A6D-B90D7A5FBB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FT 6  - 28 JAN 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59080"/>
            <a:ext cx="84582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İSMAİL YAN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TEB YÖNETİM KURULU ÜYES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yanik@teb.com.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28195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"/>
              </a:rPr>
              <a:t>13 NİSA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43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2870F-29EB-49EA-B030-D68A059BEE7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Operasyonel risk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içi kontrollerdeki aksamalar sonucu hat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sulsüzlükler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özden 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yönetimi ve personel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 ve k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lara 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reket edilememesinden, ban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önetimindek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ardan, bilgi teknoloji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deki hata ve aks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deprem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, sel gibi felaketler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 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üreçlerinde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hata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sonuna -de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ilmesin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ihai ta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ç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- kadar her 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m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çt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, noksan veya kaç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cu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 risk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Bilgi sistemlerinde hata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eknoloji veya 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 seçimi , siste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me ve uygulam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hardware, software, networ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yüz uygul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ş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t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za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nsandan kaynaklanan riskler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, personel suistimali, personel hat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kisiz faaliyet, onay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 ve personel yetersiz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veya kil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ersonel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cak zarar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o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l afet ve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dı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faktörlerden kaynaklanan riskler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prem, 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,sel gib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fetler ile ile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, u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ım ve enerji alt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an sorunl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zarar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u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3E064-70A3-4B89-BAB7-FD542D8350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860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üzenlemelere uyulmam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Mevzuat hükümlerine ve kanunlar ile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üzenleme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ümlülüklere,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iç mevzuat hükümlerine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abul görmü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allara uyu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sonucu orta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resm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rciler 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verilen faiz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 cez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iş koluna getirilen yasak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amalar ile zorunlu düzeltme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iyeti nedeni ile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Mevzuata ilişkin yetersiz bilgi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tarafından yetersiz ya da yan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lgeye dayanarak yapılabilecek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 neticesinde ha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klenenden d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klerin ise beklenenin üzer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Vergi riski 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rgi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 ay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ya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bilonço pozisyonund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resmi mercilerce talep edilebilecek ek vergi ve vergi cez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tiba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aliyetlerindeki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ya da mevcut yasal düzenlemeler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v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ticesinde bankaya duyulan güvenin aza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tib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zedelenme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Yasal risk ve yükümlülük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ca taraf olun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de eksi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da 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ersiz hükümler ve uygulama usulleri bulun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a yasal 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p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da bulunu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üçüncü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rin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n taleplerinde yeterli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ya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bulunamaması nedeniyle zarara uğ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0F20-A18F-4494-A0BA-4A93A9BE9C9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Güvenlik riski :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zaen veya 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r eylem sonucu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sahip olduğu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nin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gizlili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ütünlük ve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uluk veya kul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l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bilir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yitirilmes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sayan bilgi sistemleri ve fizikse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üvenlik riski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FEC37-782F-49B6-B7C5-0E64E3946AD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27016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TEMEL İLKE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AD5DF-85F2-4CAE-BEEA-086EF693ADA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709640"/>
            <a:ext cx="7772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 u="sng">
                <a:solidFill>
                  <a:srgbClr val="ffffff"/>
                </a:solidFill>
                <a:uFillTx/>
                <a:latin typeface="Arial"/>
              </a:rPr>
              <a:t>KURUM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trateji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Politik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Yönetim Kültürü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üm çalışanlarca bilinmeli ve benimsenmelid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4DEA-74D1-43F8-B59C-3781DB2BCB9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701720"/>
            <a:ext cx="777240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ffffff"/>
                </a:solidFill>
                <a:latin typeface="Arial"/>
              </a:rPr>
              <a:t>Yönetimin 1’nci sorumluluğu kurumun riskini yönetecek kişileri eğitmek, geliştirmek, yönlendirmek ve desteklemekti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BE74-DE18-4BB5-B376-52FFB3A1C7C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52480" y="3276720"/>
            <a:ext cx="4819680" cy="2476080"/>
            <a:chOff x="1752480" y="3276720"/>
            <a:chExt cx="4819680" cy="2476080"/>
          </a:xfrm>
        </p:grpSpPr>
        <p:sp>
          <p:nvSpPr>
            <p:cNvPr id="139" name=""/>
            <p:cNvSpPr/>
            <p:nvPr/>
          </p:nvSpPr>
          <p:spPr>
            <a:xfrm>
              <a:off x="2912400" y="3782160"/>
              <a:ext cx="2483640" cy="15177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52480" y="5247360"/>
              <a:ext cx="1427400" cy="505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8440" y="3276720"/>
              <a:ext cx="1427400" cy="5054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4760" y="5247360"/>
              <a:ext cx="1427400" cy="5054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733920" y="3276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Pazarlama / Haz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3341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Operas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5334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K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8FAE-4CC8-4F86-8951-04B319464B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040" y="24382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73392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yat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581280"/>
            <a:ext cx="2438640" cy="1524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eğer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4956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92C68-CE19-439D-A29E-30B6BAFC13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266688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icari Portfö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2514600"/>
            <a:ext cx="243864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Yatırı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Portföy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4290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419360" y="31240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3434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Piyasa fiyatına göre değerleme  (MT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522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F81FD-D477-48AE-A6F7-C0ADFBE6B2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1793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Müşteri segmen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Sektör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Bölge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İN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AĞITILM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BC13-4F76-49DD-9258-C2EA35D0D1A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362320"/>
            <a:ext cx="8763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ANKAMIZIN HEDEF ve AMAÇLARINA ULAŞMASINI ETKİLEYEN HER TÜRLÜ UNS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948AB-BB96-4650-87D4-9BC3D3C3A69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2130480"/>
            <a:ext cx="77724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Kredi / Karşı taraf risk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Ülke / Bölge / Sektör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Gap Limitleri (Faiz risk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Likidite rasyo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RİSKİN 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LİMİTLENMES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C61B-2F75-4D2D-B95F-3D1863FCDFF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304920"/>
            <a:ext cx="60958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609480"/>
            <a:ext cx="77724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ari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Hedef müşt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kontrol nokt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Geti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Operasyo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Muhasebe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8440" y="43344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RÜN EL KİTAPL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F959-5D26-4422-B3FE-2FD67C7B6A2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046240"/>
            <a:ext cx="85341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DÜRÜSTLÜ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Aklımızı kullanarak hareket etme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Risk alanların tecrübe ile gelişen yeteneğ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Ç ANA UNS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4596F-9917-493E-8821-DF5681E7D4E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62320" y="152280"/>
            <a:ext cx="4343400" cy="16002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elefon             Teleks              Re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ilgisayar teknolojilerinin gelişmesi sonucu hesaplama          ve bilgiye ulaşma maliyetlerinin ucuz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78            $ 500        M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 ---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C923-A8ED-43FF-8BC0-3ACF25DD6F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84  Reuters  Green Monitor   $ 50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ha fazla bilgi                          $  5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55E3-4708-4420-B6FC-3BFADF9AD3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66680" y="1904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nternet/Intranet’in yayı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i oluşturan bilgilerin konsolidasy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İşlem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Kur/faiz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Diğer piyasa ver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Müşteri bilg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E2029-131C-42C9-99EA-B44966D824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ylık             Haftalık            Günlük          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43E18-99C0-466E-A196-9306562DD5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68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ara Piyasa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Hazine bonosunun ilk defa repolanması (198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bilançolarında yoğunlaş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Hazine Bo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Eurob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Yabancı piyasaların ilgisi/etk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304920"/>
            <a:ext cx="4343400" cy="121896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ÜRKİ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PİYAS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A8B4-4EC3-47EE-8AF4-1309E80312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mendment to the 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Nisan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İç Denetim ve Ris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önetimi Sistemleri Hakkında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Sermaye Yeterliliğinin Ölçülmes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ve Değerlendirilmesine İlişkin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2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152280"/>
            <a:ext cx="48006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KANUN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ÜZENLE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338B-577D-41E9-88AA-658BA60D15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4320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DDK tarafından yayımlanan 8 Şubat 2001 tarihli “Bankaların İç Denetim ve Risk  Yönetimi Sistemleri Hakkındaki Yönetmelik Bankalarda aşağıda belirtilen alanlarda değişiklik yara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476520"/>
            <a:ext cx="4953240" cy="18288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3864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Yönetim Kuruluna İlave Sorumlul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26708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Kuvvetler Ayrılığı İlkesinin Daha Etkin Uygulan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33412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4100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Piyasa ve Kredi Riski Yöneti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36840" y="28954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Organizasyon Yapısında Değişik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46880" y="297180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aha Etkin İç Kontrol Sist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733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İlave Raporlama ve Bildirim Yükümlülüğ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9338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Banka Risklilik Düzeyinin Belirlenmesi, Bankanın Temel İşlevsel Faaliyet Alanlarının Özel Kontrol Ve İncelemel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66ACE-CADF-4D98-84FB-88C940786C6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2743200"/>
            <a:ext cx="1904760" cy="1828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üşteril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er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2743200"/>
            <a:ext cx="198144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önet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743200"/>
            <a:ext cx="2133360" cy="17524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şarıl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nkacılı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1331-6DED-4A49-A4F4-6E5BF01F8D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nın oluşturul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Faaliyetlerin risklilik düzeyinin değer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cil ve beklenmedik durum planı uygula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Piyasa riskinini ölçülmesi (Standart metod yada VaR) (1.1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anka iştiraklerinin risk yönetiminde dikkate alınması (1.7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QIS-TR  (28.02.20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2860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286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39E4-8ED5-43D9-85F2-7D874FB22A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azine  pozisyonlarından (trading book) bir günlük elde tutma süresi ve belli bir güven aralığında - %99 – olasılıkla kaybedilecek en yüksek tutar (TL veya US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34E6-1200-46EB-B14C-1DDB7BB273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 Yönetim Arac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Yönetimini, Resmi Otoriteyi ve Piyasayı Bilg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erformans Ölçü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imit Tahsis / İzl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2067-2EF7-4EDD-B281-A696E29DCF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Varsayımsal veya gerçekleşmiş olay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ğanüstü fiyat değişiklik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portföyüne uygun senary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prem - Kasım - Şubat - Irak kr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y ve parametre seçi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Öngörü ve tecrü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304920"/>
            <a:ext cx="487692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30492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tres Tes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enaryo Analiz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76CF-B2E2-4C9F-A43D-771EFC5E375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447560" y="2514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iz oranlarına paralel-non paralel şok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ur şok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urasyon – gap anal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049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UYARLILIK  DURASY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B688A-97DA-4059-92ED-55E3080456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iştah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cc66"/>
                </a:solidFill>
                <a:latin typeface="Arial"/>
              </a:rPr>
              <a:t>İhtiyaçlar önceden tespit edilme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nokta/seviy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ürün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ilanço hassasiye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330C0-9EDC-4886-9A25-358DF8BE30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İnsana yatırım önceliğ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Bilinçlendir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80880"/>
            <a:ext cx="4343400" cy="121932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3279-43C8-4643-82B0-645C5C138B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189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Bilgi İşlem Altyapı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taylı Anal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Risk Yönetimi          Hazırlık          Data topl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41911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1911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927D7-25C2-402D-8E61-C12B962AF0F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9072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okal destek sağlanmal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ürk piyasalarının özelliklerine (Volatilite, veri eksikliği v.b.) uygun sentez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now-how kurum içinde içselleştirilm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0FA3-2D4E-4A1E-984C-05850FC4E4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Risk Yöneticisinin rol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İcraya karışacak mı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Sadece karar desteğ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Yurtdışı örnek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BDD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38088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FFAA-78E7-43B0-95D3-65BA085C429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K, kurumlarında etkin bir Risk Yönetimi olduğundan emin olmak 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00"/>
                </a:solidFill>
                <a:latin typeface="Arial"/>
              </a:rPr>
              <a:t>NEDE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urumlar değişir (kişiler ve yapı olarak) bu değişim geleneksel kontrollerin değişmesine genellikle atlanmasına sebep ol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eni teknoloji beraberinde yeni riskler getir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emler giderek daha karmaşık yapılar içerir     (türev ürünler, struc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asıtlı hata veya ihmal bir çok kurum için hala problem teşkil edi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tratejik hata maliyetleri arttırı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ontrol aksaklıkları kurumu önemli derecede et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380880"/>
            <a:ext cx="64008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808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YK – RY BAKIŞ AÇI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2910C-5CA7-4AC4-9B02-0D2B30A4A8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Yönetiminin önem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Üst Yönetimin bilgilendirilmesi/bilinç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andart Met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Yeterli m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Doğru data (Garbage in / Garbage O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oğru çözüm her zaman pahalı değil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lack Box çözüm yokt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u bir yaşam biçimi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6094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60948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ONU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7200" y="58672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 II YAKI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0A5E2-68DC-44D0-A6CB-49CCE7586EB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18960" y="2819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4 Orange County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ructured Securities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1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5 Barings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Nikkei  Future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1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6 Sumitomo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Yetkisiz Pozisyon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2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2002 Allied Irish 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Currency Option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0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57200"/>
            <a:ext cx="51814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8088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ÜYÜK KAYIP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2374-BC0C-4CA3-A6FC-E713613345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91120" y="2511360"/>
            <a:ext cx="618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TEMEL RİSK TANIML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5EDA1-3D73-4CC1-ABEE-B34037FDF08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094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tratej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Seçilen uygulama ve kararlar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,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lu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tr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nelinde meydana gelen dönemsel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 veya teknoloji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tices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red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m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erisinin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gereklerine uymay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veya tamamen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ememesinden dol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tı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istemik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deki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dan kaynaklan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e i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in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aksak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u aksaklıkları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stik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zerindeki etkilerinden kaynaklanan 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Ülk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de, krediyi alan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aliyette bulunduğ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lkenin ekonomik, sosyal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k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 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tamam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ilememesi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EC5F3-B214-4EAC-82F6-A3999EF20B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53352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amamas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raftan, umulan süre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nu finansal ara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da fonu (nakdi) teslim a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el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dememesi durumun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ma öncesi olu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n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mi yapan taraflardan birinin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s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de,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deki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yerine getiremey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Transfe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yi alan kiş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bulund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 ülkenin ekonom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rum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döviz borcunun ay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ürde veya konvertib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döviz ile g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n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aiz oran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iz oranlarındaki hareketler nedeniyle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ozisyo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maruz kalabil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zarar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5C5F8-643D-47D3-8E35-B2E1B563396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5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engesizlik sonucunda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çık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m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yacak düzeyde ve nitelikte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vcud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e sahi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ulun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iyasaya gerek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gibi girememesi, ba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ünlerdeki 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iyasa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piyasalar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geller ve bölünmel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zisyon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gun bir fiyatta, yeterli tutarlarda ve h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at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pozisyonlardan çık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nda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zar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onlam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üzensizlikle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adey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umsuzlu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nlama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maku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maliye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potansiyel olarak yerine getir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lanço içi ve bilanço 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esaplarda bankalarca tutul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larda finansal piyasada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lgalanmalardan kaynaklan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iz, kur ve hiss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 fi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ine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faiz o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iski, hiss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 risk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 riski gibi riskler nedeniyle zarar et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00A1-EEE6-4D84-B9DB-C08ABE9A129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19:07:35Z</dcterms:created>
  <dc:creator>Robert Fleming &amp; Co Limited</dc:creator>
  <dc:description/>
  <dc:language>en-US</dc:language>
  <cp:lastModifiedBy>krandaa</cp:lastModifiedBy>
  <cp:lastPrinted>2000-01-26T21:41:00Z</cp:lastPrinted>
  <dcterms:modified xsi:type="dcterms:W3CDTF">2004-04-26T14:07:19Z</dcterms:modified>
  <cp:revision>438</cp:revision>
  <dc:subject/>
  <dc:title>No Slide Title</dc:title>
</cp:coreProperties>
</file>