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png" ContentType="image/png"/>
  <Override PartName="/ppt/media/image8.wmf" ContentType="image/x-wmf"/>
  <Override PartName="/ppt/media/image12.wmf" ContentType="image/x-wmf"/>
  <Override PartName="/ppt/media/image16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8959850" cy="6721475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35200" y="264600"/>
            <a:ext cx="4528800" cy="38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9" name="McK Separator"/>
          <p:cNvSpPr/>
          <p:nvPr/>
        </p:nvSpPr>
        <p:spPr>
          <a:xfrm>
            <a:off x="1189080" y="1030320"/>
            <a:ext cx="75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51480"/>
            <a:ext cx="932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304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4675320"/>
            <a:ext cx="1911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0720" y="3221640"/>
            <a:ext cx="7925400" cy="30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380880" y="28908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991120" y="272880"/>
            <a:ext cx="3608640" cy="401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1: MINIMUM CAPITAL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: greater emphasis on banks’ own assessment of the risks to which they are exposed in the calculation of regulatory capital charges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ew approach to credit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nclusion of explicit capital requirements for operational risk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a range of risk-sensitiv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2: SUPERVISORY REVIEW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supervisors should ensure that each bank has sound internal processes in place to assess the adequacy of its capital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e process is rather labour- intensive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based on a thorough evaluation of its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3: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bolstering of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enhanced disclos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471600" indent="-25416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3" marL="717480" indent="-2444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4" marL="955800" indent="-23040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5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6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19400" y="6330960"/>
            <a:ext cx="597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C286E6F6-4167-499E-B853-82B3E1C73A14}" type="slidenum">
              <a:rPr b="0" lang="nl-BE" sz="900" spc="-1" strike="noStrike">
                <a:solidFill>
                  <a:srgbClr val="2a325b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360" y="250920"/>
            <a:ext cx="882504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57320" y="74520"/>
            <a:ext cx="2259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500" spc="-1" strike="noStrike">
                <a:solidFill>
                  <a:srgbClr val="85b2ed"/>
                </a:solidFill>
                <a:latin typeface="Arial Narrow"/>
              </a:rPr>
              <a:t>Institutional Banking &amp; F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2840" y="6440400"/>
            <a:ext cx="7499520" cy="7920"/>
          </a:xfrm>
          <a:custGeom>
            <a:avLst/>
            <a:gdLst/>
            <a:ahLst/>
            <a:rect l="l" t="t" r="r" b="b"/>
            <a:pathLst>
              <a:path w="5223" h="5">
                <a:moveTo>
                  <a:pt x="0" y="5"/>
                </a:moveTo>
                <a:lnTo>
                  <a:pt x="5223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81560" y="6377040"/>
            <a:ext cx="2776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May 12</a:t>
            </a:r>
            <a:r>
              <a:rPr b="0" lang="fr-BE" sz="1100" spc="-1" strike="noStrike" baseline="30000">
                <a:solidFill>
                  <a:srgbClr val="2a325b"/>
                </a:solidFill>
                <a:latin typeface="Arial"/>
              </a:rPr>
              <a:t>th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,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5400" y="6124680"/>
          <a:ext cx="11905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6124680"/>
                    <a:ext cx="11905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RTIS%20Merchant%20Banking_BIG_H2" descr=""/>
          <p:cNvPicPr/>
          <p:nvPr/>
        </p:nvPicPr>
        <p:blipFill>
          <a:blip r:embed="rId2"/>
          <a:stretch/>
        </p:blipFill>
        <p:spPr>
          <a:xfrm>
            <a:off x="414360" y="0"/>
            <a:ext cx="3308400" cy="128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60" y="1468440"/>
            <a:ext cx="8817120" cy="1440"/>
          </a:xfrm>
          <a:custGeom>
            <a:avLst/>
            <a:gdLst/>
            <a:ahLst/>
            <a:rect l="l" t="t" r="r" b="b"/>
            <a:pathLst>
              <a:path w="6140" h="1">
                <a:moveTo>
                  <a:pt x="0" y="0"/>
                </a:moveTo>
                <a:lnTo>
                  <a:pt x="6140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99360" y="1254240"/>
            <a:ext cx="34074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 </a:t>
            </a: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Institutional Banking &amp; Fu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239560"/>
            <a:ext cx="761868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6491160"/>
            <a:ext cx="8825040" cy="180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1440" indent="0" algn="ctr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184320" indent="33120" algn="ctr">
              <a:lnSpc>
                <a:spcPct val="85000"/>
              </a:lnSpc>
              <a:spcBef>
                <a:spcPts val="8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7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347760" indent="125280" algn="ctr">
              <a:lnSpc>
                <a:spcPct val="85000"/>
              </a:lnSpc>
              <a:spcBef>
                <a:spcPts val="751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2a325b"/>
              </a:solidFill>
              <a:latin typeface="Arial"/>
            </a:endParaRPr>
          </a:p>
          <a:p>
            <a:pPr lvl="4" marL="538200" indent="187200" algn="ctr">
              <a:lnSpc>
                <a:spcPct val="85000"/>
              </a:lnSpc>
              <a:spcBef>
                <a:spcPts val="649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5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6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1763280"/>
            <a:ext cx="761832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4200" spc="-1" strike="noStrike">
                <a:solidFill>
                  <a:srgbClr val="2a325b"/>
                </a:solidFill>
                <a:latin typeface="Arial"/>
              </a:rPr>
              <a:t>Risk Modelling</a:t>
            </a:r>
            <a:br>
              <a:rPr sz="4200"/>
            </a:b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From Internal Validation to</a:t>
            </a: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 Basel II Compliance</a:t>
            </a:r>
            <a:r>
              <a:rPr b="0" lang="en-GB" sz="30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4352760"/>
            <a:ext cx="8386920" cy="1717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Risk Management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Conference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May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12th,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2004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132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4000" y="4965840"/>
            <a:ext cx="3504960" cy="512640"/>
            <a:chOff x="2664000" y="4965840"/>
            <a:chExt cx="3504960" cy="512640"/>
          </a:xfrm>
        </p:grpSpPr>
        <p:sp>
          <p:nvSpPr>
            <p:cNvPr id="98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KS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SOCIATION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9000"/>
          </a:bodyPr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with minimum criteri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First Pillar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Risk : Internal Ratings-Based Approach : Art. 349 to 500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perational Risk : Art. 620 to 639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econd Pillar : strong reminder of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396 to 399 : Stress Test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416 – 418  : Definition of default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hree main areas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o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owns the process ?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How</a:t>
            </a:r>
            <a:r>
              <a:rPr b="1" lang="fr-BE" sz="29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s the process applied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at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is in the process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Gener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66880" y="2340000"/>
            <a:ext cx="3276720" cy="1942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2746440"/>
            <a:ext cx="2590920" cy="143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6400" y="3178080"/>
            <a:ext cx="1815840" cy="876240"/>
          </a:xfrm>
          <a:prstGeom prst="ellipse">
            <a:avLst/>
          </a:prstGeom>
          <a:solidFill>
            <a:srgbClr val="d7a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3640" y="5319720"/>
            <a:ext cx="736560" cy="392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81280" y="3340080"/>
            <a:ext cx="1498680" cy="68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sk Analythic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89320" y="2997360"/>
            <a:ext cx="21463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iness Lin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908440" y="2603520"/>
            <a:ext cx="280656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36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ntral Risk Manage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393696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Fort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it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167004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i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ar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397836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rn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&amp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440" y="99864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it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sel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2760" y="4624560"/>
            <a:ext cx="1701720" cy="1500120"/>
          </a:xfrm>
          <a:prstGeom prst="upArrowCallout">
            <a:avLst>
              <a:gd name="adj1" fmla="val 28362"/>
              <a:gd name="adj2" fmla="val 28360"/>
              <a:gd name="adj3" fmla="val 16667"/>
              <a:gd name="adj4" fmla="val 6666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Lines &amp; C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Nee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640" y="3438360"/>
            <a:ext cx="587520" cy="58608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08560" y="349884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5360" y="30258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32004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448308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815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5320" y="142236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2240" y="53611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000" spc="-1" strike="noStrike">
                <a:solidFill>
                  <a:srgbClr val="2a325b"/>
                </a:solidFill>
                <a:latin typeface="Arial"/>
              </a:rPr>
              <a:t>Fortis Risk Validation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600" spc="-1" strike="noStrike">
                <a:solidFill>
                  <a:srgbClr val="2a325b"/>
                </a:solidFill>
                <a:latin typeface="Arial"/>
              </a:rPr>
              <a:t>Mutiple Stakeholders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Validation organis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6080" y="1188720"/>
            <a:ext cx="840240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wnership of senior management in the structur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dependance of the Risk Modeller from the business lin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grity of the rating proces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2040" y="2355840"/>
          <a:ext cx="812952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355840"/>
                    <a:ext cx="81295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874200">
            <a:off x="5439960" y="3371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8043600">
            <a:off x="5920920" y="4271400"/>
            <a:ext cx="1714320" cy="219240"/>
          </a:xfrm>
          <a:prstGeom prst="rightArrow">
            <a:avLst>
              <a:gd name="adj1" fmla="val 50000"/>
              <a:gd name="adj2" fmla="val 1954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546400">
            <a:off x="4882680" y="3983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6960" y="3767040"/>
            <a:ext cx="18288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 Committ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240" y="5778360"/>
            <a:ext cx="76453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e validation triangle : Business – Analythics-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511200"/>
            <a:ext cx="1846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Art. 400 - 4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8520" y="2166840"/>
            <a:ext cx="80247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426960" indent="-426960">
              <a:lnSpc>
                <a:spcPct val="100000"/>
              </a:lnSpc>
              <a:spcBef>
                <a:spcPts val="499"/>
              </a:spcBef>
              <a:buClr>
                <a:srgbClr val="a1a1a1"/>
              </a:buClr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credit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nd busin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in the analysis of differences between model rating and experts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(balance-sheet / nace /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issues ( financial analys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closed Credi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take necessary action in a uniform way - Guards to ensure consistency of overruling and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ing in line with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nchmar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, support and tests of new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and support rating coverag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Model - Rating Anomaly Managemen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152360"/>
            <a:ext cx="7004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ortant to maintain coherency between field and modeller : art. 379, 386 - 3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Implementation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280" y="7209000"/>
            <a:ext cx="818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520" y="4640400"/>
            <a:ext cx="4446360" cy="133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20" y="5786280"/>
            <a:ext cx="212760" cy="189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5280" y="4894200"/>
            <a:ext cx="210600" cy="1081080"/>
            <a:chOff x="665280" y="4894200"/>
            <a:chExt cx="210600" cy="1081080"/>
          </a:xfrm>
        </p:grpSpPr>
        <p:sp>
          <p:nvSpPr>
            <p:cNvPr id="242" name=""/>
            <p:cNvSpPr/>
            <p:nvPr/>
          </p:nvSpPr>
          <p:spPr>
            <a:xfrm>
              <a:off x="66528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5360" y="4894200"/>
              <a:ext cx="576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480" y="4894200"/>
              <a:ext cx="1008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920" y="4894200"/>
              <a:ext cx="5040" cy="108108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960" y="4894200"/>
              <a:ext cx="11160" cy="108108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48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92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4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6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40" y="4894200"/>
              <a:ext cx="5040" cy="108108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40" y="4894200"/>
              <a:ext cx="10080" cy="108108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8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98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8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48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60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3040" y="4894200"/>
              <a:ext cx="5040" cy="108108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4894200"/>
              <a:ext cx="11160" cy="108108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9600" y="4894200"/>
              <a:ext cx="1116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" y="4894200"/>
              <a:ext cx="504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80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280" y="4894200"/>
            <a:ext cx="210960" cy="1081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6240" y="5711760"/>
            <a:ext cx="212400" cy="263520"/>
            <a:chOff x="876240" y="5711760"/>
            <a:chExt cx="212400" cy="263520"/>
          </a:xfrm>
        </p:grpSpPr>
        <p:sp>
          <p:nvSpPr>
            <p:cNvPr id="268" name=""/>
            <p:cNvSpPr/>
            <p:nvPr/>
          </p:nvSpPr>
          <p:spPr>
            <a:xfrm>
              <a:off x="876240" y="5711760"/>
              <a:ext cx="1116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5711760"/>
              <a:ext cx="504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2440" y="5711760"/>
              <a:ext cx="1116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3960" y="5711760"/>
              <a:ext cx="5040" cy="263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" y="5711760"/>
              <a:ext cx="11160" cy="263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0520" y="5711760"/>
              <a:ext cx="1008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096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6000" y="5711760"/>
              <a:ext cx="1116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752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868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4080" y="5711760"/>
              <a:ext cx="1008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4520" y="5711760"/>
              <a:ext cx="5760" cy="263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0280" y="5711760"/>
              <a:ext cx="10080" cy="263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711760"/>
              <a:ext cx="1116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0224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0728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18800" y="5711760"/>
              <a:ext cx="1008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888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4280" y="5711760"/>
              <a:ext cx="1116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5440" y="5711760"/>
              <a:ext cx="5040" cy="263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0840" y="5711760"/>
              <a:ext cx="11160" cy="263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2000" y="5711760"/>
              <a:ext cx="1008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2440" y="5711760"/>
              <a:ext cx="576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8560" y="5711760"/>
              <a:ext cx="1008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76240" y="5711760"/>
            <a:ext cx="212760" cy="26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9000" y="5703840"/>
            <a:ext cx="212760" cy="271440"/>
            <a:chOff x="1089000" y="5703840"/>
            <a:chExt cx="212760" cy="271440"/>
          </a:xfrm>
        </p:grpSpPr>
        <p:sp>
          <p:nvSpPr>
            <p:cNvPr id="294" name=""/>
            <p:cNvSpPr/>
            <p:nvPr/>
          </p:nvSpPr>
          <p:spPr>
            <a:xfrm>
              <a:off x="10890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0016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5200" y="5703840"/>
              <a:ext cx="1044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5640" y="5703840"/>
              <a:ext cx="5760" cy="271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1760" y="5703840"/>
              <a:ext cx="10440" cy="271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3220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72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876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9920" y="5703840"/>
              <a:ext cx="1044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70360" y="5703840"/>
              <a:ext cx="504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5760" y="5703840"/>
              <a:ext cx="1116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6920" y="5703840"/>
              <a:ext cx="5040" cy="271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1960" y="5703840"/>
              <a:ext cx="11160" cy="271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03480" y="5703840"/>
              <a:ext cx="1044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3920" y="5703840"/>
              <a:ext cx="576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20040" y="5703840"/>
              <a:ext cx="1008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48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164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4704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200" y="5703840"/>
              <a:ext cx="5040" cy="271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3600" y="5703840"/>
              <a:ext cx="10440" cy="271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040" y="5703840"/>
              <a:ext cx="1116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520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06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89000" y="5703840"/>
            <a:ext cx="212760" cy="27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1760" y="5738760"/>
            <a:ext cx="210600" cy="236520"/>
            <a:chOff x="1301760" y="5738760"/>
            <a:chExt cx="210600" cy="236520"/>
          </a:xfrm>
        </p:grpSpPr>
        <p:sp>
          <p:nvSpPr>
            <p:cNvPr id="320" name=""/>
            <p:cNvSpPr/>
            <p:nvPr/>
          </p:nvSpPr>
          <p:spPr>
            <a:xfrm>
              <a:off x="1301760" y="5738760"/>
              <a:ext cx="1008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840" y="5738760"/>
              <a:ext cx="576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7960" y="5738760"/>
              <a:ext cx="1008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400" y="5738760"/>
              <a:ext cx="5040" cy="2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3440" y="5738760"/>
              <a:ext cx="11160" cy="2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44960" y="5738760"/>
              <a:ext cx="1080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5738760"/>
              <a:ext cx="504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61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71240" y="5738760"/>
              <a:ext cx="1116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276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7800" y="5738760"/>
              <a:ext cx="1080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8960" y="5738760"/>
              <a:ext cx="5040" cy="2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4360" y="5738760"/>
              <a:ext cx="10800" cy="2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15520" y="5738760"/>
              <a:ext cx="1008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560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1000" y="5738760"/>
              <a:ext cx="1080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2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5738760"/>
              <a:ext cx="576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8720" y="5738760"/>
              <a:ext cx="1008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68800" y="5738760"/>
              <a:ext cx="5760" cy="2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74920" y="5738760"/>
              <a:ext cx="10080" cy="2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5000" y="5738760"/>
              <a:ext cx="1116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6520" y="5738760"/>
              <a:ext cx="504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1560" y="5738760"/>
              <a:ext cx="1080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01760" y="5738760"/>
            <a:ext cx="210960" cy="2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12720" y="5537160"/>
            <a:ext cx="211320" cy="438120"/>
            <a:chOff x="1512720" y="5537160"/>
            <a:chExt cx="211320" cy="438120"/>
          </a:xfrm>
        </p:grpSpPr>
        <p:sp>
          <p:nvSpPr>
            <p:cNvPr id="346" name=""/>
            <p:cNvSpPr/>
            <p:nvPr/>
          </p:nvSpPr>
          <p:spPr>
            <a:xfrm>
              <a:off x="151272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800" y="5537160"/>
              <a:ext cx="504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8200" y="5537160"/>
              <a:ext cx="1116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39360" y="5537160"/>
              <a:ext cx="5040" cy="4381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4760" y="5537160"/>
              <a:ext cx="11160" cy="4381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5920" y="5537160"/>
              <a:ext cx="1008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66360" y="5537160"/>
              <a:ext cx="576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248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8292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40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99120" y="5537160"/>
              <a:ext cx="1008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9560" y="5537160"/>
              <a:ext cx="5760" cy="4381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5680" y="5537160"/>
              <a:ext cx="10080" cy="4381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26120" y="5537160"/>
              <a:ext cx="1116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72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4268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384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64280" y="5537160"/>
              <a:ext cx="504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9680" y="5537160"/>
              <a:ext cx="1116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0840" y="5537160"/>
              <a:ext cx="5040" cy="4381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85880" y="5537160"/>
              <a:ext cx="11160" cy="4381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97400" y="5537160"/>
              <a:ext cx="1008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7840" y="5537160"/>
              <a:ext cx="576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396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512720" y="5537160"/>
            <a:ext cx="211320" cy="43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24040" y="4838760"/>
            <a:ext cx="212400" cy="1136520"/>
            <a:chOff x="1724040" y="4838760"/>
            <a:chExt cx="212400" cy="1136520"/>
          </a:xfrm>
        </p:grpSpPr>
        <p:sp>
          <p:nvSpPr>
            <p:cNvPr id="372" name=""/>
            <p:cNvSpPr/>
            <p:nvPr/>
          </p:nvSpPr>
          <p:spPr>
            <a:xfrm>
              <a:off x="172404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520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0240" y="4838760"/>
              <a:ext cx="1116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760" y="4838760"/>
              <a:ext cx="5040" cy="11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6800" y="4838760"/>
              <a:ext cx="10080" cy="11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724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876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80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532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5760" y="4838760"/>
              <a:ext cx="576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1880" y="4838760"/>
              <a:ext cx="1008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2320" y="4838760"/>
              <a:ext cx="5040" cy="11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7360" y="4838760"/>
              <a:ext cx="11160" cy="11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8520" y="4838760"/>
              <a:ext cx="1116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0040" y="4838760"/>
              <a:ext cx="504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508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552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704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08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3240" y="4838760"/>
              <a:ext cx="5040" cy="11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98640" y="4838760"/>
              <a:ext cx="11160" cy="11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4838760"/>
              <a:ext cx="1008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024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2528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724040" y="4838760"/>
            <a:ext cx="212760" cy="11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36800" y="4776840"/>
            <a:ext cx="212760" cy="1198440"/>
            <a:chOff x="1936800" y="4776840"/>
            <a:chExt cx="212760" cy="1198440"/>
          </a:xfrm>
        </p:grpSpPr>
        <p:sp>
          <p:nvSpPr>
            <p:cNvPr id="398" name=""/>
            <p:cNvSpPr/>
            <p:nvPr/>
          </p:nvSpPr>
          <p:spPr>
            <a:xfrm>
              <a:off x="1936800" y="4776840"/>
              <a:ext cx="1044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7240" y="4776840"/>
              <a:ext cx="576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3360" y="4776840"/>
              <a:ext cx="1044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63800" y="4776840"/>
              <a:ext cx="5760" cy="1198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9560" y="4776840"/>
              <a:ext cx="10440" cy="1198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76840"/>
              <a:ext cx="1116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152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6560" y="4776840"/>
              <a:ext cx="1044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7000" y="4776840"/>
              <a:ext cx="1116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160" y="4776840"/>
              <a:ext cx="504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4776840"/>
              <a:ext cx="1116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4720" y="4776840"/>
              <a:ext cx="5040" cy="1198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0120" y="4776840"/>
              <a:ext cx="11160" cy="1198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1280" y="4776840"/>
              <a:ext cx="1044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1720" y="4776840"/>
              <a:ext cx="576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7840" y="4776840"/>
              <a:ext cx="1044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8280" y="4776840"/>
              <a:ext cx="1116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8944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94840" y="4776840"/>
              <a:ext cx="1044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5280" y="4776840"/>
              <a:ext cx="5760" cy="1198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11400" y="4776840"/>
              <a:ext cx="10440" cy="1198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1840" y="4776840"/>
              <a:ext cx="1116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000" y="4776840"/>
              <a:ext cx="504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8400" y="4776840"/>
              <a:ext cx="1116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36800" y="4776840"/>
            <a:ext cx="212760" cy="1198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49560" y="4911840"/>
            <a:ext cx="210600" cy="1063440"/>
            <a:chOff x="2149560" y="4911840"/>
            <a:chExt cx="210600" cy="1063440"/>
          </a:xfrm>
        </p:grpSpPr>
        <p:sp>
          <p:nvSpPr>
            <p:cNvPr id="424" name=""/>
            <p:cNvSpPr/>
            <p:nvPr/>
          </p:nvSpPr>
          <p:spPr>
            <a:xfrm>
              <a:off x="214956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59640" y="4911840"/>
              <a:ext cx="504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5040" y="4911840"/>
              <a:ext cx="1116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6200" y="4911840"/>
              <a:ext cx="5040" cy="106344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1240" y="4911840"/>
              <a:ext cx="11160" cy="106344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276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320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96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1940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309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5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47120" y="4911840"/>
              <a:ext cx="5040" cy="106344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2520" y="4911840"/>
              <a:ext cx="10080" cy="106344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2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1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7916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9032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0076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688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7320" y="4911840"/>
              <a:ext cx="5040" cy="106344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2360" y="4911840"/>
              <a:ext cx="11160" cy="106344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4911840"/>
              <a:ext cx="1008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3960" y="4911840"/>
              <a:ext cx="576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008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149560" y="4911840"/>
            <a:ext cx="210960" cy="106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360520" y="5092560"/>
            <a:ext cx="212400" cy="882720"/>
            <a:chOff x="2360520" y="5092560"/>
            <a:chExt cx="212400" cy="882720"/>
          </a:xfrm>
        </p:grpSpPr>
        <p:sp>
          <p:nvSpPr>
            <p:cNvPr id="450" name=""/>
            <p:cNvSpPr/>
            <p:nvPr/>
          </p:nvSpPr>
          <p:spPr>
            <a:xfrm>
              <a:off x="236052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168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6720" y="5092560"/>
              <a:ext cx="1116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240" y="5092560"/>
              <a:ext cx="5040" cy="88272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3280" y="5092560"/>
              <a:ext cx="11160" cy="88272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4800" y="5092560"/>
              <a:ext cx="1008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24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028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180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2240" y="5092560"/>
              <a:ext cx="576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48360" y="5092560"/>
              <a:ext cx="1008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58440" y="5092560"/>
              <a:ext cx="5760" cy="8827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4560" y="5092560"/>
              <a:ext cx="10080" cy="88272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5000" y="5092560"/>
              <a:ext cx="1116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520" y="5092560"/>
              <a:ext cx="504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156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8560" y="5092560"/>
              <a:ext cx="1116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29720" y="5092560"/>
              <a:ext cx="5040" cy="88272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5120" y="5092560"/>
              <a:ext cx="11160" cy="88272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6280" y="5092560"/>
              <a:ext cx="1008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5672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176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360520" y="5092560"/>
            <a:ext cx="212760" cy="882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73280" y="5549760"/>
            <a:ext cx="205920" cy="425520"/>
            <a:chOff x="2573280" y="5549760"/>
            <a:chExt cx="205920" cy="425520"/>
          </a:xfrm>
        </p:grpSpPr>
        <p:sp>
          <p:nvSpPr>
            <p:cNvPr id="476" name=""/>
            <p:cNvSpPr/>
            <p:nvPr/>
          </p:nvSpPr>
          <p:spPr>
            <a:xfrm>
              <a:off x="2573280" y="5549760"/>
              <a:ext cx="1116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444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89480" y="5549760"/>
              <a:ext cx="1008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9920" y="5549760"/>
              <a:ext cx="576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6040" y="5549760"/>
              <a:ext cx="1008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16480" y="5549760"/>
              <a:ext cx="5040" cy="425520"/>
            </a:xfrm>
            <a:prstGeom prst="rect">
              <a:avLst/>
            </a:prstGeom>
            <a:solidFill>
              <a:srgbClr val="69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1520" y="5549760"/>
              <a:ext cx="11160" cy="425520"/>
            </a:xfrm>
            <a:prstGeom prst="rect">
              <a:avLst/>
            </a:prstGeom>
            <a:solidFill>
              <a:srgbClr val="75b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3040" y="5549760"/>
              <a:ext cx="1116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420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9600" y="5549760"/>
              <a:ext cx="1008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0040" y="5549760"/>
              <a:ext cx="576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5800" y="5549760"/>
              <a:ext cx="1008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240" y="5549760"/>
              <a:ext cx="1116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5549760"/>
              <a:ext cx="504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0" y="5549760"/>
              <a:ext cx="1116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396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9360" y="5549760"/>
              <a:ext cx="1008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9800" y="5549760"/>
              <a:ext cx="5760" cy="425520"/>
            </a:xfrm>
            <a:prstGeom prst="rect">
              <a:avLst/>
            </a:prstGeom>
            <a:solidFill>
              <a:srgbClr val="79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25920" y="5549760"/>
              <a:ext cx="10080" cy="425520"/>
            </a:xfrm>
            <a:prstGeom prst="rect">
              <a:avLst/>
            </a:prstGeom>
            <a:solidFill>
              <a:srgbClr val="6e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36360" y="5549760"/>
              <a:ext cx="1116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7520" y="5549760"/>
              <a:ext cx="504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2560" y="5549760"/>
              <a:ext cx="1116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408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9120" y="5549760"/>
              <a:ext cx="1008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573280" y="5549760"/>
            <a:ext cx="206280" cy="425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79560" y="5634000"/>
            <a:ext cx="211320" cy="341280"/>
            <a:chOff x="2779560" y="5634000"/>
            <a:chExt cx="211320" cy="341280"/>
          </a:xfrm>
        </p:grpSpPr>
        <p:sp>
          <p:nvSpPr>
            <p:cNvPr id="502" name=""/>
            <p:cNvSpPr/>
            <p:nvPr/>
          </p:nvSpPr>
          <p:spPr>
            <a:xfrm>
              <a:off x="2779560" y="5634000"/>
              <a:ext cx="1116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90720" y="5634000"/>
              <a:ext cx="504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95760" y="5634000"/>
              <a:ext cx="1116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920" y="5634000"/>
              <a:ext cx="5040" cy="34128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2320" y="5634000"/>
              <a:ext cx="11160" cy="34128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23480" y="5634000"/>
              <a:ext cx="1008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392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8960" y="5634000"/>
              <a:ext cx="1116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012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12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6680" y="5634000"/>
              <a:ext cx="1008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6760" y="5634000"/>
              <a:ext cx="576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82880" y="5634000"/>
              <a:ext cx="1008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3320" y="5634000"/>
              <a:ext cx="1116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044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988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21040" y="5634000"/>
              <a:ext cx="1008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148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6520" y="5634000"/>
              <a:ext cx="1116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47680" y="5634000"/>
              <a:ext cx="5040" cy="3412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52720" y="5634000"/>
              <a:ext cx="11160" cy="34128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64240" y="5634000"/>
              <a:ext cx="1008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74680" y="5634000"/>
              <a:ext cx="576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80800" y="5634000"/>
              <a:ext cx="1008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79560" y="5634000"/>
            <a:ext cx="211320" cy="34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90880" y="5724360"/>
            <a:ext cx="212400" cy="250920"/>
            <a:chOff x="2990880" y="5724360"/>
            <a:chExt cx="212400" cy="250920"/>
          </a:xfrm>
        </p:grpSpPr>
        <p:sp>
          <p:nvSpPr>
            <p:cNvPr id="528" name=""/>
            <p:cNvSpPr/>
            <p:nvPr/>
          </p:nvSpPr>
          <p:spPr>
            <a:xfrm>
              <a:off x="299088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204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0708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8600" y="5724360"/>
              <a:ext cx="5040" cy="25092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23640" y="5724360"/>
              <a:ext cx="10080" cy="25092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408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6216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726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872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89160" y="5724360"/>
              <a:ext cx="504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94200" y="5724360"/>
              <a:ext cx="1116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0536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158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192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36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88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892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0080" y="5724360"/>
              <a:ext cx="5040" cy="2509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65480" y="5724360"/>
              <a:ext cx="10080" cy="25092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592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708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9212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990880" y="5724360"/>
            <a:ext cx="21276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203640" y="5764320"/>
            <a:ext cx="212760" cy="210960"/>
            <a:chOff x="3203640" y="5764320"/>
            <a:chExt cx="212760" cy="210960"/>
          </a:xfrm>
        </p:grpSpPr>
        <p:sp>
          <p:nvSpPr>
            <p:cNvPr id="554" name=""/>
            <p:cNvSpPr/>
            <p:nvPr/>
          </p:nvSpPr>
          <p:spPr>
            <a:xfrm>
              <a:off x="3203640" y="5764320"/>
              <a:ext cx="1044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4080" y="5764320"/>
              <a:ext cx="576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200" y="5764320"/>
              <a:ext cx="1044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0640" y="5764320"/>
              <a:ext cx="5040" cy="2109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5680" y="5764320"/>
              <a:ext cx="11160" cy="2109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6840" y="5764320"/>
              <a:ext cx="1116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36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3400" y="5764320"/>
              <a:ext cx="1044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384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500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0400" y="5764320"/>
              <a:ext cx="1116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01560" y="5764320"/>
              <a:ext cx="504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06960" y="5764320"/>
              <a:ext cx="1116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8120" y="5764320"/>
              <a:ext cx="1044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3360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5120" y="5764320"/>
              <a:ext cx="1116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5628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1680" y="5764320"/>
              <a:ext cx="1044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2120" y="5764320"/>
              <a:ext cx="5760" cy="2109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78240" y="5764320"/>
              <a:ext cx="10440" cy="2109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88680" y="5764320"/>
              <a:ext cx="1116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840" y="5764320"/>
              <a:ext cx="504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05240" y="5764320"/>
              <a:ext cx="1116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203640" y="5764320"/>
            <a:ext cx="212760" cy="210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16400" y="5821200"/>
            <a:ext cx="210600" cy="154080"/>
            <a:chOff x="3416400" y="5821200"/>
            <a:chExt cx="210600" cy="154080"/>
          </a:xfrm>
        </p:grpSpPr>
        <p:sp>
          <p:nvSpPr>
            <p:cNvPr id="580" name=""/>
            <p:cNvSpPr/>
            <p:nvPr/>
          </p:nvSpPr>
          <p:spPr>
            <a:xfrm>
              <a:off x="341640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6480" y="5821200"/>
              <a:ext cx="504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31880" y="5821200"/>
              <a:ext cx="1116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040" y="5821200"/>
              <a:ext cx="5040" cy="15408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8080" y="5821200"/>
              <a:ext cx="11160" cy="15408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960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04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7580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8624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977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2800" y="5821200"/>
              <a:ext cx="1008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3240" y="5821200"/>
              <a:ext cx="576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9360" y="5821200"/>
              <a:ext cx="1008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9800" y="5821200"/>
              <a:ext cx="1116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409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600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716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760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7372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4160" y="5821200"/>
              <a:ext cx="5040" cy="15408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9200" y="5821200"/>
              <a:ext cx="11160" cy="15408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00360" y="5821200"/>
              <a:ext cx="1008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800" y="5821200"/>
              <a:ext cx="576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692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416400" y="5821200"/>
            <a:ext cx="21096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627360" y="5935680"/>
            <a:ext cx="212400" cy="39600"/>
            <a:chOff x="3627360" y="5935680"/>
            <a:chExt cx="212400" cy="39600"/>
          </a:xfrm>
        </p:grpSpPr>
        <p:sp>
          <p:nvSpPr>
            <p:cNvPr id="606" name=""/>
            <p:cNvSpPr/>
            <p:nvPr/>
          </p:nvSpPr>
          <p:spPr>
            <a:xfrm>
              <a:off x="362736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852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3560" y="5935680"/>
              <a:ext cx="1116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5080" y="5935680"/>
              <a:ext cx="5040" cy="3960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0120" y="5935680"/>
              <a:ext cx="10080" cy="3960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056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8208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712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9864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09080" y="5935680"/>
              <a:ext cx="576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5200" y="5935680"/>
              <a:ext cx="1008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5280" y="5935680"/>
              <a:ext cx="504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0680" y="5935680"/>
              <a:ext cx="1116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1840" y="5935680"/>
              <a:ext cx="1116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3360" y="5935680"/>
              <a:ext cx="504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840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884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000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540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6560" y="5935680"/>
              <a:ext cx="5040" cy="3960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1960" y="5935680"/>
              <a:ext cx="11160" cy="3960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3120" y="5935680"/>
              <a:ext cx="1008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356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860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627360" y="5935680"/>
            <a:ext cx="212760" cy="39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40120" y="5910120"/>
            <a:ext cx="211320" cy="65160"/>
            <a:chOff x="3840120" y="5910120"/>
            <a:chExt cx="211320" cy="65160"/>
          </a:xfrm>
        </p:grpSpPr>
        <p:sp>
          <p:nvSpPr>
            <p:cNvPr id="632" name=""/>
            <p:cNvSpPr/>
            <p:nvPr/>
          </p:nvSpPr>
          <p:spPr>
            <a:xfrm>
              <a:off x="384012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12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6320" y="5910120"/>
              <a:ext cx="1008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66400" y="5910120"/>
              <a:ext cx="5760" cy="651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72520" y="5910120"/>
              <a:ext cx="10080" cy="651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82960" y="5910120"/>
              <a:ext cx="1116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412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99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106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120" y="5910120"/>
              <a:ext cx="504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160" y="5910120"/>
              <a:ext cx="1116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37320" y="5910120"/>
              <a:ext cx="504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2720" y="5910120"/>
              <a:ext cx="1116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3880" y="5910120"/>
              <a:ext cx="1008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64320" y="5910120"/>
              <a:ext cx="576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0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0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204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97080" y="5910120"/>
              <a:ext cx="1008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7520" y="5910120"/>
              <a:ext cx="5760" cy="651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3280" y="5910120"/>
              <a:ext cx="10080" cy="651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23720" y="5910120"/>
              <a:ext cx="1116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48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4028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840120" y="5910120"/>
            <a:ext cx="211320" cy="65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051440" y="5843520"/>
            <a:ext cx="210600" cy="131760"/>
            <a:chOff x="4051440" y="5843520"/>
            <a:chExt cx="210600" cy="131760"/>
          </a:xfrm>
        </p:grpSpPr>
        <p:sp>
          <p:nvSpPr>
            <p:cNvPr id="658" name=""/>
            <p:cNvSpPr/>
            <p:nvPr/>
          </p:nvSpPr>
          <p:spPr>
            <a:xfrm>
              <a:off x="405144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15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6692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78080" y="5843520"/>
              <a:ext cx="5040" cy="1317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3120" y="5843520"/>
              <a:ext cx="11160" cy="1317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9428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0472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1084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2128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3244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7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9000" y="5843520"/>
              <a:ext cx="504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4400" y="5843520"/>
              <a:ext cx="1008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64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7600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104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9220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0264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0876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19200" y="5843520"/>
              <a:ext cx="5040" cy="1317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4240" y="5843520"/>
              <a:ext cx="11160" cy="1317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540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69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196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051440" y="5843520"/>
            <a:ext cx="2109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62400" y="5883120"/>
            <a:ext cx="212760" cy="92160"/>
            <a:chOff x="4262400" y="5883120"/>
            <a:chExt cx="212760" cy="92160"/>
          </a:xfrm>
        </p:grpSpPr>
        <p:sp>
          <p:nvSpPr>
            <p:cNvPr id="684" name=""/>
            <p:cNvSpPr/>
            <p:nvPr/>
          </p:nvSpPr>
          <p:spPr>
            <a:xfrm>
              <a:off x="4262400" y="5883120"/>
              <a:ext cx="1116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3560" y="5883120"/>
              <a:ext cx="504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78960" y="5883120"/>
              <a:ext cx="1116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0120" y="5883120"/>
              <a:ext cx="5040" cy="921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95160" y="5883120"/>
              <a:ext cx="11160" cy="921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6680" y="5883120"/>
              <a:ext cx="1044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1712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2216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3680" y="5883120"/>
              <a:ext cx="1008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3760" y="5883120"/>
              <a:ext cx="576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49880" y="5883120"/>
              <a:ext cx="1044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0320" y="5883120"/>
              <a:ext cx="5760" cy="921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66440" y="5883120"/>
              <a:ext cx="10440" cy="92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76880" y="5883120"/>
              <a:ext cx="1116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8040" y="5883120"/>
              <a:ext cx="504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93440" y="5883120"/>
              <a:ext cx="1044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0388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504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0440" y="5883120"/>
              <a:ext cx="1116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1600" y="5883120"/>
              <a:ext cx="5040" cy="921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37000" y="5883120"/>
              <a:ext cx="11160" cy="921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883120"/>
              <a:ext cx="1044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8600" y="5883120"/>
              <a:ext cx="576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64720" y="5883120"/>
              <a:ext cx="1044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62400" y="5883120"/>
            <a:ext cx="212760" cy="92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75160" y="5843520"/>
            <a:ext cx="212400" cy="131760"/>
            <a:chOff x="4475160" y="5843520"/>
            <a:chExt cx="212400" cy="131760"/>
          </a:xfrm>
        </p:grpSpPr>
        <p:sp>
          <p:nvSpPr>
            <p:cNvPr id="710" name=""/>
            <p:cNvSpPr/>
            <p:nvPr/>
          </p:nvSpPr>
          <p:spPr>
            <a:xfrm>
              <a:off x="447516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8632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1360" y="5843520"/>
              <a:ext cx="1008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1800" y="5843520"/>
              <a:ext cx="5760" cy="1317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7920" y="5843520"/>
              <a:ext cx="10080" cy="1317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1836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988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3492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644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6880" y="5843520"/>
              <a:ext cx="504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1920" y="5843520"/>
              <a:ext cx="1116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440" y="5843520"/>
              <a:ext cx="5040" cy="1317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480" y="5843520"/>
              <a:ext cx="11160" cy="131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9640" y="5843520"/>
              <a:ext cx="1008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0080" y="5843520"/>
              <a:ext cx="576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620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1664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780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3320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4360" y="5843520"/>
              <a:ext cx="5040" cy="1317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9760" y="5843520"/>
              <a:ext cx="10080" cy="1317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60200" y="5843520"/>
              <a:ext cx="1116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136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640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475160" y="5843520"/>
            <a:ext cx="2127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687920" y="5830920"/>
            <a:ext cx="210600" cy="144360"/>
            <a:chOff x="4687920" y="5830920"/>
            <a:chExt cx="210600" cy="144360"/>
          </a:xfrm>
        </p:grpSpPr>
        <p:sp>
          <p:nvSpPr>
            <p:cNvPr id="736" name=""/>
            <p:cNvSpPr/>
            <p:nvPr/>
          </p:nvSpPr>
          <p:spPr>
            <a:xfrm>
              <a:off x="468792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98000" y="5830920"/>
              <a:ext cx="576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4120" y="5830920"/>
              <a:ext cx="1008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14560" y="5830920"/>
              <a:ext cx="5040" cy="1443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5830920"/>
              <a:ext cx="11160" cy="1443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760" y="5830920"/>
              <a:ext cx="1116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41920" y="5830920"/>
              <a:ext cx="504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4732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5776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6892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4320" y="5830920"/>
              <a:ext cx="1116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5480" y="5830920"/>
              <a:ext cx="5040" cy="144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90520" y="5830920"/>
              <a:ext cx="11160" cy="144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2040" y="5830920"/>
              <a:ext cx="1008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248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1752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2868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39120" y="5830920"/>
              <a:ext cx="576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5240" y="5830920"/>
              <a:ext cx="1008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5680" y="5830920"/>
              <a:ext cx="5760" cy="1443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1440" y="5830920"/>
              <a:ext cx="10080" cy="1443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1880" y="5830920"/>
              <a:ext cx="1116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83040" y="5830920"/>
              <a:ext cx="504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44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7920" y="5830920"/>
            <a:ext cx="210960" cy="144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520" y="4640400"/>
            <a:ext cx="1440" cy="133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680" y="59752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680" y="584352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680" y="57070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6680" y="55753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6680" y="5438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680" y="5307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6680" y="51768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6680" y="50403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6680" y="49086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6680" y="47721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6680" y="46404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19640" y="4968720"/>
            <a:ext cx="2992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Global Rating Distrib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0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6300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743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867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994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122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2356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45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7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24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4868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14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2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855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979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92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02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4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457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570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00760" y="5651640"/>
            <a:ext cx="298764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88400" y="5651640"/>
            <a:ext cx="474480" cy="284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24600" y="5703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86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57160" y="57164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4200" y="56624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851200" y="1424160"/>
            <a:ext cx="5737320" cy="29286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46040" y="2052720"/>
            <a:ext cx="15159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General Loan Loss Rese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8200" y="4481640"/>
            <a:ext cx="8425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58960" y="1355760"/>
            <a:ext cx="6051600" cy="30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4760" y="403848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40004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Use Te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Internal Valid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8680" y="1206360"/>
            <a:ext cx="8246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Statististical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(non-availibility of statistical specific test to b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justifi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single factor power statist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on build in and out 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for a 5 years’ period before de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comparison with external available rating to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( eg Moody’s, Standard &amp; Poors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with internal rating tool (eg PME Tool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justification of calibr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Business and Credit Experts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blind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pilot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8000"/>
          </a:bodyPr>
          <a:p>
            <a:pPr lvl="1" marL="211680" indent="-210240">
              <a:lnSpc>
                <a:spcPct val="85000"/>
              </a:lnSpc>
              <a:spcBef>
                <a:spcPts val="1049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2a325b"/>
                </a:solidFill>
                <a:latin typeface="Arial"/>
              </a:rPr>
              <a:t>Fortis definition of default : 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Definition of impairment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: a loan is impaired when, based on the current information and events, it is probable that a creditor  will be unable to collect all amounts due according to the contractual terms of the loan agreement.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 u="sng">
                <a:solidFill>
                  <a:srgbClr val="2a325b"/>
                </a:solidFill>
                <a:uFillTx/>
                <a:latin typeface="Arial"/>
              </a:rPr>
              <a:t>Within Fortis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Impaired = Intensive Care or Recovery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whereby the impaired obligors are by definition transferred to the following rating classes :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7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NOT past due 90 days”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8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past due 90 days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9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 Specific Loan Loss Reserv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20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oubtfull with or without Specific Loan Loss Reserve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5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efault = Impaired except Uncertain without Specific Loan Loss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 Reserve and NOT past due 90 days”. </a:t>
            </a:r>
            <a:endParaRPr b="1" lang="en-US" sz="17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2000"/>
          </a:bodyPr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12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500" spc="-1" strike="noStrike">
                <a:solidFill>
                  <a:srgbClr val="2a325b"/>
                </a:solidFill>
                <a:latin typeface="Arial"/>
              </a:rPr>
              <a:t>Basel definition of default</a:t>
            </a:r>
            <a:r>
              <a:rPr b="0" lang="en-GB" sz="25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0" lang="en-US" sz="2500" spc="-1" strike="noStrike">
                <a:solidFill>
                  <a:srgbClr val="2a325b"/>
                </a:solidFill>
                <a:latin typeface="Arial"/>
              </a:rPr>
              <a:t>default of an obligor when any of the following events has taken place:</a:t>
            </a:r>
            <a:endParaRPr b="0" lang="en-US" sz="25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unlikely to pay its debt obligations (principal, interest or fees) in full 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General Definition of Impairment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a credit loss event associated with any obligation of the obligor, such as a charge-off, specific provision, distressed sales by the bank to a third party, or distressed restructuring involving the forgiveness or postponement of principal, interest or fe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past due more than 90 days on any credit obligation;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8 /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the obligor has filed for bankruptcy or similar protection from creditor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241200" y="1181160"/>
            <a:ext cx="8139240" cy="50353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219320" y="3251160"/>
            <a:ext cx="1790640" cy="406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a325b"/>
                </a:solidFill>
                <a:latin typeface="Arial"/>
              </a:rPr>
              <a:t>1 -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1401840"/>
            <a:ext cx="6703920" cy="37767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efault process :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Build Default Mod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on sampling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your default catego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CQFD Basel Compliant 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615960" y="3807000"/>
            <a:ext cx="5743440" cy="3870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5040" y="898560"/>
            <a:ext cx="5743440" cy="111744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85920" y="937800"/>
            <a:ext cx="8261280" cy="429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89000"/>
          </a:bodyPr>
          <a:p>
            <a:pPr marL="3218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One cross border Risk culture through a central validation platform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Increasing demand for risk information 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line Management, Regulator, Analysts, Rating agencies, shareholde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Value Creation for Shareholders : 5 </a:t>
            </a:r>
            <a:r>
              <a:rPr b="1" lang="fr-BE" sz="33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’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icing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Consumption of equity, Return on equity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Em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werment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 Cost &amp; Time Efficiency 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cess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 Mean &amp; Lean Service to Customers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Minor Changes/ Renewals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ortfolio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isk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rofile adapted to Bank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vision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21840" indent="0">
              <a:lnSpc>
                <a:spcPct val="45000"/>
              </a:lnSpc>
              <a:spcBef>
                <a:spcPts val="476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700" spc="-1" strike="noStrike" u="sng">
                <a:solidFill>
                  <a:srgbClr val="2a325b"/>
                </a:solidFill>
                <a:uFillTx/>
                <a:latin typeface="Arial"/>
              </a:rPr>
              <a:t>CATALYSOR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THE NEW BASLE ACCORD (BIS II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9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new framework gives guidelines which make it possible to implement a modern risk management approach which meets international standards.</a:t>
            </a: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Internal Rating Based (IRB) Approach based upon proprietary estimat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Risk Valid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120" y="2193840"/>
            <a:ext cx="8193240" cy="25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35080" y="1251360"/>
            <a:ext cx="82738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tatististical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Business and Credit Experts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entral Ri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Management validatio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rnal Audit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ign off meeting : with all internal stakeholders (Business, Credit, Audit, Central Risk Manag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Ex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xternal recognized professional (eg Standard &amp; Poors, Risk Solutions) if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gulatory Authori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reditation of the tool and authorization for Roll 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redit Policy Committe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proposal from Credit Analytics and Central Risk Management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ocument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fferent validation reports, technical documentation, embedding of the tool in the process and post roll-out monito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imes New Roman"/>
              </a:rPr>
              <a:t>Yearly Revie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4320" y="277560"/>
            <a:ext cx="854856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rom Internal Validation </a:t>
            </a:r>
            <a:br>
              <a:rPr sz="2600"/>
            </a:b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to Basel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98320" y="4135320"/>
            <a:ext cx="5743800" cy="108288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33360" y="30960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Internal Mid Cap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5120" y="741240"/>
            <a:ext cx="763416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93760" indent="-29376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Fortis Helvetica Light"/>
              </a:rPr>
              <a:t>In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statitistical and credit expert :</a:t>
            </a:r>
            <a:r>
              <a:rPr b="1" lang="fr-FR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Power statistic, Migration Analysis over 5 years and stress testing,  Positive feed back regarding rank ordering from rating agencies and credit exper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063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Sign-off by Credits / Fortis Group / OWC / Business Line : </a:t>
            </a: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25 april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I</a:t>
            </a:r>
            <a:r>
              <a:rPr b="0" lang="fr-FR" sz="1900" spc="-1" strike="noStrike">
                <a:solidFill>
                  <a:srgbClr val="000000"/>
                </a:solidFill>
                <a:latin typeface="Fortis Helvetica Light"/>
              </a:rPr>
              <a:t>nternal Audit : 05/03/2001 - 18/05/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Fortis Helvetica Light"/>
              </a:rPr>
              <a:t>Ex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Fortis Helvetica Light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Standard &amp; Poor’s : extract from Standard &amp; Poor’s “Conclusions on Fortis’ Revised Benelux Midcap Model, 3 September, 2001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tandard &amp; Poor’s believes that the revised Benelux Midcap model generates outputs that reflect historical results and which are replicable by Standard &amp; Poor’s own rating methodology.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85000"/>
              </a:lnSpc>
              <a:spcBef>
                <a:spcPts val="950"/>
              </a:spcBef>
              <a:buClr>
                <a:srgbClr val="284da0"/>
              </a:buClr>
              <a:buFont typeface="Fortis Logos VL" charset="2"/>
              <a:buChar char="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Moody’s : 8/10/2001</a:t>
            </a:r>
            <a:r>
              <a:rPr b="0" lang="fr-BE" sz="1900" spc="-1" strike="noStrike">
                <a:solidFill>
                  <a:srgbClr val="000000"/>
                </a:solidFill>
                <a:latin typeface="Fortis Helvetica Light"/>
              </a:rPr>
              <a:t> / 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Fitch :  10/04/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98440" y="914400"/>
            <a:ext cx="54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 fontScale="73000"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First Analysis : poor segmentation , skewed distribution , non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3040" y="1779480"/>
          <a:ext cx="651672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79480"/>
                    <a:ext cx="651672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03120" y="1819440"/>
          <a:ext cx="6942240" cy="460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1819440"/>
                    <a:ext cx="694224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Calibr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8440" y="1411200"/>
            <a:ext cx="8210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Second Analysis : S</a:t>
            </a:r>
            <a:r>
              <a:rPr b="1" lang="en-GB" sz="1500" spc="-1" strike="noStrike">
                <a:solidFill>
                  <a:srgbClr val="2a325b"/>
                </a:solidFill>
                <a:latin typeface="Arial"/>
              </a:rPr>
              <a:t>hape of the distribution largely changed with new drivers and concern about adhoc level of investment grades</a:t>
            </a: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,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109520" y="1258920"/>
          <a:ext cx="7218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258920"/>
                    <a:ext cx="7218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5840280" y="4313160"/>
            <a:ext cx="259236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115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20 Rating Anomaly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BE" sz="1800" spc="-1" strike="noStrike">
                <a:solidFill>
                  <a:srgbClr val="2a325b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orrelation : 78 % with range 65 % and 95 % depending on Ram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Expert Valid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511200" y="1446120"/>
            <a:ext cx="7149960" cy="4551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799160" y="4214880"/>
            <a:ext cx="3794040" cy="1868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Stability Validation : Migr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206280" y="1050480"/>
            <a:ext cx="822816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3000"/>
          </a:bodyPr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tress test : 5 year default predic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Predicted results versus realized versus industr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Use Test :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Application in 2 securitisation transactions : MEC CLO 2000 and park Mountai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mpact on Pricing, Credit Delegation and Economic Capita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II Stress &amp; Use Tes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609560" y="1662120"/>
          <a:ext cx="630108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62120"/>
                    <a:ext cx="63010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egulatory Institution On-Site Visi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uration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 month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s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Quantitative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Process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view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, interviews ( credit management,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nalytics, chief risk officer, business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port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O, CCO, Chief Auditor, External Auditor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oint of attention :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 consultants &amp; Rating Agency ‘internalisa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utliers detec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herency of default defini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 of methodological choices (test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ntral Documentation Repository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verruling process (manual &amp; automatic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Reg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81040" y="5199120"/>
            <a:ext cx="5743440" cy="37296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38720" y="2816280"/>
            <a:ext cx="243396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24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840" y="907920"/>
            <a:ext cx="8316720" cy="1717920"/>
            <a:chOff x="339840" y="907920"/>
            <a:chExt cx="8316720" cy="1717920"/>
          </a:xfrm>
        </p:grpSpPr>
        <p:sp>
          <p:nvSpPr>
            <p:cNvPr id="107" name=""/>
            <p:cNvSpPr/>
            <p:nvPr/>
          </p:nvSpPr>
          <p:spPr>
            <a:xfrm>
              <a:off x="339840" y="907920"/>
              <a:ext cx="8316720" cy="1717920"/>
            </a:xfrm>
            <a:custGeom>
              <a:avLst/>
              <a:gdLst/>
              <a:ahLst/>
              <a:rect l="l" t="t" r="r" b="b"/>
              <a:pathLst>
                <a:path w="5345" h="589">
                  <a:moveTo>
                    <a:pt x="2673" y="0"/>
                  </a:moveTo>
                  <a:lnTo>
                    <a:pt x="0" y="589"/>
                  </a:lnTo>
                  <a:lnTo>
                    <a:pt x="5345" y="589"/>
                  </a:lnTo>
                  <a:lnTo>
                    <a:pt x="2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1413000"/>
              <a:ext cx="360" cy="273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9520" y="1973160"/>
                <a:ext cx="4435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Capital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 Risk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redit Ris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perational Risk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133720" y="1905120"/>
            <a:ext cx="45590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880" y="2738520"/>
            <a:ext cx="2538360" cy="3028680"/>
            <a:chOff x="272880" y="2738520"/>
            <a:chExt cx="2538360" cy="3028680"/>
          </a:xfrm>
        </p:grpSpPr>
        <p:sp>
          <p:nvSpPr>
            <p:cNvPr id="112" name=""/>
            <p:cNvSpPr/>
            <p:nvPr/>
          </p:nvSpPr>
          <p:spPr>
            <a:xfrm>
              <a:off x="277200" y="2738520"/>
              <a:ext cx="25016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275640"/>
              <a:ext cx="2512080" cy="249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2880" y="2879640"/>
              <a:ext cx="2505960" cy="2826720"/>
              <a:chOff x="272880" y="2879640"/>
              <a:chExt cx="2505960" cy="282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91600" y="287964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2880" y="3224520"/>
                <a:ext cx="2505960" cy="24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130800" y="2847960"/>
            <a:ext cx="2528640" cy="2976120"/>
            <a:chOff x="6130800" y="2847960"/>
            <a:chExt cx="2528640" cy="2976120"/>
          </a:xfrm>
        </p:grpSpPr>
        <p:sp>
          <p:nvSpPr>
            <p:cNvPr id="118" name=""/>
            <p:cNvSpPr/>
            <p:nvPr/>
          </p:nvSpPr>
          <p:spPr>
            <a:xfrm>
              <a:off x="6130800" y="2847960"/>
              <a:ext cx="250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0600" y="3268440"/>
              <a:ext cx="2508840" cy="249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130800" y="2878920"/>
              <a:ext cx="2500560" cy="2831400"/>
              <a:chOff x="6130800" y="2878920"/>
              <a:chExt cx="2500560" cy="283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04520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30800" y="3223800"/>
                <a:ext cx="2500560" cy="248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31600" y="3296520"/>
              <a:ext cx="2315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3640" y="2847960"/>
            <a:ext cx="2528640" cy="2916000"/>
            <a:chOff x="3203640" y="2847960"/>
            <a:chExt cx="2528640" cy="2916000"/>
          </a:xfrm>
        </p:grpSpPr>
        <p:sp>
          <p:nvSpPr>
            <p:cNvPr id="125" name=""/>
            <p:cNvSpPr/>
            <p:nvPr/>
          </p:nvSpPr>
          <p:spPr>
            <a:xfrm>
              <a:off x="3224880" y="341316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847960"/>
              <a:ext cx="25005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3440" y="3268440"/>
              <a:ext cx="2508840" cy="24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03640" y="2878920"/>
              <a:ext cx="2500560" cy="2830320"/>
              <a:chOff x="3203640" y="2878920"/>
              <a:chExt cx="2500560" cy="2830320"/>
            </a:xfrm>
          </p:grpSpPr>
          <p:sp>
            <p:nvSpPr>
              <p:cNvPr id="129" name=""/>
              <p:cNvSpPr/>
              <p:nvPr/>
            </p:nvSpPr>
            <p:spPr>
              <a:xfrm>
                <a:off x="413028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03640" y="3223800"/>
                <a:ext cx="2500560" cy="24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24880" y="448092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1468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Supervisory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040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Disclosur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800" y="3413160"/>
            <a:ext cx="7729200" cy="1044360"/>
            <a:chOff x="577800" y="3413160"/>
            <a:chExt cx="7729200" cy="1044360"/>
          </a:xfrm>
        </p:grpSpPr>
        <p:sp>
          <p:nvSpPr>
            <p:cNvPr id="135" name=""/>
            <p:cNvSpPr/>
            <p:nvPr/>
          </p:nvSpPr>
          <p:spPr>
            <a:xfrm>
              <a:off x="577800" y="3413160"/>
              <a:ext cx="186660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inimu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Cap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3413160"/>
              <a:ext cx="186660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4680" y="3413160"/>
              <a:ext cx="186624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Supervis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7800" y="4595760"/>
            <a:ext cx="1866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Cooking Rules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To Calculat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d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600" spc="-1" strike="noStrike">
                <a:solidFill>
                  <a:srgbClr val="970610"/>
                </a:solidFill>
                <a:latin typeface="Arial"/>
              </a:rPr>
              <a:t>Basel II Review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2080" y="1168560"/>
            <a:ext cx="18986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6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Capi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Adequ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2600" spc="-1" strike="noStrike">
                <a:solidFill>
                  <a:srgbClr val="2a325b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anagement empowerment is crucial for valid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odel validation is not an exact science : a model might assess relative quality of the counterparty but it cannot capture all elements as it is based on portfolio analysis : this means : on average over time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Expert judgement is of critical importance : for modelling and for communic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ata issues center around quantity not qualit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egional difference in culture and modelling e.g. equity model versus debt mode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Use test of critical importance : do you believe your model for day to day financial decision ?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Global Internal ratings validation survey : RM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AIG : Stability of qual/ quant models, qualitative approach, use test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MA / BBA / ISDA : survey in june 2004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781680" y="407880"/>
            <a:ext cx="1702080" cy="736560"/>
            <a:chOff x="6781680" y="407880"/>
            <a:chExt cx="1702080" cy="736560"/>
          </a:xfrm>
        </p:grpSpPr>
        <p:pic>
          <p:nvPicPr>
            <p:cNvPr id="869" name="fortis_logo" descr=""/>
            <p:cNvPicPr/>
            <p:nvPr/>
          </p:nvPicPr>
          <p:blipFill>
            <a:blip r:embed="rId1"/>
            <a:srcRect l="84684" t="35265" r="11842" b="62558"/>
            <a:stretch/>
          </p:blipFill>
          <p:spPr>
            <a:xfrm>
              <a:off x="6781680" y="77580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fortis_logo" descr=""/>
            <p:cNvPicPr/>
            <p:nvPr/>
          </p:nvPicPr>
          <p:blipFill>
            <a:blip r:embed="rId2"/>
            <a:srcRect l="42240" t="29382" r="55469" b="68093"/>
            <a:stretch/>
          </p:blipFill>
          <p:spPr>
            <a:xfrm>
              <a:off x="7121880" y="407880"/>
              <a:ext cx="90756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fortis_logo" descr=""/>
            <p:cNvPicPr/>
            <p:nvPr/>
          </p:nvPicPr>
          <p:blipFill>
            <a:blip r:embed="rId3"/>
            <a:srcRect l="27224" t="29549" r="69238" b="67212"/>
            <a:stretch/>
          </p:blipFill>
          <p:spPr>
            <a:xfrm>
              <a:off x="7576200" y="775800"/>
              <a:ext cx="90756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fortis_logo" descr=""/>
            <p:cNvPicPr/>
            <p:nvPr/>
          </p:nvPicPr>
          <p:blipFill>
            <a:blip r:embed="rId4"/>
            <a:srcRect l="84684" t="35265" r="11842" b="62558"/>
            <a:stretch/>
          </p:blipFill>
          <p:spPr>
            <a:xfrm>
              <a:off x="7178760" y="82872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fortis_logo" descr=""/>
            <p:cNvPicPr/>
            <p:nvPr/>
          </p:nvPicPr>
          <p:blipFill>
            <a:blip r:embed="rId5"/>
            <a:srcRect l="84684" t="35265" r="11842" b="62558"/>
            <a:stretch/>
          </p:blipFill>
          <p:spPr>
            <a:xfrm>
              <a:off x="7632720" y="618120"/>
              <a:ext cx="3402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8440" y="1347480"/>
            <a:ext cx="8663040" cy="4778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Rules for regulatory « financial » capital adequacy in fonction of the risks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1965240"/>
            <a:ext cx="70945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es to measure credit risk</a:t>
            </a:r>
            <a:r>
              <a:rPr b="1" i="1" lang="fr-BE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Foundation Internal 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F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Internal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market risk (un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Internal Models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operational risk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Basic Indicator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B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Measurement Approach (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920" y="361800"/>
            <a:ext cx="8548920" cy="787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1 : MINIMUM REGULATORY CAPITAL</a:t>
            </a:r>
            <a:br>
              <a:rPr sz="2200"/>
            </a:b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REQUIREMENT :« mathematical » approach</a:t>
            </a: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41960" y="3759120"/>
          <a:ext cx="2819520" cy="19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1960" y="3759120"/>
                    <a:ext cx="281952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37160" y="5827680"/>
            <a:ext cx="20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AMPLE ECONOMIC CAPITAL ALLOCATION FOR BA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43680" y="36036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olvency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Quantitative Impact Study 3 (QIS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2440" y="1273320"/>
          <a:ext cx="82962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73320"/>
                    <a:ext cx="8296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43680" y="36036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Return &amp; Pric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Fortis Bank sim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840" y="1301760"/>
            <a:ext cx="8229600" cy="32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93640" y="5062680"/>
                <a:ext cx="7545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im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re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R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ur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ier</m:t>
                                        </m:r>
                                      </m:e>
                                      <m:sub/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t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rPr>
                            <m:lit/>
                            <m:nor/>
                          </m:rPr>
                          <m:t xml:space="preserve">_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r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vestment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io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e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*</m:t>
                    </m:r>
                    <m:r>
                      <m:rPr>
                        <m:lit/>
                        <m:nor/>
                      </m:rPr>
                      <m:t xml:space="preserve">RA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3520" y="2455920"/>
            <a:ext cx="1700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3660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pect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4680" y="4668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Sa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200" y="2862360"/>
            <a:ext cx="8148600" cy="5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n-site verification, documentation, external audit, periodic reporting, senior bank management discus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600" y="4100400"/>
            <a:ext cx="8074080" cy="32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apital exceeding the supervisory minimum of 8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5091120"/>
            <a:ext cx="8148600" cy="104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creased monitoring of the bank, require process impovments, additional minimum capital requirements, require change in the capital risk profile, request management chan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412920"/>
            <a:ext cx="854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" y="2341440"/>
            <a:ext cx="511200" cy="47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60" y="3408480"/>
            <a:ext cx="511200" cy="620640"/>
          </a:xfrm>
          <a:prstGeom prst="downArrow">
            <a:avLst>
              <a:gd name="adj1" fmla="val 50000"/>
              <a:gd name="adj2" fmla="val 3035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60" y="4379760"/>
            <a:ext cx="511200" cy="601920"/>
          </a:xfrm>
          <a:prstGeom prst="downArrow">
            <a:avLst>
              <a:gd name="adj1" fmla="val 50000"/>
              <a:gd name="adj2" fmla="val 2943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02480" y="2541600"/>
            <a:ext cx="2322360" cy="84132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2541600"/>
            <a:ext cx="2322720" cy="84132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2543040"/>
            <a:ext cx="2322720" cy="84168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8480" y="2546280"/>
            <a:ext cx="2376720" cy="84132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5400" y="2698920"/>
            <a:ext cx="1160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Assessment of capital adequ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6960" y="2706840"/>
            <a:ext cx="15321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Comprehensive Risk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8360" y="2705040"/>
            <a:ext cx="1270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Internal Control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97640" y="2684520"/>
            <a:ext cx="1069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Monitoring &amp; Re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04800" y="3650760"/>
            <a:ext cx="7515360" cy="1355760"/>
          </a:xfrm>
          <a:prstGeom prst="triangle">
            <a:avLst>
              <a:gd name="adj" fmla="val 5000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9120" y="3841920"/>
            <a:ext cx="28360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 wit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ar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9200" y="528624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Management to develop internal capital planning and management processes and structures appropriate to the Bank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5960" y="2011320"/>
            <a:ext cx="5743440" cy="17748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21:30:54Z</dcterms:created>
  <dc:creator>Fortis BE</dc:creator>
  <dc:description/>
  <dc:language>en-US</dc:language>
  <cp:lastModifiedBy>Fortis BE</cp:lastModifiedBy>
  <cp:lastPrinted>2004-05-04T18:22:12Z</cp:lastPrinted>
  <dcterms:modified xsi:type="dcterms:W3CDTF">2004-05-06T16:58:32Z</dcterms:modified>
  <cp:revision>182</cp:revision>
  <dc:subject>Version 5.5 EN</dc:subject>
  <dc:title>Institutional Banking and Funds  Basel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Yvan Kan</vt:lpwstr>
  </property>
  <property fmtid="{D5CDD505-2E9C-101B-9397-08002B2CF9AE}" pid="3" name="DocID">
    <vt:lpwstr>Template Fortis ASG113 EN</vt:lpwstr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McKPaperSize">
    <vt:lpwstr>A4</vt:lpwstr>
  </property>
  <property fmtid="{D5CDD505-2E9C-101B-9397-08002B2CF9AE}" pid="8" name="NotesPageLayout">
    <vt:lpwstr>Lower</vt:lpwstr>
  </property>
  <property fmtid="{D5CDD505-2E9C-101B-9397-08002B2CF9AE}" pid="9" name="Universal Objects">
    <vt:bool>1</vt:bool>
  </property>
  <property fmtid="{D5CDD505-2E9C-101B-9397-08002B2CF9AE}" pid="10" name="_AdHocReviewCycleID">
    <vt:r8>557175078</vt:r8>
  </property>
  <property fmtid="{D5CDD505-2E9C-101B-9397-08002B2CF9AE}" pid="11" name="_AuthorEmail">
    <vt:lpwstr>christian.marlier.12630376.be-hq@foxi.fortisbank.com</vt:lpwstr>
  </property>
  <property fmtid="{D5CDD505-2E9C-101B-9397-08002B2CF9AE}" pid="12" name="_AuthorEmailDisplayName">
    <vt:lpwstr>MARLIER CHRISTIAN</vt:lpwstr>
  </property>
  <property fmtid="{D5CDD505-2E9C-101B-9397-08002B2CF9AE}" pid="13" name="_EmailSubject">
    <vt:lpwstr>Development regarding  risk management event in Istanbul</vt:lpwstr>
  </property>
  <property fmtid="{D5CDD505-2E9C-101B-9397-08002B2CF9AE}" pid="14" name="_PreviousAdHocReviewCycleID">
    <vt:r8>-1510513428</vt:r8>
  </property>
</Properties>
</file>