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3.png" ContentType="image/png"/>
  <Override PartName="/ppt/media/image8.wmf" ContentType="image/x-wmf"/>
  <Override PartName="/ppt/media/image12.wmf" ContentType="image/x-wmf"/>
  <Override PartName="/ppt/media/image16.png" ContentType="image/png"/>
  <Override PartName="/ppt/media/image14.wmf" ContentType="image/x-wmf"/>
  <Override PartName="/ppt/media/image9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8959850" cy="6721475"/>
  <p:notesSz cx="9907588" cy="678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907200" cy="67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835200" y="264600"/>
            <a:ext cx="4528800" cy="388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600" spc="-1" strike="noStrike">
                <a:solidFill>
                  <a:srgbClr val="2a325b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9" name="McK Separator"/>
          <p:cNvSpPr/>
          <p:nvPr/>
        </p:nvSpPr>
        <p:spPr>
          <a:xfrm>
            <a:off x="1189080" y="1030320"/>
            <a:ext cx="75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551480"/>
            <a:ext cx="932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16520" y="304920"/>
            <a:ext cx="0" cy="424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4040" y="4675320"/>
            <a:ext cx="1911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m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0720" y="3221640"/>
            <a:ext cx="7925400" cy="30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380880" y="28908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991120" y="272880"/>
            <a:ext cx="3608640" cy="401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1: MINIMUM CAPITAL REQUIR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: greater emphasis on banks’ own assessment of the risks to which they are exposed in the calculation of regulatory capital charges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ew approach to credit risk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nclusion of explicit capital requirements for operational risk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rough a range of risk-sensitive op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2: SUPERVISORY REVIEW PROC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: supervisors should ensure that each bank has sound internal processes in place to assess the adequacy of its capital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e process is rather labour- intensive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based on a thorough evaluation of its risk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3: MARKET DISCIPL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: bolstering of market discipl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rough enhanced disclos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871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92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871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920" y="412560"/>
            <a:ext cx="854892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963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871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592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963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871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920" y="412560"/>
            <a:ext cx="854892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216000" indent="-21456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2" marL="471600" indent="-254160">
              <a:lnSpc>
                <a:spcPct val="85000"/>
              </a:lnSpc>
              <a:spcBef>
                <a:spcPts val="524"/>
              </a:spcBef>
              <a:buClr>
                <a:srgbClr val="970510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3" marL="717480" indent="-2444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4" marL="955800" indent="-230400">
              <a:lnSpc>
                <a:spcPct val="85000"/>
              </a:lnSpc>
              <a:spcBef>
                <a:spcPts val="524"/>
              </a:spcBef>
              <a:buClr>
                <a:srgbClr val="97051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5" marL="955800" indent="-230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6" marL="955800" indent="-230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19400" y="6330960"/>
            <a:ext cx="597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fld id="{8CAB4385-5DE0-4AF5-AEE9-6F40EEBE7F9C}" type="slidenum">
              <a:rPr b="0" lang="nl-BE" sz="900" spc="-1" strike="noStrike">
                <a:solidFill>
                  <a:srgbClr val="2a325b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360" y="250920"/>
            <a:ext cx="8825040" cy="144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5" y="0"/>
                </a:lnTo>
              </a:path>
            </a:pathLst>
          </a:custGeom>
          <a:noFill/>
          <a:ln w="1260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557320" y="74520"/>
            <a:ext cx="2259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84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500" spc="-1" strike="noStrike">
                <a:solidFill>
                  <a:srgbClr val="85b2ed"/>
                </a:solidFill>
                <a:latin typeface="Arial Narrow"/>
              </a:rPr>
              <a:t>Institutional Banking &amp; Fu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600" spc="-1" strike="noStrike">
                <a:solidFill>
                  <a:srgbClr val="2a325b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12840" y="6440400"/>
            <a:ext cx="7499520" cy="7920"/>
          </a:xfrm>
          <a:custGeom>
            <a:avLst/>
            <a:gdLst/>
            <a:ahLst/>
            <a:rect l="l" t="t" r="r" b="b"/>
            <a:pathLst>
              <a:path w="5223" h="5">
                <a:moveTo>
                  <a:pt x="0" y="5"/>
                </a:moveTo>
                <a:lnTo>
                  <a:pt x="5223" y="0"/>
                </a:lnTo>
              </a:path>
            </a:pathLst>
          </a:custGeom>
          <a:noFill/>
          <a:ln w="936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81560" y="6377040"/>
            <a:ext cx="277632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100" spc="-1" strike="noStrike">
                <a:solidFill>
                  <a:srgbClr val="2a325b"/>
                </a:solidFill>
                <a:latin typeface="Arial"/>
              </a:rPr>
              <a:t>Istanbul , </a:t>
            </a:r>
            <a:r>
              <a:rPr b="0" lang="fr-BE" sz="1100" spc="-1" strike="noStrike">
                <a:solidFill>
                  <a:srgbClr val="2a325b"/>
                </a:solidFill>
                <a:latin typeface="Arial"/>
              </a:rPr>
              <a:t>May 12</a:t>
            </a:r>
            <a:r>
              <a:rPr b="0" lang="fr-BE" sz="1100" spc="-1" strike="noStrike" baseline="30000">
                <a:solidFill>
                  <a:srgbClr val="2a325b"/>
                </a:solidFill>
                <a:latin typeface="Arial"/>
              </a:rPr>
              <a:t>th</a:t>
            </a:r>
            <a:r>
              <a:rPr b="0" lang="fr-BE" sz="1100" spc="-1" strike="noStrike">
                <a:solidFill>
                  <a:srgbClr val="2a325b"/>
                </a:solidFill>
                <a:latin typeface="Arial"/>
              </a:rPr>
              <a:t>, 20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95400" y="6124680"/>
          <a:ext cx="1190520" cy="48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6124680"/>
                    <a:ext cx="11905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ORTIS%20Merchant%20Banking_BIG_H2" descr=""/>
          <p:cNvPicPr/>
          <p:nvPr/>
        </p:nvPicPr>
        <p:blipFill>
          <a:blip r:embed="rId2"/>
          <a:stretch/>
        </p:blipFill>
        <p:spPr>
          <a:xfrm>
            <a:off x="414360" y="0"/>
            <a:ext cx="3308400" cy="128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360" y="1468440"/>
            <a:ext cx="8817120" cy="1440"/>
          </a:xfrm>
          <a:custGeom>
            <a:avLst/>
            <a:gdLst/>
            <a:ahLst/>
            <a:rect l="l" t="t" r="r" b="b"/>
            <a:pathLst>
              <a:path w="6140" h="1">
                <a:moveTo>
                  <a:pt x="0" y="0"/>
                </a:moveTo>
                <a:lnTo>
                  <a:pt x="6140" y="0"/>
                </a:lnTo>
              </a:path>
            </a:pathLst>
          </a:custGeom>
          <a:noFill/>
          <a:ln w="1260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99360" y="1254240"/>
            <a:ext cx="3407400" cy="3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84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2200" spc="-1" strike="noStrike">
                <a:solidFill>
                  <a:srgbClr val="85b2ed"/>
                </a:solidFill>
                <a:latin typeface="Arial Narrow"/>
              </a:rPr>
              <a:t> </a:t>
            </a:r>
            <a:r>
              <a:rPr b="1" lang="nl-BE" sz="2200" spc="-1" strike="noStrike">
                <a:solidFill>
                  <a:srgbClr val="85b2ed"/>
                </a:solidFill>
                <a:latin typeface="Arial Narrow"/>
              </a:rPr>
              <a:t>Institutional Banking &amp; Fund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2239560"/>
            <a:ext cx="7618680" cy="1120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600" spc="-1" strike="noStrike">
                <a:solidFill>
                  <a:srgbClr val="2a325b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360" y="6491160"/>
            <a:ext cx="8825040" cy="180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5" y="0"/>
                </a:lnTo>
              </a:path>
            </a:pathLst>
          </a:custGeom>
          <a:noFill/>
          <a:ln w="936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47840" y="1572480"/>
            <a:ext cx="8064000" cy="38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100" spc="-1" strike="noStrike">
                <a:solidFill>
                  <a:srgbClr val="2a325b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1440" indent="0" algn="ctr">
              <a:lnSpc>
                <a:spcPct val="85000"/>
              </a:lnSpc>
              <a:spcBef>
                <a:spcPts val="95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2a325b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2" marL="184320" indent="33120" algn="ctr">
              <a:lnSpc>
                <a:spcPct val="85000"/>
              </a:lnSpc>
              <a:spcBef>
                <a:spcPts val="8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700" spc="-1" strike="noStrike">
                <a:solidFill>
                  <a:srgbClr val="2a325b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347760" indent="125280" algn="ctr">
              <a:lnSpc>
                <a:spcPct val="85000"/>
              </a:lnSpc>
              <a:spcBef>
                <a:spcPts val="751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500" spc="-1" strike="noStrike">
                <a:solidFill>
                  <a:srgbClr val="2a325b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2a325b"/>
              </a:solidFill>
              <a:latin typeface="Arial"/>
            </a:endParaRPr>
          </a:p>
          <a:p>
            <a:pPr lvl="4" marL="538200" indent="187200" algn="ctr">
              <a:lnSpc>
                <a:spcPct val="85000"/>
              </a:lnSpc>
              <a:spcBef>
                <a:spcPts val="649"/>
              </a:spcBef>
              <a:buClr>
                <a:srgbClr val="97051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  <a:p>
            <a:pPr lvl="5" marL="538200" indent="187200">
              <a:spcBef>
                <a:spcPts val="326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  <a:p>
            <a:pPr lvl="6" marL="538200" indent="187200">
              <a:spcBef>
                <a:spcPts val="326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wcglobal.com/de" TargetMode="External"/><Relationship Id="rId2" Type="http://schemas.openxmlformats.org/officeDocument/2006/relationships/hyperlink" Target="http://www.pwcglobal.com/de" TargetMode="External"/><Relationship Id="rId3" Type="http://schemas.openxmlformats.org/officeDocument/2006/relationships/hyperlink" Target="http://www.pwcglobal.com/de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wcglobal.com/de" TargetMode="External"/><Relationship Id="rId2" Type="http://schemas.openxmlformats.org/officeDocument/2006/relationships/hyperlink" Target="http://www.pwcglobal.com/de" TargetMode="External"/><Relationship Id="rId3" Type="http://schemas.openxmlformats.org/officeDocument/2006/relationships/hyperlink" Target="http://www.pwcglobal.com/de" TargetMode="External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1763280"/>
            <a:ext cx="7618320" cy="1120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4200" spc="-1" strike="noStrike">
                <a:solidFill>
                  <a:srgbClr val="2a325b"/>
                </a:solidFill>
                <a:latin typeface="Arial"/>
              </a:rPr>
              <a:t>Risk Modelling</a:t>
            </a:r>
            <a:br>
              <a:rPr sz="4200"/>
            </a:br>
            <a:br>
              <a:rPr sz="3000"/>
            </a:br>
            <a:r>
              <a:rPr b="0" lang="fr-BE" sz="3000" spc="-1" strike="noStrike">
                <a:solidFill>
                  <a:srgbClr val="2a325b"/>
                </a:solidFill>
                <a:latin typeface="Arial"/>
              </a:rPr>
              <a:t>From Internal Validation to</a:t>
            </a:r>
            <a:br>
              <a:rPr sz="3000"/>
            </a:br>
            <a:r>
              <a:rPr b="0" lang="fr-BE" sz="3000" spc="-1" strike="noStrike">
                <a:solidFill>
                  <a:srgbClr val="2a325b"/>
                </a:solidFill>
                <a:latin typeface="Arial"/>
              </a:rPr>
              <a:t> Basel II Compliance</a:t>
            </a:r>
            <a:r>
              <a:rPr b="0" lang="en-GB" sz="30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86920" y="4352760"/>
            <a:ext cx="8386920" cy="1717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Risk Management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Conference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Istanbul ,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May</a:t>
            </a: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12th,</a:t>
            </a: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 2004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132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664000" y="4965840"/>
            <a:ext cx="3504960" cy="512640"/>
            <a:chOff x="2664000" y="4965840"/>
            <a:chExt cx="3504960" cy="512640"/>
          </a:xfrm>
        </p:grpSpPr>
        <p:sp>
          <p:nvSpPr>
            <p:cNvPr id="98" name=""/>
            <p:cNvSpPr/>
            <p:nvPr/>
          </p:nvSpPr>
          <p:spPr>
            <a:xfrm>
              <a:off x="2664000" y="4965840"/>
              <a:ext cx="3504960" cy="512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64000" y="4965840"/>
              <a:ext cx="3504960" cy="512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KS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SOCIATION OF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R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9000"/>
          </a:bodyPr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mpliance with minimum criteria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First Pillar :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Risk : Internal Ratings-Based Approach : Art. 349 to 500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perational Risk : Art. 620 to 639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Second Pillar : strong reminder of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Art. 396 to 399 : Stress Test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Art. 416 – 418  : Definition of default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Three main areas :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Who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owns the process ?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How</a:t>
            </a:r>
            <a:r>
              <a:rPr b="1" lang="fr-BE" sz="29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s the process applied ?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What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is in the process ?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General Princi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666880" y="2340000"/>
            <a:ext cx="3276720" cy="1942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35160" y="2746440"/>
            <a:ext cx="2590920" cy="1434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16400" y="3178080"/>
            <a:ext cx="1815840" cy="876240"/>
          </a:xfrm>
          <a:prstGeom prst="ellipse">
            <a:avLst/>
          </a:prstGeom>
          <a:solidFill>
            <a:srgbClr val="d7aa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13640" y="5319720"/>
            <a:ext cx="736560" cy="392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581280" y="3340080"/>
            <a:ext cx="1498680" cy="689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isk Analythic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89320" y="2997360"/>
            <a:ext cx="2146320" cy="1095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siness Line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908440" y="2603520"/>
            <a:ext cx="2806560" cy="141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836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entral Risk Management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5851440" y="3936960"/>
            <a:ext cx="237816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Forti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mmit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81840" y="1670040"/>
            <a:ext cx="237780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hir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art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3680" y="3978360"/>
            <a:ext cx="237780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terna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&amp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Aud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2440" y="998640"/>
            <a:ext cx="237816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gulato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stitu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sel I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52760" y="4624560"/>
            <a:ext cx="1701720" cy="1500120"/>
          </a:xfrm>
          <a:prstGeom prst="upArrowCallout">
            <a:avLst>
              <a:gd name="adj1" fmla="val 28362"/>
              <a:gd name="adj2" fmla="val 28360"/>
              <a:gd name="adj3" fmla="val 16667"/>
              <a:gd name="adj4" fmla="val 66660"/>
            </a:avLst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Busines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Lines &amp; CR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Nee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22640" y="3438360"/>
            <a:ext cx="587520" cy="58608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08560" y="349884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45360" y="302580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03640" y="320040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13480" y="448308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478152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35320" y="142236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72240" y="536112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000" spc="-1" strike="noStrike">
                <a:solidFill>
                  <a:srgbClr val="2a325b"/>
                </a:solidFill>
                <a:latin typeface="Arial"/>
              </a:rPr>
              <a:t>Fortis Risk Validation</a:t>
            </a: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1" lang="fr-BE" sz="1600" spc="-1" strike="noStrike">
                <a:solidFill>
                  <a:srgbClr val="2a325b"/>
                </a:solidFill>
                <a:latin typeface="Arial"/>
              </a:rPr>
              <a:t>Mutiple Stakeholders</a:t>
            </a: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Validation organisation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16080" y="1188720"/>
            <a:ext cx="840240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wnership of senior management in the structure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dependance of the Risk Modeller from the business line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tegrity of the rating proces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2040" y="2355840"/>
          <a:ext cx="812952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2355840"/>
                    <a:ext cx="812952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 rot="874200">
            <a:off x="5439960" y="3371760"/>
            <a:ext cx="1714680" cy="219240"/>
          </a:xfrm>
          <a:prstGeom prst="rightArrow">
            <a:avLst>
              <a:gd name="adj1" fmla="val 50000"/>
              <a:gd name="adj2" fmla="val 19552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8043600">
            <a:off x="5920920" y="4271400"/>
            <a:ext cx="1714320" cy="219240"/>
          </a:xfrm>
          <a:prstGeom prst="rightArrow">
            <a:avLst>
              <a:gd name="adj1" fmla="val 50000"/>
              <a:gd name="adj2" fmla="val 19548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4546400">
            <a:off x="4882680" y="3983760"/>
            <a:ext cx="1714680" cy="219240"/>
          </a:xfrm>
          <a:prstGeom prst="rightArrow">
            <a:avLst>
              <a:gd name="adj1" fmla="val 50000"/>
              <a:gd name="adj2" fmla="val 19552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76960" y="3767040"/>
            <a:ext cx="18288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isk Committ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240" y="5778360"/>
            <a:ext cx="7645320" cy="7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he validation triangle : Business – Analythics- 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41920" y="511200"/>
            <a:ext cx="18460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Art. 400 - 40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98520" y="2166840"/>
            <a:ext cx="802476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 marL="426960" indent="-426960">
              <a:lnSpc>
                <a:spcPct val="100000"/>
              </a:lnSpc>
              <a:spcBef>
                <a:spcPts val="499"/>
              </a:spcBef>
              <a:buClr>
                <a:srgbClr val="a1a1a1"/>
              </a:buClr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credit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nd busines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 in the analysis of differences between model rating and experts opi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issues (balance-sheet / nace /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issues ( financial analysi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isclosed Credit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take necessary action in a uniform way - Guards to ensure consistency of overruling and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x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ating in line with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benchmar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e, support and tests of new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e and support rating coverage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Model - Rating Anomaly Managemen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1960" y="1152360"/>
            <a:ext cx="70041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8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mportant to maintain coherency between field and modeller : art. 379, 386 - 39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Implementation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7280" y="7209000"/>
            <a:ext cx="8188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2520" y="4640400"/>
            <a:ext cx="4446360" cy="1334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2520" y="4640400"/>
            <a:ext cx="444636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2520" y="4640400"/>
            <a:ext cx="4446360" cy="13348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2520" y="5786280"/>
            <a:ext cx="212760" cy="189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65280" y="4894200"/>
            <a:ext cx="210600" cy="1081080"/>
            <a:chOff x="665280" y="4894200"/>
            <a:chExt cx="210600" cy="1081080"/>
          </a:xfrm>
        </p:grpSpPr>
        <p:sp>
          <p:nvSpPr>
            <p:cNvPr id="242" name=""/>
            <p:cNvSpPr/>
            <p:nvPr/>
          </p:nvSpPr>
          <p:spPr>
            <a:xfrm>
              <a:off x="665280" y="4894200"/>
              <a:ext cx="10080" cy="108108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5360" y="4894200"/>
              <a:ext cx="5760" cy="108108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1480" y="4894200"/>
              <a:ext cx="10080" cy="108108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1920" y="4894200"/>
              <a:ext cx="5040" cy="108108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6960" y="4894200"/>
              <a:ext cx="11160" cy="108108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8480" y="4894200"/>
              <a:ext cx="10080" cy="108108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8920" y="4894200"/>
              <a:ext cx="5760" cy="108108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5040" y="4894200"/>
              <a:ext cx="10080" cy="108108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5480" y="4894200"/>
              <a:ext cx="11160" cy="108108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6640" y="4894200"/>
              <a:ext cx="5040" cy="108108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1680" y="4894200"/>
              <a:ext cx="11160" cy="108108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840" y="4894200"/>
              <a:ext cx="5040" cy="108108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8240" y="4894200"/>
              <a:ext cx="10080" cy="108108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8680" y="4894200"/>
              <a:ext cx="11160" cy="108108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9840" y="4894200"/>
              <a:ext cx="5040" cy="108108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4880" y="4894200"/>
              <a:ext cx="11160" cy="108108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6040" y="4894200"/>
              <a:ext cx="10080" cy="108108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6480" y="4894200"/>
              <a:ext cx="5760" cy="108108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2600" y="4894200"/>
              <a:ext cx="10080" cy="108108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3040" y="4894200"/>
              <a:ext cx="5040" cy="108108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4894200"/>
              <a:ext cx="11160" cy="108108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9600" y="4894200"/>
              <a:ext cx="11160" cy="108108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0760" y="4894200"/>
              <a:ext cx="5040" cy="108108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5800" y="4894200"/>
              <a:ext cx="10080" cy="108108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65280" y="4894200"/>
            <a:ext cx="210960" cy="1081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76240" y="5711760"/>
            <a:ext cx="212400" cy="263520"/>
            <a:chOff x="876240" y="5711760"/>
            <a:chExt cx="212400" cy="263520"/>
          </a:xfrm>
        </p:grpSpPr>
        <p:sp>
          <p:nvSpPr>
            <p:cNvPr id="268" name=""/>
            <p:cNvSpPr/>
            <p:nvPr/>
          </p:nvSpPr>
          <p:spPr>
            <a:xfrm>
              <a:off x="876240" y="5711760"/>
              <a:ext cx="11160" cy="263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7400" y="5711760"/>
              <a:ext cx="5040" cy="263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92440" y="5711760"/>
              <a:ext cx="11160" cy="263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03960" y="5711760"/>
              <a:ext cx="5040" cy="263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09000" y="5711760"/>
              <a:ext cx="11160" cy="263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20520" y="5711760"/>
              <a:ext cx="10080" cy="263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30960" y="5711760"/>
              <a:ext cx="5040" cy="263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36000" y="5711760"/>
              <a:ext cx="11160" cy="263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47520" y="5711760"/>
              <a:ext cx="11160" cy="263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58680" y="5711760"/>
              <a:ext cx="5040" cy="263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4080" y="5711760"/>
              <a:ext cx="10080" cy="263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74520" y="5711760"/>
              <a:ext cx="5760" cy="263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80280" y="5711760"/>
              <a:ext cx="10080" cy="263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0720" y="5711760"/>
              <a:ext cx="11160" cy="263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02240" y="5711760"/>
              <a:ext cx="5040" cy="263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07280" y="5711760"/>
              <a:ext cx="11160" cy="263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18800" y="5711760"/>
              <a:ext cx="10080" cy="263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28880" y="5711760"/>
              <a:ext cx="5040" cy="263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34280" y="5711760"/>
              <a:ext cx="11160" cy="263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45440" y="5711760"/>
              <a:ext cx="5040" cy="263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50840" y="5711760"/>
              <a:ext cx="11160" cy="263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62000" y="5711760"/>
              <a:ext cx="10080" cy="263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72440" y="5711760"/>
              <a:ext cx="5760" cy="263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78560" y="5711760"/>
              <a:ext cx="10080" cy="263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876240" y="5711760"/>
            <a:ext cx="212760" cy="263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89000" y="5703840"/>
            <a:ext cx="212760" cy="271440"/>
            <a:chOff x="1089000" y="5703840"/>
            <a:chExt cx="212760" cy="271440"/>
          </a:xfrm>
        </p:grpSpPr>
        <p:sp>
          <p:nvSpPr>
            <p:cNvPr id="294" name=""/>
            <p:cNvSpPr/>
            <p:nvPr/>
          </p:nvSpPr>
          <p:spPr>
            <a:xfrm>
              <a:off x="1089000" y="5703840"/>
              <a:ext cx="11160" cy="271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00160" y="5703840"/>
              <a:ext cx="5040" cy="271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05200" y="5703840"/>
              <a:ext cx="10440" cy="271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15640" y="5703840"/>
              <a:ext cx="5760" cy="27144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21760" y="5703840"/>
              <a:ext cx="10440" cy="27144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32200" y="5703840"/>
              <a:ext cx="11160" cy="271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43720" y="5703840"/>
              <a:ext cx="5040" cy="271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48760" y="5703840"/>
              <a:ext cx="11160" cy="271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59920" y="5703840"/>
              <a:ext cx="10440" cy="271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70360" y="5703840"/>
              <a:ext cx="5040" cy="271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75760" y="5703840"/>
              <a:ext cx="11160" cy="271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86920" y="5703840"/>
              <a:ext cx="5040" cy="27144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91960" y="5703840"/>
              <a:ext cx="11160" cy="27144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03480" y="5703840"/>
              <a:ext cx="10440" cy="271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13920" y="5703840"/>
              <a:ext cx="5760" cy="271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20040" y="5703840"/>
              <a:ext cx="10080" cy="271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30480" y="5703840"/>
              <a:ext cx="11160" cy="271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41640" y="5703840"/>
              <a:ext cx="5040" cy="271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47040" y="5703840"/>
              <a:ext cx="11160" cy="271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58200" y="5703840"/>
              <a:ext cx="5040" cy="27144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63600" y="5703840"/>
              <a:ext cx="10440" cy="27144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74040" y="5703840"/>
              <a:ext cx="11160" cy="271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85200" y="5703840"/>
              <a:ext cx="5040" cy="271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90600" y="5703840"/>
              <a:ext cx="11160" cy="271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089000" y="5703840"/>
            <a:ext cx="212760" cy="271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301760" y="5738760"/>
            <a:ext cx="210600" cy="236520"/>
            <a:chOff x="1301760" y="5738760"/>
            <a:chExt cx="210600" cy="236520"/>
          </a:xfrm>
        </p:grpSpPr>
        <p:sp>
          <p:nvSpPr>
            <p:cNvPr id="320" name=""/>
            <p:cNvSpPr/>
            <p:nvPr/>
          </p:nvSpPr>
          <p:spPr>
            <a:xfrm>
              <a:off x="1301760" y="5738760"/>
              <a:ext cx="10080" cy="2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1840" y="5738760"/>
              <a:ext cx="5760" cy="2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7960" y="5738760"/>
              <a:ext cx="10080" cy="2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28400" y="5738760"/>
              <a:ext cx="5040" cy="236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33440" y="5738760"/>
              <a:ext cx="11160" cy="236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44960" y="5738760"/>
              <a:ext cx="10800" cy="2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55760" y="5738760"/>
              <a:ext cx="5040" cy="2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61160" y="5738760"/>
              <a:ext cx="10080" cy="2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371240" y="5738760"/>
              <a:ext cx="11160" cy="2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82760" y="5738760"/>
              <a:ext cx="5040" cy="2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87800" y="5738760"/>
              <a:ext cx="10800" cy="2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98960" y="5738760"/>
              <a:ext cx="5040" cy="236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04360" y="5738760"/>
              <a:ext cx="10800" cy="236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15520" y="5738760"/>
              <a:ext cx="10080" cy="2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25600" y="5738760"/>
              <a:ext cx="5040" cy="2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31000" y="5738760"/>
              <a:ext cx="10800" cy="2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2160" y="5738760"/>
              <a:ext cx="10080" cy="2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52600" y="5738760"/>
              <a:ext cx="5760" cy="2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58720" y="5738760"/>
              <a:ext cx="10080" cy="2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68800" y="5738760"/>
              <a:ext cx="5760" cy="236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74920" y="5738760"/>
              <a:ext cx="10080" cy="236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85000" y="5738760"/>
              <a:ext cx="11160" cy="2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96520" y="5738760"/>
              <a:ext cx="5040" cy="2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01560" y="5738760"/>
              <a:ext cx="10800" cy="2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01760" y="5738760"/>
            <a:ext cx="210960" cy="236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512720" y="5537160"/>
            <a:ext cx="211320" cy="438120"/>
            <a:chOff x="1512720" y="5537160"/>
            <a:chExt cx="211320" cy="438120"/>
          </a:xfrm>
        </p:grpSpPr>
        <p:sp>
          <p:nvSpPr>
            <p:cNvPr id="346" name=""/>
            <p:cNvSpPr/>
            <p:nvPr/>
          </p:nvSpPr>
          <p:spPr>
            <a:xfrm>
              <a:off x="1512720" y="5537160"/>
              <a:ext cx="10080" cy="4381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22800" y="5537160"/>
              <a:ext cx="5040" cy="4381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28200" y="5537160"/>
              <a:ext cx="11160" cy="4381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39360" y="5537160"/>
              <a:ext cx="5040" cy="4381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44760" y="5537160"/>
              <a:ext cx="11160" cy="4381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55920" y="5537160"/>
              <a:ext cx="10080" cy="4381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66360" y="5537160"/>
              <a:ext cx="5760" cy="4381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72480" y="5537160"/>
              <a:ext cx="10080" cy="4381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82920" y="5537160"/>
              <a:ext cx="11160" cy="4381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94080" y="5537160"/>
              <a:ext cx="5040" cy="4381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99120" y="5537160"/>
              <a:ext cx="10080" cy="4381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09560" y="5537160"/>
              <a:ext cx="5760" cy="4381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15680" y="5537160"/>
              <a:ext cx="10080" cy="4381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26120" y="5537160"/>
              <a:ext cx="11160" cy="4381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37280" y="5537160"/>
              <a:ext cx="5040" cy="4381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42680" y="5537160"/>
              <a:ext cx="11160" cy="4381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3840" y="5537160"/>
              <a:ext cx="10080" cy="4381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64280" y="5537160"/>
              <a:ext cx="5040" cy="4381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69680" y="5537160"/>
              <a:ext cx="11160" cy="4381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80840" y="5537160"/>
              <a:ext cx="5040" cy="4381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85880" y="5537160"/>
              <a:ext cx="11160" cy="4381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97400" y="5537160"/>
              <a:ext cx="10080" cy="4381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07840" y="5537160"/>
              <a:ext cx="5760" cy="4381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13960" y="5537160"/>
              <a:ext cx="10080" cy="4381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512720" y="5537160"/>
            <a:ext cx="211320" cy="438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724040" y="4838760"/>
            <a:ext cx="212400" cy="1136520"/>
            <a:chOff x="1724040" y="4838760"/>
            <a:chExt cx="212400" cy="1136520"/>
          </a:xfrm>
        </p:grpSpPr>
        <p:sp>
          <p:nvSpPr>
            <p:cNvPr id="372" name=""/>
            <p:cNvSpPr/>
            <p:nvPr/>
          </p:nvSpPr>
          <p:spPr>
            <a:xfrm>
              <a:off x="1724040" y="4838760"/>
              <a:ext cx="11160" cy="11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35200" y="4838760"/>
              <a:ext cx="5040" cy="11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40240" y="4838760"/>
              <a:ext cx="11160" cy="11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51760" y="4838760"/>
              <a:ext cx="5040" cy="1136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56800" y="4838760"/>
              <a:ext cx="10080" cy="1136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67240" y="4838760"/>
              <a:ext cx="11160" cy="11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78760" y="4838760"/>
              <a:ext cx="5040" cy="11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83800" y="4838760"/>
              <a:ext cx="11160" cy="11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95320" y="4838760"/>
              <a:ext cx="10080" cy="11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05760" y="4838760"/>
              <a:ext cx="5760" cy="11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11880" y="4838760"/>
              <a:ext cx="10080" cy="11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2320" y="4838760"/>
              <a:ext cx="5040" cy="1136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27360" y="4838760"/>
              <a:ext cx="11160" cy="1136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38520" y="4838760"/>
              <a:ext cx="11160" cy="11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50040" y="4838760"/>
              <a:ext cx="5040" cy="11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55080" y="4838760"/>
              <a:ext cx="10080" cy="11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5520" y="4838760"/>
              <a:ext cx="11160" cy="11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77040" y="4838760"/>
              <a:ext cx="5040" cy="11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82080" y="4838760"/>
              <a:ext cx="11160" cy="11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93240" y="4838760"/>
              <a:ext cx="5040" cy="1136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98640" y="4838760"/>
              <a:ext cx="11160" cy="1136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9800" y="4838760"/>
              <a:ext cx="10080" cy="11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20240" y="4838760"/>
              <a:ext cx="5040" cy="11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25280" y="4838760"/>
              <a:ext cx="11160" cy="11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724040" y="4838760"/>
            <a:ext cx="212760" cy="1136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36800" y="4776840"/>
            <a:ext cx="212760" cy="1198440"/>
            <a:chOff x="1936800" y="4776840"/>
            <a:chExt cx="212760" cy="1198440"/>
          </a:xfrm>
        </p:grpSpPr>
        <p:sp>
          <p:nvSpPr>
            <p:cNvPr id="398" name=""/>
            <p:cNvSpPr/>
            <p:nvPr/>
          </p:nvSpPr>
          <p:spPr>
            <a:xfrm>
              <a:off x="1936800" y="4776840"/>
              <a:ext cx="10440" cy="1198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47240" y="4776840"/>
              <a:ext cx="5760" cy="1198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53360" y="4776840"/>
              <a:ext cx="10440" cy="1198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63800" y="4776840"/>
              <a:ext cx="5760" cy="119844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69560" y="4776840"/>
              <a:ext cx="10440" cy="119844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80000" y="4776840"/>
              <a:ext cx="11160" cy="1198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91520" y="4776840"/>
              <a:ext cx="5040" cy="1198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96560" y="4776840"/>
              <a:ext cx="10440" cy="1198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07000" y="4776840"/>
              <a:ext cx="11160" cy="1198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18160" y="4776840"/>
              <a:ext cx="5040" cy="1198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23560" y="4776840"/>
              <a:ext cx="11160" cy="1198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34720" y="4776840"/>
              <a:ext cx="5040" cy="119844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40120" y="4776840"/>
              <a:ext cx="11160" cy="119844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51280" y="4776840"/>
              <a:ext cx="10440" cy="1198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61720" y="4776840"/>
              <a:ext cx="5760" cy="1198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67840" y="4776840"/>
              <a:ext cx="10440" cy="1198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8280" y="4776840"/>
              <a:ext cx="11160" cy="1198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89440" y="4776840"/>
              <a:ext cx="5040" cy="1198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94840" y="4776840"/>
              <a:ext cx="10440" cy="1198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05280" y="4776840"/>
              <a:ext cx="5760" cy="119844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11400" y="4776840"/>
              <a:ext cx="10440" cy="119844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21840" y="4776840"/>
              <a:ext cx="11160" cy="1198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33000" y="4776840"/>
              <a:ext cx="5040" cy="1198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38400" y="4776840"/>
              <a:ext cx="11160" cy="1198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36800" y="4776840"/>
            <a:ext cx="212760" cy="1198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149560" y="4911840"/>
            <a:ext cx="210600" cy="1063440"/>
            <a:chOff x="2149560" y="4911840"/>
            <a:chExt cx="210600" cy="1063440"/>
          </a:xfrm>
        </p:grpSpPr>
        <p:sp>
          <p:nvSpPr>
            <p:cNvPr id="424" name=""/>
            <p:cNvSpPr/>
            <p:nvPr/>
          </p:nvSpPr>
          <p:spPr>
            <a:xfrm>
              <a:off x="2149560" y="4911840"/>
              <a:ext cx="10080" cy="106344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59640" y="4911840"/>
              <a:ext cx="5040" cy="106344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65040" y="4911840"/>
              <a:ext cx="11160" cy="106344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76200" y="4911840"/>
              <a:ext cx="5040" cy="1063440"/>
            </a:xfrm>
            <a:prstGeom prst="rect">
              <a:avLst/>
            </a:prstGeom>
            <a:solidFill>
              <a:srgbClr val="4f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81240" y="4911840"/>
              <a:ext cx="11160" cy="1063440"/>
            </a:xfrm>
            <a:prstGeom prst="rect">
              <a:avLst/>
            </a:prstGeom>
            <a:solidFill>
              <a:srgbClr val="5b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92760" y="4911840"/>
              <a:ext cx="10080" cy="106344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03200" y="4911840"/>
              <a:ext cx="5760" cy="106344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08960" y="4911840"/>
              <a:ext cx="10080" cy="106344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19400" y="4911840"/>
              <a:ext cx="11160" cy="106344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30920" y="4911840"/>
              <a:ext cx="5040" cy="106344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35960" y="4911840"/>
              <a:ext cx="11160" cy="106344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47120" y="4911840"/>
              <a:ext cx="5040" cy="106344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52520" y="4911840"/>
              <a:ext cx="10080" cy="1063440"/>
            </a:xfrm>
            <a:prstGeom prst="rect">
              <a:avLst/>
            </a:prstGeom>
            <a:solidFill>
              <a:srgbClr val="98c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62960" y="4911840"/>
              <a:ext cx="11160" cy="106344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74120" y="4911840"/>
              <a:ext cx="5040" cy="106344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79160" y="4911840"/>
              <a:ext cx="11160" cy="106344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90320" y="4911840"/>
              <a:ext cx="10080" cy="106344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00760" y="4911840"/>
              <a:ext cx="5760" cy="106344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06880" y="4911840"/>
              <a:ext cx="10080" cy="106344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17320" y="4911840"/>
              <a:ext cx="5040" cy="1063440"/>
            </a:xfrm>
            <a:prstGeom prst="rect">
              <a:avLst/>
            </a:prstGeom>
            <a:solidFill>
              <a:srgbClr val="5fa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22360" y="4911840"/>
              <a:ext cx="11160" cy="1063440"/>
            </a:xfrm>
            <a:prstGeom prst="rect">
              <a:avLst/>
            </a:prstGeom>
            <a:solidFill>
              <a:srgbClr val="52a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33520" y="4911840"/>
              <a:ext cx="10080" cy="106344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43960" y="4911840"/>
              <a:ext cx="5760" cy="106344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50080" y="4911840"/>
              <a:ext cx="10080" cy="106344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149560" y="4911840"/>
            <a:ext cx="210960" cy="1063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360520" y="5092560"/>
            <a:ext cx="212400" cy="882720"/>
            <a:chOff x="2360520" y="5092560"/>
            <a:chExt cx="212400" cy="882720"/>
          </a:xfrm>
        </p:grpSpPr>
        <p:sp>
          <p:nvSpPr>
            <p:cNvPr id="450" name=""/>
            <p:cNvSpPr/>
            <p:nvPr/>
          </p:nvSpPr>
          <p:spPr>
            <a:xfrm>
              <a:off x="2360520" y="5092560"/>
              <a:ext cx="11160" cy="8827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71680" y="5092560"/>
              <a:ext cx="5040" cy="88272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76720" y="5092560"/>
              <a:ext cx="11160" cy="88272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8240" y="5092560"/>
              <a:ext cx="5040" cy="882720"/>
            </a:xfrm>
            <a:prstGeom prst="rect">
              <a:avLst/>
            </a:prstGeom>
            <a:solidFill>
              <a:srgbClr val="4f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93280" y="5092560"/>
              <a:ext cx="11160" cy="882720"/>
            </a:xfrm>
            <a:prstGeom prst="rect">
              <a:avLst/>
            </a:prstGeom>
            <a:solidFill>
              <a:srgbClr val="5b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04800" y="5092560"/>
              <a:ext cx="10080" cy="88272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5240" y="5092560"/>
              <a:ext cx="5040" cy="88272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20280" y="5092560"/>
              <a:ext cx="11160" cy="88272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31800" y="5092560"/>
              <a:ext cx="10080" cy="88272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42240" y="5092560"/>
              <a:ext cx="5760" cy="88272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48360" y="5092560"/>
              <a:ext cx="10080" cy="88272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58440" y="5092560"/>
              <a:ext cx="5760" cy="8827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64560" y="5092560"/>
              <a:ext cx="10080" cy="882720"/>
            </a:xfrm>
            <a:prstGeom prst="rect">
              <a:avLst/>
            </a:prstGeom>
            <a:solidFill>
              <a:srgbClr val="98c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75000" y="5092560"/>
              <a:ext cx="11160" cy="88272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86520" y="5092560"/>
              <a:ext cx="5040" cy="88272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91560" y="5092560"/>
              <a:ext cx="10080" cy="88272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02000" y="5092560"/>
              <a:ext cx="11160" cy="88272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13160" y="5092560"/>
              <a:ext cx="5040" cy="88272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18560" y="5092560"/>
              <a:ext cx="11160" cy="88272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29720" y="5092560"/>
              <a:ext cx="5040" cy="882720"/>
            </a:xfrm>
            <a:prstGeom prst="rect">
              <a:avLst/>
            </a:prstGeom>
            <a:solidFill>
              <a:srgbClr val="5fa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35120" y="5092560"/>
              <a:ext cx="11160" cy="882720"/>
            </a:xfrm>
            <a:prstGeom prst="rect">
              <a:avLst/>
            </a:prstGeom>
            <a:solidFill>
              <a:srgbClr val="52a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46280" y="5092560"/>
              <a:ext cx="10080" cy="88272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56720" y="5092560"/>
              <a:ext cx="5040" cy="88272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61760" y="5092560"/>
              <a:ext cx="11160" cy="8827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2360520" y="5092560"/>
            <a:ext cx="212760" cy="8827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573280" y="5549760"/>
            <a:ext cx="205920" cy="425520"/>
            <a:chOff x="2573280" y="5549760"/>
            <a:chExt cx="205920" cy="425520"/>
          </a:xfrm>
        </p:grpSpPr>
        <p:sp>
          <p:nvSpPr>
            <p:cNvPr id="476" name=""/>
            <p:cNvSpPr/>
            <p:nvPr/>
          </p:nvSpPr>
          <p:spPr>
            <a:xfrm>
              <a:off x="2573280" y="5549760"/>
              <a:ext cx="11160" cy="4255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84440" y="5549760"/>
              <a:ext cx="5040" cy="425520"/>
            </a:xfrm>
            <a:prstGeom prst="rect">
              <a:avLst/>
            </a:prstGeom>
            <a:solidFill>
              <a:srgbClr val="3c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89480" y="5549760"/>
              <a:ext cx="10080" cy="425520"/>
            </a:xfrm>
            <a:prstGeom prst="rect">
              <a:avLst/>
            </a:prstGeom>
            <a:solidFill>
              <a:srgbClr val="449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99920" y="5549760"/>
              <a:ext cx="5760" cy="425520"/>
            </a:xfrm>
            <a:prstGeom prst="rect">
              <a:avLst/>
            </a:prstGeom>
            <a:solidFill>
              <a:srgbClr val="50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06040" y="5549760"/>
              <a:ext cx="10080" cy="425520"/>
            </a:xfrm>
            <a:prstGeom prst="rect">
              <a:avLst/>
            </a:prstGeom>
            <a:solidFill>
              <a:srgbClr val="5c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16480" y="5549760"/>
              <a:ext cx="5040" cy="425520"/>
            </a:xfrm>
            <a:prstGeom prst="rect">
              <a:avLst/>
            </a:prstGeom>
            <a:solidFill>
              <a:srgbClr val="69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21520" y="5549760"/>
              <a:ext cx="11160" cy="425520"/>
            </a:xfrm>
            <a:prstGeom prst="rect">
              <a:avLst/>
            </a:prstGeom>
            <a:solidFill>
              <a:srgbClr val="75b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33040" y="5549760"/>
              <a:ext cx="11160" cy="425520"/>
            </a:xfrm>
            <a:prstGeom prst="rect">
              <a:avLst/>
            </a:prstGeom>
            <a:solidFill>
              <a:srgbClr val="83b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44200" y="5549760"/>
              <a:ext cx="5040" cy="425520"/>
            </a:xfrm>
            <a:prstGeom prst="rect">
              <a:avLst/>
            </a:prstGeom>
            <a:solidFill>
              <a:srgbClr val="8bc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9600" y="5549760"/>
              <a:ext cx="10080" cy="425520"/>
            </a:xfrm>
            <a:prstGeom prst="rect">
              <a:avLst/>
            </a:prstGeom>
            <a:solidFill>
              <a:srgbClr val="91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60040" y="5549760"/>
              <a:ext cx="5760" cy="425520"/>
            </a:xfrm>
            <a:prstGeom prst="rect">
              <a:avLst/>
            </a:prstGeom>
            <a:solidFill>
              <a:srgbClr val="95c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65800" y="5549760"/>
              <a:ext cx="10080" cy="4255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676240" y="5549760"/>
              <a:ext cx="11160" cy="4255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87760" y="5549760"/>
              <a:ext cx="5040" cy="425520"/>
            </a:xfrm>
            <a:prstGeom prst="rect">
              <a:avLst/>
            </a:prstGeom>
            <a:solidFill>
              <a:srgbClr val="95c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92800" y="5549760"/>
              <a:ext cx="11160" cy="425520"/>
            </a:xfrm>
            <a:prstGeom prst="rect">
              <a:avLst/>
            </a:prstGeom>
            <a:solidFill>
              <a:srgbClr val="91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03960" y="5549760"/>
              <a:ext cx="5040" cy="425520"/>
            </a:xfrm>
            <a:prstGeom prst="rect">
              <a:avLst/>
            </a:prstGeom>
            <a:solidFill>
              <a:srgbClr val="8bc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709360" y="5549760"/>
              <a:ext cx="10080" cy="425520"/>
            </a:xfrm>
            <a:prstGeom prst="rect">
              <a:avLst/>
            </a:prstGeom>
            <a:solidFill>
              <a:srgbClr val="83b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19800" y="5549760"/>
              <a:ext cx="5760" cy="425520"/>
            </a:xfrm>
            <a:prstGeom prst="rect">
              <a:avLst/>
            </a:prstGeom>
            <a:solidFill>
              <a:srgbClr val="79b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25920" y="5549760"/>
              <a:ext cx="10080" cy="425520"/>
            </a:xfrm>
            <a:prstGeom prst="rect">
              <a:avLst/>
            </a:prstGeom>
            <a:solidFill>
              <a:srgbClr val="6e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36360" y="5549760"/>
              <a:ext cx="11160" cy="425520"/>
            </a:xfrm>
            <a:prstGeom prst="rect">
              <a:avLst/>
            </a:prstGeom>
            <a:solidFill>
              <a:srgbClr val="5c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47520" y="5549760"/>
              <a:ext cx="5040" cy="425520"/>
            </a:xfrm>
            <a:prstGeom prst="rect">
              <a:avLst/>
            </a:prstGeom>
            <a:solidFill>
              <a:srgbClr val="50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52560" y="5549760"/>
              <a:ext cx="11160" cy="425520"/>
            </a:xfrm>
            <a:prstGeom prst="rect">
              <a:avLst/>
            </a:prstGeom>
            <a:solidFill>
              <a:srgbClr val="449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64080" y="5549760"/>
              <a:ext cx="5040" cy="425520"/>
            </a:xfrm>
            <a:prstGeom prst="rect">
              <a:avLst/>
            </a:prstGeom>
            <a:solidFill>
              <a:srgbClr val="3c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769120" y="5549760"/>
              <a:ext cx="10080" cy="4255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573280" y="5549760"/>
            <a:ext cx="206280" cy="425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779560" y="5634000"/>
            <a:ext cx="211320" cy="341280"/>
            <a:chOff x="2779560" y="5634000"/>
            <a:chExt cx="211320" cy="341280"/>
          </a:xfrm>
        </p:grpSpPr>
        <p:sp>
          <p:nvSpPr>
            <p:cNvPr id="502" name=""/>
            <p:cNvSpPr/>
            <p:nvPr/>
          </p:nvSpPr>
          <p:spPr>
            <a:xfrm>
              <a:off x="2779560" y="5634000"/>
              <a:ext cx="11160" cy="34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90720" y="5634000"/>
              <a:ext cx="5040" cy="34128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95760" y="5634000"/>
              <a:ext cx="11160" cy="34128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06920" y="5634000"/>
              <a:ext cx="5040" cy="34128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12320" y="5634000"/>
              <a:ext cx="11160" cy="341280"/>
            </a:xfrm>
            <a:prstGeom prst="rect">
              <a:avLst/>
            </a:prstGeom>
            <a:solidFill>
              <a:srgbClr val="ff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23480" y="5634000"/>
              <a:ext cx="10080" cy="34128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33920" y="5634000"/>
              <a:ext cx="5040" cy="34128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38960" y="5634000"/>
              <a:ext cx="11160" cy="34128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50120" y="5634000"/>
              <a:ext cx="11160" cy="34128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61280" y="5634000"/>
              <a:ext cx="5040" cy="34128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66680" y="5634000"/>
              <a:ext cx="10080" cy="3412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76760" y="5634000"/>
              <a:ext cx="5760" cy="34128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82880" y="5634000"/>
              <a:ext cx="10080" cy="34128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93320" y="5634000"/>
              <a:ext cx="11160" cy="3412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04480" y="5634000"/>
              <a:ext cx="5040" cy="34128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9880" y="5634000"/>
              <a:ext cx="11160" cy="34128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21040" y="5634000"/>
              <a:ext cx="10080" cy="34128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31480" y="5634000"/>
              <a:ext cx="5040" cy="34128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36520" y="5634000"/>
              <a:ext cx="11160" cy="34128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47680" y="5634000"/>
              <a:ext cx="5040" cy="34128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52720" y="5634000"/>
              <a:ext cx="11160" cy="34128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964240" y="5634000"/>
              <a:ext cx="10080" cy="34128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74680" y="5634000"/>
              <a:ext cx="5760" cy="34128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80800" y="5634000"/>
              <a:ext cx="10080" cy="34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2779560" y="5634000"/>
            <a:ext cx="211320" cy="341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2990880" y="5724360"/>
            <a:ext cx="212400" cy="250920"/>
            <a:chOff x="2990880" y="5724360"/>
            <a:chExt cx="212400" cy="250920"/>
          </a:xfrm>
        </p:grpSpPr>
        <p:sp>
          <p:nvSpPr>
            <p:cNvPr id="528" name=""/>
            <p:cNvSpPr/>
            <p:nvPr/>
          </p:nvSpPr>
          <p:spPr>
            <a:xfrm>
              <a:off x="2990880" y="5724360"/>
              <a:ext cx="11160" cy="250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02040" y="5724360"/>
              <a:ext cx="5040" cy="25092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07080" y="5724360"/>
              <a:ext cx="11160" cy="25092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18600" y="5724360"/>
              <a:ext cx="5040" cy="25092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23640" y="5724360"/>
              <a:ext cx="10080" cy="250920"/>
            </a:xfrm>
            <a:prstGeom prst="rect">
              <a:avLst/>
            </a:prstGeom>
            <a:solidFill>
              <a:srgbClr val="ff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34080" y="5724360"/>
              <a:ext cx="11160" cy="25092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45600" y="5724360"/>
              <a:ext cx="5040" cy="25092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50640" y="5724360"/>
              <a:ext cx="11160" cy="25092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62160" y="5724360"/>
              <a:ext cx="10080" cy="25092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72600" y="5724360"/>
              <a:ext cx="5760" cy="25092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78720" y="5724360"/>
              <a:ext cx="10080" cy="2509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089160" y="5724360"/>
              <a:ext cx="5040" cy="25092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94200" y="5724360"/>
              <a:ext cx="11160" cy="25092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05360" y="5724360"/>
              <a:ext cx="10080" cy="2509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15800" y="5724360"/>
              <a:ext cx="5760" cy="25092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21920" y="5724360"/>
              <a:ext cx="10080" cy="25092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32360" y="5724360"/>
              <a:ext cx="11160" cy="25092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43880" y="5724360"/>
              <a:ext cx="5040" cy="25092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48920" y="5724360"/>
              <a:ext cx="11160" cy="25092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60080" y="5724360"/>
              <a:ext cx="5040" cy="2509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65480" y="5724360"/>
              <a:ext cx="10080" cy="25092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75920" y="5724360"/>
              <a:ext cx="11160" cy="25092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87080" y="5724360"/>
              <a:ext cx="5040" cy="25092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92120" y="5724360"/>
              <a:ext cx="11160" cy="250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990880" y="5724360"/>
            <a:ext cx="212760" cy="250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203640" y="5764320"/>
            <a:ext cx="212760" cy="210960"/>
            <a:chOff x="3203640" y="5764320"/>
            <a:chExt cx="212760" cy="210960"/>
          </a:xfrm>
        </p:grpSpPr>
        <p:sp>
          <p:nvSpPr>
            <p:cNvPr id="554" name=""/>
            <p:cNvSpPr/>
            <p:nvPr/>
          </p:nvSpPr>
          <p:spPr>
            <a:xfrm>
              <a:off x="3203640" y="5764320"/>
              <a:ext cx="10440" cy="2109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14080" y="5764320"/>
              <a:ext cx="5760" cy="2109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0200" y="5764320"/>
              <a:ext cx="10440" cy="2109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30640" y="5764320"/>
              <a:ext cx="5040" cy="2109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35680" y="5764320"/>
              <a:ext cx="11160" cy="2109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46840" y="5764320"/>
              <a:ext cx="11160" cy="2109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58360" y="5764320"/>
              <a:ext cx="5040" cy="2109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63400" y="5764320"/>
              <a:ext cx="10440" cy="2109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73840" y="5764320"/>
              <a:ext cx="11160" cy="2109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85000" y="5764320"/>
              <a:ext cx="5040" cy="2109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90400" y="5764320"/>
              <a:ext cx="11160" cy="2109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01560" y="5764320"/>
              <a:ext cx="5040" cy="2109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06960" y="5764320"/>
              <a:ext cx="11160" cy="2109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18120" y="5764320"/>
              <a:ext cx="10440" cy="2109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28560" y="5764320"/>
              <a:ext cx="5040" cy="2109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33600" y="5764320"/>
              <a:ext cx="11160" cy="2109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45120" y="5764320"/>
              <a:ext cx="11160" cy="2109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56280" y="5764320"/>
              <a:ext cx="5040" cy="2109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361680" y="5764320"/>
              <a:ext cx="10440" cy="2109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372120" y="5764320"/>
              <a:ext cx="5760" cy="2109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378240" y="5764320"/>
              <a:ext cx="10440" cy="2109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88680" y="5764320"/>
              <a:ext cx="11160" cy="2109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99840" y="5764320"/>
              <a:ext cx="5040" cy="2109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05240" y="5764320"/>
              <a:ext cx="11160" cy="2109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203640" y="5764320"/>
            <a:ext cx="212760" cy="210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3416400" y="5821200"/>
            <a:ext cx="210600" cy="154080"/>
            <a:chOff x="3416400" y="5821200"/>
            <a:chExt cx="210600" cy="154080"/>
          </a:xfrm>
        </p:grpSpPr>
        <p:sp>
          <p:nvSpPr>
            <p:cNvPr id="580" name=""/>
            <p:cNvSpPr/>
            <p:nvPr/>
          </p:nvSpPr>
          <p:spPr>
            <a:xfrm>
              <a:off x="3416400" y="5821200"/>
              <a:ext cx="10080" cy="15408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26480" y="5821200"/>
              <a:ext cx="5040" cy="15408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31880" y="5821200"/>
              <a:ext cx="11160" cy="15408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43040" y="5821200"/>
              <a:ext cx="5040" cy="15408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448080" y="5821200"/>
              <a:ext cx="11160" cy="15408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59600" y="5821200"/>
              <a:ext cx="10080" cy="15408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70040" y="5821200"/>
              <a:ext cx="5760" cy="15408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75800" y="5821200"/>
              <a:ext cx="10080" cy="15408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86240" y="5821200"/>
              <a:ext cx="11160" cy="15408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97760" y="5821200"/>
              <a:ext cx="5040" cy="15408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02800" y="5821200"/>
              <a:ext cx="10080" cy="15408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13240" y="5821200"/>
              <a:ext cx="5760" cy="15408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19360" y="5821200"/>
              <a:ext cx="10080" cy="15408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529800" y="5821200"/>
              <a:ext cx="11160" cy="15408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40960" y="5821200"/>
              <a:ext cx="5040" cy="15408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46000" y="5821200"/>
              <a:ext cx="11160" cy="15408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557160" y="5821200"/>
              <a:ext cx="10080" cy="15408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67600" y="5821200"/>
              <a:ext cx="5760" cy="15408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73720" y="5821200"/>
              <a:ext cx="10080" cy="15408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584160" y="5821200"/>
              <a:ext cx="5040" cy="15408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89200" y="5821200"/>
              <a:ext cx="11160" cy="15408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00360" y="5821200"/>
              <a:ext cx="10080" cy="15408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10800" y="5821200"/>
              <a:ext cx="5760" cy="15408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16920" y="5821200"/>
              <a:ext cx="10080" cy="15408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416400" y="5821200"/>
            <a:ext cx="210960" cy="154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627360" y="5935680"/>
            <a:ext cx="212400" cy="39600"/>
            <a:chOff x="3627360" y="5935680"/>
            <a:chExt cx="212400" cy="39600"/>
          </a:xfrm>
        </p:grpSpPr>
        <p:sp>
          <p:nvSpPr>
            <p:cNvPr id="606" name=""/>
            <p:cNvSpPr/>
            <p:nvPr/>
          </p:nvSpPr>
          <p:spPr>
            <a:xfrm>
              <a:off x="3627360" y="5935680"/>
              <a:ext cx="11160" cy="3960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638520" y="5935680"/>
              <a:ext cx="5040" cy="3960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43560" y="5935680"/>
              <a:ext cx="11160" cy="3960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655080" y="5935680"/>
              <a:ext cx="5040" cy="3960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660120" y="5935680"/>
              <a:ext cx="10080" cy="3960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70560" y="5935680"/>
              <a:ext cx="11160" cy="3960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82080" y="5935680"/>
              <a:ext cx="5040" cy="3960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87120" y="5935680"/>
              <a:ext cx="11160" cy="3960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698640" y="5935680"/>
              <a:ext cx="10080" cy="3960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709080" y="5935680"/>
              <a:ext cx="5760" cy="3960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715200" y="5935680"/>
              <a:ext cx="10080" cy="3960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725280" y="5935680"/>
              <a:ext cx="5040" cy="3960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30680" y="5935680"/>
              <a:ext cx="11160" cy="3960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41840" y="5935680"/>
              <a:ext cx="11160" cy="3960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53360" y="5935680"/>
              <a:ext cx="5040" cy="3960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58400" y="5935680"/>
              <a:ext cx="10080" cy="3960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68840" y="5935680"/>
              <a:ext cx="11160" cy="3960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80000" y="5935680"/>
              <a:ext cx="5040" cy="3960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85400" y="5935680"/>
              <a:ext cx="11160" cy="3960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796560" y="5935680"/>
              <a:ext cx="5040" cy="3960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01960" y="5935680"/>
              <a:ext cx="11160" cy="3960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13120" y="5935680"/>
              <a:ext cx="10080" cy="3960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23560" y="5935680"/>
              <a:ext cx="5040" cy="3960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28600" y="5935680"/>
              <a:ext cx="11160" cy="3960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3627360" y="5935680"/>
            <a:ext cx="212760" cy="396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3840120" y="5910120"/>
            <a:ext cx="211320" cy="65160"/>
            <a:chOff x="3840120" y="5910120"/>
            <a:chExt cx="211320" cy="65160"/>
          </a:xfrm>
        </p:grpSpPr>
        <p:sp>
          <p:nvSpPr>
            <p:cNvPr id="632" name=""/>
            <p:cNvSpPr/>
            <p:nvPr/>
          </p:nvSpPr>
          <p:spPr>
            <a:xfrm>
              <a:off x="3840120" y="5910120"/>
              <a:ext cx="11160" cy="651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51280" y="5910120"/>
              <a:ext cx="5040" cy="651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56320" y="5910120"/>
              <a:ext cx="10080" cy="651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866400" y="5910120"/>
              <a:ext cx="5760" cy="651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72520" y="5910120"/>
              <a:ext cx="10080" cy="651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882960" y="5910120"/>
              <a:ext cx="11160" cy="651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94120" y="5910120"/>
              <a:ext cx="5040" cy="651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99520" y="5910120"/>
              <a:ext cx="11160" cy="651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910680" y="5910120"/>
              <a:ext cx="10080" cy="651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21120" y="5910120"/>
              <a:ext cx="5040" cy="651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26160" y="5910120"/>
              <a:ext cx="11160" cy="651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37320" y="5910120"/>
              <a:ext cx="5040" cy="651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42720" y="5910120"/>
              <a:ext cx="11160" cy="651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53880" y="5910120"/>
              <a:ext cx="10080" cy="651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964320" y="5910120"/>
              <a:ext cx="5760" cy="651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70080" y="5910120"/>
              <a:ext cx="10080" cy="651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980520" y="5910120"/>
              <a:ext cx="11160" cy="651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92040" y="5910120"/>
              <a:ext cx="5040" cy="651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997080" y="5910120"/>
              <a:ext cx="10080" cy="651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07520" y="5910120"/>
              <a:ext cx="5760" cy="651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13280" y="5910120"/>
              <a:ext cx="10080" cy="651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023720" y="5910120"/>
              <a:ext cx="11160" cy="651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034880" y="5910120"/>
              <a:ext cx="5040" cy="651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040280" y="5910120"/>
              <a:ext cx="11160" cy="651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3840120" y="5910120"/>
            <a:ext cx="211320" cy="65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051440" y="5843520"/>
            <a:ext cx="210600" cy="131760"/>
            <a:chOff x="4051440" y="5843520"/>
            <a:chExt cx="210600" cy="131760"/>
          </a:xfrm>
        </p:grpSpPr>
        <p:sp>
          <p:nvSpPr>
            <p:cNvPr id="658" name=""/>
            <p:cNvSpPr/>
            <p:nvPr/>
          </p:nvSpPr>
          <p:spPr>
            <a:xfrm>
              <a:off x="4051440" y="5843520"/>
              <a:ext cx="10080" cy="1317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61520" y="5843520"/>
              <a:ext cx="5040" cy="1317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66920" y="5843520"/>
              <a:ext cx="11160" cy="1317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78080" y="5843520"/>
              <a:ext cx="5040" cy="1317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83120" y="5843520"/>
              <a:ext cx="11160" cy="1317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094280" y="5843520"/>
              <a:ext cx="10080" cy="1317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04720" y="5843520"/>
              <a:ext cx="5760" cy="1317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10840" y="5843520"/>
              <a:ext cx="10080" cy="1317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21280" y="5843520"/>
              <a:ext cx="11160" cy="1317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132440" y="5843520"/>
              <a:ext cx="5040" cy="1317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137840" y="5843520"/>
              <a:ext cx="11160" cy="1317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49000" y="5843520"/>
              <a:ext cx="5040" cy="1317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54400" y="5843520"/>
              <a:ext cx="10080" cy="1317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64840" y="5843520"/>
              <a:ext cx="11160" cy="1317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176000" y="5843520"/>
              <a:ext cx="5040" cy="1317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1040" y="5843520"/>
              <a:ext cx="11160" cy="1317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192200" y="5843520"/>
              <a:ext cx="10080" cy="1317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02640" y="5843520"/>
              <a:ext cx="5760" cy="1317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08760" y="5843520"/>
              <a:ext cx="10080" cy="1317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19200" y="5843520"/>
              <a:ext cx="5040" cy="1317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4240" y="5843520"/>
              <a:ext cx="11160" cy="1317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35400" y="5843520"/>
              <a:ext cx="11160" cy="1317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46920" y="5843520"/>
              <a:ext cx="5040" cy="1317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51960" y="5843520"/>
              <a:ext cx="10080" cy="1317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051440" y="5843520"/>
            <a:ext cx="210960" cy="131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4262400" y="5883120"/>
            <a:ext cx="212760" cy="92160"/>
            <a:chOff x="4262400" y="5883120"/>
            <a:chExt cx="212760" cy="92160"/>
          </a:xfrm>
        </p:grpSpPr>
        <p:sp>
          <p:nvSpPr>
            <p:cNvPr id="684" name=""/>
            <p:cNvSpPr/>
            <p:nvPr/>
          </p:nvSpPr>
          <p:spPr>
            <a:xfrm>
              <a:off x="4262400" y="5883120"/>
              <a:ext cx="11160" cy="921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273560" y="5883120"/>
              <a:ext cx="5040" cy="921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78960" y="5883120"/>
              <a:ext cx="11160" cy="921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90120" y="5883120"/>
              <a:ext cx="5040" cy="921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95160" y="5883120"/>
              <a:ext cx="11160" cy="921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06680" y="5883120"/>
              <a:ext cx="10440" cy="921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17120" y="5883120"/>
              <a:ext cx="5040" cy="921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22160" y="5883120"/>
              <a:ext cx="11160" cy="921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33680" y="5883120"/>
              <a:ext cx="10080" cy="921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43760" y="5883120"/>
              <a:ext cx="5760" cy="921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49880" y="5883120"/>
              <a:ext cx="10440" cy="921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60320" y="5883120"/>
              <a:ext cx="5760" cy="921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366440" y="5883120"/>
              <a:ext cx="10440" cy="92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376880" y="5883120"/>
              <a:ext cx="11160" cy="921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388040" y="5883120"/>
              <a:ext cx="5040" cy="921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93440" y="5883120"/>
              <a:ext cx="10440" cy="921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03880" y="5883120"/>
              <a:ext cx="11160" cy="921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15040" y="5883120"/>
              <a:ext cx="5040" cy="921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20440" y="5883120"/>
              <a:ext cx="11160" cy="921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431600" y="5883120"/>
              <a:ext cx="5040" cy="921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37000" y="5883120"/>
              <a:ext cx="11160" cy="921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48160" y="5883120"/>
              <a:ext cx="10440" cy="921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58600" y="5883120"/>
              <a:ext cx="5760" cy="921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464720" y="5883120"/>
              <a:ext cx="10440" cy="921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262400" y="5883120"/>
            <a:ext cx="212760" cy="92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4475160" y="5843520"/>
            <a:ext cx="212400" cy="131760"/>
            <a:chOff x="4475160" y="5843520"/>
            <a:chExt cx="212400" cy="131760"/>
          </a:xfrm>
        </p:grpSpPr>
        <p:sp>
          <p:nvSpPr>
            <p:cNvPr id="710" name=""/>
            <p:cNvSpPr/>
            <p:nvPr/>
          </p:nvSpPr>
          <p:spPr>
            <a:xfrm>
              <a:off x="4475160" y="5843520"/>
              <a:ext cx="11160" cy="1317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86320" y="5843520"/>
              <a:ext cx="5040" cy="1317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91360" y="5843520"/>
              <a:ext cx="10080" cy="1317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01800" y="5843520"/>
              <a:ext cx="5760" cy="1317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07920" y="5843520"/>
              <a:ext cx="10080" cy="1317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518360" y="5843520"/>
              <a:ext cx="11160" cy="131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529880" y="5843520"/>
              <a:ext cx="5040" cy="1317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34920" y="5843520"/>
              <a:ext cx="11160" cy="1317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46440" y="5843520"/>
              <a:ext cx="10080" cy="1317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56880" y="5843520"/>
              <a:ext cx="5040" cy="1317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61920" y="5843520"/>
              <a:ext cx="11160" cy="1317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73440" y="5843520"/>
              <a:ext cx="5040" cy="1317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8480" y="5843520"/>
              <a:ext cx="11160" cy="131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89640" y="5843520"/>
              <a:ext cx="10080" cy="1317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00080" y="5843520"/>
              <a:ext cx="5760" cy="1317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06200" y="5843520"/>
              <a:ext cx="10080" cy="1317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16640" y="5843520"/>
              <a:ext cx="11160" cy="1317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627800" y="5843520"/>
              <a:ext cx="5040" cy="1317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33200" y="5843520"/>
              <a:ext cx="11160" cy="131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44360" y="5843520"/>
              <a:ext cx="5040" cy="1317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49760" y="5843520"/>
              <a:ext cx="10080" cy="1317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60200" y="5843520"/>
              <a:ext cx="11160" cy="1317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71360" y="5843520"/>
              <a:ext cx="5040" cy="1317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76400" y="5843520"/>
              <a:ext cx="11160" cy="1317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4475160" y="5843520"/>
            <a:ext cx="212760" cy="131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4687920" y="5830920"/>
            <a:ext cx="210600" cy="144360"/>
            <a:chOff x="4687920" y="5830920"/>
            <a:chExt cx="210600" cy="144360"/>
          </a:xfrm>
        </p:grpSpPr>
        <p:sp>
          <p:nvSpPr>
            <p:cNvPr id="736" name=""/>
            <p:cNvSpPr/>
            <p:nvPr/>
          </p:nvSpPr>
          <p:spPr>
            <a:xfrm>
              <a:off x="4687920" y="5830920"/>
              <a:ext cx="10080" cy="1443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98000" y="5830920"/>
              <a:ext cx="5760" cy="1443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704120" y="5830920"/>
              <a:ext cx="10080" cy="1443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714560" y="5830920"/>
              <a:ext cx="5040" cy="1443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19600" y="5830920"/>
              <a:ext cx="11160" cy="1443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730760" y="5830920"/>
              <a:ext cx="11160" cy="144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41920" y="5830920"/>
              <a:ext cx="5040" cy="1443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747320" y="5830920"/>
              <a:ext cx="10080" cy="1443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57760" y="5830920"/>
              <a:ext cx="11160" cy="1443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68920" y="5830920"/>
              <a:ext cx="5040" cy="1443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74320" y="5830920"/>
              <a:ext cx="11160" cy="1443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85480" y="5830920"/>
              <a:ext cx="5040" cy="1443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790520" y="5830920"/>
              <a:ext cx="11160" cy="144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02040" y="5830920"/>
              <a:ext cx="10080" cy="1443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12480" y="5830920"/>
              <a:ext cx="5040" cy="1443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17520" y="5830920"/>
              <a:ext cx="11160" cy="1443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28680" y="5830920"/>
              <a:ext cx="10080" cy="1443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39120" y="5830920"/>
              <a:ext cx="5760" cy="1443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45240" y="5830920"/>
              <a:ext cx="10080" cy="144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55680" y="5830920"/>
              <a:ext cx="5760" cy="1443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61440" y="5830920"/>
              <a:ext cx="10080" cy="1443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71880" y="5830920"/>
              <a:ext cx="11160" cy="1443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83040" y="5830920"/>
              <a:ext cx="5040" cy="1443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88440" y="5830920"/>
              <a:ext cx="10080" cy="1443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4687920" y="5830920"/>
            <a:ext cx="210960" cy="144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2520" y="4640400"/>
            <a:ext cx="1440" cy="133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36680" y="597528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6680" y="584352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36680" y="57070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36680" y="557532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36680" y="54388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6680" y="530712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36680" y="51768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36680" y="504036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6680" y="49086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36680" y="477216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36680" y="46404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52520" y="5975280"/>
            <a:ext cx="444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219640" y="4968720"/>
            <a:ext cx="2992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Global Rating Distribu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2520" y="5975280"/>
            <a:ext cx="444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92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204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6300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743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867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994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1224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02356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2345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4472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4240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84868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614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27276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4855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6979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092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2020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33476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457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570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00760" y="5651640"/>
            <a:ext cx="2987640" cy="284040"/>
          </a:xfrm>
          <a:prstGeom prst="rect">
            <a:avLst/>
          </a:prstGeom>
          <a:solidFill>
            <a:srgbClr val="9933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988400" y="5651640"/>
            <a:ext cx="474480" cy="2840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124600" y="570384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86.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057160" y="571644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3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04200" y="566244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2851200" y="1424160"/>
            <a:ext cx="5737320" cy="292860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446040" y="2052720"/>
            <a:ext cx="15159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General Loan Loss Reser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68200" y="4481640"/>
            <a:ext cx="84250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58960" y="1355760"/>
            <a:ext cx="6051600" cy="30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74760" y="4038480"/>
            <a:ext cx="1985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Coverag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44600" y="1400040"/>
            <a:ext cx="1985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Use Tes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Internal Validat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8680" y="1206360"/>
            <a:ext cx="824688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Times New Roman"/>
              </a:rPr>
              <a:t>Statististical validation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(non-availibility of statistical specific test to be 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justified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single factor power statistic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model power statistics on build in and out sam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model power statistics for a 5 years’ period before defaul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rank ordering comparison with external available rating to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( eg Moody’s, Standard &amp; Poors, …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rank ordering with internal rating tool (eg PME Tool, …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justification of calibra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Times New Roman"/>
              </a:rPr>
              <a:t>Business and Credit Experts validation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Business and credit experts blind te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Business and credit experts pilot p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8000"/>
          </a:bodyPr>
          <a:p>
            <a:pPr lvl="1" marL="211680" indent="-210240">
              <a:lnSpc>
                <a:spcPct val="85000"/>
              </a:lnSpc>
              <a:spcBef>
                <a:spcPts val="1049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100" spc="-1" strike="noStrike">
                <a:solidFill>
                  <a:srgbClr val="2a325b"/>
                </a:solidFill>
                <a:latin typeface="Arial"/>
              </a:rPr>
              <a:t>Fortis definition of default : 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lvl="2" marL="553680" indent="-340560">
              <a:lnSpc>
                <a:spcPct val="85000"/>
              </a:lnSpc>
              <a:spcBef>
                <a:spcPts val="9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900" spc="-1" strike="noStrike">
                <a:solidFill>
                  <a:srgbClr val="2a325b"/>
                </a:solidFill>
                <a:latin typeface="Arial"/>
              </a:rPr>
              <a:t>Definition of impairment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 : a loan is impaired when, based on the current information and events, it is probable that a creditor  will be unable to collect all amounts due according to the contractual terms of the loan agreement.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2" marL="553680" indent="-340560">
              <a:lnSpc>
                <a:spcPct val="85000"/>
              </a:lnSpc>
              <a:spcBef>
                <a:spcPts val="9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 u="sng">
                <a:solidFill>
                  <a:srgbClr val="2a325b"/>
                </a:solidFill>
                <a:uFillTx/>
                <a:latin typeface="Arial"/>
              </a:rPr>
              <a:t>Within Fortis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: </a:t>
            </a:r>
            <a:r>
              <a:rPr b="1" lang="nl-BE" sz="1900" spc="-1" strike="noStrike">
                <a:solidFill>
                  <a:srgbClr val="2a325b"/>
                </a:solidFill>
                <a:latin typeface="Arial"/>
              </a:rPr>
              <a:t>Impaired = Intensive Care or Recovery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 whereby the impaired obligors are by definition transferred to the following rating classes :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7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out Specific Loan Loss Reserve AND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NOT past due 90 days”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8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out Specific Loan Loss Reserve AND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past due 90 days.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9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 Specific Loan Loss Reserv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20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Doubtfull with or without Specific Loan Loss Reserve.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5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25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25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Default = Impaired except Uncertain without Specific Loan Loss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 Reserve and NOT past due 90 days”. </a:t>
            </a:r>
            <a:endParaRPr b="1" lang="en-US" sz="17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2000"/>
          </a:bodyPr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500" spc="-1" strike="noStrike">
              <a:solidFill>
                <a:srgbClr val="2a325b"/>
              </a:solidFill>
              <a:latin typeface="Arial"/>
            </a:endParaRPr>
          </a:p>
          <a:p>
            <a:pPr lvl="1" marL="198720" indent="-197280">
              <a:lnSpc>
                <a:spcPct val="85000"/>
              </a:lnSpc>
              <a:spcBef>
                <a:spcPts val="12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500" spc="-1" strike="noStrike">
                <a:solidFill>
                  <a:srgbClr val="2a325b"/>
                </a:solidFill>
                <a:latin typeface="Arial"/>
              </a:rPr>
              <a:t>Basel definition of default</a:t>
            </a:r>
            <a:r>
              <a:rPr b="0" lang="en-GB" sz="25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0" lang="en-US" sz="2500" spc="-1" strike="noStrike">
                <a:solidFill>
                  <a:srgbClr val="2a325b"/>
                </a:solidFill>
                <a:latin typeface="Arial"/>
              </a:rPr>
              <a:t>default of an obligor when any of the following events has taken place:</a:t>
            </a:r>
            <a:endParaRPr b="0" lang="en-US" sz="25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obligor is unlikely to pay its debt obligations (principal, interest or fees) in full 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General Definition of Impairment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a credit loss event associated with any obligation of the obligor, such as a charge-off, specific provision, distressed sales by the bank to a third party, or distressed restructuring involving the forgiveness or postponement of principal, interest or fee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obligor is past due more than 90 days on any credit obligation;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8 /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the obligor has filed for bankruptcy or similar protection from creditor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98720" indent="-19728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241200" y="1181160"/>
            <a:ext cx="8139240" cy="503532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1219320" y="3251160"/>
            <a:ext cx="1790640" cy="406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a325b"/>
                </a:solidFill>
                <a:latin typeface="Arial"/>
              </a:rPr>
              <a:t>1 - 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770120" y="1401840"/>
            <a:ext cx="6703920" cy="377676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Default process : O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Build Default Mode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on sampling o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your default category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CQFD Basel Compliant !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615960" y="3807000"/>
            <a:ext cx="5743440" cy="38700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35040" y="898560"/>
            <a:ext cx="5743440" cy="111744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385920" y="937800"/>
            <a:ext cx="8261280" cy="4297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89000"/>
          </a:bodyPr>
          <a:p>
            <a:pPr marL="32184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One cross border Risk culture through a central validation platform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Increasing demand for risk information :</a:t>
            </a:r>
            <a:r>
              <a:rPr b="1" lang="en-GB" sz="17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Business line Management, Regulator, Analysts, Rating agencies, shareholde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Value Creation for Shareholders : 5 </a:t>
            </a:r>
            <a:r>
              <a:rPr b="1" lang="fr-BE" sz="33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’s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icing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Consumption of equity, Return on equity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Em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werment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 Cost &amp; Time Efficiency 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ocess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:  Mean &amp; Lean Service to Customers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Minor Changes/ Renewals)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ortfolio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isk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rofile adapted to Bank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ovisions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21840" indent="0">
              <a:lnSpc>
                <a:spcPct val="45000"/>
              </a:lnSpc>
              <a:spcBef>
                <a:spcPts val="476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1700" spc="-1" strike="noStrike" u="sng">
                <a:solidFill>
                  <a:srgbClr val="2a325b"/>
                </a:solidFill>
                <a:uFillTx/>
                <a:latin typeface="Arial"/>
              </a:rPr>
              <a:t>CATALYSOR:</a:t>
            </a:r>
            <a:r>
              <a:rPr b="1" lang="en-GB" sz="1700" spc="-1" strike="noStrike">
                <a:solidFill>
                  <a:srgbClr val="2a325b"/>
                </a:solidFill>
                <a:latin typeface="Arial"/>
              </a:rPr>
              <a:t> THE NEW BASLE ACCORD (BIS II)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9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new framework gives guidelines which make it possible to implement a modern risk management approach which meets international standards.</a:t>
            </a:r>
            <a:r>
              <a:rPr b="0" lang="en-US" sz="1900" spc="-1" strike="noStrike">
                <a:solidFill>
                  <a:srgbClr val="2a325b"/>
                </a:solidFill>
                <a:latin typeface="Arial"/>
              </a:rPr>
              <a:t>Internal Rating Based (IRB) Approach based upon proprietary estimate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trategic issue beyond Basel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ortis Risk Validation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120" y="2193840"/>
            <a:ext cx="8193240" cy="25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235080" y="1251360"/>
            <a:ext cx="8273880" cy="44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ternal Tool Valid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Statististical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Business and Credit Experts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Central Ris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Management validatio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Internal Audit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Sign off meeting : with all internal stakeholders (Business, Credit, Audit, Central Risk Managemen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External Tool Valid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xternal recognized professional (eg Standard &amp; Poors, Risk Solutions) if necess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Regulatory Authorit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Accreditation of the tool and authorization for Roll Ou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Credit Policy Committee 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proposal from Credit Analytics and Central Risk Management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ocumenta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ifferent validation reports, technical documentation, embedding of the tool in the process and post roll-out monitor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Times New Roman"/>
              </a:rPr>
              <a:t>Yearly Revie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84320" y="277560"/>
            <a:ext cx="854856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rom Internal Validation </a:t>
            </a:r>
            <a:br>
              <a:rPr sz="2600"/>
            </a:b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to Basel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trategic issue beyond Basel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598320" y="4135320"/>
            <a:ext cx="5743800" cy="108288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333360" y="309600"/>
            <a:ext cx="7585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ortis Internal Mid Cap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5120" y="741240"/>
            <a:ext cx="763416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marL="293760" indent="-293760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900" spc="-1" strike="noStrike">
                <a:solidFill>
                  <a:srgbClr val="000000"/>
                </a:solidFill>
                <a:latin typeface="Fortis Helvetica Light"/>
              </a:rPr>
              <a:t>Internal Valid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statitistical and credit expert :</a:t>
            </a:r>
            <a:r>
              <a:rPr b="1" lang="fr-FR" sz="17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0" lang="nl-BE" sz="1900" spc="-1" strike="noStrike">
                <a:solidFill>
                  <a:srgbClr val="000000"/>
                </a:solidFill>
                <a:latin typeface="Fortis Helvetica Light"/>
              </a:rPr>
              <a:t>Power statistic, Migration Analysis over 5 years and stress testing,  Positive feed back regarding rank ordering from rating agencies and credit expert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063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Fortis Helvetica Light"/>
              </a:rPr>
              <a:t>Sign-off by Credits / Fortis Group / OWC / Business Line : </a:t>
            </a: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25 april 20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I</a:t>
            </a:r>
            <a:r>
              <a:rPr b="0" lang="fr-FR" sz="1900" spc="-1" strike="noStrike">
                <a:solidFill>
                  <a:srgbClr val="000000"/>
                </a:solidFill>
                <a:latin typeface="Fortis Helvetica Light"/>
              </a:rPr>
              <a:t>nternal Audit : 05/03/2001 - 18/05/200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Fortis Helvetica Light"/>
              </a:rPr>
              <a:t>External valid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Fortis Helvetica Light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Standard &amp; Poor’s : extract from Standard &amp; Poor’s “Conclusions on Fortis’ Revised Benelux Midcap Model, 3 September, 2001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algn="just">
              <a:lnSpc>
                <a:spcPct val="85000"/>
              </a:lnSpc>
              <a:spcBef>
                <a:spcPts val="95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Standard &amp; Poor’s believes that the revised Benelux Midcap model generates outputs that reflect historical results and which are replicable by Standard &amp; Poor’s own rating methodology.</a:t>
            </a: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85000"/>
              </a:lnSpc>
              <a:spcBef>
                <a:spcPts val="950"/>
              </a:spcBef>
              <a:buClr>
                <a:srgbClr val="284da0"/>
              </a:buClr>
              <a:buFont typeface="Fortis Logos VL" charset="2"/>
              <a:buChar char="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Moody’s : 8/10/2001</a:t>
            </a:r>
            <a:r>
              <a:rPr b="0" lang="fr-BE" sz="1900" spc="-1" strike="noStrike">
                <a:solidFill>
                  <a:srgbClr val="000000"/>
                </a:solidFill>
                <a:latin typeface="Fortis Helvetica Light"/>
              </a:rPr>
              <a:t> / </a:t>
            </a: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Fitch :  10/04/2002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298440" y="914400"/>
            <a:ext cx="54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rmAutofit fontScale="73000"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First Analysis : poor segmentation , skewed distribution , non Basel compli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473040" y="1779480"/>
          <a:ext cx="6516720" cy="465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779480"/>
                    <a:ext cx="651672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"/>
          <p:cNvGraphicFramePr/>
          <p:nvPr/>
        </p:nvGraphicFramePr>
        <p:xfrm>
          <a:off x="303120" y="1819440"/>
          <a:ext cx="6942240" cy="4601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120" y="1819440"/>
                    <a:ext cx="694224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3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Calibration issues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98440" y="1411200"/>
            <a:ext cx="8210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Second Analysis : S</a:t>
            </a:r>
            <a:r>
              <a:rPr b="1" lang="en-GB" sz="1500" spc="-1" strike="noStrike">
                <a:solidFill>
                  <a:srgbClr val="2a325b"/>
                </a:solidFill>
                <a:latin typeface="Arial"/>
              </a:rPr>
              <a:t>hape of the distribution largely changed with new drivers and concern about adhoc level of investment grades</a:t>
            </a: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, BaseL compli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6" name=""/>
          <p:cNvGraphicFramePr/>
          <p:nvPr/>
        </p:nvGraphicFramePr>
        <p:xfrm>
          <a:off x="1109520" y="1258920"/>
          <a:ext cx="7218360" cy="51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258920"/>
                    <a:ext cx="721836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"/>
          <p:cNvSpPr/>
          <p:nvPr/>
        </p:nvSpPr>
        <p:spPr>
          <a:xfrm>
            <a:off x="5840280" y="4313160"/>
            <a:ext cx="2592360" cy="19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115 fi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20 Rating Anomaly Mana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fr-BE" sz="1800" spc="-1" strike="noStrike">
                <a:solidFill>
                  <a:srgbClr val="2a325b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orrelation : 78 % with range 65 % and 95 % depending on Ram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Expert Validation Issues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511200" y="1446120"/>
            <a:ext cx="7149960" cy="455148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2"/>
          <a:stretch/>
        </p:blipFill>
        <p:spPr>
          <a:xfrm>
            <a:off x="4799160" y="4214880"/>
            <a:ext cx="3794040" cy="1868400"/>
          </a:xfrm>
          <a:prstGeom prst="rect">
            <a:avLst/>
          </a:prstGeom>
          <a:ln w="0">
            <a:noFill/>
          </a:ln>
        </p:spPr>
      </p:pic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Basel Stability Validation : Migrat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/>
          </p:nvPr>
        </p:nvSpPr>
        <p:spPr>
          <a:xfrm>
            <a:off x="206280" y="1050480"/>
            <a:ext cx="822816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3000"/>
          </a:bodyPr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Stress test : 5 year default predic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Predicted results versus realized versus industr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Use Test :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-34668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Application in 2 securitisation transactions : MEC CLO 2000 and park Mountai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-34668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mpact on Pricing, Credit Delegation and Economic Capital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 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Basel II Stress &amp; Use Tes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1609560" y="1662120"/>
          <a:ext cx="630108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1662120"/>
                    <a:ext cx="630108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egulatory Institution On-Site Visi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uration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3 month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gulators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4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 Quantitative Specialist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 Process Specialist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view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ocumentation, interviews ( credit management,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analytics, chief risk officer, business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port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EO, CCO, Chief Auditor, External Auditor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oint of attention :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 consultants &amp; Rating Agency ‘internalisa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utliers detec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herency of default defini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ocumentation of methodological choices (test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entral Documentation Repository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verruling process (manual &amp; automatic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Reg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581040" y="5199120"/>
            <a:ext cx="5743440" cy="37296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38720" y="2816280"/>
            <a:ext cx="243396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3240" y="2816280"/>
            <a:ext cx="243360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680" y="2816280"/>
            <a:ext cx="243360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39840" y="907920"/>
            <a:ext cx="8316720" cy="1717920"/>
            <a:chOff x="339840" y="907920"/>
            <a:chExt cx="8316720" cy="1717920"/>
          </a:xfrm>
        </p:grpSpPr>
        <p:sp>
          <p:nvSpPr>
            <p:cNvPr id="107" name=""/>
            <p:cNvSpPr/>
            <p:nvPr/>
          </p:nvSpPr>
          <p:spPr>
            <a:xfrm>
              <a:off x="339840" y="907920"/>
              <a:ext cx="8316720" cy="1717920"/>
            </a:xfrm>
            <a:custGeom>
              <a:avLst/>
              <a:gdLst/>
              <a:ahLst/>
              <a:rect l="l" t="t" r="r" b="b"/>
              <a:pathLst>
                <a:path w="5345" h="589">
                  <a:moveTo>
                    <a:pt x="2673" y="0"/>
                  </a:moveTo>
                  <a:lnTo>
                    <a:pt x="0" y="589"/>
                  </a:lnTo>
                  <a:lnTo>
                    <a:pt x="5345" y="589"/>
                  </a:lnTo>
                  <a:lnTo>
                    <a:pt x="26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ba95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01840" y="1413000"/>
              <a:ext cx="360" cy="273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ba9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79520" y="1973160"/>
                <a:ext cx="44355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tal Capital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rket Risk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redit Risk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Operational Risk</m:t>
                            </m:r>
                          </m:e>
                        </m:d>
                      </m:den>
                    </m:f>
                    <m:r>
                      <m:t xml:space="preserve">≥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2133720" y="1905120"/>
            <a:ext cx="455904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72880" y="2738520"/>
            <a:ext cx="2538360" cy="3028680"/>
            <a:chOff x="272880" y="2738520"/>
            <a:chExt cx="2538360" cy="3028680"/>
          </a:xfrm>
        </p:grpSpPr>
        <p:sp>
          <p:nvSpPr>
            <p:cNvPr id="112" name=""/>
            <p:cNvSpPr/>
            <p:nvPr/>
          </p:nvSpPr>
          <p:spPr>
            <a:xfrm>
              <a:off x="277200" y="2738520"/>
              <a:ext cx="250164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275640"/>
              <a:ext cx="2512080" cy="249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72880" y="2879640"/>
              <a:ext cx="2505960" cy="2826720"/>
              <a:chOff x="272880" y="2879640"/>
              <a:chExt cx="2505960" cy="2826720"/>
            </a:xfrm>
          </p:grpSpPr>
          <p:sp>
            <p:nvSpPr>
              <p:cNvPr id="115" name=""/>
              <p:cNvSpPr/>
              <p:nvPr/>
            </p:nvSpPr>
            <p:spPr>
              <a:xfrm>
                <a:off x="1191600" y="287964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72880" y="3224520"/>
                <a:ext cx="2505960" cy="248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6130800" y="2847960"/>
            <a:ext cx="2528640" cy="2976120"/>
            <a:chOff x="6130800" y="2847960"/>
            <a:chExt cx="2528640" cy="2976120"/>
          </a:xfrm>
        </p:grpSpPr>
        <p:sp>
          <p:nvSpPr>
            <p:cNvPr id="118" name=""/>
            <p:cNvSpPr/>
            <p:nvPr/>
          </p:nvSpPr>
          <p:spPr>
            <a:xfrm>
              <a:off x="6130800" y="2847960"/>
              <a:ext cx="25005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50600" y="3268440"/>
              <a:ext cx="2508840" cy="249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6130800" y="2878920"/>
              <a:ext cx="2500560" cy="2831400"/>
              <a:chOff x="6130800" y="2878920"/>
              <a:chExt cx="2500560" cy="2831400"/>
            </a:xfrm>
          </p:grpSpPr>
          <p:sp>
            <p:nvSpPr>
              <p:cNvPr id="121" name=""/>
              <p:cNvSpPr/>
              <p:nvPr/>
            </p:nvSpPr>
            <p:spPr>
              <a:xfrm>
                <a:off x="7045200" y="287892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30800" y="3223800"/>
                <a:ext cx="2500560" cy="248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6231600" y="3296520"/>
              <a:ext cx="23155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203640" y="2847960"/>
            <a:ext cx="2528640" cy="2916000"/>
            <a:chOff x="3203640" y="2847960"/>
            <a:chExt cx="2528640" cy="2916000"/>
          </a:xfrm>
        </p:grpSpPr>
        <p:sp>
          <p:nvSpPr>
            <p:cNvPr id="125" name=""/>
            <p:cNvSpPr/>
            <p:nvPr/>
          </p:nvSpPr>
          <p:spPr>
            <a:xfrm>
              <a:off x="3224880" y="3413160"/>
              <a:ext cx="2043720" cy="9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03640" y="2847960"/>
              <a:ext cx="250056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23440" y="3268440"/>
              <a:ext cx="2508840" cy="249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203640" y="2878920"/>
              <a:ext cx="2500560" cy="2830320"/>
              <a:chOff x="3203640" y="2878920"/>
              <a:chExt cx="2500560" cy="2830320"/>
            </a:xfrm>
          </p:grpSpPr>
          <p:sp>
            <p:nvSpPr>
              <p:cNvPr id="129" name=""/>
              <p:cNvSpPr/>
              <p:nvPr/>
            </p:nvSpPr>
            <p:spPr>
              <a:xfrm>
                <a:off x="4130280" y="287892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03640" y="3223800"/>
                <a:ext cx="2500560" cy="24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224880" y="4480920"/>
              <a:ext cx="2043720" cy="9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514680" y="4595760"/>
            <a:ext cx="1866960" cy="10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Increas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Supervisory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40400" y="4595760"/>
            <a:ext cx="1866960" cy="10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Increas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Disclosur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77800" y="3413160"/>
            <a:ext cx="7729200" cy="1044360"/>
            <a:chOff x="577800" y="3413160"/>
            <a:chExt cx="7729200" cy="1044360"/>
          </a:xfrm>
        </p:grpSpPr>
        <p:sp>
          <p:nvSpPr>
            <p:cNvPr id="135" name=""/>
            <p:cNvSpPr/>
            <p:nvPr/>
          </p:nvSpPr>
          <p:spPr>
            <a:xfrm>
              <a:off x="577800" y="3413160"/>
              <a:ext cx="1866600" cy="10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Minimu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Capit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quir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40400" y="3413160"/>
              <a:ext cx="1866600" cy="102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Discip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4680" y="3413160"/>
              <a:ext cx="1866240" cy="102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Supervis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77800" y="4595760"/>
            <a:ext cx="18669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Cooking Rules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To Calculat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Required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600" spc="-1" strike="noStrike">
                <a:solidFill>
                  <a:srgbClr val="970610"/>
                </a:solidFill>
                <a:latin typeface="Arial"/>
              </a:rPr>
              <a:t>Basel II Review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02080" y="1168560"/>
            <a:ext cx="18986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6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a325b"/>
                </a:solidFill>
                <a:latin typeface="Arial"/>
              </a:rPr>
              <a:t>Capital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a325b"/>
                </a:solidFill>
                <a:latin typeface="Arial"/>
              </a:rPr>
              <a:t>Adequac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2600" spc="-1" strike="noStrike">
                <a:solidFill>
                  <a:srgbClr val="2a325b"/>
                </a:solidFill>
                <a:latin typeface="Arial"/>
              </a:rPr>
              <a:t>Conclus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98000"/>
          </a:bodyPr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Management empowerment is crucial for valida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Model validation is not an exact science : a model might assess relative quality of the counterparty but it cannot capture all elements as it is based on portfolio analysis : this means : on average over time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Expert judgement is of critical importance : for modelling and for communica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Data issues center around quantity not qualit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Regional difference in culture and modelling e.g. equity model versus debt model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Use test of critical importance : do you believe your model for day to day financial decision ?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Global Internal ratings validation survey : RMA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AIG : Stability of qual/ quant models, qualitative approach, use test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RMA / BBA / ISDA : survey in june 2004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6781680" y="407880"/>
            <a:ext cx="1702080" cy="736560"/>
            <a:chOff x="6781680" y="407880"/>
            <a:chExt cx="1702080" cy="736560"/>
          </a:xfrm>
        </p:grpSpPr>
        <p:pic>
          <p:nvPicPr>
            <p:cNvPr id="869" name="fortis_logo" descr=""/>
            <p:cNvPicPr/>
            <p:nvPr/>
          </p:nvPicPr>
          <p:blipFill>
            <a:blip r:embed="rId1"/>
            <a:srcRect l="84684" t="35265" r="11842" b="62558"/>
            <a:stretch/>
          </p:blipFill>
          <p:spPr>
            <a:xfrm>
              <a:off x="6781680" y="775800"/>
              <a:ext cx="340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fortis_logo" descr=""/>
            <p:cNvPicPr/>
            <p:nvPr/>
          </p:nvPicPr>
          <p:blipFill>
            <a:blip r:embed="rId2"/>
            <a:srcRect l="42240" t="29382" r="55469" b="68093"/>
            <a:stretch/>
          </p:blipFill>
          <p:spPr>
            <a:xfrm>
              <a:off x="7121880" y="407880"/>
              <a:ext cx="90756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fortis_logo" descr=""/>
            <p:cNvPicPr/>
            <p:nvPr/>
          </p:nvPicPr>
          <p:blipFill>
            <a:blip r:embed="rId3"/>
            <a:srcRect l="27224" t="29549" r="69238" b="67212"/>
            <a:stretch/>
          </p:blipFill>
          <p:spPr>
            <a:xfrm>
              <a:off x="7576200" y="775800"/>
              <a:ext cx="90756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fortis_logo" descr=""/>
            <p:cNvPicPr/>
            <p:nvPr/>
          </p:nvPicPr>
          <p:blipFill>
            <a:blip r:embed="rId4"/>
            <a:srcRect l="84684" t="35265" r="11842" b="62558"/>
            <a:stretch/>
          </p:blipFill>
          <p:spPr>
            <a:xfrm>
              <a:off x="7178760" y="828720"/>
              <a:ext cx="340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fortis_logo" descr=""/>
            <p:cNvPicPr/>
            <p:nvPr/>
          </p:nvPicPr>
          <p:blipFill>
            <a:blip r:embed="rId5"/>
            <a:srcRect l="84684" t="35265" r="11842" b="62558"/>
            <a:stretch/>
          </p:blipFill>
          <p:spPr>
            <a:xfrm>
              <a:off x="7632720" y="618120"/>
              <a:ext cx="340200" cy="315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98440" y="1347480"/>
            <a:ext cx="8663040" cy="4778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15b"/>
                </a:solidFill>
                <a:latin typeface="Arial"/>
              </a:rPr>
              <a:t>Rules for regulatory « financial » capital adequacy in fonction of the risks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15b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1520" y="1965240"/>
            <a:ext cx="7094520" cy="40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es to measure credit risk</a:t>
            </a:r>
            <a:r>
              <a:rPr b="1" i="1" lang="fr-BE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 (n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Foundation Internal  Rating Ba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FIR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Internal Rating Ba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AIR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 to measure market risk (unchang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Internal Models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AI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 to measure operational risk (n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Basic Indicator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B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Measurement Approach (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05920" y="361800"/>
            <a:ext cx="8548920" cy="787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1 : MINIMUM REGULATORY CAPITAL</a:t>
            </a:r>
            <a:br>
              <a:rPr sz="2200"/>
            </a:b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REQUIREMENT :« mathematical » approach</a:t>
            </a:r>
            <a:endParaRPr b="0" lang="en-US" sz="2200" spc="-1" strike="noStrike">
              <a:solidFill>
                <a:srgbClr val="2a325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141960" y="3759120"/>
          <a:ext cx="2819520" cy="19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1960" y="3759120"/>
                    <a:ext cx="281952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6437160" y="5827680"/>
            <a:ext cx="20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AMPLE ECONOMIC CAPITAL ALLOCATION FOR BAN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43680" y="36036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olvency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54520" y="5943600"/>
            <a:ext cx="395136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15b"/>
                </a:solidFill>
                <a:latin typeface="Arial"/>
              </a:rPr>
              <a:t>Source : Quantitative Impact Study 3 (QIS3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14360"/>
            <a:ext cx="527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52440" y="1273320"/>
          <a:ext cx="8296200" cy="436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273320"/>
                    <a:ext cx="8296200" cy="43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100" spc="-1" strike="noStrike">
                <a:solidFill>
                  <a:srgbClr val="970610"/>
                </a:solidFill>
                <a:latin typeface="Arial"/>
              </a:rPr>
              <a:t>Basel 2 : Main Financial Impacts </a:t>
            </a:r>
            <a:br>
              <a:rPr sz="2100"/>
            </a:b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43680" y="36036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Return &amp; Pricing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54520" y="5943600"/>
            <a:ext cx="395136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15b"/>
                </a:solidFill>
                <a:latin typeface="Arial"/>
              </a:rPr>
              <a:t>Source : Fortis Bank simul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14360"/>
            <a:ext cx="527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100" spc="-1" strike="noStrike">
                <a:solidFill>
                  <a:srgbClr val="970610"/>
                </a:solidFill>
                <a:latin typeface="Arial"/>
              </a:rPr>
              <a:t>Basel 2 : Main Financial Impacts </a:t>
            </a:r>
            <a:br>
              <a:rPr sz="2100"/>
            </a:b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66840" y="1301760"/>
            <a:ext cx="8229600" cy="322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93640" y="5062680"/>
                <a:ext cx="7545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im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rea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inimu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_Re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ur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n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ier</m:t>
                                        </m:r>
                                      </m:e>
                                      <m:sub/>
                                    </m:sSub>
                                  </m:sub>
                                </m:sSub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at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verage</m:t>
                        </m:r>
                        <m:r>
                          <m:rPr>
                            <m:lit/>
                            <m:nor/>
                          </m:rPr>
                          <m:t xml:space="preserve">_Re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r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vestments</m:t>
                                </m:r>
                              </m:sub>
                            </m:sSub>
                          </m:sub>
                        </m:sSub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atio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ie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*</m:t>
                    </m:r>
                    <m:r>
                      <m:rPr>
                        <m:lit/>
                        <m:nor/>
                      </m:rPr>
                      <m:t xml:space="preserve">RA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2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3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133640"/>
            <a:ext cx="1590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rinci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2800" y="154476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nks must have a risk control and management process in place that is suitable for their particuliar operational structure and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3520" y="2455920"/>
            <a:ext cx="17002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stru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32240" y="3660840"/>
            <a:ext cx="1863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pect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14680" y="4668840"/>
            <a:ext cx="1863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San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200" y="2862360"/>
            <a:ext cx="8148600" cy="5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n-site verification, documentation, external audit, periodic reporting, senior bank management discuss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8600" y="4100400"/>
            <a:ext cx="8074080" cy="32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apital exceeding the supervisory minimum of 8 %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0440" y="5091120"/>
            <a:ext cx="8148600" cy="1045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creased monitoring of the bank, require process impovments, additional minimum capital requirements, require change in the capital risk profile, request management chang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6280" y="412920"/>
            <a:ext cx="8548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2 : Supervisory Review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5160" y="2341440"/>
            <a:ext cx="511200" cy="474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5160" y="3408480"/>
            <a:ext cx="511200" cy="620640"/>
          </a:xfrm>
          <a:prstGeom prst="downArrow">
            <a:avLst>
              <a:gd name="adj1" fmla="val 50000"/>
              <a:gd name="adj2" fmla="val 30352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5160" y="4379760"/>
            <a:ext cx="511200" cy="601920"/>
          </a:xfrm>
          <a:prstGeom prst="downArrow">
            <a:avLst>
              <a:gd name="adj1" fmla="val 50000"/>
              <a:gd name="adj2" fmla="val 2943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802480" y="2541600"/>
            <a:ext cx="2322360" cy="841320"/>
          </a:xfrm>
          <a:custGeom>
            <a:avLst/>
            <a:gdLst>
              <a:gd name="textAreaLeft" fmla="*/ 0 w 2322360"/>
              <a:gd name="textAreaRight" fmla="*/ 2322720 w 232236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46400" y="2541600"/>
            <a:ext cx="2322720" cy="841320"/>
          </a:xfrm>
          <a:custGeom>
            <a:avLst/>
            <a:gdLst>
              <a:gd name="textAreaLeft" fmla="*/ 0 w 2322720"/>
              <a:gd name="textAreaRight" fmla="*/ 2323080 w 23227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90680" y="2543040"/>
            <a:ext cx="2322720" cy="841680"/>
          </a:xfrm>
          <a:custGeom>
            <a:avLst/>
            <a:gdLst>
              <a:gd name="textAreaLeft" fmla="*/ 0 w 2322720"/>
              <a:gd name="textAreaRight" fmla="*/ 2323080 w 2322720"/>
              <a:gd name="textAreaTop" fmla="*/ 0 h 841680"/>
              <a:gd name="textAreaBottom" fmla="*/ 842040 h 84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3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8480" y="2546280"/>
            <a:ext cx="2376720" cy="84132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65400" y="2698920"/>
            <a:ext cx="11602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Assessment of capital adequa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66960" y="2706840"/>
            <a:ext cx="15321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Comprehensive Risk Manag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08360" y="2705040"/>
            <a:ext cx="12700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Internal Control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97640" y="2684520"/>
            <a:ext cx="10699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Monitoring &amp; Repor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604800" y="3650760"/>
            <a:ext cx="7515360" cy="1355760"/>
          </a:xfrm>
          <a:prstGeom prst="triangle">
            <a:avLst>
              <a:gd name="adj" fmla="val 50000"/>
            </a:avLst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49120" y="3841920"/>
            <a:ext cx="283608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mpliance  with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minimum requiremen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targ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9200" y="528624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Management to develop internal capital planning and management processes and structures appropriate to the Bank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2 : Supervisory Review</a:t>
            </a:r>
            <a:br>
              <a:rPr sz="2200"/>
            </a:br>
            <a:endParaRPr b="0" lang="en-US" sz="22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2800" y="154476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nks must have a risk control and management process in place that is suitable for their particuliar operational structure and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1133640"/>
            <a:ext cx="1590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rinci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15960" y="2011320"/>
            <a:ext cx="5743440" cy="177480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21:30:54Z</dcterms:created>
  <dc:creator>Fortis BE</dc:creator>
  <dc:description/>
  <dc:language>en-US</dc:language>
  <cp:lastModifiedBy>Fortis BE</cp:lastModifiedBy>
  <cp:lastPrinted>2004-05-04T18:22:12Z</cp:lastPrinted>
  <dcterms:modified xsi:type="dcterms:W3CDTF">2004-05-06T16:58:32Z</dcterms:modified>
  <cp:revision>182</cp:revision>
  <dc:subject>Version 5.5 EN</dc:subject>
  <dc:title>Institutional Banking and Funds  Basel II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Yvan Kan</vt:lpwstr>
  </property>
  <property fmtid="{D5CDD505-2E9C-101B-9397-08002B2CF9AE}" pid="3" name="DocID">
    <vt:lpwstr>Template Fortis ASG113 EN</vt:lpwstr>
  </property>
  <property fmtid="{D5CDD505-2E9C-101B-9397-08002B2CF9AE}" pid="4" name="DocIDPosition">
    <vt:r8>0</vt:r8>
  </property>
  <property fmtid="{D5CDD505-2E9C-101B-9397-08002B2CF9AE}" pid="5" name="DocIDinSlide">
    <vt:bool>1</vt:bool>
  </property>
  <property fmtid="{D5CDD505-2E9C-101B-9397-08002B2CF9AE}" pid="6" name="DocIDinTitle">
    <vt:bool>0</vt:bool>
  </property>
  <property fmtid="{D5CDD505-2E9C-101B-9397-08002B2CF9AE}" pid="7" name="McKPaperSize">
    <vt:lpwstr>A4</vt:lpwstr>
  </property>
  <property fmtid="{D5CDD505-2E9C-101B-9397-08002B2CF9AE}" pid="8" name="NotesPageLayout">
    <vt:lpwstr>Lower</vt:lpwstr>
  </property>
  <property fmtid="{D5CDD505-2E9C-101B-9397-08002B2CF9AE}" pid="9" name="Universal Objects">
    <vt:bool>1</vt:bool>
  </property>
  <property fmtid="{D5CDD505-2E9C-101B-9397-08002B2CF9AE}" pid="10" name="_AdHocReviewCycleID">
    <vt:r8>557175078</vt:r8>
  </property>
  <property fmtid="{D5CDD505-2E9C-101B-9397-08002B2CF9AE}" pid="11" name="_AuthorEmail">
    <vt:lpwstr>christian.marlier.12630376.be-hq@foxi.fortisbank.com</vt:lpwstr>
  </property>
  <property fmtid="{D5CDD505-2E9C-101B-9397-08002B2CF9AE}" pid="12" name="_AuthorEmailDisplayName">
    <vt:lpwstr>MARLIER CHRISTIAN</vt:lpwstr>
  </property>
  <property fmtid="{D5CDD505-2E9C-101B-9397-08002B2CF9AE}" pid="13" name="_EmailSubject">
    <vt:lpwstr>Development regarding  risk management event in Istanbul</vt:lpwstr>
  </property>
  <property fmtid="{D5CDD505-2E9C-101B-9397-08002B2CF9AE}" pid="14" name="_PreviousAdHocReviewCycleID">
    <vt:r8>-1510513428</vt:r8>
  </property>
</Properties>
</file>