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656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991-D80B-4426-8EBC-CB69CB0C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E01-481F-4C50-999C-238C0155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F4A-AE36-4C8D-8289-EC0DAC77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58A-6F4C-43D6-89E9-42EBA664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3EB6-4BFE-4ABF-B72A-4444832E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177A-7DB5-4EA8-9014-BC579FD6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8E1F-2FE2-4AD2-8A29-B7DC23AE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E944-2814-4A8C-966C-5870F52F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C8C3-AD4D-480E-BC0F-4A003DA9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DB26-6664-48D6-9C2B-8DA4337F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4DE0-4EC1-4E12-A145-A9A747FD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CEA0-422B-49CC-B066-4186F40D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C1BF-EEF3-481F-97A2-EB50B556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FB59-A635-433B-9F8F-B99090F9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E945-5151-4595-95F6-CCA7DA3E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85BF-1A1C-4DC8-BBAF-D24C52E1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E845-8340-41E6-999E-9909B9F6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915-29BE-41F3-A2E1-34371FA7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C95C-B895-4D28-A5EF-D1AB27F1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31F4-836F-424C-B290-A026BE86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1397-B398-45FD-8F60-D2CCD1D3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1E3-72A5-4610-B89D-FFA13044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2DF-4DF0-4317-8F80-67D257F4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2A8-A840-4C05-A13D-ECF45BB7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982A-1B11-4BA5-8FC2-51A28D9AD32F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628640"/>
            <a:ext cx="7010280" cy="71640"/>
          </a:xfrm>
          <a:prstGeom prst="roundRect">
            <a:avLst>
              <a:gd name="adj" fmla="val 0"/>
            </a:avLst>
          </a:prstGeom>
          <a:solidFill>
            <a:srgbClr val="86d1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36E5-CF51-4A52-8A3A-C13847A97A8B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20" y="-114480"/>
            <a:ext cx="914400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95640" y="1376640"/>
            <a:ext cx="7199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Elektronik Bankacılıkta</a:t>
            </a:r>
            <a:br>
              <a:rPr sz="4800"/>
            </a:b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Uluslararası Yaklaşımla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hmet Türkay VAR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ilgi Yönetimi Dairesi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/ BD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ire Başkan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AA73-9EA4-4B2F-8C40-95C2B04A5B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mli Konu Başlıkları / </a:t>
            </a: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Ris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46400" y="1628640"/>
            <a:ext cx="520524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kar Edem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(Gizlil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ahremi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Veri Bütünlüğ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2B99-927F-4991-9E61-1358B3C37D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 Çıkan Korunma Teknik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403280" y="1484280"/>
            <a:ext cx="691200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ok Faktörlü 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ldiği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Sahip Olduğu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yolojik Tekil Bir Özelliğ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im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letilen Verinin Şifrelen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5E3-C5D6-4063-8613-665FDDCFBE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Güçlü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10920" y="1987200"/>
            <a:ext cx="8064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zı Tekniklerin Kullanım Alt Yapısının Oluşmamış Olması (E-İmz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knolojinin Gelişen ve Değişen Yapı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enel Erişime Açık Or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llanıcı Bilinç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8691-4C54-4ABC-8E42-A71CD63401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BDDK Çalışmalar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71280" y="2211120"/>
            <a:ext cx="698508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nkalarda Bilgi Sistemlerinin Yönetiminde Esas Alınacak İlkelere İlişkin Tebli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ternet Bankacılığ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6972-A473-48F6-B2EF-BCEFBA318F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12640" y="333360"/>
            <a:ext cx="77115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İLGİNİZ İÇİN TEŞEKÜ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ORU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5265-D1B1-48D2-8143-4BBA3B3049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13000" y="32544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Çatı Kurum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 for International Settlements (BIS) – Electronic Banking Group of Basel Committee on Banking Sup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Risk Yönetimi İlkeleri” – Temmuz 2003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Risk Management Principles for Electronic Bank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uropean Committee for Banking Standards (ECB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Güvenlik Kılavuzları: Basel Risk Yönetimi İlkeleri Uygulamaları” – Ağustos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Security Guidelines for e-Banking: Application of Basel Risk Management Princip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867-0BCA-4D5C-8A15-A8F2C56493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)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6760" y="2176560"/>
            <a:ext cx="693432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na Başlıkl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Üst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Kontrol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sal Risk ve İtibar Riski Yön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5720" y="6580080"/>
            <a:ext cx="78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* BIS’in Temmuz 2003 tarihli “Risk Management Principles for Electronic Banking” dokümanınd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64A1-333B-4F2A-9921-51FBF3EE58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5365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Faaliyetleri Üzerinde Etkin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apsamlı Güvenlik Kontrol Süreçlerinin Tesis Edil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estek Hizmeti Alımına İlişkin Faaliyetlerin Gözetimi, Hizmet Kalitesi ve Diğer Unsurların Taki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47640" y="178596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Üst Yönetim Göz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AC1-98B7-4772-A3D5-ADF1D8236D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235584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İnkar Edememe ve Güvenilir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Görevler Ayrılığı İçin Uygun Önlem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Sistemleri, Veritabanları ve Uygulamaları İçin Uygun Yetk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, Kayıtları ve Bilgileri İçin Veri Bütünlüğ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Denetim İzlerinin (log) Tutu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ritik Banka Bilgileri İçin Gizli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5640" y="162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Güvenlik Kontroller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E8E-559D-433D-94D1-E1CDBF6A78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V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6384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Hizmetleri İle İlgili Yeterli Açık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rinin Mahremiye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Sistemlerinin ve Servislerinin Sürekliliğini Sağlamak Üzere Kapasite, İş Sürekliliği ve İhtimal Planlam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Olay Cevap Plan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692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Yasal Risk ve İtibar Riski Yön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7431-484B-4070-90FD-B33B34284F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 Alınma Biçim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üzenl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Mevcut Düzenlemeler Kapsamında Değer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onuya İlişkin Yeni Düzenlemelerin Hazırlan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ılavu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55640" y="522936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ertifikasy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(WebTrust, BBBOnline, TrustUK,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9A2-30DC-4A38-86D9-0EB4E49A5A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8360" y="1308240"/>
            <a:ext cx="8207280" cy="516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A58-FCAE-4293-8434-8C83ACB07B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1963800"/>
            <a:ext cx="8244000" cy="4489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8360" y="1225440"/>
            <a:ext cx="828036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4310-B17E-4E1E-8905-DD9BDCD129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0:47:00Z</dcterms:created>
  <dc:creator>Zerrin Saba</dc:creator>
  <dc:description/>
  <dc:language>en-US</dc:language>
  <cp:lastModifiedBy>avarli</cp:lastModifiedBy>
  <dcterms:modified xsi:type="dcterms:W3CDTF">2007-05-22T12:08:34Z</dcterms:modified>
  <cp:revision>3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