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8CF-3EF6-4A83-8888-ADC9B38E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128-9B98-490D-B83D-33C5F6D7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6CA-B57F-4186-BBAF-AAB7DC28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CD1-EA09-41EE-A6E7-70569B9B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F1F7-069F-47AA-BD21-2D85724F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7138-E844-4F22-84FD-D1BF35DB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F354-DE94-486F-A06F-DB619AB5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17BB-6516-4907-9CEB-E5DB7010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E8B9-06FB-42AC-97D9-68E0F3F7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2548-96AF-4CB6-BD2B-D96988C9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C196-A5C9-4C34-BEFD-1CC6478F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FB2-ED74-49CE-83D1-C01D5E4F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C34E-B017-4AE0-B514-7358DB91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7886-F7FE-4DD0-ABA2-C53A937B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8C65-6C0D-4DCB-AE79-2367F8A0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BBDD-7BA7-4AF7-A6B9-D5D4AF79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77EF-99EF-4D14-9658-765E79E9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0E6-BFB4-4D12-8F4C-0FD649FB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454-B554-46A7-A6F4-34638FB3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CAC-DF90-4D42-85FC-48B234FB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620-DD86-4582-9DA8-3F12FF05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6C1-A55D-4DCC-B0C2-92CFA07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E64-EB4F-49C0-A10F-E17F4E25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7AB-F101-4678-8A91-C80B557C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35E9-7CA3-40B9-BF6D-2815E56411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52480"/>
            <a:ext cx="9009000" cy="1052640"/>
            <a:chOff x="0" y="8524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60480"/>
              <a:ext cx="711360" cy="474840"/>
              <a:chOff x="290520" y="9604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82760"/>
              <a:ext cx="737640" cy="474840"/>
              <a:chOff x="414360" y="13827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3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AF5A-2AAE-4510-B935-AAB222C8AC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stats1.htm" TargetMode="External"/><Relationship Id="rId2" Type="http://schemas.openxmlformats.org/officeDocument/2006/relationships/hyperlink" Target="http://www.internetworldstats.com/stats3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ıtkı Coşk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 Bankalar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Mayıs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 ile 12 Nisan 1993 tarihinde tanışan Türkiye’de kullanıcı sayısı 17 milyona, İnternete bağlı bilgisayar sayısı 700 bine ulaştı.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ÜİK 2006 Ocak ayı raporuna göre şirketlerde bilgisayar kullanımı oranı yaklaşık % 88, internet erişimi oranı % 80’lere ulaşmışt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ahoma"/>
              </a:rPr>
              <a:t>http://www.turk.internet.com/haber/yazigoster.php3?yaziid=179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DB8-5E8B-470E-99F6-E946224982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2492280"/>
          <a:ext cx="761976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197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55640" y="2060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anehalkı Bireylerin İnternet Kullanma Amaç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616572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607860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 Kaynak: Türkiye İstatistik Kurumu (TÜİK)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EB7-207B-4859-859A-6729203349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ürkiye Bankalar Birliği verilerine göre Mart 2007 dönemin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 için kayıtlı bireysel müşteri sayısı: 17.385.36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bireysel müşteri sayısı: 3.059.573  (oranı: %1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na kayıtlı kurumsal müşteri sayısı: 852.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kurumsal müşteri sayısı: 404.350  (oranı: % 4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on 3 ayda kurumsal müşterilerin internet bankacılığı kullanım oranı, bireysel müşterilere göre daha yüksek olmuşt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B73-2D8D-4ED0-B082-C1DB111975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7 itibariyle, internet bankacılığı hizmeti kullanılarak yapılan yatırım işlemleri dışındaki finansal işlemlerin toplam adedi 45 milyon, tutarı 115,7 trilyon YT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6 ile karşılaştırıldığında finansal işlem adedinde % 30.5; toplam tutarda ise % 55.7 artış olmuşt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EFT, havale ve döviz transferi işlemlerini kapsayan para transferleri işlemleri, finansal işlem hacminin % 88’ini oluşturmaktadı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4400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2D2F-B755-4005-AAB3-18B009D68F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060640"/>
            <a:ext cx="8424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Ocak-Mart 2007 döneminde internet bankacılığı ile gerçekleştirilen 9.671 bin adet yatırım işleminin hacmi 38.128 milyon YTL olmuşt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Mart 2006 – Mart 2007 döneminde işlem hacminde 305 bin adet ve 3.048 milyon YTL tutarında bir artış gerçekleşmişt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27664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76327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433-36E6-4219-9A51-B84405A922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 Strateji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0629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üvenlik ve Teknolo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örsel Tasar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şlem Çeşitliliğ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Müşteri İlişkileri Hizmet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atış ve Tanıt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E61-9AE7-438A-8A3F-D04EB52197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ürkiye’de İnternet Bankacılığı- Tehditler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(Amaç: Teknoloji Yoluyla Kişisel Bilgilerin Ele Geçirilmesi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460872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hte Site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rojan Horse (Truva Atı), Keylogger, Screen-Logger gibi Casus Progr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Yüksek Kazanç Öneren e-post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284200" cy="20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4869000"/>
            <a:ext cx="65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üşterilere ait kişisel bilgiler, banka sistemine girilerek değil, bizzat müşterilerin bilgisayarlarına uzaktan erişilerek temin edilmekted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055-9A12-40BB-9176-21B581D10277}" type="slidenum">
              <a:t>1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6170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- Güvenl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46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nternet Banka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’nda güvenli ortam, banka v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m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ü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eri taraf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beraberce yarat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n zincirlem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yap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nitel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ndedir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Zincirin halkalarından birini banka, diğerini de müşteri oluştur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113200" cy="23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E31-A1CD-4412-8E9A-392E28FBCC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alar Tarafından Sunulan Güvenlik Seçenekleri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k kullanımlık şifre, Mobil İm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işlemlerinde sınırl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gerektiren işlemler için limit belirle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işlemleri için SMS ile uyarı mesajı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eylogger, Screen-Logger gibi casus programları engellemek için özel yazılım programları (Örnek: Güvenlik Çembe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nal klavy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arşılama mesaj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şlem, zaman, servis sağlayıcı, IP sınırlaması</a:t>
            </a:r>
            <a:br>
              <a:rPr sz="2400"/>
            </a:b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E3B-1857-4ED8-A0E9-8B8F06BB82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844640"/>
            <a:ext cx="82152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844640"/>
            <a:ext cx="8215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Her şeyden önce bankanın sunduğu güvenlik seçeneklerini iyi tanımalı ve bunlardan kendisi için en uygun olanını seçip kullan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Şubesine güvenli giriş için öncelikle Bankanın internet şubesine güvenli yoldan girilmesi gerekmekted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unun için müşteriler tarafınd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ankanın internet adresi tarayıcı programının adres çubuğuna yazılmal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sitesine e-posta ile gelen ya da arama motorları ile ulaşılan linkler üzerinden giriş yapılmamalı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lan internet tarayıcısının güncel olduğu ve tüm güvenlik ayarlarının yüklenmiş olduğu kontrol edilmelidir.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68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ünd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in Tarihç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Dünyada İnternet 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ürkiye’de İnternet Kullanım Oranı ve Amaç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tratej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hdit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Güvenlik Önlem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nka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üşter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353-ADB6-4A96-985F-32521FC4E0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060640"/>
            <a:ext cx="8207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lgisayarda virüslere k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ürekli olarak en güncel anti-virüs, anti-spy ve firewall yaz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l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yüklenmeli ve belli ara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klarla güncellen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çerik sa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y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emin olunmayan internet sitelerine  girilmemeli, tan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mayan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lerden gelen e-postalar açıl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-posta ve bunun gibi kanallarla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sel bilgilerin      gönderilmemesine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esaplar düzenli olarak kontrol edilmeli ve herhangi bir hata  tespit edildiğinde ivedilikle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989000"/>
            <a:ext cx="7991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nın belli periyotlarla d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irilmesi ve belirlenecek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nin kolay tahmin edilebilir olmamasına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er banka ya da d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r internet siteleri için farklı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 kullanıl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, 3. şahısların ulaşabileceği şekilde, herhangi bir yere yazılmamalı ve yazılı olarak cüzdanda ya da çantada taşın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nın 3. kişilerin eline geçmesi ya da bundan şüphe duyulması durumunda derhal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eşekkür ederiz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8708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bilgisayar sisteminin birbirine bağlı olduğu dünya çapında yaygın olan ve sürekli büyüyen bir iletişim ağ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e ulaş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i paylaşım 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elde edilen bilgiyi kullan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platformudur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AE4-7238-4A13-B7CB-3B733EB8F1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6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in temelleri, 1960lı yılların başında askeri amaçlarla ARPANET adı altında atıl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2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J.C.R Licklider “Massachusettes Institute of Technology” (MIT)’d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“Galaktik Ağ” kavramını geliştirdi. Bu kavram, küresel olara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ğlanmış bir sistemde herhangi bir yerden istenilen veriler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rişme imkanını ifade etmektey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IT’de bilgisayarlar ilk kez birbirleriyle “konuşturuldu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geniş alan ağı olan ARPANET, DARPA (Defence Advanced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Projects Agency) bünyesinde askeri amaçlarla geli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ynı dönemde, 4 farklı merkezdeki bilgisayarlar arasında bağlantı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rularak internetin ilk uygulaması gerçekle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1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Ağ Kontrol Protokolü (NCP-Network Control Protokol) il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çalışmaya başla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2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-posta ilk defa ARPANET içinde kullanıl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F96-B287-4CD0-B5E8-E0D76573CE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– 2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araştırmalarda, kullanıcı sayısı yaklaşık 2.000 kişi, e-post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 oranı ise % 75 olarak tespit edilmiştir. ARPANET’e il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uluslararası bağlantı sağlan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İletişim Kontrol Protokolü (TCP/IP- Transmissio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Control Protokol/Internet Protokol) ile çalışmaya başladı. TCP/IP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ugünkü İnternet ağının da ana halkasını oluştur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5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n askeri bilgisayar ağı ARPANET’ten ay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7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’da hükümet desteği ile 7 bölgesel nokta üzerinde NFS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dı altında İnternet yapılanması sağlan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0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NFSNET’in işletilmesi sürecine IBM ve MCI gibi özel şirketleri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atılımıyla İnternetin özelleştirilme süreci başladı ve ARPA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dan kaldı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BD’de internet işletimi tamamen özel sektöre geçirildi ve WEB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ayfaları hazırlan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2000ler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hızla gelişerek, günlük hayatımızın her alanınd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vazgeçilmez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ir yer edinmiştir</a:t>
            </a:r>
            <a:r>
              <a:rPr b="0" lang="tr-TR" sz="19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266-D74A-4CF2-8436-0C1C4AFEE7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808360" cy="309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395928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- İlk İnternet hattı tasar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566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Günümüzdeki İnternet hatlarının görün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1215-65B8-4F7C-BD61-4E6C7855B3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989000"/>
            <a:ext cx="8496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ım oranı 2000-2007 döneminde % 208,7 oranında ar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an nüfus 1 milyarı aş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oplam dünya nüfusunun yaklaşık %17’si internet kullan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3716280"/>
          <a:ext cx="8424360" cy="2604960"/>
        </p:xfrm>
        <a:graphic>
          <a:graphicData uri="http://schemas.openxmlformats.org/drawingml/2006/table">
            <a:tbl>
              <a:tblPr/>
              <a:tblGrid>
                <a:gridCol w="1970640"/>
                <a:gridCol w="1199160"/>
                <a:gridCol w="1072800"/>
                <a:gridCol w="1192680"/>
                <a:gridCol w="1197720"/>
                <a:gridCol w="894960"/>
                <a:gridCol w="896400"/>
              </a:tblGrid>
              <a:tr h="2919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WORLD INTERNET USAGE AND POPULATION STATISTICS 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orld Reg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2007 Est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Internet Usage,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test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Penetration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 Growth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00-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Af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33,448,2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.2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,334,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38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A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,712,527,6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6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98,709,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5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48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09,624,6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2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14,792,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8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9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ddle E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3,452,7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,424,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91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 Ame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4,538,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.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33,188,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9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15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in America/Caribb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56,606,6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6,386,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7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33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eania / Austra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4,468,4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8,439,5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3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2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WORLD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,574,666,4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,114,274,4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6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68360" y="645336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imes New Roman"/>
              </a:rPr>
              <a:t>* 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imes New Roman"/>
              </a:rPr>
              <a:t>http://www.internetworldstats.com/stat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019-976D-4309-A0DC-F45B6AB98B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2781360"/>
          <a:ext cx="7272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81360"/>
                    <a:ext cx="7272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42920" y="2060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ölgelere göre internet kullanıcısı oran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DC0-C5F2-4629-89AE-A8018B4DA2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vrupa’da İnternet Kullanım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640" y="2781360"/>
            <a:ext cx="3951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kullanımını etkileyen faktörl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dışı kanalların daha ekonomik olmas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Erişim kolaylığı (7/24 sa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Yeni neslin teknolojiye yatkınlığ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Aylık şube kullanımı son 5 yılda gen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nüfusun bankacılık hizmetlerin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yararlanmaya başlanması 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%55’ten %40’a düşmüştü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98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deneyimi arttıkça diğer kanalların kullanımı düş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2852640"/>
          <a:ext cx="453708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852640"/>
                    <a:ext cx="45370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4000" y="256536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333399"/>
                </a:solidFill>
                <a:latin typeface="Tahoma"/>
              </a:rPr>
              <a:t>İnternet Bankacılığının Kanal Kullanımı üzerindeki etk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21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Arial"/>
                <a:ea typeface="Arial"/>
              </a:rPr>
              <a:t>Şube Kullanım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443700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cc00"/>
                </a:solidFill>
                <a:latin typeface="Arial"/>
                <a:ea typeface="Arial"/>
              </a:rPr>
              <a:t>İnternet Bankacılığ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86900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66ffff"/>
                </a:solidFill>
                <a:latin typeface="Arial"/>
                <a:ea typeface="Arial"/>
              </a:rPr>
              <a:t>Şubeye danış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8690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33cc"/>
                </a:solidFill>
                <a:latin typeface="Arial"/>
                <a:ea typeface="Arial"/>
              </a:rPr>
              <a:t>Çağrı merkezi/IV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4724280"/>
            <a:ext cx="7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Arial"/>
                <a:ea typeface="Arial"/>
              </a:rPr>
              <a:t>Şubeye yazılı başv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623736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595008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3399"/>
                </a:solidFill>
                <a:latin typeface="Arial"/>
                <a:ea typeface="Arial"/>
              </a:rPr>
              <a:t>İnternet Deney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6093000"/>
            <a:ext cx="596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93000"/>
            <a:ext cx="649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595008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63817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333399"/>
                </a:solidFill>
                <a:latin typeface="Tahoma"/>
              </a:rPr>
              <a:t>Kaynak: Copyright IBM Corporatio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F618-67B6-420E-BCE3-CBB02B6AD9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21:35:40Z</dcterms:created>
  <dc:creator>Tugba</dc:creator>
  <dc:description/>
  <dc:language>en-US</dc:language>
  <cp:lastModifiedBy>T. İş Bankası A. Ş.</cp:lastModifiedBy>
  <dcterms:modified xsi:type="dcterms:W3CDTF">2007-05-17T12:22:41Z</dcterms:modified>
  <cp:revision>75</cp:revision>
  <dc:subject/>
  <dc:title>İNTERNET BANKACILIĞI</dc:title>
</cp:coreProperties>
</file>