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FC3-8E71-426F-A246-BD4DD22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524-6FFC-455D-9002-10CAB46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AF7-EF0B-41C1-94D8-5AD89E79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C56-8FFA-4A36-887A-5DDBD98D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F790-488D-4468-9F6F-285775E0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89A1-01AF-49AB-9294-D1451BEC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64BF-2C1E-4461-B762-83BC0D9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3FFE-CAB2-4965-9F5C-84B68AF6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F8E6-8F3B-44E0-B677-F262E91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5B68-BB5B-406A-BFB6-3C97B56D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B9CB-0C32-4C40-996E-5A53845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14E-7D2E-442C-8A2F-C263F7B6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0D45-37B6-4A97-AB6D-77160715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9FCE-13CB-42B1-82C2-5021FA17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4C70-6703-4EEF-B59D-166643A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B179-D440-4E22-980A-324EE958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9EEB-364C-496A-A4CC-6ACFB7D6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F46-EDB7-47A0-8497-7B042ADE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A09-90B8-41FC-95D9-781B0D0A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224-6467-494B-A61D-9CE64CED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CA5-E590-4AC8-9B69-CC25C243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DA9-73B8-42CB-A6B1-150EAC4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E2A-E3DB-49A2-953B-2B628700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1DD-DCE3-4930-9688-A3A9EFBF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C41E-C859-4280-9FA2-89FE84C78A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52480"/>
            <a:ext cx="9009000" cy="1052640"/>
            <a:chOff x="0" y="8524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60480"/>
              <a:ext cx="711360" cy="474840"/>
              <a:chOff x="290520" y="9604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82760"/>
              <a:ext cx="737640" cy="474840"/>
              <a:chOff x="414360" y="13827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3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6CC-44FD-4CDD-96DB-E6541E746A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stats1.htm" TargetMode="External"/><Relationship Id="rId2" Type="http://schemas.openxmlformats.org/officeDocument/2006/relationships/hyperlink" Target="http://www.internetworldstats.com/stats3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Sıtkı Coşk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 Bankalar Birliğ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Mayıs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 ile 12 Nisan 1993 tarihinde tanışan Türkiye’de kullanıcı sayısı 17 milyona, İnternete bağlı bilgisayar sayısı 700 bine ulaştı.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TÜİK 2006 Ocak ayı raporuna göre şirketlerde bilgisayar kullanımı oranı yaklaşık % 88, internet erişimi oranı % 80’lere ulaşmışt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turk.internet.com/haber/yazigoster.php3?yaziid=179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FDE-465E-42C0-9C70-469E513B1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Kullanım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2492280"/>
          <a:ext cx="761976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619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55640" y="20606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anehalkı Bireylerin İnternet Kullanma Amaç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6165720"/>
            <a:ext cx="61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607860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* Kaynak: Türkiye İstatistik Kurumu (TÜİK)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10D-E7CA-4411-94AC-71462D2489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ürkiye Bankalar Birliği verilerine göre Mart 2007 dönemin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 için kayıtlı bireysel müşteri sayısı: 17.385.363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bireysel müşteri sayısı: 3.059.573  (oranı: %1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bankacılığına kayıtlı kurumsal müşteri sayısı: 852.3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Ocak-Mart 2007 döneminde en az bir kez internet bankacılığı işlemi yapmış kurumsal müşteri sayısı: 404.350  (oranı: % 4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on 3 ayda kurumsal müşterilerin internet bankacılığı kullanım oranı, bireysel müşterilere göre daha yüksek olmuşt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C86-0026-4458-98AE-5AFBE386BC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7 itibariyle, internet bankacılığı hizmeti kullanılarak yapılan yatırım işlemleri dışındaki finansal işlemlerin toplam adedi 45 milyon, tutarı 115,7 trilyon YT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Mart 2006 ile karşılaştırıldığında finansal işlem adedinde % 30.5; toplam tutarda ise % 55.7 artış olmuştu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just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333399"/>
                </a:solidFill>
                <a:latin typeface="Tahoma"/>
              </a:rPr>
              <a:t>EFT, havale ve döviz transferi işlemlerini kapsayan para transferleri işlemleri, finansal işlem hacminin % 88’ini oluşturmaktadı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734400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ABD-B33B-4097-97A9-D0CCCD9BCB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44496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060640"/>
            <a:ext cx="8424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Ocak-Mart 2007 döneminde internet bankacılığı ile gerçekleştirilen 9.671 bin adet yatırım işleminin hacmi 38.128 milyon YTL olmuşt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000099"/>
                </a:solidFill>
                <a:latin typeface="Tahoma"/>
              </a:rPr>
              <a:t>Mart 2006 – Mart 2007 döneminde işlem hacminde 305 bin adet ve 3.048 milyon YTL tutarında bir artış gerçekleşmişt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276640"/>
            <a:ext cx="80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76327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46A-4A27-409D-9CF6-9F81584196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2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 Strateji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0629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üvenlik ve Teknolo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Görsel Tasar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şlem Çeşitliliğ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Müşteri İlişkileri Hizmetle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Satış ve Tanıt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2A3-FCA6-414D-81E4-BED482EA40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Türkiye’de İnternet Bankacılığı- Tehditler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(Amaç: Teknoloji Yoluyla Kişisel Bilgilerin Ele Geçirilmesi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460872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h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hte Site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rojan Horse (Truva Atı), Keylogger, Screen-Logger gibi Casus Program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Yüksek Kazanç Öneren e-posta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1989000"/>
            <a:ext cx="2284200" cy="208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4869000"/>
            <a:ext cx="65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6520" indent="-506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ahoma"/>
              </a:rPr>
              <a:t>Müşterilere ait kişisel bilgiler, banka sistemine girilerek değil, bizzat müşterilerin bilgisayarlarına uzaktan erişilerek temin edilmekted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B1A-5C88-448C-A6B8-2A73EE1D687A}" type="slidenum">
              <a:t>1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61704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ürkiye’de İnternet Bankacılığı- Güvenli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4608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nternet Banka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’nda güvenli ortam, banka v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m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ü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eri taraf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beraberce yarat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n zincirlem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yap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nitel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ndedir.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Zincirin halkalarından birini banka, diğerini de müşteri oluşturu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113200" cy="23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8DC-7DFC-4EB6-90CF-332F592B31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404640"/>
            <a:ext cx="7792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alar Tarafından Sunulan Güvenlik Seçenekleri</a:t>
            </a: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215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k kullanımlık şifre, Mobil İm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işlemlerinde sınırla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gerektiren işlemler için limit belirle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Para transferi işlemleri için SMS ile uyarı mesajı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eylogger, Screen-Logger gibi casus programları engellemek için özel yazılım programları (Örnek: Güvenlik Çember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anal klavy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arşılama mesaj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1500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şlem, zaman, servis sağlayıcı, IP sınırlaması</a:t>
            </a:r>
            <a:br>
              <a:rPr sz="2400"/>
            </a:b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F5E-E446-4A2C-B444-3DDFA66833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844640"/>
            <a:ext cx="82152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1844640"/>
            <a:ext cx="8215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ahoma"/>
              </a:rPr>
              <a:t>Her şeyden önce bankanın sunduğu güvenlik seçeneklerini iyi tanımalı ve bunlardan kendisi için en uygun olanını seçip kullan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Şubesine güvenli giriş için öncelikle Bankanın internet şubesine güvenli yoldan girilmesi gerekmekted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unun için müşteriler tarafınd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ankanın internet adresi tarayıcı programının adres çubuğuna yazılmal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 sitesine e-posta ile gelen ya da arama motorları ile ulaşılan linkler üzerinden giriş yapılmamalı 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lan internet tarayıcısının güncel olduğu ve tüm güvenlik ayarlarının yüklenmiş olduğu kontrol edilmelidir.</a:t>
            </a:r>
            <a:r>
              <a:rPr b="0" lang="tr-T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68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Günd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İnternetin Tarihçe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Dünyada İnternet 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ürkiye’de İnternet Kullanım Oranı ve Amaç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Türkiye’de İnternet Bankacılığ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Kullanım Oranlar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Stratej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Tehdit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Güvenlik Önleml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nka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üşter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FF6-5E03-4EA3-AABE-19DA95DC3C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060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ilgisayarda virüslere k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sürekli olarak en güncel anti-virüs, anti-spy ve firewall yaz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lar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 yüklenmeli ve belli aral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klarla güncellen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İçerik sa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lay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dan emin olunmayan internet sitelerine  girilmemeli, tan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ı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mayan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lerden gelen e-postalar açıl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-posta ve bunun gibi kanallarla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k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sel bilgilerin      gönderilmemesine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Hesaplar düzenli olarak kontrol edilmeli ve herhangi bir hata  tespit edildiğinde ivedilikle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Müşteri Tarafında Alınması Gereken Güvenlik Önlemle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989000"/>
            <a:ext cx="7991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nın belli periyotlarla de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tirilmesi ve belirlenecek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nin kolay tahmin edilebilir olmamasına dikkat ed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er banka ya da di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r internet siteleri için farklı 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ş</a:t>
            </a: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ifre ve parola kullanıl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, 3. şahısların ulaşabileceği şekilde, herhangi bir yere yazılmamalı ve yazılı olarak cüzdanda ya da çantada taşınmamal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Şifre ve parolanın 3. kişilerin eline geçmesi ya da bundan şüphe duyulması durumunda derhal bankaya bildirilmel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4000" y="645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Teşekkür ederiz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8708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bilgisayar sisteminin birbirine bağlı olduğu dünya çapında yaygın olan ve sürekli büyüyen bir iletişim ağıdı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İnternet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e ulaş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bilgiyi paylaşım 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elde edilen bilgiyi kullanı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800" spc="-1" strike="noStrike">
                <a:solidFill>
                  <a:srgbClr val="333399"/>
                </a:solidFill>
                <a:latin typeface="Tahoma"/>
              </a:rPr>
              <a:t>platformudur</a:t>
            </a:r>
            <a:r>
              <a:rPr b="0" lang="tr-TR" sz="32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854-7394-499F-84C3-8B1BA1873A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65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in temelleri, 1960lı yılların başında askeri amaçlarla ARPANET adı altında atıl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2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J.C.R Licklider “Massachusettes Institute of Technology” (MIT)’d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“Galaktik Ağ” kavramını geliştirdi. Bu kavram, küresel olara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ağlanmış bir sistemde herhangi bir yerden istenilen veriler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rişme imkanını ifade etmektey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MIT’de bilgisayarlar ilk kez birbirleriyle “konuşturuldu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geniş alan ağı olan ARPANET, DARPA (Defence Advanced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Projects Agency) bünyesinde askeri amaçlarla geli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ynı dönemde, 4 farklı merkezdeki bilgisayarlar arasında bağlantı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rularak internetin ilk uygulaması gerçekleştirild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1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Ağ Kontrol Protokolü (NCP-Network Control Protokol) ile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çalışmaya başla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2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E-posta ilk defa ARPANET içinde kullanıl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02C-7187-4959-9D58-6CAC4E1B40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– 2</a:t>
            </a:r>
            <a:r>
              <a:rPr b="0" lang="tr-TR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7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lk araştırmalarda, kullanıcı sayısı yaklaşık 2.000 kişi, e-post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 oranı ise % 75 olarak tespit edilmiştir. ARPANET’e ilk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uluslararası bağlantı sağlanmıştı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3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RPANET, İletişim Kontrol Protokolü (TCP/IP- Transmissio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Control Protokol/Internet Protokol) ile çalışmaya başladı. TCP/IP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ugünkü İnternet ağının da ana halkasını oluştur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5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n askeri bilgisayar ağı ARPANET’ten ay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87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merika’da hükümet desteği ile 7 bölgesel nokta üzerinde NFS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dı altında İnternet yapılanması sağlan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0 –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NFSNET’in işletilmesi sürecine IBM ve MCI gibi özel şirketlerin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atılımıyla İnternetin özelleştirilme süreci başladı ve ARPANET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kullanımdan kaldırıldı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95 –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ABD’de internet işletimi tamamen özel sektöre geçirildi ve WEB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sayfaları hazırlanmaya başland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2000ler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hızla gelişerek, günlük hayatımızın her alanında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vazgeçilmez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bir yer edinmiştir</a:t>
            </a:r>
            <a:r>
              <a:rPr b="0" lang="tr-TR" sz="19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7C2-3E66-4224-82AB-E871B62A39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3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den Bugüne İnternet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808360" cy="3092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395928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566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1969 - İlk İnternet hattı tasar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6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Günümüzdeki İnternet hatlarının görün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0FF6-E297-4421-A7D4-E64682CFD4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4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989000"/>
            <a:ext cx="849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ım oranı 2000-2007 döneminde % 208,7 oranında ar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Dünyada İnternet kullanan nüfus 1 milyarı aş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Toplam dünya nüfusunun yaklaşık %17’si internet kullan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3716280"/>
          <a:ext cx="8424360" cy="2604960"/>
        </p:xfrm>
        <a:graphic>
          <a:graphicData uri="http://schemas.openxmlformats.org/drawingml/2006/table">
            <a:tbl>
              <a:tblPr/>
              <a:tblGrid>
                <a:gridCol w="1970640"/>
                <a:gridCol w="1199160"/>
                <a:gridCol w="1072800"/>
                <a:gridCol w="1192680"/>
                <a:gridCol w="1197720"/>
                <a:gridCol w="894960"/>
                <a:gridCol w="896400"/>
              </a:tblGrid>
              <a:tr h="29196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WORLD INTERNET USAGE AND POPULATION STATISTICS 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orld Reg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2007 Est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Internet Usage,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test D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Population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 Penetration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% of Wor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sage Growth</a:t>
                      </a:r>
                      <a:br>
                        <a:rPr sz="900"/>
                      </a:b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00-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33,448,2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.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,334,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38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A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,712,527,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6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98,709,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5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48.8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09,624,6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2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14,792,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8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8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9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3,452,7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9,424,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91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rth Ame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34,538,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.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33,188,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9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15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/Caribb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56,606,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96,386,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7.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33.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ania / Austra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4,468,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8,439,5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3.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42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WORLD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6,574,666,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,114,274,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6.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.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08.7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68360" y="6453360"/>
            <a:ext cx="712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imes New Roman"/>
              </a:rPr>
              <a:t>* Kaynak: </a:t>
            </a:r>
            <a:r>
              <a:rPr b="0" lang="tr-TR" sz="1800" spc="-1" strike="noStrike" u="sng">
                <a:solidFill>
                  <a:srgbClr val="333399"/>
                </a:solidFill>
                <a:uFillTx/>
                <a:latin typeface="Times New Roman"/>
              </a:rPr>
              <a:t>http://www.internetworldstats.com/stat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E15-DD95-42EE-B0B4-81C75949E8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Dünyada Kullanım Oranlar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2781360"/>
          <a:ext cx="727236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81360"/>
                    <a:ext cx="727236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42920" y="2060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333399"/>
                </a:solidFill>
                <a:latin typeface="Tahoma"/>
              </a:rPr>
              <a:t>Bölgelere göre internet kullanıcısı oran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5AA-F310-482F-848C-2260FEE747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333399"/>
                </a:solidFill>
                <a:latin typeface="Tahoma"/>
              </a:rPr>
              <a:t>Avrupa’da İnternet Kullanımı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640" y="2781360"/>
            <a:ext cx="3951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kullanımını etkileyen faktörle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Şube dışı kanalların daha ekonomik olmas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Erişim kolaylığı (7/24 sa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333399"/>
                </a:solidFill>
                <a:latin typeface="Tahoma"/>
              </a:rPr>
              <a:t>Yeni neslin teknolojiye yatkınlığ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Aylık şube kullanımı son 5 yılda gen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nüfusun bankacılık hizmetlerin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yararlanmaya başlanması 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0000"/>
                </a:solidFill>
                <a:latin typeface="Tahoma"/>
              </a:rPr>
              <a:t>%55’ten %40’a düşmüştü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989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tr-TR" sz="2000" spc="-1" strike="noStrike">
                <a:solidFill>
                  <a:srgbClr val="333399"/>
                </a:solidFill>
                <a:latin typeface="Tahoma"/>
              </a:rPr>
              <a:t>İnternet deneyimi arttıkça diğer kanalların kullanımı düş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4000" y="2852640"/>
          <a:ext cx="4537080" cy="31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852640"/>
                    <a:ext cx="45370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4000" y="2565360"/>
            <a:ext cx="45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333399"/>
                </a:solidFill>
                <a:latin typeface="Tahoma"/>
              </a:rPr>
              <a:t>İnternet Bankacılığının Kanal Kullanımı üzerindeki etk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321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371628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Arial"/>
                <a:ea typeface="Arial"/>
              </a:rPr>
              <a:t>Şube Kullanım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443700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cc00"/>
                </a:solidFill>
                <a:latin typeface="Arial"/>
                <a:ea typeface="Arial"/>
              </a:rPr>
              <a:t>İnternet Bankacılığ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8690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66ffff"/>
                </a:solidFill>
                <a:latin typeface="Arial"/>
                <a:ea typeface="Arial"/>
              </a:rPr>
              <a:t>Şubeye danış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86900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ff33cc"/>
                </a:solidFill>
                <a:latin typeface="Arial"/>
                <a:ea typeface="Arial"/>
              </a:rPr>
              <a:t>Çağrı merkezi/IV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7640" y="4724280"/>
            <a:ext cx="7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333399"/>
                </a:solidFill>
                <a:latin typeface="Arial"/>
                <a:ea typeface="Arial"/>
              </a:rPr>
              <a:t>Şubeye yazılı başvur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623736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595008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333399"/>
                </a:solidFill>
                <a:latin typeface="Arial"/>
                <a:ea typeface="Arial"/>
              </a:rPr>
              <a:t>İnternet Deneyi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6093000"/>
            <a:ext cx="5968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93000"/>
            <a:ext cx="649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59500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6381720"/>
            <a:ext cx="39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333399"/>
                </a:solidFill>
                <a:latin typeface="Tahoma"/>
              </a:rPr>
              <a:t>Kaynak: Copyright IBM Corporation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70C-38F6-4A2D-BBD1-5C0FBABCE2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21:35:40Z</dcterms:created>
  <dc:creator>Tugba</dc:creator>
  <dc:description/>
  <dc:language>en-US</dc:language>
  <cp:lastModifiedBy>T. İş Bankası A. Ş.</cp:lastModifiedBy>
  <dcterms:modified xsi:type="dcterms:W3CDTF">2007-05-17T12:22:41Z</dcterms:modified>
  <cp:revision>75</cp:revision>
  <dc:subject/>
  <dc:title>İNTERNET BANKACILIĞI</dc:title>
</cp:coreProperties>
</file>