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865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515-5982-474F-B2A9-3FED82C0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807-1A56-4358-BD04-3B246A7C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573-5DAD-4CDB-84EC-1B316B9B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8C9-B99E-426F-B716-35396D50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C580-552B-42A8-BB12-945F14C7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3DA0-2980-45B4-8FC0-FB2F89C9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9BE-0614-404D-98C9-9BC738F3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F3DA-126D-4583-9E94-933DABF1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EE8C-4476-4B2F-A825-572F1AAD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6441-155A-4BD2-AAF3-368D70CC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8519-0976-4D63-8E9A-4FC37CC7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B96-D5AB-48B9-874C-A85E710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66A5-70A7-45E2-8AC1-6D4B0212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CB3E-9F78-4818-8094-63D5B2A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FBA1-E012-4FEE-977B-C6FFF8E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D298-1340-429A-9B57-62FCE291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9A70-1937-49B0-BBAB-4BF6AC5E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807F-CEBC-461D-B939-B870634B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187-BC87-4204-9EDD-F9512A50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DF8-EDBB-47DC-8FC4-63E5D421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BF4-9DE8-4FBC-BD73-25E5CCA0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7D0-37EB-4B87-B408-1E096E9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AE9-B12E-48CD-94F2-F56CCED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2FB-6A4B-415C-92C6-97A5EDF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8B66-9C1C-4B6F-BFD9-9ED1E6D061C1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628640"/>
            <a:ext cx="7010280" cy="71640"/>
          </a:xfrm>
          <a:prstGeom prst="roundRect">
            <a:avLst>
              <a:gd name="adj" fmla="val 0"/>
            </a:avLst>
          </a:prstGeom>
          <a:solidFill>
            <a:srgbClr val="86d1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8701-1420-46B5-AB8D-6546C54A525E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20" y="-114480"/>
            <a:ext cx="914400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95640" y="1376640"/>
            <a:ext cx="7199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Elektronik Bankacılıkta</a:t>
            </a:r>
            <a:br>
              <a:rPr sz="4800"/>
            </a:br>
            <a:r>
              <a:rPr b="0" lang="tr-TR" sz="4800" spc="-1" strike="noStrike">
                <a:solidFill>
                  <a:srgbClr val="ffffff"/>
                </a:solidFill>
                <a:latin typeface="Arial"/>
              </a:rPr>
              <a:t>Uluslararası Yaklaşıml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hmet Türkay VAR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ilgi Yönetimi Daires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/ B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ire Başkan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A70A-293A-481C-BA7E-315AB1D23C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mli Konu Başlıkları / </a:t>
            </a:r>
            <a:br>
              <a:rPr sz="4000"/>
            </a:b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Ris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46400" y="1628640"/>
            <a:ext cx="520524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kar Edem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(Gizli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hremi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Bütünlüğ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77F-1F0C-41EF-9BE2-A98F460C33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Öne Çıkan Korunma Teknik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403280" y="1484280"/>
            <a:ext cx="6912000" cy="39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ok Faktörlü Kimlik Doğru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ldiği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Sahip Olduğu Bir Uns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üşterinin Biyolojik Tekil Bir Özelliğ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im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letilen Verinin Şifrelen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CFE-B49B-4314-B1E9-C76130FF1A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Karşılaşılan Güçlük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87200"/>
            <a:ext cx="8064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zı Tekniklerin Kullanım Alt Yapısının Oluşmamış Olması (E-İm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nin Gelişen ve Değişen Yapı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enel Erişime Açık Or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llanıcı Bilinçlend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81B-52DB-4575-9DA3-7FB5633E5F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BDDK Çalışmalar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71280" y="2211120"/>
            <a:ext cx="69850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ankalarda Bilgi Sistemlerinin Yönetiminde Esas Alınacak İlkelere İlişkin Tebli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ternet Bankacı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50A-28A8-4570-B332-4DD08BD54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512640" y="333360"/>
            <a:ext cx="77115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İLGİNİZ İÇİN TEŞEKÜRL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OR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C87-EB7F-49B4-83EF-262E48003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13000" y="32544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Çatı Kuruml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 for International Settlements (BIS) – Electronic Banking Group of Basel Committee on Banking Super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Risk Yönetimi İlkeleri” – Temmuz 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Risk Management Principles for Electronic Ban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uropean Committee for Banking Standards (ECB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Elektronik Bankacılık için Güvenlik Kılavuzları: Basel Risk Yönetimi İlkeleri Uygulamaları” – Ağustos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tr-TR" sz="2000" spc="-1" strike="noStrike">
                <a:solidFill>
                  <a:srgbClr val="ffffff"/>
                </a:solidFill>
                <a:latin typeface="Arial"/>
              </a:rPr>
              <a:t>(Security Guidelines for e-Banking: Application of Basel Risk Management Princip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606-E084-4B1A-A002-F12FFB10C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)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6760" y="2176560"/>
            <a:ext cx="69343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a Başlıkl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Üst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Kontrol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Risk ve İtibar Riski Yön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5720" y="6580080"/>
            <a:ext cx="78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* BIS’in Temmuz 2003 tarihli “Risk Management Principles for Electronic Banking” dokümanın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A66-B739-4184-A8EC-41922C0E17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365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Faaliyetleri Üzerinde Etkin Yönetim Gözeti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psamlı Güvenlik Kontrol Süreçlerinin Tesis Edil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stek Hizmeti Alımına İlişkin Faaliyetlerin Gözetimi, Hizmet Kalitesi ve Diğer Unsurların Taki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1785960"/>
            <a:ext cx="51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Üst Yönetim Göz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648-E1B9-46A3-8B52-E715C1E281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235584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imlik Doğrul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İnkar Edememe ve Güvenilir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örevler Ayrılığı İçin Uygun Önlem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Sistemleri, Veritabanları ve Uygulamaları İçin Uygun Yetk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, Kayıtları ve Bilgileri İçin Veri Bütünlüğ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-bankacılık İşlemleri İçin Denetim İzlerinin (log) Tutu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ritik Banka Bilgileri İçin Gizlil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95640" y="16286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Güvenlik Kontroller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C58-1A85-43FD-A360-FA6AB918C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ktronik Bankacılık İçin Risk Yönetim Prensipleri (IV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46384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Hizmetleri İle İlgili Yeterli Açıkl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şteri Bilgilerinin Mahremiye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-bankacılık Sistemlerinin ve Servislerinin Sürekliliğini Sağlamak Üzere Kapasite, İş Sürekliliği ve İhtimal Planla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lay Cevap Plan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1692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99"/>
                </a:solidFill>
                <a:latin typeface="Arial"/>
              </a:rPr>
              <a:t>Yasal Risk ve İtibar Riski Yönetim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0CE-D45D-492B-9831-BBEB4F681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Ele Alınma Biçimler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zenl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vcut Düzenlemeler Kapsamında Değer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onuya İlişkin Yeni Düzenlemelerin Hazırlan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ılavu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52293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ertifikasy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WebTrust, BBBOnline, TrustUK,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0BD-60C8-48A1-8840-6FCD932964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3000" y="333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68360" y="1308240"/>
            <a:ext cx="8207280" cy="51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CD0D-4777-42BB-8279-0130852B3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ff"/>
                </a:solidFill>
                <a:latin typeface="Arial"/>
              </a:rPr>
              <a:t>Sertifikasyon -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1963800"/>
            <a:ext cx="8244000" cy="4489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8360" y="1225440"/>
            <a:ext cx="8280360" cy="7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DDK / Bilgi Yönetimi Daire Başkanlığ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627-8E42-47A5-8DF0-D388BDD02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0:47:00Z</dcterms:created>
  <dc:creator>Zerrin Saba</dc:creator>
  <dc:description/>
  <dc:language>en-US</dc:language>
  <cp:lastModifiedBy>avarli</cp:lastModifiedBy>
  <dcterms:modified xsi:type="dcterms:W3CDTF">2007-05-22T12:08:34Z</dcterms:modified>
  <cp:revision>3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