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9A9-792E-4F6D-81F0-5B1C425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FB2-62D8-429B-919C-A4B89E1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E48-E431-4250-822E-66441FFB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3DB-DACE-4F90-9E49-E632B360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0CE-10E4-4681-AC56-E3AD767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EBC-19EC-4694-ABA8-168BE56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6BA-D703-4897-A8F4-0978AE0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43A-2556-47FA-AFD5-59F683B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8D8-28A6-48E8-9FAD-0378050D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755-1B8E-4255-88EF-676FBA7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F93-897B-4980-9B76-30A6D4A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3D0-B8B5-436E-BDA1-47EFA60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8ADE-474D-4857-A412-1EA1E7CE7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zı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3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11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977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043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104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8608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27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7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7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7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7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0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0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0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124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8864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8396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8396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8396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8396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8396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807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07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807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Liberal yaklaşımlar; m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a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 ve hizmetlerin serbestleşmesi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ve uluslararası entegrasyon,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knolojik gelişmeler, ulaşt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 hizmetlerindeki gelişme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sal ekonomilerden uluslararas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konomik ilişkiler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AlparslanM</cp:lastModifiedBy>
  <cp:lastPrinted>2004-03-08T12:25:15Z</cp:lastPrinted>
  <dcterms:modified xsi:type="dcterms:W3CDTF">2004-05-10T08:50:56Z</dcterms:modified>
  <cp:revision>330</cp:revision>
  <dc:subject/>
  <dc:title>No Slide Title</dc:title>
</cp:coreProperties>
</file>