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87B-B148-4834-B9D9-543934FC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42A-8C33-4FB1-8F58-375A029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36D-AA8A-4C1B-AC8E-17BEC8D0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67B-D171-49D3-9095-3A6BB089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EDF-BACF-4C1D-883B-791F63A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F82-2F9D-43C3-A787-BD8BE28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9F5-2CCB-420D-B7ED-2C191B27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825-C8C6-4540-B0B0-6E8DB22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D52-85A9-424C-8CFA-0BBF26FA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27E-69A7-49B6-8982-6FDEEFC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096-034E-4419-91FC-6243C02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B70-D5D7-488D-9D95-FEE4762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4A09-E37A-4EBC-A2DD-49E77297C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 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zı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228600"/>
            <a:ext cx="77724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83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911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977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043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104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8608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27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7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7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7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7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7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0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0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0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124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8864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8396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8396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8396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8396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8396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807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07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807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54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Liberal yaklaşımlar; m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a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 ve hizmetlerin serbestleşmesi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ve uluslararası entegrasyon,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knolojik gelişmeler, ulaşt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 hizmetlerindeki gelişme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usal ekonomilerden uluslararas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konomik ilişkiler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AlparslanM</cp:lastModifiedBy>
  <cp:lastPrinted>2004-03-08T12:25:15Z</cp:lastPrinted>
  <dcterms:modified xsi:type="dcterms:W3CDTF">2004-05-10T08:50:56Z</dcterms:modified>
  <cp:revision>330</cp:revision>
  <dc:subject/>
  <dc:title>No Slide Title</dc:title>
</cp:coreProperties>
</file>