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F06-51B5-4D81-A5F1-B41FD8D6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E1B-5805-400F-8FE6-DB8677A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083-81DB-4FEF-8299-05FFA29D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65B-19E2-49C8-9178-B7FA2E25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D92-EC63-4F28-B577-48F17CB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5EB-0C81-4C66-82F9-E7CA793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8A7-8419-40C9-B55E-62E776D8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A9F-4318-4565-BB93-F057324A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63A-5D83-4243-A268-919F9E78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CAD-41D8-4DDD-B2F7-09EBCE4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840-6ACC-47D7-BE63-A271FD6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689-BE0B-4223-94AC-4DADE3D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DA9-A7B2-4CAC-B0E2-933720E86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ız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47680"/>
            <a:ext cx="830592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t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744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554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2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86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4792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5260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0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08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08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908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908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08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06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06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12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83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483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483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483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483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483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483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483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483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479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eral yaklaşımlar; malların ve hizmetlerin serbestleşmesi ve uluslararası entegrasyon, 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knolojik gelişmeler, ulaştırma hizmetlerindeki gelişmeler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lusal ekonomilerden uluslararası ekonomik ilişkilere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krandaa</cp:lastModifiedBy>
  <cp:lastPrinted>2004-03-08T12:25:15Z</cp:lastPrinted>
  <dcterms:modified xsi:type="dcterms:W3CDTF">2004-05-10T13:07:19Z</dcterms:modified>
  <cp:revision>337</cp:revision>
  <dc:subject/>
  <dc:title>No Slide Title</dc:title>
</cp:coreProperties>
</file>