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83EF-4D98-4527-B37A-ED00F14F14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AF3E-55BA-44E6-9993-FA6C621E4F6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217F-2D38-4A04-8F05-69E75B53B80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3C5F-3E33-47DA-9106-E01AB6040FC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6FAB-8778-498D-AF57-F39F6201436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7193-666A-4C63-8397-BA7032C0B74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1F56-90D4-493C-A871-3B8185DDD72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F09A-2522-485D-B8F3-0C0581D3654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111D-7994-4705-8951-F192DF06625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A1E2-0E69-482B-B28D-F3C090C4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6264-7500-4DE5-9F60-64DC8815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8C08-B682-49A9-B187-A1810C98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4108-0B57-43D2-A80A-02DF0E07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844C-749F-4B2C-A66F-EBF1F7F1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CBE1-4960-4DC6-B0E4-D0AE06F8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49A3-DFCA-498C-A90F-742741C7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9E48-A0CA-4421-A1DD-51D7B188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95FE-64BC-4F3D-9C23-49C9C361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9691-D137-44E8-B531-F6C466CC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6225-F0FF-4D97-BC82-E03DEB07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4A8F-09B5-41E3-A562-41BD8823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E87E-D335-4A4C-B3A3-0BFC85DB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862F-C433-47AC-A9E1-C336A8D6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66D8-E85A-4D72-B10E-3FD06C87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8D81-B4FE-4561-A9CA-A172975B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0FB7-5BDC-4865-9EA6-BD223FD2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631F-0915-46C3-A542-2E98758A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6A6B-1D27-4109-A013-13A52D8A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9066-6C2C-47ED-89D5-9686A3CE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46A0-8306-470A-90F9-F674257D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39A1-1C55-431E-A622-24DA116E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341A-C935-486D-A7BF-9A38201C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F294-18A2-4080-9D0A-06176C95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CAC8-2373-4F90-B1BE-13CE8E88F9D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D881-A6F7-42E1-B22E-580E2DBF9C4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v.proskurovska@ebf-fbe.eu" TargetMode="External"/><Relationship Id="rId2" Type="http://schemas.openxmlformats.org/officeDocument/2006/relationships/hyperlink" Target="http://www.ebf-fbe.e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uropean Banking Sector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 a period of Global Financial and Economic Cri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42908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Adviser, Economic and Monetary Affairs and Relations with Associates of the European Banking Federation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214800" y="285840"/>
            <a:ext cx="550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10</a:t>
            </a:r>
            <a:r>
              <a:rPr b="1" lang="en-GB" sz="1800" spc="-1" strike="noStrike" baseline="30000">
                <a:solidFill>
                  <a:srgbClr val="005cad"/>
                </a:solidFill>
                <a:latin typeface="Arial"/>
              </a:rPr>
              <a:t>th</a:t>
            </a: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 Inter-Balkan Forum of Banking Association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5cad"/>
                </a:solidFill>
                <a:latin typeface="Arial"/>
              </a:rPr>
              <a:t>16 October 2009 - Sarajevo, Bosnia &amp; Herzegovina</a:t>
            </a:r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6508-43EA-481E-9CB2-9B0F6D9757D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ignificance of the crisi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vaporation of liquidity in the inter-banking market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ruptcies of financial giants, causing systemic risk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Loss of public trust in the financial sector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eterioration in general economic conditio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 of the government share in the private sector (causing unlevel playing field).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66cc"/>
                </a:solidFill>
                <a:latin typeface="Times New Roman"/>
              </a:rPr>
              <a:t>Global estimated loss</a:t>
            </a:r>
            <a:r>
              <a:rPr b="0" lang="fr-FR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D 3.4 trillion (about € 2.3 trillion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GDP might fall by 4% in 2009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 GDP may decrease 2.6% in 2009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ban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flect on their weakness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duce their costs and improve retur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lean-up their balance shee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dapt their business strategi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31E9-EDD4-4588-B1B4-6F6F58695F4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the ECB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and national govern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re liquidity and capital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-area Governments committed about 35% of GDP to financial sector support measur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system’s balance sheet had almost doubled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gative consequen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d public ownership in the EU banking secto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6174-B8EC-4C62-A618-FC33947A8B3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gulatory response by the European Commis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Commission is working on the body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legislation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n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ory architecture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apital requiremen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ccounting principl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muneration polici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edge funds, UCITS, etc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o ensure the right incentives, reduce gold-plating, and strengthen risk management and prudential oversight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89A5-4D53-4B89-B4B0-845D73CCC1B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e EURO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enefit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f euro membership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confidence in the currency (avoid sharp devaluation during crisis)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CB measures to enhance market liquidity enabled euro area countries to avoid a credit squeeze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halleng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Differences in the pricing of euro member countries’ debt and credit default insurance have widened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4A5E-8730-4483-831D-1ECC3C30BCD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nclu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urrent EU-level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ioriti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ar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ed for effective 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government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exit strateg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CB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facilitating the working of financial market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U authoritie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finalise their proposal for the Regulation on banking supervision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bank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their operations while reforming internal procedures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F44B-36B7-40E4-9FC7-C5277F3FF0B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Thank you!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For contacts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dviser in Economic and Monetary Affairs, Associates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European Banking Federat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ebf-fbe.eu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9101-8E51-4315-AE79-338C4A15893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9:21:47Z</dcterms:created>
  <dc:creator>Viktorija Proskurovska</dc:creator>
  <dc:description/>
  <dc:language>en-US</dc:language>
  <cp:lastModifiedBy>Viktorija Proskurovska</cp:lastModifiedBy>
  <dcterms:modified xsi:type="dcterms:W3CDTF">2009-10-09T13:05:37Z</dcterms:modified>
  <cp:revision>16</cp:revision>
  <dc:subject/>
  <dc:title>Европейский банковский сектор  в период глобального финансово-экономического кризиса</dc:title>
</cp:coreProperties>
</file>