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jpeg" ContentType="image/jpeg"/>
  <Override PartName="/ppt/media/image24.wmf" ContentType="image/x-wmf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925200" y="747720"/>
            <a:ext cx="4949640" cy="3713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218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07920" y="4713120"/>
            <a:ext cx="4980240" cy="44704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925560" y="747720"/>
            <a:ext cx="4949640" cy="371304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07920" y="4713120"/>
            <a:ext cx="4980240" cy="44704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spina to 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925560" y="747720"/>
            <a:ext cx="4949640" cy="371304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07920" y="4713120"/>
            <a:ext cx="4980240" cy="44704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spina to 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925560" y="747720"/>
            <a:ext cx="4949640" cy="371304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07920" y="4713120"/>
            <a:ext cx="4980240" cy="44704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ter to 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925560" y="747720"/>
            <a:ext cx="4949640" cy="371304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07920" y="4713120"/>
            <a:ext cx="4980240" cy="44704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spina to 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930240" y="749160"/>
            <a:ext cx="4946760" cy="37116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09720" y="4718160"/>
            <a:ext cx="4976640" cy="446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ernd to 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925560" y="747720"/>
            <a:ext cx="4949640" cy="37130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07920" y="4713120"/>
            <a:ext cx="4980240" cy="44704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ernd to 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925560" y="747720"/>
            <a:ext cx="4949640" cy="371304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07920" y="4713120"/>
            <a:ext cx="4980240" cy="44704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ernd to 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557C59-228E-40D9-BA2D-0EEE011387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828180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3160" y="3853440"/>
            <a:ext cx="828180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F66EE6-3B74-4C63-9CE7-D1DF6445D6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76840" y="107172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3160" y="385344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76840" y="385344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BF17ED-36E4-4E48-B8B1-865476AB6E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266652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33240" y="1071720"/>
            <a:ext cx="266652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33680" y="1071720"/>
            <a:ext cx="266652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33160" y="3853440"/>
            <a:ext cx="266652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33240" y="3853440"/>
            <a:ext cx="266652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33680" y="3853440"/>
            <a:ext cx="266652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8C77B1-D880-48DF-9F83-5CC1D14C9A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4041360" cy="532584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76840" y="1071720"/>
            <a:ext cx="4041360" cy="532584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533160" y="463320"/>
            <a:ext cx="82818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76840" y="1071720"/>
            <a:ext cx="4041360" cy="532584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533160" y="385344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04B429-3F11-478E-83DD-9D1FAFBA74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4041360" cy="532584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76840" y="107172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76840" y="385344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76840" y="107172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33160" y="3853440"/>
            <a:ext cx="828180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828180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33160" y="3853440"/>
            <a:ext cx="828180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76840" y="107172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3160" y="385344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76840" y="385344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266652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333240" y="1071720"/>
            <a:ext cx="266652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33680" y="1071720"/>
            <a:ext cx="266652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33160" y="3853440"/>
            <a:ext cx="266652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333240" y="3853440"/>
            <a:ext cx="266652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133680" y="3853440"/>
            <a:ext cx="266652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448B57-AD17-4C34-9E4E-A371C99EA3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4041360" cy="532584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76840" y="1071720"/>
            <a:ext cx="4041360" cy="532584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4A0241-1CC5-4BD2-BA58-2AA5EBEDEB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2FDEB3-0FAA-46A5-982F-2A0C52BE63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33160" y="463320"/>
            <a:ext cx="82818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8C0DB6-2D1C-4D95-9DB4-81D2405215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76840" y="1071720"/>
            <a:ext cx="4041360" cy="532584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33160" y="385344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2EE19-6FF2-43EF-8F69-A39CD1ED14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4041360" cy="532584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76840" y="107172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76840" y="385344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D9CD0F-E1BE-45AC-BA86-F4B2D3C576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76840" y="107172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3160" y="3853440"/>
            <a:ext cx="828180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5202F4-0442-4296-BC13-10BF9CEFD5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66800" indent="-18108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6240" indent="-189000">
              <a:spcBef>
                <a:spcPts val="9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93600"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93600"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93600"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218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37840" y="6524280"/>
            <a:ext cx="7620120" cy="198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446075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46075"/>
                </a:solidFill>
                <a:latin typeface="Times New Roman"/>
                <a:ea typeface="Arial"/>
              </a:rPr>
              <a:t>The EU perspective on stress testing: CEBS Guidelines | Oleg Shmeljov, 29 November 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281800" y="6497280"/>
            <a:ext cx="53316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247D2-7F08-4833-A93A-2DF7E741573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7" descr="EBA_master_logo_ppt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66800" indent="-18108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6240" indent="-189000">
              <a:spcBef>
                <a:spcPts val="9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93600"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93600"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93600"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218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6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8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1.png"/><Relationship Id="rId16" Type="http://schemas.openxmlformats.org/officeDocument/2006/relationships/image" Target="../media/image8.png"/><Relationship Id="rId17" Type="http://schemas.openxmlformats.org/officeDocument/2006/relationships/image" Target="../media/image8.png"/><Relationship Id="rId18" Type="http://schemas.openxmlformats.org/officeDocument/2006/relationships/image" Target="../media/image12.png"/><Relationship Id="rId19" Type="http://schemas.openxmlformats.org/officeDocument/2006/relationships/image" Target="../media/image13.png"/><Relationship Id="rId20" Type="http://schemas.openxmlformats.org/officeDocument/2006/relationships/image" Target="../media/image8.png"/><Relationship Id="rId21" Type="http://schemas.openxmlformats.org/officeDocument/2006/relationships/image" Target="../media/image6.png"/><Relationship Id="rId2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image" Target="../media/image23.png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565080" y="1109520"/>
            <a:ext cx="4892760" cy="22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European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anking Authority</a:t>
            </a:r>
            <a:endParaRPr b="0" lang="en-US" sz="40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556080" y="3654000"/>
            <a:ext cx="4884480" cy="87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ctr">
            <a:no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uropean Banking Feder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8 December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3160" y="418680"/>
            <a:ext cx="8281800" cy="67644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0" rIns="5040" tIns="0" bIns="0" anchor="b">
            <a:noAutofit/>
          </a:bodyPr>
          <a:p>
            <a:pPr marL="1792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Contributing to the single EU rule book 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33160" y="1090080"/>
            <a:ext cx="8281800" cy="520236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0" rIns="2160" tIns="0" bIns="0" anchor="t">
            <a:normAutofit/>
          </a:bodyPr>
          <a:p>
            <a:pPr marL="5176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17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rulebook’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6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ximum harmonisation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176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…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ut proportionate in order to capture differences across financial instit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ission work on ‘basic acts’ (sectoral Directiv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17680" indent="-343080"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A role: ad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17680" indent="-343080"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cus on eliminating options and national discre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0">
              <a:spcBef>
                <a:spcPts val="150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) EBA work on ‘implementing legislation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17680" indent="-343080">
              <a:spcBef>
                <a:spcPts val="751"/>
              </a:spcBef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suing guidelines and recommendations (as befo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17680" indent="-343080">
              <a:spcBef>
                <a:spcPts val="751"/>
              </a:spcBef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ing draft binding technical standards (B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1"/>
          <p:cNvSpPr/>
          <p:nvPr/>
        </p:nvSpPr>
        <p:spPr>
          <a:xfrm>
            <a:off x="512640" y="314280"/>
            <a:ext cx="8282160" cy="68760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93960" tIns="90000" bIns="90000" anchor="b">
            <a:noAutofit/>
          </a:bodyPr>
          <a:p>
            <a:pPr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218"/>
                </a:solidFill>
                <a:latin typeface="Arial"/>
              </a:rPr>
              <a:t>Building the single rulebook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26" name="Rectangle 2"/>
          <p:cNvSpPr/>
          <p:nvPr/>
        </p:nvSpPr>
        <p:spPr>
          <a:xfrm>
            <a:off x="512640" y="1000080"/>
            <a:ext cx="8282160" cy="540216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91080" tIns="270000" bIns="90000" anchor="t">
            <a:noAutofit/>
          </a:bodyPr>
          <a:p>
            <a:pPr marL="392040" indent="-342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ope: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lvl="2" marL="803160" indent="-180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y broad: Basel III, Bank resolution, Financial innovation, Consumer protection, Deposit guarantee schemes, AML, Payment services</a:t>
            </a:r>
            <a:endParaRPr b="0" lang="en-US" sz="1800" spc="-1" strike="noStrike">
              <a:solidFill>
                <a:srgbClr val="ff9218"/>
              </a:solidFill>
              <a:latin typeface="Arial"/>
            </a:endParaRPr>
          </a:p>
          <a:p>
            <a:pPr marL="392040" indent="-342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marL="392040" indent="-342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A and Binding Technical Standards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lvl="2" marL="803160" indent="-180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Basel III, 40+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lvl="2" marL="803160" indent="-180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reporting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lvl="2" marL="803160" indent="-180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gal texts: high quality needed, clarity, Q&amp;A for consistent application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lvl="2" marL="803160" indent="-180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estigating breaches of EU regulations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lvl="1" marL="345960" indent="-180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lvl="1" marL="345960" indent="-180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for global consistency 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lvl="2" marL="803160" indent="-180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218"/>
              </a:solidFill>
              <a:latin typeface="Arial"/>
            </a:endParaRPr>
          </a:p>
          <a:p>
            <a:pPr marL="392040" indent="-342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218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Footer Placeholder 3"/>
          <p:cNvSpPr/>
          <p:nvPr/>
        </p:nvSpPr>
        <p:spPr>
          <a:xfrm>
            <a:off x="0" y="6659640"/>
            <a:ext cx="7620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Basel III transposition into EU legislation 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lvl="1" marL="395280" indent="0">
              <a:spcBef>
                <a:spcPts val="150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0">
              <a:spcBef>
                <a:spcPts val="150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0">
              <a:spcBef>
                <a:spcPts val="150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0">
              <a:spcBef>
                <a:spcPts val="150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0">
              <a:spcBef>
                <a:spcPts val="150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0">
              <a:spcBef>
                <a:spcPts val="150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0">
              <a:spcBef>
                <a:spcPts val="150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8"/>
          <p:cNvSpPr/>
          <p:nvPr/>
        </p:nvSpPr>
        <p:spPr>
          <a:xfrm>
            <a:off x="1003320" y="1249200"/>
            <a:ext cx="7315200" cy="816120"/>
          </a:xfrm>
          <a:prstGeom prst="rect">
            <a:avLst/>
          </a:prstGeom>
          <a:solidFill>
            <a:srgbClr val="bacc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6000" rIns="180000" tIns="180000" bIns="180000" anchor="ctr" anchorCtr="1">
            <a:noAutofit/>
          </a:bodyPr>
          <a:p>
            <a:pPr marL="395280" indent="-189000" algn="ctr">
              <a:lnSpc>
                <a:spcPct val="100000"/>
              </a:lnSpc>
              <a:spcBef>
                <a:spcPts val="18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asel III  </a:t>
            </a:r>
            <a:endParaRPr b="0" lang="en-US" sz="24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31" name="Down Arrow 9"/>
          <p:cNvSpPr/>
          <p:nvPr/>
        </p:nvSpPr>
        <p:spPr>
          <a:xfrm>
            <a:off x="2182680" y="2408400"/>
            <a:ext cx="484200" cy="979200"/>
          </a:xfrm>
          <a:prstGeom prst="downArrow">
            <a:avLst>
              <a:gd name="adj1" fmla="val 50000"/>
              <a:gd name="adj2" fmla="val 50089"/>
            </a:avLst>
          </a:prstGeom>
          <a:solidFill>
            <a:srgbClr val="bacc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90000" tIns="270000" bIns="90000" anchor="t">
            <a:noAutofit/>
          </a:bodyPr>
          <a:p>
            <a:pPr marL="395280" indent="-189000">
              <a:lnSpc>
                <a:spcPct val="100000"/>
              </a:lnSpc>
              <a:spcBef>
                <a:spcPts val="1800"/>
              </a:spcBef>
              <a:spcAft>
                <a:spcPts val="601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32" name="Down Arrow 13"/>
          <p:cNvSpPr/>
          <p:nvPr/>
        </p:nvSpPr>
        <p:spPr>
          <a:xfrm>
            <a:off x="1887480" y="2359080"/>
            <a:ext cx="484200" cy="979560"/>
          </a:xfrm>
          <a:prstGeom prst="downArrow">
            <a:avLst>
              <a:gd name="adj1" fmla="val 50000"/>
              <a:gd name="adj2" fmla="val 50108"/>
            </a:avLst>
          </a:prstGeom>
          <a:solidFill>
            <a:srgbClr val="bacc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90000" tIns="270000" bIns="90000" anchor="t">
            <a:noAutofit/>
          </a:bodyPr>
          <a:p>
            <a:pPr marL="395280" indent="-189000">
              <a:lnSpc>
                <a:spcPct val="100000"/>
              </a:lnSpc>
              <a:spcBef>
                <a:spcPts val="1800"/>
              </a:spcBef>
              <a:spcAft>
                <a:spcPts val="601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33" name="Down Arrow 16"/>
          <p:cNvSpPr/>
          <p:nvPr/>
        </p:nvSpPr>
        <p:spPr>
          <a:xfrm>
            <a:off x="2585880" y="2152800"/>
            <a:ext cx="484200" cy="718920"/>
          </a:xfrm>
          <a:prstGeom prst="downArrow">
            <a:avLst>
              <a:gd name="adj1" fmla="val 50000"/>
              <a:gd name="adj2" fmla="val 50124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6000" rIns="90000" tIns="270000" bIns="90000" anchor="t">
            <a:noAutofit/>
          </a:bodyPr>
          <a:p>
            <a:pPr marL="395280" indent="-189000">
              <a:lnSpc>
                <a:spcPct val="100000"/>
              </a:lnSpc>
              <a:spcBef>
                <a:spcPts val="1800"/>
              </a:spcBef>
              <a:spcAft>
                <a:spcPts val="601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34" name="Rectangle 22"/>
          <p:cNvSpPr/>
          <p:nvPr/>
        </p:nvSpPr>
        <p:spPr>
          <a:xfrm>
            <a:off x="4808520" y="2959200"/>
            <a:ext cx="3533760" cy="3343320"/>
          </a:xfrm>
          <a:prstGeom prst="rect">
            <a:avLst/>
          </a:prstGeom>
          <a:solidFill>
            <a:srgbClr val="bacc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6000" rIns="180000" tIns="180000" bIns="180000" anchor="ctr" anchorCtr="1">
            <a:noAutofit/>
          </a:bodyPr>
          <a:p>
            <a:pPr marL="395280" indent="-189000" algn="ctr">
              <a:lnSpc>
                <a:spcPct val="100000"/>
              </a:lnSpc>
              <a:spcBef>
                <a:spcPts val="11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vised Capital Requirements Directive  </a:t>
            </a:r>
            <a:endParaRPr b="0" lang="en-US" sz="16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1049"/>
              </a:spcBef>
              <a:spcAft>
                <a:spcPts val="3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Needs to be transposed into national law</a:t>
            </a:r>
            <a:endParaRPr b="0" lang="en-US" sz="14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1049"/>
              </a:spcBef>
              <a:spcAft>
                <a:spcPts val="3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reas covered:</a:t>
            </a:r>
            <a:endParaRPr b="0" lang="en-US" sz="14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751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aking up/pursuit of business</a:t>
            </a:r>
            <a:endParaRPr b="0" lang="en-US" sz="10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751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reedom of establishment and free movement of services</a:t>
            </a:r>
            <a:endParaRPr b="0" lang="en-US" sz="10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751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rudential supervision</a:t>
            </a:r>
            <a:endParaRPr b="0" lang="en-US" sz="10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751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apital buffers</a:t>
            </a:r>
            <a:endParaRPr b="0" lang="en-US" sz="10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751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rporate Governance</a:t>
            </a:r>
            <a:endParaRPr b="0" lang="en-US" sz="10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751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anctions</a:t>
            </a:r>
            <a:endParaRPr b="0" lang="en-US" sz="10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35" name="Rectangle 23"/>
          <p:cNvSpPr/>
          <p:nvPr/>
        </p:nvSpPr>
        <p:spPr>
          <a:xfrm>
            <a:off x="1000080" y="2963880"/>
            <a:ext cx="3535560" cy="3332160"/>
          </a:xfrm>
          <a:prstGeom prst="rect">
            <a:avLst/>
          </a:prstGeom>
          <a:solidFill>
            <a:srgbClr val="bacc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6000" rIns="180000" tIns="180000" bIns="180000" anchor="ctr" anchorCtr="1">
            <a:noAutofit/>
          </a:bodyPr>
          <a:p>
            <a:pPr marL="395280" indent="-189000" algn="ctr">
              <a:lnSpc>
                <a:spcPct val="100000"/>
              </a:lnSpc>
              <a:spcBef>
                <a:spcPts val="11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apital Requirements Regulation</a:t>
            </a:r>
            <a:endParaRPr b="0" lang="en-US" sz="16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1049"/>
              </a:spcBef>
              <a:spcAft>
                <a:spcPts val="3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irectly applicable with immediate effect in all Member States </a:t>
            </a:r>
            <a:endParaRPr b="0" lang="en-US" sz="14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1049"/>
              </a:spcBef>
              <a:spcAft>
                <a:spcPts val="3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reas covered:</a:t>
            </a:r>
            <a:endParaRPr b="0" lang="en-US" sz="14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751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apital</a:t>
            </a:r>
            <a:endParaRPr b="0" lang="en-US" sz="10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751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0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751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0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751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unterparty credit risk</a:t>
            </a:r>
            <a:endParaRPr b="0" lang="en-US" sz="10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751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751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751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36" name="Down Arrow 24"/>
          <p:cNvSpPr/>
          <p:nvPr/>
        </p:nvSpPr>
        <p:spPr>
          <a:xfrm>
            <a:off x="6346800" y="2157480"/>
            <a:ext cx="484200" cy="718920"/>
          </a:xfrm>
          <a:prstGeom prst="downArrow">
            <a:avLst>
              <a:gd name="adj1" fmla="val 50000"/>
              <a:gd name="adj2" fmla="val 50124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6000" rIns="90000" tIns="270000" bIns="90000" anchor="t">
            <a:noAutofit/>
          </a:bodyPr>
          <a:p>
            <a:pPr marL="395280" indent="-189000">
              <a:lnSpc>
                <a:spcPct val="100000"/>
              </a:lnSpc>
              <a:spcBef>
                <a:spcPts val="1800"/>
              </a:spcBef>
              <a:spcAft>
                <a:spcPts val="601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Footer Placeholder 3"/>
          <p:cNvSpPr/>
          <p:nvPr/>
        </p:nvSpPr>
        <p:spPr>
          <a:xfrm>
            <a:off x="538200" y="6524640"/>
            <a:ext cx="7620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Summary CRR/CRDIV tasks for EBA 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graphicFrame>
        <p:nvGraphicFramePr>
          <p:cNvPr id="239" name="Object 7"/>
          <p:cNvGraphicFramePr/>
          <p:nvPr/>
        </p:nvGraphicFramePr>
        <p:xfrm>
          <a:off x="1328760" y="1398600"/>
          <a:ext cx="6494400" cy="4809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0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28760" y="1398600"/>
                    <a:ext cx="6494400" cy="480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BTS drafting and adoption process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16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velopment of the draft by the Project Team in co-operation with EBA sta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st- benefit and Impact Assessment analysis of propos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option of draft proposals by the Board of Supervisors according to its rules of proced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nsultation of the BSG and public consul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eedback process and updating of the propos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option of the draft TS, publication, and submission to the Commission and the other EU instit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426"/>
              </a:spcBef>
              <a:spcAft>
                <a:spcPts val="476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EBA’s key priorities in Regulation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16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or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i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quidity ris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ens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50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nk re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426"/>
              </a:spcBef>
              <a:spcAft>
                <a:spcPts val="476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Outline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EU supervisory landsca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gulation and the single ruleb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Oversight of cross border banks and assessment of ri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Cluster Oversight and its tasks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grpSp>
        <p:nvGrpSpPr>
          <p:cNvPr id="248" name="Diagram 2"/>
          <p:cNvGrpSpPr/>
          <p:nvPr/>
        </p:nvGrpSpPr>
        <p:grpSpPr>
          <a:xfrm>
            <a:off x="878040" y="1278000"/>
            <a:ext cx="7591320" cy="4537080"/>
            <a:chOff x="878040" y="1278000"/>
            <a:chExt cx="7591320" cy="4537080"/>
          </a:xfrm>
        </p:grpSpPr>
        <p:sp>
          <p:nvSpPr>
            <p:cNvPr id="249" name="_s2052"/>
            <p:cNvSpPr/>
            <p:nvPr/>
          </p:nvSpPr>
          <p:spPr>
            <a:xfrm>
              <a:off x="3675240" y="1974960"/>
              <a:ext cx="1996920" cy="1996920"/>
            </a:xfrm>
            <a:prstGeom prst="ellipse">
              <a:avLst/>
            </a:prstGeom>
            <a:solidFill>
              <a:srgbClr val="3333cc">
                <a:alpha val="50000"/>
              </a:srgbClr>
            </a:solidFill>
            <a:ln w="46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9218"/>
                </a:solidFill>
                <a:latin typeface="Arial"/>
              </a:endParaRPr>
            </a:p>
          </p:txBody>
        </p:sp>
        <p:sp>
          <p:nvSpPr>
            <p:cNvPr id="250" name="_s2053"/>
            <p:cNvSpPr/>
            <p:nvPr/>
          </p:nvSpPr>
          <p:spPr>
            <a:xfrm>
              <a:off x="3706920" y="1278000"/>
              <a:ext cx="1935000" cy="49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9218"/>
                  </a:solidFill>
                  <a:latin typeface="Arial"/>
                </a:rPr>
                <a:t>Risk assessment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Enhancing regular and ad hoc 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thematic risk assessments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</p:txBody>
        </p:sp>
        <p:sp>
          <p:nvSpPr>
            <p:cNvPr id="251" name="_s2054"/>
            <p:cNvSpPr/>
            <p:nvPr/>
          </p:nvSpPr>
          <p:spPr>
            <a:xfrm>
              <a:off x="4397400" y="2498760"/>
              <a:ext cx="1996920" cy="1996920"/>
            </a:xfrm>
            <a:prstGeom prst="ellipse">
              <a:avLst/>
            </a:prstGeom>
            <a:solidFill>
              <a:srgbClr val="ccccff">
                <a:alpha val="50000"/>
              </a:srgbClr>
            </a:solidFill>
            <a:ln w="46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9218"/>
                </a:solidFill>
                <a:latin typeface="Arial"/>
              </a:endParaRPr>
            </a:p>
          </p:txBody>
        </p:sp>
        <p:sp>
          <p:nvSpPr>
            <p:cNvPr id="252" name="_s2055"/>
            <p:cNvSpPr/>
            <p:nvPr/>
          </p:nvSpPr>
          <p:spPr>
            <a:xfrm>
              <a:off x="6534000" y="2629080"/>
              <a:ext cx="1935360" cy="49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9218"/>
                  </a:solidFill>
                  <a:latin typeface="Arial"/>
                </a:rPr>
                <a:t>Colleges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Enhancing and supporting</a:t>
              </a:r>
              <a:br>
                <a:rPr sz="1800"/>
              </a:b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effective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Functioning of colleges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</p:txBody>
        </p:sp>
        <p:sp>
          <p:nvSpPr>
            <p:cNvPr id="253" name="_s2056"/>
            <p:cNvSpPr/>
            <p:nvPr/>
          </p:nvSpPr>
          <p:spPr>
            <a:xfrm>
              <a:off x="4122720" y="3348000"/>
              <a:ext cx="1996920" cy="1997280"/>
            </a:xfrm>
            <a:prstGeom prst="ellipse">
              <a:avLst/>
            </a:prstGeom>
            <a:solidFill>
              <a:srgbClr val="b2b2b2">
                <a:alpha val="50000"/>
              </a:srgbClr>
            </a:solidFill>
            <a:ln w="46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9218"/>
                </a:solidFill>
                <a:latin typeface="Arial"/>
              </a:endParaRPr>
            </a:p>
          </p:txBody>
        </p:sp>
        <p:sp>
          <p:nvSpPr>
            <p:cNvPr id="254" name="_s2057"/>
            <p:cNvSpPr/>
            <p:nvPr/>
          </p:nvSpPr>
          <p:spPr>
            <a:xfrm>
              <a:off x="5824440" y="5315040"/>
              <a:ext cx="1935360" cy="49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9218"/>
                  </a:solidFill>
                  <a:latin typeface="Arial"/>
                </a:rPr>
                <a:t>Crisis management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uilding capacity to handle 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emergency situations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</p:txBody>
        </p:sp>
        <p:sp>
          <p:nvSpPr>
            <p:cNvPr id="255" name="_s2058"/>
            <p:cNvSpPr/>
            <p:nvPr/>
          </p:nvSpPr>
          <p:spPr>
            <a:xfrm>
              <a:off x="3230640" y="3349800"/>
              <a:ext cx="1996920" cy="1996920"/>
            </a:xfrm>
            <a:prstGeom prst="ellipse">
              <a:avLst/>
            </a:prstGeom>
            <a:solidFill>
              <a:srgbClr val="ccccff">
                <a:alpha val="50000"/>
              </a:srgbClr>
            </a:solidFill>
            <a:ln w="46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9218"/>
                </a:solidFill>
                <a:latin typeface="Arial"/>
              </a:endParaRPr>
            </a:p>
          </p:txBody>
        </p:sp>
        <p:sp>
          <p:nvSpPr>
            <p:cNvPr id="256" name="_s2059"/>
            <p:cNvSpPr/>
            <p:nvPr/>
          </p:nvSpPr>
          <p:spPr>
            <a:xfrm>
              <a:off x="1589040" y="5316480"/>
              <a:ext cx="1935360" cy="49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9218"/>
                  </a:solidFill>
                  <a:latin typeface="Arial"/>
                </a:rPr>
                <a:t>Risk dashboard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uilding a system of key risk indicators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(in cooperation with ESRB)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</p:txBody>
        </p:sp>
        <p:sp>
          <p:nvSpPr>
            <p:cNvPr id="257" name="_s2060"/>
            <p:cNvSpPr/>
            <p:nvPr/>
          </p:nvSpPr>
          <p:spPr>
            <a:xfrm>
              <a:off x="2952720" y="2502000"/>
              <a:ext cx="1997280" cy="1996920"/>
            </a:xfrm>
            <a:prstGeom prst="ellipse">
              <a:avLst/>
            </a:prstGeom>
            <a:solidFill>
              <a:srgbClr val="b2b2b2">
                <a:alpha val="50000"/>
              </a:srgbClr>
            </a:solidFill>
            <a:ln w="46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9218"/>
                </a:solidFill>
                <a:latin typeface="Arial"/>
              </a:endParaRPr>
            </a:p>
          </p:txBody>
        </p:sp>
        <p:sp>
          <p:nvSpPr>
            <p:cNvPr id="258" name="_s2061"/>
            <p:cNvSpPr/>
            <p:nvPr/>
          </p:nvSpPr>
          <p:spPr>
            <a:xfrm>
              <a:off x="878040" y="2630520"/>
              <a:ext cx="1935000" cy="49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9218"/>
                  </a:solidFill>
                  <a:latin typeface="Arial"/>
                </a:rPr>
                <a:t>Stress testing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uilding common </a:t>
              </a:r>
              <a:br>
                <a:rPr sz="1800"/>
              </a:b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ethodologies and</a:t>
              </a:r>
              <a:br>
                <a:rPr sz="1800"/>
              </a:b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conducting EU-wide </a:t>
              </a:r>
              <a:br>
                <a:rPr sz="1800"/>
              </a:b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tress tests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(in cooperation with ESRB)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Footer Placeholder 3"/>
          <p:cNvSpPr/>
          <p:nvPr/>
        </p:nvSpPr>
        <p:spPr>
          <a:xfrm>
            <a:off x="538200" y="6524640"/>
            <a:ext cx="7620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3160" y="379080"/>
            <a:ext cx="8281800" cy="69372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EBA’s EU-wide stress tests of banks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EBA, in cooperation with the ESRB, initiate and coordinate EU-wide assessments of the resilience of financial institutions to adverse market develop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EBA develops, for application by the competent authorities, common methodologies for assessing the effect of economic scenarios on an institution's financial posi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EBA shall, where appropriate, address recommendation to the competent authority to correct issues identified in the stress 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Footer Placeholder 3"/>
          <p:cNvSpPr/>
          <p:nvPr/>
        </p:nvSpPr>
        <p:spPr>
          <a:xfrm>
            <a:off x="538200" y="6524640"/>
            <a:ext cx="7620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Risk dashboards on EU cross border banks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KRIs to monitor major banks: major EU banks to regularly report to EBA via national supervisors - easier with single supervisory reporting in 20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BA to analyse and provide peer group data to national supervis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KRIs also to be used as input for ESRB analy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RB to provided systems wide analysis and possible recommendations to EBA or NS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SAs to respond to recommendations via E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Outline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 EU supervisory landsca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gulation and the single ruleb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versight of cross border banks and assessment of ri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Bi-annual risk assessment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53316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ist of banks on which the EBA undertakes a bi-annual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ssessment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LLIED IRISH BANK (IE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BANCO BILBAO VIZCAYA ARGENTARIA (ES) 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ANCO SANTANDER (ES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ANK OF IRELAND (IE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ARCLAYS (GB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AYERISCHE LANDESBANK (DE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NP PARIBAS (FR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AIXA (ES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CAIXA GERAL DE DEPÓSITOS (PT) </a:t>
            </a: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OMMERZBANK (DE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REDIT AGRICOLE (FR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ANSKE BANK (DK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EUTSCHE BANK (DE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EXIA (BE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FG-EURBANK (GR)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800"/>
              </a:spcBef>
              <a:spcAft>
                <a:spcPts val="601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800"/>
              </a:spcBef>
              <a:spcAft>
                <a:spcPts val="601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4"/>
          <p:cNvSpPr/>
          <p:nvPr/>
        </p:nvSpPr>
        <p:spPr>
          <a:xfrm>
            <a:off x="4952880" y="2457360"/>
            <a:ext cx="3849840" cy="36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RSTE GROUP BANK (AT) </a:t>
            </a:r>
            <a:endParaRPr b="0" lang="en-US" sz="12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HSBC HOLDINGS (GB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ING BANK (NL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INTESA SANPAOLO (IT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KBC GROEP (BE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LLOYDS BANKING GROUP (GB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MILLENNIUM BCP (PT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NATIONAL BANK OF GREECE (GR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NORDEA BANK (SE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RABOBANK (NL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ROYAL BANK OF SCOTLAND (GB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RZB (AT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SKANDINAVISKA ENSKILDA BANKEN (SE) </a:t>
            </a:r>
            <a:endParaRPr b="0" lang="en-US" sz="12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OCIETE GENERALE (FR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UNICREDIT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(IT)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ff9218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Footer Placeholder 3"/>
          <p:cNvSpPr/>
          <p:nvPr/>
        </p:nvSpPr>
        <p:spPr>
          <a:xfrm>
            <a:off x="538200" y="6524640"/>
            <a:ext cx="7620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Risk assessments for EU cross border banks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ach NSA performing risk assessment based upon national SRE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ach NSA maps own risk assessment to common 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isk assessments to be discussed within college under the steer of the consolidating supervis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hallenge is to achieve a joint assessment of risks and common decisions on the adequacy of capital and possible supervisory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case national EU supervisors disagree, EBA to mediate and take deci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n-EU supervisors can also to take part in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country regulatory regime still under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ssons from the crisis: need to open a debate on best supervisory pract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Footer Placeholder 3"/>
          <p:cNvSpPr/>
          <p:nvPr/>
        </p:nvSpPr>
        <p:spPr>
          <a:xfrm>
            <a:off x="538200" y="6524640"/>
            <a:ext cx="7620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Colleges for  EU cross border banks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ay to day supervision by national supervisory autho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pervision organised via colleges of supervis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total about 110 EU cross border bank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ordinating role of consolidating supervis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in decisions in core college = most involved supervis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ffective communication group-wide via extended colle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e globally operating EU bank has one college, with supervisors from within and outside the E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4960" y="464760"/>
            <a:ext cx="8267760" cy="60804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rIns="5040" tIns="90000" bIns="90000" anchor="b">
            <a:noAutofit/>
          </a:bodyPr>
          <a:p>
            <a:pPr marL="3636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218"/>
                </a:solidFill>
                <a:latin typeface="Arial"/>
              </a:rPr>
              <a:t>EBA’s role in Supervisory Colleges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34600" y="1071720"/>
            <a:ext cx="82566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2160" tIns="270000" bIns="90000" anchor="t">
            <a:normAutofit/>
          </a:bodyPr>
          <a:p>
            <a:pPr lvl="1" marL="303120" indent="-188640" algn="just">
              <a:lnSpc>
                <a:spcPct val="90000"/>
              </a:lnSpc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BA to build capacity to effectively oversee colleges of EU cross border ban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03120" indent="-188640" algn="just">
              <a:lnSpc>
                <a:spcPct val="90000"/>
              </a:lnSpc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A to contribute to promoting and monitoring the efficient, effective and consistent functioning of colleges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03120" indent="-188640" algn="just">
              <a:lnSpc>
                <a:spcPct val="90000"/>
              </a:lnSpc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A staff to participate in college activities (e.g. Calling a meeting of the college, providing input to the agenda, monitor the functioning- but not lead the college per se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03120" indent="-188640" algn="just">
              <a:lnSpc>
                <a:spcPct val="90000"/>
              </a:lnSpc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A may collect and share information and manage a central system of information to facilitate the work of the colleges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03120" indent="-188640" algn="just">
              <a:lnSpc>
                <a:spcPct val="90000"/>
              </a:lnSpc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A to oversee the tasks carried out by the competent authori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03120" indent="-188640" algn="just">
              <a:lnSpc>
                <a:spcPct val="90000"/>
              </a:lnSpc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A shall develop BTS, Guidelines and Recommendations on the functioning of colle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4"/>
          <p:cNvSpPr/>
          <p:nvPr/>
        </p:nvSpPr>
        <p:spPr>
          <a:xfrm>
            <a:off x="8280360" y="6497640"/>
            <a:ext cx="5367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marL="3636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Binding Mediation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53352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90000" tIns="270000" bIns="90000" anchor="t">
            <a:no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ettlement of disagreements in cross-border situations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diation between home and host authorities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quest from one or more authorities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lvl="2" marL="766800" indent="-181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.g. joint decision on an advanced model IRB/AMA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BA sets a timeframe to come to an agreement and moderates – in case no agreement is reached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lvl="2" marL="766800" indent="-181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 weeks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lvl="2" marL="766800" indent="-181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diation panel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lvl="2" marL="766800" indent="-181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ard of Supervisors takes final decision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ational competent authorities take decisions in line with BoS decision, this is followed up by the EBA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-sectoral settlement of disagreements (together with EIOPA and ESMA) 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218"/>
              </a:solidFill>
              <a:latin typeface="Arial"/>
            </a:endParaRPr>
          </a:p>
          <a:p>
            <a:pPr lvl="1" marL="395280" indent="-189000">
              <a:lnSpc>
                <a:spcPct val="90000"/>
              </a:lnSpc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33520" y="463680"/>
            <a:ext cx="8277120" cy="60480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0" rIns="5040" tIns="0" bIns="0" anchor="b">
            <a:noAutofit/>
          </a:bodyPr>
          <a:p>
            <a:pPr marL="3636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218"/>
                </a:solidFill>
                <a:latin typeface="Arial"/>
              </a:rPr>
              <a:t>Crisis management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33520" y="1068480"/>
            <a:ext cx="8277120" cy="533232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0" rIns="2160" tIns="0" bIns="0" anchor="t">
            <a:normAutofit/>
          </a:bodyPr>
          <a:p>
            <a:pPr marL="3412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manent capacity to response to emerging risks/threa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060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isis management coord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060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manent capacity to respond to systemic risk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060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very and Resolution Plans and appropriate financing instrume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060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mporarily prohibit or restrict certain financial activities that threaten the orderly functioning/ integrity of financial markets, under certain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0600" indent="0">
              <a:spcBef>
                <a:spcPts val="150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33520" y="463680"/>
            <a:ext cx="8277120" cy="60624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0" rIns="5040" tIns="0" bIns="0" anchor="b">
            <a:noAutofit/>
          </a:bodyPr>
          <a:p>
            <a:pPr marL="36360" indent="0" algn="just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218"/>
                </a:solidFill>
                <a:latin typeface="Arial"/>
              </a:rPr>
              <a:t>EBA follow up powers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34600" y="1079280"/>
            <a:ext cx="8278920" cy="542916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0" rIns="2160" tIns="0" bIns="0" anchor="t">
            <a:normAutofit/>
          </a:bodyPr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isions towards member author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060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emergency situ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060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case of settling of disagre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isions towards financial instit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060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 national authorities do not comply with EBA decision in art. 18 or 19, 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060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national authorities do not comply with EBA recommendation in cases of breach of EU law (following COM formal opinion)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060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s directly applicable to financial institutions (includes B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750840" y="2552760"/>
            <a:ext cx="4892760" cy="22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MS PGothic"/>
              </a:rPr>
              <a:t>THANK YOU</a:t>
            </a:r>
            <a:br>
              <a:rPr sz="3600"/>
            </a:b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	</a:t>
            </a:r>
            <a:br>
              <a:rPr sz="1600"/>
            </a:br>
            <a:endParaRPr b="0" lang="en-US" sz="1600" spc="-1" strike="noStrike">
              <a:solidFill>
                <a:srgbClr val="ff9218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539280" y="765000"/>
            <a:ext cx="8186760" cy="560232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marL="181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1071720" y="2357280"/>
            <a:ext cx="2357280" cy="2143440"/>
          </a:xfrm>
          <a:prstGeom prst="rect">
            <a:avLst/>
          </a:prstGeom>
          <a:solidFill>
            <a:srgbClr val="a4ac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SRB</a:t>
            </a:r>
            <a:endParaRPr b="0" lang="en-US" sz="24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4857840" y="2286000"/>
            <a:ext cx="2357280" cy="2143080"/>
          </a:xfrm>
          <a:prstGeom prst="rect">
            <a:avLst/>
          </a:prstGeom>
          <a:solidFill>
            <a:srgbClr val="a4ac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SFS</a:t>
            </a:r>
            <a:endParaRPr b="0" lang="en-US" sz="24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89" name="Left-Right Arrow 10"/>
          <p:cNvSpPr/>
          <p:nvPr/>
        </p:nvSpPr>
        <p:spPr>
          <a:xfrm>
            <a:off x="3643200" y="3071880"/>
            <a:ext cx="1000080" cy="642960"/>
          </a:xfrm>
          <a:prstGeom prst="leftRightArrow">
            <a:avLst>
              <a:gd name="adj1" fmla="val 50000"/>
              <a:gd name="adj2" fmla="val 4999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90" name="Rectangle 13"/>
          <p:cNvSpPr/>
          <p:nvPr/>
        </p:nvSpPr>
        <p:spPr>
          <a:xfrm>
            <a:off x="4857840" y="3071880"/>
            <a:ext cx="785880" cy="13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IOPA</a:t>
            </a:r>
            <a:endParaRPr b="0" lang="en-US" sz="1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91" name="Rectangle 14"/>
          <p:cNvSpPr/>
          <p:nvPr/>
        </p:nvSpPr>
        <p:spPr>
          <a:xfrm>
            <a:off x="5643720" y="3071880"/>
            <a:ext cx="792000" cy="1368360"/>
          </a:xfrm>
          <a:prstGeom prst="rect">
            <a:avLst/>
          </a:prstGeom>
          <a:solidFill>
            <a:srgbClr val="00cc99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BA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92" name="Rectangle 15"/>
          <p:cNvSpPr/>
          <p:nvPr/>
        </p:nvSpPr>
        <p:spPr>
          <a:xfrm>
            <a:off x="6429240" y="3071880"/>
            <a:ext cx="785880" cy="13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SMA</a:t>
            </a:r>
            <a:endParaRPr b="0" lang="en-US" sz="1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93" name="Rectangle 11"/>
          <p:cNvSpPr/>
          <p:nvPr/>
        </p:nvSpPr>
        <p:spPr>
          <a:xfrm>
            <a:off x="4857840" y="2286000"/>
            <a:ext cx="2347920" cy="776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oint Committee</a:t>
            </a:r>
            <a:endParaRPr b="0" lang="en-US" sz="24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94" name="Oval 12"/>
          <p:cNvSpPr/>
          <p:nvPr/>
        </p:nvSpPr>
        <p:spPr>
          <a:xfrm>
            <a:off x="1042920" y="1268280"/>
            <a:ext cx="2286000" cy="928800"/>
          </a:xfrm>
          <a:prstGeom prst="ellipse">
            <a:avLst/>
          </a:prstGeom>
          <a:solidFill>
            <a:srgbClr val="60c9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U central banks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95" name="Oval 16"/>
          <p:cNvSpPr/>
          <p:nvPr/>
        </p:nvSpPr>
        <p:spPr>
          <a:xfrm>
            <a:off x="4859280" y="1197000"/>
            <a:ext cx="2286000" cy="928800"/>
          </a:xfrm>
          <a:prstGeom prst="ellipse">
            <a:avLst/>
          </a:prstGeom>
          <a:solidFill>
            <a:srgbClr val="60c9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U supervisors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96" name="Oval 17"/>
          <p:cNvSpPr/>
          <p:nvPr/>
        </p:nvSpPr>
        <p:spPr>
          <a:xfrm>
            <a:off x="1143000" y="5072040"/>
            <a:ext cx="2286000" cy="928800"/>
          </a:xfrm>
          <a:prstGeom prst="ellipse">
            <a:avLst/>
          </a:prstGeom>
          <a:solidFill>
            <a:srgbClr val="a4ac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cro</a:t>
            </a:r>
            <a:endParaRPr b="0" lang="en-US" sz="2400" spc="-1" strike="noStrike">
              <a:solidFill>
                <a:srgbClr val="ff921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udential</a:t>
            </a:r>
            <a:endParaRPr b="0" lang="en-US" sz="24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97" name="Oval 18"/>
          <p:cNvSpPr/>
          <p:nvPr/>
        </p:nvSpPr>
        <p:spPr>
          <a:xfrm>
            <a:off x="4857840" y="5000760"/>
            <a:ext cx="2286000" cy="928440"/>
          </a:xfrm>
          <a:prstGeom prst="ellipse">
            <a:avLst/>
          </a:prstGeom>
          <a:solidFill>
            <a:srgbClr val="a4ac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icro</a:t>
            </a:r>
            <a:endParaRPr b="0" lang="en-US" sz="2400" spc="-1" strike="noStrike">
              <a:solidFill>
                <a:srgbClr val="ff921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udential</a:t>
            </a:r>
            <a:endParaRPr b="0" lang="en-US" sz="24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98" name="Rectangle 2"/>
          <p:cNvSpPr/>
          <p:nvPr/>
        </p:nvSpPr>
        <p:spPr>
          <a:xfrm>
            <a:off x="539640" y="473040"/>
            <a:ext cx="8202600" cy="60480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90000" tIns="90000" bIns="90000" anchor="b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218"/>
                </a:solidFill>
                <a:latin typeface="Arial"/>
              </a:rPr>
              <a:t>European System of Financial Supervision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Espace réservé du pied de page 4"/>
          <p:cNvSpPr/>
          <p:nvPr/>
        </p:nvSpPr>
        <p:spPr>
          <a:xfrm>
            <a:off x="538200" y="6524640"/>
            <a:ext cx="7620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494964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uropean Banking Authority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tablished 1 January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ccountable to the European Parliament and the Counc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EBA assumes all of the tasks and competences of CEBS and additional task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at in Lond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view Clause (2014 and all 3 yea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Andrew Critchell LRPS Tower 42 1 large"/>
          <p:cNvPicPr/>
          <p:nvPr/>
        </p:nvPicPr>
        <p:blipFill>
          <a:blip r:embed="rId1"/>
          <a:stretch/>
        </p:blipFill>
        <p:spPr>
          <a:xfrm>
            <a:off x="5464080" y="1077840"/>
            <a:ext cx="3351240" cy="531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The role of EBA – main objectives and tasks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406404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ain objectiv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tablishing EU single rule bo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moting and enhancing quality and consistency of supervis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inforcing oversight of cross-border gro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arly warning of upcoming vulnerab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ffective early intervention and bank re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0560" y="1071720"/>
            <a:ext cx="415116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ain task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velop binding technical standards, guidelines, recommend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moting common supervisory culture / supervisory practic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cting on breach of la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inding med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eer group analy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nitoring and promoting effectiveness of colle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U-wide risk assessments and stress te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acting on risk warn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andling of emergency situation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0" rIns="5040" tIns="0" bIns="0" anchor="b">
            <a:noAutofit/>
          </a:bodyPr>
          <a:p>
            <a:pPr marL="160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218"/>
                </a:solidFill>
                <a:latin typeface="Arial"/>
              </a:rPr>
              <a:t>EBA Organisational set up - overview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0" rIns="2160" tIns="0" bIns="0" anchor="t">
            <a:normAutofit/>
          </a:bodyPr>
          <a:p>
            <a:pPr lvl="1" marL="372960" indent="0">
              <a:spcBef>
                <a:spcPts val="751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372960" indent="-18864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ternall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three clusters according to EBA tasks: Regulation, Oversight, Op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72960" indent="0">
              <a:spcBef>
                <a:spcPts val="150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72960" indent="-18864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embers’ organisation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echanisms which enable effective decision making and interaction with member organis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88960" indent="-181080">
              <a:spcBef>
                <a:spcPts val="751"/>
              </a:spcBef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ing Committ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88960" indent="-181080">
              <a:spcBef>
                <a:spcPts val="751"/>
              </a:spcBef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ing gro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88960" indent="-181080">
              <a:spcBef>
                <a:spcPts val="751"/>
              </a:spcBef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le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88960" indent="-181080">
              <a:spcBef>
                <a:spcPts val="751"/>
              </a:spcBef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erts’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72960" indent="0">
              <a:spcBef>
                <a:spcPts val="150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72960" indent="-18864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nking Stakeholders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72960" indent="0">
              <a:spcBef>
                <a:spcPts val="150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72960" indent="0">
              <a:spcBef>
                <a:spcPts val="150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889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889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889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traight Connector 53"/>
          <p:cNvSpPr/>
          <p:nvPr/>
        </p:nvSpPr>
        <p:spPr>
          <a:xfrm flipH="1">
            <a:off x="8071920" y="2286000"/>
            <a:ext cx="1800" cy="14292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09" name="Straight Connector 86"/>
          <p:cNvSpPr/>
          <p:nvPr/>
        </p:nvSpPr>
        <p:spPr>
          <a:xfrm flipH="1">
            <a:off x="926640" y="2286000"/>
            <a:ext cx="1800" cy="14292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10" name="Straight Connector 88"/>
          <p:cNvSpPr/>
          <p:nvPr/>
        </p:nvSpPr>
        <p:spPr>
          <a:xfrm flipH="1">
            <a:off x="2784600" y="2286000"/>
            <a:ext cx="1440" cy="14292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11" name="Straight Connector 31"/>
          <p:cNvSpPr/>
          <p:nvPr/>
        </p:nvSpPr>
        <p:spPr>
          <a:xfrm flipH="1">
            <a:off x="928440" y="2286000"/>
            <a:ext cx="7143480" cy="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grpSp>
        <p:nvGrpSpPr>
          <p:cNvPr id="112" name="Rounded Rectangle 4"/>
          <p:cNvGrpSpPr/>
          <p:nvPr/>
        </p:nvGrpSpPr>
        <p:grpSpPr>
          <a:xfrm>
            <a:off x="3840120" y="268200"/>
            <a:ext cx="1463760" cy="609840"/>
            <a:chOff x="3840120" y="268200"/>
            <a:chExt cx="1463760" cy="609840"/>
          </a:xfrm>
        </p:grpSpPr>
        <p:pic>
          <p:nvPicPr>
            <p:cNvPr id="113" name="Rounded Rectangle 4" descr=""/>
            <p:cNvPicPr/>
            <p:nvPr/>
          </p:nvPicPr>
          <p:blipFill>
            <a:blip r:embed="rId1"/>
            <a:stretch/>
          </p:blipFill>
          <p:spPr>
            <a:xfrm>
              <a:off x="3840120" y="268200"/>
              <a:ext cx="146376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3886200" y="314280"/>
              <a:ext cx="137160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 Narrow"/>
                </a:rPr>
                <a:t>Chairperson</a:t>
              </a:r>
              <a:endParaRPr b="0" lang="en-US" sz="12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 Narrow"/>
                </a:rPr>
                <a:t>Andrea Enria</a:t>
              </a:r>
              <a:endParaRPr b="0" lang="en-US" sz="8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15" name="Rounded Rectangle 6"/>
          <p:cNvGrpSpPr/>
          <p:nvPr/>
        </p:nvGrpSpPr>
        <p:grpSpPr>
          <a:xfrm>
            <a:off x="2127240" y="2408400"/>
            <a:ext cx="1317600" cy="536400"/>
            <a:chOff x="2127240" y="2408400"/>
            <a:chExt cx="1317600" cy="536400"/>
          </a:xfrm>
        </p:grpSpPr>
        <p:pic>
          <p:nvPicPr>
            <p:cNvPr id="116" name="Rounded Rectangle 6" descr=""/>
            <p:cNvPicPr/>
            <p:nvPr/>
          </p:nvPicPr>
          <p:blipFill>
            <a:blip r:embed="rId2"/>
            <a:stretch/>
          </p:blipFill>
          <p:spPr>
            <a:xfrm>
              <a:off x="2127240" y="2408400"/>
              <a:ext cx="131760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2166840" y="2452680"/>
              <a:ext cx="123840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 Narrow"/>
                </a:rPr>
                <a:t>Regulation</a:t>
              </a:r>
              <a:endParaRPr b="0" lang="en-US" sz="16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 Narrow"/>
                </a:rPr>
                <a:t>Isabelle Vaillant</a:t>
              </a:r>
              <a:endParaRPr b="0" lang="en-US" sz="8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18" name="Rounded Rectangle 7"/>
          <p:cNvGrpSpPr/>
          <p:nvPr/>
        </p:nvGrpSpPr>
        <p:grpSpPr>
          <a:xfrm>
            <a:off x="268200" y="2408400"/>
            <a:ext cx="1322640" cy="536400"/>
            <a:chOff x="268200" y="2408400"/>
            <a:chExt cx="1322640" cy="536400"/>
          </a:xfrm>
        </p:grpSpPr>
        <p:pic>
          <p:nvPicPr>
            <p:cNvPr id="119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268200" y="2408400"/>
              <a:ext cx="132264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309600" y="2452680"/>
              <a:ext cx="123804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 Narrow"/>
                </a:rPr>
                <a:t>Oversight</a:t>
              </a:r>
              <a:endParaRPr b="0" lang="en-US" sz="16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 Narrow"/>
                </a:rPr>
                <a:t>Piers Haben</a:t>
              </a:r>
              <a:endParaRPr b="0" lang="en-US" sz="8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21" name="Rounded Rectangle 8"/>
          <p:cNvGrpSpPr/>
          <p:nvPr/>
        </p:nvGrpSpPr>
        <p:grpSpPr>
          <a:xfrm>
            <a:off x="7412040" y="2408400"/>
            <a:ext cx="1324080" cy="536400"/>
            <a:chOff x="7412040" y="2408400"/>
            <a:chExt cx="1324080" cy="536400"/>
          </a:xfrm>
        </p:grpSpPr>
        <p:pic>
          <p:nvPicPr>
            <p:cNvPr id="122" name="Rounded Rectangle 8" descr=""/>
            <p:cNvPicPr/>
            <p:nvPr/>
          </p:nvPicPr>
          <p:blipFill>
            <a:blip r:embed="rId4"/>
            <a:stretch/>
          </p:blipFill>
          <p:spPr>
            <a:xfrm>
              <a:off x="7412040" y="2408400"/>
              <a:ext cx="132408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7453440" y="2452680"/>
              <a:ext cx="123804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 Narrow"/>
                </a:rPr>
                <a:t>Operations</a:t>
              </a:r>
              <a:endParaRPr b="0" lang="en-US" sz="16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 Narrow"/>
                </a:rPr>
                <a:t>Peter Mihalik</a:t>
              </a:r>
              <a:endParaRPr b="0" lang="en-US" sz="8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24" name="Rounded Rectangle 16"/>
          <p:cNvGrpSpPr/>
          <p:nvPr/>
        </p:nvGrpSpPr>
        <p:grpSpPr>
          <a:xfrm>
            <a:off x="3919680" y="3273480"/>
            <a:ext cx="927000" cy="536400"/>
            <a:chOff x="3919680" y="3273480"/>
            <a:chExt cx="927000" cy="536400"/>
          </a:xfrm>
        </p:grpSpPr>
        <p:pic>
          <p:nvPicPr>
            <p:cNvPr id="125" name="Rounded Rectangle 16" descr=""/>
            <p:cNvPicPr/>
            <p:nvPr/>
          </p:nvPicPr>
          <p:blipFill>
            <a:blip r:embed="rId5"/>
            <a:stretch/>
          </p:blipFill>
          <p:spPr>
            <a:xfrm>
              <a:off x="3919680" y="3273480"/>
              <a:ext cx="92700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3952800" y="3309840"/>
              <a:ext cx="85104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 Narrow"/>
                </a:rPr>
                <a:t>Policy Analysis and Coordination</a:t>
              </a:r>
              <a:endParaRPr b="0" lang="en-US" sz="10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27" name="Rounded Rectangle 19"/>
          <p:cNvGrpSpPr/>
          <p:nvPr/>
        </p:nvGrpSpPr>
        <p:grpSpPr>
          <a:xfrm>
            <a:off x="628560" y="1633680"/>
            <a:ext cx="1389240" cy="457200"/>
            <a:chOff x="628560" y="1633680"/>
            <a:chExt cx="1389240" cy="457200"/>
          </a:xfrm>
        </p:grpSpPr>
        <p:pic>
          <p:nvPicPr>
            <p:cNvPr id="128" name="Rounded Rectangle 19" descr=""/>
            <p:cNvPicPr/>
            <p:nvPr/>
          </p:nvPicPr>
          <p:blipFill>
            <a:blip r:embed="rId6"/>
            <a:stretch/>
          </p:blipFill>
          <p:spPr>
            <a:xfrm>
              <a:off x="628560" y="1633680"/>
              <a:ext cx="138924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663480" y="1663560"/>
              <a:ext cx="131616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 Narrow"/>
                </a:rPr>
                <a:t>Legal Counsel</a:t>
              </a:r>
              <a:endParaRPr b="0" lang="en-US" sz="10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30" name="Rounded Rectangle 20"/>
          <p:cNvGrpSpPr/>
          <p:nvPr/>
        </p:nvGrpSpPr>
        <p:grpSpPr>
          <a:xfrm>
            <a:off x="6559560" y="1633680"/>
            <a:ext cx="1388880" cy="457200"/>
            <a:chOff x="6559560" y="1633680"/>
            <a:chExt cx="1388880" cy="457200"/>
          </a:xfrm>
        </p:grpSpPr>
        <p:pic>
          <p:nvPicPr>
            <p:cNvPr id="131" name="Rounded Rectangle 20" descr=""/>
            <p:cNvPicPr/>
            <p:nvPr/>
          </p:nvPicPr>
          <p:blipFill>
            <a:blip r:embed="rId7"/>
            <a:stretch/>
          </p:blipFill>
          <p:spPr>
            <a:xfrm>
              <a:off x="6559560" y="1633680"/>
              <a:ext cx="138888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6593040" y="1663560"/>
              <a:ext cx="131580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 Narrow"/>
                </a:rPr>
                <a:t>Accounting Officer</a:t>
              </a:r>
              <a:endParaRPr b="0" lang="en-US" sz="10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33" name="Rounded Rectangle 21"/>
          <p:cNvGrpSpPr/>
          <p:nvPr/>
        </p:nvGrpSpPr>
        <p:grpSpPr>
          <a:xfrm>
            <a:off x="5632560" y="3273480"/>
            <a:ext cx="927000" cy="536400"/>
            <a:chOff x="5632560" y="3273480"/>
            <a:chExt cx="927000" cy="536400"/>
          </a:xfrm>
        </p:grpSpPr>
        <p:pic>
          <p:nvPicPr>
            <p:cNvPr id="134" name="Rounded Rectangle 21" descr=""/>
            <p:cNvPicPr/>
            <p:nvPr/>
          </p:nvPicPr>
          <p:blipFill>
            <a:blip r:embed="rId8"/>
            <a:stretch/>
          </p:blipFill>
          <p:spPr>
            <a:xfrm>
              <a:off x="5632560" y="3273480"/>
              <a:ext cx="92700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5668920" y="3309840"/>
              <a:ext cx="84924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 Narrow"/>
                </a:rPr>
                <a:t>Consumer Protection</a:t>
              </a:r>
              <a:endParaRPr b="0" lang="en-US" sz="10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36" name="Rounded Rectangle 22"/>
          <p:cNvGrpSpPr/>
          <p:nvPr/>
        </p:nvGrpSpPr>
        <p:grpSpPr>
          <a:xfrm>
            <a:off x="7559640" y="4413240"/>
            <a:ext cx="932040" cy="536760"/>
            <a:chOff x="7559640" y="4413240"/>
            <a:chExt cx="932040" cy="536760"/>
          </a:xfrm>
        </p:grpSpPr>
        <p:pic>
          <p:nvPicPr>
            <p:cNvPr id="137" name="Rounded Rectangle 22" descr=""/>
            <p:cNvPicPr/>
            <p:nvPr/>
          </p:nvPicPr>
          <p:blipFill>
            <a:blip r:embed="rId9"/>
            <a:stretch/>
          </p:blipFill>
          <p:spPr>
            <a:xfrm>
              <a:off x="7559640" y="4413240"/>
              <a:ext cx="932040" cy="5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7597800" y="4449600"/>
              <a:ext cx="84924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 Narrow"/>
                </a:rPr>
                <a:t>Communications</a:t>
              </a:r>
              <a:endParaRPr b="0" lang="en-US" sz="8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39" name="Rounded Rectangle 23"/>
          <p:cNvGrpSpPr/>
          <p:nvPr/>
        </p:nvGrpSpPr>
        <p:grpSpPr>
          <a:xfrm>
            <a:off x="7559640" y="4986360"/>
            <a:ext cx="932040" cy="530280"/>
            <a:chOff x="7559640" y="4986360"/>
            <a:chExt cx="932040" cy="530280"/>
          </a:xfrm>
        </p:grpSpPr>
        <p:pic>
          <p:nvPicPr>
            <p:cNvPr id="140" name="Rounded Rectangle 23" descr=""/>
            <p:cNvPicPr/>
            <p:nvPr/>
          </p:nvPicPr>
          <p:blipFill>
            <a:blip r:embed="rId10"/>
            <a:stretch/>
          </p:blipFill>
          <p:spPr>
            <a:xfrm>
              <a:off x="7559640" y="4986360"/>
              <a:ext cx="932040" cy="53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7597800" y="5021280"/>
              <a:ext cx="84924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 Narrow"/>
                </a:rPr>
                <a:t>Office Management</a:t>
              </a:r>
              <a:endParaRPr b="0" lang="en-US" sz="9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42" name="Rounded Rectangle 24"/>
          <p:cNvGrpSpPr/>
          <p:nvPr/>
        </p:nvGrpSpPr>
        <p:grpSpPr>
          <a:xfrm>
            <a:off x="7559640" y="5553000"/>
            <a:ext cx="932040" cy="536760"/>
            <a:chOff x="7559640" y="5553000"/>
            <a:chExt cx="932040" cy="536760"/>
          </a:xfrm>
        </p:grpSpPr>
        <p:pic>
          <p:nvPicPr>
            <p:cNvPr id="143" name="Rounded Rectangle 24" descr=""/>
            <p:cNvPicPr/>
            <p:nvPr/>
          </p:nvPicPr>
          <p:blipFill>
            <a:blip r:embed="rId11"/>
            <a:stretch/>
          </p:blipFill>
          <p:spPr>
            <a:xfrm>
              <a:off x="7559640" y="5553000"/>
              <a:ext cx="932040" cy="5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7597800" y="5592600"/>
              <a:ext cx="84924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 Narrow"/>
                </a:rPr>
                <a:t>Finance</a:t>
              </a:r>
              <a:endParaRPr b="0" lang="en-US" sz="9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45" name="Rounded Rectangle 25"/>
          <p:cNvGrpSpPr/>
          <p:nvPr/>
        </p:nvGrpSpPr>
        <p:grpSpPr>
          <a:xfrm>
            <a:off x="3919680" y="3986280"/>
            <a:ext cx="785520" cy="390600"/>
            <a:chOff x="3919680" y="3986280"/>
            <a:chExt cx="785520" cy="390600"/>
          </a:xfrm>
        </p:grpSpPr>
        <p:pic>
          <p:nvPicPr>
            <p:cNvPr id="146" name="Rounded Rectangle 25" descr=""/>
            <p:cNvPicPr/>
            <p:nvPr/>
          </p:nvPicPr>
          <p:blipFill>
            <a:blip r:embed="rId12"/>
            <a:stretch/>
          </p:blipFill>
          <p:spPr>
            <a:xfrm>
              <a:off x="3919680" y="3986280"/>
              <a:ext cx="78552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3946680" y="4014720"/>
              <a:ext cx="72072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 Narrow"/>
                </a:rPr>
                <a:t>Legal Analysis</a:t>
              </a:r>
              <a:endParaRPr b="0" lang="en-US" sz="8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48" name="Rounded Rectangle 26"/>
          <p:cNvGrpSpPr/>
          <p:nvPr/>
        </p:nvGrpSpPr>
        <p:grpSpPr>
          <a:xfrm>
            <a:off x="3919680" y="4486320"/>
            <a:ext cx="785520" cy="390600"/>
            <a:chOff x="3919680" y="4486320"/>
            <a:chExt cx="785520" cy="390600"/>
          </a:xfrm>
        </p:grpSpPr>
        <p:pic>
          <p:nvPicPr>
            <p:cNvPr id="149" name="Rounded Rectangle 26" descr=""/>
            <p:cNvPicPr/>
            <p:nvPr/>
          </p:nvPicPr>
          <p:blipFill>
            <a:blip r:embed="rId13"/>
            <a:stretch/>
          </p:blipFill>
          <p:spPr>
            <a:xfrm>
              <a:off x="3919680" y="4486320"/>
              <a:ext cx="78552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3946680" y="4518000"/>
              <a:ext cx="72072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 Narrow"/>
                </a:rPr>
                <a:t>Impact Assessment</a:t>
              </a:r>
              <a:endParaRPr b="0" lang="en-US" sz="8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51" name="Rounded Rectangle 27"/>
          <p:cNvGrpSpPr/>
          <p:nvPr/>
        </p:nvGrpSpPr>
        <p:grpSpPr>
          <a:xfrm>
            <a:off x="3919680" y="4986360"/>
            <a:ext cx="785520" cy="390600"/>
            <a:chOff x="3919680" y="4986360"/>
            <a:chExt cx="785520" cy="390600"/>
          </a:xfrm>
        </p:grpSpPr>
        <p:pic>
          <p:nvPicPr>
            <p:cNvPr id="152" name="Rounded Rectangle 27" descr=""/>
            <p:cNvPicPr/>
            <p:nvPr/>
          </p:nvPicPr>
          <p:blipFill>
            <a:blip r:embed="rId14"/>
            <a:stretch/>
          </p:blipFill>
          <p:spPr>
            <a:xfrm>
              <a:off x="3919680" y="4986360"/>
              <a:ext cx="78552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3946680" y="5018040"/>
              <a:ext cx="72072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 Narrow"/>
                </a:rPr>
                <a:t>Policy Coordination</a:t>
              </a:r>
              <a:endParaRPr b="0" lang="en-US" sz="8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54" name="Rounded Rectangle 5"/>
          <p:cNvGrpSpPr/>
          <p:nvPr/>
        </p:nvGrpSpPr>
        <p:grpSpPr>
          <a:xfrm>
            <a:off x="3876840" y="1054080"/>
            <a:ext cx="1427040" cy="609480"/>
            <a:chOff x="3876840" y="1054080"/>
            <a:chExt cx="1427040" cy="609480"/>
          </a:xfrm>
        </p:grpSpPr>
        <p:pic>
          <p:nvPicPr>
            <p:cNvPr id="155" name="Rounded Rectangle 5" descr=""/>
            <p:cNvPicPr/>
            <p:nvPr/>
          </p:nvPicPr>
          <p:blipFill>
            <a:blip r:embed="rId15"/>
            <a:stretch/>
          </p:blipFill>
          <p:spPr>
            <a:xfrm>
              <a:off x="3876840" y="1054080"/>
              <a:ext cx="142704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3925800" y="1100160"/>
              <a:ext cx="133200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 Narrow"/>
                </a:rPr>
                <a:t>Executive Director</a:t>
              </a:r>
              <a:endParaRPr b="0" lang="en-US" sz="12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 Narrow"/>
                </a:rPr>
                <a:t>Adam Farkas</a:t>
              </a:r>
              <a:endParaRPr b="0" lang="en-US" sz="8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57" name="Rounded Rectangle 120"/>
          <p:cNvGrpSpPr/>
          <p:nvPr/>
        </p:nvGrpSpPr>
        <p:grpSpPr>
          <a:xfrm>
            <a:off x="7559640" y="3840120"/>
            <a:ext cx="932040" cy="536760"/>
            <a:chOff x="7559640" y="3840120"/>
            <a:chExt cx="932040" cy="536760"/>
          </a:xfrm>
        </p:grpSpPr>
        <p:pic>
          <p:nvPicPr>
            <p:cNvPr id="158" name="Rounded Rectangle 120" descr=""/>
            <p:cNvPicPr/>
            <p:nvPr/>
          </p:nvPicPr>
          <p:blipFill>
            <a:blip r:embed="rId16"/>
            <a:stretch/>
          </p:blipFill>
          <p:spPr>
            <a:xfrm>
              <a:off x="7559640" y="3840120"/>
              <a:ext cx="932040" cy="5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7597800" y="3878280"/>
              <a:ext cx="84924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 Narrow"/>
                </a:rPr>
                <a:t>IT</a:t>
              </a:r>
              <a:endParaRPr b="0" lang="en-US" sz="9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60" name="Rounded Rectangle 121"/>
          <p:cNvGrpSpPr/>
          <p:nvPr/>
        </p:nvGrpSpPr>
        <p:grpSpPr>
          <a:xfrm>
            <a:off x="487440" y="3273480"/>
            <a:ext cx="933480" cy="536400"/>
            <a:chOff x="487440" y="3273480"/>
            <a:chExt cx="933480" cy="536400"/>
          </a:xfrm>
        </p:grpSpPr>
        <p:pic>
          <p:nvPicPr>
            <p:cNvPr id="161" name="Rounded Rectangle 121" descr=""/>
            <p:cNvPicPr/>
            <p:nvPr/>
          </p:nvPicPr>
          <p:blipFill>
            <a:blip r:embed="rId17"/>
            <a:stretch/>
          </p:blipFill>
          <p:spPr>
            <a:xfrm>
              <a:off x="487440" y="3273480"/>
              <a:ext cx="93348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525600" y="3309840"/>
              <a:ext cx="85068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 Narrow"/>
                </a:rPr>
                <a:t>Bank Sector Analysis</a:t>
              </a:r>
              <a:endParaRPr b="0" lang="en-US" sz="10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63" name="Rounded Rectangle 122"/>
          <p:cNvGrpSpPr/>
          <p:nvPr/>
        </p:nvGrpSpPr>
        <p:grpSpPr>
          <a:xfrm>
            <a:off x="487440" y="3919680"/>
            <a:ext cx="890640" cy="457200"/>
            <a:chOff x="487440" y="3919680"/>
            <a:chExt cx="890640" cy="457200"/>
          </a:xfrm>
        </p:grpSpPr>
        <p:pic>
          <p:nvPicPr>
            <p:cNvPr id="164" name="Rounded Rectangle 122" descr=""/>
            <p:cNvPicPr/>
            <p:nvPr/>
          </p:nvPicPr>
          <p:blipFill>
            <a:blip r:embed="rId18"/>
            <a:stretch/>
          </p:blipFill>
          <p:spPr>
            <a:xfrm>
              <a:off x="487440" y="3919680"/>
              <a:ext cx="89064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520560" y="3949560"/>
              <a:ext cx="81612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 Narrow"/>
                </a:rPr>
                <a:t>Banking</a:t>
              </a:r>
              <a:r>
                <a:rPr b="0" lang="en-GB" sz="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0" lang="en-GB" sz="1000" spc="-1" strike="noStrike">
                  <a:solidFill>
                    <a:srgbClr val="000000"/>
                  </a:solidFill>
                  <a:latin typeface="Arial Narrow"/>
                </a:rPr>
                <a:t>Supervision</a:t>
              </a:r>
              <a:endParaRPr b="0" lang="en-US" sz="10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66" name="Rounded Rectangle 123"/>
          <p:cNvGrpSpPr/>
          <p:nvPr/>
        </p:nvGrpSpPr>
        <p:grpSpPr>
          <a:xfrm>
            <a:off x="2346480" y="3919680"/>
            <a:ext cx="927000" cy="529920"/>
            <a:chOff x="2346480" y="3919680"/>
            <a:chExt cx="927000" cy="529920"/>
          </a:xfrm>
        </p:grpSpPr>
        <p:pic>
          <p:nvPicPr>
            <p:cNvPr id="167" name="Rounded Rectangle 123" descr=""/>
            <p:cNvPicPr/>
            <p:nvPr/>
          </p:nvPicPr>
          <p:blipFill>
            <a:blip r:embed="rId19"/>
            <a:stretch/>
          </p:blipFill>
          <p:spPr>
            <a:xfrm>
              <a:off x="2346480" y="3919680"/>
              <a:ext cx="927000" cy="52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2382840" y="3954600"/>
              <a:ext cx="85104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 Narrow"/>
                </a:rPr>
                <a:t>Policy Expert Group 2</a:t>
              </a:r>
              <a:endParaRPr b="0" lang="en-US" sz="10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69" name="Rounded Rectangle 143"/>
          <p:cNvGrpSpPr/>
          <p:nvPr/>
        </p:nvGrpSpPr>
        <p:grpSpPr>
          <a:xfrm>
            <a:off x="7559640" y="3273480"/>
            <a:ext cx="932040" cy="536400"/>
            <a:chOff x="7559640" y="3273480"/>
            <a:chExt cx="932040" cy="536400"/>
          </a:xfrm>
        </p:grpSpPr>
        <p:pic>
          <p:nvPicPr>
            <p:cNvPr id="170" name="Rounded Rectangle 143" descr=""/>
            <p:cNvPicPr/>
            <p:nvPr/>
          </p:nvPicPr>
          <p:blipFill>
            <a:blip r:embed="rId20"/>
            <a:stretch/>
          </p:blipFill>
          <p:spPr>
            <a:xfrm>
              <a:off x="7559640" y="3273480"/>
              <a:ext cx="93204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>
              <a:off x="7597800" y="3309840"/>
              <a:ext cx="84924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 Narrow"/>
                </a:rPr>
                <a:t>HR</a:t>
              </a:r>
              <a:endParaRPr b="0" lang="en-US" sz="9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72" name="Rounded Rectangle 149"/>
          <p:cNvGrpSpPr/>
          <p:nvPr/>
        </p:nvGrpSpPr>
        <p:grpSpPr>
          <a:xfrm>
            <a:off x="2346480" y="3273480"/>
            <a:ext cx="927000" cy="536400"/>
            <a:chOff x="2346480" y="3273480"/>
            <a:chExt cx="927000" cy="536400"/>
          </a:xfrm>
        </p:grpSpPr>
        <p:pic>
          <p:nvPicPr>
            <p:cNvPr id="173" name="Rounded Rectangle 149" descr=""/>
            <p:cNvPicPr/>
            <p:nvPr/>
          </p:nvPicPr>
          <p:blipFill>
            <a:blip r:embed="rId21"/>
            <a:stretch/>
          </p:blipFill>
          <p:spPr>
            <a:xfrm>
              <a:off x="2346480" y="3273480"/>
              <a:ext cx="92700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"/>
            <p:cNvSpPr/>
            <p:nvPr/>
          </p:nvSpPr>
          <p:spPr>
            <a:xfrm>
              <a:off x="2382840" y="3309840"/>
              <a:ext cx="85104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 Narrow"/>
                </a:rPr>
                <a:t>Policy Expert Group 1</a:t>
              </a:r>
              <a:endParaRPr b="0" lang="en-US" sz="10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sp>
        <p:nvSpPr>
          <p:cNvPr id="175" name="Straight Connector 154"/>
          <p:cNvSpPr/>
          <p:nvPr/>
        </p:nvSpPr>
        <p:spPr>
          <a:xfrm flipH="1">
            <a:off x="4378320" y="2286000"/>
            <a:ext cx="7920" cy="100008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76" name="Straight Connector 175"/>
          <p:cNvSpPr/>
          <p:nvPr/>
        </p:nvSpPr>
        <p:spPr>
          <a:xfrm flipH="1">
            <a:off x="4572000" y="857160"/>
            <a:ext cx="1440" cy="21456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77" name="Straight Connector 176"/>
          <p:cNvSpPr/>
          <p:nvPr/>
        </p:nvSpPr>
        <p:spPr>
          <a:xfrm flipH="1">
            <a:off x="4570560" y="1643040"/>
            <a:ext cx="1440" cy="64296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78" name="Straight Connector 41"/>
          <p:cNvSpPr/>
          <p:nvPr/>
        </p:nvSpPr>
        <p:spPr>
          <a:xfrm>
            <a:off x="357120" y="2928960"/>
            <a:ext cx="0" cy="121428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79" name="Straight Connector 43"/>
          <p:cNvSpPr/>
          <p:nvPr/>
        </p:nvSpPr>
        <p:spPr>
          <a:xfrm flipH="1" flipV="1">
            <a:off x="356760" y="3533400"/>
            <a:ext cx="142920" cy="468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80" name="Straight Connector 46"/>
          <p:cNvSpPr/>
          <p:nvPr/>
        </p:nvSpPr>
        <p:spPr>
          <a:xfrm flipH="1">
            <a:off x="356760" y="4143240"/>
            <a:ext cx="142920" cy="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81" name="Straight Connector 47"/>
          <p:cNvSpPr/>
          <p:nvPr/>
        </p:nvSpPr>
        <p:spPr>
          <a:xfrm>
            <a:off x="2214720" y="2928960"/>
            <a:ext cx="0" cy="121428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82" name="Straight Connector 48"/>
          <p:cNvSpPr/>
          <p:nvPr/>
        </p:nvSpPr>
        <p:spPr>
          <a:xfrm flipH="1">
            <a:off x="2214720" y="3500280"/>
            <a:ext cx="142560" cy="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83" name="Straight Connector 49"/>
          <p:cNvSpPr/>
          <p:nvPr/>
        </p:nvSpPr>
        <p:spPr>
          <a:xfrm flipH="1">
            <a:off x="2214720" y="4143240"/>
            <a:ext cx="142560" cy="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84" name="Straight Connector 63"/>
          <p:cNvSpPr/>
          <p:nvPr/>
        </p:nvSpPr>
        <p:spPr>
          <a:xfrm flipH="1">
            <a:off x="8643960" y="2928960"/>
            <a:ext cx="1440" cy="292896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85" name="Straight Connector 69"/>
          <p:cNvSpPr/>
          <p:nvPr/>
        </p:nvSpPr>
        <p:spPr>
          <a:xfrm flipH="1" flipV="1">
            <a:off x="2000160" y="1855800"/>
            <a:ext cx="4572000" cy="144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86" name="Straight Connector 76"/>
          <p:cNvSpPr/>
          <p:nvPr/>
        </p:nvSpPr>
        <p:spPr>
          <a:xfrm flipH="1" flipV="1">
            <a:off x="8500680" y="3499920"/>
            <a:ext cx="142920" cy="324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87" name="Straight Connector 77"/>
          <p:cNvSpPr/>
          <p:nvPr/>
        </p:nvSpPr>
        <p:spPr>
          <a:xfrm flipH="1" flipV="1">
            <a:off x="8500680" y="4068360"/>
            <a:ext cx="142920" cy="324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88" name="Straight Connector 78"/>
          <p:cNvSpPr/>
          <p:nvPr/>
        </p:nvSpPr>
        <p:spPr>
          <a:xfrm flipH="1" flipV="1">
            <a:off x="8500680" y="4640400"/>
            <a:ext cx="142920" cy="288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89" name="Straight Connector 79"/>
          <p:cNvSpPr/>
          <p:nvPr/>
        </p:nvSpPr>
        <p:spPr>
          <a:xfrm flipH="1" flipV="1">
            <a:off x="8500680" y="5211360"/>
            <a:ext cx="142920" cy="324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90" name="Straight Connector 80"/>
          <p:cNvSpPr/>
          <p:nvPr/>
        </p:nvSpPr>
        <p:spPr>
          <a:xfrm flipH="1" flipV="1">
            <a:off x="8500680" y="5854320"/>
            <a:ext cx="142920" cy="324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91" name="Straight Connector 81"/>
          <p:cNvSpPr/>
          <p:nvPr/>
        </p:nvSpPr>
        <p:spPr>
          <a:xfrm>
            <a:off x="4786200" y="3786120"/>
            <a:ext cx="0" cy="142884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92" name="Straight Connector 82"/>
          <p:cNvSpPr/>
          <p:nvPr/>
        </p:nvSpPr>
        <p:spPr>
          <a:xfrm flipH="1">
            <a:off x="4714920" y="4214880"/>
            <a:ext cx="71280" cy="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93" name="Straight Connector 85"/>
          <p:cNvSpPr/>
          <p:nvPr/>
        </p:nvSpPr>
        <p:spPr>
          <a:xfrm flipH="1">
            <a:off x="4714920" y="4714920"/>
            <a:ext cx="71280" cy="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94" name="Straight Connector 87"/>
          <p:cNvSpPr/>
          <p:nvPr/>
        </p:nvSpPr>
        <p:spPr>
          <a:xfrm flipH="1">
            <a:off x="4714920" y="5214960"/>
            <a:ext cx="71280" cy="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95" name="Straight Connector 93"/>
          <p:cNvSpPr/>
          <p:nvPr/>
        </p:nvSpPr>
        <p:spPr>
          <a:xfrm flipH="1">
            <a:off x="6064200" y="2286000"/>
            <a:ext cx="7920" cy="100008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Box 37"/>
          <p:cNvSpPr/>
          <p:nvPr/>
        </p:nvSpPr>
        <p:spPr>
          <a:xfrm>
            <a:off x="531720" y="914400"/>
            <a:ext cx="8282160" cy="554976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91080" tIns="270000" bIns="90000" anchor="t">
            <a:no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3160" y="293400"/>
            <a:ext cx="8281800" cy="62532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rIns="9396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218"/>
                </a:solidFill>
                <a:latin typeface="Arial"/>
              </a:rPr>
              <a:t>EBA Members’ Organisation 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pic>
        <p:nvPicPr>
          <p:cNvPr id="198" name="Group 18" descr=""/>
          <p:cNvPicPr/>
          <p:nvPr/>
        </p:nvPicPr>
        <p:blipFill>
          <a:blip r:embed="rId1"/>
          <a:stretch/>
        </p:blipFill>
        <p:spPr>
          <a:xfrm>
            <a:off x="3382920" y="1060560"/>
            <a:ext cx="2451240" cy="744480"/>
          </a:xfrm>
          <a:prstGeom prst="rect">
            <a:avLst/>
          </a:prstGeom>
          <a:ln w="0">
            <a:noFill/>
          </a:ln>
        </p:spPr>
      </p:pic>
      <p:pic>
        <p:nvPicPr>
          <p:cNvPr id="199" name="Group 30" descr=""/>
          <p:cNvPicPr/>
          <p:nvPr/>
        </p:nvPicPr>
        <p:blipFill>
          <a:blip r:embed="rId2"/>
          <a:stretch/>
        </p:blipFill>
        <p:spPr>
          <a:xfrm>
            <a:off x="1957320" y="4827600"/>
            <a:ext cx="1712880" cy="1139760"/>
          </a:xfrm>
          <a:prstGeom prst="rect">
            <a:avLst/>
          </a:prstGeom>
          <a:ln w="0">
            <a:noFill/>
          </a:ln>
        </p:spPr>
      </p:pic>
      <p:pic>
        <p:nvPicPr>
          <p:cNvPr id="200" name="Group 18" descr=""/>
          <p:cNvPicPr/>
          <p:nvPr/>
        </p:nvPicPr>
        <p:blipFill>
          <a:blip r:embed="rId3"/>
          <a:stretch/>
        </p:blipFill>
        <p:spPr>
          <a:xfrm>
            <a:off x="1925640" y="2060640"/>
            <a:ext cx="2451240" cy="749160"/>
          </a:xfrm>
          <a:prstGeom prst="rect">
            <a:avLst/>
          </a:prstGeom>
          <a:ln w="0">
            <a:noFill/>
          </a:ln>
        </p:spPr>
      </p:pic>
      <p:pic>
        <p:nvPicPr>
          <p:cNvPr id="201" name="Group 18" descr=""/>
          <p:cNvPicPr/>
          <p:nvPr/>
        </p:nvPicPr>
        <p:blipFill>
          <a:blip r:embed="rId4"/>
          <a:stretch/>
        </p:blipFill>
        <p:spPr>
          <a:xfrm>
            <a:off x="1023840" y="3486240"/>
            <a:ext cx="1712880" cy="1141200"/>
          </a:xfrm>
          <a:prstGeom prst="rect">
            <a:avLst/>
          </a:prstGeom>
          <a:ln w="0">
            <a:noFill/>
          </a:ln>
        </p:spPr>
      </p:pic>
      <p:pic>
        <p:nvPicPr>
          <p:cNvPr id="202" name="Group 18" descr=""/>
          <p:cNvPicPr/>
          <p:nvPr/>
        </p:nvPicPr>
        <p:blipFill>
          <a:blip r:embed="rId5"/>
          <a:stretch/>
        </p:blipFill>
        <p:spPr>
          <a:xfrm>
            <a:off x="4767120" y="4846680"/>
            <a:ext cx="1719360" cy="1139760"/>
          </a:xfrm>
          <a:prstGeom prst="rect">
            <a:avLst/>
          </a:prstGeom>
          <a:ln w="0">
            <a:noFill/>
          </a:ln>
        </p:spPr>
      </p:pic>
      <p:pic>
        <p:nvPicPr>
          <p:cNvPr id="203" name="Group 18" descr=""/>
          <p:cNvPicPr/>
          <p:nvPr/>
        </p:nvPicPr>
        <p:blipFill>
          <a:blip r:embed="rId6"/>
          <a:stretch/>
        </p:blipFill>
        <p:spPr>
          <a:xfrm>
            <a:off x="6400800" y="3486240"/>
            <a:ext cx="1719360" cy="1141200"/>
          </a:xfrm>
          <a:prstGeom prst="rect">
            <a:avLst/>
          </a:prstGeom>
          <a:ln w="0">
            <a:noFill/>
          </a:ln>
        </p:spPr>
      </p:pic>
      <p:pic>
        <p:nvPicPr>
          <p:cNvPr id="204" name="Group 75" descr=""/>
          <p:cNvPicPr/>
          <p:nvPr/>
        </p:nvPicPr>
        <p:blipFill>
          <a:blip r:embed="rId7"/>
          <a:stretch/>
        </p:blipFill>
        <p:spPr>
          <a:xfrm>
            <a:off x="4900680" y="1878120"/>
            <a:ext cx="1622520" cy="536400"/>
          </a:xfrm>
          <a:prstGeom prst="rect">
            <a:avLst/>
          </a:prstGeom>
          <a:ln w="0">
            <a:noFill/>
          </a:ln>
        </p:spPr>
      </p:pic>
      <p:pic>
        <p:nvPicPr>
          <p:cNvPr id="205" name="Group 72" descr=""/>
          <p:cNvPicPr/>
          <p:nvPr/>
        </p:nvPicPr>
        <p:blipFill>
          <a:blip r:embed="rId8"/>
          <a:stretch/>
        </p:blipFill>
        <p:spPr>
          <a:xfrm>
            <a:off x="4919760" y="2401920"/>
            <a:ext cx="1584360" cy="542880"/>
          </a:xfrm>
          <a:prstGeom prst="rect">
            <a:avLst/>
          </a:prstGeom>
          <a:ln w="0">
            <a:noFill/>
          </a:ln>
        </p:spPr>
      </p:pic>
      <p:sp>
        <p:nvSpPr>
          <p:cNvPr id="206" name="Right Arrow 57"/>
          <p:cNvSpPr/>
          <p:nvPr/>
        </p:nvSpPr>
        <p:spPr>
          <a:xfrm>
            <a:off x="934920" y="1636560"/>
            <a:ext cx="628920" cy="10004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bacc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90000" tIns="270000" bIns="90000" anchor="t">
            <a:noAutofit/>
          </a:bodyPr>
          <a:p>
            <a:pPr marL="393840" indent="-187560">
              <a:lnSpc>
                <a:spcPct val="100000"/>
              </a:lnSpc>
              <a:spcBef>
                <a:spcPts val="1800"/>
              </a:spcBef>
              <a:spcAft>
                <a:spcPts val="601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07" name="Straight Connector 62"/>
          <p:cNvSpPr/>
          <p:nvPr/>
        </p:nvSpPr>
        <p:spPr>
          <a:xfrm>
            <a:off x="4614840" y="1743120"/>
            <a:ext cx="0" cy="1382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08" name="Straight Connector 66"/>
          <p:cNvSpPr/>
          <p:nvPr/>
        </p:nvSpPr>
        <p:spPr>
          <a:xfrm>
            <a:off x="1817640" y="3114720"/>
            <a:ext cx="5423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09" name="Straight Connector 70"/>
          <p:cNvSpPr/>
          <p:nvPr/>
        </p:nvSpPr>
        <p:spPr>
          <a:xfrm>
            <a:off x="1817640" y="3125880"/>
            <a:ext cx="0" cy="38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10" name="Straight Connector 78"/>
          <p:cNvSpPr/>
          <p:nvPr/>
        </p:nvSpPr>
        <p:spPr>
          <a:xfrm>
            <a:off x="3098880" y="3157560"/>
            <a:ext cx="0" cy="171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11" name="Straight Connector 81"/>
          <p:cNvSpPr/>
          <p:nvPr/>
        </p:nvSpPr>
        <p:spPr>
          <a:xfrm flipH="1">
            <a:off x="5613480" y="3121200"/>
            <a:ext cx="1440" cy="173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12" name="Straight Connector 82"/>
          <p:cNvSpPr/>
          <p:nvPr/>
        </p:nvSpPr>
        <p:spPr>
          <a:xfrm>
            <a:off x="7243920" y="3129120"/>
            <a:ext cx="0" cy="38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13" name="Straight Connector 87"/>
          <p:cNvSpPr/>
          <p:nvPr/>
        </p:nvSpPr>
        <p:spPr>
          <a:xfrm>
            <a:off x="4324320" y="2371680"/>
            <a:ext cx="300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14" name="Straight Connector 89"/>
          <p:cNvSpPr/>
          <p:nvPr/>
        </p:nvSpPr>
        <p:spPr>
          <a:xfrm>
            <a:off x="4635360" y="2671920"/>
            <a:ext cx="301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15" name="Straight Connector 90"/>
          <p:cNvSpPr/>
          <p:nvPr/>
        </p:nvSpPr>
        <p:spPr>
          <a:xfrm>
            <a:off x="4638600" y="2112840"/>
            <a:ext cx="301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cxnSp>
        <p:nvCxnSpPr>
          <p:cNvPr id="216" name="Straight Arrow Connector 92"/>
          <p:cNvCxnSpPr/>
          <p:nvPr/>
        </p:nvCxnSpPr>
        <p:spPr>
          <a:xfrm>
            <a:off x="8048520" y="1946160"/>
            <a:ext cx="915120" cy="915120"/>
          </a:xfrm>
          <a:prstGeom prst="straightConnector1">
            <a:avLst/>
          </a:prstGeom>
          <a:ln w="0">
            <a:noFill/>
          </a:ln>
        </p:spPr>
      </p:cxnSp>
      <p:sp>
        <p:nvSpPr>
          <p:cNvPr id="217" name="Straight Connector 42"/>
          <p:cNvSpPr/>
          <p:nvPr/>
        </p:nvSpPr>
        <p:spPr>
          <a:xfrm>
            <a:off x="4411800" y="3132000"/>
            <a:ext cx="0" cy="42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pic>
        <p:nvPicPr>
          <p:cNvPr id="218" name="Group 30" descr=""/>
          <p:cNvPicPr/>
          <p:nvPr/>
        </p:nvPicPr>
        <p:blipFill>
          <a:blip r:embed="rId9"/>
          <a:stretch/>
        </p:blipFill>
        <p:spPr>
          <a:xfrm>
            <a:off x="3449520" y="3548160"/>
            <a:ext cx="1719360" cy="1146240"/>
          </a:xfrm>
          <a:prstGeom prst="rect">
            <a:avLst/>
          </a:prstGeom>
          <a:ln w="0">
            <a:noFill/>
          </a:ln>
        </p:spPr>
      </p:pic>
      <p:pic>
        <p:nvPicPr>
          <p:cNvPr id="219" name="Group 75" descr=""/>
          <p:cNvPicPr/>
          <p:nvPr/>
        </p:nvPicPr>
        <p:blipFill>
          <a:blip r:embed="rId10"/>
          <a:stretch/>
        </p:blipFill>
        <p:spPr>
          <a:xfrm>
            <a:off x="6583320" y="2200320"/>
            <a:ext cx="1622520" cy="512640"/>
          </a:xfrm>
          <a:prstGeom prst="rect">
            <a:avLst/>
          </a:prstGeom>
          <a:ln w="0">
            <a:noFill/>
          </a:ln>
        </p:spPr>
      </p:pic>
      <p:sp>
        <p:nvSpPr>
          <p:cNvPr id="220" name="Straight Connector 52"/>
          <p:cNvSpPr/>
          <p:nvPr/>
        </p:nvSpPr>
        <p:spPr>
          <a:xfrm>
            <a:off x="4622760" y="2401920"/>
            <a:ext cx="2008080" cy="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Outline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EU supervisory landsca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Regulation and the single ruleb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versight of cross border banks and assessment of ri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6T18:10:20Z</dcterms:created>
  <dc:creator>Christian Moor</dc:creator>
  <dc:description/>
  <dc:language>en-US</dc:language>
  <cp:lastModifiedBy>cmoor</cp:lastModifiedBy>
  <dcterms:modified xsi:type="dcterms:W3CDTF">2011-12-02T16:58:14Z</dcterms:modified>
  <cp:revision>116</cp:revision>
  <dc:subject/>
  <dc:title>The European Banking Authority</dc:title>
</cp:coreProperties>
</file>