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119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28278-FFC0-47C1-8388-1D2561D42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27CBF-269F-4D2B-9666-DC6526403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1FECB-4FA0-448D-90D9-3EF120C76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0189A-47BF-4468-85FC-73BDD25B8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31AE8-2974-4572-87B3-B7CE8B18D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2CB32-DA73-40CB-87D9-926CCA2D2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5A34C-890D-46D0-91FC-23BB2AC76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05B04-3EA4-4BC3-BFD5-726105D0F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D3750-9B69-4753-943E-4F217DF33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9B5FD-043E-404A-BF99-C6955D5A7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AE519-AAFC-4CAF-BBB3-4F16A251B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0BD38-B20E-4E79-93BF-F14577981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BC6B8-0CBE-4F9A-AFF5-E9FD38934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5D26F-3AA4-49DA-B32D-0846353ED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2C49A-1669-4E43-B001-7FE90C7CE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01759-EC1A-4690-84E8-8A7263091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09B5B-C030-44D2-8FE3-0E352D97C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92E43-92BC-4CEB-8556-9332B1AF4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80892-99A2-4565-A92D-B79B0E151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A82AB-0C00-4552-ABF1-ED7CA9F0C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532E0-53BE-4D7D-8790-09E8DFF31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9EE32-2AFB-45A3-B89C-E39D8CB94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79E55-6CCC-4FA8-AB6F-73980B229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D7E27-815F-436D-A5D7-6D9CB51E8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46c0a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Click to edit the outline text format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lvl="1" marL="727920" indent="-280080">
              <a:spcBef>
                <a:spcPts val="901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Second Outline Level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lvl="2" marL="1119960" indent="-223920">
              <a:spcBef>
                <a:spcPts val="9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Third Outline Level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lvl="3" marL="1568160" indent="-223920">
              <a:spcBef>
                <a:spcPts val="901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Fourth Outline Level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lvl="4" marL="2016000" indent="-223920">
              <a:spcBef>
                <a:spcPts val="901"/>
              </a:spcBef>
              <a:buClr>
                <a:srgbClr val="1f49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Fifth Outline Level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lvl="5" marL="2016000" indent="-2239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Sixth Outline Level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lvl="6" marL="2016000" indent="-2239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Seventh Outline Level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1C444-B453-47B5-8E10-721776C9342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0D4DA-4250-4A35-B54B-87E5EEA159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7" descr="EBF-FINAL_noWhiteBorder.GIF"/>
          <p:cNvPicPr/>
          <p:nvPr/>
        </p:nvPicPr>
        <p:blipFill>
          <a:blip r:embed="rId2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pic>
        <p:nvPicPr>
          <p:cNvPr id="7" name="Picture 20" descr="pwptline.jpg"/>
          <p:cNvPicPr/>
          <p:nvPr/>
        </p:nvPicPr>
        <p:blipFill>
          <a:blip r:embed="rId3"/>
          <a:srcRect l="771" t="760" r="1119" b="96620"/>
          <a:stretch/>
        </p:blipFill>
        <p:spPr>
          <a:xfrm>
            <a:off x="0" y="1143000"/>
            <a:ext cx="9144000" cy="152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6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7" descr="EBF-FINAL_noWhiteBorder.GIF"/>
          <p:cNvPicPr/>
          <p:nvPr/>
        </p:nvPicPr>
        <p:blipFill>
          <a:blip r:embed="rId2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0" descr="pwptline.jpg"/>
          <p:cNvPicPr/>
          <p:nvPr/>
        </p:nvPicPr>
        <p:blipFill>
          <a:blip r:embed="rId3"/>
          <a:srcRect l="771" t="760" r="1119" b="96620"/>
          <a:stretch/>
        </p:blipFill>
        <p:spPr>
          <a:xfrm>
            <a:off x="0" y="1143000"/>
            <a:ext cx="9144000" cy="15228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0" descr="EBF-FINAL_noWhiteBorder.GIF"/>
          <p:cNvPicPr/>
          <p:nvPr/>
        </p:nvPicPr>
        <p:blipFill>
          <a:blip r:embed="rId4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46c0a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Click to edit the outline text format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lvl="1" marL="727920" indent="-280080">
              <a:spcBef>
                <a:spcPts val="901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Second Outline Level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lvl="2" marL="1119960" indent="-223920">
              <a:spcBef>
                <a:spcPts val="9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Third Outline Level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lvl="3" marL="1568160" indent="-223920">
              <a:spcBef>
                <a:spcPts val="901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Fourth Outline Level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lvl="4" marL="2016000" indent="-223920">
              <a:spcBef>
                <a:spcPts val="901"/>
              </a:spcBef>
              <a:buClr>
                <a:srgbClr val="1f49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Fifth Outline Level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lvl="5" marL="2016000" indent="-2239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Sixth Outline Level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lvl="6" marL="2016000" indent="-2239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Seventh Outline Level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B8C3F-3420-47AB-ACAC-8CA87379C2A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BB33B-E131-4C8B-B8B2-C27EE00668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250560" y="1483920"/>
            <a:ext cx="85690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f497d"/>
                </a:solidFill>
                <a:latin typeface="Calibri"/>
              </a:rPr>
              <a:t>PROPOSED FTT DIRECTIVE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f497d"/>
                </a:solidFill>
                <a:latin typeface="Calibri"/>
              </a:rPr>
              <a:t> </a:t>
            </a:r>
            <a:r>
              <a:rPr b="1" lang="en-US" sz="3600" spc="-1" strike="noStrike">
                <a:solidFill>
                  <a:srgbClr val="1f497d"/>
                </a:solidFill>
                <a:latin typeface="Calibri"/>
              </a:rPr>
              <a:t>COM(2011) 594 of 28.09.2011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1" name="TextBox 9"/>
          <p:cNvSpPr/>
          <p:nvPr/>
        </p:nvSpPr>
        <p:spPr>
          <a:xfrm>
            <a:off x="7890120" y="260280"/>
            <a:ext cx="103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D2193A-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72583-2767-42E5-AC4C-D9069590B2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6c0a"/>
                </a:solidFill>
                <a:latin typeface="Calibri"/>
              </a:rPr>
              <a:t>IMPACT EXPECTED BY THE COMMISSION</a:t>
            </a: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24000" y="1483920"/>
            <a:ext cx="864072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Revenue estimation: ≈ €55 bn annually, depending on market reactions and effectiveness of tax collection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Market reaction / functioning: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The turnover on securities markets is assumed to decline by up to 20%, namely with respect to the segment of HFT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The turnover on derivatives markets is expected to decline by up to 90% in some market segments, especially in the market segment of HFT and highly-leveraged products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Impact on financial centres: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Important decline in the (inflated) turnover in some market segments (namely HFT and highly-leveraged products)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Need for adjusting business models to the new tax environment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Small impact on employment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D4712-87EC-4D23-94FD-CA27FE0ABD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6c0a"/>
                </a:solidFill>
                <a:latin typeface="Calibri"/>
              </a:rPr>
              <a:t>THE COMMISSION’S MOTIVATIONS</a:t>
            </a: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0920" y="1557000"/>
            <a:ext cx="864216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Ensure that the financial sector makes a fair contribution at a time of fiscal consolidation in the Member States, assuming that the financial sector is currently under-taxed vis-à-vis other sectors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Strengthen the EU Single Market by setting up a harmonized framework to tax financial transactions: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To help reduce competitive distortions;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To deter from excessive risk-taking activities;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To complement regulatory measures aimed at prevent future crises; and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To promote common rules for the introduction of a FTT at global level.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8F34E-040B-4EDD-A46E-E242ABDD2A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6c0a"/>
                </a:solidFill>
                <a:latin typeface="Calibri"/>
              </a:rPr>
              <a:t>RESIDENCE PRINCIPLE </a:t>
            </a: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287280" y="1341000"/>
            <a:ext cx="86774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At least one of the parties to transaction needs to be “established in a MS” AND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A “financial institution” “established in MS” concerned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is party to the transaction acting either for its own account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or for the account of another person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or is acting in the name of a party to the transaction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As a rule “establishment of financial institution” determines which MS has to tax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A financial institution is not considered to be established in a MS in case it proves that there is no link between the economic substance of the transaction and the territory of any MS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3442C-018C-4718-B3EB-FA7CEDBB17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5564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e46c0a"/>
                </a:solidFill>
                <a:latin typeface="Calibri"/>
              </a:rPr>
              <a:t>COLLECTION &amp; ADMINISTRATION </a:t>
            </a:r>
            <a:br>
              <a:rPr sz="3200"/>
            </a:br>
            <a:r>
              <a:rPr b="1" lang="en-GB" sz="3200" spc="-1" strike="noStrike">
                <a:solidFill>
                  <a:srgbClr val="e46c0a"/>
                </a:solidFill>
                <a:latin typeface="Calibri"/>
              </a:rPr>
              <a:t>OF THE TAX</a:t>
            </a:r>
            <a:endParaRPr b="0" lang="en-US" sz="32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 </a:t>
            </a: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Focus on Financial Institutions, broadly defined 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Tax chargeable event 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      </a:t>
            </a: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= Execution of a financial transaction involving an EU Financial Institution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Liability of Financial Institutions for the payment of the FTT to tax authorities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at the moment of the tax chargeable event in case of electronic financial transactions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within three working days from chargeability in all other cases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Joint liability of each party to the transaction 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F08F9-96DF-4D75-821D-E1391F85A4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6c0a"/>
                </a:solidFill>
                <a:latin typeface="Calibri"/>
              </a:rPr>
              <a:t>SCOPE OF THE TAX </a:t>
            </a: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Broad based approach in terms of: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Instruments ; and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Transactions (both organised markets and OTC)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Reference to relevant regulatory EU framework used as much as possible for definition of financial instruments and “Financial transactions”: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Purchase and sale of transferable securities, money-market instruments, units and shares in collective investment undertakings, structured products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Securities lending and borrowing and repos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Conclusion/Modification and trading of derivatives agreements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Transfers of financial instruments between group entities (other than purchase and sale)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A derivatives agreement resulting in a sale or purchase of a financial instrument (physical settlement) triggers additional taxable transaction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C42A6-8EF2-4780-B337-8245020F38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4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6c0a"/>
                </a:solidFill>
                <a:latin typeface="Calibri"/>
              </a:rPr>
              <a:t>OUT OF SCOPE</a:t>
            </a: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23640" y="1484280"/>
            <a:ext cx="8569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51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Ring-fencing SMEs and Private Households: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Enterprise borrowing/lending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Mortgage loans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Consumer credits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Insurance contracts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Payment transactions, etc.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Ring-fencing large and international business: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1f497d"/>
                </a:solidFill>
                <a:latin typeface="Calibri"/>
              </a:rPr>
              <a:t>S</a:t>
            </a: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pot currency transactions (as opposed to currency derivatives)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Primary market transactions for raising capital through the issuing of shares and bonds (except for shares and units of collective investment undertakings)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Ring-fencing public borrowing: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Issuing of government bonds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Ring-fencing monetary policy and post-trading: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Transactions with ECB, Central Banks of Member States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EFSF (not considered to be a financial institution)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Central Counter Parties (idem)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D115E-9853-40E1-B863-28A7E99AEB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6c0a"/>
                </a:solidFill>
                <a:latin typeface="Calibri"/>
              </a:rPr>
              <a:t>TAXABLE BASE</a:t>
            </a: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23640" y="1599840"/>
            <a:ext cx="856908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1f497d"/>
                </a:solidFill>
                <a:latin typeface="Calibri"/>
              </a:rPr>
              <a:t>Financial transactions other than those related to derivatives agreements</a:t>
            </a:r>
            <a:endParaRPr b="0" lang="en-US" sz="23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1f497d"/>
                </a:solidFill>
                <a:latin typeface="Calibri"/>
              </a:rPr>
              <a:t>Amount paid or owed for the transfer</a:t>
            </a:r>
            <a:endParaRPr b="0" lang="en-US" sz="23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1f497d"/>
                </a:solidFill>
                <a:latin typeface="Calibri"/>
              </a:rPr>
              <a:t>Market price (= at arm’s length price) in case :</a:t>
            </a:r>
            <a:endParaRPr b="0" lang="en-US" sz="23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1f497d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1f497d"/>
                </a:solidFill>
                <a:latin typeface="Calibri"/>
              </a:rPr>
              <a:t>Amount paid for transfer is lower than market price</a:t>
            </a:r>
            <a:endParaRPr b="0" lang="en-US" sz="23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1f497d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1f497d"/>
                </a:solidFill>
                <a:latin typeface="Calibri"/>
              </a:rPr>
              <a:t>Or transfers of financial instruments between entities of a group in case they do not constitute a « purchase or a sale »</a:t>
            </a:r>
            <a:endParaRPr b="0" lang="en-US" sz="23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1f497d"/>
                </a:solidFill>
                <a:latin typeface="Calibri"/>
              </a:rPr>
              <a:t>Derivatives agreements</a:t>
            </a:r>
            <a:endParaRPr b="0" lang="en-US" sz="23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1f497d"/>
                </a:solidFill>
                <a:latin typeface="Calibri"/>
              </a:rPr>
              <a:t>Notional amount of the derivatives agreement (underlying notional or face amount that is used to calculate payments made on a given derivatives agreement)</a:t>
            </a:r>
            <a:endParaRPr b="0" lang="en-US" sz="23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1f497d"/>
                </a:solidFill>
                <a:latin typeface="Calibri"/>
              </a:rPr>
              <a:t>Common provision on exchange rate to be applied</a:t>
            </a:r>
            <a:endParaRPr b="0" lang="en-US" sz="23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1f497d"/>
                </a:solidFill>
                <a:latin typeface="Calibri"/>
              </a:rPr>
              <a:t>Taxing gross transactions before netting and settlement</a:t>
            </a:r>
            <a:endParaRPr b="0" lang="en-US" sz="23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C24AD-2D06-4FDD-A1D7-EE8AFD2E8C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6c0a"/>
                </a:solidFill>
                <a:latin typeface="Calibri"/>
              </a:rPr>
              <a:t>RATES</a:t>
            </a: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250920" y="1557000"/>
            <a:ext cx="86421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</a:rPr>
              <a:t>Financial instruments other than derivatives and derivatives are different in nature/economic value/taxable amount =&gt; rates to be differentiated between two categories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</a:rPr>
              <a:t>Level of rates defined in the Proposal: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</a:rPr>
              <a:t>would guarantee a part of revenue for the EU budget and a part for the Member States’ budgets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</a:rPr>
              <a:t>need to be sufficiently high for harmonisation objective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</a:rPr>
              <a:t>need to be low enough to avoid excessive market reactions and relocation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</a:rPr>
              <a:t>Tax rates: 0,01% for derivatives and 0,1% for other transactions (for each taxable party to the transaction)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</a:rPr>
              <a:t>Character of the rate: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</a:rPr>
              <a:t>Minimum rates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</a:rPr>
              <a:t>One single rate (for each of the two product groups)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387B9-59B1-4811-AAFF-DB2252B418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6c0a"/>
                </a:solidFill>
                <a:latin typeface="Calibri"/>
              </a:rPr>
              <a:t>IMPLEMENTATION CALENDAR</a:t>
            </a: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250560" y="1483920"/>
            <a:ext cx="85690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f497d"/>
                </a:solidFill>
                <a:latin typeface="Calibri"/>
              </a:rPr>
              <a:t>Proposed implementation as of 1 January 2014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f497d"/>
                </a:solidFill>
                <a:latin typeface="Calibri"/>
              </a:rPr>
              <a:t>Review clause: after five years, first time by 31/12/ 2016, report on application of FTT, possibly with a modification proposal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3FD8C-A83B-4FC7-AA5D-3681A60200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5T16:25:09Z</dcterms:created>
  <dc:creator>Mireille Thiery</dc:creator>
  <dc:description/>
  <dc:language>en-US</dc:language>
  <cp:lastModifiedBy>Mireille Thiery</cp:lastModifiedBy>
  <dcterms:modified xsi:type="dcterms:W3CDTF">2011-12-08T09:57:40Z</dcterms:modified>
  <cp:revision>44</cp:revision>
  <dc:subject/>
  <dc:title>Slide 1</dc:title>
</cp:coreProperties>
</file>