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0702A-4E34-4EA4-8A33-CBBABBC7096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3F4D7-B8B7-4915-A82B-06C306A89A6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BDB9C-5F1C-464F-A83E-05671DF3FE2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D117E-28C9-4696-8B34-0D302C14EC2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F0A82-FA96-4DD7-89F5-0028D815ED2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370AF-3DF9-4CA7-9EB9-C41C5CAE0F1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F6172-D557-4871-9896-2AB3BCCC497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2E5BB-E39D-4310-9256-2EC338F3AD4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3606D-7F43-40B0-871C-DB976DECAEE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4E98D-7366-4B57-A062-3799EE68BF0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80571-F789-4753-A7C4-DF4D4963F14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D8CE9-3551-4025-9412-B7D1C2824C6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B595-8911-4BA5-9C68-0659E0130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A566-C324-47C3-B7D0-D81AED8F3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19E1-6844-4782-A0A8-018D19F5D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FC74-D746-4304-ACC1-2E1FFCE11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653E-CE8A-457B-A8C9-1F0EDC291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9DD6-155A-4F2C-976D-1262197E7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3111-4110-4366-B738-0F0D7A2BF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A616-7975-41D9-813E-1E0BB7681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BEF1-8BE6-45A1-A769-E7200FB7B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7C8B-FA68-4C8A-810F-2C37BE9EF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2626-3785-4AE5-93AF-996B7602F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C917-1A2A-4942-A715-32B907AF8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0890E-7B29-4B3D-988E-44B13749AE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0"/>
            <a:ext cx="9144000" cy="25718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4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5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Group 18"/>
          <p:cNvGrpSpPr/>
          <p:nvPr/>
        </p:nvGrpSpPr>
        <p:grpSpPr>
          <a:xfrm>
            <a:off x="0" y="2571840"/>
            <a:ext cx="9144000" cy="269640"/>
            <a:chOff x="0" y="2571840"/>
            <a:chExt cx="9144000" cy="269640"/>
          </a:xfrm>
        </p:grpSpPr>
        <p:sp>
          <p:nvSpPr>
            <p:cNvPr id="55" name="Rectangle 19"/>
            <p:cNvSpPr/>
            <p:nvPr/>
          </p:nvSpPr>
          <p:spPr>
            <a:xfrm>
              <a:off x="0" y="2571840"/>
              <a:ext cx="1314360" cy="26964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1304640" y="2571840"/>
              <a:ext cx="1314360" cy="26964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21"/>
            <p:cNvSpPr/>
            <p:nvPr/>
          </p:nvSpPr>
          <p:spPr>
            <a:xfrm>
              <a:off x="2609640" y="2571840"/>
              <a:ext cx="1314360" cy="26964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22"/>
            <p:cNvSpPr/>
            <p:nvPr/>
          </p:nvSpPr>
          <p:spPr>
            <a:xfrm>
              <a:off x="3903480" y="2571840"/>
              <a:ext cx="1315800" cy="26964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3"/>
            <p:cNvSpPr/>
            <p:nvPr/>
          </p:nvSpPr>
          <p:spPr>
            <a:xfrm>
              <a:off x="5208480" y="2571840"/>
              <a:ext cx="1315800" cy="26964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4"/>
            <p:cNvSpPr/>
            <p:nvPr/>
          </p:nvSpPr>
          <p:spPr>
            <a:xfrm>
              <a:off x="6524640" y="2571840"/>
              <a:ext cx="1314360" cy="26964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25"/>
            <p:cNvSpPr/>
            <p:nvPr/>
          </p:nvSpPr>
          <p:spPr>
            <a:xfrm>
              <a:off x="7829640" y="2571840"/>
              <a:ext cx="1314360" cy="26964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0040" y="5000760"/>
            <a:ext cx="785808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Guido RAVOET, EBF Secretary Gene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f497d"/>
                </a:solidFill>
                <a:latin typeface="Calibri"/>
              </a:rPr>
              <a:t>30th EBF Associates’ Mee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f497d"/>
                </a:solidFill>
                <a:latin typeface="Calibri"/>
              </a:rPr>
              <a:t>Baku, Azerbaijan - 28 May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0" y="2714760"/>
            <a:ext cx="914400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Calibri"/>
              </a:rPr>
              <a:t>Financial Modernisation Project in the EBF Associate countries and their alignment with the EU </a:t>
            </a:r>
            <a:r>
              <a:rPr b="1" i="1" lang="en-GB" sz="3600" spc="-1" strike="noStrike">
                <a:solidFill>
                  <a:srgbClr val="1f497d"/>
                </a:solidFill>
                <a:latin typeface="Calibri"/>
              </a:rPr>
              <a:t>Acqu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Associates’ participation require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8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9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Rectangle 16"/>
          <p:cNvSpPr/>
          <p:nvPr/>
        </p:nvSpPr>
        <p:spPr>
          <a:xfrm>
            <a:off x="214200" y="1571760"/>
            <a:ext cx="8572680" cy="43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Develop a national agenda of implementation on the EU financial services </a:t>
            </a:r>
            <a:r>
              <a:rPr b="0" i="1" lang="en-GB" sz="2000" spc="-1" strike="noStrike">
                <a:solidFill>
                  <a:srgbClr val="1f497d"/>
                </a:solidFill>
                <a:latin typeface="Calibri"/>
              </a:rPr>
              <a:t>acquis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, based on cooperation between your NA and respective authoriti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rrelate your agendas with those of other NBAs of the reg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Assess the extent of your participation in the projec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Acquire full backing of your respective Board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Follow the procedure for the EU Grant applica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ntribute necessary documentation for the specific applica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Provide required co-funding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Ensure continuous commitment to the project (max duration 24 month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ply with the EU rules applicable to the co-funded pro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920" y="1428840"/>
            <a:ext cx="8858160" cy="43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omments? </a:t>
            </a:r>
            <a:br>
              <a:rPr sz="3200"/>
            </a:b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Questions? </a:t>
            </a:r>
            <a:br>
              <a:rPr sz="3200"/>
            </a:b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Expressions of interes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02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03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07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WHAT WE STAND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46c0a"/>
                </a:solidFill>
                <a:latin typeface="Monotype Corsiva"/>
              </a:rPr>
              <a:t>50 years </a:t>
            </a: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of sound banking representation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We aim to achieve an integrated European financial services mark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67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68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72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Key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8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8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7"/>
          <p:cNvSpPr/>
          <p:nvPr/>
        </p:nvSpPr>
        <p:spPr>
          <a:xfrm>
            <a:off x="142920" y="1928880"/>
            <a:ext cx="8858160" cy="39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High demand for EU co-fund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Focal points of the EU Cal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Quality of participatio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Minimum threshold number of Project Partner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Strict co-funding requirement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EBF commitmen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Your intere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EU funds are in high dem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9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9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0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17"/>
          <p:cNvSpPr/>
          <p:nvPr/>
        </p:nvSpPr>
        <p:spPr>
          <a:xfrm>
            <a:off x="142920" y="1932120"/>
            <a:ext cx="88581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Approx. 200 project applicants from all sectors in 2010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Award will be granted to a max of 15 project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Around 150 applications would not pass the Concept Note stage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importance of a top quality, easily readable and highly relevant project proposal cannot be underst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Focal points of the EU Ca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1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1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1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Rectangle 19"/>
          <p:cNvSpPr/>
          <p:nvPr/>
        </p:nvSpPr>
        <p:spPr>
          <a:xfrm>
            <a:off x="142920" y="1870200"/>
            <a:ext cx="88581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ncreased participation of national banking associations (NBAs) in decision-making, policy implementation and monito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ncreased cooperation between NBAs inter se on the one    hand and NBAs and public authorities on the other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ncreased understanding among employers and employees of the relevant EU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acquis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and its impa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Quality of par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2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2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3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Rectangle 16"/>
          <p:cNvSpPr/>
          <p:nvPr/>
        </p:nvSpPr>
        <p:spPr>
          <a:xfrm>
            <a:off x="142920" y="1857240"/>
            <a:ext cx="885816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Regional cooperation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: Project Partners’ agendas must be  correlated, geared towards jointly meeting the Project’s objecti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Strength of the public dialogue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: NBAs must develop their  national agendas for action ahead of the project, to tackle jointly with their respective author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EU </a:t>
            </a:r>
            <a:r>
              <a:rPr b="1" i="1" lang="en-GB" sz="2800" spc="-1" strike="noStrike">
                <a:solidFill>
                  <a:srgbClr val="1f497d"/>
                </a:solidFill>
                <a:latin typeface="Calibri"/>
              </a:rPr>
              <a:t>acquis </a:t>
            </a: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implementation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: should be at the core of the Project’s work program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Number of Project Part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4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4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4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Rectangle 16"/>
          <p:cNvSpPr/>
          <p:nvPr/>
        </p:nvSpPr>
        <p:spPr>
          <a:xfrm>
            <a:off x="142920" y="1928880"/>
            <a:ext cx="88581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n order to ensure minimum regional co-operatio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At least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ree NBAs from the Western Balkans and Turkey must be Project Partn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NBAs from neighbouring regions (e.g., Armenia, Azerbaijan, Moldova, Ukraine, etc.) can participate to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Strict co-funding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5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5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6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Rectangle 1"/>
          <p:cNvSpPr/>
          <p:nvPr/>
        </p:nvSpPr>
        <p:spPr>
          <a:xfrm>
            <a:off x="142920" y="1957320"/>
            <a:ext cx="88581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Each of the Project Consortium Partners should be able to ensure the required co-funding, subject to eligibility criter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Costs of staff assigned to the action may be considered as co-financing in the budget of the action when paid by the Beneficiary or its Partn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The EBF commit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7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7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7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Rectangle 1"/>
          <p:cNvSpPr/>
          <p:nvPr/>
        </p:nvSpPr>
        <p:spPr>
          <a:xfrm>
            <a:off x="142920" y="2055960"/>
            <a:ext cx="8786880" cy="37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Given sufficient interest from the Associates, the EBF stands ready to apply for and run the Project, including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Engage the necessary staff to administer and coordinate the projec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Provide its part of co-fundin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Ensure the necessary reporting to the European Commissio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Maintain relations with DG Enlarge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ABI &amp; BdB maintain their interest supporting this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10:04:27Z</dcterms:created>
  <dc:creator>Sanaa Rouiha</dc:creator>
  <dc:description/>
  <dc:language>en-US</dc:language>
  <cp:lastModifiedBy>Viktorija Proskurovska</cp:lastModifiedBy>
  <dcterms:modified xsi:type="dcterms:W3CDTF">2010-05-20T15:43:03Z</dcterms:modified>
  <cp:revision>117</cp:revision>
  <dc:subject/>
  <dc:title>EUROPEAN BANKING FEDE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8226578DF2B3B64A903F9075E79A1D84</vt:lpwstr>
  </property>
</Properties>
</file>