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BA23-F739-42C2-A23D-579C1A7EE2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9B65-55EC-4F51-B4D8-2B0630027C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F8D8-5D6E-46BB-819B-5D9E3DF7E6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77D6-2EDF-4DAF-8F1D-4AD6C90761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E677-6C79-4AB3-9C57-CACBA10264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EE92-55B1-4DAE-9391-56F9DDBEEA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8B34-405C-4AA7-B00F-B831B0AE3E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F78A-877C-409A-A430-DF013FFBF0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B8B9-A500-4D10-BF8D-F37ED6D9CB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8AC5-CFDF-4280-91BF-E2D18A6457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B785-09BE-4A86-B897-D7996F91F9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AFFC-AA62-4186-B74E-CCBE41B120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F332-B745-4AF1-A386-AC7FF4601C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420-F751-4082-86C0-ED826D43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4987-7DD2-4D03-9D31-DA9ED71A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FA3-9A5F-49A6-BB20-6332D326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9DAC-687D-4DE1-9AA6-AFE332F2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6A0-D313-4138-AE5B-9A0C6BCE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03A9-1C56-4D3D-BA4B-C7E7372F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183D-9732-4DE1-98C4-AD5D473D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9287-47C6-4DFE-A7DC-2C2CAE5D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625-3696-4C9B-B8A0-9DD3797D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5E5-6749-4AA6-8FC5-58F12EA5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CDB-31AB-4466-9546-120B6AC8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B025-2598-4CF3-911B-D4DB595C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0456-2F2C-40B4-9E5F-456C75FA8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BA- EBF Confer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-regional Banking Cooperation: Solid Financial Future</a:t>
            </a:r>
            <a:br>
              <a:rPr sz="3200"/>
            </a:b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levance of the Experience of Financial Integration in Europe to the Eurasian Markets”</a:t>
            </a:r>
            <a:br>
              <a:rPr sz="32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o Ravoet, EBF Secretary Genera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rsday, 27 May 2010 - Baku, Azerbai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508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508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508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4200" y="2571840"/>
              <a:ext cx="131508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9200" y="2571840"/>
              <a:ext cx="131508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280" y="2571840"/>
              <a:ext cx="131508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8920" y="2571840"/>
              <a:ext cx="131508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levance of EU experience for Eur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ut sufficient effort into prepar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joint commit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sure continuous participation &amp; involve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ke into account all regions’ differ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onitor integration of various market’ seg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political stability and sound monetary and fiscal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Per aspera ad a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path might be challenging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benefits are worth the effor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0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16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r attention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18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2" name="Rectangle 39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42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3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5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9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EB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98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18" descr="Carte Europe.jpg"/>
          <p:cNvPicPr/>
          <p:nvPr/>
        </p:nvPicPr>
        <p:blipFill>
          <a:blip r:embed="rId2"/>
          <a:stretch/>
        </p:blipFill>
        <p:spPr>
          <a:xfrm>
            <a:off x="1214280" y="1285920"/>
            <a:ext cx="5126040" cy="5559480"/>
          </a:xfrm>
          <a:prstGeom prst="rect">
            <a:avLst/>
          </a:prstGeom>
          <a:ln w="0">
            <a:noFill/>
          </a:ln>
        </p:spPr>
      </p:pic>
      <p:sp>
        <p:nvSpPr>
          <p:cNvPr id="66" name="Text Placeholder 3"/>
          <p:cNvSpPr/>
          <p:nvPr/>
        </p:nvSpPr>
        <p:spPr>
          <a:xfrm>
            <a:off x="6357960" y="1428840"/>
            <a:ext cx="2571840" cy="52862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BE" sz="1800" spc="-1" strike="noStrike">
                <a:solidFill>
                  <a:srgbClr val="1f497d"/>
                </a:solidFill>
                <a:latin typeface="Calibri"/>
              </a:rPr>
              <a:t>31 national member associ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27 EU Member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4 EFTA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13 Associ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787"/>
          <p:cNvSpPr/>
          <p:nvPr/>
        </p:nvSpPr>
        <p:spPr>
          <a:xfrm>
            <a:off x="6429240" y="318132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788"/>
          <p:cNvSpPr/>
          <p:nvPr/>
        </p:nvSpPr>
        <p:spPr>
          <a:xfrm>
            <a:off x="6429240" y="407196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789"/>
          <p:cNvSpPr/>
          <p:nvPr/>
        </p:nvSpPr>
        <p:spPr>
          <a:xfrm>
            <a:off x="6429240" y="496728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19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820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21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22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23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824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825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26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Definition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market for a given set of financial instruments and/or services is fully integrated if all potential market participants with the same relevant character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ace a single set of rules when they decide to deal with those financial instruments and/or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ave equal access to the above-mentioned set of financial instruments and/or servic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treated equally when they are active in the mar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enefits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opportunities for risk sharing and risk diversific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etter allocation of capit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mproved liquidity of markets and strengthened resilience to shock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ooth operation of payment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nhanced information and competitiveness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otential for higher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onditions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o benefit from financial integration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inter alia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wo core conditions must be me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mpletion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all segments of financial integration in the region,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stabilit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this financially integrated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eps towards EU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60s – removal of restrictions on freedom of establishment and freedom of provision of servi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87 – Single European Ac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0 – Economic Monetary Union (freedom of the movement of capital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9 – Financial Services Action Plan and introduction of the eur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2005 – White Paper of Financial Services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igns of increasing integration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transaction volu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diversified reserve currency syste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ond market integr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quities market integration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sector integ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ability and financial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integration and development can increase the efficiency of a financial system, if it is accompanied by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dequate legal and regulatory framework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rporate governance, market infrastructur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supervision should assess, in real ti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build-up of within-market r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cross-market contagion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linkages between large and complex financial instit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6-01T08:16:21Z</dcterms:modified>
  <cp:revision>115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