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move the slid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378FB-B53F-48BB-B697-9CBCAC85052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74182-26D6-48BF-B91B-26044165B98B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0D850-44CF-4D4B-825C-7CA85D30941C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7D75F-F89B-40D0-8B02-3E4B1D30A4EC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AF1F8-0523-47DE-AC9F-5F797155F67E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86E49-C794-494B-BB08-ADCB637172EC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F0E92-9225-4059-81F8-A7019D9D5277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CA90C-4D1C-4D03-A970-74E932A604B2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33BF6-4258-44B8-B8BA-137B67EA94E6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BDF3F-8F36-4672-8AA5-AC4BFA889D37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7972A-64D6-471D-AA8C-C249E6E3D68F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60201-30EF-4A3C-9FDD-C53BC2D5D08B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ECECA-5858-43B9-9247-2E8890D4D8F4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1EC1B-BFDD-4268-BBC6-EA97B92FF66E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268E3-B929-480C-812A-DD21C6B5A378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B5A10-4900-4704-B365-1215BE8A3B52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C9D29-73A6-4224-A3AB-77DC9197432B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663F8-D26B-4CC1-B0AE-82A7180ECCFA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3507B-6F96-4B35-8035-3DF32EC839D2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C705B-E5BF-4DD8-BF78-08BC18331BE6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8029-CEDC-415E-B472-616129BD8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76C0-CA57-48DD-835E-E430168D2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A013-14AF-4273-803F-923DAAAB2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F77C-3297-4877-B6EC-2246AC440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33246-DB83-4AA1-87B6-5DDAE2BD6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ECADF-18A1-43C9-BE7E-A020D8D97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9D65A-F0E2-4703-A1BF-0ADF83CF4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E27CF-64B4-4ED3-A4D6-C2A17584E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AA7C6-AA0A-40F4-BFCC-8BC6F3EA0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AD408-2EF3-4429-85DE-C8391E2DE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94A4E-6455-4577-8F46-E63022E6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F54C-AE1E-42A7-AC61-F4723E3D7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D6F73-D0A0-416D-B4B2-FA7190AA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472CD-B3BF-4ECA-BAD9-82E099DE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44DB0-BE79-4DE7-8D3F-6AC7FD08B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3F20E-FF88-4FD9-8957-837EFA11F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E7041-C924-428B-BA86-DBB862FBC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E78A-7C6E-4094-8AB9-80A967ABC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F088-0B4B-4584-8074-10B591EB2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DBCB-2625-4E5A-B267-9DED3B672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4454-326E-4FC8-BBD4-105B75D5B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EDD9-87A9-4BE6-8C32-961E6DFE9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1341-BCAD-4B0F-9CBA-5FA401D38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A8B9-7327-4E90-8309-AD1046E8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C931E-8B60-4C24-B85F-50005F1D765C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8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" name="Line 9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6" name="Picture 11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6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45" name="Line 7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46" name="Picture 8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8DED1-7E13-49EC-AA78-BFF196DA6A09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mailto:g.gasos@ebf-fbe.eu" TargetMode="External"/><Relationship Id="rId2" Type="http://schemas.openxmlformats.org/officeDocument/2006/relationships/hyperlink" Target="mailto:g.gasos@ebf-fbe.eu" TargetMode="External"/><Relationship Id="rId3" Type="http://schemas.openxmlformats.org/officeDocument/2006/relationships/hyperlink" Target="mailto:g.gasos@ebf-fbe.eu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560" y="3142800"/>
            <a:ext cx="6481800" cy="115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Summary of EBF response to the </a:t>
            </a:r>
            <a:br>
              <a:rPr sz="2800"/>
            </a:b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Basel Committee proposals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Gonzalo Gasos, EBF Adviser</a:t>
            </a:r>
            <a:br>
              <a:rPr sz="2800"/>
            </a:br>
            <a:br>
              <a:rPr sz="2800"/>
            </a:br>
            <a:r>
              <a:rPr b="0" lang="fr-FR" sz="2000" spc="-1" strike="noStrike">
                <a:solidFill>
                  <a:srgbClr val="0066cc"/>
                </a:solidFill>
                <a:latin typeface="Times New Roman"/>
              </a:rPr>
              <a:t>EBF Associates Meeting</a:t>
            </a:r>
            <a:br>
              <a:rPr sz="2000"/>
            </a:br>
            <a:r>
              <a:rPr b="0" lang="fr-FR" sz="2000" spc="-1" strike="noStrike">
                <a:solidFill>
                  <a:srgbClr val="0066cc"/>
                </a:solidFill>
                <a:latin typeface="Times New Roman"/>
              </a:rPr>
              <a:t>Baku - Azerbaijan</a:t>
            </a:r>
            <a:br>
              <a:rPr sz="2000"/>
            </a:br>
            <a:r>
              <a:rPr b="0" lang="fr-FR" sz="1600" spc="-1" strike="noStrike">
                <a:solidFill>
                  <a:srgbClr val="0066cc"/>
                </a:solidFill>
                <a:latin typeface="Times New Roman"/>
              </a:rPr>
              <a:t>28 May 2010</a:t>
            </a:r>
            <a:endParaRPr b="0" lang="en-US" sz="16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14360" y="259920"/>
            <a:ext cx="5143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Cumulative impact assessment: Real economy.</a:t>
            </a:r>
            <a:br>
              <a:rPr sz="3000"/>
            </a:b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Objectives and challenge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6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FFA95-AEA8-4582-9140-FAFF4AAA9445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500040" y="1571760"/>
            <a:ext cx="8229600" cy="48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vide EBF arguments with a credible analysis of the likely global macroeconomic impact of proposed regulatory change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To do so in a time frame that will allow for an input into key decisions (e.g. before mid-year 2010)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vide a framework for discussion of this topic in the broader public environment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BUT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posed regulatory changes ill-defined. Need for scenarios and simulation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Conventional macro models not much help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Need for data from reliable consistent source 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129" name="Picture 5" descr="Logo IIF.JPG"/>
          <p:cNvPicPr/>
          <p:nvPr/>
        </p:nvPicPr>
        <p:blipFill>
          <a:blip r:embed="rId1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93680" y="259920"/>
            <a:ext cx="389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Summary of intended approach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1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2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2EAD8-8138-4A74-9A26-9BB7A72C03F9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500040" y="1571760"/>
            <a:ext cx="8229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3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grpSp>
        <p:nvGrpSpPr>
          <p:cNvPr id="134" name="Group 13"/>
          <p:cNvGrpSpPr/>
          <p:nvPr/>
        </p:nvGrpSpPr>
        <p:grpSpPr>
          <a:xfrm>
            <a:off x="571680" y="2063880"/>
            <a:ext cx="8358120" cy="1769760"/>
            <a:chOff x="571680" y="2063880"/>
            <a:chExt cx="8358120" cy="1769760"/>
          </a:xfrm>
        </p:grpSpPr>
        <p:sp>
          <p:nvSpPr>
            <p:cNvPr id="135" name="Text Box 5"/>
            <p:cNvSpPr/>
            <p:nvPr/>
          </p:nvSpPr>
          <p:spPr>
            <a:xfrm>
              <a:off x="571680" y="2063880"/>
              <a:ext cx="1396440" cy="176976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Identify and quantify proposed change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36" name="AutoShape 7"/>
            <p:cNvSpPr/>
            <p:nvPr/>
          </p:nvSpPr>
          <p:spPr>
            <a:xfrm>
              <a:off x="2082960" y="2888280"/>
              <a:ext cx="558360" cy="239760"/>
            </a:xfrm>
            <a:prstGeom prst="rightArrow">
              <a:avLst>
                <a:gd name="adj1" fmla="val 50000"/>
                <a:gd name="adj2" fmla="val 58221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37" name="Text Box 8"/>
            <p:cNvSpPr/>
            <p:nvPr/>
          </p:nvSpPr>
          <p:spPr>
            <a:xfrm>
              <a:off x="2711520" y="2446920"/>
              <a:ext cx="1326600" cy="109944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Model of banking sector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38" name="AutoShape 9"/>
            <p:cNvSpPr/>
            <p:nvPr/>
          </p:nvSpPr>
          <p:spPr>
            <a:xfrm>
              <a:off x="4071960" y="2888280"/>
              <a:ext cx="558360" cy="239760"/>
            </a:xfrm>
            <a:prstGeom prst="rightArrow">
              <a:avLst>
                <a:gd name="adj1" fmla="val 50000"/>
                <a:gd name="adj2" fmla="val 58221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39" name="Text Box 10"/>
            <p:cNvSpPr/>
            <p:nvPr/>
          </p:nvSpPr>
          <p:spPr>
            <a:xfrm>
              <a:off x="4714920" y="2268360"/>
              <a:ext cx="1785960" cy="144864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Assumption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Scenario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Simulation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40" name="AutoShape 11"/>
            <p:cNvSpPr/>
            <p:nvPr/>
          </p:nvSpPr>
          <p:spPr>
            <a:xfrm>
              <a:off x="6572520" y="2888280"/>
              <a:ext cx="558360" cy="239760"/>
            </a:xfrm>
            <a:prstGeom prst="rightArrow">
              <a:avLst>
                <a:gd name="adj1" fmla="val 50000"/>
                <a:gd name="adj2" fmla="val 58221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41" name="Text Box 12"/>
            <p:cNvSpPr/>
            <p:nvPr/>
          </p:nvSpPr>
          <p:spPr>
            <a:xfrm>
              <a:off x="7180920" y="2268360"/>
              <a:ext cx="1748880" cy="143460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Macro impact, especially growth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</p:grpSp>
      <p:sp>
        <p:nvSpPr>
          <p:cNvPr id="142" name="Text Box 12"/>
          <p:cNvSpPr/>
          <p:nvPr/>
        </p:nvSpPr>
        <p:spPr>
          <a:xfrm>
            <a:off x="533520" y="4417920"/>
            <a:ext cx="78483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Expected end results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No magic number, but a framework (and supporting report) that will allow for discussion and debate, both with the public sector and within the private sector 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Lots of sensitivity analysis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143" name="Picture 15" descr="Logo IIF.JPG"/>
          <p:cNvPicPr/>
          <p:nvPr/>
        </p:nvPicPr>
        <p:blipFill>
          <a:blip r:embed="rId1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374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Modelling approach in outlin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5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6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72CA7-F62B-45CA-B9C6-E270F9E12A18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457200" y="1828800"/>
            <a:ext cx="8229600" cy="48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The EBF is collaborating with the IIF to use a simple, spreadsheet-based model with a heavy emphasis on the banking sector. Five blocks: Euro area, U.K., U.S., Japan and Canada.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Models have four components: 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lvl="1" marL="447840" indent="-86040">
              <a:lnSpc>
                <a:spcPct val="100000"/>
              </a:lnSpc>
              <a:spcBef>
                <a:spcPts val="1125"/>
              </a:spcBef>
              <a:buClr>
                <a:srgbClr val="005cad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Banking sector balance-sheet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lvl="1" marL="447840" indent="-86040">
              <a:lnSpc>
                <a:spcPct val="100000"/>
              </a:lnSpc>
              <a:spcBef>
                <a:spcPts val="1125"/>
              </a:spcBef>
              <a:buClr>
                <a:srgbClr val="005cad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Bank capital supply function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lvl="1" marL="447840" indent="-86040">
              <a:lnSpc>
                <a:spcPct val="100000"/>
              </a:lnSpc>
              <a:spcBef>
                <a:spcPts val="1125"/>
              </a:spcBef>
              <a:buClr>
                <a:srgbClr val="005cad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Banking sector profit and loss block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lvl="1" marL="447840" indent="-86040">
              <a:lnSpc>
                <a:spcPct val="100000"/>
              </a:lnSpc>
              <a:spcBef>
                <a:spcPts val="1125"/>
              </a:spcBef>
              <a:buClr>
                <a:srgbClr val="005cad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Macroeconomic block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The models allow a fairly precise articulation and quantification of the key regulatory changes being proposed and their simultaneous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impact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Aside from providing some quantitative estimates of changes, the framework provides a helpful, historic dataset, upon which to base discussion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5072040" y="2786040"/>
            <a:ext cx="39290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And three key behavioral links: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5cad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Cost of bank capital/new issuance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5cad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Private credit demand/lending rate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5cad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Nominal GDP/credit supply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149" name="Picture 7" descr="Logo IIF.JPG"/>
          <p:cNvPicPr/>
          <p:nvPr/>
        </p:nvPicPr>
        <p:blipFill>
          <a:blip r:embed="rId1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410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How does the model work?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1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66757-C800-471D-A310-1CD5F8EE4C7B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grpSp>
        <p:nvGrpSpPr>
          <p:cNvPr id="153" name="Group 20"/>
          <p:cNvGrpSpPr/>
          <p:nvPr/>
        </p:nvGrpSpPr>
        <p:grpSpPr>
          <a:xfrm>
            <a:off x="642960" y="1819440"/>
            <a:ext cx="8298000" cy="4109760"/>
            <a:chOff x="642960" y="1819440"/>
            <a:chExt cx="8298000" cy="4109760"/>
          </a:xfrm>
        </p:grpSpPr>
        <p:sp>
          <p:nvSpPr>
            <p:cNvPr id="154" name="Text Box 4"/>
            <p:cNvSpPr/>
            <p:nvPr/>
          </p:nvSpPr>
          <p:spPr>
            <a:xfrm>
              <a:off x="642960" y="2475720"/>
              <a:ext cx="1438560" cy="210492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To achieve higher required capital ratio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55" name="AutoShape 5"/>
            <p:cNvSpPr/>
            <p:nvPr/>
          </p:nvSpPr>
          <p:spPr>
            <a:xfrm rot="2430600">
              <a:off x="2225160" y="4274640"/>
              <a:ext cx="575280" cy="215640"/>
            </a:xfrm>
            <a:prstGeom prst="rightArrow">
              <a:avLst>
                <a:gd name="adj1" fmla="val 50000"/>
                <a:gd name="adj2" fmla="val 66694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56" name="Text Box 6"/>
            <p:cNvSpPr/>
            <p:nvPr/>
          </p:nvSpPr>
          <p:spPr>
            <a:xfrm>
              <a:off x="2945160" y="2726280"/>
              <a:ext cx="1222920" cy="109944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Issue new equity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57" name="AutoShape 7"/>
            <p:cNvSpPr/>
            <p:nvPr/>
          </p:nvSpPr>
          <p:spPr>
            <a:xfrm>
              <a:off x="4312080" y="2856600"/>
              <a:ext cx="575280" cy="215640"/>
            </a:xfrm>
            <a:prstGeom prst="rightArrow">
              <a:avLst>
                <a:gd name="adj1" fmla="val 50000"/>
                <a:gd name="adj2" fmla="val 66694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58" name="Text Box 8"/>
            <p:cNvSpPr/>
            <p:nvPr/>
          </p:nvSpPr>
          <p:spPr>
            <a:xfrm>
              <a:off x="5103360" y="2287080"/>
              <a:ext cx="1438560" cy="143460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Higher cost of funding to bank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59" name="AutoShape 9"/>
            <p:cNvSpPr/>
            <p:nvPr/>
          </p:nvSpPr>
          <p:spPr>
            <a:xfrm>
              <a:off x="6686280" y="3216240"/>
              <a:ext cx="575280" cy="215640"/>
            </a:xfrm>
            <a:prstGeom prst="rightArrow">
              <a:avLst>
                <a:gd name="adj1" fmla="val 50000"/>
                <a:gd name="adj2" fmla="val 66694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0" name="Text Box 10"/>
            <p:cNvSpPr/>
            <p:nvPr/>
          </p:nvSpPr>
          <p:spPr>
            <a:xfrm>
              <a:off x="7430400" y="2857320"/>
              <a:ext cx="1510560" cy="210492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Higher lending spread to private sector borrower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1" name="Text Box 12"/>
            <p:cNvSpPr/>
            <p:nvPr/>
          </p:nvSpPr>
          <p:spPr>
            <a:xfrm>
              <a:off x="2967480" y="3949200"/>
              <a:ext cx="1319040" cy="109944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Increase retained profit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2" name="AutoShape 13"/>
            <p:cNvSpPr/>
            <p:nvPr/>
          </p:nvSpPr>
          <p:spPr>
            <a:xfrm rot="19168800">
              <a:off x="2225160" y="3231360"/>
              <a:ext cx="575280" cy="215640"/>
            </a:xfrm>
            <a:prstGeom prst="rightArrow">
              <a:avLst>
                <a:gd name="adj1" fmla="val 50000"/>
                <a:gd name="adj2" fmla="val 66694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3" name="AutoShape 7"/>
            <p:cNvSpPr/>
            <p:nvPr/>
          </p:nvSpPr>
          <p:spPr>
            <a:xfrm>
              <a:off x="4383720" y="4511520"/>
              <a:ext cx="2661840" cy="215640"/>
            </a:xfrm>
            <a:prstGeom prst="rightArrow">
              <a:avLst>
                <a:gd name="adj1" fmla="val 50000"/>
                <a:gd name="adj2" fmla="val 308598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4" name="Rectangle 2"/>
            <p:cNvSpPr/>
            <p:nvPr/>
          </p:nvSpPr>
          <p:spPr>
            <a:xfrm>
              <a:off x="714600" y="5137920"/>
              <a:ext cx="8184960" cy="79128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Complications: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Do banks have </a:t>
              </a: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Which route to higher 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pricing power to  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        equity will be chosen?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    raise lending rates?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</a:t>
              </a: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5" name="AutoShape 13"/>
            <p:cNvSpPr/>
            <p:nvPr/>
          </p:nvSpPr>
          <p:spPr>
            <a:xfrm rot="19168800">
              <a:off x="2225160" y="2260080"/>
              <a:ext cx="575280" cy="215640"/>
            </a:xfrm>
            <a:prstGeom prst="rightArrow">
              <a:avLst>
                <a:gd name="adj1" fmla="val 50000"/>
                <a:gd name="adj2" fmla="val 66694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6" name="Text Box 6"/>
            <p:cNvSpPr/>
            <p:nvPr/>
          </p:nvSpPr>
          <p:spPr>
            <a:xfrm>
              <a:off x="2945160" y="1819440"/>
              <a:ext cx="1222920" cy="76428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Cut RWA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7" name="AutoShape 7"/>
            <p:cNvSpPr/>
            <p:nvPr/>
          </p:nvSpPr>
          <p:spPr>
            <a:xfrm>
              <a:off x="4312080" y="1900080"/>
              <a:ext cx="4604400" cy="215640"/>
            </a:xfrm>
            <a:prstGeom prst="rightArrow">
              <a:avLst>
                <a:gd name="adj1" fmla="val 50000"/>
                <a:gd name="adj2" fmla="val 533806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</p:grpSp>
      <p:pic>
        <p:nvPicPr>
          <p:cNvPr id="168" name="Picture 21" descr="Logo IIF.JPG"/>
          <p:cNvPicPr/>
          <p:nvPr/>
        </p:nvPicPr>
        <p:blipFill>
          <a:blip r:embed="rId1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893680" y="259920"/>
            <a:ext cx="403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How does the model work?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70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71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AE467-328F-4637-BFBD-7EF1A268B5E9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grpSp>
        <p:nvGrpSpPr>
          <p:cNvPr id="172" name="Group 43"/>
          <p:cNvGrpSpPr/>
          <p:nvPr/>
        </p:nvGrpSpPr>
        <p:grpSpPr>
          <a:xfrm>
            <a:off x="500040" y="1643040"/>
            <a:ext cx="8501040" cy="4714560"/>
            <a:chOff x="500040" y="1643040"/>
            <a:chExt cx="8501040" cy="4714560"/>
          </a:xfrm>
        </p:grpSpPr>
        <p:sp>
          <p:nvSpPr>
            <p:cNvPr id="173" name="Text Box 4"/>
            <p:cNvSpPr/>
            <p:nvPr/>
          </p:nvSpPr>
          <p:spPr>
            <a:xfrm>
              <a:off x="793080" y="4472280"/>
              <a:ext cx="2491560" cy="100872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cad"/>
                  </a:solidFill>
                  <a:latin typeface="Arial"/>
                </a:rPr>
                <a:t>Availability of credit from non-bank sources</a:t>
              </a:r>
              <a:endParaRPr b="0" lang="en-US" sz="20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4" name="AutoShape 5"/>
            <p:cNvSpPr/>
            <p:nvPr/>
          </p:nvSpPr>
          <p:spPr>
            <a:xfrm rot="19807200">
              <a:off x="3358080" y="4543560"/>
              <a:ext cx="586080" cy="214200"/>
            </a:xfrm>
            <a:prstGeom prst="rightArrow">
              <a:avLst>
                <a:gd name="adj1" fmla="val 50000"/>
                <a:gd name="adj2" fmla="val 68403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5" name="Text Box 8"/>
            <p:cNvSpPr/>
            <p:nvPr/>
          </p:nvSpPr>
          <p:spPr>
            <a:xfrm>
              <a:off x="4000320" y="3071880"/>
              <a:ext cx="1407600" cy="161856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cad"/>
                  </a:solidFill>
                  <a:latin typeface="Arial"/>
                </a:rPr>
                <a:t>Aggregate whole economy credit supply</a:t>
              </a:r>
              <a:endParaRPr b="0" lang="en-US" sz="20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6" name="AutoShape 9"/>
            <p:cNvSpPr/>
            <p:nvPr/>
          </p:nvSpPr>
          <p:spPr>
            <a:xfrm>
              <a:off x="5410080" y="3758040"/>
              <a:ext cx="586080" cy="214200"/>
            </a:xfrm>
            <a:prstGeom prst="rightArrow">
              <a:avLst>
                <a:gd name="adj1" fmla="val 50000"/>
                <a:gd name="adj2" fmla="val 68403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7" name="Text Box 10"/>
            <p:cNvSpPr/>
            <p:nvPr/>
          </p:nvSpPr>
          <p:spPr>
            <a:xfrm>
              <a:off x="5996520" y="2900520"/>
              <a:ext cx="1392120" cy="192348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cad"/>
                  </a:solidFill>
                  <a:latin typeface="Arial"/>
                </a:rPr>
                <a:t>Nominal GDP driven by aggregate credit supply</a:t>
              </a:r>
              <a:endParaRPr b="0" lang="en-US" sz="20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8" name="Line 11"/>
            <p:cNvSpPr/>
            <p:nvPr/>
          </p:nvSpPr>
          <p:spPr>
            <a:xfrm>
              <a:off x="719640" y="1643040"/>
              <a:ext cx="7841520" cy="0"/>
            </a:xfrm>
            <a:prstGeom prst="line">
              <a:avLst/>
            </a:prstGeom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9" name="AutoShape 13"/>
            <p:cNvSpPr/>
            <p:nvPr/>
          </p:nvSpPr>
          <p:spPr>
            <a:xfrm rot="2058000">
              <a:off x="3431160" y="2828880"/>
              <a:ext cx="586080" cy="214200"/>
            </a:xfrm>
            <a:prstGeom prst="rightArrow">
              <a:avLst>
                <a:gd name="adj1" fmla="val 50000"/>
                <a:gd name="adj2" fmla="val 68403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grpSp>
          <p:nvGrpSpPr>
            <p:cNvPr id="180" name="Group 29"/>
            <p:cNvGrpSpPr/>
            <p:nvPr/>
          </p:nvGrpSpPr>
          <p:grpSpPr>
            <a:xfrm>
              <a:off x="795960" y="1643040"/>
              <a:ext cx="2781360" cy="2451960"/>
              <a:chOff x="795960" y="1643040"/>
              <a:chExt cx="2781360" cy="2451960"/>
            </a:xfrm>
          </p:grpSpPr>
          <p:sp>
            <p:nvSpPr>
              <p:cNvPr id="181" name="Line 15"/>
              <p:cNvSpPr/>
              <p:nvPr/>
            </p:nvSpPr>
            <p:spPr>
              <a:xfrm>
                <a:off x="795960" y="1829160"/>
                <a:ext cx="0" cy="1928520"/>
              </a:xfrm>
              <a:prstGeom prst="line">
                <a:avLst/>
              </a:prstGeom>
              <a:ln w="19080">
                <a:solidFill>
                  <a:srgbClr val="005c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2" name="Line 16"/>
              <p:cNvSpPr/>
              <p:nvPr/>
            </p:nvSpPr>
            <p:spPr>
              <a:xfrm>
                <a:off x="795960" y="3757680"/>
                <a:ext cx="2418480" cy="0"/>
              </a:xfrm>
              <a:prstGeom prst="line">
                <a:avLst/>
              </a:prstGeom>
              <a:ln w="19080">
                <a:solidFill>
                  <a:srgbClr val="005c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3" name="Line 17"/>
              <p:cNvSpPr/>
              <p:nvPr/>
            </p:nvSpPr>
            <p:spPr>
              <a:xfrm>
                <a:off x="1088640" y="2043360"/>
                <a:ext cx="1832040" cy="1356840"/>
              </a:xfrm>
              <a:prstGeom prst="line">
                <a:avLst/>
              </a:prstGeom>
              <a:ln w="19080">
                <a:solidFill>
                  <a:srgbClr val="f6801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4" name="Line 18"/>
              <p:cNvSpPr/>
              <p:nvPr/>
            </p:nvSpPr>
            <p:spPr>
              <a:xfrm flipV="1">
                <a:off x="1497960" y="2291760"/>
                <a:ext cx="1612440" cy="1357200"/>
              </a:xfrm>
              <a:prstGeom prst="line">
                <a:avLst/>
              </a:prstGeom>
              <a:ln w="19080">
                <a:solidFill>
                  <a:srgbClr val="005c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5" name="Line 19"/>
              <p:cNvSpPr/>
              <p:nvPr/>
            </p:nvSpPr>
            <p:spPr>
              <a:xfrm flipV="1">
                <a:off x="917640" y="1841040"/>
                <a:ext cx="1612440" cy="1357200"/>
              </a:xfrm>
              <a:prstGeom prst="line">
                <a:avLst/>
              </a:prstGeom>
              <a:ln w="19080">
                <a:solidFill>
                  <a:srgbClr val="005c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6" name="Text Box 20"/>
              <p:cNvSpPr/>
              <p:nvPr/>
            </p:nvSpPr>
            <p:spPr>
              <a:xfrm>
                <a:off x="2994480" y="3266280"/>
                <a:ext cx="366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5cad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7" name="Text Box 21"/>
              <p:cNvSpPr/>
              <p:nvPr/>
            </p:nvSpPr>
            <p:spPr>
              <a:xfrm>
                <a:off x="3137760" y="2077560"/>
                <a:ext cx="439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5cad"/>
                    </a:solidFill>
                    <a:latin typeface="Arial"/>
                  </a:rPr>
                  <a:t>S</a:t>
                </a:r>
                <a:r>
                  <a:rPr b="0" lang="en-US" sz="1000" spc="-1" strike="noStrike">
                    <a:solidFill>
                      <a:srgbClr val="005cad"/>
                    </a:solidFill>
                    <a:latin typeface="Arial"/>
                  </a:rPr>
                  <a:t>1</a:t>
                </a:r>
                <a:endParaRPr b="0" lang="en-US" sz="10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8" name="Text Box 22"/>
              <p:cNvSpPr/>
              <p:nvPr/>
            </p:nvSpPr>
            <p:spPr>
              <a:xfrm>
                <a:off x="2531880" y="1643040"/>
                <a:ext cx="439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5cad"/>
                    </a:solidFill>
                    <a:latin typeface="Arial"/>
                  </a:rPr>
                  <a:t>S</a:t>
                </a:r>
                <a:r>
                  <a:rPr b="0" lang="en-US" sz="1000" spc="-1" strike="noStrike">
                    <a:solidFill>
                      <a:srgbClr val="005cad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9" name="Text Box 23"/>
              <p:cNvSpPr/>
              <p:nvPr/>
            </p:nvSpPr>
            <p:spPr>
              <a:xfrm>
                <a:off x="2188080" y="3757680"/>
                <a:ext cx="532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5cad"/>
                    </a:solidFill>
                    <a:latin typeface="Arial"/>
                  </a:rPr>
                  <a:t>Q</a:t>
                </a:r>
                <a:r>
                  <a:rPr b="0" lang="en-US" sz="1000" spc="-1" strike="noStrike">
                    <a:solidFill>
                      <a:srgbClr val="005cad"/>
                    </a:solidFill>
                    <a:latin typeface="Arial"/>
                  </a:rPr>
                  <a:t>1</a:t>
                </a:r>
                <a:endParaRPr b="0" lang="en-US" sz="10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90" name="Line 24"/>
              <p:cNvSpPr/>
              <p:nvPr/>
            </p:nvSpPr>
            <p:spPr>
              <a:xfrm>
                <a:off x="2322360" y="2986560"/>
                <a:ext cx="0" cy="770760"/>
              </a:xfrm>
              <a:prstGeom prst="line">
                <a:avLst/>
              </a:prstGeom>
              <a:ln w="9360">
                <a:solidFill>
                  <a:srgbClr val="005c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91" name="Line 25"/>
              <p:cNvSpPr/>
              <p:nvPr/>
            </p:nvSpPr>
            <p:spPr>
              <a:xfrm>
                <a:off x="1724040" y="2528280"/>
                <a:ext cx="0" cy="1229040"/>
              </a:xfrm>
              <a:prstGeom prst="line">
                <a:avLst/>
              </a:prstGeom>
              <a:ln w="9360">
                <a:solidFill>
                  <a:srgbClr val="005c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92" name="Text Box 26"/>
              <p:cNvSpPr/>
              <p:nvPr/>
            </p:nvSpPr>
            <p:spPr>
              <a:xfrm>
                <a:off x="1455480" y="3757680"/>
                <a:ext cx="532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5cad"/>
                    </a:solidFill>
                    <a:latin typeface="Arial"/>
                  </a:rPr>
                  <a:t>Q</a:t>
                </a:r>
                <a:r>
                  <a:rPr b="0" lang="en-US" sz="1000" spc="-1" strike="noStrike">
                    <a:solidFill>
                      <a:srgbClr val="005cad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93" name="Line 27"/>
              <p:cNvSpPr/>
              <p:nvPr/>
            </p:nvSpPr>
            <p:spPr>
              <a:xfrm flipH="1">
                <a:off x="1841400" y="3927240"/>
                <a:ext cx="346320" cy="0"/>
              </a:xfrm>
              <a:prstGeom prst="line">
                <a:avLst/>
              </a:prstGeom>
              <a:ln w="9360">
                <a:solidFill>
                  <a:srgbClr val="005cad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</p:grpSp>
        <p:sp>
          <p:nvSpPr>
            <p:cNvPr id="194" name="Text Box 10"/>
            <p:cNvSpPr/>
            <p:nvPr/>
          </p:nvSpPr>
          <p:spPr>
            <a:xfrm>
              <a:off x="8121960" y="3472200"/>
              <a:ext cx="879120" cy="70380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cad"/>
                  </a:solidFill>
                  <a:latin typeface="Arial"/>
                </a:rPr>
                <a:t>Real GDP</a:t>
              </a:r>
              <a:endParaRPr b="0" lang="en-US" sz="20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95" name="AutoShape 9"/>
            <p:cNvSpPr/>
            <p:nvPr/>
          </p:nvSpPr>
          <p:spPr>
            <a:xfrm>
              <a:off x="7462080" y="3766680"/>
              <a:ext cx="586080" cy="214200"/>
            </a:xfrm>
            <a:prstGeom prst="rightArrow">
              <a:avLst>
                <a:gd name="adj1" fmla="val 50000"/>
                <a:gd name="adj2" fmla="val 68403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96" name="Rectangle 2"/>
            <p:cNvSpPr/>
            <p:nvPr/>
          </p:nvSpPr>
          <p:spPr>
            <a:xfrm>
              <a:off x="500040" y="5572080"/>
              <a:ext cx="8337960" cy="78552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Complications: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 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How much can non-banks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    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substitute for banks?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</p:grpSp>
      <p:pic>
        <p:nvPicPr>
          <p:cNvPr id="197" name="Picture 41" descr="Logo IIF.JPG"/>
          <p:cNvPicPr/>
          <p:nvPr/>
        </p:nvPicPr>
        <p:blipFill>
          <a:blip r:embed="rId1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Preliminary results</a:t>
            </a:r>
            <a:br>
              <a:rPr sz="3000"/>
            </a:b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IIF approach</a:t>
            </a:r>
            <a:br>
              <a:rPr sz="3400"/>
            </a:b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500040" y="1643040"/>
            <a:ext cx="8072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n the regulatory change scenario, the real GDP is projected to be: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2.5% lower in the US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1.9% lower in Japan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4% lower in the Euro Area – the largest banking system -.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Banks of these 3 economies will need to raise $0.8 trillion of common equity and issue $3.7 trillion of long-term debt in 2010-2015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e banks lending spread to the private sector in the Euro Area would increase as much as 180 bp at the peak (2013)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0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01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A80C1-9A22-48DA-9AE3-EFF2425E37B3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Real bank lending rate (top)</a:t>
            </a:r>
            <a:br>
              <a:rPr sz="3000"/>
            </a:b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Core equity shadow price (bottom)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1989000" y="1643040"/>
            <a:ext cx="4789800" cy="24289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"/>
          <p:cNvPicPr/>
          <p:nvPr/>
        </p:nvPicPr>
        <p:blipFill>
          <a:blip r:embed="rId2"/>
          <a:stretch/>
        </p:blipFill>
        <p:spPr>
          <a:xfrm>
            <a:off x="1984320" y="4214880"/>
            <a:ext cx="4802400" cy="2500200"/>
          </a:xfrm>
          <a:prstGeom prst="rect">
            <a:avLst/>
          </a:prstGeom>
          <a:ln w="0">
            <a:noFill/>
          </a:ln>
        </p:spPr>
      </p:pic>
      <p:sp>
        <p:nvSpPr>
          <p:cNvPr id="206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81600-D1D2-4A44-9105-ABB3C2E82E9F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Bank credit growth to private sector (top)</a:t>
            </a:r>
            <a:br>
              <a:rPr sz="2600"/>
            </a:b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Banks’ return on equity (bottom)</a:t>
            </a:r>
            <a:endParaRPr b="0" lang="en-US" sz="2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09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F6A3F-CB1A-464E-8DE1-8A143EBBDDD4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2143080" y="1714680"/>
            <a:ext cx="4659480" cy="24177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" descr=""/>
          <p:cNvPicPr/>
          <p:nvPr/>
        </p:nvPicPr>
        <p:blipFill>
          <a:blip r:embed="rId2"/>
          <a:stretch/>
        </p:blipFill>
        <p:spPr>
          <a:xfrm>
            <a:off x="2143080" y="4286160"/>
            <a:ext cx="464364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GDP cumulative (top)</a:t>
            </a:r>
            <a:br>
              <a:rPr sz="3000"/>
            </a:b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mployment (bottom)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13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14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40CD1-89FE-4E97-883E-7FDAAB5C67F8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2071800" y="1714680"/>
            <a:ext cx="4811760" cy="24476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"/>
          <p:cNvPicPr/>
          <p:nvPr/>
        </p:nvPicPr>
        <p:blipFill>
          <a:blip r:embed="rId2"/>
          <a:stretch/>
        </p:blipFill>
        <p:spPr>
          <a:xfrm>
            <a:off x="2071800" y="4272120"/>
            <a:ext cx="4827600" cy="24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anks for your attention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Doubts, comments, opinions would be welcome 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v.proskurovska@ebf-fbe.eu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g.gasos@ebf-fbe.eu</a:t>
            </a:r>
            <a:r>
              <a:rPr b="0" lang="en-GB" sz="25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18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19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34C1F-7BE8-474F-8AA4-1909F57CFF5B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220" name="Picture 5" descr="Logo IIF.JPG"/>
          <p:cNvPicPr/>
          <p:nvPr/>
        </p:nvPicPr>
        <p:blipFill>
          <a:blip r:embed="rId4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7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8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301D5-D7F0-40E2-88FD-BFAD8A52DEEA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500040" y="2093760"/>
            <a:ext cx="822960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EBF welcomes the willingness to strengthen the resilience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Firstly, need for improved supervision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Newness and complexity of proposals require further analysis and a second consultation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ay heed to the interplays between different measure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Assessment of the overall impact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1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2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BEBFA-0FD0-483D-AB6A-2E606068A822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500040" y="1932120"/>
            <a:ext cx="822960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INCIPLE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eservation of banks’ lending capacity in the EU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Consistency in regulations (single rulebook)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International level playing field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Banking sector competitive edge notably the ability to raise new capital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5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D3741-771F-4818-AE56-24229A4A9E2D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500040" y="1916280"/>
            <a:ext cx="8229600" cy="38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POSAL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Transition period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Grandfathering arrangemen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Minority interes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Deferred tax asse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ension fund asse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9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8A1D8-2D9F-4C28-926D-C322BE63895F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539640" y="1628640"/>
            <a:ext cx="8229600" cy="49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POSAL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Counterparty risk overlapping elemen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mote the use of central clering counterparties without penalizing OTC derivative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eserve the right incentives to risk management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The appropriateness of Pillar 2: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Leverage ratio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Capital buffer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Counterparty risk 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3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4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31316-3E3B-47DC-8319-EFF0888392CE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500040" y="2093760"/>
            <a:ext cx="8229600" cy="38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POSAL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EBF supports the provisioning based on expected los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But not the downturn probability of default in pillar 1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Restrictions to dividend pay-ou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Excessive credit growth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7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7462E-9BD6-41AB-BA14-9996B7258F30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500040" y="2093760"/>
            <a:ext cx="822960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POSAL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Liquidity ratio accepted but need to review the detail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Net stable funding ratio would distort maturity transformation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Need for re-thinking the NSFR proposal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Interplays: the combination of liquidity ratios, capital buffers and stringent definition of capital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14240" y="3142800"/>
            <a:ext cx="7772400" cy="115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ssessing the Cumulative Impact of Proposed Regulatory Changes </a:t>
            </a:r>
            <a:br>
              <a:rPr sz="2800"/>
            </a:br>
            <a:br>
              <a:rPr sz="2800"/>
            </a:br>
            <a:r>
              <a:rPr b="0" lang="fr-FR" sz="2800" spc="-1" strike="noStrike">
                <a:solidFill>
                  <a:srgbClr val="0066cc"/>
                </a:solidFill>
                <a:latin typeface="Times New Roman"/>
              </a:rPr>
              <a:t>EBF Associates Meeting</a:t>
            </a:r>
            <a:br>
              <a:rPr sz="2800"/>
            </a:br>
            <a:br>
              <a:rPr sz="2800"/>
            </a:br>
            <a:r>
              <a:rPr b="0" lang="fr-FR" sz="2800" spc="-1" strike="noStrike">
                <a:solidFill>
                  <a:srgbClr val="0066cc"/>
                </a:solidFill>
                <a:latin typeface="Times New Roman"/>
              </a:rPr>
              <a:t>Baku - Azerbaijan</a:t>
            </a:r>
            <a:br>
              <a:rPr sz="2800"/>
            </a:br>
            <a:r>
              <a:rPr b="0" lang="fr-FR" sz="2000" spc="-1" strike="noStrike">
                <a:solidFill>
                  <a:srgbClr val="0066cc"/>
                </a:solidFill>
                <a:latin typeface="Times New Roman"/>
              </a:rPr>
              <a:t>28 May 2010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Cumulative impact assessment: Banking sector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2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94C4F-1397-4635-AD26-76FFD8611BC2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627200" y="1643040"/>
            <a:ext cx="594504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2T06:13:41Z</dcterms:created>
  <dc:creator>Gonzalo Gasos</dc:creator>
  <dc:description/>
  <dc:language>en-US</dc:language>
  <cp:lastModifiedBy>Viktorija Proskurovska</cp:lastModifiedBy>
  <dcterms:modified xsi:type="dcterms:W3CDTF">2010-06-01T07:14:05Z</dcterms:modified>
  <cp:revision>421</cp:revision>
  <dc:subject/>
  <dc:title>ICAAP Seminar Rome, 20-22 October 2009</dc:title>
</cp:coreProperties>
</file>