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9643-ACE9-4FC3-A63D-845BA4E5C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91B0-FA0E-4A9B-8471-8DCE2F50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CFF428-E1DA-4343-968D-73B2A4A1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8632A1-0582-40B4-A4E7-FCB92761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434DC2-CB3F-4375-AC9D-42C194A3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0CCD8F-A45E-4497-9056-D01F0B40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C8515E-3573-4660-B663-2A57503A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806D4D-DB76-45F8-86D4-4E3A7C1F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3E988B-B07E-4939-8812-D1C4C769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24677E-E481-408B-A0C8-91CDA1272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446135-4DD4-4B22-BD5B-C2CC68D76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761625-A1AB-46F0-8723-AF7FF4014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4792-B9DD-4050-823A-3D0DAEF17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D82088-E1F4-4192-ADE0-A4B4D2D4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EFFC79-BFEE-4B11-A102-AB93D721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CA29B0-606A-41EB-AA47-D5B9526F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5DEC16-B59D-48C9-9724-CBFC2BCC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D7D790-BA15-40AF-B842-78E2E81E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543FED-D3C2-44BB-B322-1F43C34D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725D42-6138-418A-B24C-5AB3D3D7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E428AD-71BC-4225-BE9C-B521485E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F4F7E2-8F67-48D6-A0B1-A13308C9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F84FE5-76C3-41D3-A835-4B61C9063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6A60-FAFA-48BD-8042-7A62768AC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6C2353-CDB9-4F0A-896A-7A3EC6399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482AE-D3E8-48D7-8059-28AD07581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E9C95-9673-45F0-ACAA-D83FE496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01EA1-4E6B-432C-9BF1-852FA9DD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ED533-52B2-4BD6-93CE-10408E27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6D88B8-DC4C-4502-941A-9626E2BC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C4EAC7-638D-4DE5-8829-ACAF1CC2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67D33B-4E89-4888-BC1C-DC330DF3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DC0A84-FF98-48C4-A5B9-38E14198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6DD341-A675-4F3D-8543-95707A67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03E0-AD4D-40A8-8A25-EA586FFA2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4A2071-1F30-48A4-9D2B-5CEFC0A2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F43CA-3923-48B3-AF9A-2248FCCD1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17C77E-3829-478D-9A59-875B9F1B2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36DCB9-38E4-48B8-94F2-1E7991438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669313-8885-49DD-A15A-BA371073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A10E4F-0789-423F-AA37-AC8BA3E3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EFDF84-8918-48D5-A0B5-7B57F5A2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18A1FB-FF95-404F-8806-4D29B6F3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9C6217-2756-48B5-AD62-7E12FDF6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B88E00-5105-4832-97FF-A8EECE1F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CE7C-E524-4703-AD70-329C946B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54FEBE-EF61-4696-805F-2A9E43B6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077D9A-D5D2-4606-87B6-3386EE7F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D75215-F48B-4966-BCE5-E542E413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C97A94-51AE-4DCA-B4AF-C3DEE8D59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2D9635-6645-4A60-93A4-790C96ECF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CB7E4-869C-4407-B582-077BBBC2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3A0C-9C15-4532-AFCD-3F644734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3F8C-28F3-40A2-9AA5-8B409EE9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46A08-1872-4AB3-B9B7-E7B6BB13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25F1-6B60-4B42-9E02-8C309CCF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329A-A4CC-4350-A6CB-15BF5851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A703-A5D6-4E28-827D-608C242C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4C13-3B20-4E4F-9740-34F115EC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6C43-5302-4A57-B143-3CA451B2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B92F-E46C-4297-B7C7-7B2B0D15D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5C1A-10E5-423F-B1F9-4F2180C71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E3548-8FDA-471F-A723-F0EDA9DB5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E9469-592F-42E9-B69A-514E5D15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7ED6E-F55F-4D25-86B3-9ACDE284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70837-4A42-41A5-B17E-3320927B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2FD73-1474-4DEC-9F4A-9D0C39E0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4B72-B577-4FDE-8F0A-A432AE32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6E793-CCFB-4F80-808E-509E34A5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CDE0E-A3BB-4D4C-927C-077AE1E5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06BE5-E282-437B-A00D-8B162C28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D7421-74DB-47D8-9A1F-2B2C22CD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3922D-103B-4AE0-91FD-40579FD2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66EB2-9B37-49BE-9BE9-0A24F5766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022D2-F007-4321-82A9-37A7EB0F3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0EC06-5874-4D23-8D35-44CC945AE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3B440-F111-4D24-83F9-AF1ABEE7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A973B-B727-4763-94D2-836446F1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6E97-BD3E-42ED-9DBB-F2D88343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0A9F8-302E-42E3-8B22-B9738661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A6D07-6432-47F1-8F4A-57826246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5E17C-2F5F-4D20-A681-81CB7F0E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021A9-E219-404A-ABD4-4E558101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76F1B-EA8A-4D08-8C4B-0335C093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1D2DC-D523-4CAE-8DA8-331E9F4F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FA813-1719-4F64-83DC-7047BB31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D9D2F-3056-4077-B2FF-358314E23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05DBA-546C-4F1B-B8DD-33BC7CCEB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DD10F-5A7D-4359-9253-F032F8C2F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9C8F-14B7-448C-9199-3E595404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8C4A1-8E56-4B48-ADFE-8C4AD9A3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78B57-BBAA-49C1-85AC-FA2722AA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871C6-D320-4CB2-99F2-D68C9EA63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E62CE-1669-40AA-BE98-5E11234C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8E89F-00DC-4CB8-8EA2-A051C9DA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CFD7E-3BBE-4682-AE3B-6F301FAB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F9729-4EBC-4CB9-8F1A-954CF73E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DFFC6-1AEF-499E-9C67-F6374007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5389A-01C0-457F-8ABE-F5D27E9F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81530-8D22-4FCD-B87B-E3C224194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FBE1-BD0D-4985-9D0B-AFAD0256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C8A75-42D7-4F47-A296-4E3052FAD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CAD4E-06CB-4426-BD69-BB6987E71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D4688-4593-423C-B8E9-8C9FC715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8052A-F3C7-4797-BB44-94AD5BEA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F7631-C2F9-45F8-9859-BC047032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63478-7D07-4E4B-8B39-891E9B0B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70B90-5FB2-4D43-A6B5-986DDA4D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26246-B991-462C-A5E0-16D187EB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A229F-D8DB-44CC-8265-ABDC66B0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37652-1D15-404B-A112-28297EC0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577C-2A64-43C4-BC75-01E0436E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42CF1-F930-436D-BD72-B43A94B9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71590-3ABE-4E5F-8556-1BEDFEC90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850CC-95F8-4E3B-AB12-A17CAA826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9CED0-D0C6-4C2D-929C-04FA08A0A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DB87E-8666-42B7-8A63-84565F08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3CFCA-C9EC-4F06-B4AC-5974E70E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729C5-E264-4A19-9782-B5D05FBA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3B9C1-A48C-4830-B8ED-AA83E936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DCE2C-0DA5-4C11-829C-65D450CC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7A17E-D2FC-48B0-98EC-ED8A7365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A128-FDCA-45FC-A3F2-FE0846F7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93D7C-81EE-48A3-BE64-69BE7F93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B186C-DDF5-4B8F-9278-F725F1A1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50D27-3B68-4276-BE27-5981106F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A3239-5A15-4588-B72F-3A0586694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F49CC-80A2-42B1-995D-2E98B1406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5336A-8271-4788-A370-95B79D3E6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B84FE-8DC4-46EB-B5A3-6AB40601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BF686-1B2A-4DF7-AB43-C02AEBEB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CCD69-13D3-44AD-9E97-7BAA3A3C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9EE2F-BB10-425E-AFAD-1020193C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0CBD-7711-4C1D-9CCF-A5E86393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BE2CD-D795-41A8-BA3B-B396E516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1AF37-6ADE-4046-9CDB-E182570D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F1538-4157-4514-86CD-7AB0BFE4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39793-4A7C-4B7B-B826-611771CE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CC3A3-360B-405D-A0E7-C12076CC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1EF8A-B013-4FAB-B045-EE2742664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97B37-9D0E-4055-9FFC-4CD607516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514ECC-5061-4D0A-853B-9DD8D287E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A2E495-2743-495A-BCF3-18B62A73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FF47D9-DF7B-423D-9F97-AF0F6A7B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BF0F-57D8-4E84-8B3D-C9F1962804C5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Birbaşa Birləşdirici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Düzbucaqlı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Düzbucaqlı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Düzbucaqlı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Düzbucaqlı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Düzbucaqlı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Düzbucaqlı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B489-86D4-4865-A8DB-36DCB7C2AA00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7408-F1F9-409D-A1B8-814EB30DD66E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Düzbucaqlı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Düzbucaqlı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Düzbucaqlı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Birbaşa Birləşdirici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CAB0-D1B6-44B1-A8BB-F959F2DCC80C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üzbucaqlı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Düzbucaqlı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üzbucaqlı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Birbaşa Birləşdirici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Düzbucaqlı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84F3-BE93-4905-85B0-DABA1B2011FB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A89B-77A0-4CA0-85FA-0C07EE7645B7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üzbucaqlı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Düzbucaqlı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Düzbucaqlı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Düzbucaqlı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Düzbucaqlı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üzbucaqlı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üzbucaqlı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Birbaşa Birləşdirici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83CA-1247-4043-A1CF-977A0EA9C27D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Birbaşa Birləşdirici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8A72-72A7-4A7D-BD15-084258018BCF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Birbaşa Birləşdirici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Düzbucaqlı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Düzbucaqlı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Düzbucaqlı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Düzbucaqlı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Düzbucaqlı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Birbaşa Birləşdirici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Düzbucaqlı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AC46-960B-4C47-ABBB-863297628AA3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C85D-93C1-4D7C-B838-E9EEA9AFE8C8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Düzbucaqlı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Düzbucaqlı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6266-F4C1-401C-A04C-1628A3AE026F}" type="slidenum">
              <a:rPr b="0" lang="az-Latn-AZ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Düzbucaqlı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Düzbucaqlı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Düzbucaqlı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Düzbucaqlı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Düzbucaqlı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Birbaşa Birləşdirici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Düzbucaqlı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7C06-15C5-440F-999F-F3E8C21CFDC9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56760" y="3286080"/>
            <a:ext cx="835812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00000"/>
                </a:solidFill>
                <a:latin typeface="Georgia"/>
              </a:rPr>
              <a:t>The Central Eurasian Region in the Contemporary Architecture of the World Monetary and Financial System</a:t>
            </a:r>
            <a:endParaRPr b="0" lang="en-US" sz="21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Mətn Qutusu 5"/>
          <p:cNvSpPr/>
          <p:nvPr/>
        </p:nvSpPr>
        <p:spPr>
          <a:xfrm>
            <a:off x="1143000" y="571680"/>
            <a:ext cx="6858000" cy="20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Georgia"/>
              </a:rPr>
              <a:t>INTER-REGONAL BANKING COOPERATION: </a:t>
            </a:r>
            <a:br>
              <a:rPr sz="1800"/>
            </a:br>
            <a:r>
              <a:rPr b="1" lang="en-GB" sz="1800" spc="-1" strike="noStrike">
                <a:solidFill>
                  <a:srgbClr val="002060"/>
                </a:solidFill>
                <a:latin typeface="Georgia"/>
              </a:rPr>
              <a:t>SOLID FINANCIAL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INTERNATIONAL CONFER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MAY 27, 2010, BA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5"/>
          <p:cNvSpPr/>
          <p:nvPr/>
        </p:nvSpPr>
        <p:spPr>
          <a:xfrm>
            <a:off x="4214880" y="4857840"/>
            <a:ext cx="45622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LDAR ISMAIL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ZERBAIJAN BANKS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320" y="3571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Slide 1. Structure of Central Eurasia’s </a:t>
            </a:r>
            <a:br>
              <a:rPr sz="2400"/>
            </a:b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Geopolitical Expanse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3" name="Picture 3" descr=""/>
          <p:cNvPicPr/>
          <p:nvPr/>
        </p:nvPicPr>
        <p:blipFill>
          <a:blip r:embed="rId1"/>
          <a:srcRect l="2632" t="18233" r="2632" b="3916"/>
          <a:stretch/>
        </p:blipFill>
        <p:spPr>
          <a:xfrm>
            <a:off x="492120" y="2000160"/>
            <a:ext cx="81518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4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8308800" cy="4500360"/>
          </a:xfrm>
          <a:prstGeom prst="rect">
            <a:avLst/>
          </a:prstGeom>
          <a:ln w="0">
            <a:noFill/>
          </a:ln>
        </p:spPr>
      </p:pic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85840" y="31284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Slide 2. The CEA Countries in the Global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onetary Expanse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8858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Latn-AZ" sz="2400" spc="-1" strike="noStrike">
                <a:solidFill>
                  <a:srgbClr val="000066"/>
                </a:solidFill>
                <a:latin typeface="Georgia"/>
              </a:rPr>
              <a:t>Slide 4.</a:t>
            </a: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ain Indices of CEA, World and Regional Nations and Associations (2008, %)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1035000" y="1643040"/>
          <a:ext cx="7323120" cy="4361040"/>
        </p:xfrm>
        <a:graphic>
          <a:graphicData uri="http://schemas.openxmlformats.org/drawingml/2006/table">
            <a:tbl>
              <a:tblPr/>
              <a:tblGrid>
                <a:gridCol w="2190960"/>
                <a:gridCol w="1852560"/>
                <a:gridCol w="1736640"/>
                <a:gridCol w="1542960"/>
              </a:tblGrid>
              <a:tr h="27792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ion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rit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p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DP 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PP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 gridSpan="4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U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2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p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40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204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rk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kist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ddle E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1320" y="31284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Slide 4. Main Trade Partners of the CEA Countries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(2008, %)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9" name="Picture 2" descr=""/>
          <p:cNvPicPr/>
          <p:nvPr/>
        </p:nvPicPr>
        <p:blipFill>
          <a:blip r:embed="rId1"/>
          <a:stretch/>
        </p:blipFill>
        <p:spPr>
          <a:xfrm>
            <a:off x="604800" y="1643040"/>
            <a:ext cx="793440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1320" y="3841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Slide 5. </a:t>
            </a: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ain West-East and North-South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Currency Axes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81" name="Picture 2" descr=""/>
          <p:cNvPicPr/>
          <p:nvPr/>
        </p:nvPicPr>
        <p:blipFill>
          <a:blip r:embed="rId1"/>
          <a:stretch/>
        </p:blipFill>
        <p:spPr>
          <a:xfrm>
            <a:off x="1393920" y="1606680"/>
            <a:ext cx="63561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4:34:54Z</dcterms:created>
  <dc:creator>ABA-BBM</dc:creator>
  <dc:description/>
  <dc:language>en-US</dc:language>
  <cp:lastModifiedBy>ABA-BBM</cp:lastModifiedBy>
  <dcterms:modified xsi:type="dcterms:W3CDTF">2010-05-26T13:27:21Z</dcterms:modified>
  <cp:revision>35</cp:revision>
  <dc:subject/>
  <dc:title>Slayd 1</dc:title>
</cp:coreProperties>
</file>