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A88A-7E95-4B2C-B60E-CCE4A9462F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2E9D-5966-496C-9181-1C48CC035C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03DD-A2B5-4E90-9115-6A4B28852B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3533-DFCA-484A-B4B7-56867116FD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8211-8FA3-408E-91ED-14D9D10FB0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DFC8-CD99-49FC-B260-B055AE6411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FDE5-9607-4527-B9D7-9ED6EB267B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2A88-DA46-4749-A03F-6E47A64188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BE65-6166-42BA-ADE9-FD29CCAA30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9C7F-37E9-4B8E-A81C-83AB7D562F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6C42-5C43-4187-A804-25FA6942CE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712A-55DC-4EAC-99B1-D95178DF5F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C22E-E89A-4889-A335-AA6E2642F2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9BB5-180F-45CB-BD6B-5DBF4689AE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759A-1EE5-4F38-8A26-151F17FE11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BEFA-DCC0-403B-9BF8-2F3EDEE654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C8D53-F385-440D-B1B3-B3DAE9C39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E83C4-500B-48D4-9876-E15165C9F9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EBCCB-525A-461D-94E1-A86736CAA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2A076-E7AE-4558-AF26-F1309C768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DDB5C-0828-464B-A7CB-C4BB558B39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D7653-9A7E-4C8D-A8C5-FE4D8AA170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B1DEF-3412-4290-83C4-1BF3849E97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D2FB9-5AAF-4216-B447-F8F216AE12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437A3-F925-4449-8AC7-E1BF214A65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CDCD9-0199-4750-A78A-F34000B2CD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77D2E-6D4B-4C2B-B462-B1664FE131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46B2B-CB87-4139-95DA-98D8AC901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3685A-AC30-4339-871C-DA5EDA461A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1EC6F-1C9F-483F-9AEF-587E40F2C9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8CAFD-382A-46DA-87C1-A2E980F089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83A00-9F42-40D6-86A0-535AE40FF4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07879-D4CC-4EB2-B0B8-E55E8D1233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9F6BE-3D31-4F96-B678-B5D6EECC8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63B4A-DB5F-470C-B680-AD83B8AEDD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73780-838B-4F5F-9FCF-01AB844AF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CA326-84BC-4AE2-ACCD-3AF1B57DB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4AEA1-05CB-4447-ABA6-262C6B18E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0860D-FA48-49C7-B5C3-5CAD9DD67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878BC-AC0D-4591-86D8-3ED71817C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2B21-077E-4071-8DA0-8E08F58FEB19}" type="slidenum">
              <a:rPr b="0" lang="ru-RU" sz="12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2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10FA-C476-441A-BF3B-E1134E5489C9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0294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Verdana"/>
              </a:rPr>
              <a:t>RUSSIAN ECONOMY AND BANKING SECTOR IN THE CONTEXT OF CRISIS</a:t>
            </a:r>
            <a:endParaRPr b="1" lang="en-US" sz="3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13880" y="442872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Oleg Preks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D</a:t>
            </a: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ecember</a:t>
            </a: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,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34880"/>
            <a:ext cx="91440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real source of inflation in Russia is not the growth of the credit marke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5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0150-0C43-4029-8B35-7BAF7F17331F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4" descr=""/>
          <p:cNvPicPr/>
          <p:nvPr/>
        </p:nvPicPr>
        <p:blipFill>
          <a:blip r:embed="rId1"/>
          <a:stretch/>
        </p:blipFill>
        <p:spPr>
          <a:xfrm>
            <a:off x="5000760" y="1428840"/>
            <a:ext cx="4000320" cy="52862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4" descr=""/>
          <p:cNvPicPr/>
          <p:nvPr/>
        </p:nvPicPr>
        <p:blipFill>
          <a:blip r:embed="rId2"/>
          <a:stretch/>
        </p:blipFill>
        <p:spPr>
          <a:xfrm>
            <a:off x="142920" y="1428840"/>
            <a:ext cx="4714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9800" y="42048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undertakes significant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economic recovery measures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…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B35E-B325-4D66-9BAC-AE7A718DD5F0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4429080" cy="535788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4" descr=""/>
          <p:cNvPicPr/>
          <p:nvPr/>
        </p:nvPicPr>
        <p:blipFill>
          <a:blip r:embed="rId2"/>
          <a:stretch/>
        </p:blipFill>
        <p:spPr>
          <a:xfrm>
            <a:off x="4714920" y="1285920"/>
            <a:ext cx="42861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…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ut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most multiplicative way of stimulating the economic activity is being used weak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3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2AF1-DA61-408B-A5B7-918874FDB4A2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4643280" cy="2857680"/>
          </a:xfrm>
          <a:prstGeom prst="rect">
            <a:avLst/>
          </a:prstGeom>
          <a:ln w="0">
            <a:noFill/>
          </a:ln>
        </p:spPr>
      </p:pic>
      <p:pic>
        <p:nvPicPr>
          <p:cNvPr id="135" name="Диаграмма 4" descr=""/>
          <p:cNvPicPr/>
          <p:nvPr/>
        </p:nvPicPr>
        <p:blipFill>
          <a:blip r:embed="rId2"/>
          <a:stretch/>
        </p:blipFill>
        <p:spPr>
          <a:xfrm>
            <a:off x="4524480" y="1428840"/>
            <a:ext cx="4619520" cy="2714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3085560" y="4214880"/>
            <a:ext cx="2143800" cy="337320"/>
          </a:xfrm>
          <a:prstGeom prst="rect">
            <a:avLst/>
          </a:prstGeom>
          <a:noFill/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200160" y="4818240"/>
            <a:ext cx="871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recovery plan is aimed at developing infrastructu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mean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job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al multiplication eff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other branches of econom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demand for primary good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9"/>
          <p:cNvSpPr/>
          <p:nvPr/>
        </p:nvSpPr>
        <p:spPr>
          <a:xfrm>
            <a:off x="4071960" y="3286080"/>
            <a:ext cx="85680" cy="9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3"/>
          <p:cNvSpPr/>
          <p:nvPr/>
        </p:nvSpPr>
        <p:spPr>
          <a:xfrm flipV="1">
            <a:off x="5243400" y="3714480"/>
            <a:ext cx="218628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emporary price rise on raw materials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is not a way out of the crisis for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2F3B-4E82-43EB-B6E2-4BF055948774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0" y="1433520"/>
            <a:ext cx="52149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ese demand for raw materials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s caused by major recovery measures aimed at developing infrastructure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a will hardly continue to build up raw material reserves at growing prices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143680" y="1228680"/>
          <a:ext cx="3857400" cy="2468520"/>
        </p:xfrm>
        <a:graphic>
          <a:graphicData uri="http://schemas.openxmlformats.org/drawingml/2006/table">
            <a:tbl>
              <a:tblPr/>
              <a:tblGrid>
                <a:gridCol w="2016000"/>
                <a:gridCol w="1841400"/>
              </a:tblGrid>
              <a:tr h="642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 of China in the global consumption i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ude o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umi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Object 7" descr=""/>
          <p:cNvPicPr/>
          <p:nvPr/>
        </p:nvPicPr>
        <p:blipFill>
          <a:blip r:embed="rId1"/>
          <a:stretch/>
        </p:blipFill>
        <p:spPr>
          <a:xfrm>
            <a:off x="214200" y="3786120"/>
            <a:ext cx="8731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Verdana"/>
              </a:rPr>
              <a:t>Mortgage market in Russia &amp; other countries</a:t>
            </a:r>
            <a:endParaRPr b="1" lang="en-US" sz="2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E946-8A0E-4ADF-A860-036E85E5C6C0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14280"/>
            <a:ext cx="3286080" cy="278640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4" descr=""/>
          <p:cNvPicPr/>
          <p:nvPr/>
        </p:nvPicPr>
        <p:blipFill>
          <a:blip r:embed="rId2"/>
          <a:stretch/>
        </p:blipFill>
        <p:spPr>
          <a:xfrm>
            <a:off x="3571920" y="1214280"/>
            <a:ext cx="5357880" cy="5500800"/>
          </a:xfrm>
          <a:prstGeom prst="rect">
            <a:avLst/>
          </a:prstGeom>
          <a:ln w="0">
            <a:noFill/>
          </a:ln>
        </p:spPr>
      </p:pic>
      <p:pic>
        <p:nvPicPr>
          <p:cNvPr id="149" name="Диаграмма 5" descr=""/>
          <p:cNvPicPr/>
          <p:nvPr/>
        </p:nvPicPr>
        <p:blipFill>
          <a:blip r:embed="rId3"/>
          <a:stretch/>
        </p:blipFill>
        <p:spPr>
          <a:xfrm>
            <a:off x="142920" y="4071960"/>
            <a:ext cx="3286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2920" y="713880"/>
            <a:ext cx="4643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re are many objects of great value to man which cannot be attained by unconnected individuals, but must be attained, if attained at all, by association. 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Daniel Webster</a:t>
            </a:r>
            <a:r>
              <a:rPr b="1" i="1" lang="ru-RU" sz="1800" spc="-1" strike="noStrike">
                <a:solidFill>
                  <a:srgbClr val="376092"/>
                </a:solidFill>
                <a:latin typeface="Verdana"/>
              </a:rPr>
              <a:t> (1782-1852), </a:t>
            </a:r>
            <a:br>
              <a:rPr sz="18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United States Secretary of State</a:t>
            </a:r>
            <a:endParaRPr b="1" lang="en-US" sz="1800" spc="-1" strike="noStrike">
              <a:solidFill>
                <a:srgbClr val="376092"/>
              </a:solidFill>
              <a:latin typeface="Verdan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072040" y="692280"/>
            <a:ext cx="3571920" cy="3951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5286240" y="5143680"/>
            <a:ext cx="32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of Russian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7 (495) 690-22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Highlights of the Russian banking system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92C6-B05E-4C9C-BEEF-99A23913D5BB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14200" y="1285920"/>
          <a:ext cx="8715600" cy="5429160"/>
        </p:xfrm>
        <a:graphic>
          <a:graphicData uri="http://schemas.openxmlformats.org/drawingml/2006/table">
            <a:tbl>
              <a:tblPr/>
              <a:tblGrid>
                <a:gridCol w="3000600"/>
                <a:gridCol w="1000080"/>
                <a:gridCol w="1000080"/>
                <a:gridCol w="1143000"/>
                <a:gridCol w="1285920"/>
                <a:gridCol w="1285920"/>
              </a:tblGrid>
              <a:tr h="1063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or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. ru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349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2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9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4492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7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2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5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n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2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8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8,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27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0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0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4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6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209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6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1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5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6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5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4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3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5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7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4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6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an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E844-536C-484E-B4E9-4E54EDDDD28A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2440" y="1482840"/>
          <a:ext cx="8929800" cy="4875120"/>
        </p:xfrm>
        <a:graphic>
          <a:graphicData uri="http://schemas.openxmlformats.org/drawingml/2006/table">
            <a:tbl>
              <a:tblPr/>
              <a:tblGrid>
                <a:gridCol w="457200"/>
                <a:gridCol w="4246560"/>
                <a:gridCol w="685800"/>
                <a:gridCol w="633600"/>
                <a:gridCol w="620640"/>
                <a:gridCol w="744480"/>
                <a:gridCol w="755640"/>
                <a:gridCol w="785880"/>
              </a:tblGrid>
              <a:tr h="282600">
                <a:tc gridSpan="2"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THE CORRESPONDING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I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 THE PREVIOUS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1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out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ight turnov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ments in fixed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ail turn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mer price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goods’ producer price inde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employment rat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economically active populatio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period’s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 disposable money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which oil ex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15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eterioration of major macroeconomic indicators in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Assets of Russian Banking Sector in Comparison with Other Advanced Economi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A684-4372-4002-8231-1DFBAAC9367A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Диаграмма 3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143320" cy="5286240"/>
          </a:xfrm>
          <a:prstGeom prst="rect">
            <a:avLst/>
          </a:prstGeom>
          <a:ln w="0">
            <a:noFill/>
          </a:ln>
        </p:spPr>
      </p:pic>
      <p:pic>
        <p:nvPicPr>
          <p:cNvPr id="95" name="Диаграмма 4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571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feels deficit for long-term resourc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E195-1FB3-4038-9287-7D2EFE8CF370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Диаграмма 3" descr=""/>
          <p:cNvPicPr/>
          <p:nvPr/>
        </p:nvPicPr>
        <p:blipFill>
          <a:blip r:embed="rId1"/>
          <a:stretch/>
        </p:blipFill>
        <p:spPr>
          <a:xfrm>
            <a:off x="142920" y="1616040"/>
            <a:ext cx="4357800" cy="5143680"/>
          </a:xfrm>
          <a:prstGeom prst="rect">
            <a:avLst/>
          </a:prstGeom>
          <a:ln w="0">
            <a:noFill/>
          </a:ln>
        </p:spPr>
      </p:pic>
      <p:pic>
        <p:nvPicPr>
          <p:cNvPr id="99" name="Диаграмма 5" descr=""/>
          <p:cNvPicPr/>
          <p:nvPr/>
        </p:nvPicPr>
        <p:blipFill>
          <a:blip r:embed="rId2"/>
          <a:stretch/>
        </p:blipFill>
        <p:spPr>
          <a:xfrm>
            <a:off x="4643280" y="1616040"/>
            <a:ext cx="4357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old model of Russian economy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oes not work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E21F-9A6D-4C93-B783-A94228A98F70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4" descr=""/>
          <p:cNvPicPr/>
          <p:nvPr/>
        </p:nvPicPr>
        <p:blipFill>
          <a:blip r:embed="rId1"/>
          <a:stretch/>
        </p:blipFill>
        <p:spPr>
          <a:xfrm>
            <a:off x="109440" y="2541600"/>
            <a:ext cx="4608720" cy="42609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128520" y="115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l of Russian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232600" y="12142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model of R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7"/>
          <p:cNvSpPr/>
          <p:nvPr/>
        </p:nvSpPr>
        <p:spPr>
          <a:xfrm>
            <a:off x="1782720" y="2286000"/>
            <a:ext cx="12146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737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8"/>
          <p:cNvSpPr/>
          <p:nvPr/>
        </p:nvSpPr>
        <p:spPr>
          <a:xfrm>
            <a:off x="214200" y="1857240"/>
            <a:ext cx="4500720" cy="4287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gh oil prices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80-120 $/bb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хема 9" descr=""/>
          <p:cNvPicPr/>
          <p:nvPr/>
        </p:nvPicPr>
        <p:blipFill>
          <a:blip r:embed="rId2"/>
          <a:stretch/>
        </p:blipFill>
        <p:spPr>
          <a:xfrm>
            <a:off x="5065560" y="1944720"/>
            <a:ext cx="4084920" cy="4206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noentry.gif"/>
          <p:cNvPicPr/>
          <p:nvPr/>
        </p:nvPicPr>
        <p:blipFill>
          <a:blip r:embed="rId3"/>
          <a:stretch/>
        </p:blipFill>
        <p:spPr>
          <a:xfrm>
            <a:off x="3228840" y="330984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109" name="Штриховая стрелка вправо 12"/>
          <p:cNvSpPr/>
          <p:nvPr/>
        </p:nvSpPr>
        <p:spPr>
          <a:xfrm rot="5400000">
            <a:off x="3000240" y="2000160"/>
            <a:ext cx="1785960" cy="1071360"/>
          </a:xfrm>
          <a:prstGeom prst="pie">
            <a:avLst/>
          </a:prstGeom>
          <a:solidFill>
            <a:srgbClr val="0d0d0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трелка вверх 13" descr=""/>
          <p:cNvPicPr/>
          <p:nvPr/>
        </p:nvPicPr>
        <p:blipFill>
          <a:blip r:embed="rId4"/>
          <a:stretch/>
        </p:blipFill>
        <p:spPr>
          <a:xfrm>
            <a:off x="4157640" y="2584440"/>
            <a:ext cx="13352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mph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redibility comes back to Ruble slow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2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8346-212F-4EC1-B37B-C96F3AC952AC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214200" y="1357200"/>
            <a:ext cx="4000680" cy="5286600"/>
          </a:xfrm>
          <a:prstGeom prst="rect">
            <a:avLst/>
          </a:prstGeom>
          <a:solidFill>
            <a:srgbClr val="f2f2f2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other countries are keen on buying foreign currencies if the national currency deval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the “mild” d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$ 46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n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ve been bought by population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re is agiotage demand on rubles, despite its strength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urthermore, the demand on foreign currencies is 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Содержимое 4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5720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8572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anks need to be recapitalized, because of the growth of delinquent loan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4324-F04C-46EB-A146-8DE4BDA9B198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6215040" cy="528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15040" y="1681200"/>
          <a:ext cx="2928960" cy="3784680"/>
        </p:xfrm>
        <a:graphic>
          <a:graphicData uri="http://schemas.openxmlformats.org/drawingml/2006/table">
            <a:tbl>
              <a:tblPr/>
              <a:tblGrid>
                <a:gridCol w="1527120"/>
                <a:gridCol w="140184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 of the volume of delinquent loans by the end of 2009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credit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&amp;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 to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-b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 Sui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15%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ody´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%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fin 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growth of delinquent loans is accompanied by reduction of credit activit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0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99CF-ECA7-4919-B27F-2490EDBABCA0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Диаграмма 4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4714920" cy="500076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1" descr=""/>
          <p:cNvPicPr/>
          <p:nvPr/>
        </p:nvPicPr>
        <p:blipFill>
          <a:blip r:embed="rId2"/>
          <a:stretch/>
        </p:blipFill>
        <p:spPr>
          <a:xfrm>
            <a:off x="5000760" y="1428840"/>
            <a:ext cx="3929040" cy="52149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3600" y="6595920"/>
            <a:ext cx="129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: CBR, IM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7:16:52Z</dcterms:created>
  <dc:creator>Григорян</dc:creator>
  <dc:description/>
  <dc:language>en-US</dc:language>
  <cp:lastModifiedBy>Serge Grigoryan</cp:lastModifiedBy>
  <dcterms:modified xsi:type="dcterms:W3CDTF">2009-11-30T08:03:28Z</dcterms:modified>
  <cp:revision>971</cp:revision>
  <dc:subject/>
  <dc:title>О деятельности  Ассоциации российских банков  за отчетный период.  Антикризисные меры в финансово-кредитной сфере</dc:title>
</cp:coreProperties>
</file>