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5BFA-8035-4652-B6DF-75CAA7176D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EC5B-7BC5-4BB3-975B-2CFE7FAC512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8AA4-072C-4DD2-BE00-8E0473D071C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2BAD-C6DC-4CC6-B248-36445ADAE12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FFED-009C-4B77-93FF-5AAF9B0038D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C8C2-E6BE-4EC5-A9F7-C15B3CFEE51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ADBE-3FF4-4922-BC22-2C3E507A459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28B7-791A-4323-8180-E0EC4C16934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AF61-5FB3-430B-B070-9AC8E6D7DCD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4899-2B06-4650-83B8-45E46D9EB9C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C6B0-A7AC-44E9-A764-48205330B07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973B-7249-48AE-A02E-94021793E93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255E-341E-4F04-9B52-CC8E412E8E9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B70A-695B-44D3-98A3-8615A1F3D51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E14-C14D-4E7A-A8DF-D69B6145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4CE9-9764-4392-9CFE-9500CB57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8CB1-3F79-4237-A3A5-81CE238F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C38-BD35-47ED-921F-769728D9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F2BC-E1C2-4035-84F8-1BD0DB07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7EC4-586F-47EB-A68E-847EA1F3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BCA9-ED28-4005-82C3-274D6AAC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F131-EC71-483D-954F-06C8E5D5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2818-F96F-485F-BB80-617C3245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0CE0-8331-4FD7-8113-1AFB1CF3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AC2B-CCCF-4888-8F62-85056A41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FC74-723A-41AA-A532-18526C29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39A2-C284-4E77-B585-E3080328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E460-D347-4A46-AE3E-42BB314D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C9A3-9EEA-40CF-BBB8-35B49EBB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2FCA-DFFC-457B-9B4F-9B847524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6EC4-1BA3-4FA1-BA32-DCD68D26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08FA-7A31-41F3-A27E-636E855B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68E-F482-4FD7-A0EE-A2BC8AD4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39FB-3C1D-480A-847A-E5D45D01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93C-7200-43DE-8F3D-17290112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D9FB-0F8A-41FB-A3A8-EE72834C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BAA5-2E49-4036-A26C-517D07D9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650-06AD-4ED5-8B2B-FE26F89A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A491-6ECD-4258-8561-D9696C7C6B7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32EB-5DE6-4E16-B108-3B11CBF2305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8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russels, 3 December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PA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9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sult of a EC consultation shows that a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end-dat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o the process of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migration to SEPA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s required. Migration to SEPA is irreversibl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800"/>
            </a:b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Bank account switching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ithin a MS is made easier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EPA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Direct Debit Schem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for EU MS) becomes eff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751E-1FBF-4F53-AD00-6890AED5753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D505-842A-423C-8C25-2948F6067D3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4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nsultation on the IFRS for S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of audit working papers between MSs and Canada, Japan and Switzerland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Need to remove barriers to entry for audit firm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ossible adoption of international standards for statutory audit of EU compani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Financial Reporting and Taxation 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654E-1FC8-4940-B350-EC2097587DB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oval of barriers to entry for audit firm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7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published a summary of the consultati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on control structures in audit firms and their consequences on the audit market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udy,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conclude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ll potential barriers to the entry, growth and survival of audit firms in the international audit market must be removed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urrent rules are not indispensable in order to retain human capital.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 number of other</a:t>
            </a:r>
            <a:r>
              <a:rPr b="1" lang="en-GB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arriers to increasing the number of audit firms operating on the international market were identified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A0DB-1601-4FAC-AF5F-CE95CCFEB73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67BF-1159-4B15-8F42-104D9167330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2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anking Regulation and Supervis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and Securit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tail Financial Services and Paymen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11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inancial Reporting and Tax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4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ar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ll EU legislative initiatives in the past period have been related to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untering the causes of the current financial crisi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rectly or indirectly, most of the legislative initiative have a European and ofte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nationa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scop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 this Presentation: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focus on one issue per theme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or more detail, see the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mplete set of initiative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to be circulated after meeting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36DF-66F6-4475-8843-A17AB3613F8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1536-F5BB-4A56-9603-0C4E0A24379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6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financial supervision in Europ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New EU Framework for Crisis Management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rengthened rules on bank capital and on remuneration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hanges to the Capital Requirements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view of the Financial Conglomerates Dir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Banking Regulation &amp; Supervision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8692-2E51-453F-ADCC-E1B1117D413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Supervis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3-Sep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package of draft legislation to strengthen supervision of the financial sector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legislation will create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Boar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RB) an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FS), to be established by end-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6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dditional legislative proposals targeted to change existing financial services legislation to ensure that the new Authorities can work effectively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C74B-1C98-45C6-84B9-462FC34CAF1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7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safety of derivatives market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afer European market for credit default swap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rivatives in crisis – Safeguarding Financial Stability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d tape reduction and improvement of investor protec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udy on trading and post-trading prices, costs and volu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ublic consultation on the UCITS depositary function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Financial Markets &amp; Securitie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C7BD-1126-435F-86CD-032909E28A1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afety of derivatives marke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0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fter a stakeholder Consultation launched in Jul-09 and the public hearing in Sept-09, EC adopte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munication for ensuring efficient, safe and sound derivatives market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The Communication sets out future policy actions to: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increase transparenc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of the derivatives market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reduce counterparty and operational risk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in trading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enhance market integrit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oversight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EC will start a process of drafting legislation, notably by launching impact assessments, and come forward with legislative proposals in 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ACD9-E538-4DE5-9D3C-73E1F3ACBE4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11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Consumers to start benefiting from easier bank account switching from Nov-09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SEPA – Cross-Border Payments Now A Reality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Possible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General support for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Actions to make SEPA a succes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Technical Workshop on Packaged Retail Investment Product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access to a basic bank account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lternative dispute resolution (ADR) in the area of financial service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Report on the financial crisis and financial educ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responsible lending and borrowing in the EU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xpert group report on credit historie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Retail Financial Services &amp; Payment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9BBA-C283-4B3B-8D66-7A861808F0B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EPA Roadmap for 2009-2012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0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adopted a Communication 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pleting SEPA: a Roadmap for 2009-2012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mmunication provides a framework for action within six priority area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oster migr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Increase SEPA awareness and promote SEPA product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Design a sound legal environment and strengthen SEPA compli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Promote innov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e necessary standardisation, interoperability and security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Clarify and improve SEPA govern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Viktorija Proskurovska</cp:lastModifiedBy>
  <dcterms:modified xsi:type="dcterms:W3CDTF">2009-12-02T11:23:45Z</dcterms:modified>
  <cp:revision>197</cp:revision>
  <dc:subject/>
  <dc:title>Latest developments in the EU legislation on financial services</dc:title>
</cp:coreProperties>
</file>