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0013-4A52-47CB-8807-CE864D58BE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85DA-2794-448F-9B6F-05F89D3D6A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6643-1419-4290-8A03-0E1CFA78CE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87A9-F326-4884-B4BF-8EBEE5D77D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1970-C013-46B3-BFE6-8D6C2E9EE3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E0BE-5B37-4104-A6C4-83FBA3FAB6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294F-2D52-47FE-8F22-EDC05C6BC0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7406-39AB-4093-A945-00B30DAAB3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52D1-4287-42D4-9D32-25EABE8101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F2BC-4451-425E-971C-7654C6DDB8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F6E6-EB60-4A49-B45C-A22587EEAB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DCA3-6CDF-4AF3-9090-96DC3FB432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1B49-896C-4643-BF7F-9D99A43199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324B-22BB-446A-83B0-BD700C6420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5DD3-D28D-46DF-A651-4940469B8C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C1AC-7EDA-473A-AAE0-C06774CA80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3F868-3ABA-4A0C-9255-CC84A5B19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E00AD-15F5-4173-AFA7-1320924F52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A3A6F-E556-41C2-8C0D-24E1E3EFC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885D3-F647-4ACF-8DB2-7759A552BF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903E3-BA2E-4312-8A10-B9624D9FA1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2F10B-4D21-49B9-A365-0D5F15EA8B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C95D9-8F01-49F5-A44E-A98D6465F5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62C61-1EA3-4B10-A967-B58C371772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72CB4-492A-4B91-9066-CB8ED35718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EDDFD-A7C3-40A7-82D3-2E49ED6C44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2CD91-7382-43D0-BAEE-652F2E9CD4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5A4D5-264A-4B84-AF26-5AD00CD46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EC4AE-F56F-4C1E-855F-D7C2462AFB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17204-0BE5-448D-B745-16FAD92A8E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DD053-92C2-4B55-9782-1D80986B0F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FED6F-1422-4DAF-AC14-5E32D7B921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56732-FE0C-4348-AA33-405DAA1238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8A2BA-5B86-4F16-85EA-4BEFAC82F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2C71-964C-4B4C-B759-40E52256D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10D3D-8774-4302-BA58-5AFE7F85D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52BB2-DE52-4561-A856-8E3896567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A191E-B81C-4197-A5F4-60F0C78B2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C7FE-E8D9-4D9B-BAA8-FA1CB261F7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77148-1F50-4846-81F2-75E12C9FC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72E8-8A30-4034-8CE0-6062EE771C5D}" type="slidenum">
              <a:rPr b="0" lang="ru-RU" sz="12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2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01C6-50C0-4E45-9215-DBE1A75C5884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0294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Verdana"/>
              </a:rPr>
              <a:t>RUSSIAN ECONOMY AND BANKING SECTOR IN THE CONTEXT OF CRISIS</a:t>
            </a:r>
            <a:endParaRPr b="1" lang="en-US" sz="3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13880" y="442872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Oleg Preks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D</a:t>
            </a: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ecember</a:t>
            </a: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,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34880"/>
            <a:ext cx="9144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real source of inflation in Russia is not the growth of the credit marke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5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54B4-CB1E-436F-A3AA-37A929E6591F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4" descr=""/>
          <p:cNvPicPr/>
          <p:nvPr/>
        </p:nvPicPr>
        <p:blipFill>
          <a:blip r:embed="rId1"/>
          <a:stretch/>
        </p:blipFill>
        <p:spPr>
          <a:xfrm>
            <a:off x="5000760" y="1428840"/>
            <a:ext cx="4000320" cy="52862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4" descr=""/>
          <p:cNvPicPr/>
          <p:nvPr/>
        </p:nvPicPr>
        <p:blipFill>
          <a:blip r:embed="rId2"/>
          <a:stretch/>
        </p:blipFill>
        <p:spPr>
          <a:xfrm>
            <a:off x="142920" y="1428840"/>
            <a:ext cx="4714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9800" y="42048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undertakes significant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economic recovery measures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…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C952-698B-4D63-BAFD-2C9B5D22F18B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4429080" cy="535788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4" descr=""/>
          <p:cNvPicPr/>
          <p:nvPr/>
        </p:nvPicPr>
        <p:blipFill>
          <a:blip r:embed="rId2"/>
          <a:stretch/>
        </p:blipFill>
        <p:spPr>
          <a:xfrm>
            <a:off x="4714920" y="1285920"/>
            <a:ext cx="42861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…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ut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most multiplicative way of stimulating the economic activity is being used weak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3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45D8-4E2F-4A36-A9D6-4DC79E936ED6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4643280" cy="2857680"/>
          </a:xfrm>
          <a:prstGeom prst="rect">
            <a:avLst/>
          </a:prstGeom>
          <a:ln w="0">
            <a:noFill/>
          </a:ln>
        </p:spPr>
      </p:pic>
      <p:pic>
        <p:nvPicPr>
          <p:cNvPr id="135" name="Диаграмма 4" descr=""/>
          <p:cNvPicPr/>
          <p:nvPr/>
        </p:nvPicPr>
        <p:blipFill>
          <a:blip r:embed="rId2"/>
          <a:stretch/>
        </p:blipFill>
        <p:spPr>
          <a:xfrm>
            <a:off x="4524480" y="1428840"/>
            <a:ext cx="4619520" cy="2714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3085560" y="4214880"/>
            <a:ext cx="2143800" cy="337320"/>
          </a:xfrm>
          <a:prstGeom prst="rect">
            <a:avLst/>
          </a:prstGeom>
          <a:noFill/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200160" y="4818240"/>
            <a:ext cx="871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recovery plan is aimed at developing infrastructu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mean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job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al multiplication eff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other branches of econom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demand for primary good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9"/>
          <p:cNvSpPr/>
          <p:nvPr/>
        </p:nvSpPr>
        <p:spPr>
          <a:xfrm>
            <a:off x="4071960" y="3286080"/>
            <a:ext cx="85680" cy="9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3"/>
          <p:cNvSpPr/>
          <p:nvPr/>
        </p:nvSpPr>
        <p:spPr>
          <a:xfrm flipV="1">
            <a:off x="5243400" y="3714480"/>
            <a:ext cx="218628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emporary price rise on raw materials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is not a way out of the crisis for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709A-FD87-4C91-A80D-66226AA6D1F4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0" y="1433520"/>
            <a:ext cx="52149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ese demand for raw materials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s caused by major recovery measures aimed at developing infrastructure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a will hardly continue to build up raw material reserves at growing prices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143680" y="1228680"/>
          <a:ext cx="3857400" cy="2468520"/>
        </p:xfrm>
        <a:graphic>
          <a:graphicData uri="http://schemas.openxmlformats.org/drawingml/2006/table">
            <a:tbl>
              <a:tblPr/>
              <a:tblGrid>
                <a:gridCol w="2016000"/>
                <a:gridCol w="1841400"/>
              </a:tblGrid>
              <a:tr h="64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 of China in the global consumption i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ude o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umi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Object 7" descr=""/>
          <p:cNvPicPr/>
          <p:nvPr/>
        </p:nvPicPr>
        <p:blipFill>
          <a:blip r:embed="rId1"/>
          <a:stretch/>
        </p:blipFill>
        <p:spPr>
          <a:xfrm>
            <a:off x="214200" y="3786120"/>
            <a:ext cx="8731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Verdana"/>
              </a:rPr>
              <a:t>Mortgage market in Russia &amp; other countries</a:t>
            </a:r>
            <a:endParaRPr b="1" lang="en-US" sz="2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B780-1E5F-46C1-8A4E-4E77A2303D05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14280"/>
            <a:ext cx="3286080" cy="278640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4" descr=""/>
          <p:cNvPicPr/>
          <p:nvPr/>
        </p:nvPicPr>
        <p:blipFill>
          <a:blip r:embed="rId2"/>
          <a:stretch/>
        </p:blipFill>
        <p:spPr>
          <a:xfrm>
            <a:off x="3571920" y="1214280"/>
            <a:ext cx="5357880" cy="5500800"/>
          </a:xfrm>
          <a:prstGeom prst="rect">
            <a:avLst/>
          </a:prstGeom>
          <a:ln w="0">
            <a:noFill/>
          </a:ln>
        </p:spPr>
      </p:pic>
      <p:pic>
        <p:nvPicPr>
          <p:cNvPr id="149" name="Диаграмма 5" descr=""/>
          <p:cNvPicPr/>
          <p:nvPr/>
        </p:nvPicPr>
        <p:blipFill>
          <a:blip r:embed="rId3"/>
          <a:stretch/>
        </p:blipFill>
        <p:spPr>
          <a:xfrm>
            <a:off x="142920" y="4071960"/>
            <a:ext cx="3286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920" y="713880"/>
            <a:ext cx="4643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re are many objects of great value to man which cannot be attained by unconnected individuals, but must be attained, if attained at all, by association. 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Daniel Webster</a:t>
            </a:r>
            <a:r>
              <a:rPr b="1" i="1" lang="ru-RU" sz="1800" spc="-1" strike="noStrike">
                <a:solidFill>
                  <a:srgbClr val="376092"/>
                </a:solidFill>
                <a:latin typeface="Verdana"/>
              </a:rPr>
              <a:t> (1782-1852), </a:t>
            </a:r>
            <a:br>
              <a:rPr sz="18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United States Secretary of State</a:t>
            </a:r>
            <a:endParaRPr b="1" lang="en-US" sz="1800" spc="-1" strike="noStrike">
              <a:solidFill>
                <a:srgbClr val="376092"/>
              </a:solidFill>
              <a:latin typeface="Verdan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072040" y="692280"/>
            <a:ext cx="3571920" cy="3951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5286240" y="5143680"/>
            <a:ext cx="32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of Russian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7 (495) 690-22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Highlights of the Russian banking system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1952-1FC2-4B66-8CF2-ADBBAFB1B187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14200" y="1285920"/>
          <a:ext cx="8715600" cy="5429160"/>
        </p:xfrm>
        <a:graphic>
          <a:graphicData uri="http://schemas.openxmlformats.org/drawingml/2006/table">
            <a:tbl>
              <a:tblPr/>
              <a:tblGrid>
                <a:gridCol w="3000600"/>
                <a:gridCol w="1000080"/>
                <a:gridCol w="1000080"/>
                <a:gridCol w="1143000"/>
                <a:gridCol w="1285920"/>
                <a:gridCol w="1285920"/>
              </a:tblGrid>
              <a:tr h="1063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or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. ru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349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2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9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4492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7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2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5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n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2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8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8,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27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0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0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6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209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6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1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5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6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5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4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3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5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7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4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6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an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E34A-9198-40B9-A99E-0D4C9009B0EE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2440" y="1482840"/>
          <a:ext cx="8929800" cy="4875120"/>
        </p:xfrm>
        <a:graphic>
          <a:graphicData uri="http://schemas.openxmlformats.org/drawingml/2006/table">
            <a:tbl>
              <a:tblPr/>
              <a:tblGrid>
                <a:gridCol w="457200"/>
                <a:gridCol w="4246560"/>
                <a:gridCol w="685800"/>
                <a:gridCol w="633600"/>
                <a:gridCol w="620640"/>
                <a:gridCol w="744480"/>
                <a:gridCol w="755640"/>
                <a:gridCol w="785880"/>
              </a:tblGrid>
              <a:tr h="282600">
                <a:tc gridSpan="2"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THE CORRESPONDING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I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 THE PREVIOUS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1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out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ight turnov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ments in fixed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ail turn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mer price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goods’ producer price inde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employment rat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economically active populatio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period’s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 disposable money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which oil ex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15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eterioration of major macroeconomic indicators in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Assets of Russian Banking Sector in Comparison with Other Advanced Economi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6687-F138-43B6-A750-7222924D553A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Диаграмма 3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143320" cy="5286240"/>
          </a:xfrm>
          <a:prstGeom prst="rect">
            <a:avLst/>
          </a:prstGeom>
          <a:ln w="0">
            <a:noFill/>
          </a:ln>
        </p:spPr>
      </p:pic>
      <p:pic>
        <p:nvPicPr>
          <p:cNvPr id="95" name="Диаграмма 4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571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feels deficit for long-term resourc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E277-F524-4F4C-BC46-0142AFBB005D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Диаграмма 3" descr=""/>
          <p:cNvPicPr/>
          <p:nvPr/>
        </p:nvPicPr>
        <p:blipFill>
          <a:blip r:embed="rId1"/>
          <a:stretch/>
        </p:blipFill>
        <p:spPr>
          <a:xfrm>
            <a:off x="142920" y="1616040"/>
            <a:ext cx="4357800" cy="5143680"/>
          </a:xfrm>
          <a:prstGeom prst="rect">
            <a:avLst/>
          </a:prstGeom>
          <a:ln w="0">
            <a:noFill/>
          </a:ln>
        </p:spPr>
      </p:pic>
      <p:pic>
        <p:nvPicPr>
          <p:cNvPr id="99" name="Диаграмма 5" descr=""/>
          <p:cNvPicPr/>
          <p:nvPr/>
        </p:nvPicPr>
        <p:blipFill>
          <a:blip r:embed="rId2"/>
          <a:stretch/>
        </p:blipFill>
        <p:spPr>
          <a:xfrm>
            <a:off x="4643280" y="1616040"/>
            <a:ext cx="4357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old model of Russian economy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oes not work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D3BF-ECC0-4AE0-B2BE-7CB396F92746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4" descr=""/>
          <p:cNvPicPr/>
          <p:nvPr/>
        </p:nvPicPr>
        <p:blipFill>
          <a:blip r:embed="rId1"/>
          <a:stretch/>
        </p:blipFill>
        <p:spPr>
          <a:xfrm>
            <a:off x="109440" y="2541600"/>
            <a:ext cx="4608720" cy="42609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128520" y="115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l of Russian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232600" y="12142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model of R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7"/>
          <p:cNvSpPr/>
          <p:nvPr/>
        </p:nvSpPr>
        <p:spPr>
          <a:xfrm>
            <a:off x="1782720" y="2286000"/>
            <a:ext cx="12146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737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8"/>
          <p:cNvSpPr/>
          <p:nvPr/>
        </p:nvSpPr>
        <p:spPr>
          <a:xfrm>
            <a:off x="214200" y="1857240"/>
            <a:ext cx="4500720" cy="4287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gh oil prices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80-120 $/bb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хема 9" descr=""/>
          <p:cNvPicPr/>
          <p:nvPr/>
        </p:nvPicPr>
        <p:blipFill>
          <a:blip r:embed="rId2"/>
          <a:stretch/>
        </p:blipFill>
        <p:spPr>
          <a:xfrm>
            <a:off x="5065560" y="1944720"/>
            <a:ext cx="4084920" cy="4206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noentry.gif"/>
          <p:cNvPicPr/>
          <p:nvPr/>
        </p:nvPicPr>
        <p:blipFill>
          <a:blip r:embed="rId3"/>
          <a:stretch/>
        </p:blipFill>
        <p:spPr>
          <a:xfrm>
            <a:off x="3228840" y="330984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109" name="Штриховая стрелка вправо 12"/>
          <p:cNvSpPr/>
          <p:nvPr/>
        </p:nvSpPr>
        <p:spPr>
          <a:xfrm rot="5400000">
            <a:off x="3000240" y="2000160"/>
            <a:ext cx="1785960" cy="1071360"/>
          </a:xfrm>
          <a:prstGeom prst="pie">
            <a:avLst/>
          </a:prstGeom>
          <a:solidFill>
            <a:srgbClr val="0d0d0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трелка вверх 13" descr=""/>
          <p:cNvPicPr/>
          <p:nvPr/>
        </p:nvPicPr>
        <p:blipFill>
          <a:blip r:embed="rId4"/>
          <a:stretch/>
        </p:blipFill>
        <p:spPr>
          <a:xfrm>
            <a:off x="4157640" y="2584440"/>
            <a:ext cx="13352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mph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redibility comes back to Ruble slow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2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BA7B-3574-4B09-89F2-222BDFDEF9E9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214200" y="1357200"/>
            <a:ext cx="4000680" cy="5286600"/>
          </a:xfrm>
          <a:prstGeom prst="rect">
            <a:avLst/>
          </a:prstGeom>
          <a:solidFill>
            <a:srgbClr val="f2f2f2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other countries are keen on buying foreign currencies if the national currency deval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the “mild” d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$ 46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n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ve been bought by population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re is agiotage demand on rubles, despite its strength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urthermore, the demand on foreign currencies is 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Содержимое 4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5720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572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anks need to be recapitalized, because of the growth of delinquent loan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B6F2-ADAC-4B42-A526-5FAF489066A3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6215040" cy="528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15040" y="1681200"/>
          <a:ext cx="2928960" cy="3784680"/>
        </p:xfrm>
        <a:graphic>
          <a:graphicData uri="http://schemas.openxmlformats.org/drawingml/2006/table">
            <a:tbl>
              <a:tblPr/>
              <a:tblGrid>
                <a:gridCol w="1527120"/>
                <a:gridCol w="140184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 of the volume of delinquent loans by the end of 2009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credit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&amp;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 to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-b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 Sui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15%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ody´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%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fin 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growth of delinquent loans is accompanied by reduction of credit activit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0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C03F-B61B-47F5-8345-A222B526DD38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Диаграмма 4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4714920" cy="500076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1" descr=""/>
          <p:cNvPicPr/>
          <p:nvPr/>
        </p:nvPicPr>
        <p:blipFill>
          <a:blip r:embed="rId2"/>
          <a:stretch/>
        </p:blipFill>
        <p:spPr>
          <a:xfrm>
            <a:off x="5000760" y="1428840"/>
            <a:ext cx="3929040" cy="52149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3600" y="6595920"/>
            <a:ext cx="129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: CBR, IM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16:52Z</dcterms:created>
  <dc:creator>Григорян</dc:creator>
  <dc:description/>
  <dc:language>en-US</dc:language>
  <cp:lastModifiedBy>Serge Grigoryan</cp:lastModifiedBy>
  <dcterms:modified xsi:type="dcterms:W3CDTF">2009-11-30T08:03:28Z</dcterms:modified>
  <cp:revision>971</cp:revision>
  <dc:subject/>
  <dc:title>О деятельности  Ассоциации российских банков  за отчетный период.  Антикризисные меры в финансово-кредитной сфере</dc:title>
</cp:coreProperties>
</file>