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5964-B229-4E9F-A51B-7D2A1C5C89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BF71-8B60-49EF-86E7-5C60517BBB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521C-4C43-4D80-B5B7-F950F260D2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496B-E6AE-4259-8971-4882F09E14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8ED4-2AED-4958-9198-78DA82CE08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6D07-968A-4378-96B7-44AD53484B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C7C6-1BCE-40B2-9F4F-F9D03D37A4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1AC6-F5C6-4506-BA79-FDA4B2F6E8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0FAF-A5D0-4D36-ADDE-79DB8FA89D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8B93-59F1-4595-95EA-8276CB3ABA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A9F9-095F-46FC-A5B6-84F8F9BB30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F7FD-96EB-4638-B16C-6A87D8B57D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0FAA-2A67-4950-8CF2-EA266A6F52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9010-6843-4A96-A094-37B3668617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3264-EBEE-4AD0-A339-4BA32FD686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FDCB-9E34-4388-A372-43C5420E1C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8E1F4-473D-4469-8EEC-9C195B7DF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3AED2-8F42-47CD-9FC9-8E1E36B48C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86422-0006-4AD6-84B8-6261E19900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9B978-D23C-45F7-BAB3-12B5B77E92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A260A-85EC-409C-AE75-D6820613F0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467E0-DA16-4CF6-B053-AAF3CBAF9B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6FE07-EB16-4B05-94D8-EA61733D73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EACB8-2792-4A13-92D7-290F89DCE9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0F552-3987-4E13-91C3-28255EF56C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4200" y="428400"/>
            <a:ext cx="8715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B36D9-AB2B-45CF-9BFC-56C4F9656E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35808-9113-40A1-8750-897F12FD6B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663EC-20CD-4734-9FB3-41B0506315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FFF19-9723-4A6E-A4C2-68FB86B6C7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BDB5F-5728-41B5-96D7-4D8530238E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20E48-1B46-4CFE-89E6-BB922893E9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BEB42-712B-48F6-A509-EEE5C756E6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6B2E9-E777-4981-83BA-1005A06083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125FB-FAE2-443F-ACE1-FF46CEFE4D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0DEFB-1D26-4625-A167-CD255852D2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4E350-033E-4B73-81C0-C7502FB5B0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4200" y="428400"/>
            <a:ext cx="8715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96A93-7745-4987-B216-DA6C3301E6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4AFF7-9963-4406-A1B4-587F026BA6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558B8-29EB-45DD-87DC-2DDBEFA3A2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B31D5-242A-45AA-AD03-61F13F6A67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7375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7E99-D589-48C7-A6D7-91E9A609DA75}" type="slidenum">
              <a:rPr b="0" lang="ru-RU" sz="12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Num" idx="2"/>
          </p:nvPr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7375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1B01-0371-4BDE-8EEF-E856244A5110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02944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Verdana"/>
              </a:rPr>
              <a:t>RUSSIAN ECONOMY AND BANKING SECTOR IN THE CONTEXT OF CRISIS</a:t>
            </a:r>
            <a:endParaRPr b="1" lang="en-US" sz="32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13880" y="442872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Verdana"/>
              </a:rPr>
              <a:t>Oleg Preks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Verdana"/>
              </a:rPr>
              <a:t>D</a:t>
            </a:r>
            <a:r>
              <a:rPr b="1" lang="ru-RU" sz="2000" spc="-1" strike="noStrike">
                <a:solidFill>
                  <a:srgbClr val="595959"/>
                </a:solidFill>
                <a:latin typeface="Verdana"/>
              </a:rPr>
              <a:t>ecember</a:t>
            </a:r>
            <a:r>
              <a:rPr b="1" lang="en-US" sz="2000" spc="-1" strike="noStrike">
                <a:solidFill>
                  <a:srgbClr val="595959"/>
                </a:solidFill>
                <a:latin typeface="Verdana"/>
              </a:rPr>
              <a:t>,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34880"/>
            <a:ext cx="91440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real source of inflation in Russia is not the growth of the credit marke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5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456C-D497-4FC1-82E0-5686A0021713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Содержимое 4" descr=""/>
          <p:cNvPicPr/>
          <p:nvPr/>
        </p:nvPicPr>
        <p:blipFill>
          <a:blip r:embed="rId1"/>
          <a:stretch/>
        </p:blipFill>
        <p:spPr>
          <a:xfrm>
            <a:off x="5000760" y="1428840"/>
            <a:ext cx="4000320" cy="528624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4" descr=""/>
          <p:cNvPicPr/>
          <p:nvPr/>
        </p:nvPicPr>
        <p:blipFill>
          <a:blip r:embed="rId2"/>
          <a:stretch/>
        </p:blipFill>
        <p:spPr>
          <a:xfrm>
            <a:off x="142920" y="1428840"/>
            <a:ext cx="4714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9800" y="420480"/>
            <a:ext cx="87152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Russia undertakes significant 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economic recovery measures</a:t>
            </a: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 …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9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049B-AC7D-417E-96E3-422B12DF9B7C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Содержимое 4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4429080" cy="5357880"/>
          </a:xfrm>
          <a:prstGeom prst="rect">
            <a:avLst/>
          </a:prstGeom>
          <a:ln w="0">
            <a:noFill/>
          </a:ln>
        </p:spPr>
      </p:pic>
      <p:pic>
        <p:nvPicPr>
          <p:cNvPr id="131" name="Содержимое 4" descr=""/>
          <p:cNvPicPr/>
          <p:nvPr/>
        </p:nvPicPr>
        <p:blipFill>
          <a:blip r:embed="rId2"/>
          <a:stretch/>
        </p:blipFill>
        <p:spPr>
          <a:xfrm>
            <a:off x="4714920" y="1285920"/>
            <a:ext cx="42861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…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but</a:t>
            </a: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most multiplicative way of stimulating the economic activity is being used weakl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33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DC5F-811B-452C-84FB-77EC14E31AA5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Диаграмма 3" descr=""/>
          <p:cNvPicPr/>
          <p:nvPr/>
        </p:nvPicPr>
        <p:blipFill>
          <a:blip r:embed="rId1"/>
          <a:stretch/>
        </p:blipFill>
        <p:spPr>
          <a:xfrm>
            <a:off x="0" y="1357200"/>
            <a:ext cx="4643280" cy="2857680"/>
          </a:xfrm>
          <a:prstGeom prst="rect">
            <a:avLst/>
          </a:prstGeom>
          <a:ln w="0">
            <a:noFill/>
          </a:ln>
        </p:spPr>
      </p:pic>
      <p:pic>
        <p:nvPicPr>
          <p:cNvPr id="135" name="Диаграмма 4" descr=""/>
          <p:cNvPicPr/>
          <p:nvPr/>
        </p:nvPicPr>
        <p:blipFill>
          <a:blip r:embed="rId2"/>
          <a:stretch/>
        </p:blipFill>
        <p:spPr>
          <a:xfrm>
            <a:off x="4524480" y="1428840"/>
            <a:ext cx="4619520" cy="27144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6"/>
          <p:cNvSpPr/>
          <p:nvPr/>
        </p:nvSpPr>
        <p:spPr>
          <a:xfrm>
            <a:off x="3085560" y="4214880"/>
            <a:ext cx="2143800" cy="337320"/>
          </a:xfrm>
          <a:prstGeom prst="rect">
            <a:avLst/>
          </a:prstGeom>
          <a:noFill/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rastructure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200160" y="4818240"/>
            <a:ext cx="871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ese recovery plan is aimed at developing infrastructur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mean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on of job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al multiplication effe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other branches of econom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demand for primary good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9"/>
          <p:cNvSpPr/>
          <p:nvPr/>
        </p:nvSpPr>
        <p:spPr>
          <a:xfrm>
            <a:off x="4071960" y="3286080"/>
            <a:ext cx="85680" cy="9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13"/>
          <p:cNvSpPr/>
          <p:nvPr/>
        </p:nvSpPr>
        <p:spPr>
          <a:xfrm flipV="1">
            <a:off x="5243400" y="3714480"/>
            <a:ext cx="218628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emporary price rise on raw materials 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is not a way out of the crisis for Russia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4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98A0-B2F2-438E-B8D0-41F9304980AA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0" y="1433520"/>
            <a:ext cx="52149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inese demand for raw materials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s caused by major recovery measures aimed at developing infrastructure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ina will hardly continue to build up raw material reserves at growing prices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143680" y="1228680"/>
          <a:ext cx="3857400" cy="2468520"/>
        </p:xfrm>
        <a:graphic>
          <a:graphicData uri="http://schemas.openxmlformats.org/drawingml/2006/table">
            <a:tbl>
              <a:tblPr/>
              <a:tblGrid>
                <a:gridCol w="2016000"/>
                <a:gridCol w="1841400"/>
              </a:tblGrid>
              <a:tr h="6426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e of China in the global consumption i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ude o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umi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Object 7" descr=""/>
          <p:cNvPicPr/>
          <p:nvPr/>
        </p:nvPicPr>
        <p:blipFill>
          <a:blip r:embed="rId1"/>
          <a:stretch/>
        </p:blipFill>
        <p:spPr>
          <a:xfrm>
            <a:off x="214200" y="3786120"/>
            <a:ext cx="8731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Verdana"/>
              </a:rPr>
              <a:t>Mortgage market in Russia &amp; other countries</a:t>
            </a:r>
            <a:endParaRPr b="1" lang="en-US" sz="22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4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A95E-40DB-4F24-8DC3-0F05331FD0EF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Содержимое 4" descr=""/>
          <p:cNvPicPr/>
          <p:nvPr/>
        </p:nvPicPr>
        <p:blipFill>
          <a:blip r:embed="rId1"/>
          <a:stretch/>
        </p:blipFill>
        <p:spPr>
          <a:xfrm>
            <a:off x="142920" y="1214280"/>
            <a:ext cx="3286080" cy="278640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4" descr=""/>
          <p:cNvPicPr/>
          <p:nvPr/>
        </p:nvPicPr>
        <p:blipFill>
          <a:blip r:embed="rId2"/>
          <a:stretch/>
        </p:blipFill>
        <p:spPr>
          <a:xfrm>
            <a:off x="3571920" y="1214280"/>
            <a:ext cx="5357880" cy="5500800"/>
          </a:xfrm>
          <a:prstGeom prst="rect">
            <a:avLst/>
          </a:prstGeom>
          <a:ln w="0">
            <a:noFill/>
          </a:ln>
        </p:spPr>
      </p:pic>
      <p:pic>
        <p:nvPicPr>
          <p:cNvPr id="149" name="Диаграмма 5" descr=""/>
          <p:cNvPicPr/>
          <p:nvPr/>
        </p:nvPicPr>
        <p:blipFill>
          <a:blip r:embed="rId3"/>
          <a:stretch/>
        </p:blipFill>
        <p:spPr>
          <a:xfrm>
            <a:off x="142920" y="4071960"/>
            <a:ext cx="32860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2920" y="713880"/>
            <a:ext cx="46432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re are many objects of great value to man which cannot be attained by unconnected individuals, but must be attained, if attained at all, by association. 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376092"/>
                </a:solidFill>
                <a:latin typeface="Verdana"/>
              </a:rPr>
              <a:t>Daniel Webster</a:t>
            </a:r>
            <a:r>
              <a:rPr b="1" i="1" lang="ru-RU" sz="1800" spc="-1" strike="noStrike">
                <a:solidFill>
                  <a:srgbClr val="376092"/>
                </a:solidFill>
                <a:latin typeface="Verdana"/>
              </a:rPr>
              <a:t> (1782-1852), </a:t>
            </a:r>
            <a:br>
              <a:rPr sz="1800"/>
            </a:br>
            <a:r>
              <a:rPr b="1" i="1" lang="en-US" sz="1800" spc="-1" strike="noStrike">
                <a:solidFill>
                  <a:srgbClr val="376092"/>
                </a:solidFill>
                <a:latin typeface="Verdana"/>
              </a:rPr>
              <a:t>United States Secretary of State</a:t>
            </a:r>
            <a:endParaRPr b="1" lang="en-US" sz="1800" spc="-1" strike="noStrike">
              <a:solidFill>
                <a:srgbClr val="376092"/>
              </a:solidFill>
              <a:latin typeface="Verdana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072040" y="692280"/>
            <a:ext cx="3571920" cy="3951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5286240" y="5143680"/>
            <a:ext cx="32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 of Russian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7 (495) 690-22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Highlights of the Russian banking system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7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97AC-D82C-4022-AA6D-C210F507ED6E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14200" y="1285920"/>
          <a:ext cx="8715600" cy="5429160"/>
        </p:xfrm>
        <a:graphic>
          <a:graphicData uri="http://schemas.openxmlformats.org/drawingml/2006/table">
            <a:tbl>
              <a:tblPr/>
              <a:tblGrid>
                <a:gridCol w="3000600"/>
                <a:gridCol w="1000080"/>
                <a:gridCol w="1000080"/>
                <a:gridCol w="1143000"/>
                <a:gridCol w="1285920"/>
                <a:gridCol w="1285920"/>
              </a:tblGrid>
              <a:tr h="10634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tor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. ru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s over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s over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349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s’ 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2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19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4492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s’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7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42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7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5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loan portfo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25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8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8,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4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6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127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lo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0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0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4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6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1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209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16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 lo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1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5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3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56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5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0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4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3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5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7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3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4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6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an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3316-1FE0-4E35-9507-EC8B3830D257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2440" y="1482840"/>
          <a:ext cx="8929800" cy="4875120"/>
        </p:xfrm>
        <a:graphic>
          <a:graphicData uri="http://schemas.openxmlformats.org/drawingml/2006/table">
            <a:tbl>
              <a:tblPr/>
              <a:tblGrid>
                <a:gridCol w="457200"/>
                <a:gridCol w="4246560"/>
                <a:gridCol w="685800"/>
                <a:gridCol w="633600"/>
                <a:gridCol w="620640"/>
                <a:gridCol w="744480"/>
                <a:gridCol w="755640"/>
                <a:gridCol w="785880"/>
              </a:tblGrid>
              <a:tr h="282600">
                <a:tc gridSpan="2" row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%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 THE CORRESPONDING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IO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F THE PREVIOUS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1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1440">
                      <a:solidFill>
                        <a:srgbClr val="bfbfbf"/>
                      </a:solidFill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out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ight turnov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ments in fixed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ail turn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mer price 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cember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6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goods’ producer price inde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cember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6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employment rat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economically active populatio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period’s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 disposable money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rt of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4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which oil ex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rt of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4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15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Deterioration of major macroeconomic indicators in Russia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Assets of Russian Banking Sector in Comparison with Other Advanced Economie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93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F2E6-FDA1-4F46-95E3-E33A438FB655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Диаграмма 3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143320" cy="5286240"/>
          </a:xfrm>
          <a:prstGeom prst="rect">
            <a:avLst/>
          </a:prstGeom>
          <a:ln w="0">
            <a:noFill/>
          </a:ln>
        </p:spPr>
      </p:pic>
      <p:pic>
        <p:nvPicPr>
          <p:cNvPr id="95" name="Диаграмма 4" descr=""/>
          <p:cNvPicPr/>
          <p:nvPr/>
        </p:nvPicPr>
        <p:blipFill>
          <a:blip r:embed="rId2"/>
          <a:stretch/>
        </p:blipFill>
        <p:spPr>
          <a:xfrm>
            <a:off x="5429160" y="1285920"/>
            <a:ext cx="3571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Russia feels deficit for long-term resource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97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6431-AAA5-425C-9A0F-B6C086A540B7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Диаграмма 3" descr=""/>
          <p:cNvPicPr/>
          <p:nvPr/>
        </p:nvPicPr>
        <p:blipFill>
          <a:blip r:embed="rId1"/>
          <a:stretch/>
        </p:blipFill>
        <p:spPr>
          <a:xfrm>
            <a:off x="142920" y="1616040"/>
            <a:ext cx="4357800" cy="5143680"/>
          </a:xfrm>
          <a:prstGeom prst="rect">
            <a:avLst/>
          </a:prstGeom>
          <a:ln w="0">
            <a:noFill/>
          </a:ln>
        </p:spPr>
      </p:pic>
      <p:pic>
        <p:nvPicPr>
          <p:cNvPr id="99" name="Диаграмма 5" descr=""/>
          <p:cNvPicPr/>
          <p:nvPr/>
        </p:nvPicPr>
        <p:blipFill>
          <a:blip r:embed="rId2"/>
          <a:stretch/>
        </p:blipFill>
        <p:spPr>
          <a:xfrm>
            <a:off x="4643280" y="1616040"/>
            <a:ext cx="4357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old model of Russian economy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does not work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0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6B4C-357C-4FF1-A774-F7D0384F89AC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4" descr=""/>
          <p:cNvPicPr/>
          <p:nvPr/>
        </p:nvPicPr>
        <p:blipFill>
          <a:blip r:embed="rId1"/>
          <a:stretch/>
        </p:blipFill>
        <p:spPr>
          <a:xfrm>
            <a:off x="109440" y="2541600"/>
            <a:ext cx="4608720" cy="42609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128520" y="1157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l of Russian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232600" y="12142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w model of R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7"/>
          <p:cNvSpPr/>
          <p:nvPr/>
        </p:nvSpPr>
        <p:spPr>
          <a:xfrm>
            <a:off x="1782720" y="2286000"/>
            <a:ext cx="12146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737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8"/>
          <p:cNvSpPr/>
          <p:nvPr/>
        </p:nvSpPr>
        <p:spPr>
          <a:xfrm>
            <a:off x="214200" y="1857240"/>
            <a:ext cx="4500720" cy="4287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igh oil prices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80-120 $/bb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хема 9" descr=""/>
          <p:cNvPicPr/>
          <p:nvPr/>
        </p:nvPicPr>
        <p:blipFill>
          <a:blip r:embed="rId2"/>
          <a:stretch/>
        </p:blipFill>
        <p:spPr>
          <a:xfrm>
            <a:off x="5065560" y="1944720"/>
            <a:ext cx="4084920" cy="42069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1" descr="noentry.gif"/>
          <p:cNvPicPr/>
          <p:nvPr/>
        </p:nvPicPr>
        <p:blipFill>
          <a:blip r:embed="rId3"/>
          <a:stretch/>
        </p:blipFill>
        <p:spPr>
          <a:xfrm>
            <a:off x="3228840" y="3309840"/>
            <a:ext cx="1262160" cy="1262160"/>
          </a:xfrm>
          <a:prstGeom prst="rect">
            <a:avLst/>
          </a:prstGeom>
          <a:ln w="0">
            <a:noFill/>
          </a:ln>
        </p:spPr>
      </p:pic>
      <p:sp>
        <p:nvSpPr>
          <p:cNvPr id="109" name="Штриховая стрелка вправо 12"/>
          <p:cNvSpPr/>
          <p:nvPr/>
        </p:nvSpPr>
        <p:spPr>
          <a:xfrm rot="5400000">
            <a:off x="3000240" y="2000160"/>
            <a:ext cx="1785960" cy="1071360"/>
          </a:xfrm>
          <a:prstGeom prst="pie">
            <a:avLst/>
          </a:prstGeom>
          <a:solidFill>
            <a:srgbClr val="0d0d0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Стрелка вверх 13" descr=""/>
          <p:cNvPicPr/>
          <p:nvPr/>
        </p:nvPicPr>
        <p:blipFill>
          <a:blip r:embed="rId4"/>
          <a:stretch/>
        </p:blipFill>
        <p:spPr>
          <a:xfrm>
            <a:off x="4157640" y="2584440"/>
            <a:ext cx="13352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mph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50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redibility comes back to Ruble slowl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2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AB01-0F53-4133-AE5B-814E92998146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214200" y="1357200"/>
            <a:ext cx="4000680" cy="5286600"/>
          </a:xfrm>
          <a:prstGeom prst="rect">
            <a:avLst/>
          </a:prstGeom>
          <a:solidFill>
            <a:srgbClr val="f2f2f2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other countries are keen on buying foreign currencies if the national currency devalu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the “mild” d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$ 46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n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ve been bought by population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re is agiotage demand on rubles, despite its strength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urthermore, the demand on foreign currencies is r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Содержимое 4" descr=""/>
          <p:cNvPicPr/>
          <p:nvPr/>
        </p:nvPicPr>
        <p:blipFill>
          <a:blip r:embed="rId1"/>
          <a:stretch/>
        </p:blipFill>
        <p:spPr>
          <a:xfrm>
            <a:off x="4357800" y="1357200"/>
            <a:ext cx="45720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3840" y="428400"/>
            <a:ext cx="85726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Banks need to be recapitalized, because of the growth of delinquent loan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58EC-4E9D-48E3-9597-73D69EE315DF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Диаграмма 3" descr=""/>
          <p:cNvPicPr/>
          <p:nvPr/>
        </p:nvPicPr>
        <p:blipFill>
          <a:blip r:embed="rId1"/>
          <a:stretch/>
        </p:blipFill>
        <p:spPr>
          <a:xfrm>
            <a:off x="0" y="1357200"/>
            <a:ext cx="6215040" cy="528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6215040" y="1681200"/>
          <a:ext cx="2928960" cy="3784680"/>
        </p:xfrm>
        <a:graphic>
          <a:graphicData uri="http://schemas.openxmlformats.org/drawingml/2006/table">
            <a:tbl>
              <a:tblPr/>
              <a:tblGrid>
                <a:gridCol w="1527120"/>
                <a:gridCol w="140184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s of the volume of delinquent loans by the end of 2009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credit portfo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&amp;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 to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-b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dit Sui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15%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ody´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17%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fin 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growth of delinquent loans is accompanied by reduction of credit activit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0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585C-748F-4E66-9A78-7D7352304939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Диаграмма 4" descr=""/>
          <p:cNvPicPr/>
          <p:nvPr/>
        </p:nvPicPr>
        <p:blipFill>
          <a:blip r:embed="rId1"/>
          <a:stretch/>
        </p:blipFill>
        <p:spPr>
          <a:xfrm>
            <a:off x="285840" y="1500120"/>
            <a:ext cx="4714920" cy="500076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1" descr=""/>
          <p:cNvPicPr/>
          <p:nvPr/>
        </p:nvPicPr>
        <p:blipFill>
          <a:blip r:embed="rId2"/>
          <a:stretch/>
        </p:blipFill>
        <p:spPr>
          <a:xfrm>
            <a:off x="5000760" y="1428840"/>
            <a:ext cx="3929040" cy="52149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6"/>
          <p:cNvSpPr/>
          <p:nvPr/>
        </p:nvSpPr>
        <p:spPr>
          <a:xfrm>
            <a:off x="3600" y="6595920"/>
            <a:ext cx="1296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: CBR, IM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7:16:52Z</dcterms:created>
  <dc:creator>Григорян</dc:creator>
  <dc:description/>
  <dc:language>en-US</dc:language>
  <cp:lastModifiedBy>Serge Grigoryan</cp:lastModifiedBy>
  <dcterms:modified xsi:type="dcterms:W3CDTF">2009-11-30T08:03:28Z</dcterms:modified>
  <cp:revision>971</cp:revision>
  <dc:subject/>
  <dc:title>О деятельности  Ассоциации российских банков  за отчетный период.  Антикризисные меры в финансово-кредитной сфере</dc:title>
</cp:coreProperties>
</file>