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7BAC-2391-4AFE-882D-FF9E46E8C4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8498-0AB0-4673-9E23-2E054B312BA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8E18-999F-44A1-8C29-327BC9FE820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52AC-0227-4FD2-83E8-1499239BEF3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E5EE-32A6-4D62-B280-691569C6F10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BAAF-5B7F-491C-BD84-C9AB7C9CAE0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DD44-DEEE-4A36-B9A2-A82275628AF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BB97-72AA-43C9-9EE9-A3BD4344B95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DE99-100F-4EE0-A8BF-4E3BF39D22E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0A55-6260-43BA-A915-ECDDDC323D1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3BDA-358D-4CDD-8792-16C370BAB4E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7FB5-DAD3-4C6F-BD15-5D5104A196D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9282-540A-47C2-9892-2B68FCA728A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11A4-8ABA-48A1-9D77-4B922B5B55E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B965-4FF4-44A8-9681-400E94CAB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EB27-F3B2-4236-9083-D5659A82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67C8-AC76-4C2A-9DE4-E16DCAE5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6CEB-9E22-49B8-AB40-33AFE767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4A6B-5E5A-40C3-8351-A096D449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245E-3327-4209-9D5F-688FD83D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C9C1-6CA6-4CC7-B516-FB2D082C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5909-07C1-45E0-83F4-DB3AE5B4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A34D-E5A0-4A6D-9713-E8D802C7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6DE0-5397-43D6-BBA7-8D4E20B2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3E5F-1E73-4311-ABF9-9609903E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A5E4-AD64-461A-83F6-1A999C00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CAD7-D9C8-4531-BC06-7373E347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D1E0-13C7-4426-A3A2-42894454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7E93-DFF8-41E4-8106-FAA9A641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14FA-233A-4D1D-9E06-0268D0B5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F7B0-E852-4EA1-86A3-147B70475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508E-CC93-4EB1-B856-EBB35B32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EEC4-1FA4-466D-9438-A3A7842F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ACF6-D390-47F0-8560-75BE68B2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93F3-714A-400F-98DC-C8D21F2C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B039-38A9-4EE2-95E4-6352F7E8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A152-3DC2-493D-8C63-F5968EBF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19EE-7743-4579-8A08-071FC53C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FB19-01E4-4976-B8CA-9A5F7F77A28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28EF-0E0E-4AAE-B00C-8E08CF67578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Latest developments in the EU legislation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on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Viktorija Proskurovska, EBF Adviser</a:t>
            </a:r>
            <a:br>
              <a:rPr sz="2500"/>
            </a:b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18th edition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russels, 3 December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EPA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9-Sept-09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sult of a EC consultation shows that an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end-dat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o the process of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migration to SEPA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s required. Migration to SEPA is irreversibl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-Nov-09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2800"/>
            </a:b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Bank account switching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within a MS is made easier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-Nov-09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EPA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Direct Debit Schem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for EU MS) becomes effectiv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C2D3-AC87-4A57-B78A-9B9FE8ACFF7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0C81-67F5-4908-8BFE-7E722393504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4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onsultation on the IFRS for S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change of audit working papers between MSs and Canada, Japan and Switzerland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Need to remove barriers to entry for audit firm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ossible adoption of international standards for statutory audit of EU companie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2357280" y="285840"/>
            <a:ext cx="6500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5cad"/>
                </a:solidFill>
                <a:latin typeface="Times New Roman"/>
              </a:rPr>
              <a:t>Financial Reporting and Taxation 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F499-7DE9-427C-A768-57A0230CB68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oval of barriers to entry for audit firm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7-Jul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C published a summary of the consultation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on control structures in audit firms and their consequences on the audit market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tudy,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, concludes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ll potential barriers to the entry, growth and survival of audit firms in the international audit market must be removed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urrent rules are not indispensable in order to retain human capital.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 number of other</a:t>
            </a:r>
            <a:r>
              <a:rPr b="1" lang="en-GB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barriers to increasing the number of audit firms operating on the international market were identified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28CF-BB19-42A2-A9EA-1EB197173BD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Thank you for your attention!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A9E5-B279-42E9-B913-88295B08D81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28 Recent Develop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anking Regulation and Supervision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6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Markets and Securiti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7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tail Financial Services and Paymen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11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Financial Reporting and Tax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 4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mark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ll EU legislative initiatives in the past period have been related to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countering the causes of the current financial crisi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irectly or indirectly, most of the legislative initiative have a European and often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international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 scop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n this Presentation: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focus on one issue per theme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For more detail, see the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complete set of initiative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to be circulated after meeting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93AD-BD37-4EB9-B30F-F9574F80496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10A2-DC04-494F-B604-4A9F5A5E44B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6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Strengthened financial supervision in Europ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2)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New EU Framework for Crisis Management in the Banking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trengthened rules on bank capital and on remuneration in the banking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hanges to the Capital Requirements Directive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view of the Financial Conglomerates Directiv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2500200" y="285840"/>
            <a:ext cx="635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cad"/>
                </a:solidFill>
                <a:latin typeface="Times New Roman"/>
              </a:rPr>
              <a:t>Banking Regulation &amp; Supervision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F21B-CAFA-4193-9C4F-72A9E1466C8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inancial Supervis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3-Sep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 package of draft legislation to strengthen supervision of the financial sector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legislation will create a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ic Risk Board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ESRB) and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 of Financial Supervisor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ESFS), to be established by end-2010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6-Oc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dditional legislative proposals targeted to change existing financial services legislation to ensure that the new Authorities can work effectively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1D71-5838-4B91-AFB7-464D2825662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7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Strengthened safety of derivatives market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2)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afer European market for credit default swap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erivatives in crisis – Safeguarding Financial Stability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d tape reduction and improvement of investor protection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tudy on trading and post-trading prices, costs and volu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ublic consultation on the UCITS depositary function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500200" y="285840"/>
            <a:ext cx="635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cad"/>
                </a:solidFill>
                <a:latin typeface="Times New Roman"/>
              </a:rPr>
              <a:t>Financial Markets &amp; Securities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34EB-9B07-4C99-B449-337ED198D96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afety of derivatives marke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0-Oc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fter a stakeholder Consultation launched in Jul-09 and the public hearing in Sept-09, EC adopted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Communication for ensuring efficient, safe and sound derivatives market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The Communication sets out future policy actions to: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increase transparency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of the derivatives market,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reduce counterparty and operational risk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in trading and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enhance market integrity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and </a:t>
            </a: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oversight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EC will start a process of drafting legislation, notably by launching impact assessments, and come forward with legislative proposals in 2010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C07D-A64B-455A-9C31-BE8489163B7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11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Consumers to start benefiting from easier bank account switching from Nov-09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SEPA – Cross-Border Payments Now A Reality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Possible end-date for SEPA migr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General support for end-date for SEPA migr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Actions to make SEPA a succes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Technical Workshop on Packaged Retail Investment Product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ing access to a basic bank account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lternative dispute resolution (ADR) in the area of financial service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Report on the financial crisis and financial educ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ing responsible lending and borrowing in the EU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xpert group report on credit histories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2357280" y="285840"/>
            <a:ext cx="6500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5cad"/>
                </a:solidFill>
                <a:latin typeface="Times New Roman"/>
              </a:rPr>
              <a:t>Retail Financial Services &amp; Payments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8F54-2F13-46FF-BFA2-FEBD7B5BBC1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EPA Roadmap for 2009-2012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0-Sept-09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C adopted a Communication on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Completing SEPA: a Roadmap for 2009-2012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ommunication provides a framework for action within six priority areas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Foster migration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Increase SEPA awareness and promote SEPA products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Design a sound legal environment and strengthen SEPA compliance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Promote innovation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e necessary standardisation, interoperability and security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Clarify and improve SEPA governance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4:54:20Z</dcterms:created>
  <dc:creator>proskurovska</dc:creator>
  <dc:description/>
  <dc:language>en-US</dc:language>
  <cp:lastModifiedBy>Viktorija Proskurovska</cp:lastModifiedBy>
  <dcterms:modified xsi:type="dcterms:W3CDTF">2009-12-02T11:23:45Z</dcterms:modified>
  <cp:revision>197</cp:revision>
  <dc:subject/>
  <dc:title>Latest developments in the EU legislation on financial services</dc:title>
</cp:coreProperties>
</file>