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DF97-472E-40B6-8115-994DE64E81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70C0-F07C-47DF-B070-64CBA1698DA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EE77-0651-4591-A35A-CE8C023456D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A0A9-746E-42E5-AFBC-038442FDFD0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A9C8-588D-4C17-8E8D-4DACBB9DD8C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8100-9BB2-4B83-AAD8-5BD77F3B862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D25C-B3D2-4835-8118-12778B6AC10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A4D6-8A36-4872-BF05-B6579EB3AB4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8BCD-20EC-47FA-93B3-B22EBE16AA9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DEDD-D846-4876-85BA-F32B87E4191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EB88-1D09-451F-83EA-CD5F9501799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AAEA-37BD-4BA3-8B17-EFBFB9C6C87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DFBD-BF6B-4555-A6FA-90C426E39C7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D2F1-3A0F-46B1-A886-51DD84887AF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AEF0-AF25-40D8-A356-64732605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B737-6B3E-44FB-A30A-E61B568A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1839-C754-472E-A6BB-1823754F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C207-1FC4-40E1-A518-2487476B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4258-4162-4419-8C47-8821B87C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3866-EC4E-428F-9970-2FEE3AFB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EE0B-E254-4CD8-95C4-F0FF0113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B8AA-9B39-4941-BAE2-44B3999B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03E6-5DB0-45C1-820E-F0577F96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F80F-027C-4D13-BF62-870B8752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F256-42E4-4B22-8CC8-CF828768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B8A2-FCBA-472D-AFBE-BBF7E7F2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B3EC-8D9B-4ED8-8B48-57D2B6E9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5598-30B2-4E94-B18D-8CF86477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0AFD-3560-402C-AD6E-35227BAD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D903-67A1-48BF-BBDB-255A6EB9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E906-47F9-4439-AC27-C615E348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8E43-9985-4868-812E-F5B62982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3FE4-D2C2-4B18-A672-A694C0B8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058C-B4C4-4D31-9E1B-5A005EA8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2E80-0930-4FAC-B20B-B19AE9DA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9B0D-3F89-4E6F-8796-91CAAD13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5E03-28CD-41A5-8814-3940356F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6D9A-C323-4AC9-9D1B-F149B876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EAE8-D902-4C27-A962-BAF66E5880D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B9C2-3AB0-48C1-BC5C-56C312933D6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8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russels, 3 December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PA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9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sult of a EC consultation shows that a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end-dat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o the process of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migration to SEPA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s required. Migration to SEPA is irreversibl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800"/>
            </a:b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Bank account switching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ithin a MS is made easier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EPA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Direct Debit Schem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for EU MS) becomes eff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20F0-4E79-4246-9188-2D120F009A0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EF25-25CE-440D-9273-CDC3A514B4B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4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nsultation on the IFRS for S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of audit working papers between MSs and Canada, Japan and Switzerland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Need to remove barriers to entry for audit firm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ossible adoption of international standards for statutory audit of EU compani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Financial Reporting and Taxation 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0425-4860-4706-8B91-C32F81C08E8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oval of barriers to entry for audit firm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7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published a summary of the consultati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on control structures in audit firms and their consequences on the audit market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udy,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conclude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ll potential barriers to the entry, growth and survival of audit firms in the international audit market must be removed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urrent rules are not indispensable in order to retain human capital.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 number of other</a:t>
            </a:r>
            <a:r>
              <a:rPr b="1" lang="en-GB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arriers to increasing the number of audit firms operating on the international market were identified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CFFF-64D6-49FF-A6D1-80EA6242C5D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B125-0C8C-4036-8490-581ADB08FCA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2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anking Regulation and Supervis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and Securit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tail Financial Services and Paymen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11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inancial Reporting and Tax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4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ar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ll EU legislative initiatives in the past period have been related to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untering the causes of the current financial crisi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rectly or indirectly, most of the legislative initiative have a European and ofte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nationa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scop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 this Presentation: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focus on one issue per theme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or more detail, see the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mplete set of initiative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to be circulated after meeting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97ED-AC6E-4F58-ACCC-1746CE0ED27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BDAA-C870-4A28-B22F-542BCC544CA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6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financial supervision in Europ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New EU Framework for Crisis Management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rengthened rules on bank capital and on remuneration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hanges to the Capital Requirements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view of the Financial Conglomerates Dir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Banking Regulation &amp; Supervision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D4EB-39B5-4435-8ACE-AE1B7DCA467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Supervis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3-Sep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package of draft legislation to strengthen supervision of the financial sector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legislation will create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Boar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RB) an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FS), to be established by end-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6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dditional legislative proposals targeted to change existing financial services legislation to ensure that the new Authorities can work effectively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F26A-F924-4978-B940-AEC8DD96B1E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7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safety of derivatives market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afer European market for credit default swap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rivatives in crisis – Safeguarding Financial Stability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d tape reduction and improvement of investor protec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udy on trading and post-trading prices, costs and volu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ublic consultation on the UCITS depositary function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Financial Markets &amp; Securitie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F971-E89D-439F-9D85-93FA3382EEB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afety of derivatives marke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0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fter a stakeholder Consultation launched in Jul-09 and the public hearing in Sept-09, EC adopte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munication for ensuring efficient, safe and sound derivatives market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The Communication sets out future policy actions to: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increase transparenc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of the derivatives market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reduce counterparty and operational risk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in trading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enhance market integrit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oversight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EC will start a process of drafting legislation, notably by launching impact assessments, and come forward with legislative proposals in 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39AE-C3AB-44FA-920F-6D2F748F484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11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Consumers to start benefiting from easier bank account switching from Nov-09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SEPA – Cross-Border Payments Now A Reality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Possible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General support for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Actions to make SEPA a succes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Technical Workshop on Packaged Retail Investment Product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access to a basic bank account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lternative dispute resolution (ADR) in the area of financial service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Report on the financial crisis and financial educ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responsible lending and borrowing in the EU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xpert group report on credit historie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Retail Financial Services &amp; Payment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D712-1BD9-42ED-B441-748DAC3C434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EPA Roadmap for 2009-2012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0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adopted a Communication 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pleting SEPA: a Roadmap for 2009-2012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mmunication provides a framework for action within six priority area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oster migr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Increase SEPA awareness and promote SEPA product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Design a sound legal environment and strengthen SEPA compli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Promote innov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e necessary standardisation, interoperability and security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Clarify and improve SEPA govern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Viktorija Proskurovska</cp:lastModifiedBy>
  <dcterms:modified xsi:type="dcterms:W3CDTF">2009-12-02T11:23:45Z</dcterms:modified>
  <cp:revision>197</cp:revision>
  <dc:subject/>
  <dc:title>Latest developments in the EU legislation on financial services</dc:title>
</cp:coreProperties>
</file>