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4009-1275-48C3-98A5-46FB10228096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2EA2-0038-425F-8C50-62194B9C00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CD35-E575-472E-B3B6-5D2EE1170C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207C-94D8-416C-9D7C-14FDB5C65B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0D42-654E-41DD-B760-C296EEA36C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74CD-1273-4AA5-9E89-E593F2F37F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88DD-D484-4F0B-9035-9B3F5249F9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406F-A51B-49CD-9190-DE14A26BB9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78C3-73C3-4FDD-8514-F3AB701734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E0D2-26A6-463D-8D03-AF854D66F3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C2A2-5D71-4692-A490-1199D318AE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A416-46B4-400C-BF2A-EAACC87FA3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395A-5324-4A8F-962A-317C42560E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D00B-AD3A-46F5-8355-C778978439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A50D-D1C1-4B51-8667-6DC048177F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730B-DC77-4B55-AEF3-FE54260645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26ED-1435-4A88-999D-9D7FD621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298A-DC37-48A4-BE73-309E1BBC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CE25E-06D9-4BD1-9FAE-3C10BCC3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BB626-9C5A-4587-95CB-80AAFE33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87E4C-1D3F-4206-907E-06C1AF5B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8F12A-ED55-44A8-88FE-E382F2E2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BFD4E-9D6F-483A-AFF6-2260DC15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67A3C-9E19-4980-9DBF-1942C100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15F98-7CE8-492B-8AB1-BC288190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A7CCC-3582-4875-893A-098D9BE8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D16F6-FE16-48D4-932B-13178C3B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D5C22-0DFF-4F06-AF0E-558D6A1E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7E3C-053B-43C7-A475-0B9124B7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198DE-7AD3-4E24-90A2-6B2332F4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35526-6EA2-4175-8270-26599605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C5C35-3F7C-4642-9CA1-58418535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42B9D-6439-46F7-95C4-9AAC99E0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0F59D-A839-4365-B2B3-4EA98328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2F988-FC6A-4A8A-9CD8-66EB178C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888E6-3077-4E22-863D-E812C7D4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4AEE7-BC6A-49C7-BD47-0E2BA2B7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2E181-AF40-4BEF-84F1-81730B3C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69B37-EE42-466C-9E36-88A963F0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6970-1159-4F6F-A398-1D46D314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2A37D-F966-4DE3-8396-50C1A74E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2F080-78A5-42C2-A32F-3D6787D7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816A7-2367-4BAE-A038-16A1BB0F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B9708-9C29-4FE6-8F0B-CD9430C7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817B6-F7B5-4F58-BA17-40580DEB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384DE-C606-485F-B898-5A4491B6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43F5B-CC01-46D4-9F20-540AAD5D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B0637-AACF-4DAC-BF6F-8411DCEF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D941B-F7A2-4F30-9BB0-C19852C1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FBFC1-F549-4D60-B621-340A605F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6BE4-2F8A-4A73-94CE-6939FC63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459A4-4048-411E-B106-23ECDFD6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F6F48-40CF-4E35-883C-3D95BEE3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2EB6A-B4FC-42CC-9FC7-BA47A79B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FFC5-32B1-4D14-8E3A-37FB5BC0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540A-84E1-4972-930C-BCC425B6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C17E-F279-453F-9345-73FE65E4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12A5-0716-484C-9929-7BCFE752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C983-DAD4-4921-A5C3-88F426D5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7A3A-781E-4F92-ABEF-5CB6F256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5178-FDFF-491F-B984-09050FB4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5461-4E0D-46BF-A8AB-12F7CDFA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86DC-65AA-40EC-A7E8-45060F88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32A8-D314-41D7-B72B-D601787A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2F5A-CC49-40C3-9625-D942FE91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F52E-5215-4F87-B20C-B0096A14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270AA-2403-4075-A780-5B58A79A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A3A38-56E2-4E89-A7D4-755787FD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30855-8EA3-4ACB-9116-4A17EAA6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1EFFF-DE8C-4A71-B5FD-4AA587C0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3C8D6-8DE4-4190-BAF9-3A54FCBC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E542-0738-47CE-A59D-3307C060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A60BA-8A7E-4182-A31E-9BE53962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3B2B9-DE31-4B6C-B92E-96D90C6E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50113-EE7D-4E71-A3D0-9C3FCC2B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070AA-55CE-4E01-B4F9-84F82A64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E2EC8-A70E-45D3-8750-5B30A3C6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AD16D-1114-4061-9C01-48CD1928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6288D-70B2-4B95-9568-610F6AFD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251F2-C22E-48C7-8F29-8529B4C3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626A4-1977-4826-A066-87C0DE88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3FBFD-973F-4EFA-A423-14D4E66A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40EC-642D-4CC0-A708-82A872AF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4AC11-6E41-49C6-B9FB-993226E3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F5DCB-E083-4C76-9C8D-29B49468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0D806-83E6-478B-88EE-359E9605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80934-5136-4520-A0DC-7D1C2613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C8891-7686-49DC-9893-B336F09B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88AB2-D225-4DC0-A244-DE7B1CEB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A3C88-190C-41C8-AFE4-37310EED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6FE93-167A-474A-A92D-22777409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1A248-14D3-435B-A8AE-E30CBDF6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525D3-D5E0-4104-8987-73DD1EC6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769F-5FD1-41CA-ACB7-B85688F4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59102-9E4B-406D-9F06-4171864A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29F1C-A127-4D1F-911C-2C93A5D4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85F28-532E-45F0-92EE-8CE81AF2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26F0D-2C8D-4538-A25E-2FD16140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764A4-2903-4484-9A30-F724A91A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AF93E-0183-49E1-9715-7D37349C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64A70-3309-445A-8A48-12C83C9D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30507-4BDB-46CD-8BD2-C311E81E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8891F-7543-41FC-B245-32014450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1CF51-E67B-4DD9-A7E9-80CED453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D1EF-243B-4404-AD1A-BC9D09EE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408B5-B720-4A4E-A358-BCA46F84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861B6-A0A7-41D6-995D-03F00FB3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1CBCE-BB4D-4482-8E00-DAE64714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43943-6F70-47F5-B3BD-F2479EFA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3C850-B4DE-4909-86B7-F0A58B50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BD53C-B80C-4473-888F-841CEBC0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4805F-6D09-4053-8793-F98D2862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F9101-6478-4F12-BD35-808AD880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5F845-B25F-4B97-8E37-8E72E8E9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51698-2800-42AA-AC0C-EFCF6631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2358-0DBB-45F8-B326-E7396349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22B22-871D-4F5C-B7EF-A4B8502D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BAD4A-6885-4339-9373-0F8D3880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AD0E0-312C-4F88-B865-17F3C414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C3E81-873F-4E22-BF7A-0BF5951C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19B2A-73FE-4EF4-B392-0CA103F3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3D04D-D3E0-418E-A411-4A68034A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53E2C-6BC7-42AF-BF61-DC76F224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6E81C-6485-4FE9-9250-F4C085C6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2DBBA-A1AD-4958-B485-2F582E80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1F846-66A1-4A0E-B05C-01D0F1B4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B674-C175-475B-955E-4F0C4AF1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8894C-E30A-40CE-929D-A4819D50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4AAAE-5451-4E25-9830-61A7D851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D28E2-4861-42FD-B1F7-3E14C6F1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CDB3F-42AB-4607-9CB9-C57F671E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05611-C013-4081-9623-31C2571C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DB01F-B117-444F-8597-612BA4EE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43FF8-D252-45C7-893C-ACEF750F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D0DA5-6275-44A3-A48F-AEE409F1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AF123-C5F7-4D7E-8D07-07BEA5C0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1B54A-E166-45CF-938A-01EEFA77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DC4D-ED94-4EE0-A61E-5E5FDC1A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613C0-272D-4B71-9234-B1492BA0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E4AF1-BD3A-4CC2-9A78-8AEA9BEC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06A91-9C73-4AE3-9E19-73FA2B30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927FC-1FCE-446F-A23A-BEAE1E61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35A93-EFDC-49E7-B81E-ED988F39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CCBAE-26A3-4DC8-8604-A6550CCE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47C8D-1923-48A2-91B8-3EAE724F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CFCA9-69E9-4A92-8582-8F04DC2C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6D19F-B847-4556-907B-B64A0A22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AFB35-48A3-4F81-9DE2-A727C22D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6AD4-15CD-4E25-AA47-18C31EABE18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710A326-DB47-4B8C-9354-0ED945E9EA07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E320-783C-4A7B-B5D8-E26201DAC03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FD7489A-F80D-485D-8452-1A066BFE2819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3192-2A04-4C3C-90B4-21D6A90673D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7776BDE-5186-4CFA-8A3A-CA1CF50EEA03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A051-5567-4FCA-817E-00CB451464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F00CCC8-CD50-403C-B8AA-649AA58E4E0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5CE1-A892-4792-A656-D0A356A8C1E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C4F68B2-3E8C-412E-998D-33B781A923C9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EA3B-7FFD-4CA4-AB70-49EE4FC97EA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DB82458-5B8F-4E33-9145-A0C9941559B5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D019-06C6-477B-B1B8-893A1E5AC2D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07F6333-3B69-4F9B-AB31-FE08085E6D62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1E9E-FC80-4B7B-BD4B-4BA5BF9560D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EE684A6-3F25-4E7E-A716-1754F52C7C9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8A6A-2C88-4AD9-9385-0FA8E996AA7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42739C3-C3FD-41A5-BD0E-5AE04CF9CDE3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4342-FDE8-4A6A-BDB1-3C38566C22C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BFD9C69-EC86-49A0-AC8E-F8636DF9F35D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4ECC-E89B-40C2-9379-1E090977B3B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DE073E7-CF47-4DAF-9189-34F2FCC5F0B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5"/>
          <p:cNvSpPr/>
          <p:nvPr/>
        </p:nvSpPr>
        <p:spPr>
          <a:xfrm>
            <a:off x="214200" y="3789360"/>
            <a:ext cx="87156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9" name="Picture 6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1476360" y="2495520"/>
            <a:ext cx="5657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RUSSIAN BANKING SYSTE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 CURRENT ENVIRON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67200" y="4221000"/>
            <a:ext cx="30096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leg M. Preks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Vice-Presid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ssociation of Russian Ban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 June 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onte Car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79280" y="54936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n banking system still falls behind despite the rapid grow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9D80-D096-4D73-A0F4-91CC6C8EE563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7" name="Диаграмма 3" descr=""/>
          <p:cNvPicPr/>
          <p:nvPr/>
        </p:nvPicPr>
        <p:blipFill>
          <a:blip r:embed="rId2"/>
          <a:stretch/>
        </p:blipFill>
        <p:spPr>
          <a:xfrm>
            <a:off x="142920" y="1557360"/>
            <a:ext cx="5143320" cy="4443480"/>
          </a:xfrm>
          <a:prstGeom prst="rect">
            <a:avLst/>
          </a:prstGeom>
          <a:ln w="0">
            <a:noFill/>
          </a:ln>
        </p:spPr>
      </p:pic>
      <p:pic>
        <p:nvPicPr>
          <p:cNvPr id="498" name="Диаграмма 4" descr=""/>
          <p:cNvPicPr/>
          <p:nvPr/>
        </p:nvPicPr>
        <p:blipFill>
          <a:blip r:embed="rId3"/>
          <a:stretch/>
        </p:blipFill>
        <p:spPr>
          <a:xfrm>
            <a:off x="5429160" y="1557360"/>
            <a:ext cx="3571920" cy="4443480"/>
          </a:xfrm>
          <a:prstGeom prst="rect">
            <a:avLst/>
          </a:prstGeom>
          <a:ln w="0">
            <a:noFill/>
          </a:ln>
        </p:spPr>
      </p:pic>
      <p:sp>
        <p:nvSpPr>
          <p:cNvPr id="499" name="TextBox 5"/>
          <p:cNvSpPr/>
          <p:nvPr/>
        </p:nvSpPr>
        <p:spPr>
          <a:xfrm>
            <a:off x="142920" y="600552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st growing assets means that aggressive lending policy &amp; poor risk management may be in place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growth of past due loans will become a problem for banks’ equity in coming month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3874-155F-4234-B230-6174F879E575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2" name="Диаграмма 3" descr=""/>
          <p:cNvPicPr/>
          <p:nvPr/>
        </p:nvPicPr>
        <p:blipFill>
          <a:blip r:embed="rId2"/>
          <a:stretch/>
        </p:blipFill>
        <p:spPr>
          <a:xfrm>
            <a:off x="-66600" y="0"/>
            <a:ext cx="92170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cow Still Well Behind Other Financial Cent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B5DA0F4-DEBF-41C2-8794-7DA3679C9C4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5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506" name="Содержимое 4" descr=""/>
          <p:cNvPicPr/>
          <p:nvPr/>
        </p:nvPicPr>
        <p:blipFill>
          <a:blip r:embed="rId3"/>
          <a:stretch/>
        </p:blipFill>
        <p:spPr>
          <a:xfrm>
            <a:off x="0" y="4357800"/>
            <a:ext cx="9144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40D80C9-B890-44A7-A489-29C4BB1C658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8" name="Picture 2" descr="mosmap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628640"/>
            <a:ext cx="6264360" cy="50482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t Stands for an International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ancial Cente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the New Global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 Box 26"/>
          <p:cNvSpPr/>
          <p:nvPr/>
        </p:nvSpPr>
        <p:spPr>
          <a:xfrm>
            <a:off x="250920" y="4437000"/>
            <a:ext cx="4248000" cy="9352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the third city in the world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 its budget performan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$ 40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27"/>
          <p:cNvSpPr/>
          <p:nvPr/>
        </p:nvSpPr>
        <p:spPr>
          <a:xfrm>
            <a:off x="4716360" y="4437000"/>
            <a:ext cx="4248360" cy="935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living cost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d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dg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re the highest among world capital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250920" y="5516640"/>
            <a:ext cx="4248000" cy="10810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in Top-5 financial centers to become more importan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short term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186840" y="6583320"/>
            <a:ext cx="537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Источники: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ant Thornton 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Z/Yen Group,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Mercer Human Resource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onsulting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 Box 30"/>
          <p:cNvSpPr/>
          <p:nvPr/>
        </p:nvSpPr>
        <p:spPr>
          <a:xfrm>
            <a:off x="4716360" y="5516640"/>
            <a:ext cx="4248360" cy="10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ranks 5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ational financial cente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5" name="Object 4" descr=""/>
          <p:cNvPicPr/>
          <p:nvPr/>
        </p:nvPicPr>
        <p:blipFill>
          <a:blip r:embed="rId3"/>
          <a:stretch/>
        </p:blipFill>
        <p:spPr>
          <a:xfrm>
            <a:off x="0" y="1571760"/>
            <a:ext cx="914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2DE08F4-A399-4625-B000-C6618BBED1F0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eps by the State to Facilitate IF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8" name="Pyr4"/>
          <p:cNvGrpSpPr/>
          <p:nvPr/>
        </p:nvGrpSpPr>
        <p:grpSpPr>
          <a:xfrm>
            <a:off x="189000" y="4834080"/>
            <a:ext cx="8759880" cy="1920600"/>
            <a:chOff x="189000" y="4834080"/>
            <a:chExt cx="8759880" cy="1920600"/>
          </a:xfrm>
        </p:grpSpPr>
        <p:pic>
          <p:nvPicPr>
            <p:cNvPr id="519" name="Pyr4" descr=""/>
            <p:cNvPicPr/>
            <p:nvPr/>
          </p:nvPicPr>
          <p:blipFill>
            <a:blip r:embed="rId2"/>
            <a:stretch/>
          </p:blipFill>
          <p:spPr>
            <a:xfrm>
              <a:off x="189000" y="4834080"/>
              <a:ext cx="8759880" cy="19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565280" y="4913280"/>
              <a:ext cx="56116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1" name="Pyr3"/>
          <p:cNvGrpSpPr/>
          <p:nvPr/>
        </p:nvGrpSpPr>
        <p:grpSpPr>
          <a:xfrm>
            <a:off x="1487520" y="3249720"/>
            <a:ext cx="6162480" cy="1560240"/>
            <a:chOff x="1487520" y="3249720"/>
            <a:chExt cx="6162480" cy="1560240"/>
          </a:xfrm>
        </p:grpSpPr>
        <p:pic>
          <p:nvPicPr>
            <p:cNvPr id="522" name="Pyr3" descr=""/>
            <p:cNvPicPr/>
            <p:nvPr/>
          </p:nvPicPr>
          <p:blipFill>
            <a:blip r:embed="rId3"/>
            <a:stretch/>
          </p:blipFill>
          <p:spPr>
            <a:xfrm>
              <a:off x="1487520" y="3249720"/>
              <a:ext cx="6162480" cy="15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3029040" y="3317760"/>
              <a:ext cx="30859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4" name="Text Box 20"/>
          <p:cNvGrpSpPr/>
          <p:nvPr/>
        </p:nvGrpSpPr>
        <p:grpSpPr>
          <a:xfrm>
            <a:off x="1427040" y="3121200"/>
            <a:ext cx="6558120" cy="1658880"/>
            <a:chOff x="1427040" y="3121200"/>
            <a:chExt cx="6558120" cy="1658880"/>
          </a:xfrm>
        </p:grpSpPr>
        <p:pic>
          <p:nvPicPr>
            <p:cNvPr id="525" name="Text Box 20" descr=""/>
            <p:cNvPicPr/>
            <p:nvPr/>
          </p:nvPicPr>
          <p:blipFill>
            <a:blip r:embed="rId4"/>
            <a:stretch/>
          </p:blipFill>
          <p:spPr>
            <a:xfrm>
              <a:off x="1427040" y="3121200"/>
              <a:ext cx="655812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1476360" y="3213000"/>
              <a:ext cx="614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RF Government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ditioning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ositive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xpectations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ith the professional communit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7" name="Pyr2"/>
          <p:cNvGrpSpPr/>
          <p:nvPr/>
        </p:nvGrpSpPr>
        <p:grpSpPr>
          <a:xfrm>
            <a:off x="2567160" y="1822320"/>
            <a:ext cx="4005000" cy="1401840"/>
            <a:chOff x="2567160" y="1822320"/>
            <a:chExt cx="4005000" cy="1401840"/>
          </a:xfrm>
        </p:grpSpPr>
        <p:pic>
          <p:nvPicPr>
            <p:cNvPr id="528" name="Pyr2" descr=""/>
            <p:cNvPicPr/>
            <p:nvPr/>
          </p:nvPicPr>
          <p:blipFill>
            <a:blip r:embed="rId5"/>
            <a:stretch/>
          </p:blipFill>
          <p:spPr>
            <a:xfrm>
              <a:off x="2567160" y="1822320"/>
              <a:ext cx="40050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3668760" y="1887480"/>
              <a:ext cx="18050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0" name="Text Box 21"/>
          <p:cNvSpPr/>
          <p:nvPr/>
        </p:nvSpPr>
        <p:spPr>
          <a:xfrm>
            <a:off x="2806560" y="2055960"/>
            <a:ext cx="36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F Presid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ive on develop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FC in Russ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793800" y="4862520"/>
            <a:ext cx="75610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nistry of economic develop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 of developing an IFC in Russia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ailed action plan of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ing an IFC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5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ock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 Takes Substantial Measur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Support the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4572000" cy="5214960"/>
          </a:xfrm>
          <a:prstGeom prst="rect">
            <a:avLst/>
          </a:prstGeom>
          <a:ln w="0">
            <a:noFill/>
          </a:ln>
        </p:spPr>
      </p:pic>
      <p:sp>
        <p:nvSpPr>
          <p:cNvPr id="46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37332E3-B155-4F09-B42A-4C6D7559A592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5" name="Содержимое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4572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dget Deficit &amp; Government Deb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31E9EB7-4608-4FFB-9225-C17C89F5614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5572080" cy="4572000"/>
          </a:xfrm>
          <a:prstGeom prst="rect">
            <a:avLst/>
          </a:prstGeom>
          <a:ln w="0">
            <a:noFill/>
          </a:ln>
        </p:spPr>
      </p:pic>
      <p:pic>
        <p:nvPicPr>
          <p:cNvPr id="469" name="Содержимое 4" descr=""/>
          <p:cNvPicPr/>
          <p:nvPr/>
        </p:nvPicPr>
        <p:blipFill>
          <a:blip r:embed="rId3"/>
          <a:stretch/>
        </p:blipFill>
        <p:spPr>
          <a:xfrm>
            <a:off x="5429160" y="1500120"/>
            <a:ext cx="3714840" cy="450072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6"/>
          <p:cNvSpPr/>
          <p:nvPr/>
        </p:nvSpPr>
        <p:spPr>
          <a:xfrm>
            <a:off x="0" y="6140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like the other countries Russia is going not to sell it’s debt to the market, but to cover it from international reserv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employment Rate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%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 Labor Fo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B4BDBF0-D068-403F-B403-D3DA3679EE4F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ussia Boosts Target Rat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le the Others Cut 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26C19A1-6161-4430-B429-A9B5BFF013E7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Диаграмма 4" descr=""/>
          <p:cNvPicPr/>
          <p:nvPr/>
        </p:nvPicPr>
        <p:blipFill>
          <a:blip r:embed="rId2"/>
          <a:stretch/>
        </p:blipFill>
        <p:spPr>
          <a:xfrm>
            <a:off x="5857920" y="1643040"/>
            <a:ext cx="3286080" cy="4429080"/>
          </a:xfrm>
          <a:prstGeom prst="rect">
            <a:avLst/>
          </a:prstGeom>
          <a:ln w="0">
            <a:noFill/>
          </a:ln>
        </p:spPr>
      </p:pic>
      <p:pic>
        <p:nvPicPr>
          <p:cNvPr id="477" name="Содержимое 4" descr=""/>
          <p:cNvPicPr/>
          <p:nvPr/>
        </p:nvPicPr>
        <p:blipFill>
          <a:blip r:embed="rId3"/>
          <a:stretch/>
        </p:blipFill>
        <p:spPr>
          <a:xfrm>
            <a:off x="0" y="1600200"/>
            <a:ext cx="854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financing Cos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9" name="Содержимое 4" descr=""/>
          <p:cNvPicPr/>
          <p:nvPr/>
        </p:nvPicPr>
        <p:blipFill>
          <a:blip r:embed="rId2"/>
          <a:stretch/>
        </p:blipFill>
        <p:spPr>
          <a:xfrm>
            <a:off x="0" y="1571760"/>
            <a:ext cx="8929800" cy="4429080"/>
          </a:xfrm>
          <a:prstGeom prst="rect">
            <a:avLst/>
          </a:prstGeom>
          <a:ln w="0">
            <a:noFill/>
          </a:ln>
        </p:spPr>
      </p:pic>
      <p:sp>
        <p:nvSpPr>
          <p:cNvPr id="48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94A66CC-5FF7-4CC5-B72E-3DBD5BE4AF8D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Заголовок 1"/>
          <p:cNvSpPr/>
          <p:nvPr/>
        </p:nvSpPr>
        <p:spPr>
          <a:xfrm>
            <a:off x="285840" y="5994360"/>
            <a:ext cx="83581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countries keep the real target rate in negative zone in order to stimulate the econom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Содержимое 5" descr=""/>
          <p:cNvPicPr/>
          <p:nvPr/>
        </p:nvPicPr>
        <p:blipFill>
          <a:blip r:embed="rId2"/>
          <a:stretch/>
        </p:blipFill>
        <p:spPr>
          <a:xfrm>
            <a:off x="142920" y="1571760"/>
            <a:ext cx="5214960" cy="4143240"/>
          </a:xfrm>
          <a:prstGeom prst="rect">
            <a:avLst/>
          </a:prstGeom>
          <a:ln w="0">
            <a:noFill/>
          </a:ln>
        </p:spPr>
      </p:pic>
      <p:sp>
        <p:nvSpPr>
          <p:cNvPr id="48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34CC48F-BFC4-4C6C-8DC7-59D3440EEBC7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5424480" y="1643040"/>
          <a:ext cx="3571920" cy="3541680"/>
        </p:xfrm>
        <a:graphic>
          <a:graphicData uri="http://schemas.openxmlformats.org/drawingml/2006/table">
            <a:tbl>
              <a:tblPr/>
              <a:tblGrid>
                <a:gridCol w="1638360"/>
                <a:gridCol w="1933560"/>
              </a:tblGrid>
              <a:tr h="590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 activity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n. Rub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 Octo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35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 Octo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94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- 11 (</a:t>
                      </a: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net outflow</a:t>
                      </a: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11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TB 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9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85" name="TextBox 9"/>
          <p:cNvSpPr/>
          <p:nvPr/>
        </p:nvSpPr>
        <p:spPr>
          <a:xfrm>
            <a:off x="5669640" y="5202360"/>
            <a:ext cx="337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olume of households’ deposit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s of 1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01.2009 –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$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185</a:t>
            </a:r>
            <a:r>
              <a:rPr b="1" lang="ru-RU" sz="1600" spc="-1" strike="noStrike">
                <a:solidFill>
                  <a:srgbClr val="262673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bln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vate Deposit Activ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1285920" y="585792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anic with deposit withdrawal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been stopp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ble Exchange Rates Dynam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C33AD48-43C9-4A3B-9BAC-DC71FEDA3BC6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Диаграмма 7" descr=""/>
          <p:cNvPicPr/>
          <p:nvPr/>
        </p:nvPicPr>
        <p:blipFill>
          <a:blip r:embed="rId2"/>
          <a:stretch/>
        </p:blipFill>
        <p:spPr>
          <a:xfrm>
            <a:off x="-6480" y="1494000"/>
            <a:ext cx="5621400" cy="5010120"/>
          </a:xfrm>
          <a:prstGeom prst="rect">
            <a:avLst/>
          </a:prstGeom>
          <a:ln w="0">
            <a:noFill/>
          </a:ln>
        </p:spPr>
      </p:pic>
      <p:sp>
        <p:nvSpPr>
          <p:cNvPr id="491" name="Заголовок 1"/>
          <p:cNvSpPr/>
          <p:nvPr/>
        </p:nvSpPr>
        <p:spPr>
          <a:xfrm>
            <a:off x="5643720" y="2928960"/>
            <a:ext cx="3429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ank of Russia managed to stabilize the ruble, announcing the new target USD-Euro basket rate = 4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in Lines to Fight the Cri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F2F9DAE-05C3-4BE7-8513-811E94E0D34D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4" name="Схема 5" descr=""/>
          <p:cNvPicPr/>
          <p:nvPr/>
        </p:nvPicPr>
        <p:blipFill>
          <a:blip r:embed="rId2"/>
          <a:stretch/>
        </p:blipFill>
        <p:spPr>
          <a:xfrm>
            <a:off x="1725480" y="1504800"/>
            <a:ext cx="59612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preksin_om</cp:lastModifiedBy>
  <dcterms:modified xsi:type="dcterms:W3CDTF">2009-06-18T06:27:33Z</dcterms:modified>
  <cp:revision>1205</cp:revision>
  <dc:subject/>
  <dc:title>Расширение кредитования – важнейший фактор экономического роста России </dc:title>
</cp:coreProperties>
</file>