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15A2-8C6A-454B-93C3-8E94A4D3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570F-44F1-4AB7-9DC6-ECF78B7C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C05-40EE-4C88-93CA-FB2615FB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D68-FC9E-4195-BF39-A47D815A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34F1-1D71-4C5B-A44A-843A82D6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710E-4919-4CE3-8721-40E78176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D528-5414-40D3-8DFF-9645EBD4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A19A-1832-49C1-B64F-95C4FFF6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74F4-0AD6-4116-96BA-0A89673E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7A26-F68B-4DD2-9E44-24AD0667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F293-50B7-42E1-8161-AD5367D8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0D4-7D80-4175-856B-CDF918FF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6892-E983-48D4-85CF-74D80F4E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11E1-9686-41EA-8E82-584A5F0D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91F1-6D1F-4871-82A1-56E55B7C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9AE9-CE0C-4AFF-9693-97A8875D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9D4B-7997-43F4-9567-8E1CC4B4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CFF7-0FBF-4A78-BF00-816FDC49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281-7BDC-4A6A-A2A8-963D803C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27DB-942C-427A-8551-5D9404BE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D5DF-5721-4892-96BF-E6CB9134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0D0-9E6E-4795-84C1-C7623C23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959-3A0D-4E66-876E-678D9EB2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D0B-4C05-47D6-A207-FDC12446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8107-C444-4DBE-B7D0-4E4582E35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B80F-C243-407A-B7A1-627BE12DE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6840" y="456840"/>
            <a:ext cx="6291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3400" y="621036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0000"/>
                </a:solidFill>
                <a:latin typeface="Times New Roman"/>
              </a:rPr>
              <a:t>Département des Finances &amp; de l’Écon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sz="5400" spc="-1" strike="noStrike">
                <a:solidFill>
                  <a:srgbClr val="cc0000"/>
                </a:solidFill>
                <a:latin typeface="Times New Roman"/>
              </a:rPr>
              <a:t>European Banking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29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cc0000"/>
                </a:solidFill>
                <a:latin typeface="Times New Roman"/>
              </a:rPr>
              <a:t>Monaco, 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nce   : 28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onaco : 2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y       : 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K        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um : 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760" y="1828800"/>
            <a:ext cx="537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reak down b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tionality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096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D – Focu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sz="4400" spc="-1" strike="noStrike">
                <a:solidFill>
                  <a:srgbClr val="cc0000"/>
                </a:solidFill>
                <a:latin typeface="Arial"/>
              </a:rPr>
              <a:t>Banking activit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 – Banking activitie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2 credit instit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ubsidiaries or branches from Europea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UM  : 75 billion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. A close and long standing relationship with Franc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Monaco and France :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A monetary union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well before the euro zon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2 Implementation of the French banking regulation : CCLRF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3 licensing by French Committee 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CEC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1.4 Supervision by the French authoriti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Commission Banc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2. Monaco – part of the Euro zon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 Econom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 </a:t>
            </a:r>
            <a:br>
              <a:rPr sz="4000"/>
            </a:b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1 Monaco joined the Euro z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on 1.1.200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2 Monaco has recently joined SEPA   :    March 2009</a:t>
            </a:r>
            <a:br>
              <a:rPr sz="48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 – Monaco GDP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A – GDP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170028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600200"/>
            <a:ext cx="7848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DP 2007: 4,3 billion 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ound 15 % grow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DP  per capita : 60 K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ctors : 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de   : 16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nking and finance : 15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ort activities: 15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l Estate : 10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urism  : 10 %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38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 –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B – Monaco Budget </a:t>
            </a:r>
            <a:br>
              <a:rPr sz="4000"/>
            </a:b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 - Budge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Budget : 900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   :  75% of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: very strong soci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M€ in public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ublic deb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2008  :  + 4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0481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 – Monaco 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35 000 resi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Working population : 45.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k down by contine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: 92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continents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25Z</dcterms:created>
  <dc:creator> </dc:creator>
  <dc:description/>
  <dc:language>en-US</dc:language>
  <cp:lastModifiedBy>Service Informatique</cp:lastModifiedBy>
  <dcterms:modified xsi:type="dcterms:W3CDTF">2009-06-18T06:45:30Z</dcterms:modified>
  <cp:revision>118</cp:revision>
  <dc:subject/>
  <dc:title>Conférence des Ambassadeurs</dc:title>
</cp:coreProperties>
</file>