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1.jpeg" ContentType="image/jpeg"/>
  <Override PartName="/ppt/media/image15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E74A9-6A06-4435-99E5-5A1727BE4E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740ED-D564-4EAA-8ECC-002702688C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D71E-D2B1-4223-A3AD-CB11C28F6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1F221-51F0-4F73-83FF-CD38A9B072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1F630-13DD-4232-BA3B-B4AF0C222B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3F125-2694-4D10-BF51-19ACBE0141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D7E33-25D5-4109-8B16-E125FAC0CC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4492A-A3B3-4FAB-9C09-A6087C7175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9315B-5B77-466D-BAD3-897A415BCA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8EA4B-5CD4-4248-B22B-522E5AEC46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CC170-FF3E-444D-B734-C9A45D46841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DF41E-D9E0-40DC-9479-9C35D69F0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2E66-3618-4591-98C3-9BB31EEC602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17000" y="5927760"/>
            <a:ext cx="927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628640"/>
            <a:ext cx="91440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June 18, 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D2A63-88D6-4982-A974-CECA5ADF02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Economic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280" y="134100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declines since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inflation stabilized around 10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ublic finance disciplin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is critically dependent on capital in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n ongoing savings defic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 fast increase in foreign debt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unemployment which was around 10% increased with the cri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E956B-00A6-43E1-9BFD-0211B718C9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13372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A7C01-5D8C-4701-A54E-187CEB83A0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umber of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97000"/>
          <a:ext cx="82184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8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27BF5-F26E-493A-AE78-0A9613AFAD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Number of Branches and Personnel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628640"/>
          <a:ext cx="4036680" cy="4524840"/>
        </p:xfrm>
        <a:graphic>
          <a:graphicData uri="http://schemas.openxmlformats.org/drawingml/2006/table">
            <a:tbl>
              <a:tblPr/>
              <a:tblGrid>
                <a:gridCol w="4036680"/>
              </a:tblGrid>
              <a:tr h="452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68360" y="1341360"/>
          <a:ext cx="821844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18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1178F-2ABD-4F9F-A4C9-E927582A29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USD billion)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/GDP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413000"/>
          <a:ext cx="84358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435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0F364-9240-4818-B4C1-CBF6982E9B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L/FX Composition of Assets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052640"/>
          <a:ext cx="828036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FB340-6C18-48A0-8235-70DE0CF070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Loans under follow-up/ </a:t>
            </a:r>
            <a:br>
              <a:rPr sz="3200"/>
            </a:b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otal Loan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341360"/>
          <a:ext cx="813600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136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6580E-FA2A-4FBB-8406-D29868423E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Loans/Deposit Ratio</a:t>
            </a:r>
            <a:r>
              <a:rPr b="0" lang="tr-T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2296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F289D-CC0C-45E8-B16B-9E8F187AF0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ital Ad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 and Share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1197000"/>
          <a:ext cx="8280360" cy="48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803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F221A-051A-49F6-B51C-0214D85877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Outlook of 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98064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number of brances an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total assets an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oney substitution is around 3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ans under follow up is at a low level (3%) and 90% of them are provisio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ratio of loans/deposit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AR of the sector is around 17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75E58-C25B-4859-96DD-8BB2F613D6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7618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</a:t>
            </a:r>
            <a:br>
              <a:rPr sz="3600"/>
            </a:b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29031-148B-40A1-9D68-66D0B70866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95480" y="2205000"/>
            <a:ext cx="69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lobal Crisi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urkish Banking Sector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B6615-CAA4-4D09-85DE-43F1AAEF49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9800" y="1628640"/>
          <a:ext cx="8226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28640"/>
                    <a:ext cx="8226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805CE-F7FB-49E6-861B-7C9585D336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84280"/>
          <a:ext cx="8229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84280"/>
                    <a:ext cx="8229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F2E6A-0251-4523-8D76-8854ADA6E8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341360"/>
          <a:ext cx="864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78C75-8023-4F38-8226-A0EE891294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24364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2436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989A2-9006-4D86-89CD-E061CEF153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posi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1125360"/>
          <a:ext cx="843588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4358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3BF6E-372B-4F27-BDF8-046EF23DE2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iquid Asse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268280"/>
          <a:ext cx="822960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F22E6-85A3-49E4-9FA8-4A753926DB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Securities (TL/USD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125360"/>
          <a:ext cx="864216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34616-FC40-4DC3-812B-75AFE5B753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125360"/>
          <a:ext cx="822960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8229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86424-E9BD-4610-BC71-AD11FF29CE1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under follow-up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052640"/>
          <a:ext cx="822960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FACD7-6F89-4495-A994-C3891DAB18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GDP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 in real terms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413000"/>
          <a:ext cx="829152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2915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86881-4114-4D54-B395-7E3E3246FE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FX Position (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268280"/>
          <a:ext cx="822960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50B23-4555-4E0F-A356-9A4171E2140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Effects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6922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abilities decreased slightly in real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position of total assets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otal loans decreased slightly, while securities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ans under follow-up increased shar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X risk, liquidity risk and interest risk are ignorably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pital adequacy ratio remained at high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quality of loan stock deteriorates due to decreasing economi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FAE1E-32E9-4FD7-834C-DD7172E9E1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Inflation 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9700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AC492-CAD8-4D4F-B6CD-1E3CCCB9D8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SBR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1990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-200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197000"/>
          <a:ext cx="8362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62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B7A7D-821C-44A6-ADFF-7EB0759FE9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et Savings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125360"/>
          <a:ext cx="82915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91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1AE68-7C39-4413-BD8A-1B183202C4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Growth and Capital Flows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907920"/>
          <a:ext cx="821844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184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AB9B-EC87-4E60-856B-6374581561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xternal Debt Stock (USD billion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981000"/>
          <a:ext cx="84358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4358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2B0C-E206-4646-8BEE-3B0F6D1E6B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mployment Rate (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981000"/>
          <a:ext cx="82915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291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3BF70-42B6-4439-8835-026B32BE08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 </dc:creator>
  <dc:description/>
  <dc:language>en-US</dc:language>
  <cp:lastModifiedBy>mumcum</cp:lastModifiedBy>
  <dcterms:modified xsi:type="dcterms:W3CDTF">2009-06-16T09:56:14Z</dcterms:modified>
  <cp:revision>125</cp:revision>
  <dc:subject/>
  <dc:title>Slide 1</dc:title>
</cp:coreProperties>
</file>