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65E3-881D-42DF-A10C-C9CDC25659D1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EDA7-DEFD-4A3B-9387-EE38AD3520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5234-A7F7-4F9E-A12E-C2ED25152C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962B-C29E-4649-BF16-6777BAC133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457B-6CAF-4047-80B4-91F8FEA514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90C2-9809-4839-B337-C7DFDAC3CF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A81D-DEA7-462A-8DED-D8F66D37C0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4F53-E00A-465B-9555-81D896F133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277B-5373-4304-B2BB-F1443F8CFC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E0FF-3D90-4CE3-A62F-8D4C201771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3B7E-7AF0-4AD6-8083-273FF25D17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9106-DB29-4783-AC06-A43859FD3F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D0EF-E28E-4F1E-B23C-FD6ED0B1F9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21EA-1AD1-46AC-A7A3-FB35B08425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19FB-C12D-41FD-AC96-8A7FF54F90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A48D-952C-4EA1-8DB4-39816A027E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3F64-2D62-4162-8363-62D25008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3EFF-EDA0-4E28-ADB3-C76627B2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59CA3-C5BE-4B7E-A27E-0F0C22AA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82419-5B3A-4A41-ABB8-26C97C0F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BA6B0-3C50-4FEB-A6EB-1D3CC10E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CC997-AA7E-4F89-809F-881D8322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D2E56-006C-4A11-BFA1-B4B81F43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FE563-7B94-4DD5-946F-78D2DD1B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8A9DE-64BB-417B-981F-0DDDB305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69A26-EC9F-49A0-B645-65CDCD18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1F129-F3BE-4621-909B-93AAB15F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AB586-5784-4691-8792-EA3570CA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C0FF-483E-48DA-92CA-B4181F76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FC5AE-D567-408A-8151-EB01D646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FCE89-FAA3-49A6-BABD-1859042B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83372-9772-4E85-B8BA-CF75F5C5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21E6F-43AF-4978-BC93-C8052F09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259B7-ABC4-4EC9-A0AB-535A80E4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BA601-F684-4E4C-86A7-9F79BE41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B7AE9-E21E-43A8-8CE0-9DA26DCA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D133A-C51E-4F48-943E-F35A6D65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43FC4-D427-4E79-83B0-E31B8259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0DC85-9FC1-40D3-AD5F-815CCFFE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65DD-82D9-4921-920F-92EB93FAF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EE1CD-A386-4006-A389-2CBA3C3F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D2C32-7FAA-4262-B571-F8079B9B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DC184-76BB-4228-AE8B-4E20FD7C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14F4E-C311-444B-9934-3A572643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CE5B7-31B6-45E5-9FB6-2E9F9A1C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11154-B5F7-48DF-9D63-AC09C2B8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35FCD-B15B-4D9E-8EB6-80E74CF9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07A54-FA8F-473D-AFA4-5CCCF79F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CA88A-48F4-48AF-819B-3019E41C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1F38F-0090-42AB-8F5B-65AFDF67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1194-4A94-439F-BC02-F8F7208E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33401-130E-45F6-B5D4-83C67D3E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85733-0898-489A-A16F-A03B650D0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DD594-83CE-412A-991A-3346C517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FE5A-1AFF-4767-9F4A-9AC96503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1185-464C-469D-9CA4-B6C81B39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A5F4-7737-4B71-AC69-00EB934C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0885-B58C-476F-A6EE-D3A28A98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BE8C-21BB-4956-8477-F387DE50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408E-CEE3-4FDF-BC6D-217B481E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FC29-E58E-4064-BAB0-D798BD05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C505-D6F1-470E-A868-3A3EB842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CE9A-7351-4DCD-A320-29CAE8DC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DFE6-47F4-450B-99BB-3077C423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D7CF-3BEE-4827-8CBF-45234E1A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D82C-A477-4310-B695-8A5F5A9F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BE68A-4817-441C-9B95-6C02CE0C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7ED43-BB91-4282-94FF-9A0AB5A8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44DA7-5759-4F8C-A87B-B2E771FE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152C9-55ED-43FF-8572-D82A566F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CA137-416C-476F-AA2B-4F3EA49A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3DB2-B546-4270-BB81-B69BFCC6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8B40A-A3DA-405D-86CF-B90EB6CF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6E2C6-18E8-4391-9370-F0298359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C7595-0116-49D7-BBCC-3B6AD30B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D09E1-6FC1-444C-95D6-0B02204C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209D1-31A7-475B-86FE-647F6B4F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F08D4-A7B2-46F1-9F67-02AFCD9C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3B688-A290-4D33-88E8-D462216B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AAAFC-C552-4010-9F55-5CDCD229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DA30F-B987-41C9-83DF-F4C5A444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CCE2D-599D-4A39-816C-2E3C9164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F253-2ED1-411C-B8A4-D79B1203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4363E-0327-4F67-BB8F-ED467350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DB6B7-4FE1-426D-ACA0-06C008CB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EEBEF-D3CE-4BE2-85DD-2CEF9A8A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81906-9900-4DCA-995A-44245A9A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81294-A655-4D2F-A3CA-9929EDA0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B744A-4305-4247-B8EE-DCFFBCC3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CF138-D83C-4391-B9DA-4F05BC56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2F7A2-2122-44A6-BA7E-2AF98692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CEEA7-6148-4282-B9FA-C711AE40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FF2F2-2F31-43FC-AD22-869724CF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B4B1-F23D-4A9C-BB7D-13048B0D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F040A-A65A-485D-9A78-9F92A7C7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46B50-9BB6-4A69-AE92-19EC732D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238AC-1982-4943-ACD7-863D4AE8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F84C5-6FD7-482B-92FB-5D245701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125A6-ED91-43B0-AD92-4D0F5D5A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61A1E-6A19-467A-A7E7-5C0CD336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7F426-DF26-406A-BBB6-301C02FA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91695-4DB8-464B-8152-E864AE4C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D53AE-6ABC-4376-B1AC-709557B9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8B664-C071-4932-8776-9DA4F3BC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ADF6-D61A-471A-BD6F-06A07C02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06465-745C-437C-A350-C032BB66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DF965-3BBD-4E0F-BFAA-8719706E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F8D6A-5D47-48D6-B118-6D3A1785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3513A-2276-4DDF-B48C-EABB3C93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3E627-4095-47C0-B1B9-2944CF43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61B2D-02C1-40DA-A661-08AAC76F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0875B-3067-4698-A036-ED0B7955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09522-CD87-47DE-882A-034AA452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F15F7-35E3-4A1B-A4D7-9E3627CA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F973E-054D-47D3-8090-7C6EC8E1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F64A-C748-4418-AF2D-0479F178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26A26-3229-4988-8039-E8462F26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2B54E-7074-4D52-ACFB-52DD70A8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08616-607A-40E0-A798-838529A0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41AEC-46FA-4EC6-ABC3-BBF1F2CD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07D34-1BE5-4E7A-B821-D8B91C24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FDA1A-57EC-4097-9AB0-923AC03D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70676-7894-4438-8183-9814231B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59FA7-FA7E-478F-BA3A-0513B28E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D897E-70A0-49CD-BE69-5B363A70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D68E2-0B25-422D-B7B0-8BCC1091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BC42-CA97-458C-8A46-3374D99A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690E1-16BC-4DB5-8537-19B83416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27D90-5107-4EBC-AD73-6E357E1B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DDE4E-5A8D-485D-80A3-0E37389F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42E93-9ED0-4E29-98AE-F5ADD1C2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0EA5C-23DB-4D00-96D1-D354EF74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B42D7-DC94-4A17-BF5E-5002BBDC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D13C9-149A-410E-B7F7-670CB1DD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3E749-978F-4E34-8B97-5D60C127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8ECF8-4641-420C-8F21-AD6AC7E4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96729-C431-4BD9-8E64-9C43BD70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774-AEF6-474A-966B-2D4E08AD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4FE5C-DF3F-49F8-A081-FE0B4D76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321A3-FBEE-4422-84B7-FCAFA115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3F846-E70B-4E13-AA9B-5D089236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B3838-441B-40FD-83F5-C2983652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F1F48-F81F-4055-9712-F090D8FF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8FD19-561F-4403-A985-28FC9808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D7060-9E99-487A-A5E6-0254EA32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F5205-630E-444A-BBDD-EA14B4BC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E55FF-70F9-4E09-AAC2-55E912EA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AE6D9-BBFE-4492-AEB7-E2AC67DF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2F38-9633-4A77-AE0C-E07FFBF0E8D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E28A8FB-3776-464F-A509-5D57C248CB6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2291-FEBF-47CB-B457-7605F45AA65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86460BF-2B5C-4E60-A161-438BBA7FEF95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B96D-60A7-407A-B015-AAD2A0CABB7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E26F863-A559-4610-8680-FD717C09F511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67B7-9A39-473A-963D-C9BEEEB1B22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AA8524D-15F9-47F8-BD73-4EA9521B8073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9836-0728-41B3-AB65-2990F4D94AF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5A37BEE-148A-449C-B5AA-F9569307A21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A9A6-ED37-464B-B41E-A885AEF4B1B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8B41239-9C9D-4F0F-8209-60D59E4AFB9D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CA65-61DB-41FE-8EF6-1D407D4F2D8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C6BFDED-544B-4677-9762-241ED060503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A21D-690E-4575-BE2E-31E06D3773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29AFD8B-8CEF-49C9-B40F-11FC0AB7DB5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CA6F-8570-4437-859F-B33DE8C0207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57E090E-B18F-4037-B9BA-E6A94618EFC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C256-5726-45BD-B81C-AA5CD180E21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0031DA3-5ACB-49FC-ADF5-D5C0AE7836BC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2798-8147-4428-8CC6-12A2C5D83DC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0EB5077-891A-408B-818E-23C5D3C4527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5"/>
          <p:cNvSpPr/>
          <p:nvPr/>
        </p:nvSpPr>
        <p:spPr>
          <a:xfrm>
            <a:off x="214200" y="3789360"/>
            <a:ext cx="87156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9" name="Picture 6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1476360" y="2495520"/>
            <a:ext cx="5657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RUSSIAN BANKING SYSTE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 CURRENT ENVIRON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67200" y="4221000"/>
            <a:ext cx="30096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leg M. Preks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Vice-Presid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ssociation of Russian Ban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 June 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onte Car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79280" y="54936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n banking system still falls behind despite the rapid grow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A612-13DF-4627-8B93-77EA8A9D3FCC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7" name="Диаграмма 3" descr=""/>
          <p:cNvPicPr/>
          <p:nvPr/>
        </p:nvPicPr>
        <p:blipFill>
          <a:blip r:embed="rId2"/>
          <a:stretch/>
        </p:blipFill>
        <p:spPr>
          <a:xfrm>
            <a:off x="142920" y="1557360"/>
            <a:ext cx="5143320" cy="4443480"/>
          </a:xfrm>
          <a:prstGeom prst="rect">
            <a:avLst/>
          </a:prstGeom>
          <a:ln w="0">
            <a:noFill/>
          </a:ln>
        </p:spPr>
      </p:pic>
      <p:pic>
        <p:nvPicPr>
          <p:cNvPr id="498" name="Диаграмма 4" descr=""/>
          <p:cNvPicPr/>
          <p:nvPr/>
        </p:nvPicPr>
        <p:blipFill>
          <a:blip r:embed="rId3"/>
          <a:stretch/>
        </p:blipFill>
        <p:spPr>
          <a:xfrm>
            <a:off x="5429160" y="1557360"/>
            <a:ext cx="3571920" cy="4443480"/>
          </a:xfrm>
          <a:prstGeom prst="rect">
            <a:avLst/>
          </a:prstGeom>
          <a:ln w="0">
            <a:noFill/>
          </a:ln>
        </p:spPr>
      </p:pic>
      <p:sp>
        <p:nvSpPr>
          <p:cNvPr id="499" name="TextBox 5"/>
          <p:cNvSpPr/>
          <p:nvPr/>
        </p:nvSpPr>
        <p:spPr>
          <a:xfrm>
            <a:off x="142920" y="600552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st growing assets means that aggressive lending policy &amp; poor risk management may be in place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growth of past due loans will become a problem for banks’ equity in coming month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974F-7BD2-497A-95CF-9B0EB600A8D2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2" name="Диаграмма 3" descr=""/>
          <p:cNvPicPr/>
          <p:nvPr/>
        </p:nvPicPr>
        <p:blipFill>
          <a:blip r:embed="rId2"/>
          <a:stretch/>
        </p:blipFill>
        <p:spPr>
          <a:xfrm>
            <a:off x="-66600" y="0"/>
            <a:ext cx="92170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cow Still Well Behind Other Financial Cent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2FC233A-C764-4B3C-B783-8075E3FB33C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5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506" name="Содержимое 4" descr=""/>
          <p:cNvPicPr/>
          <p:nvPr/>
        </p:nvPicPr>
        <p:blipFill>
          <a:blip r:embed="rId3"/>
          <a:stretch/>
        </p:blipFill>
        <p:spPr>
          <a:xfrm>
            <a:off x="0" y="4357800"/>
            <a:ext cx="9144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E425680-9DC6-4089-8F19-9243FBDC2F75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8" name="Picture 2" descr="mosmap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628640"/>
            <a:ext cx="6264360" cy="50482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t Stands for an International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ancial Cente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the New Global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 Box 26"/>
          <p:cNvSpPr/>
          <p:nvPr/>
        </p:nvSpPr>
        <p:spPr>
          <a:xfrm>
            <a:off x="250920" y="4437000"/>
            <a:ext cx="4248000" cy="9352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the third city in the world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 its budget performan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$ 40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27"/>
          <p:cNvSpPr/>
          <p:nvPr/>
        </p:nvSpPr>
        <p:spPr>
          <a:xfrm>
            <a:off x="4716360" y="4437000"/>
            <a:ext cx="4248360" cy="935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living cost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d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dg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re the highest among world capital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250920" y="5516640"/>
            <a:ext cx="4248000" cy="10810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in Top-5 financial centers to become more importan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short term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186840" y="6583320"/>
            <a:ext cx="537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Источники: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ant Thornton 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Z/Yen Group,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Mercer Human Resource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onsulting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 Box 30"/>
          <p:cNvSpPr/>
          <p:nvPr/>
        </p:nvSpPr>
        <p:spPr>
          <a:xfrm>
            <a:off x="4716360" y="5516640"/>
            <a:ext cx="4248360" cy="10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ranks 5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ational financial cente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5" name="Object 4" descr=""/>
          <p:cNvPicPr/>
          <p:nvPr/>
        </p:nvPicPr>
        <p:blipFill>
          <a:blip r:embed="rId3"/>
          <a:stretch/>
        </p:blipFill>
        <p:spPr>
          <a:xfrm>
            <a:off x="0" y="1571760"/>
            <a:ext cx="914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DB2666D-1614-4885-98B7-29844A97A91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eps by the State to Facilitate IF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8" name="Pyr4"/>
          <p:cNvGrpSpPr/>
          <p:nvPr/>
        </p:nvGrpSpPr>
        <p:grpSpPr>
          <a:xfrm>
            <a:off x="189000" y="4834080"/>
            <a:ext cx="8759880" cy="1920600"/>
            <a:chOff x="189000" y="4834080"/>
            <a:chExt cx="8759880" cy="1920600"/>
          </a:xfrm>
        </p:grpSpPr>
        <p:pic>
          <p:nvPicPr>
            <p:cNvPr id="519" name="Pyr4" descr=""/>
            <p:cNvPicPr/>
            <p:nvPr/>
          </p:nvPicPr>
          <p:blipFill>
            <a:blip r:embed="rId2"/>
            <a:stretch/>
          </p:blipFill>
          <p:spPr>
            <a:xfrm>
              <a:off x="189000" y="4834080"/>
              <a:ext cx="8759880" cy="19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565280" y="4913280"/>
              <a:ext cx="56116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1" name="Pyr3"/>
          <p:cNvGrpSpPr/>
          <p:nvPr/>
        </p:nvGrpSpPr>
        <p:grpSpPr>
          <a:xfrm>
            <a:off x="1487520" y="3249720"/>
            <a:ext cx="6162480" cy="1560240"/>
            <a:chOff x="1487520" y="3249720"/>
            <a:chExt cx="6162480" cy="1560240"/>
          </a:xfrm>
        </p:grpSpPr>
        <p:pic>
          <p:nvPicPr>
            <p:cNvPr id="522" name="Pyr3" descr=""/>
            <p:cNvPicPr/>
            <p:nvPr/>
          </p:nvPicPr>
          <p:blipFill>
            <a:blip r:embed="rId3"/>
            <a:stretch/>
          </p:blipFill>
          <p:spPr>
            <a:xfrm>
              <a:off x="1487520" y="3249720"/>
              <a:ext cx="6162480" cy="15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3029040" y="3317760"/>
              <a:ext cx="30859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4" name="Text Box 20"/>
          <p:cNvGrpSpPr/>
          <p:nvPr/>
        </p:nvGrpSpPr>
        <p:grpSpPr>
          <a:xfrm>
            <a:off x="1427040" y="3121200"/>
            <a:ext cx="6558120" cy="1658880"/>
            <a:chOff x="1427040" y="3121200"/>
            <a:chExt cx="6558120" cy="1658880"/>
          </a:xfrm>
        </p:grpSpPr>
        <p:pic>
          <p:nvPicPr>
            <p:cNvPr id="525" name="Text Box 20" descr=""/>
            <p:cNvPicPr/>
            <p:nvPr/>
          </p:nvPicPr>
          <p:blipFill>
            <a:blip r:embed="rId4"/>
            <a:stretch/>
          </p:blipFill>
          <p:spPr>
            <a:xfrm>
              <a:off x="1427040" y="3121200"/>
              <a:ext cx="655812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1476360" y="3213000"/>
              <a:ext cx="614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RF Government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ditioning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ositive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xpectations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ith the professional communit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7" name="Pyr2"/>
          <p:cNvGrpSpPr/>
          <p:nvPr/>
        </p:nvGrpSpPr>
        <p:grpSpPr>
          <a:xfrm>
            <a:off x="2567160" y="1822320"/>
            <a:ext cx="4005000" cy="1401840"/>
            <a:chOff x="2567160" y="1822320"/>
            <a:chExt cx="4005000" cy="1401840"/>
          </a:xfrm>
        </p:grpSpPr>
        <p:pic>
          <p:nvPicPr>
            <p:cNvPr id="528" name="Pyr2" descr=""/>
            <p:cNvPicPr/>
            <p:nvPr/>
          </p:nvPicPr>
          <p:blipFill>
            <a:blip r:embed="rId5"/>
            <a:stretch/>
          </p:blipFill>
          <p:spPr>
            <a:xfrm>
              <a:off x="2567160" y="1822320"/>
              <a:ext cx="40050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3668760" y="1887480"/>
              <a:ext cx="18050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0" name="Text Box 21"/>
          <p:cNvSpPr/>
          <p:nvPr/>
        </p:nvSpPr>
        <p:spPr>
          <a:xfrm>
            <a:off x="2806560" y="2055960"/>
            <a:ext cx="36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F Presid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ive on develop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FC in Russ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793800" y="4862520"/>
            <a:ext cx="75610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nistry of economic develop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 of developing an IFC in Russia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ailed action plan of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ing an IFC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5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ock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 Takes Substantial Measur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Support the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4572000" cy="5214960"/>
          </a:xfrm>
          <a:prstGeom prst="rect">
            <a:avLst/>
          </a:prstGeom>
          <a:ln w="0">
            <a:noFill/>
          </a:ln>
        </p:spPr>
      </p:pic>
      <p:sp>
        <p:nvSpPr>
          <p:cNvPr id="46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4E39756-D41C-4076-970C-483C843FB3DC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5" name="Содержимое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4572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dget Deficit &amp; Government Deb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FDE885E-5E6D-46BE-AEB5-D8A8A7A05D3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5572080" cy="4572000"/>
          </a:xfrm>
          <a:prstGeom prst="rect">
            <a:avLst/>
          </a:prstGeom>
          <a:ln w="0">
            <a:noFill/>
          </a:ln>
        </p:spPr>
      </p:pic>
      <p:pic>
        <p:nvPicPr>
          <p:cNvPr id="469" name="Содержимое 4" descr=""/>
          <p:cNvPicPr/>
          <p:nvPr/>
        </p:nvPicPr>
        <p:blipFill>
          <a:blip r:embed="rId3"/>
          <a:stretch/>
        </p:blipFill>
        <p:spPr>
          <a:xfrm>
            <a:off x="5429160" y="1500120"/>
            <a:ext cx="3714840" cy="450072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6"/>
          <p:cNvSpPr/>
          <p:nvPr/>
        </p:nvSpPr>
        <p:spPr>
          <a:xfrm>
            <a:off x="0" y="6140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like the other countries Russia is going not to sell it’s debt to the market, but to cover it from international reserv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employment Rate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%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 Labor Fo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3099AF1-F304-46E8-8087-C057BF27E55D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ussia Boosts Target Rat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le the Others Cut 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998C7D1-147E-4F28-90BA-432C0D9BA971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Диаграмма 4" descr=""/>
          <p:cNvPicPr/>
          <p:nvPr/>
        </p:nvPicPr>
        <p:blipFill>
          <a:blip r:embed="rId2"/>
          <a:stretch/>
        </p:blipFill>
        <p:spPr>
          <a:xfrm>
            <a:off x="5857920" y="1643040"/>
            <a:ext cx="3286080" cy="4429080"/>
          </a:xfrm>
          <a:prstGeom prst="rect">
            <a:avLst/>
          </a:prstGeom>
          <a:ln w="0">
            <a:noFill/>
          </a:ln>
        </p:spPr>
      </p:pic>
      <p:pic>
        <p:nvPicPr>
          <p:cNvPr id="477" name="Содержимое 4" descr=""/>
          <p:cNvPicPr/>
          <p:nvPr/>
        </p:nvPicPr>
        <p:blipFill>
          <a:blip r:embed="rId3"/>
          <a:stretch/>
        </p:blipFill>
        <p:spPr>
          <a:xfrm>
            <a:off x="0" y="1600200"/>
            <a:ext cx="854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financing Cos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9" name="Содержимое 4" descr=""/>
          <p:cNvPicPr/>
          <p:nvPr/>
        </p:nvPicPr>
        <p:blipFill>
          <a:blip r:embed="rId2"/>
          <a:stretch/>
        </p:blipFill>
        <p:spPr>
          <a:xfrm>
            <a:off x="0" y="1571760"/>
            <a:ext cx="8929800" cy="4429080"/>
          </a:xfrm>
          <a:prstGeom prst="rect">
            <a:avLst/>
          </a:prstGeom>
          <a:ln w="0">
            <a:noFill/>
          </a:ln>
        </p:spPr>
      </p:pic>
      <p:sp>
        <p:nvSpPr>
          <p:cNvPr id="48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7B3FE75-F489-4A99-9BBC-134AE193D1F5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Заголовок 1"/>
          <p:cNvSpPr/>
          <p:nvPr/>
        </p:nvSpPr>
        <p:spPr>
          <a:xfrm>
            <a:off x="285840" y="5994360"/>
            <a:ext cx="83581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countries keep the real target rate in negative zone in order to stimulate the econom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Содержимое 5" descr=""/>
          <p:cNvPicPr/>
          <p:nvPr/>
        </p:nvPicPr>
        <p:blipFill>
          <a:blip r:embed="rId2"/>
          <a:stretch/>
        </p:blipFill>
        <p:spPr>
          <a:xfrm>
            <a:off x="142920" y="1571760"/>
            <a:ext cx="5214960" cy="4143240"/>
          </a:xfrm>
          <a:prstGeom prst="rect">
            <a:avLst/>
          </a:prstGeom>
          <a:ln w="0">
            <a:noFill/>
          </a:ln>
        </p:spPr>
      </p:pic>
      <p:sp>
        <p:nvSpPr>
          <p:cNvPr id="48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E2A87C4-FBD5-4AB9-918E-E78AE100F987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5424480" y="1643040"/>
          <a:ext cx="3571920" cy="3541680"/>
        </p:xfrm>
        <a:graphic>
          <a:graphicData uri="http://schemas.openxmlformats.org/drawingml/2006/table">
            <a:tbl>
              <a:tblPr/>
              <a:tblGrid>
                <a:gridCol w="1638360"/>
                <a:gridCol w="1933560"/>
              </a:tblGrid>
              <a:tr h="590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 activity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n. Rub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 Octo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35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 Octo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94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- 11 (</a:t>
                      </a: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net outflow</a:t>
                      </a: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11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TB 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9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85" name="TextBox 9"/>
          <p:cNvSpPr/>
          <p:nvPr/>
        </p:nvSpPr>
        <p:spPr>
          <a:xfrm>
            <a:off x="5669640" y="5202360"/>
            <a:ext cx="337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olume of households’ deposit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s of 1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01.2009 –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$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185</a:t>
            </a:r>
            <a:r>
              <a:rPr b="1" lang="ru-RU" sz="1600" spc="-1" strike="noStrike">
                <a:solidFill>
                  <a:srgbClr val="262673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bln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vate Deposit Activ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1285920" y="585792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anic with deposit withdrawal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been stopp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ble Exchange Rates Dynam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E3078CC-66B8-4C41-A998-0872F67AC57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Диаграмма 7" descr=""/>
          <p:cNvPicPr/>
          <p:nvPr/>
        </p:nvPicPr>
        <p:blipFill>
          <a:blip r:embed="rId2"/>
          <a:stretch/>
        </p:blipFill>
        <p:spPr>
          <a:xfrm>
            <a:off x="-6480" y="1494000"/>
            <a:ext cx="5621400" cy="5010120"/>
          </a:xfrm>
          <a:prstGeom prst="rect">
            <a:avLst/>
          </a:prstGeom>
          <a:ln w="0">
            <a:noFill/>
          </a:ln>
        </p:spPr>
      </p:pic>
      <p:sp>
        <p:nvSpPr>
          <p:cNvPr id="491" name="Заголовок 1"/>
          <p:cNvSpPr/>
          <p:nvPr/>
        </p:nvSpPr>
        <p:spPr>
          <a:xfrm>
            <a:off x="5643720" y="2928960"/>
            <a:ext cx="3429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ank of Russia managed to stabilize the ruble, announcing the new target USD-Euro basket rate = 4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in Lines to Fight the Cri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A5F6713-8016-487E-BCAC-39C35CFA3D89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4" name="Схема 5" descr=""/>
          <p:cNvPicPr/>
          <p:nvPr/>
        </p:nvPicPr>
        <p:blipFill>
          <a:blip r:embed="rId2"/>
          <a:stretch/>
        </p:blipFill>
        <p:spPr>
          <a:xfrm>
            <a:off x="1725480" y="1504800"/>
            <a:ext cx="59612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preksin_om</cp:lastModifiedBy>
  <dcterms:modified xsi:type="dcterms:W3CDTF">2009-06-18T06:27:33Z</dcterms:modified>
  <cp:revision>1205</cp:revision>
  <dc:subject/>
  <dc:title>Расширение кредитования – важнейший фактор экономического роста России </dc:title>
</cp:coreProperties>
</file>