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890280" y="733320"/>
            <a:ext cx="488772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89AA-4731-472A-B7BD-DF9C716E91F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4E98-3A73-4230-A189-49CF515BCCC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5617-21CE-40B2-91DB-B95358E2202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2CE3-0358-4EB8-8C22-87BCA938CA7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8B69-9C00-43F2-9369-EFD6BFB5FE8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850F-7CD0-4C64-B482-E19BDBAEC70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07C1-3E41-4698-9445-87EE2F20FCC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BB1C-9661-4BB9-A13A-BE4A5D8F130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1B2F-103E-435A-895F-14B8D8DD114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93BA-081B-4DA1-8C73-C8E4CA80813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E697-2307-4407-AFC3-8995763F458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2EE1-47B3-4528-B7EC-4910D5CEBF0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360F-2434-4324-B7D5-7877E1BCADD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D97F-A932-48CC-94EA-601F1DFAA50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BB50-D058-43F7-9EF3-770F70C5840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3630-39AE-4B4E-91F6-B71045A9852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F56F-D6D7-4BA2-9426-BD98ED7943F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78C5-A765-4041-BF4F-9432E5EAC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E6F9-1D68-4FC0-A247-2EE1C8D7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03AB-39E4-495B-A82B-DB5161640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97AC-70BC-4FEB-974C-4E3276FC0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7374-35A1-48C0-9E83-683D2D10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9999-0F62-408C-A051-61ED45CF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9160-4A8E-4A28-B496-473F8068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D235-4C3C-423E-994B-CFD8CDCD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D156-7939-4FF1-9E2D-65CD1341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76B1-55E0-4D64-A032-78225CB6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7E71-AAD2-4C20-BC11-EB44986F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AD74-5162-4C26-8B81-28899B32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4906-6377-4289-866B-A7FC995B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24BD-0A20-4EB2-8E70-9655C08F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FB07-F569-4E78-99A2-5D4E7A43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C2DB-69EE-4F93-A7EF-853B77F55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CCEF-C38A-4DE6-93B8-2FDBC46C0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48CB-3A9B-4364-8844-C494E014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DE56-7201-46B8-893E-DD067C31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C922-5AF8-49E3-A214-8288E3CF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5BEF-FCE8-446F-9389-755FA1E7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E07B-E03C-4B07-9243-FDF04401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180E-9960-4286-822A-696BC6CF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714F-8429-4BC6-B68A-8BBBE7D7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4437-4480-4971-9FC5-8DE9A15182A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3839-3059-466E-B239-419B8C7C605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cc"/>
                </a:solidFill>
                <a:latin typeface="Times New Roman"/>
              </a:rPr>
              <a:t>Future Supervisory Architecture of the EU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uido RAVOET 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BF Secretary Genera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28</a:t>
            </a:r>
            <a:r>
              <a:rPr b="0" lang="en-GB" sz="25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EBF Associates’ Meeting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onaco, 18 June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7F8C-3397-4EA0-89ED-6F4ED676733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Role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a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single rulebook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through binding technical standards and interpretative guidelines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consistent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pplication of the rules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by supervisors and consistent supervisory practic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mmon supervisory culture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and consistent supervisory practic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llect relevant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icro-prudentia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information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from national superviso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9CBC-7AE0-4AA8-8B3D-8454516E451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Composition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mposition of the new ESA follows that of the current Lamfalussy Level 3 Committees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Secretariat,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Secretary General and Chair, and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Board where the Commission, the ESRC and the EFTA-EEA countries would be represented.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he resources will need to be substantially increased as compared to the current resources of the Level 3 Committees for the new Authorities to fulfil their roles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68A1-B8DD-4B0F-980D-52B597F7DB2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Functioning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Regular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eeting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Decision mak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66cc"/>
                </a:solidFill>
                <a:latin typeface="Times New Roman"/>
              </a:rPr>
              <a:t>Binding technical standards made with qualified majority voting;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66cc"/>
                </a:solidFill>
                <a:latin typeface="Times New Roman"/>
              </a:rPr>
              <a:t>Interpretative decisions: simple majority procedure;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Budget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the Authorities have their own budget, which is funded by the national authorities and/or industry. Financial and human resources need to be proportionate to the responsibilities of the Authorities and ensure independence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ccountable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o Council, Commission and European Parliament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9251-927B-43F9-BE95-791016890BB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ic Risk Council (ESRC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 of Financial Supervisors (ESFS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5cad"/>
                </a:solidFill>
                <a:latin typeface="Times New Roman"/>
              </a:rPr>
              <a:t>ESRC-ESFS Coopera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79C1-3486-4CBE-B491-0A4410D2FFA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operation between ESRC and ESFS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ion and information shar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between the macro and micro pillars would be binding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On a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regular basi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the European Authorities would provide the ESRC with the relevant anonymous data on all financial institutions and market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On an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d hoc basi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the ESRC would launch surveys on specific issues, channelled through the European Supervisory Authoriti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For macro-prudential information to feed into the micro-prudential supervisory considerations, representatives of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SRC might participate in colleges of supervisors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s observe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F50A-A94D-42AF-868B-CDAFE707294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ummary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The Commission proposed creating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RC),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FS) and a way for the two to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e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The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EBF broadly supports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 most of the proposal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Some important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details still need to be clarified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Legislative proposals are expected in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autumn 2009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804000" y="1773360"/>
            <a:ext cx="208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E178-4AF4-4DB7-B862-785280F4EDC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5cad"/>
                </a:solidFill>
                <a:latin typeface="Times New Roman"/>
              </a:rPr>
              <a:t>Thank You For Your Attention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!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3F0B-476F-4CFC-894A-784AB137098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Outline of Presentat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Background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uropean Systemic Risk Council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5cad"/>
                </a:solidFill>
                <a:latin typeface="Times New Roman"/>
              </a:rPr>
              <a:t>Role, Composition, Functioning.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uropean System Of Financial Supervisors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5cad"/>
                </a:solidFill>
                <a:latin typeface="Times New Roman"/>
              </a:rPr>
              <a:t>Role, Composition, Functioning.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SRC-ESFS Cooper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Functioning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Conclusion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804000" y="1773360"/>
            <a:ext cx="208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94A5-12A3-4BAB-B17A-20E79FC7F89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Backgroun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Jacques de Larosière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expert group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Set up in mid-08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Report delivered Feb-09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EBF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expert group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Set up in November 2008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Comments &amp; proposals to de Larosière group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mmission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mmunication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on </a:t>
            </a:r>
            <a:r>
              <a:rPr b="0" i="1" lang="en-US" sz="2100" spc="-1" strike="noStrike">
                <a:solidFill>
                  <a:srgbClr val="0066cc"/>
                </a:solidFill>
                <a:latin typeface="Times New Roman"/>
              </a:rPr>
              <a:t>European Financial Supervision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Published on 27-May-09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legislative proposals follow in autumn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AFB2-3672-44B5-B148-8FBC09EB166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RC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FS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SRC-ESFS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ion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7C33-651F-45F3-A468-3CE88B5D1C9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ole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ESRC 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role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is to: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provide early warnings of financial vulnerabilities, and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make recommendations on issues pertaining to macro-financial stability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It will fulfil its role by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llecting inform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ssessing this inform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Issuing risk warning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llaborating with IMF, FSB and third countries’ peers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7852-6C9E-41A0-B025-8BA1AEED706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 Composit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hai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ECB President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Vice-Chai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non-euro-zone governor elected by ESRC member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embe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vice-president of the ECB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National central banks: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3 Chairs of European Supervisory Authoriti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uropean Commission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Observe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27 national supervisory authoriti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Finance Ministries: Chair of the EFC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 u="sng">
                <a:solidFill>
                  <a:srgbClr val="0066cc"/>
                </a:solidFill>
                <a:uFillTx/>
                <a:latin typeface="Times New Roman"/>
              </a:rPr>
              <a:t>Tota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34 members + 28 observer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10BB-2440-4BF8-BBE1-77C2FA9990B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 Functioning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t least three meetings per yea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which all members and observers are entitled to attend and speak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Decision mak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only members may vote on the basis of a simple majority procedure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ccountable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o Council and European Parliament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Role of the ECB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the ECB provides administrative and logistic support as well as technical expertise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3D67-D796-419B-86C6-D6C9D9C9D41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ic Risk Council (ESRC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(ESFS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SRC-ESFS Coopera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112D-CD39-468F-930A-EA829278EBC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 of 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inancial Supervisor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Two levels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National level: 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national supervisors and colleg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European level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: new Supervisory Authorities </a:t>
            </a: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(banking, insurance and securities)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National supervisors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remain responsible for direct day-to-day supervision of individual entities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lleges of supervisors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for cross-border groups supervision: national supervisors +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a representative of the relevant European Supervisory Authority as observe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3:53:41Z</dcterms:created>
  <dc:creator>proskurovska</dc:creator>
  <dc:description/>
  <dc:language>en-US</dc:language>
  <cp:lastModifiedBy> </cp:lastModifiedBy>
  <dcterms:modified xsi:type="dcterms:W3CDTF">2009-06-22T10:13:09Z</dcterms:modified>
  <cp:revision>218</cp:revision>
  <dc:subject/>
  <dc:title>Economic and Banking Sector Situation in the Eastern European Countries</dc:title>
</cp:coreProperties>
</file>