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6D9C-AA3A-407F-B24E-98F267D3C109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4059-0AA7-4F74-8E59-91CDDB2700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04F2-90A7-4B4E-953D-6F71EE2762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C7E-6FCD-44CC-A4F1-06AF5BAB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700C-50F2-446A-A179-F3306293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EF4BB-D28A-42CA-A6D5-4F1171E9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B72BF-0C38-4608-B4FD-10200F98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9AED0-1CEA-4353-BFB0-375F813D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D73F4-41E1-4135-9582-6FF2B87D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FE53C-EC4B-4223-B35A-8EFFB10C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271A9-0D72-4F32-904D-46B1B0AF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A75F3-CFA7-4A93-A4D8-8708C1B3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4E438-701A-4DB2-AFF6-62DAC005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0A104-35A2-44BF-9C3E-E4C04126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02DB1-8F7C-4F8E-917C-E8FE3E91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D7B-EE2B-4D2D-BECE-5E66AA6E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3D843-6E10-45B0-BAB2-5A5BE575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C4AA8-F37F-4D7B-B7F0-F93C3FE6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2AA7F-BCFD-4342-B44A-CC7BD8C9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DAE78-6DAB-4A8C-A80A-13A11D78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3DC12-7CAB-4596-8964-74AFCE61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82B45-79BF-4D5B-9D9D-71948A8E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57D64-2094-44D3-B793-67AE15EC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A3228-D273-489B-A6D5-2BE0D6B2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D8FD5-BFC2-4C0F-9A14-AA4FAA43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C790A-008A-4162-8973-F751E696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4CB-3D88-455F-996D-5F36C747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17744-A780-4448-9E08-2ED3C4AF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DB12A-BA42-4E76-A7B5-CF5BD082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5A3A7-1900-410E-9B4B-554793C2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E452F-C5DF-48D6-99F2-F5F1A7A4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6A707-64E3-4331-8428-24323DE1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60475-38FF-4476-B194-20567609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7B38E-9101-442A-958C-4779A771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117E7-8104-4474-B11A-585C158D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FA342-093B-44B6-A68C-38F7FC2B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83C1A6-4CFD-4C9F-A068-165E3426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C926-1225-4557-BBD7-504F2E8C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7FEBC-CB30-4C7F-BECC-1D224634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F07C0-B1EA-48D8-902F-B404C5BE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9A8BB-F3E6-42F7-A7B2-68644D97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8CBE4-12AB-4983-B370-4E9FB59E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7E7CD-3677-4A24-9881-D8A1E03D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82A20-FB3C-4D7D-A0B3-2231E778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A6F20-6EB3-4A89-A657-37152EF8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8FC22-5DB9-4BA0-9FAA-842DDD19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7E699-DC77-45DC-B0AD-3766F066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3FD19-0387-43D6-8F70-EF357CE5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CE3C-852E-465B-9E69-D89CC824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58FA8-8F16-4D35-BE15-E4DB4A6A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D4811-A4D5-45E2-ACA4-70EB5BC1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FE8CF-EDD9-4F86-A549-44DCF42F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D9E42-7BB9-47F4-86F3-BE8CD282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81D3C-9EF7-4E81-BB09-0CD13213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CC1639-ECEF-49FF-BFE0-32318EEF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95E2D-503D-4E6A-B973-0CA46DEB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AD72B-75AF-4547-BD10-AB427156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3DC82-E771-485A-B1E1-AFBFA28C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D7C7A-0991-4A86-ABE5-F30AAE2A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631E-D81F-4C57-AB89-BF7FD29E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D06F88-41C4-4B3A-AA59-018E08C4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14CE5-672B-4895-9E5D-D1B9A02C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94E982-E27C-43D0-9C20-43B10231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C66F7-3EF6-4285-BE0C-5AC738B6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D6637E-14AA-439E-80F3-65FFB034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914FE-F5D4-4C9B-B168-A001862B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E6552-9C81-4795-A8B7-3491AE79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BAA788-53D6-4F0B-9AC4-1C806753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987F9-3A24-4CDA-81C6-9108B6AE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967E3B-12B3-4AD7-BECB-B393F210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7418-DC9D-4304-A774-D1C39509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B67A7E-9E40-45DC-BB0F-57EE2AA2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0D0F8B-5B16-4DDA-B007-45CC0244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AA88D4-B0F2-4B2C-983C-C892FD51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AA9EC2-328F-4A38-BA66-546D6DD1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B9EAD4-C475-4379-96A8-39CCC68E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86664-2D6D-46E6-A70B-5F96D4B2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D82357-BD1F-48FB-B1C3-024DA9C4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E60A21-FF40-435B-AC0E-E09FB5D6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C8E9EB-FB50-47B6-AA24-C88D4802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50DFFF-F501-4D44-9C5B-179F44BF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5007-49C7-4B3A-9179-DAF507CE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40EE6F-E093-41D3-9C11-B698725B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31A39F-8F5C-4BE4-AEFA-75A4914C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B8D329-2833-47C0-9854-320584A1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D3061C-AC66-4DBC-82B0-4C5269BD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50DADB-18F7-46D2-A18B-8BDD28A0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8428B6-4925-4B29-AFAC-DB4B91C8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6B7143-CA0E-41D8-AC6C-99A33330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EC039A-117A-463D-BE29-08E3224D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918BEA-3BA6-482F-98B0-323DAA6A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CF5671-7D10-4524-B3FD-8D8CA864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7B29-D0F5-4218-86FD-281E0E1D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8D16BA-8BF5-4016-8696-22D7BE8C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78A601-4786-4B57-8DAB-DC0E230E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8C66BD-CA7D-46D4-BE27-2DCFCFEA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8911E7-830A-4330-9FFE-91975607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DE1706-CC4E-4A0D-9A2D-EB00B9B6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AB271F-6A2F-46B7-9C07-1B24BD72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7DF86D-6F24-4FBB-9472-C2331DDB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960870-70BC-4450-81EA-115289F8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5AA8E7-C460-449C-B860-221FFD5A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54D1FF-6821-4194-A775-827DC41D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C0D7-9C9D-4162-BBA8-67E04512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79CE8A-5B67-4BD6-B1C4-1E7F3B9B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1D3BBB-95A0-4C96-B118-C66E2911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D305F3-DFD6-4AF1-9755-06A700AE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339-E733-4A39-ABAC-F6F28A87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E271-00EC-4DE8-A35B-4C0B35BD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C7C3-6CB7-4A89-B6AC-AF01E202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B820-3ED5-4BBF-BDCD-D061A5A7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CC18-3B3C-400B-A15D-6D2FB5D8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C0DF-CB48-425A-B11D-552D4D57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A1D71-5738-4BE8-B7CC-DA02D592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8BABD-591E-4279-B6FC-A0FBE995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25345-7FE1-4492-B3AF-192F6C29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75CBD-918E-4C49-A7F6-C33FAABE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660A2-8E78-443E-B444-5F401330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3B9E-B04D-464A-81AE-31C35B9D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C883C-634B-4473-BFAF-CDA2AEB6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023FE-698A-42C0-9981-5E92809A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E3FF0-451D-4F74-B7AE-74ADE497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38ED3-CCB1-4BEA-B4E9-75A78ECE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DD6B4-825A-4511-94E6-4CD84C1B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5FAD4-54D4-469C-95FF-756CB96B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6100D-E578-4FA4-82EE-D3EBDE24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5C725-30CD-46CB-A52C-0C7457F1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AA141-030A-4E6F-875A-536224B6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CB61B-1181-4B55-AF33-FEB62145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DD9-42F8-4390-9987-8F2A99E6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E6FBF-7FD5-423A-BE75-9B329F97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F025E-5955-42BF-B8B9-B4EE7F22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A19A9-2C8A-46B3-B35B-6F2F3314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36A21-6206-4FAB-8B6F-85B243DA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772A2-B425-46C5-853A-327E8E22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FDC1E-D026-4525-B0AC-3C8206E8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14FFA-644F-4062-BC82-41620E92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B2C97-E95A-4819-BFE8-68FA9B61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F6A32-342E-41B0-8B42-F6F6A87A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288B8-4061-45DD-B302-7709ECD56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909C-4DA0-440D-9801-B8BD1FE4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51D33-E5C5-4A90-B44A-98434836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B762F-CF96-4D24-8C68-DA245D9F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569DA-ADCA-4FC6-9169-A5E4E5E0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93C63-27E5-46FB-86DC-1547AC9E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2B49A-3AE7-4F94-B821-5F55D5A7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E3798-6A03-460A-A582-CCA33D3A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4962D-3E20-4C86-9449-5BD0EA1E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B3A28-5BCB-4E4B-BE9E-54ED022F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52A7F-1D9D-44EB-B768-284A794D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7A18E-E610-4751-811E-41833953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DDF-9FFA-4604-9A17-9E38ED44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6F069-C676-4160-9D20-7924876C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A41D9-3730-4ADF-BED0-9A921973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A8486-4984-4697-B56A-3844B23D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C4BAA-83F4-4F01-80F9-1F95DDC6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AA51F-959F-426C-AFF4-B21D496D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CAD77-2386-48E2-8E3D-D5EECFB9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ECA0B-8992-4F3B-AE67-089F536E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A71C2-B315-4315-B7B9-B215A601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3F0B4-D037-43C7-8E30-B61717B6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78D53-D0B3-4FD5-92A6-C8265051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B7E3-3F2E-40EF-8B86-1B26EC4E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9402E-D273-420F-868B-421525CA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B5D99-F67C-4E0B-9B09-A290CED5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E430D-A363-479D-9EC0-0EBEADBA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27586-43CC-4C26-8C19-F1E6BA5C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90B92-F6E7-4E94-9CEB-B0FC71BD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4C083-4910-4994-B317-1D676A55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11043-6012-4633-AE90-814F8F49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1A84D-5D22-44ED-AA24-F7C09EC3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7DB55-D5D6-4D76-A2E0-9ABDEBFA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17668-8E7B-48B4-9F75-58B23CEC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3E0-6BF6-451F-AC14-ACD806E3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8E915-47DC-4022-AA88-5B02FD90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A12D3-523E-4015-A72D-1380484E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34B2F-D299-4CC9-A250-AC53A7D3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1C8EE-E04D-4056-9D26-02CDA881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C2625-CA0E-4CFD-8647-B8896B78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D34BC-C250-478B-A981-A3700132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F1063-4EE4-4181-83EE-E678F520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BDDB9-C803-4021-8D6B-CA9719B8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ACA7B-2439-4230-AA8C-B855FEDF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2D44A-65BE-46EF-8A33-EF7B9F6B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8838-229B-4E22-BD9A-8D122FD0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1E767-7B28-4189-A055-DF62101B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5C059-E6DC-4C83-93DE-7172F662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1CA85-E4B0-43A2-B1B7-6365FEBB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3D7F2-B088-4643-A7F8-EC7CB64C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AD4D0-030C-4FC9-B037-60BEAD91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90D57-6B7A-465F-873B-376F7B60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114C8-F2A2-4384-83E4-2C1669386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200B2-8465-4636-86A6-B5E11119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BFE85-0385-4D90-BB0A-DDB4A53D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E3D5E-E465-447C-AA80-1DBB4ADB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B145-0BC9-4B5E-A264-E6B564DC28F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D46770E-EF23-4C1F-81A6-E385733FFA5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BAF7-4732-4E04-99A4-FB05E757D71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A7F35E9-D961-408F-B0C2-BA3FE8674FF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3093-9245-45CA-8534-FC4EDB5CE34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E9FFDA6-3B38-4846-A8C4-184849096BF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0EFA-EF04-492F-8660-89418659CB7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3FE13F2-603F-431A-BDB4-5FE5CA9F962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CA9F-601D-467C-AF62-17AC731C79A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19874A8-D925-4594-A91A-6F4CFC6CB58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331E-C0A2-4FCD-B81A-DCB4310E972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D58CE85-C20E-4875-ADF9-13604D107CD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A876-FFED-48ED-AB5E-8FC2D4A8234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BE828DF-5439-4F92-A21E-D56B8FF83B9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36E2-0D36-4335-8A27-54B24BE9E81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33550E6-7F74-4870-B939-CCE16354F30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340E-F650-4D1D-92DE-66257B8716D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2571840-E4DC-4A55-86B9-E97EFD9E700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4659-1187-40E7-A63A-C1E94A90890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9AAFB74-2763-4224-BFA3-DE014D2B8F4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D1F5-4CB4-4852-AC78-50039ABE7F9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3CC8447-47AD-45FA-A76E-D80F7C0DADD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6467-482A-49B6-9143-C0B38C9A580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DD40D61-6B74-4DA1-9E2F-D51B115F23B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9B0D-9C40-4ED7-AEA0-C32BB6F6AE2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DDB42B0-FE19-4625-A98E-ED3E6E74FE3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DB4C-7130-49DF-AAEC-74808C6F96A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39D02F3-5B65-4942-8FCC-0A2B2163CFE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8698-4E58-4C09-92DF-7EFA3F878F9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D29DB3A-0723-438F-9324-75AF48D1143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F79F-D7A3-4789-9517-0F9BDB4137A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F28C976-27FE-4724-8254-2B0A0951621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Russian banking system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 the world financial turmoil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298440" y="471492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Garegin A. Tosuny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27th MEETING OF THE EBF ASSOCIA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4 December 2008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russels,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elgi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30002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have to dig a well before parched with thirst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mar Ha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8D34A69-A203-49DA-8D85-CE4FCC183E5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FABC0A7-BBF8-4F2D-A58B-DA84D711F24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ts growth rates slow dow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ource base defic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5" name="Object 3" descr=""/>
          <p:cNvPicPr/>
          <p:nvPr/>
        </p:nvPicPr>
        <p:blipFill>
          <a:blip r:embed="rId1"/>
          <a:stretch/>
        </p:blipFill>
        <p:spPr>
          <a:xfrm>
            <a:off x="12600" y="1666800"/>
            <a:ext cx="9131400" cy="49989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371520" y="650088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1F3CDE6-2702-46B3-AD35-B5D3D756A34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lowdown in the growth rat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resource base affects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rowth rate of personal lo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9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740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9089F41-1715-4FEB-AFF3-5BD2C1D54CA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rates of loans to entities redu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Object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1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8809B05-4925-49B7-A55D-E8FAB465F07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Диаграмма 4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429760" cy="48578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2"/>
          <p:cNvSpPr/>
          <p:nvPr/>
        </p:nvSpPr>
        <p:spPr>
          <a:xfrm>
            <a:off x="1979640" y="692280"/>
            <a:ext cx="7164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age of banks’ resources should be covered by state fun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87C057C-EFD1-4677-90AB-770F55C9040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sures taken by the State are         of short-term character and will only help   to get over current issu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idterm liquidity constraints may be deepened by the necessity of payments on foreign loans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59E0435-BEE7-44A1-ACAA-C26352B392D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debt of Russian Fe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06200" y="2565360"/>
          <a:ext cx="8929800" cy="3611520"/>
        </p:xfrm>
        <a:graphic>
          <a:graphicData uri="http://schemas.openxmlformats.org/drawingml/2006/table">
            <a:tbl>
              <a:tblPr/>
              <a:tblGrid>
                <a:gridCol w="3146760"/>
                <a:gridCol w="1068120"/>
                <a:gridCol w="1193760"/>
                <a:gridCol w="1258920"/>
                <a:gridCol w="1130400"/>
                <a:gridCol w="113184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7.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1 y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2 yea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6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3,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state deb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,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corpor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Oval 39"/>
          <p:cNvSpPr/>
          <p:nvPr/>
        </p:nvSpPr>
        <p:spPr>
          <a:xfrm>
            <a:off x="4492800" y="4929120"/>
            <a:ext cx="1150920" cy="14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40"/>
          <p:cNvSpPr/>
          <p:nvPr/>
        </p:nvSpPr>
        <p:spPr>
          <a:xfrm>
            <a:off x="6372360" y="2197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 bl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FE6B6FC-A314-4BD8-A084-4574A63ED1E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ntirecessionary measures of the Russian Government are adequate to the current situation in banking sector, howev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34BB2D3-2B92-4438-A6A0-A7B10FC1403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357120" y="150012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additional steps should be taken for stabilization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0" name="Схема 4" descr=""/>
          <p:cNvPicPr/>
          <p:nvPr/>
        </p:nvPicPr>
        <p:blipFill>
          <a:blip r:embed="rId1"/>
          <a:stretch/>
        </p:blipFill>
        <p:spPr>
          <a:xfrm>
            <a:off x="195120" y="2249640"/>
            <a:ext cx="868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CB96C91-F331-4805-929B-1468BD444D6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4360" y="2419200"/>
            <a:ext cx="773892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problems in the banking system and the financial sector in Russia have not been caused by internal economic developments. They have been “delivered” by the international financial turmoi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its basic characteristics Russian economy is attractive for long-term invest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pite the market slu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Диаграмма 8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6286680" cy="26431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influence of the crisis on the banking system and the economy of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5343B36-C012-47D7-BF54-33BDE40B36E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6682680" y="1785960"/>
            <a:ext cx="223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Sep.-Oc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eserv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reduc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9,1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Схема 12" descr=""/>
          <p:cNvPicPr/>
          <p:nvPr/>
        </p:nvPicPr>
        <p:blipFill>
          <a:blip r:embed="rId2"/>
          <a:stretch/>
        </p:blipFill>
        <p:spPr>
          <a:xfrm>
            <a:off x="-19080" y="3505320"/>
            <a:ext cx="9248760" cy="33591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3"/>
          <p:cNvSpPr/>
          <p:nvPr/>
        </p:nvSpPr>
        <p:spPr>
          <a:xfrm>
            <a:off x="2328480" y="592920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Verdana"/>
              </a:rPr>
              <a:t>the course of the cris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7"/>
          <p:cNvSpPr/>
          <p:nvPr/>
        </p:nvSpPr>
        <p:spPr>
          <a:xfrm>
            <a:off x="546480" y="4000680"/>
            <a:ext cx="152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Bank of Russi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571680" y="1547640"/>
            <a:ext cx="5857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ational reserves of Russian Federation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$ bln.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Содержимое 16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4" name="Содержимое 14" descr=""/>
          <p:cNvPicPr/>
          <p:nvPr/>
        </p:nvPicPr>
        <p:blipFill>
          <a:blip r:embed="rId2"/>
          <a:stretch/>
        </p:blipFill>
        <p:spPr>
          <a:xfrm>
            <a:off x="4929120" y="1857240"/>
            <a:ext cx="4038840" cy="4597560"/>
          </a:xfrm>
          <a:prstGeom prst="rect">
            <a:avLst/>
          </a:prstGeom>
          <a:ln w="0">
            <a:noFill/>
          </a:ln>
        </p:spPr>
      </p:pic>
      <p:sp>
        <p:nvSpPr>
          <p:cNvPr id="765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056981D-76F3-4DEC-8A58-7D77C856674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34" descr=""/>
          <p:cNvPicPr/>
          <p:nvPr/>
        </p:nvPicPr>
        <p:blipFill>
          <a:blip r:embed="rId3"/>
          <a:stretch/>
        </p:blipFill>
        <p:spPr>
          <a:xfrm>
            <a:off x="138240" y="34671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5" descr=""/>
          <p:cNvPicPr/>
          <p:nvPr/>
        </p:nvPicPr>
        <p:blipFill>
          <a:blip r:embed="rId4"/>
          <a:stretch/>
        </p:blipFill>
        <p:spPr>
          <a:xfrm>
            <a:off x="139680" y="4754520"/>
            <a:ext cx="432000" cy="38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6" descr=""/>
          <p:cNvPicPr/>
          <p:nvPr/>
        </p:nvPicPr>
        <p:blipFill>
          <a:blip r:embed="rId5"/>
          <a:stretch/>
        </p:blipFill>
        <p:spPr>
          <a:xfrm>
            <a:off x="142920" y="542916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7" descr=""/>
          <p:cNvPicPr/>
          <p:nvPr/>
        </p:nvPicPr>
        <p:blipFill>
          <a:blip r:embed="rId6"/>
          <a:stretch/>
        </p:blipFill>
        <p:spPr>
          <a:xfrm>
            <a:off x="163440" y="2814480"/>
            <a:ext cx="408240" cy="3286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3" descr=""/>
          <p:cNvPicPr/>
          <p:nvPr/>
        </p:nvPicPr>
        <p:blipFill>
          <a:blip r:embed="rId7"/>
          <a:stretch/>
        </p:blipFill>
        <p:spPr>
          <a:xfrm>
            <a:off x="4641840" y="2111400"/>
            <a:ext cx="431640" cy="388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4" descr=""/>
          <p:cNvPicPr/>
          <p:nvPr/>
        </p:nvPicPr>
        <p:blipFill>
          <a:blip r:embed="rId8"/>
          <a:stretch/>
        </p:blipFill>
        <p:spPr>
          <a:xfrm>
            <a:off x="4641840" y="278604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5" descr=""/>
          <p:cNvPicPr/>
          <p:nvPr/>
        </p:nvPicPr>
        <p:blipFill>
          <a:blip r:embed="rId9"/>
          <a:stretch/>
        </p:blipFill>
        <p:spPr>
          <a:xfrm>
            <a:off x="4641840" y="414324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7" descr=""/>
          <p:cNvPicPr/>
          <p:nvPr/>
        </p:nvPicPr>
        <p:blipFill>
          <a:blip r:embed="rId10"/>
          <a:stretch/>
        </p:blipFill>
        <p:spPr>
          <a:xfrm>
            <a:off x="4641840" y="3500280"/>
            <a:ext cx="407880" cy="3286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7"/>
          <p:cNvSpPr/>
          <p:nvPr/>
        </p:nvSpPr>
        <p:spPr>
          <a:xfrm>
            <a:off x="993600" y="16430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per capita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Box 18"/>
          <p:cNvSpPr/>
          <p:nvPr/>
        </p:nvSpPr>
        <p:spPr>
          <a:xfrm>
            <a:off x="6000840" y="16430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1"/>
          <a:stretch/>
        </p:blipFill>
        <p:spPr>
          <a:xfrm>
            <a:off x="147600" y="4143240"/>
            <a:ext cx="424080" cy="3574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"/>
          <p:cNvPicPr/>
          <p:nvPr/>
        </p:nvPicPr>
        <p:blipFill>
          <a:blip r:embed="rId12"/>
          <a:stretch/>
        </p:blipFill>
        <p:spPr>
          <a:xfrm>
            <a:off x="4610160" y="4786200"/>
            <a:ext cx="423720" cy="357480"/>
          </a:xfrm>
          <a:prstGeom prst="rect">
            <a:avLst/>
          </a:prstGeom>
          <a:ln w="0">
            <a:noFill/>
          </a:ln>
        </p:spPr>
      </p:pic>
      <p:pic>
        <p:nvPicPr>
          <p:cNvPr id="778" name="chart" descr=""/>
          <p:cNvPicPr/>
          <p:nvPr/>
        </p:nvPicPr>
        <p:blipFill>
          <a:blip r:embed="rId13"/>
          <a:stretch/>
        </p:blipFill>
        <p:spPr>
          <a:xfrm>
            <a:off x="4603680" y="5429160"/>
            <a:ext cx="428760" cy="373320"/>
          </a:xfrm>
          <a:prstGeom prst="rect">
            <a:avLst/>
          </a:prstGeom>
          <a:ln w="0">
            <a:noFill/>
          </a:ln>
        </p:spPr>
      </p:pic>
      <p:pic>
        <p:nvPicPr>
          <p:cNvPr id="779" name="chart" descr=""/>
          <p:cNvPicPr/>
          <p:nvPr/>
        </p:nvPicPr>
        <p:blipFill>
          <a:blip r:embed="rId14"/>
          <a:stretch/>
        </p:blipFill>
        <p:spPr>
          <a:xfrm>
            <a:off x="155520" y="2143080"/>
            <a:ext cx="428760" cy="3729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2"/>
          <p:cNvSpPr/>
          <p:nvPr/>
        </p:nvSpPr>
        <p:spPr>
          <a:xfrm>
            <a:off x="2000160" y="714240"/>
            <a:ext cx="71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of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erging mark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Box 24"/>
          <p:cNvSpPr/>
          <p:nvPr/>
        </p:nvSpPr>
        <p:spPr>
          <a:xfrm>
            <a:off x="104400" y="6500880"/>
            <a:ext cx="95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ource: IMF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02705D1-2E6F-4B42-ADD3-0C3F423ABBC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indexes             of various countries and Russia in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-79200" y="1685880"/>
            <a:ext cx="9144000" cy="43369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3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91821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4F77150-4BF1-4C03-B5A1-BC5846DE86A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pitalization of the banking system slows dow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trictive monetary policy and outflow of foreign liabilities of Russian ban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8" name="Object 3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789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BDFEB2E-1745-4806-B1C3-858E9C77250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urmoil both on global and Russian markets leads to the outgo of foreig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2" name="Object 4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7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E38906D-F10D-4998-ACE2-7E0D8F3C757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estic liabilities of bank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6" name="Object 3" descr=""/>
          <p:cNvPicPr/>
          <p:nvPr/>
        </p:nvPicPr>
        <p:blipFill>
          <a:blip r:embed="rId1"/>
          <a:stretch/>
        </p:blipFill>
        <p:spPr>
          <a:xfrm>
            <a:off x="57240" y="1428840"/>
            <a:ext cx="9086760" cy="5184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7ADD7F2-CD7B-4777-BE66-22E330CBBF7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growth rates slow down in 2008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Oval 4"/>
          <p:cNvSpPr/>
          <p:nvPr/>
        </p:nvSpPr>
        <p:spPr>
          <a:xfrm>
            <a:off x="5054760" y="2205000"/>
            <a:ext cx="20174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1" name="Object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A53F70C-24DE-4CFA-A7AE-30B350B60E3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Object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erage indicators of personal income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ed price increase, nevertheless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Oval 3"/>
          <p:cNvSpPr/>
          <p:nvPr/>
        </p:nvSpPr>
        <p:spPr>
          <a:xfrm>
            <a:off x="3708360" y="3139920"/>
            <a:ext cx="100800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5842080" y="4692600"/>
            <a:ext cx="247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lation first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s away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nc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the poore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16A45FB-1905-4E6C-B970-918DEB91188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ross-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al income spread is wid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9" name="Group 17"/>
          <p:cNvGrpSpPr/>
          <p:nvPr/>
        </p:nvGrpSpPr>
        <p:grpSpPr>
          <a:xfrm>
            <a:off x="755640" y="1495440"/>
            <a:ext cx="7777080" cy="5102280"/>
            <a:chOff x="755640" y="1495440"/>
            <a:chExt cx="7777080" cy="5102280"/>
          </a:xfrm>
        </p:grpSpPr>
        <p:pic>
          <p:nvPicPr>
            <p:cNvPr id="810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913040"/>
              <a:ext cx="7777080" cy="46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4"/>
            <p:cNvSpPr/>
            <p:nvPr/>
          </p:nvSpPr>
          <p:spPr>
            <a:xfrm>
              <a:off x="2472840" y="1495440"/>
              <a:ext cx="41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Lorenz Curve &amp; Gini Inde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5"/>
            <p:cNvSpPr/>
            <p:nvPr/>
          </p:nvSpPr>
          <p:spPr>
            <a:xfrm>
              <a:off x="5796000" y="4781520"/>
              <a:ext cx="2408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Verdana"/>
                </a:rPr>
                <a:t>80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the population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btain 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45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income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Text Box 7"/>
            <p:cNvSpPr/>
            <p:nvPr/>
          </p:nvSpPr>
          <p:spPr>
            <a:xfrm>
              <a:off x="808200" y="5816520"/>
              <a:ext cx="4340160" cy="580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population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 rot="16200000">
              <a:off x="-147240" y="3865320"/>
              <a:ext cx="2143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incom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Text Box 9"/>
            <p:cNvSpPr/>
            <p:nvPr/>
          </p:nvSpPr>
          <p:spPr>
            <a:xfrm>
              <a:off x="6373800" y="216864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Hungr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27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6372360" y="278136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ussia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49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6373800" y="335772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razil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64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042920" y="2006640"/>
              <a:ext cx="367344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 rot="18887400">
              <a:off x="1608120" y="3631320"/>
              <a:ext cx="2651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erfect equality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>
              <a:off x="1116000" y="4076640"/>
              <a:ext cx="2879640" cy="172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Text Box 16"/>
            <p:cNvSpPr/>
            <p:nvPr/>
          </p:nvSpPr>
          <p:spPr>
            <a:xfrm>
              <a:off x="6329520" y="3916440"/>
              <a:ext cx="2087280" cy="52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rfect inequalit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9464CC2-9260-42B1-BC5B-B8098397120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very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5560" y="1630440"/>
            <a:ext cx="4498920" cy="5038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mea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rve requirement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5,5-8,5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,5- 4,5%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refinanc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inistry of Financ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d fund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(≈ 1,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0,5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bles for the capital marke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 Agency for Deposit Insuran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ance compensation is increased from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7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sand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ecured lending         of bank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inancing foreign loans through V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716360" y="1628640"/>
            <a:ext cx="4319640" cy="504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B sugges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nvey the allocated fund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the majority of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t access of the banks rated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S&amp;P, Fitch B-/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ody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 B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d capital over 1 bln. rubles to state resource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dit banks for the amount up to 50% of their capital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and Ministry of Finance should refinance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eign loans of the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should enlarge and simplify banks’ refinancin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34CE820-054E-4739-9339-16669352DE4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7164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итал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8" name="Object 3" descr=""/>
          <p:cNvPicPr/>
          <p:nvPr/>
        </p:nvPicPr>
        <p:blipFill>
          <a:blip r:embed="rId1"/>
          <a:stretch/>
        </p:blipFill>
        <p:spPr>
          <a:xfrm>
            <a:off x="615960" y="4156200"/>
            <a:ext cx="7824600" cy="2701800"/>
          </a:xfrm>
          <a:prstGeom prst="rect">
            <a:avLst/>
          </a:prstGeom>
          <a:ln w="0">
            <a:noFill/>
          </a:ln>
        </p:spPr>
      </p:pic>
      <p:pic>
        <p:nvPicPr>
          <p:cNvPr id="829" name="Object 4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894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0" descr=""/>
          <p:cNvPicPr/>
          <p:nvPr/>
        </p:nvPicPr>
        <p:blipFill>
          <a:blip r:embed="rId1"/>
          <a:stretch/>
        </p:blipFill>
        <p:spPr>
          <a:xfrm>
            <a:off x="41400" y="1928880"/>
            <a:ext cx="5072040" cy="4057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2"/>
          <a:stretch/>
        </p:blipFill>
        <p:spPr>
          <a:xfrm>
            <a:off x="5214960" y="2786040"/>
            <a:ext cx="3786120" cy="3164040"/>
          </a:xfrm>
          <a:prstGeom prst="rect">
            <a:avLst/>
          </a:prstGeom>
          <a:ln w="0">
            <a:noFill/>
          </a:ln>
        </p:spPr>
      </p:pic>
      <p:sp>
        <p:nvSpPr>
          <p:cNvPr id="67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8B7046E-5E88-4D4D-8BEA-503A8C466E4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979640" y="620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становится многое из того, что сейчас рушится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будет разрушено многое из того, что сейчас в почете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винт Гораций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Oval 8"/>
          <p:cNvSpPr/>
          <p:nvPr/>
        </p:nvSpPr>
        <p:spPr>
          <a:xfrm>
            <a:off x="3903840" y="3643200"/>
            <a:ext cx="793440" cy="20005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75160" y="4208400"/>
            <a:ext cx="1152360" cy="863640"/>
          </a:xfrm>
          <a:prstGeom prst="pi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174240" y="652464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Micex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RB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79160" y="50720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MICEX INDEX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2BDD0DC-FEE1-4D36-ADCA-448464C75CF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Object 2" descr=""/>
          <p:cNvPicPr/>
          <p:nvPr/>
        </p:nvPicPr>
        <p:blipFill>
          <a:blip r:embed="rId1"/>
          <a:stretch/>
        </p:blipFill>
        <p:spPr>
          <a:xfrm>
            <a:off x="425520" y="4187880"/>
            <a:ext cx="8383680" cy="28033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7093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тивы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7210440" y="6461280"/>
            <a:ext cx="193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*данные по США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 учетом фондового рынка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4" name="Object 5" descr=""/>
          <p:cNvPicPr/>
          <p:nvPr/>
        </p:nvPicPr>
        <p:blipFill>
          <a:blip r:embed="rId2"/>
          <a:stretch/>
        </p:blipFill>
        <p:spPr>
          <a:xfrm>
            <a:off x="379440" y="1341360"/>
            <a:ext cx="8385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FD1A65C-CF53-4739-BCDF-96C39853BB7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6" name="Object 2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7164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per capita in various countries i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2007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ousan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590840" y="1982880"/>
            <a:ext cx="24764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,0004%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f the populatio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ount for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2%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the GDP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716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$)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58040" y="64990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ou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5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est persons of Russia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Схема 5" descr=""/>
          <p:cNvPicPr/>
          <p:nvPr/>
        </p:nvPicPr>
        <p:blipFill>
          <a:blip r:embed="rId1"/>
          <a:stretch/>
        </p:blipFill>
        <p:spPr>
          <a:xfrm>
            <a:off x="208080" y="1530360"/>
            <a:ext cx="8802720" cy="51944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policy of Russian government should prevent from turning the financial crisis into a global economic crisi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E0926DE-89DC-4C52-A929-59CFAFD13A9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Не равно 4"/>
          <p:cNvSpPr/>
          <p:nvPr/>
        </p:nvSpPr>
        <p:spPr>
          <a:xfrm>
            <a:off x="4157640" y="1714680"/>
            <a:ext cx="84312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Плюс 6"/>
          <p:cNvSpPr/>
          <p:nvPr/>
        </p:nvSpPr>
        <p:spPr>
          <a:xfrm>
            <a:off x="7429680" y="4214880"/>
            <a:ext cx="914400" cy="9144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Минус 7"/>
          <p:cNvSpPr/>
          <p:nvPr/>
        </p:nvSpPr>
        <p:spPr>
          <a:xfrm>
            <a:off x="785880" y="4071960"/>
            <a:ext cx="9144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ic macroeconomic and banking sector indicator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85840" y="1658880"/>
          <a:ext cx="8715240" cy="4984920"/>
        </p:xfrm>
        <a:graphic>
          <a:graphicData uri="http://schemas.openxmlformats.org/drawingml/2006/table">
            <a:tbl>
              <a:tblPr/>
              <a:tblGrid>
                <a:gridCol w="4143240"/>
                <a:gridCol w="1214640"/>
                <a:gridCol w="1666800"/>
                <a:gridCol w="16905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n. $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1.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2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ty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7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2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4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2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7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4,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roeconomic indica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9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s in fixed capi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3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 income of the popu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5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0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9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9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1EFFDA7-3BDD-4651-9CCC-10C54E02D3B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B355095-6ECB-428A-AE1F-794C6642B48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85760" y="699840"/>
            <a:ext cx="71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ussia falls behind other countries by absolute and relative in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cato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93" name="Содержимое 9"/>
          <p:cNvGraphicFramePr/>
          <p:nvPr/>
        </p:nvGraphicFramePr>
        <p:xfrm>
          <a:off x="139680" y="1660680"/>
          <a:ext cx="2851200" cy="48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Содержимое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660680"/>
                    <a:ext cx="285120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5"/>
          <p:cNvGraphicFramePr/>
          <p:nvPr/>
        </p:nvGraphicFramePr>
        <p:xfrm>
          <a:off x="3146400" y="1658880"/>
          <a:ext cx="283536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6400" y="1658880"/>
                    <a:ext cx="2835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6"/>
          <p:cNvGraphicFramePr/>
          <p:nvPr/>
        </p:nvGraphicFramePr>
        <p:xfrm>
          <a:off x="6168960" y="1660680"/>
          <a:ext cx="2927520" cy="4857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8960" y="1660680"/>
                    <a:ext cx="2927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Равно 28"/>
          <p:cNvSpPr/>
          <p:nvPr/>
        </p:nvSpPr>
        <p:spPr>
          <a:xfrm>
            <a:off x="5715000" y="3728880"/>
            <a:ext cx="771480" cy="77184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Деление 26"/>
          <p:cNvSpPr/>
          <p:nvPr/>
        </p:nvSpPr>
        <p:spPr>
          <a:xfrm>
            <a:off x="2714760" y="3714840"/>
            <a:ext cx="730080" cy="72540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01" name="Прямая со стрелкой 30"/>
          <p:cNvCxnSpPr/>
          <p:nvPr/>
        </p:nvCxnSpPr>
        <p:spPr>
          <a:xfrm flipH="1" flipV="1">
            <a:off x="1356480" y="2428560"/>
            <a:ext cx="786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TextBox 31"/>
          <p:cNvSpPr/>
          <p:nvPr/>
        </p:nvSpPr>
        <p:spPr>
          <a:xfrm>
            <a:off x="1483920" y="2143080"/>
            <a:ext cx="62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,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0"/>
          <p:cNvSpPr/>
          <p:nvPr/>
        </p:nvSpPr>
        <p:spPr>
          <a:xfrm>
            <a:off x="61920" y="667080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of Russia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utsche Bundesbank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2163240" y="60721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 has a crisis of underprodu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AFEF42D-2466-455C-9642-28C0C00C5C5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844880" y="3798720"/>
            <a:ext cx="39592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Содержимое 6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429080" cy="51148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3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51148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ая соединительная линия 8"/>
          <p:cNvSpPr/>
          <p:nvPr/>
        </p:nvSpPr>
        <p:spPr>
          <a:xfrm flipH="1">
            <a:off x="4070520" y="2071800"/>
            <a:ext cx="1440" cy="450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0" name="Прямая со стрелкой 10"/>
          <p:cNvCxnSpPr/>
          <p:nvPr/>
        </p:nvCxnSpPr>
        <p:spPr>
          <a:xfrm flipH="1" flipV="1">
            <a:off x="2285280" y="6428520"/>
            <a:ext cx="1786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TextBox 11"/>
          <p:cNvSpPr/>
          <p:nvPr/>
        </p:nvSpPr>
        <p:spPr>
          <a:xfrm>
            <a:off x="2972880" y="6264360"/>
            <a:ext cx="53424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х 5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ая соединительная линия 15"/>
          <p:cNvSpPr/>
          <p:nvPr/>
        </p:nvSpPr>
        <p:spPr>
          <a:xfrm flipH="1">
            <a:off x="7786800" y="542916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3" name="Прямая со стрелкой 19"/>
          <p:cNvCxnSpPr/>
          <p:nvPr/>
        </p:nvCxnSpPr>
        <p:spPr>
          <a:xfrm flipH="1" flipV="1">
            <a:off x="6928920" y="6286320"/>
            <a:ext cx="858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4" name="Rectangle 2"/>
          <p:cNvSpPr/>
          <p:nvPr/>
        </p:nvSpPr>
        <p:spPr>
          <a:xfrm>
            <a:off x="1979640" y="708120"/>
            <a:ext cx="71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 falls behind many other countries in mortgage lending despite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gh growth rates of the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Схема 6" descr=""/>
          <p:cNvPicPr/>
          <p:nvPr/>
        </p:nvPicPr>
        <p:blipFill>
          <a:blip r:embed="rId1"/>
          <a:stretch/>
        </p:blipFill>
        <p:spPr>
          <a:xfrm>
            <a:off x="920880" y="1822320"/>
            <a:ext cx="7441920" cy="4962600"/>
          </a:xfrm>
          <a:prstGeom prst="rect">
            <a:avLst/>
          </a:prstGeom>
          <a:ln w="0">
            <a:noFill/>
          </a:ln>
        </p:spPr>
      </p:pic>
      <p:sp>
        <p:nvSpPr>
          <p:cNvPr id="716" name="Скругленный прямоугольник 9"/>
          <p:cNvSpPr/>
          <p:nvPr/>
        </p:nvSpPr>
        <p:spPr>
          <a:xfrm>
            <a:off x="3929040" y="1785960"/>
            <a:ext cx="1428840" cy="321480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3214800"/>
              <a:gd name="textAreaBottom" fmla="*/ 3145320 h 3214800"/>
            </a:gdLst>
            <a:ahLst/>
            <a:rect l="textAreaLeft" t="textAreaTop" r="textAreaRight" b="textAreaBottom"/>
            <a:pathLst>
              <a:path w="21600" h="48592">
                <a:moveTo>
                  <a:pt x="3600" y="0"/>
                </a:moveTo>
                <a:arcTo wR="3600" hR="3600" stAng="16200000" swAng="-5400000"/>
                <a:lnTo>
                  <a:pt x="0" y="44992"/>
                </a:lnTo>
                <a:arcTo wR="3600" hR="3600" stAng="10800000" swAng="-5400000"/>
                <a:lnTo>
                  <a:pt x="18000" y="4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Выноска 1 (с границей) 7"/>
          <p:cNvSpPr/>
          <p:nvPr/>
        </p:nvSpPr>
        <p:spPr>
          <a:xfrm>
            <a:off x="7286760" y="2786040"/>
            <a:ext cx="1428480" cy="71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l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essential to restore a complete banking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D35612A-4109-422E-8C16-032643F7FCD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Прямоугольник 4"/>
          <p:cNvSpPr/>
          <p:nvPr/>
        </p:nvSpPr>
        <p:spPr>
          <a:xfrm>
            <a:off x="85716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in thing here is to recover confidence between entiti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Выноска 1 (с границей) 5"/>
          <p:cNvSpPr/>
          <p:nvPr/>
        </p:nvSpPr>
        <p:spPr>
          <a:xfrm>
            <a:off x="6188040" y="1857240"/>
            <a:ext cx="150012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723" y="21495"/>
                </a:moveTo>
                <a:lnTo>
                  <a:pt x="-1800" y="872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Выноска 1 (с границей) 8"/>
          <p:cNvSpPr/>
          <p:nvPr/>
        </p:nvSpPr>
        <p:spPr>
          <a:xfrm>
            <a:off x="6273720" y="5715000"/>
            <a:ext cx="150012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7" y="258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Скругленный прямоугольник 10"/>
          <p:cNvSpPr/>
          <p:nvPr/>
        </p:nvSpPr>
        <p:spPr>
          <a:xfrm>
            <a:off x="2143080" y="3571920"/>
            <a:ext cx="5000760" cy="157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Скругленный прямоугольник 11"/>
          <p:cNvSpPr/>
          <p:nvPr/>
        </p:nvSpPr>
        <p:spPr>
          <a:xfrm>
            <a:off x="3746520" y="3429000"/>
            <a:ext cx="1785960" cy="329868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3298680"/>
              <a:gd name="textAreaBottom" fmla="*/ 3211560 h 3298680"/>
            </a:gdLst>
            <a:ahLst/>
            <a:rect l="textAreaLeft" t="textAreaTop" r="textAreaRight" b="textAreaBottom"/>
            <a:pathLst>
              <a:path w="21600" h="39892">
                <a:moveTo>
                  <a:pt x="3600" y="0"/>
                </a:moveTo>
                <a:arcTo wR="3600" hR="3600" stAng="16200000" swAng="-5400000"/>
                <a:lnTo>
                  <a:pt x="0" y="36292"/>
                </a:lnTo>
                <a:arcTo wR="3600" hR="3600" stAng="10800000" swAng="-5400000"/>
                <a:lnTo>
                  <a:pt x="18000" y="39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aranties are the main way to reduce th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rust at the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26" name="Содержимое 8"/>
          <p:cNvGraphicFramePr/>
          <p:nvPr/>
        </p:nvGraphicFramePr>
        <p:xfrm>
          <a:off x="428760" y="2214720"/>
          <a:ext cx="835812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Содержимое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14720"/>
                    <a:ext cx="83581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EF79F9C-1E79-4C2B-8965-AF539D11252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42920" y="6523200"/>
            <a:ext cx="310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сточник: Данные конференции ФБК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1428840" y="1500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developed economies a substantial part of governmental assistance are the guaran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Григорян</cp:lastModifiedBy>
  <dcterms:modified xsi:type="dcterms:W3CDTF">2008-11-27T18:04:02Z</dcterms:modified>
  <cp:revision>498</cp:revision>
  <dc:subject/>
  <dc:title>Расширение кредитования – важнейший фактор экономического роста России </dc:title>
</cp:coreProperties>
</file>