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wmf" ContentType="image/x-wmf"/>
  <Override PartName="/ppt/media/image6.jpeg" ContentType="image/jpe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7828-D7C8-4A8C-B67A-E0ED0CC2F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165E-8A03-4F48-A616-BD5FD4D3D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D727-7627-422C-A1E3-29CA68CD8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BDF4-E1E3-4F19-928C-1C8D25533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469D-1D81-4EF8-A21B-3B628677A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F714-989C-472A-8A49-273DB070D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F4F4-8DB5-4551-842E-B35B92061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6BBA-3683-4CDA-83FC-3B18382AB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A6F7-BF14-4957-BEEE-888BA2E4F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2418-5774-45A6-A986-CF24EBA9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BBD6-D4F1-445F-A344-CA57CEED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E6EE-943D-4FC4-9119-7624F1B9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1111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c1c1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1c1c1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D518A-E89A-4E5D-8A72-8D7AA47523FE}" type="slidenum">
              <a:rPr b="0" lang="en-GB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457200"/>
            <a:ext cx="6934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UKRAINIAN BANKING SECTOR </a:t>
            </a:r>
            <a:br>
              <a:rPr sz="4400"/>
            </a:br>
            <a:r>
              <a:rPr b="0" i="1" lang="en-US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OVERVIEW AND OUTLOOK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4920" y="3886200"/>
            <a:ext cx="7696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</a:t>
            </a:r>
            <a:r>
              <a:rPr b="0" i="1" lang="en-GB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FBE Associates meeting 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,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Krak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ó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w,29</a:t>
            </a:r>
            <a:r>
              <a:rPr b="0" i="1" lang="en-US" sz="32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th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June 2007 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E772-0550-4CFC-AC36-892CF20D349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Official  Exchange  Rate  for  the  UAH  against  US  dollar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295280" y="1981080"/>
          <a:ext cx="7543800" cy="441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1981080"/>
                    <a:ext cx="754380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916200" y="616104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4F14-26A3-47D2-AF96-85DF39DB906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560" y="914400"/>
            <a:ext cx="7467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Arial"/>
              </a:rPr>
              <a:t>Net assets &amp; their share in GDP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300320" y="1297080"/>
          <a:ext cx="7418160" cy="516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00320" y="1297080"/>
                    <a:ext cx="7418160" cy="51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068840" y="61722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2899-729A-4752-87D3-A42C3F0AC21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560" y="914400"/>
            <a:ext cx="7467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Arial"/>
              </a:rPr>
              <a:t>Capital &amp; its share in GDP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295280" y="1295280"/>
          <a:ext cx="7543800" cy="517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1295280"/>
                    <a:ext cx="7543800" cy="517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1068840" y="61722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EB76-74CE-483D-B9FF-A77822C1E0D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920" y="7621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Arial"/>
              </a:rPr>
              <a:t>Loans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066680" y="1297080"/>
          <a:ext cx="7774200" cy="5251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1297080"/>
                    <a:ext cx="7774200" cy="52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1068840" y="61866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8153280" y="914400"/>
            <a:ext cx="304920" cy="38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172C-96F2-4893-8341-3878CD8F565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5410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Arial"/>
              </a:rPr>
              <a:t>Interest rates in national currency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066680" y="1676520"/>
          <a:ext cx="7724880" cy="4732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1676520"/>
                    <a:ext cx="7724880" cy="47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1068840" y="61866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8153280" y="914400"/>
            <a:ext cx="304920" cy="38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006A-3BC9-4D4C-B82C-4D6A7F35DE0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45720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The  activity  of  the  Association  of  Ukrainian  Banks  is  directed  at  the  integration  of  Ukraine  to  the  European  Union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274284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  <a:ea typeface="Times New Roman"/>
              </a:rPr>
              <a:t>Joining the World Trade Organization by Ukraine and the issue of foreign banks affiliates</a:t>
            </a: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  <a:ea typeface="Times New Roman"/>
              </a:rPr>
              <a:t>Bringing  banking  instruments  of  regulation  and  supervision  in  Ukraine  to  the  European  standards</a:t>
            </a: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  <a:ea typeface="Times New Roman"/>
              </a:rPr>
              <a:t>Transition of the Ukrainian banks to the international  accounting system</a:t>
            </a: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8840" y="61722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25FE-AF01-46C2-9077-B59CC12D45F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371600" y="4647960"/>
            <a:ext cx="7238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Thank you for  your attention!</a:t>
            </a:r>
            <a:br>
              <a:rPr sz="2800"/>
            </a:b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09680" y="1025640"/>
            <a:ext cx="734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371240" y="533520"/>
            <a:ext cx="5791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Thank you for  cooperation!</a:t>
            </a:r>
            <a:br>
              <a:rPr sz="3600"/>
            </a:b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68480" y="61722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523880" y="1447920"/>
            <a:ext cx="6324840" cy="320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6B3C-37B0-4AC9-955F-65928FB2E41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 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Association  of  Ukrainian  Banks: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68580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Founded in 1990 and   based in Kyiv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125 member bank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approximately 90% of  banking </a:t>
            </a:r>
            <a:r>
              <a:rPr b="0" lang="uk-UA" sz="3200" spc="-1" strike="noStrike">
                <a:solidFill>
                  <a:srgbClr val="1c1c1c"/>
                </a:solidFill>
                <a:latin typeface="Arial"/>
              </a:rPr>
              <a:t>                </a:t>
            </a: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sector's asset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is led by </a:t>
            </a: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Oleksandr  Suhonyako from 1993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68480" y="6161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00CB-1D8C-435B-B43B-8C483F2D407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 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Mission  of  the  Association  of  Ukrainian  Banks: 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2209680"/>
            <a:ext cx="68580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14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Promoting development  of  the  Ukrainian  commercial  banks  system.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60640" indent="-260640">
              <a:lnSpc>
                <a:spcPct val="14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Establishing and maintaining  the best possible platform on which the banking groups can 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do competitive, profitable and responsible banking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606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606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8480" y="6161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037A-A317-47F7-AEF2-A6F9A759380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4572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Aims  of  the  Association  of  Ukrainian  Banks: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8480" y="61707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240" y="17524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Favourable  legal  and  normative  environment   for  banks;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Protection  of banks  from  political  pressure;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Confidence  of the society  and  foreign  partners  to  the  banking  system;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Up-grading professional  skills  of  bank  staff.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2E9A-256A-4C41-8F22-42EF508923B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Principles  of  the  Ukrainian  Banks  Association  activity: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771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Transparency;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Self-dependence and  independence from the state  power  bodies;  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Non-commercial  activity.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8480" y="6161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2BA2-9AAD-4354-8ECC-2117D294E31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533520"/>
            <a:ext cx="38098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The resources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240" y="1905120"/>
            <a:ext cx="71629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AUB’s  personnel;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Information (bank statements, Web-site);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AUB’s  finances.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68480" y="6161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3B77-A6B0-40FB-8F21-CE3087C4537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650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The  results  of  the  Ukrainian  Banks  Association  activity </a:t>
            </a:r>
            <a:br>
              <a:rPr sz="3600"/>
            </a:b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6960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c1c1c"/>
                </a:solidFill>
                <a:latin typeface="Arial"/>
                <a:ea typeface="Times New Roman"/>
              </a:rPr>
              <a:t>Contribution  to  taking  off  Ukraine  from  the FATF’s  black  list;</a:t>
            </a:r>
            <a:r>
              <a:rPr b="0" lang="en-GB" sz="30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c1c1c"/>
                </a:solidFill>
                <a:latin typeface="Arial"/>
                <a:ea typeface="Times New Roman"/>
              </a:rPr>
              <a:t>The  Verkhovna  Rada  of  Ukraine  took  into  consideration the Association’s  position  concerning premature admission  of  foreign  banks  affiliates  to  Ukraine;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c1c1c"/>
                </a:solidFill>
                <a:latin typeface="Arial"/>
                <a:ea typeface="Times New Roman"/>
              </a:rPr>
              <a:t>The  Association  in  interaction  with  the  National Bank of Ukraine stopped  spreading  of  political  crises  to  the  banks.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4800" y="6095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6D7B-8C7C-4792-B5D9-E84983BA5B6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Some  features  of establishing   Ukrainian  banking  system  :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Banks  privatization in  the  early  1990s.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Aggressive and unfavourable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 administrative  and  economic  environment.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Difficulties in  the  development  of  the  financial  markets as well as  in the increase of capital  and  profitability  of   banks.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4800" y="6095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A1F5-D878-4C18-BCD3-EA5E038DDD7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6960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Some  features… </a:t>
            </a:r>
            <a:r>
              <a:rPr b="0" i="1" lang="en-GB" sz="2800" spc="-1" strike="noStrike">
                <a:solidFill>
                  <a:srgbClr val="111111"/>
                </a:solidFill>
                <a:latin typeface="Arial"/>
                <a:ea typeface="Times New Roman"/>
              </a:rPr>
              <a:t>(continuation):</a:t>
            </a:r>
            <a:r>
              <a:rPr b="0" i="1" lang="en-GB" sz="28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0080" indent="-100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Borrower takes  priority  over creditor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1c1c1c"/>
                </a:solidFill>
                <a:latin typeface="Arial"/>
              </a:rPr>
              <a:t>"</a:t>
            </a:r>
            <a:r>
              <a:rPr b="0" lang="en-GB" sz="3000" spc="-1" strike="noStrike">
                <a:solidFill>
                  <a:srgbClr val="1c1c1c"/>
                </a:solidFill>
                <a:latin typeface="Arial"/>
                <a:ea typeface="Times New Roman"/>
              </a:rPr>
              <a:t>The  banking  legislation  of  Ukraine in  general meets the  appropriate  standards  of  law  of  the  European  Union</a:t>
            </a:r>
            <a:r>
              <a:rPr b="0" lang="en-GB" sz="3000" spc="-1" strike="noStrike">
                <a:solidFill>
                  <a:srgbClr val="1c1c1c"/>
                </a:solidFill>
                <a:latin typeface="Arial"/>
              </a:rPr>
              <a:t>."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100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c1c1c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1c1c1c"/>
                </a:solidFill>
                <a:latin typeface="Arial"/>
                <a:ea typeface="Times New Roman"/>
              </a:rPr>
              <a:t>The  Ukrainian  and  European  advisory</a:t>
            </a:r>
            <a:r>
              <a:rPr b="0" i="1" lang="en-US" sz="2400" spc="-1" strike="noStrike">
                <a:solidFill>
                  <a:srgbClr val="1c1c1c"/>
                </a:solidFill>
                <a:latin typeface="Arial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1c1c1c"/>
                </a:solidFill>
                <a:latin typeface="Arial"/>
                <a:ea typeface="Times New Roman"/>
              </a:rPr>
              <a:t>centre</a:t>
            </a:r>
            <a:r>
              <a:rPr b="0" i="1" lang="en-GB" sz="2400" spc="-1" strike="noStrike">
                <a:solidFill>
                  <a:srgbClr val="1c1c1c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High professional  standard  of  governors of  the  National  Bank  of  Ukraine.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8480" y="61722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0BF1-8A1E-4E4E-BB7C-9D4A1AB4559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12:39:58Z</dcterms:created>
  <dc:creator>Евгения С. Кузьменко</dc:creator>
  <dc:description/>
  <dc:language>en-US</dc:language>
  <cp:lastModifiedBy>mumcum</cp:lastModifiedBy>
  <dcterms:modified xsi:type="dcterms:W3CDTF">2007-08-06T07:33:29Z</dcterms:modified>
  <cp:revision>264</cp:revision>
  <dc:subject/>
  <dc:title>Презентация PowerPoint</dc:title>
</cp:coreProperties>
</file>