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E0B1-B857-4549-880E-6D8AE51B7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2F1B-11FB-46A0-9C0B-1A6E912E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793E-F4F2-468D-971F-6DC2DB467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32AD-F3FF-45BC-AE8F-49D6096E2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7929-6B31-40F7-A19F-C9E52B9A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5AC1-0DD1-449B-81EC-016C7696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6427-780F-4C68-AA97-35DC85D3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1C99-3504-429E-A3B4-9A2E765A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D631-AA61-45D8-A134-6EB21787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F372-3E46-4216-90D7-85CAF2A1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F353-93CB-49CF-80C6-7FB87685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4F39-A41C-4612-AAC0-BFABF846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4D9A-AB62-4335-9C05-9D177DCA01E7}" type="slidenum"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6934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UKRAINIAN BANKING SECTOR </a:t>
            </a:r>
            <a:br>
              <a:rPr sz="4400"/>
            </a:br>
            <a:r>
              <a:rPr b="0" i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OVERVIEW AND OUTLOOK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4920" y="3886200"/>
            <a:ext cx="7696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</a:t>
            </a:r>
            <a:r>
              <a:rPr b="0" i="1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FBE Associates meeting 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,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Krak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w,29</a:t>
            </a:r>
            <a:r>
              <a:rPr b="0" i="1" lang="en-US" sz="32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th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June 2007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DC55-EA6F-4552-B153-AECD5B02F72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Official  Exchange  Rate  for  the  UAH  against  US  dollar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295280" y="1981080"/>
          <a:ext cx="7543800" cy="441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981080"/>
                    <a:ext cx="75438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916200" y="61610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217D-30CD-4D6C-93DB-B6B06125757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Net assets &amp; their share in GDP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300320" y="1297080"/>
          <a:ext cx="7418160" cy="516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00320" y="1297080"/>
                    <a:ext cx="7418160" cy="51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26F1-9017-4156-B824-B97779588EC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Capital &amp; its share in GDP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295280" y="1295280"/>
          <a:ext cx="7543800" cy="517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295280"/>
                    <a:ext cx="7543800" cy="51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7A6C-94F6-4214-8369-BB4E857622B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7621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Loans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066680" y="1297080"/>
          <a:ext cx="7774200" cy="525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297080"/>
                    <a:ext cx="7774200" cy="52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068840" y="61866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8153280" y="914400"/>
            <a:ext cx="30492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4552-34B5-4D2A-8C09-D4DFDB96B49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5410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Interest rates in national currency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66680" y="1676520"/>
          <a:ext cx="7724880" cy="473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676520"/>
                    <a:ext cx="7724880" cy="47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068840" y="61866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8153280" y="914400"/>
            <a:ext cx="30492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CB45-D789-4953-B8FD-82C2DDB0E82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45720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 activity  of  the  Association  of  Ukrainian  Banks  is  directed  at  the  integration  of  Ukraine  to  the  European  Union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274284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Joining the World Trade Organization by Ukraine and the issue of foreign banks affiliates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Bringing  banking  instruments  of  regulation  and  supervision  in  Ukraine  to  the  European  standards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Transition of the Ukrainian banks to the international  accounting system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C5E1-5566-4770-B0B9-90E3081D7DA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371600" y="4647960"/>
            <a:ext cx="7238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Thank you for  your attention!</a:t>
            </a:r>
            <a:br>
              <a:rPr sz="2800"/>
            </a:b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1025640"/>
            <a:ext cx="734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71240" y="533520"/>
            <a:ext cx="5791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ank you for  cooperation!</a:t>
            </a:r>
            <a:br>
              <a:rPr sz="3600"/>
            </a:b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8480" y="61722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6324840" cy="32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F6B2-838A-4CD9-B25F-F6E9280127D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Association  of  Ukrainian  Banks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6858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Founded in 1990 and   based in Kyiv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125 member bank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approximately 90% of  banking </a:t>
            </a:r>
            <a:r>
              <a:rPr b="0" lang="uk-UA" sz="3200" spc="-1" strike="noStrike">
                <a:solidFill>
                  <a:srgbClr val="1c1c1c"/>
                </a:solidFill>
                <a:latin typeface="Arial"/>
              </a:rPr>
              <a:t>                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sector's asset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is led by </a:t>
            </a: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Oleksandr  Suhonyako from 1993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CC7F-C603-402F-AE6C-9729564B6BC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Mission  of  the  Association  of  Ukrainian  Banks: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68580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4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Promoting development  of  the  Ukrainian  commercial  banks  system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-260640">
              <a:lnSpc>
                <a:spcPct val="14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Establishing and maintaining  the best possible platform on which the banking groups can 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do competitive, profitable and responsible banking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20DA-CC3B-44C3-BDD4-9668E70D8CF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Aims  of  the  Association  of  Ukrainian  Banks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8480" y="6170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Favourable  legal  and  normative  environment   for  banks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Protection  of banks  from  political  pressure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Confidence  of the society  and  foreign  partners  to  the  banking  system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Up-grading professional  skills  of  bank  staff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1F1C-A59C-48ED-AD5B-BD57832249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Principles  of  the  Ukrainian  Banks  Association  activity: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77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Transparency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Self-dependence and  independence from the state  power  bodies;  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Non-commercial  activity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8BAF-BE5E-43EE-958D-765D074677D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38098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resources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71629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UB’s  personnel;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Information (bank statements, Web-site);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UB’s  finances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FC1A-BF96-4CE7-815B-93EB83B763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650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 results  of  the  Ukrainian  Banks  Association  activity </a:t>
            </a:r>
            <a:br>
              <a:rPr sz="3600"/>
            </a:b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Contribution  to  taking  off  Ukraine  from  the FATF’s  black  list;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Verkhovna  Rada  of  Ukraine  took  into  consideration the Association’s  position  concerning premature admission  of  foreign  banks  affiliates  to  Ukraine;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Association  in  interaction  with  the  National Bank of Ukraine stopped  spreading  of  political  crises  to  the  banks.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4800" y="6095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4CB7-4F53-4B60-B534-EA1B17AEEF4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Some  features  of establishing   Ukrainian  banking  system  :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Banks  privatization in  the  early  1990s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ggressive and unfavourable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 administrative  and  economic  environment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Difficulties in  the  development  of  the  financial  markets as well as  in the increase of capital  and  profitability  of   banks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4800" y="6095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8531-A1A8-446C-93B7-A27E8A552FA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6960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Some  features… </a:t>
            </a:r>
            <a:r>
              <a:rPr b="0" i="1" lang="en-GB" sz="2800" spc="-1" strike="noStrike">
                <a:solidFill>
                  <a:srgbClr val="111111"/>
                </a:solidFill>
                <a:latin typeface="Arial"/>
                <a:ea typeface="Times New Roman"/>
              </a:rPr>
              <a:t>(continuation):</a:t>
            </a:r>
            <a:r>
              <a:rPr b="0" i="1" lang="en-GB" sz="28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0080" indent="-100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Borrower takes  priority  over creditor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"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banking  legislation  of  Ukraine in  general meets the  appropriate  standards  of  law  of  the  European  Union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."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c1c1c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The  Ukrainian  and  European  advisory</a:t>
            </a:r>
            <a:r>
              <a:rPr b="0" i="1" lang="en-US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centre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High professional  standard  of  governors of  the  National  Bank  of  Ukraine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8480" y="6172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89E4-5EB8-4511-AF2E-9AB937FCDC5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12:39:58Z</dcterms:created>
  <dc:creator>Евгения С. Кузьменко</dc:creator>
  <dc:description/>
  <dc:language>en-US</dc:language>
  <cp:lastModifiedBy>mumcum</cp:lastModifiedBy>
  <dcterms:modified xsi:type="dcterms:W3CDTF">2007-08-06T07:33:29Z</dcterms:modified>
  <cp:revision>264</cp:revision>
  <dc:subject/>
  <dc:title>Презентация PowerPoint</dc:title>
</cp:coreProperties>
</file>