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09B4-83CC-4D25-BB8A-4631CE87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8F60-AE31-4AB0-A166-8A54B4BA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F4E-4E16-4463-8977-CDEAF5D6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7A53-A861-4DF9-8332-B10E034A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DBD6-B3C4-4D9B-BCC7-B5B16E0B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9D65-9D23-4697-861B-172EF81C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E7A2-CD0B-477C-83A8-F825366A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0151-D3F4-462B-9F2D-7586E1FF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8382-0D42-40CD-B02C-FBA1A4AE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24AB-F9D7-4D66-A467-C4738617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84BC-87C3-4F2B-977F-258C1E15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7EDB-BA34-4DD3-AFF6-1BEF4115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2B0E-5615-464A-8017-49B5F10C4D3D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Times New Roman"/>
              </a:rPr>
              <a:t>Post FSAP Task Force Report on Better Regulation and Impact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Recent problem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the PSD (Payments Services Directive)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ducted by the Commission : factual errors, bias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anti-banks, overestimation of benefits (50-100 B€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A on Mortgage Credit conducted by London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onomics : too simplistic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0761-CB81-476E-A3E7-04314496EF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ent Experiences in the          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Financial Sector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Recent improvements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Creation of the IAB (Impact Assessment Board) to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review IA done related to each proposal of the Commission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Independent body reporting directly to the President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of the Commission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Systematic creation of IA units in each DG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IA conducted in the context of Basel II quoted as good practice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- Good consultation process for UCITS and Mortgage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Credit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F4C4-D082-41BD-8E90-A808958B40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ggested Improvement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to the EU system in B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open dialogue between industry and Commission, setting objectives and priorit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ncourage market based solutions (voluntary codes of conduct, co and self regulation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ocus on investment and compliance costs when addressing the reduction of administrative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should apply to all important pend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ore significant involvement of the European Parliament and the European Council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5DF8-DB3D-46E9-8A5B-C518ECBB62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o address the recent developments adequately, EBF internal measures need to be taken quickly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udget latitud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dicated staff member from the EBF Secretariat to work on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BF Guidelines including checklist (list of questions that consultative committees should ask during any legislative procedure to ensure that BR and IA standards are respected by the EU institutions)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 Hoc Task Force and the Involvement of EMAC (Advisory committee on voluntary basi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00E4-1A4B-4855-BA07-ECDEB87D10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BF Internal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Organization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ole of the Post FSAP TF (general support and monitoring of the BR &amp; IA process within EBF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nvolvement of small associations (IA studies taking into account geographical and size issues)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A Test Case for 2007 (Ex-Co to choose between 3 different subjects)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VAT Regime for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Bank Accounts and Mobilit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Distance Marketing of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F507-2DD1-46F4-BF0E-E59B4DFC18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ecutive Committee to approve the report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Publish the report and send it to all interested parties especially to the European Instituti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tinue monitoring and updating the national best practices in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rt a first test case in IA for 2007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obby the EU Institutions regarding the improvement of the BR procedures especially IA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0638-7AC2-490B-B210-2F1F247123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Chairman of the Post FSAP Task Forc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ean Francois Pon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BF Secretaria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ébastien de Brouw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lie Beyrouthy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85CE-3445-4FA0-897E-998658246E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xchange experiences and best practices at national lev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 the EU system in BR and IA: guidelines, methodology and previous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opt a proactive role at EBF level in the area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E253-7203-4C84-9C26-59E716810F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ptember 2006: Decision of the Ex-Co to assess further the issue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December 2006 – April 2007: 4 meetings of the Task Force chaired by Jean Francois PON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June 2007: Report of the Task Force delivered to the Ex-co for approval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71E2-7127-4286-9A26-B68201F927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Better Regulation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n EU policy using different tools and processes to make sur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at regulation is used only when necessary and that the burdens they impose are proportionate to their aim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Examples of better regulation tools and process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y existing legis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ystematic use of impact assessment and public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in the development of new policy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al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0C2B-63FB-4033-A296-8FC9043CE9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What is Impact Assessmen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Designed to help in structuring and developing  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polici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Identifies and assesses the problem at stake and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pursu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Helps to identify the main options for achieving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objectives and analyzes their likely impacts in the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economic, environmental and social field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    </a:t>
            </a:r>
            <a:r>
              <a:rPr b="0" lang="en" sz="2800" spc="-1" strike="noStrike">
                <a:solidFill>
                  <a:srgbClr val="0066cc"/>
                </a:solidFill>
                <a:latin typeface="Times New Roman"/>
              </a:rPr>
              <a:t>- Uses quantification and economic analy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B26-23EE-46DB-BD4F-0DBA680C9B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and IA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tandard form has been adopted, divided in 4 main chapter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Simplification/reduction of administrative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burde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nsultation/dialogue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mpact Assessment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Ex Post Analysis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4419-F746-41D4-A0B8-A9CA899A96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experiences in BR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and 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dvantages of the standard form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Compare in one document all national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experiences in BR by subject matter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Identify gaps and space for further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  improvemen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8005-E64F-42AB-84B1-0A7818EB23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 Conclusions from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national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lmost all EU countries are moving forward by adopting tools of better regulat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ig differences still exist between EU countries for the importance of BR and IA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similar standards between different EU countries in order to facilitate comparis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No perfect model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87ED-56DC-43AA-B2BB-4EA3C58E69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 and IA at EU and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International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Several European Commission’s officials have been invited to present the EU system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 special chapter on the EU experience in BR and IA has been added to the document on national experien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IF paper on effective regulation has been discussed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7F0F-4681-40E0-8B04-11CA44433F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15:09:26Z</dcterms:created>
  <dc:creator>beyrouthy</dc:creator>
  <dc:description/>
  <dc:language>en-US</dc:language>
  <cp:lastModifiedBy>mumcum</cp:lastModifiedBy>
  <dcterms:modified xsi:type="dcterms:W3CDTF">2007-08-06T07:32:18Z</dcterms:modified>
  <cp:revision>7</cp:revision>
  <dc:subject/>
  <dc:title>Post FSAP Task Force Report on Better Regulation and Impact Assessment</dc:title>
</cp:coreProperties>
</file>