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EDC-5107-4A6A-82B8-1A64E694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1661-030C-44EB-AEBE-E207E942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66A-127B-4D5F-9A22-FF37440F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5AC-6CBE-4C91-96C7-DD4981A6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D54E-4814-4B6F-80BB-0FD74BC7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697-8B61-4252-AFDF-A73195A7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3351-1CE4-42AE-BAAA-E9BD6AC3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3ACD-1E04-4A9A-A8B4-1444F40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24E-5B25-4D6D-9948-65B3A6F7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B22-BA7D-4860-B187-43216298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7A6-53CB-4388-9924-2FFFA2C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5E1F-0B32-4A99-82A6-659467F1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1148-D6F2-4681-ACDB-26693E2A0742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6934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UKRAINIAN BANKING SECTOR </a:t>
            </a:r>
            <a:br>
              <a:rPr sz="4400"/>
            </a:br>
            <a:r>
              <a:rPr b="0" i="1" lang="en-US" sz="3600" spc="-1" strike="noStrike">
                <a:solidFill>
                  <a:srgbClr val="0000ff"/>
                </a:solidFill>
                <a:latin typeface="Arial"/>
                <a:ea typeface="Times New Roman"/>
              </a:rPr>
              <a:t>OVERVIEW AND OUTLOOK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4920" y="3886200"/>
            <a:ext cx="7696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GB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FBE Associates meeting 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,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Krak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ó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w,29</a:t>
            </a:r>
            <a:r>
              <a:rPr b="0" i="1" lang="en-US" sz="3200" spc="-1" strike="noStrike" baseline="30000">
                <a:solidFill>
                  <a:srgbClr val="0000ff"/>
                </a:solidFill>
                <a:latin typeface="Arial"/>
                <a:ea typeface="Times New Roman"/>
              </a:rPr>
              <a:t>th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 June 2007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C4D0-3BC2-42AB-B7BE-E5FA7E84881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Official  Exchange  Rate  for  the  UAH  against  US  dollar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95280" y="1981080"/>
          <a:ext cx="7543800" cy="441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981080"/>
                    <a:ext cx="75438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16200" y="6161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B40-78F5-46DD-96C6-61C05BAD05A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Net assets &amp; their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00320" y="1297080"/>
          <a:ext cx="7418160" cy="5168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0320" y="1297080"/>
                    <a:ext cx="741816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F29-5776-4787-8CD3-F4B67A4C51C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Capital &amp; its share in GDP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95280" y="1295280"/>
          <a:ext cx="7543800" cy="517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295280"/>
                    <a:ext cx="7543800" cy="51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636-DDC7-460F-A167-F0877BAD525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2120"/>
            <a:ext cx="5410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1297080"/>
          <a:ext cx="7774200" cy="525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297080"/>
                    <a:ext cx="7774200" cy="52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9EE-FA42-4C8C-A2E1-0F350B5918B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1111"/>
                </a:solidFill>
                <a:latin typeface="Arial"/>
              </a:rPr>
              <a:t>Interest rates in national currency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76520"/>
          <a:ext cx="7724880" cy="473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676520"/>
                    <a:ext cx="772488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068840" y="61866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8153280" y="914400"/>
            <a:ext cx="304920" cy="38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707D-7A7F-4E6C-AB75-D97FFE0ECF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activity  of  the  Association  of  Ukrainian  Banks  is  directed  at  the  integration  of  Ukraine  to  the  European  Union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74284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Joining the World Trade Organization by Ukraine and the issue of foreign banks affiliate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Bringing  banking  instruments  of  regulation  and  supervision  in  Ukraine  to  the  European  standards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  <a:ea typeface="Times New Roman"/>
              </a:rPr>
              <a:t>Transition of the Ukrainian banks to the international  accounting system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8840" y="6172200"/>
            <a:ext cx="5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1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FE0-6569-40C2-A350-32BD3BB6C4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371600" y="464796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hank you for  your attention!</a:t>
            </a:r>
            <a:br>
              <a:rPr sz="2800"/>
            </a:b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025640"/>
            <a:ext cx="734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71240" y="533520"/>
            <a:ext cx="5791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ank you for  cooperation!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8480" y="617220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32484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F6A2-54C9-4F88-BB02-387E5589CA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6858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Founded in 1990 and   based in Kyiv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125 member bank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approximately 90% of  banking </a:t>
            </a:r>
            <a:r>
              <a:rPr b="0" lang="uk-UA" sz="3200" spc="-1" strike="noStrike">
                <a:solidFill>
                  <a:srgbClr val="1c1c1c"/>
                </a:solidFill>
                <a:latin typeface="Arial"/>
              </a:rPr>
              <a:t>                </a:t>
            </a: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sector's asse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c1c1c"/>
                </a:solidFill>
                <a:latin typeface="Arial"/>
              </a:rPr>
              <a:t>is led by </a:t>
            </a: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Oleksandr  Suhonyako from 1993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284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012-CE5D-4EC8-93A4-3BBCB11124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Mission  of  the  Association  of  Ukrainian  Banks: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8580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moting development  of  the  Ukrainian  commercial  banks  system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-260640">
              <a:lnSpc>
                <a:spcPct val="14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Establishing and maintaining  the best possible platform on which the banking groups can </a:t>
            </a: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do competitive, profitable and responsible bank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260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DD8-1FD2-4E93-BA29-05704F7FD8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Aims  of  the  Association  of  Ukrainian  Banks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8480" y="61707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Favourable  legal  and  normative  environment   for  banks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Protection  of banks  from  political  pressure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Confidence  of the society  and  foreign  partners  to  the  banking  system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Up-grading professional  skills  of  bank  staff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9795-A8C1-48B0-A4B9-04ED3E2208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Principles  of  the  Ukrainian  Banks  Association  activity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Transparency;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Self-dependence and  independence from the state  power  bodies;  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Non-commercial  activit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3B4-A565-4740-972B-FA35466DD7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3809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resources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1629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personnel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Information (bank statements, Web-site);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UB’s  finances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8480" y="61610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0A8-F64F-494C-AC33-2C8172C279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650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The  results  of  the  Ukrainian  Banks  Association  activity </a:t>
            </a:r>
            <a:br>
              <a:rPr sz="3600"/>
            </a:b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Contribution  to  taking  off  Ukraine  from  the FATF’s  black  list;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Verkhovna  Rada  of  Ukraine  took  into  consideration the Association’s  position  concerning premature admission  of  foreign  banks  affiliates  to  Ukraine;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Association  in  interaction  with  the  National Bank of Ukraine stopped  spreading  of  political  crises  to  the  banks.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B85-99BF-4A8A-A156-FA5A57467B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  of establishing   Ukrainian  banking  system  :</a:t>
            </a:r>
            <a:r>
              <a:rPr b="1" lang="en-GB" sz="36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anks  privatization in  the  early  1990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Aggressive and unfavourable</a:t>
            </a:r>
            <a:r>
              <a:rPr b="0" lang="en-GB" sz="28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administrative  and  economic  environment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Difficulties in  the  development  of  the  financial  markets as well as  in the increase of capital  and  profitability  of   bank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4800" y="60958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38D-C7F2-4273-88C2-843234E0874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696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11111"/>
                </a:solidFill>
                <a:latin typeface="Arial"/>
                <a:ea typeface="Times New Roman"/>
              </a:rPr>
              <a:t>Some  features… 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  <a:ea typeface="Times New Roman"/>
              </a:rPr>
              <a:t>(continuation):</a:t>
            </a:r>
            <a:r>
              <a:rPr b="0" i="1" lang="en-GB" sz="2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Borrower takes  priority  over creditor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"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  <a:ea typeface="Times New Roman"/>
              </a:rPr>
              <a:t>The  banking  legislation  of  Ukraine in  general meets the  appropriate  standards  of  law  of  the  European  Union</a:t>
            </a:r>
            <a:r>
              <a:rPr b="0" lang="en-GB" sz="3000" spc="-1" strike="noStrike">
                <a:solidFill>
                  <a:srgbClr val="1c1c1c"/>
                </a:solidFill>
                <a:latin typeface="Arial"/>
              </a:rPr>
              <a:t>."</a:t>
            </a:r>
            <a:endParaRPr b="0" lang="en-US" sz="30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The  Ukrainian  and  European  advisory</a:t>
            </a:r>
            <a:r>
              <a:rPr b="0" i="1" lang="en-US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  <a:ea typeface="Times New Roman"/>
              </a:rPr>
              <a:t>centre</a:t>
            </a:r>
            <a:r>
              <a:rPr b="0" i="1" lang="en-GB" sz="2400" spc="-1" strike="noStrike">
                <a:solidFill>
                  <a:srgbClr val="1c1c1c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100080" indent="-100080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  <a:ea typeface="Times New Roman"/>
              </a:rPr>
              <a:t>High professional  standard  of  governors of  the  National  Bank  of  Ukraine.</a:t>
            </a:r>
            <a:r>
              <a:rPr b="0" lang="en-GB" sz="28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8480" y="6172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1c1c1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b.com.u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ACE9-2ABD-4B1F-A4D9-A240A23A29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5-16.03.2005</a:t>
            </a:r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2:39:58Z</dcterms:created>
  <dc:creator>Евгения С. Кузьменко</dc:creator>
  <dc:description/>
  <dc:language>en-US</dc:language>
  <cp:lastModifiedBy>mumcum</cp:lastModifiedBy>
  <dcterms:modified xsi:type="dcterms:W3CDTF">2007-08-06T07:33:29Z</dcterms:modified>
  <cp:revision>264</cp:revision>
  <dc:subject/>
  <dc:title>Презентация PowerPoint</dc:title>
</cp:coreProperties>
</file>