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8546-565F-4BB2-8186-49AE76144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46F2-F7F2-4E1C-A610-15E04DB4B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91D1-A5DE-4F13-996B-502577428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B398-CA9D-444C-BD9E-20D97B860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F475-C573-4143-A44A-F049EDFAF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19D4-0AD1-441F-BF44-1F76CDD44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5110-E8E7-491E-B142-198CE9830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5734-CB90-4870-A95C-34E021CD9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0D1B-3334-47C6-A207-D0B66B065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999D-8A60-4BB1-AF94-1AD264B69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007B-6D57-4785-AD06-E0A360D00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CCC9-A40B-4DCA-A04F-6B68F0C9B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19CE4-E722-48EB-9D30-A01C94076EAE}" type="slidenum"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94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cc"/>
                </a:solidFill>
                <a:latin typeface="Times New Roman"/>
              </a:rPr>
              <a:t>Post FSAP Task Force Report on Better Regulation and Impact Assess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ent Experiences in the            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Financial Sector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Recent problems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IA on the PSD (Payments Services Directive)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nducted by the Commission : factual errors, bias</a:t>
            </a:r>
            <a:br>
              <a:rPr sz="28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anti-banks, overestimation of benefits (50-100 B€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IA on Mortgage Credit conducted by London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onomics : too simplistic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86EA-1549-4B50-BF0E-DA5E8B6285E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ent Experiences in the            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Financial Sector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cc"/>
                </a:solidFill>
                <a:uFillTx/>
                <a:latin typeface="Times New Roman"/>
              </a:rPr>
              <a:t>Recent improvements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- Creation of the IAB (Impact Assessment Board) to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review IA done related to each proposal of the Commission. 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Independent body reporting directly to the President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of the Commission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- Systematic creation of IA units in each DG 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- IA conducted in the context of Basel II quoted as good practice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- Good consultation process for UCITS and Mortgage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Credit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3A6B-1364-4C54-BEFE-17A26CFAF26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ggested Improvement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to the EU system in B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More open dialogue between industry and Commission, setting objectives and prioriti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ncourage market based solutions (voluntary codes of conduct, co and self regulations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ocus on investment and compliance costs when addressing the reduction of administrative burde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IA should apply to all important pending legislatio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More significant involvement of the European Parliament and the European Council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09BC-B229-45A2-BA4C-7B02DE20510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BF Internal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Organization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To address the recent developments adequately, EBF internal measures need to be taken quickly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Budget latitude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Dedicated staff member from the EBF Secretariat to work on IA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BF Guidelines including checklist (list of questions that consultative committees should ask during any legislative procedure to ensure that BR and IA standards are respected by the EU institutions) 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d Hoc Task Force and the Involvement of EMAC (Advisory committee on voluntary basis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B46E-1C43-405D-929F-648BB44025B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BF Internal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Organization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Role of the Post FSAP TF (general support and monitoring of the BR &amp; IA process within EBF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Involvement of small associations (IA studies taking into account geographical and size issues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IA Test Case for 2007 (Ex-Co to choose between 3 different subjects)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VAT Regime for Financial Servi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Bank Accounts and Mobility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Distance Marketing of Financial Servi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BE04-1D3F-482B-ABB2-41376F150D2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xecutive Committee to approve the report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Publish the report and send it to all interested parties especially to the European Institution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ntinue monitoring and updating the national best practices in BR and IA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tart a first test case in IA for 2007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Lobby the EU Institutions regarding the improvement of the BR procedures especially IA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BACD-26FD-42E3-9B1E-C4DC1DB0ED3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Chairman of the Post FSAP Task Force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                         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Jean Francois Pon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EBF Secretariat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                       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ébastien de Brouwer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                            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lie Beyrouthy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A5DC-2EAE-437A-861E-A2EE2DBDB58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xchange experiences and best practices at national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ssess the EU system in BR and IA: guidelines, methodology and previous experien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dopt a proactive role at EBF level in the area of BR and IA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2661-861E-49A5-888E-6F826FC09F3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eptember 2006: Decision of the Ex-Co to assess further the issue of better regulatio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December 2006 – April 2007: 4 meetings of the Task Force chaired by Jean Francois PON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June 2007: Report of the Task Force delivered to the Ex-co for approval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79D1-2412-4969-82D5-3FFE7FFC493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What is Better Regulation?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n EU policy using different tools and processes to make sure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at regulation is used only when necessary and that the burdens they impose are proportionate to their aim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Examples of better regulation tools and process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Simplify existing legislatio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ystematic use of impact assessment and public 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in the development of new policy 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roposals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0CA5-8736-4BCA-8123-CFD41E001F6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What is Impact Assessment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Designed to help in structuring and developing  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polici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- Identifies and assesses the problem at stake and the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objectives pursued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- Helps to identify the main options for achieving the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objectives and analyzes their likely impacts in the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economic, environmental and social field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    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- Uses quantification and economic analysi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32BA-DFA9-4D93-AC4A-B936B509DE3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tional experiences in BR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and IA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tandard form has been adopted, divided in 4 main chapters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Simplification/reduction of administrative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burde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Consultation/dialogue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Impact Assessment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Ex Post Analysis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7022-72A8-4F27-980F-F05E310EBF2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tional experiences in BR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and IA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dvantages of the standard form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Compare in one document all national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experiences in BR by subject matter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Identify gaps and space for further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improvement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D370-EF8B-4526-A916-3C8DFE949D7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 Conclusions from  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national experi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lmost all EU countries are moving forward by adopting tools of better regulatio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Big differences still exist between EU countries for the importance of BR and IA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No similar standards between different EU countries in order to facilitate compariso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No perfect mod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A1CF-BD23-4324-B468-6548FBBA8D2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R and IA at EU and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International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everal European Commission’s officials have been invited to present the EU system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 special chapter on the EU experience in BR and IA has been added to the document on national experien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IIF paper on effective regulation has been discussed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1057-763C-4C62-B42A-9E94B1B4D4E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1T15:09:26Z</dcterms:created>
  <dc:creator>beyrouthy</dc:creator>
  <dc:description/>
  <dc:language>en-US</dc:language>
  <cp:lastModifiedBy>mumcum</cp:lastModifiedBy>
  <dcterms:modified xsi:type="dcterms:W3CDTF">2007-08-06T07:32:18Z</dcterms:modified>
  <cp:revision>7</cp:revision>
  <dc:subject/>
  <dc:title>Post FSAP Task Force Report on Better Regulation and Impact Assessment</dc:title>
</cp:coreProperties>
</file>