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92B2-B075-47B5-B0F5-CD58615CC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822B-96D0-4820-B5D6-23270A2F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068B-8F5E-4BD3-9BDA-F5EEC428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4C45-0659-4FA7-B9CA-2150B84A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600-04EE-4EBA-A639-CDB80EDF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74D8-488E-4B30-83E9-8E2F746A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08E1-005B-4D33-B897-267B275B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BF91-2CC1-40A6-86CD-68A37C0E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A7A-FA27-4F3C-A624-250A41AF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5392-31A8-4390-8375-2DB7E334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5543-7145-4C28-B4A5-B688AC73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6C6-D97C-4A94-9B12-0AC2131B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1F9B-FD3D-4AFF-B22A-6328286D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D3B3-504B-40F7-A3F4-3621F2A390B0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66cc"/>
                </a:solidFill>
                <a:latin typeface="Times New Roman"/>
              </a:rPr>
              <a:t>Basel II: Latest developments and future persp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Presentation to the Associates Meetin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- Brussels, 7 December 200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verging supervisory pract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of banks’ liquidity manage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isis management arrang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nkruptcy &amp; winding u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61144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85F6-E9E6-40EA-BC88-9A11C03A24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t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Wilfried Wilms, Senior Adviser (w.wilms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Uta Wassmuth, Adviser (u.wassmuth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00196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CD19-9710-4617-8568-8C0E6B08AA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Presentation 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EBF initiativ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arge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owards a new supervisory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25480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DF6B-9DD9-4C28-8B5C-C605C06BA9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apital Requirements Directive agreed in the EU in October 2005 and signed by the Council and Parliament in June 2006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ransposition into national legislation by the end of this yea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date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1 January 2007/ 1 January 2008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24360" y="3781440"/>
            <a:ext cx="237672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9B85-D911-408F-804C-4ECD9D0483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 initiatives around Basel II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D Transposition Group: deals with issues of interpretation (Commission + Member Stat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EBF CRD Forum on the MemberNet: exchange of information and view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scussions in the Capital Adequacy Working Group, including the application of Pillar II and the home/host relationshi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operation and exchange of information in the IBFED Basel W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0709-AC6F-4C45-B326-2FD5A4CAD1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Need for monitoring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“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Laundry List”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ational discre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of CEBS’ guidelines in practi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3227400"/>
            <a:ext cx="5111640" cy="30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399-B315-4B8B-9163-E279535079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QIS 4 results: material decrease in capital and wide dispersion of resul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otice of proposed rulemaking on 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gap year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definitions and floors of EADs and LGD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ntragroup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Pillar II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everage ratio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1A to be released shortl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3716280"/>
            <a:ext cx="135576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10DB-1126-4D0B-8D78-F3D50B3304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Going forward: Large Expo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Large Exposures: EU specific rule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Remained unchanged in the CR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mmission report by the end of 2007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ndustry view: far-reaching review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: some mitigating measures in the meant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4EC-0D0E-44A7-9B67-7DF4D20C6E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Towards a new supervisory archit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25462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9D29-B926-4163-917B-BE401E920A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urrent model to allocate supervisory responsibilities: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home country control (bank + its branch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+ consolidated supervision (banking group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ew model proposed by the industr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under the leadership of the home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o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(College of supervisors/ Operational Network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Mechanism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2BB0-0F7A-4185-B119-4909E002D8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9:26:16Z</dcterms:created>
  <dc:creator>Wassmuth</dc:creator>
  <dc:description/>
  <dc:language>en-US</dc:language>
  <cp:lastModifiedBy>mumcum</cp:lastModifiedBy>
  <dcterms:modified xsi:type="dcterms:W3CDTF">2006-12-15T11:59:25Z</dcterms:modified>
  <cp:revision>16</cp:revision>
  <dc:subject/>
  <dc:title>Slide 1</dc:title>
</cp:coreProperties>
</file>