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1C58-64E9-4285-85F0-8CD5EB15E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1E9-0F07-4D94-A51E-43F6DFFC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377-3E37-4455-BA9E-40D45548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269-37F7-4AB1-8BB1-2228D03F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38B-844E-44BF-97F7-865A9803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101-FD3B-4532-8180-6AD7F91B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CE8-F2B9-404B-BEE2-B07C598D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6B9-7C1E-4C91-87EC-94FE9109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532-95FA-4118-9D05-7710FEC1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5BA-6BEB-481E-A9F8-B1FE7462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1BA-C5C4-46A5-87D1-EE789B0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691-99B0-479B-B9CE-BC7DD284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024-5036-4F62-824D-19D0BBDB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B1C5-AEA6-4C41-8879-DC627F279883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66cc"/>
                </a:solidFill>
                <a:latin typeface="Times New Roman"/>
              </a:rPr>
              <a:t>Basel II: Latest developments and future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Presentation to the Associates Meetin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- Brussels, 7 December 200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verging supervisory pract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of banks’ liquidity manage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isis management arrang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nkruptcy &amp; winding u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61144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72A-FBC3-4B5C-9F28-E3310E19BD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Wilfried Wilms, Senior Adviser (w.wilms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Uta Wassmuth, Adviser (u.wassmuth@ebf-fbe.eu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00196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498-CBF2-40FB-BDEB-DBD19F42C1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Presentation 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EBF initiativ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arge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owards a new supervisory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2548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96E-93B3-4DAE-BE53-C4A6D9E349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mplementation in the E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apital Requirements Directive agreed in the EU in October 2005 and signed by the Council and Parliament in June 2006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Transposition into national legislation by the end of this yea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date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1 January 2007/ 1 January 2008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24360" y="3781440"/>
            <a:ext cx="237672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D0C-2DF6-42CC-BAE5-830ED2293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 initiatives around Basel II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RD Transposition Group: deals with issues of interpretation (Commission + Member Stat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EBF CRD Forum on the MemberNet: exchange of information and view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Discussions in the Capital Adequacy Working Group, including the application of Pillar II and the home/host relationship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operation and exchange of information in the IBFED Basel WG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683-67DE-4983-AA00-DC60C317AA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Need for monitoring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“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Laundry List”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ational discre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Implementation of CEBS’ guidelines in practi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27400"/>
            <a:ext cx="5111640" cy="30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327-FFAA-4B6A-9E1A-3A2A59D119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Ongoing debate in the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QIS 4 results: material decrease in capital and wide dispersion of resul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otice of proposed rulemaking on Basel II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gap year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definitions and floors of EADs and LGD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intragroup exposures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Pillar II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13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66cc"/>
                </a:solidFill>
                <a:latin typeface="Times New Roman"/>
              </a:rPr>
              <a:t>leverage ratio</a:t>
            </a:r>
            <a:endParaRPr b="0" lang="en-US" sz="1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21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Basel 1A to be released shortl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13557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613-9CF4-4E65-942F-38596A804B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Going forward: Large Expo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Large Exposures: EU specific rule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Remained unchanged in the CR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mmission report by the end of 2007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Industry view: far-reaching review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EBF: some mitigating measures in the meant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585-0148-4A18-ABC7-66F8245734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Towards a new supervisory archite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Obstacl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462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23E-0DD7-4CE0-87BD-FF3E46390C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59151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66cc"/>
                </a:solidFill>
                <a:latin typeface="Times New Roman"/>
              </a:rPr>
              <a:t>Consolidated supervisor conc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Current model to allocate supervisory responsibilities: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home country control (bank + its branch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+ consolidated supervision (banking group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New model proposed by the industr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ion under the leadership of the home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superviso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(College of supervisors/ Operational Network 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nl-BE" sz="2800" spc="-1" strike="noStrike">
                <a:solidFill>
                  <a:srgbClr val="0066cc"/>
                </a:solidFill>
                <a:latin typeface="Times New Roman"/>
              </a:rPr>
              <a:t>Mechanism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6D4-76A2-4106-A6D8-2C16CA13B2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26:16Z</dcterms:created>
  <dc:creator>Wassmuth</dc:creator>
  <dc:description/>
  <dc:language>en-US</dc:language>
  <cp:lastModifiedBy>mumcum</cp:lastModifiedBy>
  <dcterms:modified xsi:type="dcterms:W3CDTF">2006-12-15T11:59:25Z</dcterms:modified>
  <cp:revision>16</cp:revision>
  <dc:subject/>
  <dc:title>Slide 1</dc:title>
</cp:coreProperties>
</file>