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927-1434-4FB9-B392-A55AAC00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67E2-C402-4F42-B72A-D81DF438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B880-D970-42E9-9FC1-8318347C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444-88F4-4E2D-B536-9DFB046B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9A2-849E-4B3D-964E-8B3D0501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9BAE-FD5A-4B87-BE22-FC53DEB7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280-B97C-4153-B11B-8AE21EFD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667-6C95-4F6C-996E-94E1C8B6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F185-49C0-4493-BA7A-414EA9E1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FD6-FE8E-43A8-866A-65BEE109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19E-3E96-4FF3-83DB-C2585EC6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4DC-3C08-4A7D-8AF9-B9AF664A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1988-FBE4-4357-976F-257AEBB997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EU legislation concerning the financial services are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8 December 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pital Requirement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RD consisting of 2 Directives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introduce a state of the art supervisory framework in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s the BASEL II rules on capital measurement and capital standards agreed at the G-10 leve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will have to apply the Directive from the start of 2007, for most sophisticated approaches from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pany Law Directive on statutory audi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582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 this Directive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ing at reinforcing and harmonising the statutory audit function throughout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s out principles for public supervision in Member Sta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ires application of the IAS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measures should help to restore faith in the profession and its indepen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58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 third AML Directive was adopted on 7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applies to the financial and other key services sectors and it also covers all providers of goods, when payments are made in cash in excess of 15,000 Eur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subject to the Directive ne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dentify and verify the identity of their custom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port suspicions of ML and terrorist financing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ake various supporting meas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has to be implemented within 2 years – by the end of 200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extending MiFiD transposition (June 200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5. New Legal Framework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1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Directive once adopted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ross-border payments as easy, cheap and secure as domestic pay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antee fair and open access to payments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and standardise consumer prot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to tighten controls of money transfe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6 July 200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better traceability of money transf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that money transfers be accompanied by  the identity of the send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that this information will be immediately available to the appropriate law enforcement author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extending MiFiD transpositio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0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end the MiFiD transposition deadline by 6 month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ve firms and markets another 6 months to adapt their structures and proced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arallel consultations on different MiFiD implementing legislation are constantly going 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Regulation on Cross-border payments in euros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Mortgage Credit in EU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inancial services policy for the next 5 years (Ma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8. Evaluation of the FSAP, part I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part I of its FSAP evaluation on 7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step of an exhaustive analysis of the impact of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cus on the process of adoption of the measures put forward in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s on the general perception of the FSAP process; on consultation and Lamfalussy proces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adline for comments is set at 31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9. Implementing measures to Transparency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their working document on possible implementing measures in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: draft legal text containing possible implementing measures to the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I: draft recommendation on the use of standard forms for the purpose of notifying acquisition or disposal of major hol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8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0. Regulation on Cross-border payments in euro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launched a consultation on the review of the Regulation on 19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ines information gathered to date by the Commission servic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s stakeholders the opportunity to comment on the key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ft Evaluation report expected to be released in H1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1. Certain AML obligation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Commission on 25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ines AML obligations in two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on-face to face transaction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lectronic comme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1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2. Working document in relation to AML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on 12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es to Chapter VI of Directive: adoption of implementing measu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s to prioritise the subjects. Prior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plified customer due diligenc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olitically Exposed Pers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2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3. Green Paper on mortgage Credit in the EU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on action in the EU mortgage market was launched on 19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een Paper provides EC initial views on the recommendations of the Mortgage Credit Working Grou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examines the case for Commission action in EU mortgage credit market (Whether and how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G Markt hosted a public hearing yesterday (7 December 2005) on the conclusions of consul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eadline for responses was set at 30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4. Green Paper on EU framework for Investment Fund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the enhancement of the EU framework for investment funds was launched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Paper reviews the functioning of the legislative framework provided for by the UCITS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consideration and comment on wide range of proposals aimed at boosting efficiency of the single market for investment fu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responses was set at 15 November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5. The Deposit Guarantee Scheme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 and it lasted until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-up communication is expected by mid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port on minimum guarantee level of Deposit Guarantee Schemes of 20,000 euros was opened l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for this consultation is set at 15 Febr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6. The E-Money Directiv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reassess whether the legal framework is still in tune with modern market develop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study carried out by consultants is going to be commissioned by the E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is intended to come forward with a follow-up report containing recommendations by spring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7. Green paper on EU Financial services policy for the next 5 yea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een Paper was published by the EC on 3 Ma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ed ideas to further integrate EU financial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d primarily on implementing existing rules agreed under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d ways of improving cross-border access to retail financial services and asset mana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 August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nancial services policy programme should be published by mid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10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-Money Laundering Directive (June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the IAS 39 Fair Value op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5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: Recognition and Measurement, the Fair Value Op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ly binding retroactively: as of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S 39 was adopted already in November 2004, but had two carve-ou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dge accounting carve-out still rema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5-12-05T14:42:44Z</dcterms:modified>
  <cp:revision>569</cp:revision>
  <dc:subject/>
  <dc:title>PROPOSED AMENDMENTS AND LATEST CHANGES IN THE EU DIRECTIVES FOR THE FINANCIAL SECTOR </dc:title>
</cp:coreProperties>
</file>