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F4F8-17C1-44E3-A048-0EAA9D214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460E-C60D-4EA4-B204-5D1F2E93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37CB-18F3-48E2-A884-4F6BAA02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6D71-86B6-4B4C-A3BC-0C9123C88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21EA-A4EA-4EBA-9DE0-7D232F29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AD88-EA11-4789-B96C-AC3F5E5F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A505-96D8-4951-BD8F-09AA720C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7046-76DE-4F01-9653-3EEE6B6D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0E32-14EE-4B28-B156-26B6EA2B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A4A2-61EE-4CB2-A968-3EB824EB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04C3-C0B9-4147-A375-1C764D8B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BDA-91A8-45E1-8386-87A30F89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ADFE-B666-4BA0-8B59-B1052CF1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6D7F-DF4A-4EB1-94F5-75752D68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B596-FF42-4038-9E6A-797518F1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E05D-1E13-4B65-A688-DB82CD25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CD4E-FEE7-4E12-9BC0-62152BFF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0081-87F5-482B-9B80-C7C8E5BC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CD7A-C492-49A7-9757-4864B5D8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74D5-81F7-4FFA-B643-1D80341C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93DF-8817-41DC-B1EB-5E88A370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07BF-EC02-40B7-8A3B-C020268F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13D1-D4C5-4C55-92D6-9BFBCF31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21C4-FEC6-4EB7-9133-9CDC30C9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399B-6AE4-49F2-A9D6-A6E153DB8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956A-1D33-472D-9859-22F3075B47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N-EUROPEAN PENSION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&amp;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REGIME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ptional laws to create non complicated pan-EU produc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o exist alongside national legal system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nsumers choose between national laws and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ffered to multinational and local consumers – focus on retail secto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itable for fragmented markets (where 25 regimes exist), e.g. consumer credi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Less relevant for harmonised markets  (where a single regime has replaced national laws) e.g. wholes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Integrates fragmented marke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Quick to impl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Consumer choice and economies of sc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Tax incentives on 26</a:t>
            </a:r>
            <a:r>
              <a:rPr b="0" lang="en-GB" sz="28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regime produ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948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Dis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Multiplicity of legal system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Unlevel playing field between ban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Better alternatives to create convergence and flexibilit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V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ust one option of many to integrate the    retail financial services market…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cale of the EU’s ageing problem is so enormous that more radical alternatives to traditional approaches are needed.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uropean Financial Services Roundtable (EFR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FR has developed a series of framework principles to develop a pan-European pension product delivered through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BE will comment this initiativ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mmission will consider EFR’s proposals and then decide on how to take the issue forwar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YOUR VIEWS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5157720"/>
            <a:ext cx="1922760" cy="609840"/>
          </a:xfrm>
          <a:prstGeom prst="wedgeRectCallout">
            <a:avLst>
              <a:gd name="adj1" fmla="val 5407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 drawbac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933720"/>
            <a:ext cx="2376360" cy="1150920"/>
          </a:xfrm>
          <a:prstGeom prst="wedgeRoundRectCallout">
            <a:avLst>
              <a:gd name="adj1" fmla="val -40847"/>
              <a:gd name="adj2" fmla="val 901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re an ageing population problem in your coun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5157720"/>
            <a:ext cx="2952720" cy="1079640"/>
          </a:xfrm>
          <a:prstGeom prst="wedgeEllipseCallout">
            <a:avLst>
              <a:gd name="adj1" fmla="val -48064"/>
              <a:gd name="adj2" fmla="val 37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 EFR proposal the s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2133720"/>
            <a:ext cx="2376360" cy="1582560"/>
          </a:xfrm>
          <a:prstGeom prst="cloudCallout">
            <a:avLst>
              <a:gd name="adj1" fmla="val -95689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viable is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1700280"/>
            <a:ext cx="3097440" cy="1512720"/>
          </a:xfrm>
          <a:prstGeom prst="wedgeEllipseCallout">
            <a:avLst>
              <a:gd name="adj1" fmla="val -52972"/>
              <a:gd name="adj2" fmla="val 61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other areas could make use of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3573360"/>
            <a:ext cx="2951280" cy="1582920"/>
          </a:xfrm>
          <a:prstGeom prst="cloudCallout">
            <a:avLst>
              <a:gd name="adj1" fmla="val -86791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 other alternatives to address the pensions cri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ANY QUESTIONS?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FBE Contact:  Stephen Fisher (</a:t>
            </a:r>
            <a:r>
              <a:rPr b="0" lang="en-GB" sz="2000" spc="-1" strike="noStrike" u="sng">
                <a:solidFill>
                  <a:srgbClr val="2a0dd9"/>
                </a:solidFill>
                <a:uFillTx/>
                <a:latin typeface="Arial"/>
              </a:rPr>
              <a:t>s.fisher@fbe.b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5:40Z</dcterms:modified>
  <cp:revision>46</cp:revision>
  <dc:subject/>
  <dc:title> CAPITAL REQUIREMENTS DIRECTIVE: OPPORTUNITIES AND CHALLENGES</dc:title>
</cp:coreProperties>
</file>