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7A5D-194C-4396-BA7A-544173B5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D96C-BCEA-4406-ACEF-537CBD78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A7CE-C241-4F2C-B2A7-56CAE365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64A-CFB0-4E01-A61E-56A7BDC9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A526-B409-4DC8-AAB5-07D1C6E8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2C5C-75E5-45DE-8B49-7934BF53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DDC0-CF89-48A4-A1F8-8FC0F2A5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E927-4895-439C-B104-4B71BDA6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FE6C-6456-4046-881D-DAFC3899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F811-84AC-4A5D-881C-719FFBB7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5763-CD3D-4B4D-8505-23A00C10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27A5-BC18-4E03-98A1-788CB34A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96D5-6712-4F98-91C9-60EBE04E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57FD-2F7E-4272-A4BF-88C397C8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AFA3-DE14-4D64-B996-E20E5079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7724-6DD6-414F-A03D-05A5364C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71A6-CC3B-4DCF-ABC3-D56C1989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6D65-63FF-43A2-8268-E006E7E8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FD22-7974-4E99-BC3B-1CF0D3FA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791F-CA74-4839-ADC7-751A10F4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DC64-9300-41F3-A949-7EDAC954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DA07-9B97-4625-BE8C-9A9C1290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30A5-285F-4FDF-ADE9-BB355B76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0C5-CD9A-44DE-A80E-A0B391C1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0120-3585-4C37-98AB-6ABE0DE29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F035-5DD4-48E7-9587-6074137811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LARGEMENT OF THE EUROZONE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ahead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History of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0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1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complete liberalization of capital movem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4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2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achieving convergence targ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9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launch of the euro on financial mark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2002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b: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 introduction of euro notes and coins in 12 EMU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New EU Member States and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U enlargement on 1 May 2004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No opt-outs for new Member Sta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Treaty =&gt; straight into stage 3 of the EMU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Further step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oining the ERM 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Maastricht convergence criteri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proced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doption of the Euro and introduction of Euro notes and coi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entative time-tab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the Maastricht criteria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price stability (inflation, &gt;2.2% for 2004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long-term interest rates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budget deficit ( 3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total government debt (60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stability in the exchange r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 - 2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al preparations for introduction of Eur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conomic and monetary policy challeng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arning from experiences of the Euro-zone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Questions for discussion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844640"/>
            <a:ext cx="8281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potential entrants to the Euro Zon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n is your country planning to join the Euro Z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are the main challenges your country may 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ticular questions to existing Euro Zone Member St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existing Euro Zone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challenges in your coun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lessons lear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as the impact the adoption of Euro has had on a country’s economy and on the lives of ordinary citiz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4:13Z</dcterms:modified>
  <cp:revision>60</cp:revision>
  <dc:subject/>
  <dc:title> CAPITAL REQUIREMENTS DIRECTIVE: OPPORTUNITIES AND CHALLENGES</dc:title>
</cp:coreProperties>
</file>