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795-A4E3-4D50-8678-4D5418E3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8B62-83B5-4A00-8676-8C27B12A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20D1-32BA-4E8D-AC85-4D5CA26D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F3BE-6FF3-4823-94F1-607C7043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6A1E-3545-49BB-B189-24B72BAE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1E4C-39BA-422D-A619-2E1B179B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90DE-21CC-4A35-BC56-21FB3CB6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85CB-00A1-4969-9295-84D22D30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187B-4F27-4D1C-A1E2-AC927196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FEB7-45C2-4EC9-ADE2-543FCAFB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1A02-7879-478B-AEDD-7DFAABC9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CEEF-C9A1-411F-8429-EEC4AD23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7877-B0D9-4A52-9D84-2DF9DDD3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418A-74E9-4881-93E0-7316A0B6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8D09-4F73-4162-9358-27B05713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2660-DF84-48AB-A5B9-CB22875B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B3E3-4C79-4674-8386-38BC7CA5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755-AE31-4DEF-9782-2B3D6C13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217F-C9C1-4FE0-B011-AD380C99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2C90-3869-4FDC-90A3-1262DEBF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BE8-BD21-4CD0-9939-70D71ECC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E772-39B6-4629-BE01-417AFFA5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356B-F104-4973-A254-19607936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67C7-123D-40F4-8E4F-C407B565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B04E-3244-4F24-AEE2-4BD14A993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D729-49D1-433E-B478-D0FF3EC7EE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LARGEMENT OF THE EUROZONE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ahead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History of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0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1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complete liberalization of capital mov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4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2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achieving convergence targ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9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launch of the euro on financial mark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2002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b: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 introduction of euro notes and coins in 12 EMU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New EU Member States and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U enlargement on 1 May 200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No opt-outs for new Member Sta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Treaty =&gt; straight into stage 3 of the EMU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Further step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oining the ERM 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Maastricht convergence criter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proced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doption of the Euro and introduction of Euro notes and coi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entative time-tab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the Maastricht criteria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price stability (inflation, &gt;2.2% for 2004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long-term interest rates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budget deficit ( 3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total government debt (60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stability in the exchange r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 - 2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al preparations for introduction of Eur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nd monetary policy challeng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arning from experiences of the Euro-zone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Questions for discussion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44640"/>
            <a:ext cx="8281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potential entrants to the Euro Z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is your country planning to join the Euro Z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are the main challenges your country ma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ticular questions to existing Euro Zone Member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existing Euro Zone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challenges in your coun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lessons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as the impact the adoption of Euro has had on a country’s economy and on the lives of ordinary citiz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4:13Z</dcterms:modified>
  <cp:revision>60</cp:revision>
  <dc:subject/>
  <dc:title> CAPITAL REQUIREMENTS DIRECTIVE: OPPORTUNITIES AND CHALLENGES</dc:title>
</cp:coreProperties>
</file>