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AAD6-742E-4178-9907-D192F987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EBB0-CA22-4E6B-9BCA-0597F3CA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A459-9FC2-434F-9E3C-3547E8C3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8FB9-E12E-4449-9A4B-0BEA3228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3FD3-E0C1-4263-B89F-D114AB42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3778-8369-478C-A73F-C7F5D4DC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CAC5-FA03-48A8-813D-11E5D3F0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A058-3F81-4B33-BB4B-2B06C04A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6E07-9A6F-4AFD-AAA7-80AB3E5B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5889-B1C1-4C72-8CE3-ECFA0F75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5690-3A3D-4DA5-98C4-E31B0CEB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602A-CC39-4C84-BEDC-598EBBE6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C2FF-4F97-4318-9134-0367E1B8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8FA6-172F-45E3-98F5-AAB2381C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B4E5-D0C6-4934-A8ED-75B04745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8060-0C95-447E-97DA-F12CF43F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629C-900D-4DB4-85F4-1168FF1C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73E2-09D4-40DF-B04E-84AD4621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21AB-CE62-4D93-AF22-ED7E0A26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952D-24CF-47D3-8668-BD864CE9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A713-8936-47DF-AD56-59CAAE5D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42B0-6DA2-453B-AA30-94E22770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4097-90BF-46C4-A6FC-59699AB5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32C8-572A-4E6E-8C9F-C9C2CC6F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A1A3-BE2B-4AD6-953F-F5C7F660B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8572-8487-4790-8F73-30A6515DF0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N-EUROPEAN PENSION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&amp;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REGIME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ptional laws to create non complicated pan-EU produc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o exist alongside national legal system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nsumers choose between national laws and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ffered to multinational and local consumers – focus on retail secto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itable for fragmented markets (where 25 regimes exist), e.g. consumer credi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Less relevant for harmonised markets  (where a single regime has replaced national laws) e.g. wholes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Integrates fragmented marke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Quick to impl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Consumer choice and economies of sc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Tax incentives on 26</a:t>
            </a:r>
            <a:r>
              <a:rPr b="0" lang="en-GB" sz="28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regime produ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948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Dis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Multiplicity of legal system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Unlevel playing field between ban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Better alternatives to create convergence and flexibilit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V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ust one option of many to integrate the    retail financial services market…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cale of the EU’s ageing problem is so enormous that more radical alternatives to traditional approaches are needed.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uropean Financial Services Roundtable (EFR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FR has developed a series of framework principles to develop a pan-European pension product delivered through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BE will comment this initiativ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mmission will consider EFR’s proposals and then decide on how to take the issue forwar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YOUR VIEWS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5157720"/>
            <a:ext cx="1922760" cy="609840"/>
          </a:xfrm>
          <a:prstGeom prst="wedgeRectCallout">
            <a:avLst>
              <a:gd name="adj1" fmla="val 5407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 drawbac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933720"/>
            <a:ext cx="2376360" cy="1150920"/>
          </a:xfrm>
          <a:prstGeom prst="wedgeRoundRectCallout">
            <a:avLst>
              <a:gd name="adj1" fmla="val -40847"/>
              <a:gd name="adj2" fmla="val 901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re an ageing population problem in your coun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5157720"/>
            <a:ext cx="2952720" cy="1079640"/>
          </a:xfrm>
          <a:prstGeom prst="wedgeEllipseCallout">
            <a:avLst>
              <a:gd name="adj1" fmla="val -48064"/>
              <a:gd name="adj2" fmla="val 37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 EFR proposal the s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2133720"/>
            <a:ext cx="2376360" cy="1582560"/>
          </a:xfrm>
          <a:prstGeom prst="cloudCallout">
            <a:avLst>
              <a:gd name="adj1" fmla="val -95689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viable is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1700280"/>
            <a:ext cx="3097440" cy="1512720"/>
          </a:xfrm>
          <a:prstGeom prst="wedgeEllipseCallout">
            <a:avLst>
              <a:gd name="adj1" fmla="val -52972"/>
              <a:gd name="adj2" fmla="val 61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other areas could make use of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3573360"/>
            <a:ext cx="2951280" cy="1582920"/>
          </a:xfrm>
          <a:prstGeom prst="cloudCallout">
            <a:avLst>
              <a:gd name="adj1" fmla="val -86791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 other alternatives to address the pensions cri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ANY QUESTIONS?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FBE Contact:  Stephen Fisher (</a:t>
            </a:r>
            <a:r>
              <a:rPr b="0" lang="en-GB" sz="2000" spc="-1" strike="noStrike" u="sng">
                <a:solidFill>
                  <a:srgbClr val="2a0dd9"/>
                </a:solidFill>
                <a:uFillTx/>
                <a:latin typeface="Arial"/>
              </a:rPr>
              <a:t>s.fisher@fbe.b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5:40Z</dcterms:modified>
  <cp:revision>46</cp:revision>
  <dc:subject/>
  <dc:title> CAPITAL REQUIREMENTS DIRECTIVE: OPPORTUNITIES AND CHALLENGES</dc:title>
</cp:coreProperties>
</file>